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9065-3B71-476C-BE93-C92B07BF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768-9993-44EE-BB0B-E4ABE4A2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589-7903-4E2A-85A0-6205F568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FE33-3CDB-4B58-BD1B-DB803077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ADC-855B-4A10-A59A-C1F03B90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AF1-8015-4486-A3B4-B3D92FE5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182-550A-4EF5-BE0C-0E9D584B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D137-F9D4-4115-B8B1-BEDE9717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A8E-BB2B-4778-9C53-A33ABCAE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B0B4-D51F-49D7-9BBB-B092A83A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A63-D754-4ACD-A1CD-72BECB27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C10-0641-4DFB-9475-6D53094B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45A1-C2FA-4169-9D93-946D30E181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8000" y="765000"/>
          <a:ext cx="8928000" cy="5910480"/>
        </p:xfrm>
        <a:graphic>
          <a:graphicData uri="http://schemas.openxmlformats.org/drawingml/2006/table">
            <a:tbl>
              <a:tblPr/>
              <a:tblGrid>
                <a:gridCol w="1292040"/>
                <a:gridCol w="1227240"/>
                <a:gridCol w="1297080"/>
                <a:gridCol w="1295280"/>
                <a:gridCol w="1297080"/>
                <a:gridCol w="1295280"/>
                <a:gridCol w="1224000"/>
              </a:tblGrid>
              <a:tr h="59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УГЛЕВОДОР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е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и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-ди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икло-алк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С−С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. цеп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 С−С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. цепь из 6 атомов С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я связ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изом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Углеродн. скел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Углеродн. скелета; </a:t>
                      </a:r>
                      <a:r>
                        <a:rPr b="0" lang="ru-RU" sz="1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положения кратной связи;</a:t>
                      </a: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межклас-сова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геометри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Углеродн. скелета; </a:t>
                      </a:r>
                      <a:r>
                        <a:rPr b="0" lang="ru-RU" sz="1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положения кратной связи;</a:t>
                      </a: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межклас-с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Углеродн. скелета; </a:t>
                      </a:r>
                      <a:r>
                        <a:rPr b="0" lang="ru-RU" sz="1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положения кратной связи;</a:t>
                      </a: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межклас-сова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геометри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Углеродн. скелета: размеров цикла , положе-ния и структуры радикалов 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межклас-сова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геометри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Углеродн. скелета: положе-ния и структуры радик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Rectangle 38"/>
          <p:cNvSpPr/>
          <p:nvPr/>
        </p:nvSpPr>
        <p:spPr>
          <a:xfrm>
            <a:off x="179280" y="11592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Характеристика углеводор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44" name="AutoShape 3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4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438200" y="68400"/>
            <a:ext cx="744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7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49" name="AutoShape 8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0" y="741240"/>
          <a:ext cx="9144000" cy="7650360"/>
        </p:xfrm>
        <a:graphic>
          <a:graphicData uri="http://schemas.openxmlformats.org/drawingml/2006/table">
            <a:tbl>
              <a:tblPr/>
              <a:tblGrid>
                <a:gridCol w="2590920"/>
                <a:gridCol w="990360"/>
                <a:gridCol w="1009800"/>
                <a:gridCol w="1287360"/>
                <a:gridCol w="1079640"/>
                <a:gridCol w="1093680"/>
                <a:gridCol w="1092240"/>
              </a:tblGrid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кл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я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замещ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ит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-ции присоедин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о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а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лимер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тщеп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де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кис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ерманганатом к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" name="Line 123"/>
          <p:cNvSpPr/>
          <p:nvPr/>
        </p:nvSpPr>
        <p:spPr>
          <a:xfrm>
            <a:off x="6248520" y="1600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4"/>
          <p:cNvSpPr/>
          <p:nvPr/>
        </p:nvSpPr>
        <p:spPr>
          <a:xfrm>
            <a:off x="6248520" y="1676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5"/>
          <p:cNvSpPr/>
          <p:nvPr/>
        </p:nvSpPr>
        <p:spPr>
          <a:xfrm>
            <a:off x="6248520" y="1523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6"/>
          <p:cNvSpPr/>
          <p:nvPr/>
        </p:nvSpPr>
        <p:spPr>
          <a:xfrm>
            <a:off x="7315200" y="144792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7"/>
          <p:cNvSpPr/>
          <p:nvPr/>
        </p:nvSpPr>
        <p:spPr>
          <a:xfrm>
            <a:off x="8388360" y="1413000"/>
            <a:ext cx="304920" cy="228600"/>
          </a:xfrm>
          <a:prstGeom prst="hexagon">
            <a:avLst>
              <a:gd name="adj" fmla="val 3334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8"/>
          <p:cNvSpPr/>
          <p:nvPr/>
        </p:nvSpPr>
        <p:spPr>
          <a:xfrm>
            <a:off x="304812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9"/>
          <p:cNvSpPr/>
          <p:nvPr/>
        </p:nvSpPr>
        <p:spPr>
          <a:xfrm>
            <a:off x="1835280" y="15228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 углевод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30"/>
          <p:cNvSpPr/>
          <p:nvPr/>
        </p:nvSpPr>
        <p:spPr>
          <a:xfrm flipH="1" flipV="1">
            <a:off x="8459640" y="1483560"/>
            <a:ext cx="1447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60" name="AutoShape 3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4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438200" y="68400"/>
            <a:ext cx="744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65" name="AutoShape 8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6" name=""/>
          <p:cNvGraphicFramePr/>
          <p:nvPr/>
        </p:nvGraphicFramePr>
        <p:xfrm>
          <a:off x="0" y="741240"/>
          <a:ext cx="9144000" cy="7650360"/>
        </p:xfrm>
        <a:graphic>
          <a:graphicData uri="http://schemas.openxmlformats.org/drawingml/2006/table">
            <a:tbl>
              <a:tblPr/>
              <a:tblGrid>
                <a:gridCol w="2590920"/>
                <a:gridCol w="990360"/>
                <a:gridCol w="1009800"/>
                <a:gridCol w="1287360"/>
                <a:gridCol w="1079640"/>
                <a:gridCol w="1093680"/>
                <a:gridCol w="1092240"/>
              </a:tblGrid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кл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я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замещ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ит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-ции присоедин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о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а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лимер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тщеп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де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кис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ерманганатом к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7" name="Line 123"/>
          <p:cNvSpPr/>
          <p:nvPr/>
        </p:nvSpPr>
        <p:spPr>
          <a:xfrm>
            <a:off x="6248520" y="1600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4"/>
          <p:cNvSpPr/>
          <p:nvPr/>
        </p:nvSpPr>
        <p:spPr>
          <a:xfrm>
            <a:off x="6248520" y="1676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5"/>
          <p:cNvSpPr/>
          <p:nvPr/>
        </p:nvSpPr>
        <p:spPr>
          <a:xfrm>
            <a:off x="6248520" y="1523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6"/>
          <p:cNvSpPr/>
          <p:nvPr/>
        </p:nvSpPr>
        <p:spPr>
          <a:xfrm>
            <a:off x="7315200" y="144792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7"/>
          <p:cNvSpPr/>
          <p:nvPr/>
        </p:nvSpPr>
        <p:spPr>
          <a:xfrm>
            <a:off x="8388360" y="1413000"/>
            <a:ext cx="304920" cy="228600"/>
          </a:xfrm>
          <a:prstGeom prst="hexagon">
            <a:avLst>
              <a:gd name="adj" fmla="val 3334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8"/>
          <p:cNvSpPr/>
          <p:nvPr/>
        </p:nvSpPr>
        <p:spPr>
          <a:xfrm>
            <a:off x="304812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9"/>
          <p:cNvSpPr/>
          <p:nvPr/>
        </p:nvSpPr>
        <p:spPr>
          <a:xfrm>
            <a:off x="1835280" y="15228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 углевод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30"/>
          <p:cNvSpPr/>
          <p:nvPr/>
        </p:nvSpPr>
        <p:spPr>
          <a:xfrm flipH="1" flipV="1">
            <a:off x="8459640" y="1483560"/>
            <a:ext cx="1447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5:20:45Z</dcterms:created>
  <dc:creator>User</dc:creator>
  <dc:description/>
  <dc:language>en-US</dc:language>
  <cp:lastModifiedBy>USER</cp:lastModifiedBy>
  <dcterms:modified xsi:type="dcterms:W3CDTF">2014-01-25T12:56:45Z</dcterms:modified>
  <cp:revision>17</cp:revision>
  <dc:subject/>
  <dc:title>Слайд 1</dc:title>
</cp:coreProperties>
</file>