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67A4-5161-492B-9477-94CA797B0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3EE2-154C-4714-A55E-D72B6016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BBD4-5D70-469F-A331-E1C03F1A1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5524-B53E-4992-995A-0E7882A97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8471-E761-4A3D-91EC-AFA3F03E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9D01-E14A-4BE1-8E16-0998D3B9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F2CD-1CED-4EB1-A0DE-6F96EC9B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67E4-8EB6-4451-A6E5-1A720D62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C529-00DC-41D8-A86A-BAFDA06F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9C7D-C414-4778-BF0F-AF99255D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273F-16A5-4F30-9262-C8FB4980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07F9-FC29-481C-BD37-7061CF10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647E-EA2D-4F95-8587-D9E25821D1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8000" y="765000"/>
          <a:ext cx="8928000" cy="5910480"/>
        </p:xfrm>
        <a:graphic>
          <a:graphicData uri="http://schemas.openxmlformats.org/drawingml/2006/table">
            <a:tbl>
              <a:tblPr/>
              <a:tblGrid>
                <a:gridCol w="1292040"/>
                <a:gridCol w="1227240"/>
                <a:gridCol w="1297080"/>
                <a:gridCol w="1295280"/>
                <a:gridCol w="1297080"/>
                <a:gridCol w="1295280"/>
                <a:gridCol w="1224000"/>
              </a:tblGrid>
              <a:tr h="599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УГЛЕВОДОРОД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аны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ены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ины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а-дие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Цикло-алк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е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се С−С свя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дна С=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дна С≡С связ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ве С=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мкн. цеп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се  С−С свя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мкн. цепь из 6 атомов С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собая связ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ы изоме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Углеродн. скел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Углеродн. скелета; </a:t>
                      </a:r>
                      <a:r>
                        <a:rPr b="0" lang="ru-RU" sz="18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положения кратной связи;</a:t>
                      </a: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межклас-сова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геометри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Углеродн. скелета; </a:t>
                      </a:r>
                      <a:r>
                        <a:rPr b="0" lang="ru-RU" sz="18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положения кратной связи;</a:t>
                      </a: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межклас-с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Углеродн. скелета; </a:t>
                      </a:r>
                      <a:r>
                        <a:rPr b="0" lang="ru-RU" sz="18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положения кратной связи;</a:t>
                      </a: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межклас-сова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геометри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Углеродн. скелета: размеров цикла , положе-ния и структуры радикалов </a:t>
                      </a: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межклас-сова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геометри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Углеродн. скелета: положе-ния и структуры радика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Rectangle 38"/>
          <p:cNvSpPr/>
          <p:nvPr/>
        </p:nvSpPr>
        <p:spPr>
          <a:xfrm>
            <a:off x="179280" y="115920"/>
            <a:ext cx="88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Характеристика углеводород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1438200" y="68400"/>
            <a:ext cx="114480" cy="228600"/>
            <a:chOff x="1438200" y="68400"/>
            <a:chExt cx="114480" cy="228600"/>
          </a:xfrm>
        </p:grpSpPr>
        <p:sp>
          <p:nvSpPr>
            <p:cNvPr id="44" name="AutoShape 3"/>
            <p:cNvSpPr/>
            <p:nvPr/>
          </p:nvSpPr>
          <p:spPr>
            <a:xfrm>
              <a:off x="1438200" y="68400"/>
              <a:ext cx="11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Rectangle 4"/>
          <p:cNvSpPr/>
          <p:nvPr/>
        </p:nvSpPr>
        <p:spPr>
          <a:xfrm>
            <a:off x="1438200" y="68400"/>
            <a:ext cx="746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438200" y="68400"/>
            <a:ext cx="744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1438200" y="68400"/>
            <a:ext cx="746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7"/>
          <p:cNvGrpSpPr/>
          <p:nvPr/>
        </p:nvGrpSpPr>
        <p:grpSpPr>
          <a:xfrm>
            <a:off x="1438200" y="68400"/>
            <a:ext cx="114480" cy="228600"/>
            <a:chOff x="1438200" y="68400"/>
            <a:chExt cx="114480" cy="228600"/>
          </a:xfrm>
        </p:grpSpPr>
        <p:sp>
          <p:nvSpPr>
            <p:cNvPr id="49" name="AutoShape 8"/>
            <p:cNvSpPr/>
            <p:nvPr/>
          </p:nvSpPr>
          <p:spPr>
            <a:xfrm>
              <a:off x="1438200" y="68400"/>
              <a:ext cx="11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0" y="741240"/>
          <a:ext cx="9144000" cy="7650360"/>
        </p:xfrm>
        <a:graphic>
          <a:graphicData uri="http://schemas.openxmlformats.org/drawingml/2006/table">
            <a:tbl>
              <a:tblPr/>
              <a:tblGrid>
                <a:gridCol w="2590920"/>
                <a:gridCol w="990360"/>
                <a:gridCol w="1009800"/>
                <a:gridCol w="1287360"/>
                <a:gridCol w="1079640"/>
                <a:gridCol w="1093680"/>
                <a:gridCol w="1092240"/>
              </a:tblGrid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с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а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е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а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е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и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икл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а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ре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вяз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  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кции замещен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алоген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нит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-ции присоединен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идр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алогениров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идрогалоген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идрат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олимер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кции отщеплени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дегидр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кции окислени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ерманганатом ка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о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1" name="Line 123"/>
          <p:cNvSpPr/>
          <p:nvPr/>
        </p:nvSpPr>
        <p:spPr>
          <a:xfrm>
            <a:off x="6248520" y="16002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24"/>
          <p:cNvSpPr/>
          <p:nvPr/>
        </p:nvSpPr>
        <p:spPr>
          <a:xfrm>
            <a:off x="6248520" y="16765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25"/>
          <p:cNvSpPr/>
          <p:nvPr/>
        </p:nvSpPr>
        <p:spPr>
          <a:xfrm>
            <a:off x="6248520" y="15238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26"/>
          <p:cNvSpPr/>
          <p:nvPr/>
        </p:nvSpPr>
        <p:spPr>
          <a:xfrm>
            <a:off x="7315200" y="144792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27"/>
          <p:cNvSpPr/>
          <p:nvPr/>
        </p:nvSpPr>
        <p:spPr>
          <a:xfrm>
            <a:off x="8388360" y="1413000"/>
            <a:ext cx="304920" cy="228600"/>
          </a:xfrm>
          <a:prstGeom prst="hexagon">
            <a:avLst>
              <a:gd name="adj" fmla="val 33346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28"/>
          <p:cNvSpPr/>
          <p:nvPr/>
        </p:nvSpPr>
        <p:spPr>
          <a:xfrm>
            <a:off x="3048120" y="1600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9"/>
          <p:cNvSpPr/>
          <p:nvPr/>
        </p:nvSpPr>
        <p:spPr>
          <a:xfrm>
            <a:off x="1835280" y="15228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йства углеводор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30"/>
          <p:cNvSpPr/>
          <p:nvPr/>
        </p:nvSpPr>
        <p:spPr>
          <a:xfrm flipH="1" flipV="1">
            <a:off x="8459640" y="1483560"/>
            <a:ext cx="1447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"/>
          <p:cNvGrpSpPr/>
          <p:nvPr/>
        </p:nvGrpSpPr>
        <p:grpSpPr>
          <a:xfrm>
            <a:off x="1438200" y="68400"/>
            <a:ext cx="114480" cy="228600"/>
            <a:chOff x="1438200" y="68400"/>
            <a:chExt cx="114480" cy="228600"/>
          </a:xfrm>
        </p:grpSpPr>
        <p:sp>
          <p:nvSpPr>
            <p:cNvPr id="60" name="AutoShape 3"/>
            <p:cNvSpPr/>
            <p:nvPr/>
          </p:nvSpPr>
          <p:spPr>
            <a:xfrm>
              <a:off x="1438200" y="68400"/>
              <a:ext cx="11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Rectangle 4"/>
          <p:cNvSpPr/>
          <p:nvPr/>
        </p:nvSpPr>
        <p:spPr>
          <a:xfrm>
            <a:off x="1438200" y="68400"/>
            <a:ext cx="746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1438200" y="68400"/>
            <a:ext cx="744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1438200" y="68400"/>
            <a:ext cx="746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7"/>
          <p:cNvGrpSpPr/>
          <p:nvPr/>
        </p:nvGrpSpPr>
        <p:grpSpPr>
          <a:xfrm>
            <a:off x="1438200" y="68400"/>
            <a:ext cx="114480" cy="228600"/>
            <a:chOff x="1438200" y="68400"/>
            <a:chExt cx="114480" cy="228600"/>
          </a:xfrm>
        </p:grpSpPr>
        <p:sp>
          <p:nvSpPr>
            <p:cNvPr id="65" name="AutoShape 8"/>
            <p:cNvSpPr/>
            <p:nvPr/>
          </p:nvSpPr>
          <p:spPr>
            <a:xfrm>
              <a:off x="1438200" y="68400"/>
              <a:ext cx="11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6" name=""/>
          <p:cNvGraphicFramePr/>
          <p:nvPr/>
        </p:nvGraphicFramePr>
        <p:xfrm>
          <a:off x="0" y="741240"/>
          <a:ext cx="9144000" cy="7650360"/>
        </p:xfrm>
        <a:graphic>
          <a:graphicData uri="http://schemas.openxmlformats.org/drawingml/2006/table">
            <a:tbl>
              <a:tblPr/>
              <a:tblGrid>
                <a:gridCol w="2590920"/>
                <a:gridCol w="990360"/>
                <a:gridCol w="1009800"/>
                <a:gridCol w="1287360"/>
                <a:gridCol w="1079640"/>
                <a:gridCol w="1093680"/>
                <a:gridCol w="1092240"/>
              </a:tblGrid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с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а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е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а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е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и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икл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а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ре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вяз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  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кции замещен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алоген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нит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-ции присоединен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идр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алогениров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идрогалоген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идрат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олимер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кции отщеплени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дегидр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кции окислени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ерманганатом ка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о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7" name="Line 123"/>
          <p:cNvSpPr/>
          <p:nvPr/>
        </p:nvSpPr>
        <p:spPr>
          <a:xfrm>
            <a:off x="6248520" y="16002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4"/>
          <p:cNvSpPr/>
          <p:nvPr/>
        </p:nvSpPr>
        <p:spPr>
          <a:xfrm>
            <a:off x="6248520" y="16765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25"/>
          <p:cNvSpPr/>
          <p:nvPr/>
        </p:nvSpPr>
        <p:spPr>
          <a:xfrm>
            <a:off x="6248520" y="15238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26"/>
          <p:cNvSpPr/>
          <p:nvPr/>
        </p:nvSpPr>
        <p:spPr>
          <a:xfrm>
            <a:off x="7315200" y="144792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27"/>
          <p:cNvSpPr/>
          <p:nvPr/>
        </p:nvSpPr>
        <p:spPr>
          <a:xfrm>
            <a:off x="8388360" y="1413000"/>
            <a:ext cx="304920" cy="228600"/>
          </a:xfrm>
          <a:prstGeom prst="hexagon">
            <a:avLst>
              <a:gd name="adj" fmla="val 33346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28"/>
          <p:cNvSpPr/>
          <p:nvPr/>
        </p:nvSpPr>
        <p:spPr>
          <a:xfrm>
            <a:off x="3048120" y="1600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9"/>
          <p:cNvSpPr/>
          <p:nvPr/>
        </p:nvSpPr>
        <p:spPr>
          <a:xfrm>
            <a:off x="1835280" y="15228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йства углеводор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30"/>
          <p:cNvSpPr/>
          <p:nvPr/>
        </p:nvSpPr>
        <p:spPr>
          <a:xfrm flipH="1" flipV="1">
            <a:off x="8459640" y="1483560"/>
            <a:ext cx="1447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5:20:45Z</dcterms:created>
  <dc:creator>User</dc:creator>
  <dc:description/>
  <dc:language>en-US</dc:language>
  <cp:lastModifiedBy>USER</cp:lastModifiedBy>
  <dcterms:modified xsi:type="dcterms:W3CDTF">2014-01-25T12:56:45Z</dcterms:modified>
  <cp:revision>17</cp:revision>
  <dc:subject/>
  <dc:title>Слайд 1</dc:title>
</cp:coreProperties>
</file>