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F21-C851-482E-B913-D22FCC5D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F8A-8060-4CFC-80EA-3E88FB4D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C23-C9FA-478F-949B-FB32A59F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B18-6265-41DB-BDE5-C9EBE545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E99-C667-417E-9185-4E2847BA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10E-475D-479B-848E-4678A105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1F1-1CC4-4CAF-BB32-15B5C27D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7DD-7D8C-46B7-AF79-F85E57B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571-055F-40D2-BD6E-7F314A4B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CE5-EDEF-44DF-89BC-4C1A6188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406-B0D5-441F-8DDD-D74C1D1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18E-EE10-4130-A9C3-5656A90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184D-888F-46B6-A92B-9CE134427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2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47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(5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5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58" name="AutoShape 3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4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438200" y="68400"/>
            <a:ext cx="744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438200" y="68400"/>
            <a:ext cx="74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"/>
          <p:cNvGrpSpPr/>
          <p:nvPr/>
        </p:nvGrpSpPr>
        <p:grpSpPr>
          <a:xfrm>
            <a:off x="1438200" y="68400"/>
            <a:ext cx="114480" cy="228600"/>
            <a:chOff x="1438200" y="68400"/>
            <a:chExt cx="114480" cy="228600"/>
          </a:xfrm>
        </p:grpSpPr>
        <p:sp>
          <p:nvSpPr>
            <p:cNvPr id="63" name="AutoShape 8"/>
            <p:cNvSpPr/>
            <p:nvPr/>
          </p:nvSpPr>
          <p:spPr>
            <a:xfrm>
              <a:off x="1438200" y="68400"/>
              <a:ext cx="11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0" y="741240"/>
          <a:ext cx="9144000" cy="7650360"/>
        </p:xfrm>
        <a:graphic>
          <a:graphicData uri="http://schemas.openxmlformats.org/drawingml/2006/table">
            <a:tbl>
              <a:tblPr/>
              <a:tblGrid>
                <a:gridCol w="2590920"/>
                <a:gridCol w="990360"/>
                <a:gridCol w="1009800"/>
                <a:gridCol w="1287360"/>
                <a:gridCol w="1079640"/>
                <a:gridCol w="1093680"/>
                <a:gridCol w="1092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кл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а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замещ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(5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ит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5-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-ции присоедин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алоген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огалоге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идра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(3-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лим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тщеп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егидр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кции окисл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ль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мо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манганатом к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" name="Line 123"/>
          <p:cNvSpPr/>
          <p:nvPr/>
        </p:nvSpPr>
        <p:spPr>
          <a:xfrm>
            <a:off x="6248520" y="1600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4"/>
          <p:cNvSpPr/>
          <p:nvPr/>
        </p:nvSpPr>
        <p:spPr>
          <a:xfrm>
            <a:off x="6248520" y="1676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5"/>
          <p:cNvSpPr/>
          <p:nvPr/>
        </p:nvSpPr>
        <p:spPr>
          <a:xfrm>
            <a:off x="6248520" y="1523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6"/>
          <p:cNvSpPr/>
          <p:nvPr/>
        </p:nvSpPr>
        <p:spPr>
          <a:xfrm>
            <a:off x="7315200" y="1447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7"/>
          <p:cNvSpPr/>
          <p:nvPr/>
        </p:nvSpPr>
        <p:spPr>
          <a:xfrm>
            <a:off x="8388360" y="1413000"/>
            <a:ext cx="304920" cy="2286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8"/>
          <p:cNvSpPr/>
          <p:nvPr/>
        </p:nvSpPr>
        <p:spPr>
          <a:xfrm>
            <a:off x="304812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9"/>
          <p:cNvSpPr/>
          <p:nvPr/>
        </p:nvSpPr>
        <p:spPr>
          <a:xfrm>
            <a:off x="1835280" y="152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 углевод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0"/>
          <p:cNvSpPr/>
          <p:nvPr/>
        </p:nvSpPr>
        <p:spPr>
          <a:xfrm flipH="1" flipV="1">
            <a:off x="8459640" y="1483560"/>
            <a:ext cx="144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395280" y="40464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mic Sans MS"/>
              </a:rPr>
              <a:t>Задание.</a:t>
            </a:r>
            <a:r>
              <a:rPr b="1" lang="ru-RU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99"/>
                </a:solidFill>
                <a:latin typeface="Comic Sans MS"/>
              </a:rPr>
              <a:t>В левом столбике указаны названия  классов УВ,   в правом – формулы веществ. Установите, с какими из них могут реагировать представители каждого ряда УВ. Ответы занесите в таблиц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836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42920" y="1844640"/>
            <a:ext cx="38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ади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иклоалканы (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ены (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411280" y="2781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508720" y="1844640"/>
            <a:ext cx="27367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-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Mn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омная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4000" y="5229360"/>
          <a:ext cx="8496000" cy="1036440"/>
        </p:xfrm>
        <a:graphic>
          <a:graphicData uri="http://schemas.openxmlformats.org/drawingml/2006/table">
            <a:tbl>
              <a:tblPr/>
              <a:tblGrid>
                <a:gridCol w="1415880"/>
                <a:gridCol w="1463760"/>
                <a:gridCol w="1368360"/>
                <a:gridCol w="1415880"/>
                <a:gridCol w="1416240"/>
                <a:gridCol w="1415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35"/>
          <p:cNvSpPr/>
          <p:nvPr/>
        </p:nvSpPr>
        <p:spPr>
          <a:xfrm>
            <a:off x="250920" y="566100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1619280" y="5661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4572000" y="5661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3:08:03Z</dcterms:modified>
  <cp:revision>17</cp:revision>
  <dc:subject/>
  <dc:title>Слайд 1</dc:title>
</cp:coreProperties>
</file>