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E224-2129-4F02-BF15-1AA62CC6D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AD5-544C-4FA9-8C6E-BC8DCDF8D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759-A13D-4EB9-9F64-09A882CD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774-7198-495A-B0D3-D959B86D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BD7-914D-45EF-8B65-DB0892F1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A04-622C-43B7-BF3E-003C8AF0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EF28-390D-4393-B111-C29DF99A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10FD-DD4E-4859-8CE4-49857744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2E22-F8FE-4945-9813-D7D9D65C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344-EC05-474A-B1B3-9D1576FA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848B-4EDA-481A-953B-09BC94FE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40C-A779-400C-B3B0-48DB1251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7222-C3A1-4FDC-84A4-AD415CE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560-8646-4F7A-A83D-A98C66B0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F4CB-F3C8-4E4F-83F1-50EDE72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ACC0-332C-49F6-9A30-0EEEE0D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128C-FA5E-4BCD-B195-A2C5C5F1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A77D-AF58-4EB0-8256-8365DB0B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33D8-8C24-424C-BF39-71C3C60A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5BB-C0F8-496D-8F23-617AD83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3B0-6C99-4654-A222-98CF420D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82F-9B9F-4370-96AB-7503868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D11-7826-4EBB-ADA0-C3063B1C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F6C-D423-4ED4-B4C1-4F8D481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8D7-CFC9-460A-A3CD-309AD4BB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DC1-33A3-49DC-9632-4FF8A13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2C7-6FB1-4D17-92D7-A14D5996D00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240-2E6B-4D44-8B1B-9E05D6C27DD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und43"/>
          <p:cNvPicPr/>
          <p:nvPr/>
        </p:nvPicPr>
        <p:blipFill>
          <a:blip r:embed="rId1"/>
          <a:stretch/>
        </p:blipFill>
        <p:spPr>
          <a:xfrm>
            <a:off x="2890800" y="6156360"/>
            <a:ext cx="4033800" cy="457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708360" y="3933720"/>
            <a:ext cx="38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116000" y="189000"/>
            <a:ext cx="754236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ЕГАТИВНЫЕ ПРИВЫЧКИ РОССИЯН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РЕНИЕ И АЛКОГО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9" name="Объект 3"/>
          <p:cNvGraphicFramePr/>
          <p:nvPr/>
        </p:nvGraphicFramePr>
        <p:xfrm>
          <a:off x="1011240" y="138240"/>
          <a:ext cx="8004240" cy="66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138240"/>
                    <a:ext cx="8004240" cy="66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096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Пол существенно влияет на норму и частоту потребления алкогольных напитков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1640" y="1766880"/>
            <a:ext cx="7769160" cy="411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Объект 1"/>
          <p:cNvGraphicFramePr/>
          <p:nvPr/>
        </p:nvGraphicFramePr>
        <p:xfrm>
          <a:off x="900000" y="1852560"/>
          <a:ext cx="8097840" cy="50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852560"/>
                    <a:ext cx="809784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776160" y="138240"/>
            <a:ext cx="8310600" cy="6581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00000" y="189000"/>
          <a:ext cx="7993080" cy="6259320"/>
        </p:xfrm>
        <a:graphic>
          <a:graphicData uri="http://schemas.openxmlformats.org/drawingml/2006/table">
            <a:tbl>
              <a:tblPr/>
              <a:tblGrid>
                <a:gridCol w="2557440"/>
                <a:gridCol w="970200"/>
                <a:gridCol w="1728720"/>
                <a:gridCol w="1655640"/>
                <a:gridCol w="1081080"/>
              </a:tblGrid>
              <a:tr h="156060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курите в настоящее время? *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5 Пол респонден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в oh5 Пол респонд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9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5 Пол респонд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65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С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71 Вы курите в настоящее врем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0" name="Объект 3" descr=""/>
          <p:cNvPicPr/>
          <p:nvPr/>
        </p:nvPicPr>
        <p:blipFill>
          <a:blip r:embed="rId1"/>
          <a:stretch/>
        </p:blipFill>
        <p:spPr>
          <a:xfrm>
            <a:off x="1011240" y="209520"/>
            <a:ext cx="7870680" cy="6510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1011240" y="209520"/>
            <a:ext cx="7870680" cy="6583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830448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ЗАВИСИТМОСТЬ МЕЖДУ ТАБАКОКУРЕНИЕМ И ПРИМЕНЕНИЕМ АЛКОГОЛЬНЫХ НАПИТКОВ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971640" y="1716120"/>
            <a:ext cx="787068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820908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ЗАВИСИМОСТЬ МЕЖДУ ПРИМЕНЕНИЕМ АЛКОГОЛЬНЫХ НАПИТКОВ И ТАБАКОКУРЕНИЕМ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6" name="Объект 3" descr=""/>
          <p:cNvPicPr/>
          <p:nvPr/>
        </p:nvPicPr>
        <p:blipFill>
          <a:blip r:embed="rId1"/>
          <a:stretch/>
        </p:blipFill>
        <p:spPr>
          <a:xfrm>
            <a:off x="755640" y="1857240"/>
            <a:ext cx="8238960" cy="5004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СОЦИАЛЬНЫЙ ПОРТРЕТ ИНДИВИДА С ВРЕДНЫМИ ПРИВЫЧКАМ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мость формирования вредных привычек от уровня образования индиви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843280" y="3573360"/>
            <a:ext cx="4419360" cy="3070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849240" y="353880"/>
            <a:ext cx="8166240" cy="6365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АКТУАЛЬНОСТЬ</a:t>
            </a:r>
            <a:r>
              <a:rPr b="0" lang="ru-RU" sz="2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ПРОБЛЕМЫ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1640" y="1766520"/>
            <a:ext cx="77691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 “вредных привычек” является наиболее актуальной в наше время, и борьба с ним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задача не толь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а в цел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и каждого отдель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ждан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31370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1011240" y="209520"/>
            <a:ext cx="7870680" cy="6583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  <a:ea typeface="Calibri"/>
              </a:rPr>
              <a:t>По статистическим данным распространение вредных привычек в большом масштабе, связано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1047600" y="1768320"/>
            <a:ext cx="779148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timer.od.ua/uploads/2012/03/13325194592678.jpg"/>
          <p:cNvPicPr/>
          <p:nvPr/>
        </p:nvPicPr>
        <p:blipFill>
          <a:blip r:embed="rId1"/>
          <a:stretch/>
        </p:blipFill>
        <p:spPr>
          <a:xfrm>
            <a:off x="4140360" y="3716280"/>
            <a:ext cx="4743360" cy="28670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116000" y="33336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  ИССЛЕД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992160" y="1951200"/>
            <a:ext cx="791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явить состояние этой проблемы на данный момент времени в нашей стр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  <a:ea typeface="Calibri"/>
              </a:rPr>
              <a:t> </a:t>
            </a:r>
            <a:r>
              <a:rPr b="1" i="1" lang="ru-RU" sz="4000" spc="-1" strike="noStrike">
                <a:solidFill>
                  <a:srgbClr val="482400"/>
                </a:solidFill>
                <a:latin typeface="Times New Roman"/>
                <a:ea typeface="Calibri"/>
              </a:rPr>
              <a:t>ЗАДАЧИ   ИССЛЕДОВАНИЯ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920" y="250524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-4204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ании данных социологического опроса определить соотношение курящих и принимающих алкогольные напитки среди мужского и женского насе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-4204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существует ли зависимость наличия у индивида вредных привычек от уровня его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  <a:ea typeface="Calibri"/>
              </a:rPr>
              <a:t>АЛКОГОЛИЗМ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6200" y="1557360"/>
            <a:ext cx="820908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котическая зависимость, характеризующаяся болезненным пристрастием к употреблению алкогольных напитков (психическая и физическая зависимость) и алкогольным поражением внутренних орга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алкоголизме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градация челов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 личности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32440" y="3711600"/>
            <a:ext cx="39132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ТАБАКОКУРЕНИ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4000" y="1699920"/>
            <a:ext cx="7769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 бытовой наркомании, заключающийся во вдыхании дыма препаратов, обычно растительного происхождения, тлеющих в потоке вдыхаемого воздух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насыщения организма содержащимися в них активными веществ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ём их возгонк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дующего всасы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лёгких и дыхатель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http://www.nravstvennost.info/upload/iblock/6de/htdsig.jpg"/>
          <p:cNvPicPr/>
          <p:nvPr/>
        </p:nvPicPr>
        <p:blipFill>
          <a:blip r:embed="rId1"/>
          <a:stretch/>
        </p:blipFill>
        <p:spPr>
          <a:xfrm>
            <a:off x="5224320" y="4005360"/>
            <a:ext cx="38037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8137800" cy="15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Социологическое исследование проблемы алкоголизма и табакокурения в России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826920" y="2133720"/>
            <a:ext cx="806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нове обзора лежат данные «Российского мониторинга экономического положения и здоровья населения НИУ-ВШЭ (RLMS-HSE)», который проводят Национальный исследовательский университет – Высшая школа экономики  и ЗАО «Демоскоп» при участии Центра народонаселения университета Северной Каролины в Чапел Хилле (США) и Института социолог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189000"/>
          <a:ext cx="7921800" cy="6426000"/>
        </p:xfrm>
        <a:graphic>
          <a:graphicData uri="http://schemas.openxmlformats.org/drawingml/2006/table">
            <a:tbl>
              <a:tblPr/>
              <a:tblGrid>
                <a:gridCol w="1581120"/>
                <a:gridCol w="1436760"/>
                <a:gridCol w="611280"/>
                <a:gridCol w="863640"/>
                <a:gridCol w="861840"/>
                <a:gridCol w="2567160"/>
              </a:tblGrid>
              <a:tr h="641880">
                <a:tc gridSpan="6"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ете ли Вы хотя бы иногда алкого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тки, включая пи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5600"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д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мулятив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480">
                <a:tc rowSpan="3"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д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Да, употребля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т, никогда не употребля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44920">
                <a:tc rowSpan="5"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щ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99997 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99998 ОТКАЗ ОТ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99999 НЕТ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ые пропущ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t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6200" marR="16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1011240" y="138240"/>
            <a:ext cx="8075520" cy="6581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6:51:58Z</dcterms:created>
  <dc:creator>Admin</dc:creator>
  <dc:description/>
  <dc:language>en-US</dc:language>
  <cp:lastModifiedBy>DNA7 X64</cp:lastModifiedBy>
  <dcterms:modified xsi:type="dcterms:W3CDTF">2012-12-07T07:34:45Z</dcterms:modified>
  <cp:revision>55</cp:revision>
  <dc:subject/>
  <dc:title>Слайд 1</dc:title>
</cp:coreProperties>
</file>