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17AF-3D4E-4555-9227-FC66A9C845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A6E8-3970-4EED-9A61-17210F77B9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400-84C1-4D34-87FF-6A432A35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881-DE5B-47F8-B4C7-FA3DA5EE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75B-E50E-4745-AC34-A4986B2D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F45-A2EB-4FF1-8995-6F82ECB1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9D06-096E-49CD-B48E-D07D9686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1E8A-FCFE-4D56-B841-41C1B061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6533-6A3C-48B2-916C-33968613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EB71-3B71-46EB-A1C2-42269521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82B9-BA1F-4970-B81F-45689340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4A4A-1D0B-4DA8-B46F-44C98266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6488-1064-49BE-B4F1-480A310F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2D2-5573-47A4-90B6-066B04F6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C78C-2CC9-40BB-8792-6CE899B9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E9E5-7F3B-4511-89EB-D155A239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5D9A-98E6-4808-9A64-21E1FE81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A644-E82C-4E95-8C5B-C621C356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2F70-B055-4958-BFE3-BFAAA41A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9BB-0FAE-4DFE-A23D-AD5B4696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637-07C1-4B61-AF87-145907D3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73A-FE3A-40E6-9998-4DD1A1B5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3A9-C5DE-43AE-8BDF-EE498079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5AA-C408-4CB2-AB2E-ED92A3A4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4D84-02E0-477F-9A4F-98C0A632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7BC-E130-49C9-AB48-8CE5FB77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0774-AFC2-4DB4-8EF2-166D86DE2140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9A22-2924-4667-B123-F37FB811165A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und43"/>
          <p:cNvPicPr/>
          <p:nvPr/>
        </p:nvPicPr>
        <p:blipFill>
          <a:blip r:embed="rId1"/>
          <a:stretch/>
        </p:blipFill>
        <p:spPr>
          <a:xfrm>
            <a:off x="2890800" y="6156360"/>
            <a:ext cx="4033800" cy="457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3708360" y="3933720"/>
            <a:ext cx="38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116000" y="189000"/>
            <a:ext cx="7542360" cy="55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ЕГАТИВНЫЕ ПРИВЫЧКИ РОССИЯН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УРЕНИЕ И АЛКОГО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19" name="Объект 3"/>
          <p:cNvGraphicFramePr/>
          <p:nvPr/>
        </p:nvGraphicFramePr>
        <p:xfrm>
          <a:off x="1011240" y="138240"/>
          <a:ext cx="8004240" cy="66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138240"/>
                    <a:ext cx="800424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40960" y="18864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Пол существенно влияет на норму и частоту потребления алкогольных напитков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1640" y="1766880"/>
            <a:ext cx="7769160" cy="411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Объект 1"/>
          <p:cNvGraphicFramePr/>
          <p:nvPr/>
        </p:nvGraphicFramePr>
        <p:xfrm>
          <a:off x="900000" y="1852560"/>
          <a:ext cx="8097840" cy="50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852560"/>
                    <a:ext cx="809784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6" name="Объект 3" descr=""/>
          <p:cNvPicPr/>
          <p:nvPr/>
        </p:nvPicPr>
        <p:blipFill>
          <a:blip r:embed="rId1"/>
          <a:stretch/>
        </p:blipFill>
        <p:spPr>
          <a:xfrm>
            <a:off x="776160" y="138240"/>
            <a:ext cx="8310600" cy="6581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00000" y="189000"/>
          <a:ext cx="7993080" cy="6259320"/>
        </p:xfrm>
        <a:graphic>
          <a:graphicData uri="http://schemas.openxmlformats.org/drawingml/2006/table">
            <a:tbl>
              <a:tblPr/>
              <a:tblGrid>
                <a:gridCol w="2557440"/>
                <a:gridCol w="970200"/>
                <a:gridCol w="1728720"/>
                <a:gridCol w="1655640"/>
                <a:gridCol w="1081080"/>
              </a:tblGrid>
              <a:tr h="1560600">
                <a:tc gridSpan="5"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курите в настоящее время? *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5 Пол респонден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19080" rIns="19080" tIns="19080" bIns="19080" anchor="b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 oh5 Пол респонде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92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9080" rIns="19080" tIns="19080" bIns="19080" anchor="b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5 Пол респонде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652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СК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 rowSpan="2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71 Вы курите в настоящее врем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2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0" name="Объект 3" descr=""/>
          <p:cNvPicPr/>
          <p:nvPr/>
        </p:nvPicPr>
        <p:blipFill>
          <a:blip r:embed="rId1"/>
          <a:stretch/>
        </p:blipFill>
        <p:spPr>
          <a:xfrm>
            <a:off x="1011240" y="209520"/>
            <a:ext cx="7870680" cy="6510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2" name="Объект 3" descr=""/>
          <p:cNvPicPr/>
          <p:nvPr/>
        </p:nvPicPr>
        <p:blipFill>
          <a:blip r:embed="rId1"/>
          <a:stretch/>
        </p:blipFill>
        <p:spPr>
          <a:xfrm>
            <a:off x="1011240" y="209520"/>
            <a:ext cx="7870680" cy="6583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830448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ЗАВИСИТМОСТЬ МЕЖДУ ТАБАКОКУРЕНИЕМ И ПРИМЕНЕНИЕМ АЛКОГОЛЬНЫХ НАПИТКОВ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4" name="Объект 3" descr=""/>
          <p:cNvPicPr/>
          <p:nvPr/>
        </p:nvPicPr>
        <p:blipFill>
          <a:blip r:embed="rId1"/>
          <a:stretch/>
        </p:blipFill>
        <p:spPr>
          <a:xfrm>
            <a:off x="971640" y="1716120"/>
            <a:ext cx="787068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820908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ЗАВИСИМОСТЬ МЕЖДУ ПРИМЕНЕНИЕМ АЛКОГОЛЬНЫХ НАПИТКОВ И ТАБАКОКУРЕНИЕМ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6" name="Объект 3" descr=""/>
          <p:cNvPicPr/>
          <p:nvPr/>
        </p:nvPicPr>
        <p:blipFill>
          <a:blip r:embed="rId1"/>
          <a:stretch/>
        </p:blipFill>
        <p:spPr>
          <a:xfrm>
            <a:off x="755640" y="1857240"/>
            <a:ext cx="8238960" cy="5004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СОЦИАЛЬНЫЙ ПОРТРЕТ ИНДИВИДА С ВРЕДНЫМИ ПРИВЫЧКАМИ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мость формирования вредных привычек от уровня образования индиви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843280" y="3573360"/>
            <a:ext cx="4419360" cy="3070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1" name="Объект 3" descr=""/>
          <p:cNvPicPr/>
          <p:nvPr/>
        </p:nvPicPr>
        <p:blipFill>
          <a:blip r:embed="rId1"/>
          <a:stretch/>
        </p:blipFill>
        <p:spPr>
          <a:xfrm>
            <a:off x="849240" y="353880"/>
            <a:ext cx="8166240" cy="6365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АКТУАЛЬНОСТЬ</a:t>
            </a: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    </a:t>
            </a: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ПРОБЛЕМЫ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1640" y="1766520"/>
            <a:ext cx="77691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а “вредных привычек” является наиболее актуальной в наше время, и борьба с ними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задача не тольк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а в целом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и каждого отдельн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аждан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5724360" y="2781360"/>
            <a:ext cx="31370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3" name="Объект 3" descr=""/>
          <p:cNvPicPr/>
          <p:nvPr/>
        </p:nvPicPr>
        <p:blipFill>
          <a:blip r:embed="rId1"/>
          <a:stretch/>
        </p:blipFill>
        <p:spPr>
          <a:xfrm>
            <a:off x="1011240" y="209520"/>
            <a:ext cx="7870680" cy="6583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  <a:ea typeface="Calibri"/>
              </a:rPr>
              <a:t>По статистическим данным распространение вредных привычек в большом масштабе, связано 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5" name="Объект 3" descr=""/>
          <p:cNvPicPr/>
          <p:nvPr/>
        </p:nvPicPr>
        <p:blipFill>
          <a:blip r:embed="rId1"/>
          <a:stretch/>
        </p:blipFill>
        <p:spPr>
          <a:xfrm>
            <a:off x="1047600" y="1768320"/>
            <a:ext cx="7791480" cy="4827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http://timer.od.ua/uploads/2012/03/13325194592678.jpg"/>
          <p:cNvPicPr/>
          <p:nvPr/>
        </p:nvPicPr>
        <p:blipFill>
          <a:blip r:embed="rId1"/>
          <a:stretch/>
        </p:blipFill>
        <p:spPr>
          <a:xfrm>
            <a:off x="4140360" y="3716280"/>
            <a:ext cx="4743360" cy="28670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1116000" y="333360"/>
            <a:ext cx="755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ЦЕЛЬ  ИССЛЕДО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992160" y="1951200"/>
            <a:ext cx="791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явить состояние этой проблемы на данный момент времени в нашей стра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Times New Roman"/>
                <a:ea typeface="Calibri"/>
              </a:rPr>
              <a:t> </a:t>
            </a:r>
            <a:r>
              <a:rPr b="1" i="1" lang="ru-RU" sz="4000" spc="-1" strike="noStrike">
                <a:solidFill>
                  <a:srgbClr val="482400"/>
                </a:solidFill>
                <a:latin typeface="Times New Roman"/>
                <a:ea typeface="Calibri"/>
              </a:rPr>
              <a:t>ЗАДАЧИ   ИССЛЕДОВАНИЯ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920" y="2505240"/>
            <a:ext cx="7772400" cy="43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marL="420480" indent="-4204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основании данных социологического опроса определить соотношение курящих и принимающих алкогольные напитки среди мужского и женского насе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0480" indent="-4204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существует ли зависимость наличия у индивида вредных привычек от уровня его 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  <a:ea typeface="Calibri"/>
              </a:rPr>
              <a:t>АЛКОГОЛИЗМ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36200" y="1557360"/>
            <a:ext cx="820908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котическая зависимость, характеризующаяся болезненным пристрастием к употреблению алкогольных напитков (психическая и физическая зависимость) и алкогольным поражением внутренних орган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 алкоголизме происход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градация чело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 личности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032440" y="3711600"/>
            <a:ext cx="3913200" cy="3135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ТАБАКОКУРЕНИ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000" y="1699920"/>
            <a:ext cx="776916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 бытовой наркомании, заключающийся во вдыхании дыма препаратов, обычно растительного происхождения, тлеющих в потоке вдыхаемого воздух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целью насыщения организма содержащимися в них активными веществ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тём их возгонк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дующего всасы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лёгких и дыхатель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тя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http://www.nravstvennost.info/upload/iblock/6de/htdsig.jpg"/>
          <p:cNvPicPr/>
          <p:nvPr/>
        </p:nvPicPr>
        <p:blipFill>
          <a:blip r:embed="rId1"/>
          <a:stretch/>
        </p:blipFill>
        <p:spPr>
          <a:xfrm>
            <a:off x="5224320" y="4005360"/>
            <a:ext cx="38037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8137800" cy="15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Социологическое исследование проблемы алкоголизма и табакокурения в России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826920" y="2133720"/>
            <a:ext cx="8066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снове обзора лежат данные «Российского мониторинга экономического положения и здоровья населения НИУ-ВШЭ (RLMS-HSE)», который проводят Национальный исследовательский университет – Высшая школа экономики  и ЗАО «Демоскоп» при участии Центра народонаселения университета Северной Каролины в Чапел Хилле (США) и Института социологии Р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2920" y="189000"/>
          <a:ext cx="7921800" cy="6426000"/>
        </p:xfrm>
        <a:graphic>
          <a:graphicData uri="http://schemas.openxmlformats.org/drawingml/2006/table">
            <a:tbl>
              <a:tblPr/>
              <a:tblGrid>
                <a:gridCol w="1581120"/>
                <a:gridCol w="1436760"/>
                <a:gridCol w="611280"/>
                <a:gridCol w="863640"/>
                <a:gridCol w="861840"/>
                <a:gridCol w="2567160"/>
              </a:tblGrid>
              <a:tr h="641880">
                <a:tc gridSpan="6"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яете ли Вы хотя бы иногда алкоголь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итки, включая пив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5600"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идный проц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мулятивный проц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 rowSpan="3"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ид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Да, употребля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т, никогда не употребля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44920">
                <a:tc rowSpan="5"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ущ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99997 ЗАТРУДНЯЮСЬ ОТВЕТ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99998 ОТКАЗ ОТ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99999 НЕТ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ые пропущ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9000"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7" name="Объект 3" descr=""/>
          <p:cNvPicPr/>
          <p:nvPr/>
        </p:nvPicPr>
        <p:blipFill>
          <a:blip r:embed="rId1"/>
          <a:stretch/>
        </p:blipFill>
        <p:spPr>
          <a:xfrm>
            <a:off x="1011240" y="138240"/>
            <a:ext cx="8075520" cy="6581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6:51:58Z</dcterms:created>
  <dc:creator>Admin</dc:creator>
  <dc:description/>
  <dc:language>en-US</dc:language>
  <cp:lastModifiedBy>DNA7 X64</cp:lastModifiedBy>
  <dcterms:modified xsi:type="dcterms:W3CDTF">2012-12-07T07:34:45Z</dcterms:modified>
  <cp:revision>55</cp:revision>
  <dc:subject/>
  <dc:title>Слайд 1</dc:title>
</cp:coreProperties>
</file>