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086-5562-40A7-84D4-6A60AB19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63F-B36D-47E6-A15A-0FB2903C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FEA-4BD8-44D4-B2CD-419C6137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ECB-EF55-4929-B725-28DCDD09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9B3-B164-409F-A4DE-E60B56AD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3E2-6B85-4D14-9E3F-3E854D5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48D-10AB-4BAE-ABEB-C67E3639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A93-67BD-45F7-8A9B-43A66B7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E83-0003-495E-9911-F093FB76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912-A8CB-4E5C-BBDB-449543E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918-80D6-467F-84AA-529DF93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C22-B899-41A3-AC5F-2790A9D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C54-6CB9-4D8F-B24B-235526D99D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23.radikal.ru/1105/27/dd201aa58a0e.png" TargetMode="External"/><Relationship Id="rId2" Type="http://schemas.openxmlformats.org/officeDocument/2006/relationships/hyperlink" Target="http://u.to/FKD7" TargetMode="External"/><Relationship Id="rId3" Type="http://schemas.openxmlformats.org/officeDocument/2006/relationships/hyperlink" Target="http://www.marttoys.ru/upload/iblock/460/24k_a.jpg" TargetMode="External"/><Relationship Id="rId4" Type="http://schemas.openxmlformats.org/officeDocument/2006/relationships/hyperlink" Target="http://img-fotki.yandex.ru/get/5407/valenta-mog.4d/0_60915_453141cb_orig.jpg" TargetMode="External"/><Relationship Id="rId5" Type="http://schemas.openxmlformats.org/officeDocument/2006/relationships/hyperlink" Target="http://funforkids.ru/pictures/mult/mult96.png" TargetMode="External"/><Relationship Id="rId6" Type="http://schemas.openxmlformats.org/officeDocument/2006/relationships/hyperlink" Target="http://www.heqiat.am/images/stories/534585152.png" TargetMode="External"/><Relationship Id="rId7" Type="http://schemas.openxmlformats.org/officeDocument/2006/relationships/hyperlink" Target="http://www.proshkolu.ru/content/media/pic/std/2000000/1906000/1905258-7044cf177c2475f6.jpg" TargetMode="External"/><Relationship Id="rId8" Type="http://schemas.openxmlformats.org/officeDocument/2006/relationships/hyperlink" Target="http://static.eva.ru/eva/10001-20000/19189/photoalbum/3473107.jpg" TargetMode="External"/><Relationship Id="rId9" Type="http://schemas.openxmlformats.org/officeDocument/2006/relationships/hyperlink" Target="http://img01.chitalnya.ru/upload2/138/88249606080353264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3640" y="4941360"/>
            <a:ext cx="6769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Выполнила: Щеглова Надежда Иван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Негосударственного общеобразовательного учреждения Лицей № 3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открытого акционерного общества «Российские железные дорог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2340000" y="189000"/>
            <a:ext cx="4572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нспект урока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«Согласные звуки [б], [б’]. Буквы «Б», «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936720" y="2689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едмет: Обучение грам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Авторы: Л.Ф. Климанова, С.Г. Мак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ласс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2643120" y="5643720"/>
            <a:ext cx="5357880" cy="1071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2643120" y="214200"/>
            <a:ext cx="5357880" cy="1071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2643120" y="1571760"/>
            <a:ext cx="5357880" cy="1071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2"/>
          <p:cNvSpPr/>
          <p:nvPr/>
        </p:nvSpPr>
        <p:spPr>
          <a:xfrm>
            <a:off x="2643120" y="4143240"/>
            <a:ext cx="5357880" cy="1285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6929280" y="214200"/>
            <a:ext cx="1000440" cy="857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6929280" y="4214880"/>
            <a:ext cx="100044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6929280" y="1571760"/>
            <a:ext cx="100044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1"/>
          <p:cNvSpPr/>
          <p:nvPr/>
        </p:nvSpPr>
        <p:spPr>
          <a:xfrm>
            <a:off x="7000920" y="5715000"/>
            <a:ext cx="100008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0" spc="-1" strike="noStrike">
                <a:solidFill>
                  <a:srgbClr val="ffffff"/>
                </a:solidFill>
                <a:latin typeface="Arial"/>
                <a:ea typeface="Arial"/>
              </a:rPr>
              <a:t>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1000080" y="285840"/>
            <a:ext cx="1000080" cy="928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1071720" y="1643040"/>
            <a:ext cx="1000080" cy="9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1000080" y="4357800"/>
            <a:ext cx="1000080" cy="928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6"/>
          <p:cNvSpPr/>
          <p:nvPr/>
        </p:nvSpPr>
        <p:spPr>
          <a:xfrm>
            <a:off x="1071720" y="5643720"/>
            <a:ext cx="1000080" cy="1000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643120" y="2857680"/>
            <a:ext cx="5357880" cy="1071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6916680" y="2820960"/>
            <a:ext cx="1000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Arial"/>
                <a:ea typeface="Arial"/>
              </a:rPr>
              <a:t>ы</a:t>
            </a: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071720" y="2928960"/>
            <a:ext cx="1000080" cy="9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4861 0.00231 E">
                                      <p:cBhvr>
                                        <p:cTn id="18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672 L 0.5382 0.00787 E">
                                      <p:cBhvr>
                                        <p:cTn id="19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51 L 0.51181 0.00694 E">
                                      <p:cBhvr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5643 0.00694 E">
                                      <p:cBhvr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0.5408 0.00324 E">
                                      <p:cBhvr>
                                        <p:cTn id="20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1"/>
          <p:cNvSpPr/>
          <p:nvPr/>
        </p:nvSpPr>
        <p:spPr>
          <a:xfrm>
            <a:off x="2643120" y="1571760"/>
            <a:ext cx="5357880" cy="107136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2643120" y="4143240"/>
            <a:ext cx="5357880" cy="128592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8"/>
          <p:cNvSpPr/>
          <p:nvPr/>
        </p:nvSpPr>
        <p:spPr>
          <a:xfrm>
            <a:off x="6929280" y="4286160"/>
            <a:ext cx="1000440" cy="85752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9"/>
          <p:cNvSpPr/>
          <p:nvPr/>
        </p:nvSpPr>
        <p:spPr>
          <a:xfrm>
            <a:off x="6929280" y="1571760"/>
            <a:ext cx="1000440" cy="85716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Arial"/>
                <a:ea typeface="Arial"/>
              </a:rPr>
              <a:t>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3"/>
          <p:cNvSpPr/>
          <p:nvPr/>
        </p:nvSpPr>
        <p:spPr>
          <a:xfrm>
            <a:off x="1071720" y="1643040"/>
            <a:ext cx="1000080" cy="92880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4"/>
          <p:cNvSpPr/>
          <p:nvPr/>
        </p:nvSpPr>
        <p:spPr>
          <a:xfrm>
            <a:off x="1000080" y="4357800"/>
            <a:ext cx="1000080" cy="92844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2643120" y="2857680"/>
            <a:ext cx="5357880" cy="1071360"/>
          </a:xfrm>
          <a:prstGeom prst="rect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4"/>
          <p:cNvSpPr/>
          <p:nvPr/>
        </p:nvSpPr>
        <p:spPr>
          <a:xfrm>
            <a:off x="7000920" y="2857680"/>
            <a:ext cx="1000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1071720" y="2928960"/>
            <a:ext cx="1000080" cy="928800"/>
          </a:xfrm>
          <a:prstGeom prst="rect">
            <a:avLst/>
          </a:pr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672 L 0.5382 0.00787 E">
                                      <p:cBhvr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51 L 0.51181 0.00694 E">
                                      <p:cBhvr>
                                        <p:cTn id="2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55643 0.00694 E">
                                      <p:cBhvr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655640" y="1125360"/>
            <a:ext cx="3934080" cy="5429520"/>
          </a:xfrm>
          <a:prstGeom prst="rect">
            <a:avLst/>
          </a:prstGeom>
          <a:ln w="0">
            <a:noFill/>
          </a:ln>
        </p:spPr>
      </p:pic>
      <p:sp>
        <p:nvSpPr>
          <p:cNvPr id="114" name="Овал 2"/>
          <p:cNvSpPr/>
          <p:nvPr/>
        </p:nvSpPr>
        <p:spPr>
          <a:xfrm rot="433800">
            <a:off x="5719680" y="244080"/>
            <a:ext cx="2214720" cy="1500120"/>
          </a:xfrm>
          <a:prstGeom prst="ellipse">
            <a:avLst/>
          </a:prstGeom>
          <a:solidFill>
            <a:srgbClr val="c6d9f1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3286080" y="0"/>
            <a:ext cx="2214720" cy="1500120"/>
          </a:xfrm>
          <a:prstGeom prst="ellipse">
            <a:avLst/>
          </a:prstGeom>
          <a:solidFill>
            <a:srgbClr val="8eb4e3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6786720" y="2786040"/>
            <a:ext cx="2214360" cy="15001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 rot="20530800">
            <a:off x="177480" y="2117520"/>
            <a:ext cx="1932120" cy="14619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7268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8"/>
          <p:cNvSpPr/>
          <p:nvPr/>
        </p:nvSpPr>
        <p:spPr>
          <a:xfrm rot="1187400">
            <a:off x="4689000" y="1687680"/>
            <a:ext cx="2214720" cy="1500120"/>
          </a:xfrm>
          <a:prstGeom prst="ellipse">
            <a:avLst/>
          </a:prstGeom>
          <a:solidFill>
            <a:srgbClr val="b7dee8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"/>
          <p:cNvSpPr/>
          <p:nvPr/>
        </p:nvSpPr>
        <p:spPr>
          <a:xfrm rot="21430800">
            <a:off x="534600" y="54000"/>
            <a:ext cx="2214720" cy="1500120"/>
          </a:xfrm>
          <a:prstGeom prst="ellipse">
            <a:avLst/>
          </a:prstGeom>
          <a:solidFill>
            <a:srgbClr val="b7dee8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9"/>
          <p:cNvSpPr/>
          <p:nvPr/>
        </p:nvSpPr>
        <p:spPr>
          <a:xfrm rot="20530800">
            <a:off x="177480" y="4260600"/>
            <a:ext cx="1932120" cy="14619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0"/>
          <p:cNvSpPr/>
          <p:nvPr/>
        </p:nvSpPr>
        <p:spPr>
          <a:xfrm rot="1637400">
            <a:off x="6607080" y="4546440"/>
            <a:ext cx="1932120" cy="14623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б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2395440" y="1557360"/>
            <a:ext cx="6784920" cy="52848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571680" y="142920"/>
            <a:ext cx="8572320" cy="14288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Тортила в бол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бормотала Торти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4292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71280" y="2357280"/>
            <a:ext cx="150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31431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14292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257184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2571840" y="23572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2428920" y="31431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2571840" y="3857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347 L -0.1783 0.11898 E">
                                      <p:cBhvr>
                                        <p:cTn id="25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17031 -0.11111 E">
                                      <p:cBhvr>
                                        <p:cTn id="26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509 L -0.1783 0.12639 E">
                                      <p:cBhvr>
                                        <p:cTn id="26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417 L -0.20972 -0.10301 E">
                                      <p:cBhvr>
                                        <p:cTn id="27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2395440" y="1557360"/>
            <a:ext cx="6784920" cy="52848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571680" y="142920"/>
            <a:ext cx="8572320" cy="14288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Тортила в бол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бормотала Торти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4292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71280" y="2357280"/>
            <a:ext cx="1500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е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142920" y="3143160"/>
            <a:ext cx="1357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142920" y="40006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2571840" y="15717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2571840" y="23572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2428920" y="314316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2571840" y="3786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6 -0.00695 L -0.21267 0.23101 E">
                                      <p:cBhvr>
                                        <p:cTn id="27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-0.18906 0.24144 E">
                                      <p:cBhvr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7812 -0.20393 E">
                                      <p:cBhvr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1625 -0.22569 E">
                                      <p:cBhvr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4"/>
          <p:cNvSpPr/>
          <p:nvPr/>
        </p:nvSpPr>
        <p:spPr>
          <a:xfrm>
            <a:off x="3793680" y="1785960"/>
            <a:ext cx="142128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т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786280" y="2500200"/>
            <a:ext cx="141300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им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5722920" y="4214880"/>
            <a:ext cx="200664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лисы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150560" y="4286160"/>
            <a:ext cx="187380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тер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3651840" y="5072040"/>
            <a:ext cx="158292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24720" y="2500200"/>
            <a:ext cx="1920960" cy="642600"/>
          </a:xfrm>
          <a:prstGeom prst="rect">
            <a:avLst/>
          </a:prstGeom>
          <a:solidFill>
            <a:srgbClr val="77d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тра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3214800" y="3143160"/>
            <a:ext cx="2428920" cy="825120"/>
          </a:xfrm>
          <a:prstGeom prst="rect">
            <a:avLst/>
          </a:prstGeom>
          <a:solidFill>
            <a:srgbClr val="ddd9c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C:\Users\я\Desktop\2.jpg"/>
          <p:cNvPicPr/>
          <p:nvPr/>
        </p:nvPicPr>
        <p:blipFill>
          <a:blip r:embed="rId1"/>
          <a:stretch/>
        </p:blipFill>
        <p:spPr>
          <a:xfrm>
            <a:off x="6327720" y="3713040"/>
            <a:ext cx="1779480" cy="2211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2"/>
          <p:cNvSpPr/>
          <p:nvPr/>
        </p:nvSpPr>
        <p:spPr>
          <a:xfrm>
            <a:off x="2143080" y="71280"/>
            <a:ext cx="4357800" cy="428760"/>
          </a:xfrm>
          <a:prstGeom prst="ellipse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Герои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http://s4.frame.ozstatic.by/1000/947/267/10/10267947_2.jpg"/>
          <p:cNvPicPr/>
          <p:nvPr/>
        </p:nvPicPr>
        <p:blipFill>
          <a:blip r:embed="rId2"/>
          <a:stretch/>
        </p:blipFill>
        <p:spPr>
          <a:xfrm>
            <a:off x="2998800" y="2359080"/>
            <a:ext cx="2421000" cy="32925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3143160" y="1785960"/>
            <a:ext cx="214308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3000240" y="5786280"/>
            <a:ext cx="250056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апа 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5715000" y="3071880"/>
            <a:ext cx="2857680" cy="4284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ёс Артем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5929200" y="5929200"/>
            <a:ext cx="257184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са А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http://img01.chitalnya.ru/upload2/138/88249606080353264.jpg"/>
          <p:cNvPicPr/>
          <p:nvPr/>
        </p:nvPicPr>
        <p:blipFill>
          <a:blip r:embed="rId3"/>
          <a:stretch/>
        </p:blipFill>
        <p:spPr>
          <a:xfrm>
            <a:off x="426960" y="2859120"/>
            <a:ext cx="1998720" cy="28591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0"/>
          <p:cNvSpPr/>
          <p:nvPr/>
        </p:nvSpPr>
        <p:spPr>
          <a:xfrm>
            <a:off x="571680" y="5929200"/>
            <a:ext cx="1857240" cy="4287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ра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www.heqiat.am/images/stories/534585152.png"/>
          <p:cNvPicPr/>
          <p:nvPr/>
        </p:nvPicPr>
        <p:blipFill>
          <a:blip r:embed="rId4"/>
          <a:stretch/>
        </p:blipFill>
        <p:spPr>
          <a:xfrm>
            <a:off x="6500880" y="1143000"/>
            <a:ext cx="13795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2"/>
          <p:cNvSpPr/>
          <p:nvPr/>
        </p:nvSpPr>
        <p:spPr>
          <a:xfrm>
            <a:off x="2214720" y="1785960"/>
            <a:ext cx="4857480" cy="2786040"/>
          </a:xfrm>
          <a:prstGeom prst="rect">
            <a:avLst/>
          </a:prstGeom>
          <a:solidFill>
            <a:srgbClr val="32ac4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 затруднял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е понрави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img-fotki.yandex.ru/get/9310/134091466.d1/0_cbb7c_a72cf0ce_L.png"/>
          <p:cNvPicPr/>
          <p:nvPr/>
        </p:nvPicPr>
        <p:blipFill>
          <a:blip r:embed="rId1"/>
          <a:srcRect l="52516" t="0" r="0" b="0"/>
          <a:stretch/>
        </p:blipFill>
        <p:spPr>
          <a:xfrm>
            <a:off x="1000080" y="3571920"/>
            <a:ext cx="177156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img-fotki.yandex.ru/get/9310/134091466.d1/0_cbb7c_a72cf0ce_L.png"/>
          <p:cNvPicPr/>
          <p:nvPr/>
        </p:nvPicPr>
        <p:blipFill>
          <a:blip r:embed="rId2"/>
          <a:srcRect l="0" t="0" r="47508" b="0"/>
          <a:stretch/>
        </p:blipFill>
        <p:spPr>
          <a:xfrm>
            <a:off x="6572160" y="3500280"/>
            <a:ext cx="195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285840" y="21420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023.radikal.ru/1105/27/dd201aa58a0e.p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u.to/FKD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на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85840" y="7142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marttoys.ru/upload/iblock/460/24k_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аве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285840" y="1285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img-fotki.yandex.ru/get/5407/valenta-mog.4d/0_60915_453141cb_orig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213480" y="2000160"/>
            <a:ext cx="68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funforkids.ru/pictures/mult/mult96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ьвина,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214200" y="242892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heqiat.am/images/stories/534585152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те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285840" y="32148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proshkolu.ru/content/media/pic/std/2000000/1906000/1905258-7044cf177c2475f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357120" y="38577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static.eva.ru/eva/10001-20000/19189/photoalbum/3473107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ожка азб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285840" y="285768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mg01.chitalnya.ru/upload2/138/8824960608035326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ра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285840" y="45007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4.frame.ozstatic.by/1000/947/267/10/10267947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па Карло и Бура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0"/>
          <p:cNvSpPr/>
          <p:nvPr/>
        </p:nvSpPr>
        <p:spPr>
          <a:xfrm>
            <a:off x="285840" y="521496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xvatit.com/upload/medialibrary/318/318f0ba1e2a501632e152ce4b0988b8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а А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840" y="57862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9310/134091466.d1/0_cbb7c_a72cf0ce_L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179280" y="-30240"/>
            <a:ext cx="89647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Планиру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Предметные:</a:t>
            </a:r>
            <a:r>
              <a:rPr b="0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делять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звук и  [б], [б’] из сл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устанавли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, что звук [б] согласный, твердый, звонкий, звук [б’] согласный, мягкий, звон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спозна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в словах новый звук,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характеризо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их,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означ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бук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Личностные</a:t>
            </a:r>
            <a:r>
              <a:rPr b="0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желание приобретать новые зн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осознавать свои трудности и стремиться к их преодол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70c0"/>
                </a:solidFill>
                <a:uFillTx/>
                <a:latin typeface="Calibri"/>
                <a:ea typeface="Times New Roman"/>
              </a:rPr>
              <a:t>Метапредме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Регулятивные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пределя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цель учебного зад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нтролировать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свои действия в процессе его выполнения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ценивать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правильность выполне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наружив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и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исправля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ошиб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Познавательные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Читать 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слоги-сли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Чит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 слова с изученной бук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Читать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 текст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полнять 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задания к текстам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Коммуникативные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формирование умения отвечать на поставленный вопро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планирование учебного сотрудничества с учителем и сверстник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70c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работа в па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14360"/>
            <a:ext cx="7029360" cy="3143160"/>
          </a:xfrm>
          <a:prstGeom prst="rect">
            <a:avLst/>
          </a:prstGeom>
          <a:solidFill>
            <a:srgbClr val="00b050">
              <a:alpha val="43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Чудо есть на белом св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В сказку верится неда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Это чудо знают д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азывается – теат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2304000" y="1785960"/>
            <a:ext cx="4600440" cy="2775240"/>
          </a:xfrm>
          <a:prstGeom prst="rect">
            <a:avLst/>
          </a:prstGeom>
          <a:solidFill>
            <a:srgbClr val="32ac4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 о у ы 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ё    и 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600200" y="878040"/>
            <a:ext cx="3933720" cy="542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aikinebik.narod.ru/i/theater_ticket.jpg"/>
          <p:cNvPicPr/>
          <p:nvPr/>
        </p:nvPicPr>
        <p:blipFill>
          <a:blip r:embed="rId2"/>
          <a:stretch/>
        </p:blipFill>
        <p:spPr>
          <a:xfrm rot="1022400">
            <a:off x="4334040" y="1248840"/>
            <a:ext cx="4511520" cy="1979640"/>
          </a:xfrm>
          <a:prstGeom prst="rect">
            <a:avLst/>
          </a:prstGeom>
          <a:ln w="0">
            <a:noFill/>
          </a:ln>
        </p:spPr>
      </p:pic>
      <p:sp>
        <p:nvSpPr>
          <p:cNvPr id="49" name="Овал 8"/>
          <p:cNvSpPr/>
          <p:nvPr/>
        </p:nvSpPr>
        <p:spPr>
          <a:xfrm rot="21007200">
            <a:off x="348840" y="1486080"/>
            <a:ext cx="1643040" cy="171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 rot="1008600">
            <a:off x="4349520" y="2208240"/>
            <a:ext cx="3878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олотой ключик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ключения Бурат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 rot="1008600">
            <a:off x="4719600" y="923400"/>
            <a:ext cx="14731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НОГО ЗРИТЕ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 rot="1008600">
            <a:off x="6746400" y="1542600"/>
            <a:ext cx="1828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дека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 rot="415200">
            <a:off x="4739760" y="2734920"/>
            <a:ext cx="1643040" cy="1714320"/>
          </a:xfrm>
          <a:prstGeom prst="ellipse">
            <a:avLst/>
          </a:prstGeom>
          <a:solidFill>
            <a:srgbClr val="32ac49"/>
          </a:solidFill>
          <a:ln w="25560">
            <a:solidFill>
              <a:srgbClr val="32a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static.eva.ru/eva/10001-20000/19189/photoalbum/3473107.jpg"/>
          <p:cNvPicPr/>
          <p:nvPr/>
        </p:nvPicPr>
        <p:blipFill>
          <a:blip r:embed="rId3"/>
          <a:stretch/>
        </p:blipFill>
        <p:spPr>
          <a:xfrm rot="20823000">
            <a:off x="650880" y="3657240"/>
            <a:ext cx="1643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static.eva.ru/eva/10001-20000/19189/photoalbum/3473107.jpg"/>
          <p:cNvPicPr/>
          <p:nvPr/>
        </p:nvPicPr>
        <p:blipFill>
          <a:blip r:embed="rId1"/>
          <a:stretch/>
        </p:blipFill>
        <p:spPr>
          <a:xfrm>
            <a:off x="3357720" y="142920"/>
            <a:ext cx="2000160" cy="2649600"/>
          </a:xfrm>
          <a:prstGeom prst="rect">
            <a:avLst/>
          </a:prstGeom>
          <a:ln w="0">
            <a:noFill/>
          </a:ln>
        </p:spPr>
      </p:pic>
      <p:sp>
        <p:nvSpPr>
          <p:cNvPr id="56" name="Знак запрета 3"/>
          <p:cNvSpPr/>
          <p:nvPr/>
        </p:nvSpPr>
        <p:spPr>
          <a:xfrm rot="18845400">
            <a:off x="2021760" y="3236760"/>
            <a:ext cx="114480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0" y="842309"/>
                </a:moveTo>
                <a:cubicBezTo>
                  <a:pt x="1064268" y="664030"/>
                  <a:pt x="1046949" y="413686"/>
                  <a:pt x="888926" y="255662"/>
                </a:cubicBezTo>
                <a:cubicBezTo>
                  <a:pt x="730902" y="97637"/>
                  <a:pt x="480558" y="80318"/>
                  <a:pt x="302279" y="215077"/>
                </a:cubicBezTo>
                <a:lnTo>
                  <a:pt x="929510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2"/>
                  <a:pt x="255661" y="888926"/>
                </a:cubicBezTo>
                <a:cubicBezTo>
                  <a:pt x="413685" y="1046951"/>
                  <a:pt x="664029" y="1064270"/>
                  <a:pt x="842308" y="929511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Кольцо 6"/>
          <p:cNvSpPr/>
          <p:nvPr/>
        </p:nvSpPr>
        <p:spPr>
          <a:xfrm>
            <a:off x="785880" y="321480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нак запрета 7"/>
          <p:cNvSpPr/>
          <p:nvPr/>
        </p:nvSpPr>
        <p:spPr>
          <a:xfrm rot="18845400">
            <a:off x="3190320" y="3236760"/>
            <a:ext cx="114480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0" y="842309"/>
                </a:moveTo>
                <a:cubicBezTo>
                  <a:pt x="1064268" y="664030"/>
                  <a:pt x="1046949" y="413686"/>
                  <a:pt x="888926" y="255662"/>
                </a:cubicBezTo>
                <a:cubicBezTo>
                  <a:pt x="730902" y="97637"/>
                  <a:pt x="480558" y="80318"/>
                  <a:pt x="302279" y="215077"/>
                </a:cubicBezTo>
                <a:lnTo>
                  <a:pt x="929510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2"/>
                  <a:pt x="255661" y="888926"/>
                </a:cubicBezTo>
                <a:cubicBezTo>
                  <a:pt x="413685" y="1046951"/>
                  <a:pt x="664029" y="1064270"/>
                  <a:pt x="842308" y="929511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Кольцо 8"/>
          <p:cNvSpPr/>
          <p:nvPr/>
        </p:nvSpPr>
        <p:spPr>
          <a:xfrm>
            <a:off x="4357800" y="321480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нак запрета 9"/>
          <p:cNvSpPr/>
          <p:nvPr/>
        </p:nvSpPr>
        <p:spPr>
          <a:xfrm rot="18845400">
            <a:off x="5593680" y="3236760"/>
            <a:ext cx="1144800" cy="1144440"/>
          </a:xfrm>
          <a:custGeom>
            <a:avLst/>
            <a:gdLst/>
            <a:ahLst/>
            <a:rect l="l" t="t" r="r" b="b"/>
            <a:pathLst>
              <a:path w="1144587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0" y="842309"/>
                </a:moveTo>
                <a:cubicBezTo>
                  <a:pt x="1064268" y="664030"/>
                  <a:pt x="1046949" y="413686"/>
                  <a:pt x="888926" y="255662"/>
                </a:cubicBezTo>
                <a:cubicBezTo>
                  <a:pt x="730902" y="97637"/>
                  <a:pt x="480558" y="80318"/>
                  <a:pt x="302279" y="215077"/>
                </a:cubicBezTo>
                <a:lnTo>
                  <a:pt x="929510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2"/>
                  <a:pt x="255661" y="888926"/>
                </a:cubicBezTo>
                <a:cubicBezTo>
                  <a:pt x="413685" y="1046951"/>
                  <a:pt x="664029" y="1064270"/>
                  <a:pt x="842308" y="929511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Кольцо 10"/>
          <p:cNvSpPr/>
          <p:nvPr/>
        </p:nvSpPr>
        <p:spPr>
          <a:xfrm>
            <a:off x="6786720" y="321480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авая круглая скобка 11"/>
          <p:cNvSpPr/>
          <p:nvPr/>
        </p:nvSpPr>
        <p:spPr>
          <a:xfrm rot="5400000">
            <a:off x="1642680" y="3357360"/>
            <a:ext cx="500040" cy="2357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357640"/>
              <a:gd name="textAreaBottom" fmla="*/ 21686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32"/>
                  <a:pt x="21600" y="3464"/>
                </a:cubicBezTo>
                <a:lnTo>
                  <a:pt x="21600" y="18136"/>
                </a:lnTo>
                <a:cubicBezTo>
                  <a:pt x="21600" y="1986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3"/>
          <p:cNvSpPr/>
          <p:nvPr/>
        </p:nvSpPr>
        <p:spPr>
          <a:xfrm flipH="1">
            <a:off x="1357200" y="2643120"/>
            <a:ext cx="214560" cy="428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авая круглая скобка 14"/>
          <p:cNvSpPr/>
          <p:nvPr/>
        </p:nvSpPr>
        <p:spPr>
          <a:xfrm rot="5400000">
            <a:off x="4071600" y="3357360"/>
            <a:ext cx="500040" cy="2357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357640"/>
              <a:gd name="textAreaBottom" fmla="*/ 21686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32"/>
                  <a:pt x="21600" y="3464"/>
                </a:cubicBezTo>
                <a:lnTo>
                  <a:pt x="21600" y="18136"/>
                </a:lnTo>
                <a:cubicBezTo>
                  <a:pt x="21600" y="1986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авая круглая скобка 15"/>
          <p:cNvSpPr/>
          <p:nvPr/>
        </p:nvSpPr>
        <p:spPr>
          <a:xfrm rot="5400000">
            <a:off x="6500520" y="3357360"/>
            <a:ext cx="500040" cy="2357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357640"/>
              <a:gd name="textAreaBottom" fmla="*/ 21686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732"/>
                  <a:pt x="21600" y="3464"/>
                </a:cubicBezTo>
                <a:lnTo>
                  <a:pt x="21600" y="18136"/>
                </a:lnTo>
                <a:cubicBezTo>
                  <a:pt x="21600" y="19868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1000080" y="3571920"/>
            <a:ext cx="1712880" cy="639720"/>
          </a:xfrm>
          <a:prstGeom prst="rect">
            <a:avLst/>
          </a:prstGeom>
          <a:ln w="0">
            <a:noFill/>
          </a:ln>
        </p:spPr>
      </p:pic>
      <p:sp>
        <p:nvSpPr>
          <p:cNvPr id="67" name="Кольцо 2"/>
          <p:cNvSpPr/>
          <p:nvPr/>
        </p:nvSpPr>
        <p:spPr>
          <a:xfrm>
            <a:off x="1214280" y="3357720"/>
            <a:ext cx="121464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Кольцо 3"/>
          <p:cNvSpPr/>
          <p:nvPr/>
        </p:nvSpPr>
        <p:spPr>
          <a:xfrm>
            <a:off x="2500200" y="3429000"/>
            <a:ext cx="121464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нак запрета 4"/>
          <p:cNvSpPr/>
          <p:nvPr/>
        </p:nvSpPr>
        <p:spPr>
          <a:xfrm rot="18845400">
            <a:off x="3736800" y="3450600"/>
            <a:ext cx="1144440" cy="114480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1" y="842309"/>
                </a:moveTo>
                <a:cubicBezTo>
                  <a:pt x="1064269" y="664030"/>
                  <a:pt x="1046950" y="413685"/>
                  <a:pt x="888926" y="255661"/>
                </a:cubicBezTo>
                <a:cubicBezTo>
                  <a:pt x="730902" y="97637"/>
                  <a:pt x="480557" y="80318"/>
                  <a:pt x="302278" y="215076"/>
                </a:cubicBezTo>
                <a:lnTo>
                  <a:pt x="929511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3"/>
                  <a:pt x="255662" y="888927"/>
                </a:cubicBezTo>
                <a:cubicBezTo>
                  <a:pt x="413686" y="1046951"/>
                  <a:pt x="664031" y="1064270"/>
                  <a:pt x="842310" y="929512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Кольцо 5"/>
          <p:cNvSpPr/>
          <p:nvPr/>
        </p:nvSpPr>
        <p:spPr>
          <a:xfrm>
            <a:off x="4929120" y="3500280"/>
            <a:ext cx="121464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нак запрета 6"/>
          <p:cNvSpPr/>
          <p:nvPr/>
        </p:nvSpPr>
        <p:spPr>
          <a:xfrm rot="18845400">
            <a:off x="6165720" y="3450600"/>
            <a:ext cx="1144440" cy="114480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1" y="842309"/>
                </a:moveTo>
                <a:cubicBezTo>
                  <a:pt x="1064269" y="664030"/>
                  <a:pt x="1046950" y="413685"/>
                  <a:pt x="888926" y="255661"/>
                </a:cubicBezTo>
                <a:cubicBezTo>
                  <a:pt x="730902" y="97637"/>
                  <a:pt x="480557" y="80318"/>
                  <a:pt x="302278" y="215076"/>
                </a:cubicBezTo>
                <a:lnTo>
                  <a:pt x="929511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3"/>
                  <a:pt x="255662" y="888927"/>
                </a:cubicBezTo>
                <a:cubicBezTo>
                  <a:pt x="413686" y="1046951"/>
                  <a:pt x="664031" y="1064270"/>
                  <a:pt x="842310" y="929512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aikinebik.narod.ru/i/theater_ticket.jpg"/>
          <p:cNvPicPr/>
          <p:nvPr/>
        </p:nvPicPr>
        <p:blipFill>
          <a:blip r:embed="rId2"/>
          <a:stretch/>
        </p:blipFill>
        <p:spPr>
          <a:xfrm rot="382800">
            <a:off x="2690280" y="617400"/>
            <a:ext cx="4511880" cy="1979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8"/>
          <p:cNvSpPr/>
          <p:nvPr/>
        </p:nvSpPr>
        <p:spPr>
          <a:xfrm rot="369000">
            <a:off x="2706840" y="1576080"/>
            <a:ext cx="38782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олотой ключик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ключения Бурат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9"/>
          <p:cNvSpPr/>
          <p:nvPr/>
        </p:nvSpPr>
        <p:spPr>
          <a:xfrm rot="369000">
            <a:off x="2944440" y="577800"/>
            <a:ext cx="14731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НОГО ЗРИТЕ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 rot="369000">
            <a:off x="4800600" y="747720"/>
            <a:ext cx="1828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дека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авая круглая скобка 11"/>
          <p:cNvSpPr/>
          <p:nvPr/>
        </p:nvSpPr>
        <p:spPr>
          <a:xfrm rot="5400000">
            <a:off x="2214360" y="3428640"/>
            <a:ext cx="500040" cy="250056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2500560"/>
              <a:gd name="textAreaBottom" fmla="*/ 2311560 h 250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633"/>
                  <a:pt x="21600" y="3266"/>
                </a:cubicBezTo>
                <a:lnTo>
                  <a:pt x="21600" y="18334"/>
                </a:lnTo>
                <a:cubicBezTo>
                  <a:pt x="21600" y="19967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авая круглая скобка 12"/>
          <p:cNvSpPr/>
          <p:nvPr/>
        </p:nvSpPr>
        <p:spPr>
          <a:xfrm rot="5400000">
            <a:off x="5286240" y="2928600"/>
            <a:ext cx="500040" cy="3500640"/>
          </a:xfrm>
          <a:custGeom>
            <a:avLst/>
            <a:gdLst>
              <a:gd name="textAreaLeft" fmla="*/ 0 w 500040"/>
              <a:gd name="textAreaRight" fmla="*/ 350640 w 500040"/>
              <a:gd name="textAreaTop" fmla="*/ 189000 h 3500640"/>
              <a:gd name="textAreaBottom" fmla="*/ 3311640 h 350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67"/>
                  <a:pt x="21600" y="2333"/>
                </a:cubicBezTo>
                <a:lnTo>
                  <a:pt x="21600" y="19267"/>
                </a:lnTo>
                <a:cubicBezTo>
                  <a:pt x="21600" y="20434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4"/>
          <p:cNvSpPr/>
          <p:nvPr/>
        </p:nvSpPr>
        <p:spPr>
          <a:xfrm flipH="1">
            <a:off x="5571720" y="2857680"/>
            <a:ext cx="214200" cy="42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53" descr=""/>
          <p:cNvPicPr/>
          <p:nvPr/>
        </p:nvPicPr>
        <p:blipFill>
          <a:blip r:embed="rId1"/>
          <a:stretch/>
        </p:blipFill>
        <p:spPr>
          <a:xfrm>
            <a:off x="6431040" y="3071880"/>
            <a:ext cx="1712880" cy="64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clker.com/cliparts/2/e/2/d/1237099802785615674nicubunu_Bell.svg.hi.png"/>
          <p:cNvPicPr/>
          <p:nvPr/>
        </p:nvPicPr>
        <p:blipFill>
          <a:blip r:embed="rId2"/>
          <a:stretch/>
        </p:blipFill>
        <p:spPr>
          <a:xfrm>
            <a:off x="3643200" y="2000160"/>
            <a:ext cx="10940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285840" y="435780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нак запрета 6"/>
          <p:cNvSpPr/>
          <p:nvPr/>
        </p:nvSpPr>
        <p:spPr>
          <a:xfrm rot="18845400">
            <a:off x="1164600" y="2879640"/>
            <a:ext cx="1144800" cy="1144440"/>
          </a:xfrm>
          <a:custGeom>
            <a:avLst/>
            <a:gdLst/>
            <a:ahLst/>
            <a:rect l="l" t="t" r="r" b="b"/>
            <a:pathLst>
              <a:path w="1144588" h="1144588">
                <a:moveTo>
                  <a:pt x="0" y="572294"/>
                </a:moveTo>
                <a:cubicBezTo>
                  <a:pt x="0" y="256225"/>
                  <a:pt x="256225" y="0"/>
                  <a:pt x="572294" y="0"/>
                </a:cubicBezTo>
                <a:cubicBezTo>
                  <a:pt x="888363" y="0"/>
                  <a:pt x="1144588" y="256225"/>
                  <a:pt x="1144588" y="572294"/>
                </a:cubicBezTo>
                <a:cubicBezTo>
                  <a:pt x="1144588" y="888363"/>
                  <a:pt x="888363" y="1144588"/>
                  <a:pt x="572294" y="1144588"/>
                </a:cubicBezTo>
                <a:cubicBezTo>
                  <a:pt x="256225" y="1144588"/>
                  <a:pt x="0" y="888363"/>
                  <a:pt x="0" y="572294"/>
                </a:cubicBezTo>
                <a:close/>
                <a:moveTo>
                  <a:pt x="929511" y="842309"/>
                </a:moveTo>
                <a:cubicBezTo>
                  <a:pt x="1064269" y="664030"/>
                  <a:pt x="1046950" y="413685"/>
                  <a:pt x="888926" y="255661"/>
                </a:cubicBezTo>
                <a:cubicBezTo>
                  <a:pt x="730902" y="97637"/>
                  <a:pt x="480557" y="80318"/>
                  <a:pt x="302278" y="215076"/>
                </a:cubicBezTo>
                <a:lnTo>
                  <a:pt x="929511" y="842309"/>
                </a:lnTo>
                <a:close/>
                <a:moveTo>
                  <a:pt x="215077" y="302279"/>
                </a:moveTo>
                <a:cubicBezTo>
                  <a:pt x="80319" y="480558"/>
                  <a:pt x="97638" y="730903"/>
                  <a:pt x="255662" y="888927"/>
                </a:cubicBezTo>
                <a:cubicBezTo>
                  <a:pt x="413686" y="1046951"/>
                  <a:pt x="664031" y="1064270"/>
                  <a:pt x="842310" y="929512"/>
                </a:cubicBezTo>
                <a:lnTo>
                  <a:pt x="215077" y="30227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ольцо 7"/>
          <p:cNvSpPr/>
          <p:nvPr/>
        </p:nvSpPr>
        <p:spPr>
          <a:xfrm>
            <a:off x="6643800" y="2857680"/>
            <a:ext cx="1214280" cy="1143000"/>
          </a:xfrm>
          <a:custGeom>
            <a:avLst/>
            <a:gdLst/>
            <a:ahLst/>
            <a:rect l="l" t="t" r="r" b="b"/>
            <a:pathLst>
              <a:path w="1214437" h="1143000">
                <a:moveTo>
                  <a:pt x="0" y="571500"/>
                </a:moveTo>
                <a:cubicBezTo>
                  <a:pt x="0" y="255869"/>
                  <a:pt x="271861" y="0"/>
                  <a:pt x="607219" y="0"/>
                </a:cubicBezTo>
                <a:cubicBezTo>
                  <a:pt x="942577" y="0"/>
                  <a:pt x="1214438" y="255869"/>
                  <a:pt x="1214438" y="571500"/>
                </a:cubicBezTo>
                <a:cubicBezTo>
                  <a:pt x="1214438" y="887131"/>
                  <a:pt x="942577" y="1143000"/>
                  <a:pt x="607219" y="1143000"/>
                </a:cubicBezTo>
                <a:cubicBezTo>
                  <a:pt x="271861" y="1143000"/>
                  <a:pt x="0" y="887131"/>
                  <a:pt x="0" y="571500"/>
                </a:cubicBezTo>
                <a:close/>
                <a:moveTo>
                  <a:pt x="104002" y="571500"/>
                </a:moveTo>
                <a:cubicBezTo>
                  <a:pt x="104002" y="829692"/>
                  <a:pt x="329300" y="1038998"/>
                  <a:pt x="607219" y="1038998"/>
                </a:cubicBezTo>
                <a:cubicBezTo>
                  <a:pt x="885138" y="1038998"/>
                  <a:pt x="1110436" y="829692"/>
                  <a:pt x="1110436" y="571500"/>
                </a:cubicBezTo>
                <a:cubicBezTo>
                  <a:pt x="1110436" y="313308"/>
                  <a:pt x="885138" y="104002"/>
                  <a:pt x="607219" y="104002"/>
                </a:cubicBezTo>
                <a:cubicBezTo>
                  <a:pt x="329300" y="104002"/>
                  <a:pt x="104002" y="313308"/>
                  <a:pt x="104002" y="571500"/>
                </a:cubicBezTo>
                <a:close/>
              </a:path>
            </a:pathLst>
          </a:custGeom>
          <a:solidFill>
            <a:srgbClr val="32a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000240" y="128592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вон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3071880" y="71424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072120" y="4286160"/>
            <a:ext cx="2571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яг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ms.znate.ru/tw_files2/urls_35/33/d-32962/img5.jpg"/>
          <p:cNvPicPr/>
          <p:nvPr/>
        </p:nvPicPr>
        <p:blipFill>
          <a:blip r:embed="rId3"/>
          <a:stretch/>
        </p:blipFill>
        <p:spPr>
          <a:xfrm>
            <a:off x="142920" y="142920"/>
            <a:ext cx="2738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179280" y="122400"/>
            <a:ext cx="8785440" cy="66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2:40:57Z</dcterms:created>
  <dc:creator>i</dc:creator>
  <dc:description/>
  <dc:language>en-US</dc:language>
  <cp:lastModifiedBy>Image&amp;Matros ®</cp:lastModifiedBy>
  <dcterms:modified xsi:type="dcterms:W3CDTF">2014-01-25T18:55:40Z</dcterms:modified>
  <cp:revision>117</cp:revision>
  <dc:subject/>
  <dc:title>Слайд 1</dc:title>
</cp:coreProperties>
</file>