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B94-F730-428A-86FA-0AE9782C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0F2-7DB4-4FED-BE46-B7F0001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E24-61A4-49F5-94FF-412A19F5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380-6988-479B-9ED4-164D0F6C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FEE-1F0D-425A-9F75-5CDC076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E0A-B96A-467B-956F-38A1670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22B-AD13-46B7-B5D9-5E052F59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6F2-581B-455B-A110-BE9EE2EE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568-FE08-4E18-A63A-14F2EB5A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101-6C7A-4C9B-9D0F-E579BA8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E2D-996D-45EB-88C2-F49568B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206-1E82-45D8-AC1C-A496299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D5F-EA25-48B2-BE2F-19411138AD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23.radikal.ru/1105/27/dd201aa58a0e.png" TargetMode="External"/><Relationship Id="rId2" Type="http://schemas.openxmlformats.org/officeDocument/2006/relationships/hyperlink" Target="http://u.to/FKD7" TargetMode="External"/><Relationship Id="rId3" Type="http://schemas.openxmlformats.org/officeDocument/2006/relationships/hyperlink" Target="http://www.marttoys.ru/upload/iblock/460/24k_a.jpg" TargetMode="External"/><Relationship Id="rId4" Type="http://schemas.openxmlformats.org/officeDocument/2006/relationships/hyperlink" Target="http://img-fotki.yandex.ru/get/5407/valenta-mog.4d/0_60915_453141cb_orig.jpg" TargetMode="External"/><Relationship Id="rId5" Type="http://schemas.openxmlformats.org/officeDocument/2006/relationships/hyperlink" Target="http://funforkids.ru/pictures/mult/mult96.png" TargetMode="External"/><Relationship Id="rId6" Type="http://schemas.openxmlformats.org/officeDocument/2006/relationships/hyperlink" Target="http://www.heqiat.am/images/stories/534585152.png" TargetMode="External"/><Relationship Id="rId7" Type="http://schemas.openxmlformats.org/officeDocument/2006/relationships/hyperlink" Target="http://www.proshkolu.ru/content/media/pic/std/2000000/1906000/1905258-7044cf177c2475f6.jpg" TargetMode="External"/><Relationship Id="rId8" Type="http://schemas.openxmlformats.org/officeDocument/2006/relationships/hyperlink" Target="http://static.eva.ru/eva/10001-20000/19189/photoalbum/3473107.jpg" TargetMode="External"/><Relationship Id="rId9" Type="http://schemas.openxmlformats.org/officeDocument/2006/relationships/hyperlink" Target="http://img01.chitalnya.ru/upload2/138/88249606080353264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3640" y="4941360"/>
            <a:ext cx="6769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Выполнила: Щеглова Надежда Иван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Негосударственного общеобразовательного учреждения Лицей № 3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открытого акционерного общества «Российские железные дорог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340000" y="189000"/>
            <a:ext cx="4572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спект урока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«Согласные звуки [б], [б’]. Буквы «Б», «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936720" y="2689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едмет: Обучение грам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Авторы: Л.Ф. Климанова, С.Г. Мак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ласс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2643120" y="564372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2643120" y="214200"/>
            <a:ext cx="5357880" cy="1071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2643120" y="157176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2643120" y="4143240"/>
            <a:ext cx="5357880" cy="128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6929280" y="214200"/>
            <a:ext cx="1000440" cy="857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929280" y="4214880"/>
            <a:ext cx="100044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6929280" y="1571760"/>
            <a:ext cx="100044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7000920" y="5715000"/>
            <a:ext cx="100008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1000080" y="285840"/>
            <a:ext cx="1000080" cy="928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1071720" y="1643040"/>
            <a:ext cx="1000080" cy="9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1000080" y="4357800"/>
            <a:ext cx="1000080" cy="928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>
            <a:off x="1071720" y="5643720"/>
            <a:ext cx="1000080" cy="1000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643120" y="285768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6916680" y="2820960"/>
            <a:ext cx="1000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ы</a:t>
            </a: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071720" y="2928960"/>
            <a:ext cx="1000080" cy="9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4861 0.00231 E">
                                      <p:cBhvr>
                                        <p:cTn id="18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672 L 0.5382 0.00787 E">
                                      <p:cBhvr>
                                        <p:cTn id="19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1 L 0.51181 0.00694 E">
                                      <p:cBhvr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5643 0.00694 E">
                                      <p:cBhvr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5408 0.00324 E">
                                      <p:cBhvr>
                                        <p:cTn id="20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1"/>
          <p:cNvSpPr/>
          <p:nvPr/>
        </p:nvSpPr>
        <p:spPr>
          <a:xfrm>
            <a:off x="2643120" y="157176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643120" y="4143240"/>
            <a:ext cx="5357880" cy="128592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8"/>
          <p:cNvSpPr/>
          <p:nvPr/>
        </p:nvSpPr>
        <p:spPr>
          <a:xfrm>
            <a:off x="6929280" y="4286160"/>
            <a:ext cx="1000440" cy="85752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9"/>
          <p:cNvSpPr/>
          <p:nvPr/>
        </p:nvSpPr>
        <p:spPr>
          <a:xfrm>
            <a:off x="6929280" y="1571760"/>
            <a:ext cx="100044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  <a:ea typeface="Arial"/>
              </a:rPr>
              <a:t>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1071720" y="1643040"/>
            <a:ext cx="1000080" cy="92880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1000080" y="4357800"/>
            <a:ext cx="1000080" cy="92844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2643120" y="285768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7000920" y="2857680"/>
            <a:ext cx="1000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1071720" y="2928960"/>
            <a:ext cx="1000080" cy="92880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672 L 0.5382 0.00787 E">
                                      <p:cBhvr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1 L 0.51181 0.00694 E">
                                      <p:cBhvr>
                                        <p:cTn id="2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5643 0.00694 E">
                                      <p:cBhvr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655640" y="1125360"/>
            <a:ext cx="3934080" cy="5429520"/>
          </a:xfrm>
          <a:prstGeom prst="rect">
            <a:avLst/>
          </a:prstGeom>
          <a:ln w="0">
            <a:noFill/>
          </a:ln>
        </p:spPr>
      </p:pic>
      <p:sp>
        <p:nvSpPr>
          <p:cNvPr id="114" name="Овал 2"/>
          <p:cNvSpPr/>
          <p:nvPr/>
        </p:nvSpPr>
        <p:spPr>
          <a:xfrm rot="433800">
            <a:off x="5719680" y="244080"/>
            <a:ext cx="2214720" cy="1500120"/>
          </a:xfrm>
          <a:prstGeom prst="ellipse">
            <a:avLst/>
          </a:prstGeom>
          <a:solidFill>
            <a:srgbClr val="c6d9f1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286080" y="0"/>
            <a:ext cx="2214720" cy="1500120"/>
          </a:xfrm>
          <a:prstGeom prst="ellipse">
            <a:avLst/>
          </a:prstGeom>
          <a:solidFill>
            <a:srgbClr val="8eb4e3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6786720" y="2786040"/>
            <a:ext cx="2214360" cy="1500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 rot="20530800">
            <a:off x="177480" y="2117520"/>
            <a:ext cx="1932120" cy="14619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7268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8"/>
          <p:cNvSpPr/>
          <p:nvPr/>
        </p:nvSpPr>
        <p:spPr>
          <a:xfrm rot="1187400">
            <a:off x="4689000" y="1687680"/>
            <a:ext cx="2214720" cy="1500120"/>
          </a:xfrm>
          <a:prstGeom prst="ellipse">
            <a:avLst/>
          </a:prstGeom>
          <a:solidFill>
            <a:srgbClr val="b7dee8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 rot="21430800">
            <a:off x="534600" y="54000"/>
            <a:ext cx="2214720" cy="1500120"/>
          </a:xfrm>
          <a:prstGeom prst="ellipse">
            <a:avLst/>
          </a:prstGeom>
          <a:solidFill>
            <a:srgbClr val="b7dee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9"/>
          <p:cNvSpPr/>
          <p:nvPr/>
        </p:nvSpPr>
        <p:spPr>
          <a:xfrm rot="20530800">
            <a:off x="177480" y="4260600"/>
            <a:ext cx="1932120" cy="1461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0"/>
          <p:cNvSpPr/>
          <p:nvPr/>
        </p:nvSpPr>
        <p:spPr>
          <a:xfrm rot="1637400">
            <a:off x="6607080" y="4546440"/>
            <a:ext cx="1932120" cy="14623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2395440" y="1557360"/>
            <a:ext cx="6784920" cy="52848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571680" y="142920"/>
            <a:ext cx="8572320" cy="1428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Тортила в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бормотала Торт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4292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71280" y="2357280"/>
            <a:ext cx="15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14292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257184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2571840" y="23572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242892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2571840" y="3857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347 L -0.1783 0.11898 E">
                                      <p:cBhvr>
                                        <p:cTn id="25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17031 -0.11111 E">
                                      <p:cBhvr>
                                        <p:cTn id="26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509 L -0.1783 0.12639 E">
                                      <p:cBhvr>
                                        <p:cTn id="26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417 L -0.20972 -0.10301 E">
                                      <p:cBhvr>
                                        <p:cTn id="27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395440" y="1557360"/>
            <a:ext cx="6784920" cy="5284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571680" y="142920"/>
            <a:ext cx="8572320" cy="1428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Тортила в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бормотала Торт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4292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71280" y="2357280"/>
            <a:ext cx="15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142920" y="314316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14292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257184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2571840" y="23572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242892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2571840" y="3786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6 -0.00695 L -0.21267 0.23101 E">
                                      <p:cBhvr>
                                        <p:cTn id="27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-0.18906 0.24144 E">
                                      <p:cBhvr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7812 -0.20393 E">
                                      <p:cBhvr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1625 -0.22569 E">
                                      <p:cBhvr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4"/>
          <p:cNvSpPr/>
          <p:nvPr/>
        </p:nvSpPr>
        <p:spPr>
          <a:xfrm>
            <a:off x="3793680" y="1785960"/>
            <a:ext cx="142128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786280" y="2500200"/>
            <a:ext cx="141300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м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5722920" y="4214880"/>
            <a:ext cx="200664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лисы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150560" y="4286160"/>
            <a:ext cx="187380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тер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3651840" y="5072040"/>
            <a:ext cx="158292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24720" y="2500200"/>
            <a:ext cx="192096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тр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3214800" y="3143160"/>
            <a:ext cx="2428920" cy="825120"/>
          </a:xfrm>
          <a:prstGeom prst="rect">
            <a:avLst/>
          </a:prstGeom>
          <a:solidFill>
            <a:srgbClr val="ddd9c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C:\Users\я\Desktop\2.jpg"/>
          <p:cNvPicPr/>
          <p:nvPr/>
        </p:nvPicPr>
        <p:blipFill>
          <a:blip r:embed="rId1"/>
          <a:stretch/>
        </p:blipFill>
        <p:spPr>
          <a:xfrm>
            <a:off x="6327720" y="3713040"/>
            <a:ext cx="1779480" cy="2211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2"/>
          <p:cNvSpPr/>
          <p:nvPr/>
        </p:nvSpPr>
        <p:spPr>
          <a:xfrm>
            <a:off x="2143080" y="71280"/>
            <a:ext cx="4357800" cy="42876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Герои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http://s4.frame.ozstatic.by/1000/947/267/10/10267947_2.jpg"/>
          <p:cNvPicPr/>
          <p:nvPr/>
        </p:nvPicPr>
        <p:blipFill>
          <a:blip r:embed="rId2"/>
          <a:stretch/>
        </p:blipFill>
        <p:spPr>
          <a:xfrm>
            <a:off x="2998800" y="2359080"/>
            <a:ext cx="2421000" cy="32925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3143160" y="1785960"/>
            <a:ext cx="214308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3000240" y="5786280"/>
            <a:ext cx="250056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па 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5715000" y="3071880"/>
            <a:ext cx="2857680" cy="4284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ёс Артем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5929200" y="5929200"/>
            <a:ext cx="257184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а А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http://img01.chitalnya.ru/upload2/138/88249606080353264.jpg"/>
          <p:cNvPicPr/>
          <p:nvPr/>
        </p:nvPicPr>
        <p:blipFill>
          <a:blip r:embed="rId3"/>
          <a:stretch/>
        </p:blipFill>
        <p:spPr>
          <a:xfrm>
            <a:off x="426960" y="2859120"/>
            <a:ext cx="1998720" cy="28591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0"/>
          <p:cNvSpPr/>
          <p:nvPr/>
        </p:nvSpPr>
        <p:spPr>
          <a:xfrm>
            <a:off x="571680" y="5929200"/>
            <a:ext cx="185724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ра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heqiat.am/images/stories/534585152.png"/>
          <p:cNvPicPr/>
          <p:nvPr/>
        </p:nvPicPr>
        <p:blipFill>
          <a:blip r:embed="rId4"/>
          <a:stretch/>
        </p:blipFill>
        <p:spPr>
          <a:xfrm>
            <a:off x="6500880" y="1143000"/>
            <a:ext cx="13795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2"/>
          <p:cNvSpPr/>
          <p:nvPr/>
        </p:nvSpPr>
        <p:spPr>
          <a:xfrm>
            <a:off x="2214720" y="1785960"/>
            <a:ext cx="4857480" cy="2786040"/>
          </a:xfrm>
          <a:prstGeom prst="rect">
            <a:avLst/>
          </a:prstGeom>
          <a:solidFill>
            <a:srgbClr val="32ac4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затрудня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 понрави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img-fotki.yandex.ru/get/9310/134091466.d1/0_cbb7c_a72cf0ce_L.png"/>
          <p:cNvPicPr/>
          <p:nvPr/>
        </p:nvPicPr>
        <p:blipFill>
          <a:blip r:embed="rId1"/>
          <a:srcRect l="52516" t="0" r="0" b="0"/>
          <a:stretch/>
        </p:blipFill>
        <p:spPr>
          <a:xfrm>
            <a:off x="1000080" y="3571920"/>
            <a:ext cx="177156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img-fotki.yandex.ru/get/9310/134091466.d1/0_cbb7c_a72cf0ce_L.png"/>
          <p:cNvPicPr/>
          <p:nvPr/>
        </p:nvPicPr>
        <p:blipFill>
          <a:blip r:embed="rId2"/>
          <a:srcRect l="0" t="0" r="47508" b="0"/>
          <a:stretch/>
        </p:blipFill>
        <p:spPr>
          <a:xfrm>
            <a:off x="6572160" y="3500280"/>
            <a:ext cx="195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285840" y="21420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023.radikal.ru/1105/27/dd201aa58a0e.p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u.to/FKD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на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85840" y="7142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marttoys.ru/upload/iblock/460/24k_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аве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85840" y="1285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img-fotki.yandex.ru/get/5407/valenta-mog.4d/0_60915_453141cb_ori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213480" y="2000160"/>
            <a:ext cx="68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funforkids.ru/pictures/mult/mult96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ьвина,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14200" y="24289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heqiat.am/images/stories/534585152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85840" y="32148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proshkolu.ru/content/media/pic/std/2000000/1906000/1905258-7044cf177c2475f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357120" y="38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tatic.eva.ru/eva/10001-20000/19189/photoalbum/3473107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ожка азб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285840" y="28576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mg01.chitalnya.ru/upload2/138/8824960608035326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285840" y="45007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4.frame.ozstatic.by/1000/947/267/10/10267947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па Карло и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285840" y="521496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xvatit.com/upload/medialibrary/318/318f0ba1e2a501632e152ce4b0988b8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а А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840" y="57862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9310/134091466.d1/0_cbb7c_a72cf0ce_L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79280" y="-30240"/>
            <a:ext cx="89647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Планиру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Предметные:</a:t>
            </a:r>
            <a:r>
              <a:rPr b="0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деля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звук и  [б], [б’] из сл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устанавли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, что звук [б] согласный, твердый, звонкий, звук [б’] согласный, мягкий, звон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спозна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в словах новый звук,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характеризо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их,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означ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Личностные</a:t>
            </a:r>
            <a:r>
              <a:rPr b="0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желание приобретать новые зн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осознавать свои трудности и стремиться к их преодо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Регулятив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ределя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цель учебного зад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тролирова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свои действия в процессе его выполнения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ценива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авильность выполн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наружи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и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исправля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ошиб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знаватель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 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слоги-сли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слова с изученной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текст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полнять 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задания к текстам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ммуникатив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формирование умения отвечать на поставленный вопро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планирование учебного сотрудничества с учителем и сверст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работа в па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14360"/>
            <a:ext cx="7029360" cy="3143160"/>
          </a:xfrm>
          <a:prstGeom prst="rect">
            <a:avLst/>
          </a:prstGeom>
          <a:solidFill>
            <a:srgbClr val="00b050">
              <a:alpha val="43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Чудо есть на белом св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В сказку верится неда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Это чудо знают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азывается – теат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2304000" y="1785960"/>
            <a:ext cx="4600440" cy="2775240"/>
          </a:xfrm>
          <a:prstGeom prst="rect">
            <a:avLst/>
          </a:prstGeom>
          <a:solidFill>
            <a:srgbClr val="32ac4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 о у ы 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ё    и 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600200" y="878040"/>
            <a:ext cx="393372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aikinebik.narod.ru/i/theater_ticket.jpg"/>
          <p:cNvPicPr/>
          <p:nvPr/>
        </p:nvPicPr>
        <p:blipFill>
          <a:blip r:embed="rId2"/>
          <a:stretch/>
        </p:blipFill>
        <p:spPr>
          <a:xfrm rot="1022400">
            <a:off x="4334040" y="1248840"/>
            <a:ext cx="4511520" cy="1979640"/>
          </a:xfrm>
          <a:prstGeom prst="rect">
            <a:avLst/>
          </a:prstGeom>
          <a:ln w="0">
            <a:noFill/>
          </a:ln>
        </p:spPr>
      </p:pic>
      <p:sp>
        <p:nvSpPr>
          <p:cNvPr id="49" name="Овал 8"/>
          <p:cNvSpPr/>
          <p:nvPr/>
        </p:nvSpPr>
        <p:spPr>
          <a:xfrm rot="21007200">
            <a:off x="348840" y="1486080"/>
            <a:ext cx="1643040" cy="171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 rot="1008600">
            <a:off x="4349520" y="2208240"/>
            <a:ext cx="3878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олотой ключик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ключения 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 rot="1008600">
            <a:off x="4719600" y="923400"/>
            <a:ext cx="1473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НОГО ЗРИТЕ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 rot="1008600">
            <a:off x="6746400" y="1542600"/>
            <a:ext cx="1828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дека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 rot="415200">
            <a:off x="4739760" y="2734920"/>
            <a:ext cx="1643040" cy="1714320"/>
          </a:xfrm>
          <a:prstGeom prst="ellipse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static.eva.ru/eva/10001-20000/19189/photoalbum/3473107.jpg"/>
          <p:cNvPicPr/>
          <p:nvPr/>
        </p:nvPicPr>
        <p:blipFill>
          <a:blip r:embed="rId3"/>
          <a:stretch/>
        </p:blipFill>
        <p:spPr>
          <a:xfrm rot="20823000">
            <a:off x="650880" y="365724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static.eva.ru/eva/10001-20000/19189/photoalbum/3473107.jpg"/>
          <p:cNvPicPr/>
          <p:nvPr/>
        </p:nvPicPr>
        <p:blipFill>
          <a:blip r:embed="rId1"/>
          <a:stretch/>
        </p:blipFill>
        <p:spPr>
          <a:xfrm>
            <a:off x="3357720" y="142920"/>
            <a:ext cx="2000160" cy="2649600"/>
          </a:xfrm>
          <a:prstGeom prst="rect">
            <a:avLst/>
          </a:prstGeom>
          <a:ln w="0">
            <a:noFill/>
          </a:ln>
        </p:spPr>
      </p:pic>
      <p:sp>
        <p:nvSpPr>
          <p:cNvPr id="56" name="Знак запрета 3"/>
          <p:cNvSpPr/>
          <p:nvPr/>
        </p:nvSpPr>
        <p:spPr>
          <a:xfrm rot="18845400">
            <a:off x="202176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Кольцо 6"/>
          <p:cNvSpPr/>
          <p:nvPr/>
        </p:nvSpPr>
        <p:spPr>
          <a:xfrm>
            <a:off x="78588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нак запрета 7"/>
          <p:cNvSpPr/>
          <p:nvPr/>
        </p:nvSpPr>
        <p:spPr>
          <a:xfrm rot="18845400">
            <a:off x="319032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ольцо 8"/>
          <p:cNvSpPr/>
          <p:nvPr/>
        </p:nvSpPr>
        <p:spPr>
          <a:xfrm>
            <a:off x="435780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нак запрета 9"/>
          <p:cNvSpPr/>
          <p:nvPr/>
        </p:nvSpPr>
        <p:spPr>
          <a:xfrm rot="18845400">
            <a:off x="559368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Кольцо 10"/>
          <p:cNvSpPr/>
          <p:nvPr/>
        </p:nvSpPr>
        <p:spPr>
          <a:xfrm>
            <a:off x="678672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авая круглая скобка 11"/>
          <p:cNvSpPr/>
          <p:nvPr/>
        </p:nvSpPr>
        <p:spPr>
          <a:xfrm rot="5400000">
            <a:off x="164268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H="1">
            <a:off x="1357200" y="2643120"/>
            <a:ext cx="214560" cy="42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авая круглая скобка 14"/>
          <p:cNvSpPr/>
          <p:nvPr/>
        </p:nvSpPr>
        <p:spPr>
          <a:xfrm rot="5400000">
            <a:off x="407160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авая круглая скобка 15"/>
          <p:cNvSpPr/>
          <p:nvPr/>
        </p:nvSpPr>
        <p:spPr>
          <a:xfrm rot="5400000">
            <a:off x="650052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3571920"/>
            <a:ext cx="1712880" cy="639720"/>
          </a:xfrm>
          <a:prstGeom prst="rect">
            <a:avLst/>
          </a:prstGeom>
          <a:ln w="0">
            <a:noFill/>
          </a:ln>
        </p:spPr>
      </p:pic>
      <p:sp>
        <p:nvSpPr>
          <p:cNvPr id="67" name="Кольцо 2"/>
          <p:cNvSpPr/>
          <p:nvPr/>
        </p:nvSpPr>
        <p:spPr>
          <a:xfrm>
            <a:off x="1214280" y="335772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ольцо 3"/>
          <p:cNvSpPr/>
          <p:nvPr/>
        </p:nvSpPr>
        <p:spPr>
          <a:xfrm>
            <a:off x="2500200" y="342900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нак запрета 4"/>
          <p:cNvSpPr/>
          <p:nvPr/>
        </p:nvSpPr>
        <p:spPr>
          <a:xfrm rot="18845400">
            <a:off x="3736800" y="3450600"/>
            <a:ext cx="1144440" cy="114480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Кольцо 5"/>
          <p:cNvSpPr/>
          <p:nvPr/>
        </p:nvSpPr>
        <p:spPr>
          <a:xfrm>
            <a:off x="4929120" y="350028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нак запрета 6"/>
          <p:cNvSpPr/>
          <p:nvPr/>
        </p:nvSpPr>
        <p:spPr>
          <a:xfrm rot="18845400">
            <a:off x="6165720" y="3450600"/>
            <a:ext cx="1144440" cy="114480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aikinebik.narod.ru/i/theater_ticket.jpg"/>
          <p:cNvPicPr/>
          <p:nvPr/>
        </p:nvPicPr>
        <p:blipFill>
          <a:blip r:embed="rId2"/>
          <a:stretch/>
        </p:blipFill>
        <p:spPr>
          <a:xfrm rot="382800">
            <a:off x="2690280" y="617400"/>
            <a:ext cx="451188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 rot="369000">
            <a:off x="2706840" y="1576080"/>
            <a:ext cx="3878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олотой ключик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ключения 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 rot="369000">
            <a:off x="2944440" y="577800"/>
            <a:ext cx="1473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НОГО ЗРИТЕ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 rot="369000">
            <a:off x="4800600" y="747720"/>
            <a:ext cx="1828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дека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авая круглая скобка 11"/>
          <p:cNvSpPr/>
          <p:nvPr/>
        </p:nvSpPr>
        <p:spPr>
          <a:xfrm rot="5400000">
            <a:off x="2214360" y="3428640"/>
            <a:ext cx="500040" cy="250056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500560"/>
              <a:gd name="textAreaBottom" fmla="*/ 2311560 h 250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3"/>
                  <a:pt x="21600" y="3266"/>
                </a:cubicBezTo>
                <a:lnTo>
                  <a:pt x="21600" y="18334"/>
                </a:lnTo>
                <a:cubicBezTo>
                  <a:pt x="21600" y="19967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авая круглая скобка 12"/>
          <p:cNvSpPr/>
          <p:nvPr/>
        </p:nvSpPr>
        <p:spPr>
          <a:xfrm rot="5400000">
            <a:off x="5286240" y="2928600"/>
            <a:ext cx="500040" cy="3500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3500640"/>
              <a:gd name="textAreaBottom" fmla="*/ 3311640 h 350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67"/>
                  <a:pt x="21600" y="2333"/>
                </a:cubicBezTo>
                <a:lnTo>
                  <a:pt x="21600" y="19267"/>
                </a:lnTo>
                <a:cubicBezTo>
                  <a:pt x="21600" y="20434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H="1">
            <a:off x="5571720" y="2857680"/>
            <a:ext cx="214200" cy="42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53" descr=""/>
          <p:cNvPicPr/>
          <p:nvPr/>
        </p:nvPicPr>
        <p:blipFill>
          <a:blip r:embed="rId1"/>
          <a:stretch/>
        </p:blipFill>
        <p:spPr>
          <a:xfrm>
            <a:off x="6431040" y="3071880"/>
            <a:ext cx="1712880" cy="64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clker.com/cliparts/2/e/2/d/1237099802785615674nicubunu_Bell.svg.hi.png"/>
          <p:cNvPicPr/>
          <p:nvPr/>
        </p:nvPicPr>
        <p:blipFill>
          <a:blip r:embed="rId2"/>
          <a:stretch/>
        </p:blipFill>
        <p:spPr>
          <a:xfrm>
            <a:off x="3643200" y="2000160"/>
            <a:ext cx="10940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285840" y="435780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нак запрета 6"/>
          <p:cNvSpPr/>
          <p:nvPr/>
        </p:nvSpPr>
        <p:spPr>
          <a:xfrm rot="18845400">
            <a:off x="1164600" y="2879640"/>
            <a:ext cx="1144800" cy="114444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ольцо 7"/>
          <p:cNvSpPr/>
          <p:nvPr/>
        </p:nvSpPr>
        <p:spPr>
          <a:xfrm>
            <a:off x="6643800" y="285768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000240" y="128592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в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3071880" y="71424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072120" y="428616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ms.znate.ru/tw_files2/urls_35/33/d-32962/img5.jpg"/>
          <p:cNvPicPr/>
          <p:nvPr/>
        </p:nvPicPr>
        <p:blipFill>
          <a:blip r:embed="rId3"/>
          <a:stretch/>
        </p:blipFill>
        <p:spPr>
          <a:xfrm>
            <a:off x="142920" y="142920"/>
            <a:ext cx="2738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179280" y="122400"/>
            <a:ext cx="8785440" cy="66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40:57Z</dcterms:created>
  <dc:creator>i</dc:creator>
  <dc:description/>
  <dc:language>en-US</dc:language>
  <cp:lastModifiedBy>Image&amp;Matros ®</cp:lastModifiedBy>
  <dcterms:modified xsi:type="dcterms:W3CDTF">2014-01-25T18:55:40Z</dcterms:modified>
  <cp:revision>117</cp:revision>
  <dc:subject/>
  <dc:title>Слайд 1</dc:title>
</cp:coreProperties>
</file>