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C6C-961B-42BA-A209-F00B4326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247-A9F5-46E5-8636-91C37377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F73-4A55-4C5E-8ECD-154E2F5E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D09-1BE6-4464-BDD8-21C384E2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11A1-5954-4A15-8D55-04935439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4B3-7F33-404C-977C-25F121B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E099-043B-42C0-A781-43988C2C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2DE1-8A1C-480C-BF9E-8121286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7CB-038B-4DB2-8557-98AAC74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276-462B-412F-BB58-275F28D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D8CF-BEEC-40F8-B103-9F975784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186-EDD3-4930-848D-DA367D8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99A6-9319-422C-A297-E6BA92B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A8F5-6B2E-4FA2-BA08-D0A3DCE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432-A8FB-45BF-A914-A3DED6CA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99F1-FC58-42D0-9B7E-F84F2BEB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901E-553E-49DE-8E31-6D8B17FA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D349-5C7B-4EC7-BA7D-661E6706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3796-1FF2-4524-B508-54987AD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AB5A-89C5-4170-9238-6F68FB7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345C-4782-4C85-87DF-AE1329A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3E61-342A-4F98-BA15-67372187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29C-D567-4BD9-98FD-BFADFD4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D2A0-C8FD-41A7-93DE-D8527646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2F82-EF64-4750-891B-DCF0E8F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9E10-CDB6-4409-881C-71F022F4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DD81-A9C2-468A-91E0-7C65BF42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5E11-B7BD-4929-B775-E4C8C55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2582-7687-4C4E-8DE1-95B96EB8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44CF-B0CD-479E-8BD4-D062D4B2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47C9-C231-41DB-92CD-BC9A2028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CCD8-7FAD-414E-8939-9AEDB9A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37FC-BDA1-4FC0-BCA6-69F87345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1AA-1571-4B2F-B33F-15CF04F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D764-C05F-4CAB-A736-3CD01BCA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0C71-060D-413A-807B-64377720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AF65-AB8A-4E49-8277-FE1B0C4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C77E-1224-4341-B1D2-E8CBA746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F6B3-3DAA-4658-9BA6-31BE3BC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6A20-0D9A-418D-9DCF-82496FB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F4CE-03A9-42CC-9029-782A54E3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D9D0-650F-46F4-9DFD-DE7EC896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13F9-DDEB-4D09-90D9-8F191042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D275-728D-4664-96B3-D0440DCB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ACD-E70C-47A2-A0DD-4975EC07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AE0C-383A-4F24-AF7B-C8966FE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EBB7-F62D-4D8D-8A24-A0814DA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DA0C-16A0-420F-8914-871B0844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BAA0D-C3D7-4B3A-B34A-05334944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65E1-0536-4297-BA47-71DE793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B08F1-1EA1-46D9-A718-EAEABD2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1651-9F4A-4B2F-93AF-673F41A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12B8-5AE2-4F59-8DF3-AC136A4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4AD52-67B6-4885-8785-3B4AA52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8B04A-AF83-4056-B7E5-D1A6C053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CF1-D37A-4A0F-9C70-37AAB21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63F0-BECA-457D-81D2-DAD3D305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37A8A-1E1D-4E00-8997-069B1C3F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6D5DB-CB91-4725-8AFE-1913D2BD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070DE-903A-48A4-A168-5B912E21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F0DD1-8640-4822-9AEC-A4A4835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5A78-B9A0-4867-81F3-14EF437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2391-E223-4C50-8FDF-4A656844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E935-9470-4767-B0F4-0F69DABB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9A30-AA62-4D07-852F-22B2C750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7CB5A-01A6-420A-9AA3-B924ADE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E4B-0740-4A00-83D8-B8BB9C3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73F0-7B2B-46FF-85F7-3FD11C4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4C353-3A28-4879-9E7B-92C249E2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0A7B-C26E-4DED-9211-E65DDB7F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BB0D-815D-494E-8343-E6E6801B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8B331-1E74-4776-91C8-21CD5BD9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1C64-2353-4011-84C9-8DC40733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42A6B-F1D1-4E25-B6A5-421CDFF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8F09-087E-4BE2-AFC2-D6EA313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65B7-5588-4824-B660-6EDFB91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426F4-F89A-41EF-A93D-41472E3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385-B301-4325-8119-0F86087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8827-1D48-4F4E-B823-2FD01EBE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C3D5-CFC1-4D87-9043-359452F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7C7E-B242-4644-81CC-9D89CDE8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CBE4-8F9D-4CED-99FD-820E39A9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6A39F-1D8F-4D84-81AF-527F3546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A537B-6CFC-42CD-8F5A-2540DB10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E413-6D05-41F5-BAE6-5C5AECEE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6934B-1970-4C46-9AF9-1AA6733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2045-9D94-4AF0-8BB2-FA1FDB5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9599-3BB1-4AFE-A01C-FB09505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5C1-B22F-4470-954B-9C791CF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258D7-953A-4863-9E7B-F4CE0A59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9C8C-7CFB-47AF-AD90-9DA48D2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85E8-CFB2-4055-B104-2E7E3BA2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E82D6-D018-4D63-9F30-E12ED28E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D7F5B-B1A4-4408-B1DE-BDCF0ECE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CE944-6DF7-4244-9DB3-C5FE62C6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35EDD-1372-4B67-836B-0AF67D9D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2EA-DBCE-43C1-85A3-0BEEB36B20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0D1-1E6F-442E-8994-5F355EEB62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036A-68D7-4282-A0AD-F5174FDF86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AF87-2CEE-4313-AF72-C6A82B2822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E1C-C780-4820-BD7A-AAC0AF65D7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72CA-02B8-4A0A-A4AE-1B0C38F07D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350D-C152-4DD8-B707-B9F29E0E1B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97E-B6A3-4878-BC42-F1C96F47A7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2280" y="1365120"/>
            <a:ext cx="7450200" cy="229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84360" y="907560"/>
            <a:ext cx="8208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тнерства Организации или индивидуального предпринимателя с семьё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общение детей к  социокультурным нормам, традициям семьи, общества и государ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я познавательных интересов и познавательных действий ребенка в различных видах деятель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растной адекватности (соответствия условий, требований, методов возрасту и особенностям развития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а этнокультурной ситуации развития дет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нятия требованиями к условиям реализации Программы, обеспечивающими социальную ситуацию развития личности ребенка, ключевого места в структуре Стандар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763280" y="1268280"/>
            <a:ext cx="6923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осударством равенства возможностей каждого ребенка в получении качественного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осударственных гарантий уровня и качества образования на основе обязательных требований к условиям реализации ООП, их структуре и результатам освое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хранение единства образовательного пространства РФ относительно уровня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676160" y="1557000"/>
            <a:ext cx="7288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храна и укрепление физического и психического здоровья детей (в том числе эмоционального благополучи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хранение и поддержка индивидуальности ребенка, развитие его индивидуальных способностей и творческого потенциа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общей культуры воспитанник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468440" y="268200"/>
            <a:ext cx="722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структуре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условиям реализации основной образовательной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黑体"/>
              </a:rPr>
              <a:t>Требования к результатам освоения основной образовательной программы 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689120" y="122400"/>
            <a:ext cx="7004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требование Федерального Закона «Об образовании в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а на создание образовательной среды как зоны ближайшего развития ребен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верждается ДОО самостоятель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ОП может быть разработана для групп с различной продолжительностью пребывания детей в ДО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развитие детей дошкольного возраста с учетом их психолого-возрастных и индивидуальных особенност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Группы в одной ДОО могут действовать на основе различных Програм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Программы должно охватывать образовательные обла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циально‑коммуникативн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знавательн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удожественно‑эстетическое развити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изическое развити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781200" y="268200"/>
            <a:ext cx="7912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-пространственная развивающая образовательная сре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взаимодействия со взрослы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 взаимодействия с другими деть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тношений ребенка к миру, к другим людям, себе самом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9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сыщенность среды должна отвечать возрастным возможностям детей и содержанию Программ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формируемость простран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функциональность материал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ступ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зопасность сред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676160" y="2349000"/>
            <a:ext cx="7010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ая образовательная организац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822240" y="689040"/>
            <a:ext cx="787104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403280" y="14810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возможности вменения ребёнку какой-либо ответственности за результат делают неправомерными требования от ребёнка дошкольного возраста конкретных образовательных достижений и обусловливают необходимость определения результатов освоения образовательной программы в виде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целевых ориентиров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7583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не подлежат непосредственной оценке, в том числе в виде педагогической диагностики (мониторинга), и не являются основанием для их формального сравнения с реальными достижениями детей. Они не являются основой объективной оценки соответствия установленным требованиям образовательной деятельности и подготовки воспитанник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928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вляются ориентирами для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редителей Организаций для построения образовательной политики на соответствующих уровнях с учётом целей дошкольного образования, общих для всего образовательного пространства РФ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ов и администрации Организаций для решения задач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я Программы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нализа своей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с семьями воспитанников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торов образовательных программ дошкольного образован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ей при формировании исследовательских программ для изучения характеристик образования детей в возрасте от 2 месяцев до 8 лет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 (законных представителей) детей от 2 месяцев до 8 лет для их информированности относительно целей дошкольного образования, общих для всего образовательного пространства РФ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широкой общественност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036800" y="407880"/>
            <a:ext cx="76564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000" y="907920"/>
            <a:ext cx="821844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не могут служить непосредственным основанием при решении управленческих задач, включа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тестацию педагогических кадров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качества образовани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как итогового, так и промежуточного уровня развития воспитанников, в том числе в рамках мониторинга (в форме тестирования, с использованием методов, основанных на наблюдении, или иных методов измерения результативности детей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ку выполнения муниципального (государственного) задания посредством их включения в показатели качества выполнения задания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ие стимулирующего фонда оплаты труда работников Организаци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82422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 целевым ориентирам дошкольного образования относятся следующие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социальные и психологические характеристики личности</a:t>
            </a:r>
            <a:r>
              <a:rPr b="0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ребёнка</a:t>
            </a:r>
            <a:r>
              <a:rPr b="0" lang="ru-RU" sz="27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 этапе завершения дошкольного образ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476000" y="148104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 и самостоятельность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ребёнок уверен в своих силах, открыт внешнему миру, положительно относится к себе и к другим, обладает чувством собственного достоинства. Активно взаимодействует со сверстниками и взрослым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обладает развитым воображением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907920" y="2556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676160" y="1844280"/>
            <a:ext cx="701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к фантазии, воображению, творчеству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чиняется разным правилам и социальным нормам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являет любознательнос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наблюдать, экспериментировать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к принятию собственных решени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676160" y="1628280"/>
            <a:ext cx="7010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риентиры Программы выступают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снованиями преемственности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го и начального общего образования. При соблюдении требований к условиям реализации Программы настоящие целевые ориентиры предполагают формирование у детей дошкольного возраста предпосылок учебной деятельности на этапе завершения ими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835280" y="549360"/>
            <a:ext cx="685152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b050"/>
                </a:solidFill>
                <a:latin typeface="Arial"/>
                <a:ea typeface="Arial"/>
              </a:rPr>
              <a:t>Понятие ФГОС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англ. standart – норма, образец) – «образец, эталон, модель, принимаемые за исходные для сопоставления с ними др. подобных объектов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тандар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комплекс норм, правил, требований, которые устанавливаются на основе достижений науки, техники и передового опыта; минимальные требования (к продукции), устанавливаемые с целью защиты здоровья и безопасности потребителей; гарантии – условия и механизмы, обеспечивающие беспрепятственное пользование правами и их всестороннюю охрану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 образовании должен выступать гарантией конституционного права российского гражданина, права любого человека на качественное образова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Дошкольная образовательная организация -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тип образовательной организации, создаваемой в целях ведения образовательной деятельности по реализации основных образовательных программ дошкольного образования, а также осуществления присмотра и ухода за детьм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ый процесс и достигнутый результат воспитания и обучения в интересах человека, общества, государства, сопровождающийся констатацией достижения гражданином (обучающимся) установленных государством образовательных уровней (образовательных цензо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общего и специального образования обуславливается требованиями производства, состоянием науки, техники и культуры, а также общественными отношения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- 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 приобретения предубеждений более высокого поряд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ial"/>
              </a:rPr>
              <a:t>- э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и результат усвоения систематизированных знаний, умений и навыков. В процессе образования происходит передача от поколения к поколению знания всех тех духовных богатств, которые выработало человечество, усвоение результатов общественно-исторического познания, отражённого в науках о природе, обществе, в технике и искусстве, а также овладение трудовыми навыками и умениям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258920" y="260280"/>
            <a:ext cx="7634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 настоящем Стандарте  используются следующие основные понятия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лификация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и разнообразие организационных форм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содержания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е между физическими и юридическими лицам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динство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она ближайшего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116000" y="404280"/>
            <a:ext cx="7508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область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арциаль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диагностик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емственность основных образовательных программ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ая диагностик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ая предметно-пространственная сре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нообразие детств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нняя помощь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моценность детств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ситуация развит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словия образова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ок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42560" y="1484280"/>
            <a:ext cx="7643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ом регулирования ФГОС ДО являются отношения в сфере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ФГОС ДО учтены особые образовательные потребности отдельных категорий дет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ы основные принципы стандар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109520" y="268200"/>
            <a:ext cx="7583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ноценного проживания ребенком всех этапов дошкольного детства, амплификация (обогащение) детского развит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и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я и сотрудничества детей и взрослых, признания ребенка полноценным участником (субъектом) образовательных отнорше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и инициативы детей в различны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6:05:04Z</dcterms:created>
  <dc:creator>д</dc:creator>
  <dc:description/>
  <dc:language>en-US</dc:language>
  <cp:lastModifiedBy>Сергей</cp:lastModifiedBy>
  <dcterms:modified xsi:type="dcterms:W3CDTF">2013-11-21T17:16:02Z</dcterms:modified>
  <cp:revision>80</cp:revision>
  <dc:subject/>
  <dc:title>Муниципальное образовательное учреждение для детей дошкольного и младшего школьного возраста начальная школа детский сад компенсирующего вида № 440</dc:title>
</cp:coreProperties>
</file>