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4DE-4DBE-4CDC-9E94-E3C460CA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0DC-3B9D-41EB-96F2-A0578DD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32E-A997-46D0-9E17-CC775D26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45B-48C4-45E2-AFB5-D2BC9545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D61D-A77B-4C01-8F7D-CB738D30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299A-0D99-4C54-B47F-67152725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8E56-3E7F-4F28-B6CD-01AF827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8B93-22AB-46BE-A42A-E0DA0E2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2C3-9BB0-4108-9DEB-9D883299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211-36EB-43E4-9443-07CDF6E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029B-17E9-43DF-BE3D-2F6C406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59A-5E0D-48B6-A59A-B543AD65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9BE-FAF7-4CEC-B8A7-7925117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D9B-B7ED-4137-B5D0-8238C37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F1B-D436-4838-A2B8-77E4E3AC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093-BACB-4C95-BDD6-E32AEDD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BC27-C84B-4DC3-BC40-229671A5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6AC1-82EE-40B5-9E28-E6C8EF15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414A-9B16-4079-A959-47D55C2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FEDE-A0DC-44C0-BBB9-F0703050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2FBA-5D88-42DF-AF99-F52539CB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AEFA-E8F7-4BA7-A5E2-ABD27FD7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D94-2C25-40D1-A7C7-8941A21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9498-E182-417A-B126-E40CCEE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0062-0280-42E8-B0F2-0E2F0B6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E6FA-A983-4E3B-973A-503E5F25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DF2F-4411-4F26-89E2-C14448E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F957-87B8-428B-AC6C-4436E77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9C08-5602-485C-A1AA-36EF5792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800A-C33F-4144-B783-0C610C34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276B-FC4C-45BF-A9D9-ABB2E47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1483-3EB9-4280-BE8A-5211D710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2D4B-8232-494C-9A9D-0C21A09A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228-6DB9-4D80-8CBD-F62D71B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02C3-B230-473F-964F-8CADFF0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2FF4-23F8-49D1-8379-46042756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D8E2-94F8-412D-B634-C6BF9C4F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47A6-C977-478D-9869-D50D2B6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A6A7-0AEC-428B-B633-F3526C3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7B1B-D922-41F6-A136-A76F9BF4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9BE6-A3EE-434E-986C-81CA3A9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570D-87CD-4130-8D5D-4D3198C9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E294-0EA0-4E4C-A6C4-9E76797E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BB2A-840E-462A-8B16-0710F77B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473-BD08-4A8C-A769-53B8D6F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9C92-4A4F-4CDD-94A5-E1DC39F2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7DBC2-5553-47A4-B384-474EBB3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0447F-DBD2-4C7D-8DB6-68B43133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4548-412F-4832-A147-50E4CA2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5AA4-DF0E-445A-ADC9-3FAE5E2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6D92-EC04-4E58-A614-98146A4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4589-D7F6-4037-A901-249BADE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41E6-B440-4664-AD02-79E2890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439D-82C0-49E9-8FA4-FB42DDB6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64B8-5551-4C27-855E-4A35EBB5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36C-718D-4006-8F3E-15B6E40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71DD-932C-4362-8FC8-B2150DCE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91FB-2942-4BC8-AE1D-33A5304B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C0285-85F1-4F44-9CC9-BB8066C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A345-5A04-45EA-899F-D650E9F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8D7E-4473-418C-87F1-0C10900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1621-E3B6-4C53-A1C2-BEE41E53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0E6A-4032-41FD-8131-401D7E91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6D98-1BD5-4DB3-8D9B-0688CB7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A484-A87D-4F61-A53D-C73932D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FACC-2452-41C8-8666-9C83375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9A5-CE50-47EC-B19E-A54B1D1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153C-1D62-44DF-BE5E-DDE051CE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96E8B-2668-4CF9-94D0-1B0A7457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04EA-AACB-4514-8F36-1D7955D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7093-C82B-4DCF-9D4E-8710869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6D8A-9DE7-4102-8067-92B701C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98D4-41FA-41F6-9EC8-F161C65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94FA-59D4-43E5-A1AD-EDA754F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5A16B-A17B-448B-B9B0-23EE19C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F06B-5882-4B6C-AC56-DAA11E46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A385-BA60-49D8-AA92-406E9EA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4B6-B3F1-48FB-900C-971477F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CFE78-C71B-41CA-8197-1D21D0A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25D1-9559-45F0-904D-A814CC6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EDDD7-923A-4EA3-868A-FF3236C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39D6-2EC9-4280-A337-07E1F067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283E-C44C-4EE1-B7E8-B7B17711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5EF1-295E-4B03-A8B6-2741A1C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86BC-DAC8-4038-81E1-BE591034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B516-3EC0-466B-B6D7-07098E0F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0FAC-B035-4DE7-959C-5E6814E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7676-E024-4BC4-BA19-6384742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973-6C15-4E41-B293-A9E89E3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CFA2-114F-44A1-80E1-092893D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1101E-A47B-41B1-991E-E1A604E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2B6F-A284-41F1-A549-169C17C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2BAD-982C-4296-9433-F497392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F97D2-044A-42C1-8113-73C24EF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4882-42E2-467C-B3C8-34963D79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CA46F-2BB5-4B4F-B476-32093D2E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CB5-A04A-4730-92F6-4E77C1931D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A260-2997-4865-8572-36D63DE385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B03-8410-458E-8163-32A91ADF8B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779-C771-4E2F-9145-B569005C1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5577-A6A7-4403-9095-291EAF65F9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840-6C73-4C53-8DD1-E0B0FA0941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0818-8CCA-4EA7-99C2-5A0C35FFD0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570-A053-4FC1-B0BF-406C566E44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2280" y="1365120"/>
            <a:ext cx="7450200" cy="229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84360" y="907560"/>
            <a:ext cx="8208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тнерства Организации или индивидуального предпринимателя с семьё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общение детей к  социокультурным нормам, традициям семьи, общества и государ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я познавательных интересов и познавательных действий ребенка в различных видах деятель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ой адекватности (соответствия условий, требований, методов возрасту и особенностям развития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а этнокультурной ситуации развития дет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нятия требованиями к условиям реализации Программы, обеспечивающими социальную ситуацию развития личности ребенка, ключевого места в структуре Стандар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763280" y="1268280"/>
            <a:ext cx="6923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осударством равенства возможностей каждого ребенка в получении качественного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осударственных гарантий уровня и качества образования на основе обязательных требований к условиям реализации ООП, их структуре и результатам освое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ение единства образовательного пространства РФ относительно уровня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676160" y="1557000"/>
            <a:ext cx="7288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храна и укрепление физического и психического здоровья детей (в том числе эмоционального благополучи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хранение и поддержка индивидуальности ребенка, развитие его индивидуальных способностей и творческого потенциа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общей культуры воспитанник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68440" y="268200"/>
            <a:ext cx="722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структуре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условиям реализации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результатам освоения основной образовательной программы 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689120" y="122400"/>
            <a:ext cx="7004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требование Федерального Закона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а на создание образовательной среды как зоны ближайшего развития ребен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верждается ДОО самостоятель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ОП может быть разработана для групп с различной продолжительностью пребывания детей в ДО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развитие детей дошкольного возраста с учетом их психолого-возрастных и индивидуальных особенност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Группы в одной ДОО могут действовать на основе различных Програм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Программы должно охватывать образовательные обла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иально‑коммуникативн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знавательн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удожественно‑эстет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изическое развити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912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пространственная развивающая образовательная сре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взаимодействия со взрослы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взаимодействия с другими деть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тношений ребенка к миру, к другим людям, себе самом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9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ыщенность среды должна отвечать возрастным возможностям детей и содержанию Программ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формируемость простран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функциональность материал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ступ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676160" y="2349000"/>
            <a:ext cx="7010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ая образовательная организац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822240" y="689040"/>
            <a:ext cx="787104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403280" y="14810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возможности вменения ребёнку какой-либо ответственности за результат делают неправомерными требования от ребёнка дошкольного возраста конкретных образовательных достижений и обусловливают необходимость определения результатов освоения образовательной программы в виде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целевых ориентиров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7583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не подлежат непосредственной оценке, в том числе в виде педагогической диагностики (мониторинга), и не являются основанием для их формального сравнения с реальными достижениями детей. Они не являются основой объективной оценки соответствия установленным требованиям образовательной деятельности и подготовки воспитанник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928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вляются ориентирами для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редителей Организаций для построения образовательной политики на соответствующих уровнях с учётом целей дошкольного образования, общих для всего образовательного пространства РФ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ов и администрации Организаций для решения задач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я Программы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нализа своей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с семьями воспитан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торов образовательных программ дошкольного образ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ей при формировании исследовательских программ для изучения характеристик образования детей в возрасте от 2 месяцев до 8 лет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 (законных представителей) детей от 2 месяцев до 8 лет для их информированности относительно целей дошкольного образования, общих для всего образовательного пространства РФ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ирокой общественност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036800" y="407880"/>
            <a:ext cx="76564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000" y="90792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не могут служить непосредственным основанием при решении управленческих задач, включа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ю педагогических кадров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качества образовани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как итогового, так и промежуточного уровня развития воспитанников, в том числе в рамках мониторинга (в форме тестирования, с использованием методов, основанных на наблюдении, или иных методов измерения результативности детей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выполнения муниципального (государственного) задания посредством их включения в показатели качества выполнения задани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ие стимулирующего фонда оплаты труда работников Организаци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82422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 целевым ориентирам дошкольного образования относятся следующие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социальные и психологические характеристики личности</a:t>
            </a:r>
            <a:r>
              <a:rPr b="0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ребёнка</a:t>
            </a:r>
            <a:r>
              <a:rPr b="0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 этапе завершения дошкольного образ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476000" y="14810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 и самостоятельность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ебёнок уверен в своих силах, открыт внешнему миру, положительно относится к себе и к другим, обладает чувством собственного достоинства. Активно взаимодействует со сверстниками и взрослым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ладает развитым воображение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907920" y="2556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к фантазии, воображению, творчеству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чиняется разным правилам и социальным нормам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являет любознательнос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наблюдать, экспериментирова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к принятию собственных решени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Программы выступают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снованиями преемственности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го и начального общего образования. При соблюдении требований к условиям реализации Программы настоящие целевые ориентиры предполагают формирование у детей дошкольного возраста предпосылок учебной деятельности на этапе завершения ими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835280" y="549360"/>
            <a:ext cx="685152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Arial"/>
                <a:ea typeface="Arial"/>
              </a:rPr>
              <a:t>Понятие ФГОС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нгл. standart – норма, образец) – «образец, эталон, модель, принимаемые за исходные для сопоставления с ними др. подобных объектов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тандар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комплекс норм, правил, требований, которые устанавливаются на основе достижений науки, техники и передового опыта; минимальные требования (к продукции), устанавливаемые с целью защиты здоровья и безопасности потребителей; гарантии – условия и механизмы, обеспечивающие беспрепятственное пользование правами и их всестороннюю охрану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 образовании должен выступать гарантией конституционного права российского гражданина, права любого человека на качественное образова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Дошкольная образовательная организация 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тип образовательной организации, создаваемой в целях ведения образовательной деятельности по реализации основных образовательных программ дошкольного образования, а также осуществления присмотра и ухода за деть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ый процесс и достигнутый результат воспитания и обучения в интересах человека, общества, государства, сопровождающийся констатацией достижения гражданином (обучающимся) установленных государством образовательных уровней (образовательных цензо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бщего и специального образования обуславливается требованиями производства, состоянием науки, техники и культуры, а также общественными отношения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- 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 приобретения предубеждений более высокого поряд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- 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и результат усвоения систематизированных знаний, умений и навыков. В процессе образования происходит передача от поколения к поколению знания всех тех духовных богатств, которые выработало человечество, усвоение результатов общественно-исторического познания, отражённого в науках о природе, обществе, в технике и искусстве, а также овладение трудовыми навыками и умениям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258920" y="260280"/>
            <a:ext cx="7634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 настоящем Стандарте  используются следующие основные поняти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лификация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и разнообразие организационных форм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содержания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е между физическими и юридическими лицам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динство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она ближайшего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116000" y="404280"/>
            <a:ext cx="7508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область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рциаль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диагностик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емственность основных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ая диагностик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ая предметно-пространственная сре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детств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нняя помощь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ценность детств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ситуация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словия образова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ок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42560" y="1484280"/>
            <a:ext cx="7643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ом регулирования ФГОС ДО являются отношения в сфере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ФГОС ДО учтены особые образовательные потребности отдельных категорий дет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ы основные принципы стандар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7583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ноценного проживания ребенком всех этапов дошкольного детства, амплификация (обогащение) детского развит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я и сотрудничества детей и взрослых, признания ребенка полноценным участником (субъектом) образовательных отнорше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и инициативы детей в различн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6:05:04Z</dcterms:created>
  <dc:creator>д</dc:creator>
  <dc:description/>
  <dc:language>en-US</dc:language>
  <cp:lastModifiedBy>Сергей</cp:lastModifiedBy>
  <dcterms:modified xsi:type="dcterms:W3CDTF">2013-11-21T17:16:02Z</dcterms:modified>
  <cp:revision>80</cp:revision>
  <dc:subject/>
  <dc:title>Муниципальное образовательное учреждение для детей дошкольного и младшего школьного возраста начальная школа детский сад компенсирующего вида № 440</dc:title>
</cp:coreProperties>
</file>