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png" ContentType="image/png"/>
  <Override PartName="/ppt/media/image11.wmf" ContentType="image/x-wmf"/>
  <Override PartName="/ppt/media/image3.png" ContentType="image/png"/>
  <Override PartName="/ppt/media/image16.gif" ContentType="image/gif"/>
  <Override PartName="/ppt/media/image14.gif" ContentType="image/gif"/>
  <Override PartName="/ppt/media/image1.png" ContentType="image/png"/>
  <Override PartName="/ppt/media/image4.wmf" ContentType="image/x-wmf"/>
  <Override PartName="/ppt/media/image5.gif" ContentType="image/gif"/>
  <Override PartName="/ppt/media/image8.wmf" ContentType="image/x-wmf"/>
  <Override PartName="/ppt/media/image17.wmf" ContentType="image/x-wmf"/>
  <Override PartName="/ppt/media/image9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72B-0810-4DF0-B246-141F212C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CDAB-0A65-44DE-A9E6-3638AB40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21F1-2FE2-4BDE-BBBD-65C93BB2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34A-C8D2-4C0C-A0D8-A764C953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C3E-7760-4896-8288-80818C69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8B0E-041B-404D-97D5-26B4BF57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613-AF06-4BA3-A8FC-FA6E020F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E378-C997-4CC5-96CF-E54D0E42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E8E6-6269-4E4A-A714-1E3681EF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72B8-E4D7-4E4C-9EF4-890E5020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30F-EE21-483B-9E61-253574A1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1B15-1DC8-4D5A-8D55-9B563CB3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61CE-AE8A-4823-A80C-99D543E4C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гда тебя родная мать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дет к зубным врачам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жди пощады от нее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прасных слез не лей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лчи, как пленный партизан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стисни зубы так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б не сумела их разжать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олпа зубных врачей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452680" cy="1698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3492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189000" y="-201600"/>
            <a:ext cx="9522000" cy="7262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652480" y="567720"/>
            <a:ext cx="342972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ты остался дом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з родителей один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ложить тебе могу 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ресную игру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 названьем "смелый повар"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ли "храбрый кулинар"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ть игры в приготовлени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возможных вкусных блюд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лагаю для начал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такой простой рецепт: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в папины ботинк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лить мамины духи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потом ботинки эт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мазать кремом для бритья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полить их рыбьим жиром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черной тушью пополам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росить в суп, который мам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готовила с утр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варить с закрытой крышкой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вно семьдесят минут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то получится узнаешь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гда взрослые прид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202520" y="228600"/>
            <a:ext cx="194148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80880" y="4495680"/>
            <a:ext cx="23288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38040" y="-368280"/>
            <a:ext cx="9821880" cy="759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774520" y="1432440"/>
            <a:ext cx="6220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зьми густой вишневый сок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белый мамин плащ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й аккуратно сок на плащ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учится пятно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перь, чтоб не было пятна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мамином плаще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ащ надо сунуть целиком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густой вишневый 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553080" y="5398920"/>
            <a:ext cx="167652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57240" y="942840"/>
            <a:ext cx="4001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Ecли вы гуляли в шапк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потом она пропал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волнуйтесь, дома мам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жно что-нибудь соврать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старайтесь врать красив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глядя восхищенн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аив дыханье, мам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лго слушала врань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уж если вы наврал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 потерянную шапку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ее в бою неравно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обрал у вас шпион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арайтесь, чтобы мам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ходила возмущатьс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иностранную разведку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м ее не так пойм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04920" y="-266760"/>
            <a:ext cx="10187280" cy="71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30120" y="-412920"/>
            <a:ext cx="9806040" cy="7685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688480" y="1051200"/>
            <a:ext cx="3768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сли мама вам купила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магазине только мячик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не хочет остальное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е что видит, покупать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ньте прямо, пятки вместе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ки в стороны расставьте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крывайте рот пошире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кричите букву: - А!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когда, роняя сумки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воплем: - Граждане! Тревога!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упатели помчатся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продавщицей во главе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вам директор магазина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ойдет и скажет маме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Забирайте все бесплатно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сть он только не кричи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317016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3-11-25T17:46:2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