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16.gif" ContentType="image/gif"/>
  <Override PartName="/ppt/media/image14.gif" ContentType="image/gif"/>
  <Override PartName="/ppt/media/image1.png" ContentType="image/png"/>
  <Override PartName="/ppt/media/image4.wmf" ContentType="image/x-wmf"/>
  <Override PartName="/ppt/media/image5.gif" ContentType="image/gif"/>
  <Override PartName="/ppt/media/image8.wmf" ContentType="image/x-wmf"/>
  <Override PartName="/ppt/media/image17.wmf" ContentType="image/x-wmf"/>
  <Override PartName="/ppt/media/image9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91C-8E86-48F4-A720-B600B344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6E7-681D-4472-A113-3B0607E4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053-7C31-41D1-81DC-04B9A29B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AFE-530F-4885-A039-626771B3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2C4-F668-4F4F-99E7-68047D5C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3ED-1C05-4ACD-9EED-2E739205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329-51E6-42F4-B2D2-BFFE8CA4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BF0-0175-4C1C-9784-7E00EE13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E56-3984-4462-9E31-15B6BD56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778-C649-428A-AF41-9E726485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E78-3284-4E66-8735-5FEC9B19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BE2-4840-49E4-A53A-E98BCAD5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781B-1250-460D-AB56-670345A5A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гда тебя родная мать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дет к зубным врачам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жди пощады от нее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расных слез не лей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лчи, как пленный партизан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стисни зубы так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б не сумела их разжать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лпа зубных врачей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452680" cy="1698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492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189000" y="-201600"/>
            <a:ext cx="9522000" cy="7262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52480" y="567720"/>
            <a:ext cx="342972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ты остался дом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з родителей один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ить тебе могу 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есную игру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 названьем "смелый повар"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"храбрый кулинар"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ть игры в приготовлени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возможных вкусных блюд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агаю для начал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такой простой рецепт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в папины ботинк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лить мамины духи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том ботинки эт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азать кремом для бритья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полить их рыбьим жиром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черной тушью пополам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росить в суп, который мам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готовила с утр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арить с закрытой крышко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вно семьдесят минут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 получится узнаешь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да взрослые прид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202520" y="228600"/>
            <a:ext cx="194148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23288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38040" y="-368280"/>
            <a:ext cx="9821880" cy="759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74520" y="1432440"/>
            <a:ext cx="6220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зьми густой вишневый со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белый мамин плащ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й аккуратно сок на плащ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учится пятно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перь, чтоб не было пятн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мамином плаще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щ надо сунуть целиком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густой вишневый 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53080" y="5398920"/>
            <a:ext cx="16765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57240" y="942840"/>
            <a:ext cx="4001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cли вы гуляли в шапк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том она пропал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волнуйтесь, дома мам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но что-нибудь соврат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старайтесь врать красив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глядя восхищенн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аив дыханье, мам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лго слушала врань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уж если вы наврал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 потерянную шапку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ее в бою неравно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обрал у вас шпион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райтесь, чтобы мам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ходила возмущатьс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ностранную разведку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 ее не так пойм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266760"/>
            <a:ext cx="10187280" cy="71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30120" y="-412920"/>
            <a:ext cx="9806040" cy="7685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88480" y="1051200"/>
            <a:ext cx="3768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ли мама вам купил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магазине только мячик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не хочет остальное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 что видит, покупать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ньте прямо, пятки вместе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и в стороны расставьте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вайте рот пошире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кричите букву: - А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когда, роняя сумки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воплем: - Граждане! Тревога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упатели помчатся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продавщицей во главе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вам директор магазин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ойдет и скажет маме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Забирайте все бесплатно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сть он только не кричи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31701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3-11-25T17:46:2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