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E54-0020-4C3E-A7EE-CBDFF87D3B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8E5-484F-428F-ABE0-DF42C99A0D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6A1-F813-4756-9DFA-F35C9D9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686-0C06-4008-BF19-60AB0C49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75C-CECE-4F37-AE50-A7EA2BF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AF1-45B0-44A5-8426-DD1CC329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7397-3AD4-4E16-9F89-43BACBAD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998D-43BD-4DCE-8B6A-4F59063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4AF9-5138-4B0F-8FC5-3A187BA8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8313-EB71-4235-85EC-50BD2C1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573-1816-44D7-B5C2-7AD40913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23FA-E1A9-4136-AA4D-E21ED85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690E-BB00-4475-89A2-6210EBA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8FE-B58F-47C0-9D85-AD81742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BA76-C98B-441B-913F-0E0C08C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40D-DBC8-4A0F-A2BC-EB46C21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CFB-EAD1-41E6-9D6F-A29AEAA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F09-9194-4F8B-BD02-D078433A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FF2B-17E9-48E2-8BE6-66FA946D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E814-D795-472A-A3D5-1D64F2B5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E8E9-2C15-4347-8591-BBF7A53B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B0AE-F05B-422C-8462-94AD8395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70DF-8554-4020-935B-C7753B09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A749-BECF-4A96-B412-B5234E4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03A-33EF-4E0B-95F7-8CCD66D0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F936-2EE2-436A-9D4B-958712D0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A3E9-1CA3-49EF-B9F5-3E42186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4992-5A96-4D45-A29E-21E69BE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359D-5900-46C0-B747-16F3885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75C3-7CF2-4A2F-BBFD-C28815D9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2BF4-C50F-4732-BC97-995549AD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7432-54E1-465B-81AB-3D3F121D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F52B-E220-4E7F-A462-E294671F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1563-1B21-4837-AAE1-FA4B5F5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7469-AFD6-4456-AAEE-84660FA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753-CC0C-4541-8947-2EEA1582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9C9D-70C9-4367-BBED-DDCB916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B4E2-18B7-4C5D-A97B-351499AD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D36B-4FF8-41F1-9746-2C440D9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8BA9-4B6D-43DD-A006-EB7B720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4CBC-AB5E-4B59-8D15-BF1778F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16D0-8B2E-4FA4-BE6C-8EB6A74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DCDD-E7BD-498E-90CB-9E6DB5C4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924D-B08F-4B07-97FF-D0873F98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B334-CF97-4F8F-8BBF-E69EF434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69FC-49A6-4E2F-824A-A7E87434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F72-98DD-4EEB-B73F-0CE385E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0581B-C4C0-4FBD-AF6A-C77A4D8E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CB23-781F-444F-B971-8A608F0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1284-9208-4107-9C70-0EE8ECF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67C3-10D7-4642-92B8-48885259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6C61-7C6D-4C24-A9F8-86BBDEE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2205-EB44-4583-B1AE-0AF0616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DA94-BB41-4449-AB06-6493F5B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8422-4023-4211-897D-35ADAFE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F08A-67FC-4EC5-AF67-590BF91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9E67-A71B-4E31-A6ED-1E59922B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267-3B90-4F5B-BBD3-375BE40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21EE-66F2-48B9-B28A-9E1A096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41D2-6486-472B-8A81-2929C962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C717-730B-4BDE-B27F-782716F1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E0F2-B824-4E79-AC09-2A647C71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1D89-7A03-4863-9EAA-9E1E32BB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6D36-CEE6-4B7C-A3D5-EA778459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5347-9642-4759-AF95-E1F7E1C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BBED-01F7-44BE-83C8-285F8D3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F07A-E060-4B87-B12E-CCF1A12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055D-2FB7-4980-A03C-271FBE2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BDB-9B3D-4986-B379-C7F2047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B0EA-3818-4822-90DA-0473DAD1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94525-EEC1-4282-9F25-603B7A72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45D9-E958-4645-A480-D21CC2D3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4ED-7DFC-4BA0-8E2A-10A5E37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A04-C237-4FBE-A59E-F204A7C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01E-3D9E-4C51-9DFE-14898957454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DF3-6FA2-4DE7-AC09-02A878DB559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B14-013B-43CC-92DB-A608A89AA8A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1C7D-3D7F-4CB1-8D6C-2242F44B716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EF2-0F12-45F0-A4B2-6CE9281B04E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73A-2077-4074-9B06-A685EBBAB63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1828800"/>
            <a:ext cx="6949800" cy="1609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760" y="349992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«Ни на расовой, ни на партийной ненависти Россию нам не возродить и не построить…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Мы должны очистить себя от этих разрушительных сил и погасить, искоренить в себе этот дух грозящих нам гражданских войн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.Ильи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4200" y="1285920"/>
            <a:ext cx="4786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рнилов погиб в апреле 1918 года при неудачном штурме столицы Кубани Екатеринодара. И главнокомандующим стал генерал А.Деникин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а Южном Урале сопротивление большевикам возглавил атаман А. Дутов, а в Забайкалье - атаман Г.Семенов. Первые антибольшевистские выступления были стихийными и разрозненны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о постепенно сложилось два центра борьбы – в Сибири, где преобладали зажиточные крестьяне недовольные деятельностью комбедов, и на юге с его казацким населением, привыкшем к вольниц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Рисунок10"/>
          <p:cNvPicPr/>
          <p:nvPr/>
        </p:nvPicPr>
        <p:blipFill>
          <a:blip r:embed="rId1"/>
          <a:stretch/>
        </p:blipFill>
        <p:spPr>
          <a:xfrm>
            <a:off x="5214960" y="1928880"/>
            <a:ext cx="3521160" cy="242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5" name="TextBox 5"/>
          <p:cNvSpPr/>
          <p:nvPr/>
        </p:nvSpPr>
        <p:spPr>
          <a:xfrm>
            <a:off x="5786280" y="4572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вольческая ар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здание Красной Арм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714480" y="1285920"/>
            <a:ext cx="5143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нин считал, что армия должна быть заменена всеобщим вооружением народа. Но борьба с контрреволюцией заставила его пересмотреть свой под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кретами 15 и 29 января были созданы на добровольной основе рабоче-крестьянская Красная Армия и Красный флот. Но в условиях затянувшейся войны, особо большого количества добровольцев не наблюдало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30 мая была введена всеобщая воинская пови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8" descr="Рисунок9"/>
          <p:cNvPicPr/>
          <p:nvPr/>
        </p:nvPicPr>
        <p:blipFill>
          <a:blip r:embed="rId1"/>
          <a:stretch/>
        </p:blipFill>
        <p:spPr>
          <a:xfrm>
            <a:off x="357120" y="1357200"/>
            <a:ext cx="3005280" cy="401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9" name="TextBox 13"/>
          <p:cNvSpPr/>
          <p:nvPr/>
        </p:nvSpPr>
        <p:spPr>
          <a:xfrm>
            <a:off x="428760" y="55720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ный комиссар по военным делам Н. Кры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здание Красной Арм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2920" y="1213920"/>
            <a:ext cx="428652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позволило к 1920 г.довести численность войск до 5 млн.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дготовки командиров были организованы курсы, и в марте 1918 г.был издан декрет о привлечении в армию «буржуазных специалистов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контроля за ними были введены должности комисса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1918 г.сложилась единая структура управления арм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лаве фронтов стоял реввоенсовет из командующего и 2 комисса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подчинялись Реввоенсовету республики во главе с Л.Троц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9" descr="Рисунок8"/>
          <p:cNvPicPr/>
          <p:nvPr/>
        </p:nvPicPr>
        <p:blipFill>
          <a:blip r:embed="rId1"/>
          <a:stretch/>
        </p:blipFill>
        <p:spPr>
          <a:xfrm>
            <a:off x="214200" y="1857240"/>
            <a:ext cx="4300560" cy="249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3" name="TextBox 5"/>
          <p:cNvSpPr/>
          <p:nvPr/>
        </p:nvSpPr>
        <p:spPr>
          <a:xfrm>
            <a:off x="785880" y="450072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Троцкий сре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ленов РВ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точ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о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1.Борьба с Колчаком в 1919 году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28640" y="1500120"/>
            <a:ext cx="54291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8.11.1918 Колчак заявил о введении единоличной власти для борьбы с большев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победы он планировал Созвать Национальное соб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ной 1919 г 400-тыс. армия начала наступление и подошла к Вол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ланах Колчака возник захват Москвы при помощи армии Деник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в апреле Восточный фронт под командованием М.Фрунзе разбил колчаковцев под Самарой и Уф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юле был освобожден Екатеринбург. В ноябре пал Омск- столица Колча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8" descr="Рисунок21"/>
          <p:cNvPicPr/>
          <p:nvPr/>
        </p:nvPicPr>
        <p:blipFill>
          <a:blip r:embed="rId1"/>
          <a:stretch/>
        </p:blipFill>
        <p:spPr>
          <a:xfrm>
            <a:off x="285840" y="1571760"/>
            <a:ext cx="3070080" cy="4071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07" name="TextBox 5"/>
          <p:cNvSpPr/>
          <p:nvPr/>
        </p:nvSpPr>
        <p:spPr>
          <a:xfrm>
            <a:off x="785880" y="578628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В. Колч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1.Борьба с Колчаком в 1919 году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21452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ударами Красной Армии белогвардейцы отошли к Иркутс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4 декабря здесь вспыхнуло антиколчаковское восстание, чехословацкий корпус объявил о нейтралитете и в начале января 1920 г. они арестовали Колчака и выдали его руководителям восст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чак был расстрелян.Наступление Красной Армии вскоре приостановило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4.1920 в Верхнеудинске была провозглашена Дальневосточная республика - «буферное государство» во главе которого стояли большев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Рисунок20"/>
          <p:cNvPicPr/>
          <p:nvPr/>
        </p:nvPicPr>
        <p:blipFill>
          <a:blip r:embed="rId1"/>
          <a:stretch/>
        </p:blipFill>
        <p:spPr>
          <a:xfrm>
            <a:off x="357120" y="2000160"/>
            <a:ext cx="3786120" cy="2487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1" name="TextBox 5"/>
          <p:cNvSpPr/>
          <p:nvPr/>
        </p:nvSpPr>
        <p:spPr>
          <a:xfrm>
            <a:off x="928800" y="4786200"/>
            <a:ext cx="25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бирские партиз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2.Разгром армии Н.Юденича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86080" y="1600200"/>
            <a:ext cx="55720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ной 1919 г. Русский политический комитет в Финляндии во главе с ген. Н.Юденичем сформировал на ее территории армию и в мае начал наступление на Петрогр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онт между Нарвой и Чудским озером был прорв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июня начался мятеж в ряде Петроградских фор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вики опираясь на балтийских матросов и части РККА подавили мятеж и перешли в наступл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чале 1920 года были освобождены Мурманск и Архангельс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север вновь стал советск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8" descr="Рисунок19"/>
          <p:cNvPicPr/>
          <p:nvPr/>
        </p:nvPicPr>
        <p:blipFill>
          <a:blip r:embed="rId1"/>
          <a:stretch/>
        </p:blipFill>
        <p:spPr>
          <a:xfrm>
            <a:off x="357120" y="1714680"/>
            <a:ext cx="2879640" cy="378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5" name="TextBox 5"/>
          <p:cNvSpPr/>
          <p:nvPr/>
        </p:nvSpPr>
        <p:spPr>
          <a:xfrm>
            <a:off x="714240" y="56437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Н. Юден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3.Ликвидация Добровольческой армии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86080" y="1571400"/>
            <a:ext cx="56577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е-июне 1919 г.на юге началось наступление Деник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гвардейцы заняли Донбасс, Белгород, Царицын и объявили о начале похода на Моск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евики провели мобилизацию и в октябре перешли в контрнаступ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Конная армия под командованием С.Буденного разрезала белогвардейцев на 2 части - кавказскую и крымск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1920 г. Добровольческая армия прекратила свое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8" descr="Рисунок18"/>
          <p:cNvPicPr/>
          <p:nvPr/>
        </p:nvPicPr>
        <p:blipFill>
          <a:blip r:embed="rId1"/>
          <a:stretch/>
        </p:blipFill>
        <p:spPr>
          <a:xfrm>
            <a:off x="285840" y="1643040"/>
            <a:ext cx="2928960" cy="377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9" name="TextBox 5"/>
          <p:cNvSpPr/>
          <p:nvPr/>
        </p:nvSpPr>
        <p:spPr>
          <a:xfrm>
            <a:off x="57168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 отправкой на Южный фр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42920" y="1571400"/>
            <a:ext cx="4286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татки Добровольческой армии перебрались в Кр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ангель, стремясь получить социальную опору, издает 25 мая «Закон о земле», который передавал ее тем, кто на ней труди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сть на местах переходила к волостным земств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восстановлено казачье самоуправление, рабочим пообещали защиту их пра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время было упуще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вики после первых успехов Врангеля начали переброску на Юг значительной части Красной ар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3.Ликвидация Добровольческой армии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Picture 9" descr="Рисунок17"/>
          <p:cNvPicPr/>
          <p:nvPr/>
        </p:nvPicPr>
        <p:blipFill>
          <a:blip r:embed="rId1"/>
          <a:stretch/>
        </p:blipFill>
        <p:spPr>
          <a:xfrm>
            <a:off x="285840" y="2214720"/>
            <a:ext cx="4214880" cy="2465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3" name="TextBox 6"/>
          <p:cNvSpPr/>
          <p:nvPr/>
        </p:nvSpPr>
        <p:spPr>
          <a:xfrm>
            <a:off x="1357200" y="478620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ая конная ар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428640" y="1571760"/>
            <a:ext cx="551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апреле 1920 г.Ю.Пилсудский отдал приказ о наступлении на Кие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 мая город был взят, но население восприняло поляков как оккупа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тив них были брошены части Западного и Южного фронтов под командованием М.Тухачевск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 июня Киев был освобожден и вскоре Красная Армия перешла границу, но потерпела пораж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 октября в Риге был подписан м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яки получали Западную Украину и Западную Белорусс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4.Война с Польшей. Разгром П.Врангеля.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6" name="Picture 8" descr="Рисунок16"/>
          <p:cNvPicPr/>
          <p:nvPr/>
        </p:nvPicPr>
        <p:blipFill>
          <a:blip r:embed="rId1"/>
          <a:stretch/>
        </p:blipFill>
        <p:spPr>
          <a:xfrm>
            <a:off x="357120" y="1714680"/>
            <a:ext cx="2978280" cy="3714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7" name="TextBox 6"/>
          <p:cNvSpPr/>
          <p:nvPr/>
        </p:nvSpPr>
        <p:spPr>
          <a:xfrm>
            <a:off x="642960" y="557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зеф Пилсуд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429080" y="1571400"/>
            <a:ext cx="4500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Части Красной Армии были переброшены на юг и начали штурм Перекопского перешейка, но сразу овладеть мощными укреплениями не удалос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8 ноября один из отрядов форсировал Сиваш и ударил в тыл белогвардейца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скоре укрепления на Перекопе и Чонгаре перешли в руки большевик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статки белогвардейцев устремились в Севастополь в надежде бежать за границу, но удар нанесенный Фрунзе, ликвидировал остатки Добровольческой арм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4.Война с Польшей. Разгром П.Врангеля.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9" descr="Рисунок1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4200" y="2143080"/>
            <a:ext cx="3929040" cy="206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31" name="TextBox 6"/>
          <p:cNvSpPr/>
          <p:nvPr/>
        </p:nvSpPr>
        <p:spPr>
          <a:xfrm>
            <a:off x="285840" y="450072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Самсонов. Переход через Сива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лан уро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Понятие Гражданской войны и периодизац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Причины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Начало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Белое движе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Создание Красной арм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Ход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.Причины поражения белого движ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8.Итоги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56760" y="1214280"/>
            <a:ext cx="8572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Лидеры Белого движения не смогли предложить народу привлекательной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Они восстанавливали прежние законы, возвращали землю и предприятия прежним владельца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поддерживали идею восстановления монарх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Жители национальных окраин не могли принять лозунг «Единой и неделимой Росс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4678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ричины поражения белого движения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8" descr="Рисунок14"/>
          <p:cNvPicPr/>
          <p:nvPr/>
        </p:nvPicPr>
        <p:blipFill>
          <a:blip r:embed="rId1"/>
          <a:stretch/>
        </p:blipFill>
        <p:spPr>
          <a:xfrm>
            <a:off x="3429000" y="3000240"/>
            <a:ext cx="5081760" cy="3135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35" name="TextBox 6"/>
          <p:cNvSpPr/>
          <p:nvPr/>
        </p:nvSpPr>
        <p:spPr>
          <a:xfrm>
            <a:off x="357120" y="3071880"/>
            <a:ext cx="3000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Белые генералы отказались от сотрудничества с меньшевиками и эсерами и раскололи антибольшевистский фрон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Запятнали себя сотрудничеством с интерв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Не сумели добиться единства в своих ря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4000680" y="6215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ром белых армий на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4678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тоги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85480" y="10717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 1921 г. население России по сравнению с осенью 1917г. сократилось более чем на 10 млн. человек 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омышленное производство уменьшилось в 7 раз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полнейшем упадке был транспорт 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добыча угля и нефти находилась на уровне конца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XlX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века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зко сократились посевные площади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аловая продукция сельского хозяйства составляла 67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довоенного уровн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арод был измучен. Не хватало одежды, обуви, медикаментов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есной и летом 1921г. в Поволжье разразился страшный голод, погибло более 5 млн. челове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феврале 1921 г. остановились 64 завода. Рабочие оказались на улице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зко возросла детская беспризорность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ногие представители офицерства, казачества, буржуазии вынуждены были покинуть страну. Иммигрировала к концу войны около 2 млн. человек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 концу войны установилось командно-административная экономическая систем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йна оставила в душах людей кровавый след, многие так и не смогли привыкнуть к мирной жиз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Понятие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ражданской</a:t>
            </a: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 войны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Гражданская вой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иод острых классовых столкнов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 разрешения противоречий между сторонами с помощью вооружен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стояние классовых и общественных гру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3" descr="Рисунок2"/>
          <p:cNvPicPr/>
          <p:nvPr/>
        </p:nvPicPr>
        <p:blipFill>
          <a:blip r:embed="rId1"/>
          <a:srcRect l="1003" t="614" r="0" b="614"/>
          <a:stretch/>
        </p:blipFill>
        <p:spPr>
          <a:xfrm>
            <a:off x="4786200" y="1285920"/>
            <a:ext cx="31435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ериодизация Гражданской Войн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ые подходы к период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враль 1917 – Октябрь 19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на 1918 – Осень 19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тябрь 1917 – Октябрь 192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ктябрь 1917 – Весна 1918 – «мягкая Гражданская война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есна – Лето 1918 – начало «фронтового» этапа Гражданской войн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екабрь 1918 – Июнь 1919 – противоборство регулярных красных и белых армий. «Год белых»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торая половины 1919 – Осень 1920 – период военного поражения белых арм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нец 1920 – 1922 – период «малой Гражданской войны»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ричины Гражданской войн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14880" y="1357200"/>
            <a:ext cx="392904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естский мир оскорбил патриотические чувства офицеров, интеллиг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н большевиками Учредительного собр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ание помещиков и буржуазии сохранить свою соб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ка большевиков в деревне: создание комитетов бедноты, продразвер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9" descr="Рисунок11"/>
          <p:cNvPicPr/>
          <p:nvPr/>
        </p:nvPicPr>
        <p:blipFill>
          <a:blip r:embed="rId1"/>
          <a:stretch/>
        </p:blipFill>
        <p:spPr>
          <a:xfrm>
            <a:off x="785880" y="1428840"/>
            <a:ext cx="3076560" cy="447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чало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356840"/>
            <a:ext cx="394344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есной 1918 года недовольство политикой большевиков стало повсеместной. Реальностью стала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интервенция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– насильственное вмешательство одного или нескольких государств во внутренние дела другого государства. Германия оккупировала Украину, войска стран Антанты высадились в Архангельске. Экономика погружалась в хаос. Репрессии против оппозиции и Брестский мир обеспечили противникам большевиков массовую социальную поддержку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9" descr="Рисунок6"/>
          <p:cNvPicPr/>
          <p:nvPr/>
        </p:nvPicPr>
        <p:blipFill>
          <a:blip r:embed="rId1"/>
          <a:stretch/>
        </p:blipFill>
        <p:spPr>
          <a:xfrm>
            <a:off x="4214880" y="2143080"/>
            <a:ext cx="4659120" cy="2643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4"/>
          <p:cNvSpPr/>
          <p:nvPr/>
        </p:nvSpPr>
        <p:spPr>
          <a:xfrm>
            <a:off x="5286240" y="500076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лийские войска в Архангельс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чало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8760" y="1285560"/>
            <a:ext cx="45432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 1918 года – мятеж Чехословацкого корпуса, расквартированного в Сибири и на Ура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нцу лета 1918 года значительная часть территорий России оказалась под властью антибольшевистских правительств: в Самаре – КОМУЧ, в Екатеринбурге – Уральское областное правительство, в Томске – Временное Сибирское правитель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тябрь 1918 года в Уфе создано единое правительство  «демократической контрреволюция» - Уфимская  директор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8" descr="Рисунок5"/>
          <p:cNvPicPr/>
          <p:nvPr/>
        </p:nvPicPr>
        <p:blipFill>
          <a:blip r:embed="rId1"/>
          <a:stretch/>
        </p:blipFill>
        <p:spPr>
          <a:xfrm>
            <a:off x="4929120" y="1500120"/>
            <a:ext cx="3907080" cy="258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1" name="TextBox 5"/>
          <p:cNvSpPr/>
          <p:nvPr/>
        </p:nvSpPr>
        <p:spPr>
          <a:xfrm>
            <a:off x="5786280" y="42861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хослова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шел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би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2920" y="1214280"/>
            <a:ext cx="4214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ону атаман Каледин заявил о неподчинении большевикам. В декабре 1917 г. из офицеров здесь началось формирование Добровольческой армии. Ее возглавил ген. М. Алексеев. Участники движения хотели возродить былую мощь империи и ставили задачу борьбы со всеми социалистическими парт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благожелательно отнеслось к Советам. Каледин вынужден был застрелиться. Вскоре скончался Алексеев и его сменил генерал Л.Корни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Рисунок11"/>
          <p:cNvPicPr/>
          <p:nvPr/>
        </p:nvPicPr>
        <p:blipFill>
          <a:blip r:embed="rId1"/>
          <a:stretch/>
        </p:blipFill>
        <p:spPr>
          <a:xfrm>
            <a:off x="4429080" y="1285920"/>
            <a:ext cx="1989360" cy="227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5" name="TextBox 8"/>
          <p:cNvSpPr/>
          <p:nvPr/>
        </p:nvSpPr>
        <p:spPr>
          <a:xfrm>
            <a:off x="4429080" y="378612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М. Алексе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9" descr="kornilov_lavr.jpg"/>
          <p:cNvPicPr/>
          <p:nvPr/>
        </p:nvPicPr>
        <p:blipFill>
          <a:blip r:embed="rId2"/>
          <a:stretch/>
        </p:blipFill>
        <p:spPr>
          <a:xfrm>
            <a:off x="6643800" y="2000160"/>
            <a:ext cx="2168280" cy="31957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0"/>
          <p:cNvSpPr/>
          <p:nvPr/>
        </p:nvSpPr>
        <p:spPr>
          <a:xfrm>
            <a:off x="6786720" y="542916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Л. Корни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643200" y="1285560"/>
            <a:ext cx="5500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есной 1918 года под влиянием слухов о принуди тельном переделе земли на Дону стали возникать антисоветские выступл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огда на Дону появились немецкие войска казачья верхушка вступила с ними в сговор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десь была сформирована Донская армия во главе с генералом Красновым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оветы сформировали Южный фронт и в декабре остановили казачье наступлен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скоре все белогвардейцы перешли под знамена Деникин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9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840" y="1357200"/>
            <a:ext cx="3057480" cy="428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1" name="TextBox 5"/>
          <p:cNvSpPr/>
          <p:nvPr/>
        </p:nvSpPr>
        <p:spPr>
          <a:xfrm>
            <a:off x="642960" y="578628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П. Крас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совая Анна</cp:lastModifiedBy>
  <dcterms:modified xsi:type="dcterms:W3CDTF">2010-01-13T17:12:58Z</dcterms:modified>
  <cp:revision>24</cp:revision>
  <dc:subject/>
  <dc:title>Гражданская Война В России </dc:title>
</cp:coreProperties>
</file>