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866A-B737-49AF-98D4-E8562F2866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EE07-CF6B-41ED-A24D-05203E37C5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C1B-0480-4508-B706-7C8C8C73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ACA-90D8-4F61-AD2D-3F81D264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E68-D46F-4199-BD9E-061CA5F3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0EE-647A-4D98-A369-F8C58F1E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8E25-6518-468E-84BE-B154B00E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EEE0-EDCE-40FF-AB2E-1B36A71E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7B9A-C15D-46B5-AECB-89F8D5A0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A873-41E8-4FE9-8CD5-98811DB4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60D9-A0FB-4917-BF8B-D5259A56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8CFB-028D-4996-9692-041A970C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23C1-F5E8-4D71-AD6F-0A8B0F8E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1D6-703C-469C-8D00-5C8BF51F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DA74-38E3-41D4-AF4E-5268AE9F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1636-884F-4E71-930C-7F0EFE67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C642-4C3A-48D7-AF03-4C0B2893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5CD4-6C8B-4E08-B1E5-6EFBF268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24B3-F6A2-420C-ADB0-A9595FEE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294C-5227-4D1B-A076-A85D389D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89E0-42B6-4E55-BBFB-D6AAA3D9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8CD1-C231-4F86-B0B6-5984A1AF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3062C-6639-4A59-B438-1F2339E4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5DBE-0EB2-4DE6-945B-9E0B88D1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3D0-9A24-4488-9D48-6BA06CCA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ED84-9402-467C-ABD2-69EE158B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5BDE0-F7BD-45F0-A1A1-CAEED907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F1F78-8A82-4641-981A-F11638F1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9E73-3204-4EE2-A24C-07D587A7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E08F-FB6B-4744-A3DF-12222614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C727E-CE86-4AD3-AEF4-A76FBD2B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D9486-EF67-4777-A620-CF28BF97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682E8-2481-4074-9F6C-D26DD07D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E9DF-B921-4B90-9E4A-54D4B25E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53B5D-1E93-4D2F-9DF6-955883A2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6CA-AB30-479C-BAB0-3BD445EE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56A34-C2FB-4470-97CA-ACE0F76D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09F28-CD05-4C90-BD9A-71FD6D00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C2212-149B-443E-8B59-3430086D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72F2-400D-4CDA-8A36-BD15F001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8C49-DDC1-4B8C-83C6-CB05FA41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60C8B-15FC-43FA-A91C-A19FAAA0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E4392-54AA-4D96-AB83-C202DAFD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6FAE4-09F7-47E8-905F-8E085154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FCD7B-87AD-405D-B287-EC7C061A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85641-CE88-44E0-A18D-7713200C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E93-591C-422E-94E2-071DA921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BCC47-AB24-4945-B191-293EE2E5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80DBD-CD5B-4873-AB61-F8656D58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4928-5729-4200-8160-ADB727E1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DA596-F22E-47AF-A29A-DFC06E1B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4A315-8C1B-4A6E-A631-5CF85FC3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E98E8-FFCC-4A52-A6A9-7609265C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0D1EA-B508-4A7F-8F31-86D5769E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CC007-32B4-435E-9E4E-6324E079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5363B-734E-483A-8D64-E92DA116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DC5BA-1157-42FE-8930-1080507C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CA2-EE5C-4916-B769-6D5BED68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2850-1AAB-462F-BF0A-6AE1F0F6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65172-D083-4C96-B9D1-06EB7D6F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A6497-6C37-4D85-A472-0CA1FE4B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17054-ABD9-4488-A83A-012AD415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869DF-A831-473D-8BF2-75ED1C11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32E9F-8EC9-4916-830D-F4C000C4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211F1-FDCE-4239-A71E-04B0BA30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EAF91-7B7E-4DF9-B87B-6CE630A3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A6561-9420-4321-96CB-70A5B04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43119-EEF4-4F2B-A5AF-58057DB6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1DF-CAA8-458A-BB7E-2788A8DC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B238E-9951-460B-BEC8-E7EA4A84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F70E5-F8FE-41BF-AA68-2F779AE7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D5ABE-3A6D-471C-BB3F-E0462C9E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06C-3EC1-4350-8149-0BD9C461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CA9-8922-470B-A485-CB3E447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6894-F8C3-4871-8D29-C483A40E872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9559-53B2-4BC4-A32D-C35ADED6346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D1A3-A3BA-461C-9425-11449FCF9F5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9293-887B-4D43-92DC-8C02E8B63AA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4D97-3CEE-4E5A-9501-B53F79AFC54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B0A8-24EB-4962-B187-93A220E3A51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20840" y="1828800"/>
            <a:ext cx="6949800" cy="16095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8760" y="349992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«Ни на расовой, ни на партийной ненависти Россию нам не возродить и не построить…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Мы должны очистить себя от этих разрушительных сил и погасить, искоренить в себе этот дух грозящих нам гражданских войн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.Ильин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лое движ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4200" y="1285920"/>
            <a:ext cx="4786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Корнилов погиб в апреле 1918 года при неудачном штурме столицы Кубани Екатеринодара. И главнокомандующим стал генерал А.Деникин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На Южном Урале сопротивление большевикам возглавил атаман А. Дутов, а в Забайкалье - атаман Г.Семенов. Первые антибольшевистские выступления были стихийными и разрозненны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Но постепенно сложилось два центра борьбы – в Сибири, где преобладали зажиточные крестьяне недовольные деятельностью комбедов, и на юге с его казацким населением, привыкшем к вольнице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Рисунок10"/>
          <p:cNvPicPr/>
          <p:nvPr/>
        </p:nvPicPr>
        <p:blipFill>
          <a:blip r:embed="rId1"/>
          <a:stretch/>
        </p:blipFill>
        <p:spPr>
          <a:xfrm>
            <a:off x="5214960" y="1928880"/>
            <a:ext cx="3521160" cy="2427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95" name="TextBox 5"/>
          <p:cNvSpPr/>
          <p:nvPr/>
        </p:nvSpPr>
        <p:spPr>
          <a:xfrm>
            <a:off x="5786280" y="4572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вольческая арм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здание Красной Арм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714480" y="1285920"/>
            <a:ext cx="51433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06440" indent="-37116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нин считал, что армия должна быть заменена всеобщим вооружением народа. Но борьба с контрреволюцией заставила его пересмотреть свой подх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кретами 15 и 29 января были созданы на добровольной основе рабоче-крестьянская Красная Армия и Красный флот. Но в условиях затянувшейся войны, особо большого количества добровольцев не наблюдало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30 мая была введена всеобщая воинская повин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8" descr="Рисунок9"/>
          <p:cNvPicPr/>
          <p:nvPr/>
        </p:nvPicPr>
        <p:blipFill>
          <a:blip r:embed="rId1"/>
          <a:stretch/>
        </p:blipFill>
        <p:spPr>
          <a:xfrm>
            <a:off x="357120" y="1357200"/>
            <a:ext cx="3005280" cy="4017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99" name="TextBox 13"/>
          <p:cNvSpPr/>
          <p:nvPr/>
        </p:nvSpPr>
        <p:spPr>
          <a:xfrm>
            <a:off x="428760" y="557208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одный комиссар по военным делам Н. Крыл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здание Красной Арм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42920" y="1213920"/>
            <a:ext cx="428652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позволило к 1920 г.довести численность войск до 5 млн. 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дготовки командиров были организованы курсы, и в марте 1918 г.был издан декрет о привлечении в армию «буржуазных специалистов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контроля за ними были введены должности комисса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ентябре 1918 г.сложилась единая структура управления арми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главе фронтов стоял реввоенсовет из командующего и 2 комисса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и подчинялись Реввоенсовету республики во главе с Л.Троцк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9" descr="Рисунок8"/>
          <p:cNvPicPr/>
          <p:nvPr/>
        </p:nvPicPr>
        <p:blipFill>
          <a:blip r:embed="rId1"/>
          <a:stretch/>
        </p:blipFill>
        <p:spPr>
          <a:xfrm>
            <a:off x="214200" y="1857240"/>
            <a:ext cx="4300560" cy="2495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03" name="TextBox 5"/>
          <p:cNvSpPr/>
          <p:nvPr/>
        </p:nvSpPr>
        <p:spPr>
          <a:xfrm>
            <a:off x="785880" y="4500720"/>
            <a:ext cx="314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Троцкий сред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ленов РВ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точ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о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1.Борьба с Колчаком в 1919 году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428640" y="1500120"/>
            <a:ext cx="54291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8.11.1918 Колчак заявил о введении единоличной власти для борьбы с большев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победы он планировал Созвать Национальное собр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сной 1919 г 400-тыс. армия начала наступление и подошла к Волг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ланах Колчака возник захват Москвы при помощи армии Деник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в апреле Восточный фронт под командованием М.Фрунзе разбил колчаковцев под Самарой и Уф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июле был освобожден Екатеринбург. В ноябре пал Омск- столица Колча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8" descr="Рисунок21"/>
          <p:cNvPicPr/>
          <p:nvPr/>
        </p:nvPicPr>
        <p:blipFill>
          <a:blip r:embed="rId1"/>
          <a:stretch/>
        </p:blipFill>
        <p:spPr>
          <a:xfrm>
            <a:off x="285840" y="1571760"/>
            <a:ext cx="3070080" cy="4071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07" name="TextBox 5"/>
          <p:cNvSpPr/>
          <p:nvPr/>
        </p:nvSpPr>
        <p:spPr>
          <a:xfrm>
            <a:off x="785880" y="578628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В. Колч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1.Борьба с Колчаком в 1919 году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21452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ударами Красной Армии белогвардейцы отошли к Иркутск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4 декабря здесь вспыхнуло антиколчаковское восстание, чехословацкий корпус объявил о нейтралитете и в начале января 1920 г. они арестовали Колчака и выдали его руководителям восст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чак был расстрелян.Наступление Красной Армии вскоре приостановило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4.1920 в Верхнеудинске была провозглашена Дальневосточная республика - «буферное государство» во главе которого стояли большев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9" descr="Рисунок20"/>
          <p:cNvPicPr/>
          <p:nvPr/>
        </p:nvPicPr>
        <p:blipFill>
          <a:blip r:embed="rId1"/>
          <a:stretch/>
        </p:blipFill>
        <p:spPr>
          <a:xfrm>
            <a:off x="357120" y="2000160"/>
            <a:ext cx="3786120" cy="2487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11" name="TextBox 5"/>
          <p:cNvSpPr/>
          <p:nvPr/>
        </p:nvSpPr>
        <p:spPr>
          <a:xfrm>
            <a:off x="928800" y="4786200"/>
            <a:ext cx="257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бирские партиз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2.Разгром армии Н.Юденича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286080" y="1600200"/>
            <a:ext cx="557208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сной 1919 г. Русский политический комитет в Финляндии во главе с ген. Н.Юденичем сформировал на ее территории армию и в мае начал наступление на Петрогра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ронт между Нарвой и Чудским озером был прорв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3 июня начался мятеж в ряде Петроградских фор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евики опираясь на балтийских матросов и части РККА подавили мятеж и перешли в наступл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чале 1920 года были освобождены Мурманск и Архангельс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север вновь стал советск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8" descr="Рисунок19"/>
          <p:cNvPicPr/>
          <p:nvPr/>
        </p:nvPicPr>
        <p:blipFill>
          <a:blip r:embed="rId1"/>
          <a:stretch/>
        </p:blipFill>
        <p:spPr>
          <a:xfrm>
            <a:off x="357120" y="1714680"/>
            <a:ext cx="2879640" cy="3786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15" name="TextBox 5"/>
          <p:cNvSpPr/>
          <p:nvPr/>
        </p:nvSpPr>
        <p:spPr>
          <a:xfrm>
            <a:off x="714240" y="56437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Н. Юден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3.Ликвидация Добровольческой армии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86080" y="1571400"/>
            <a:ext cx="56577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е-июне 1919 г.на юге началось наступление Деник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огвардейцы заняли Донбасс, Белгород, Царицын и объявили о начале похода на Моск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евики провели мобилизацию и в октябре перешли в контрнаступ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ая Конная армия под командованием С.Буденного разрезала белогвардейцев на 2 части - кавказскую и крымск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чале 1920 г. Добровольческая армия прекратила свое существ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8" descr="Рисунок18"/>
          <p:cNvPicPr/>
          <p:nvPr/>
        </p:nvPicPr>
        <p:blipFill>
          <a:blip r:embed="rId1"/>
          <a:stretch/>
        </p:blipFill>
        <p:spPr>
          <a:xfrm>
            <a:off x="285840" y="1643040"/>
            <a:ext cx="2928960" cy="377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19" name="TextBox 5"/>
          <p:cNvSpPr/>
          <p:nvPr/>
        </p:nvSpPr>
        <p:spPr>
          <a:xfrm>
            <a:off x="571680" y="5572080"/>
            <a:ext cx="21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 отправкой на Южный фро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642920" y="1571400"/>
            <a:ext cx="42865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татки Добровольческой армии перебрались в Кр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ангель, стремясь получить социальную опору, издает 25 мая «Закон о земле», который передавал ее тем, кто на ней трудил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асть на местах переходила к волостным земств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восстановлено казачье самоуправление, рабочим пообещали защиту их пра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время было упуще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евики после первых успехов Врангеля начали переброску на Юг значительной части Красной арм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3.Ликвидация Добровольческой армии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2" name="Picture 9" descr="Рисунок17"/>
          <p:cNvPicPr/>
          <p:nvPr/>
        </p:nvPicPr>
        <p:blipFill>
          <a:blip r:embed="rId1"/>
          <a:stretch/>
        </p:blipFill>
        <p:spPr>
          <a:xfrm>
            <a:off x="285840" y="2214720"/>
            <a:ext cx="4214880" cy="2465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23" name="TextBox 6"/>
          <p:cNvSpPr/>
          <p:nvPr/>
        </p:nvSpPr>
        <p:spPr>
          <a:xfrm>
            <a:off x="1357200" y="478620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ая конная арм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428640" y="1571760"/>
            <a:ext cx="551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апреле 1920 г.Ю.Пилсудский отдал приказ о наступлении на Кие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7 мая город был взят, но население восприняло поляков как оккупан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тив них были брошены части Западного и Южного фронтов под командованием М.Тухачевског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2 июня Киев был освобожден и вскоре Красная Армия перешла границу, но потерпела пораж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2 октября в Риге был подписан ми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яки получали Западную Украину и Западную Белорусс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4.Война с Польшей. Разгром П.Врангеля.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6" name="Picture 8" descr="Рисунок16"/>
          <p:cNvPicPr/>
          <p:nvPr/>
        </p:nvPicPr>
        <p:blipFill>
          <a:blip r:embed="rId1"/>
          <a:stretch/>
        </p:blipFill>
        <p:spPr>
          <a:xfrm>
            <a:off x="357120" y="1714680"/>
            <a:ext cx="2978280" cy="3714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27" name="TextBox 6"/>
          <p:cNvSpPr/>
          <p:nvPr/>
        </p:nvSpPr>
        <p:spPr>
          <a:xfrm>
            <a:off x="642960" y="557208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зеф Пилсудс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429080" y="1571400"/>
            <a:ext cx="4500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06440" indent="-37116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Части Красной Армии были переброшены на юг и начали штурм Перекопского перешейка, но сразу овладеть мощными укреплениями не удалось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8 ноября один из отрядов форсировал Сиваш и ударил в тыл белогвардейца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скоре укрепления на Перекопе и Чонгаре перешли в руки большевиков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Остатки белогвардейцев устремились в Севастополь в надежде бежать за границу, но удар нанесенный Фрунзе, ликвидировал остатки Добровольческой арми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Ход Гражданской войны</a:t>
            </a:r>
            <a:br>
              <a:rPr sz="4100"/>
            </a:br>
            <a:r>
              <a:rPr b="0" lang="ru-RU" sz="3800" spc="-1" strike="noStrike">
                <a:solidFill>
                  <a:srgbClr val="ffffff"/>
                </a:solidFill>
                <a:latin typeface="Franklin Gothic Book"/>
              </a:rPr>
              <a:t>4.Война с Польшей. Разгром П.Врангеля.</a:t>
            </a:r>
            <a:endParaRPr b="0" lang="en-US" sz="3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9" descr="Рисунок1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14200" y="2143080"/>
            <a:ext cx="3929040" cy="206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31" name="TextBox 6"/>
          <p:cNvSpPr/>
          <p:nvPr/>
        </p:nvSpPr>
        <p:spPr>
          <a:xfrm>
            <a:off x="285840" y="4500720"/>
            <a:ext cx="335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Самсонов. Переход через Сива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лан уро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Понятие Гражданской войны и периодизац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Причины Гражданской вой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Начало Гражданской вой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Белое движени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.Создание Красной арми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Ход Гражданской вой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7.Причины поражения белого движ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8.Итоги Гражданской вой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56760" y="1214280"/>
            <a:ext cx="857268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Лидеры Белого движения не смогли предложить народу привлекательной програм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Они восстанавливали прежние законы, возвращали землю и предприятия прежним владельцам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поддерживали идею восстановления монарх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Жители национальных окраин не могли принять лозунг «Единой и неделимой Росси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46784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Причины поражения белого движения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8" descr="Рисунок14"/>
          <p:cNvPicPr/>
          <p:nvPr/>
        </p:nvPicPr>
        <p:blipFill>
          <a:blip r:embed="rId1"/>
          <a:stretch/>
        </p:blipFill>
        <p:spPr>
          <a:xfrm>
            <a:off x="3429000" y="3000240"/>
            <a:ext cx="5081760" cy="3135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35" name="TextBox 6"/>
          <p:cNvSpPr/>
          <p:nvPr/>
        </p:nvSpPr>
        <p:spPr>
          <a:xfrm>
            <a:off x="357120" y="3071880"/>
            <a:ext cx="30006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Белые генералы отказались от сотрудничества с меньшевиками и эсерами и раскололи антибольшевистский фрон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Запятнали себя сотрудничеством с интерв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Raavi"/>
              </a:rPr>
              <a:t>Не сумели добиться единства в своих ряд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4000680" y="621504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гром белых армий на ю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46784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тоги Гражданской вой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85480" y="1071720"/>
            <a:ext cx="86439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К 1921 г. население России по сравнению с осенью 1917г. сократилось более чем на 10 млн. человек 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ромышленное производство уменьшилось в 7 раз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полнейшем упадке был транспорт 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добыча угля и нефти находилась на уровне конца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XlX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века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резко сократились посевные площади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аловая продукция сельского хозяйства составляла 67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довоенного уровня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Народ был измучен. Не хватало одежды, обуви, медикаментов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есной и летом 1921г. в Поволжье разразился страшный голод, погибло более 5 млн. человек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феврале 1921 г. остановились 64 завода. Рабочие оказались на улице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Резко возросла детская беспризорность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ногие представители офицерства, казачества, буржуазии вынуждены были покинуть страну. Иммигрировала к концу войны около 2 млн. человек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К концу войны установилось командно-административная экономическая систем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ойна оставила в душах людей кровавый след, многие так и не смогли привыкнуть к мирной жизн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Franklin Gothic Book"/>
              </a:rPr>
              <a:t>Понятие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ражданской</a:t>
            </a:r>
            <a:r>
              <a:rPr b="0" lang="ru-RU" sz="4300" spc="-1" strike="noStrike">
                <a:solidFill>
                  <a:srgbClr val="ffffff"/>
                </a:solidFill>
                <a:latin typeface="Franklin Gothic Book"/>
              </a:rPr>
              <a:t> войны</a:t>
            </a: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такое Гражданская вой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иод острых классовых столкнов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 разрешения противоречий между сторонами с помощью вооруженных с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ивостояние классовых и общественных гру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3" descr="Рисунок2"/>
          <p:cNvPicPr/>
          <p:nvPr/>
        </p:nvPicPr>
        <p:blipFill>
          <a:blip r:embed="rId1"/>
          <a:srcRect l="1003" t="614" r="0" b="614"/>
          <a:stretch/>
        </p:blipFill>
        <p:spPr>
          <a:xfrm>
            <a:off x="4786200" y="1285920"/>
            <a:ext cx="31435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Периодизация Гражданской Войны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ые подходы к период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враль 1917 – Октябрь 19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сна 1918 – Осень 19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тябрь 1917 – Октябрь 192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Октябрь 1917 – Весна 1918 – «мягкая Гражданская война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есна – Лето 1918 – начало «фронтового» этапа Гражданской войн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екабрь 1918 – Июнь 1919 – противоборство регулярных красных и белых армий. «Год белых»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торая половины 1919 – Осень 1920 – период военного поражения белых арми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Конец 1920 – 1922 – период «малой Гражданской войны»   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Причины Гражданской войны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14880" y="1357200"/>
            <a:ext cx="392904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естский мир оскорбил патриотические чувства офицеров, интеллиг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гон большевиками Учредительного собр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елание помещиков и буржуазии сохранить свою соб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итика большевиков в деревне: создание комитетов бедноты, продразверс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9" descr="Рисунок11"/>
          <p:cNvPicPr/>
          <p:nvPr/>
        </p:nvPicPr>
        <p:blipFill>
          <a:blip r:embed="rId1"/>
          <a:stretch/>
        </p:blipFill>
        <p:spPr>
          <a:xfrm>
            <a:off x="785880" y="1428840"/>
            <a:ext cx="3076560" cy="4478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Начало Гражданской вой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356840"/>
            <a:ext cx="394344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есной 1918 года недовольство политикой большевиков стало повсеместной. Реальностью стала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интервенция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– насильственное вмешательство одного или нескольких государств во внутренние дела другого государства. Германия оккупировала Украину, войска стран Антанты высадились в Архангельске. Экономика погружалась в хаос. Репрессии против оппозиции и Брестский мир обеспечили противникам большевиков массовую социальную поддержку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9" descr="Рисунок6"/>
          <p:cNvPicPr/>
          <p:nvPr/>
        </p:nvPicPr>
        <p:blipFill>
          <a:blip r:embed="rId1"/>
          <a:stretch/>
        </p:blipFill>
        <p:spPr>
          <a:xfrm>
            <a:off x="4214880" y="2143080"/>
            <a:ext cx="4659120" cy="2643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657600" cy="45259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4"/>
          <p:cNvSpPr/>
          <p:nvPr/>
        </p:nvSpPr>
        <p:spPr>
          <a:xfrm>
            <a:off x="5286240" y="500076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глийские войска в Архангельс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Начало Гражданской вой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28760" y="1285560"/>
            <a:ext cx="45432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й 1918 года – мятеж Чехословацкого корпуса, расквартированного в Сибири и на Ура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концу лета 1918 года значительная часть территорий России оказалась под властью антибольшевистских правительств: в Самаре – КОМУЧ, в Екатеринбурге – Уральское областное правительство, в Томске – Временное Сибирское правительств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тябрь 1918 года в Уфе создано единое правительство  «демократической контрреволюция» - Уфимская  директор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8" descr="Рисунок5"/>
          <p:cNvPicPr/>
          <p:nvPr/>
        </p:nvPicPr>
        <p:blipFill>
          <a:blip r:embed="rId1"/>
          <a:stretch/>
        </p:blipFill>
        <p:spPr>
          <a:xfrm>
            <a:off x="4929120" y="1500120"/>
            <a:ext cx="3907080" cy="2589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1" name="TextBox 5"/>
          <p:cNvSpPr/>
          <p:nvPr/>
        </p:nvSpPr>
        <p:spPr>
          <a:xfrm>
            <a:off x="5786280" y="42861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хословац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шел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би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лое движ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2920" y="1214280"/>
            <a:ext cx="4214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Дону атаман Каледин заявил о неподчинении большевикам. В декабре 1917 г. из офицеров здесь началось формирование Добровольческой армии. Ее возглавил ген. М. Алексеев. Участники движения хотели возродить былую мощь империи и ставили задачу борьбы со всеми социалистическими парт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2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еление благожелательно отнеслось к Советам. Каледин вынужден был застрелиться. Вскоре скончался Алексеев и его сменил генерал Л.Корни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244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8" descr="Рисунок11"/>
          <p:cNvPicPr/>
          <p:nvPr/>
        </p:nvPicPr>
        <p:blipFill>
          <a:blip r:embed="rId1"/>
          <a:stretch/>
        </p:blipFill>
        <p:spPr>
          <a:xfrm>
            <a:off x="4429080" y="1285920"/>
            <a:ext cx="1989360" cy="2276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5" name="TextBox 8"/>
          <p:cNvSpPr/>
          <p:nvPr/>
        </p:nvSpPr>
        <p:spPr>
          <a:xfrm>
            <a:off x="4429080" y="378612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нерал М. Алексе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Рисунок 9" descr="kornilov_lavr.jpg"/>
          <p:cNvPicPr/>
          <p:nvPr/>
        </p:nvPicPr>
        <p:blipFill>
          <a:blip r:embed="rId2"/>
          <a:stretch/>
        </p:blipFill>
        <p:spPr>
          <a:xfrm>
            <a:off x="6643800" y="2000160"/>
            <a:ext cx="2168280" cy="31957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0"/>
          <p:cNvSpPr/>
          <p:nvPr/>
        </p:nvSpPr>
        <p:spPr>
          <a:xfrm>
            <a:off x="6786720" y="542916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нерал Л. Корни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лое движ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643200" y="1285560"/>
            <a:ext cx="55008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есной 1918 года под влиянием слухов о принуди тельном переделе земли на Дону стали возникать антисоветские выступлен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Когда на Дону появились немецкие войска казачья верхушка вступила с ними в сговор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Здесь была сформирована Донская армия во главе с генералом Красновым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оветы сформировали Южный фронт и в декабре остановили казачье наступлени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скоре все белогвардейцы перешли под знамена Деникин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9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5840" y="1357200"/>
            <a:ext cx="3057480" cy="4287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91" name="TextBox 5"/>
          <p:cNvSpPr/>
          <p:nvPr/>
        </p:nvSpPr>
        <p:spPr>
          <a:xfrm>
            <a:off x="642960" y="5786280"/>
            <a:ext cx="23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нерал П. Крас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совая Анна</cp:lastModifiedBy>
  <dcterms:modified xsi:type="dcterms:W3CDTF">2010-01-13T17:12:58Z</dcterms:modified>
  <cp:revision>24</cp:revision>
  <dc:subject/>
  <dc:title>Гражданская Война В России </dc:title>
</cp:coreProperties>
</file>