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9.jpeg" ContentType="image/jpeg"/>
  <Override PartName="/ppt/media/image42.jpeg" ContentType="image/jpeg"/>
  <Override PartName="/ppt/media/image33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03A-FA83-40D2-8FE4-CAC96E6F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686-58E4-41B5-B5C2-55F1B6FC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B64-D0D5-47EE-B0AB-DB996847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594-676B-4539-9E3A-8B2EE7E8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232-CFEC-4161-8E13-90425867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BFB-5372-4108-874B-88DC3552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A94-8F19-4EAB-A10E-63B31AD9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213-BF32-4E47-B058-7BBA6F1E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A8D-85C2-4E88-8CB6-3FD389F8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DCD-5281-4D6C-850F-98B8E2EC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2AD-403F-478C-9975-8C217913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387-3F2C-49A5-915E-F96A40F0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3DC2-461D-4471-86A8-554FE43DF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Мои документы\Света\1 сентября\Канада\maple_syrup-300.jpg"/>
          <p:cNvPicPr/>
          <p:nvPr/>
        </p:nvPicPr>
        <p:blipFill>
          <a:blip r:embed="rId1"/>
          <a:stretch/>
        </p:blipFill>
        <p:spPr>
          <a:xfrm>
            <a:off x="108000" y="5256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D:\Мои документы\Света\1 сентября\Канада\88cc843223c1ada0-large.jpg"/>
          <p:cNvPicPr/>
          <p:nvPr/>
        </p:nvPicPr>
        <p:blipFill>
          <a:blip r:embed="rId2"/>
          <a:stretch/>
        </p:blipFill>
        <p:spPr>
          <a:xfrm>
            <a:off x="4670280" y="52560"/>
            <a:ext cx="4365720" cy="2976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Мои документы\Света\1 сентября\Канада\2989444_f260.jpg"/>
          <p:cNvPicPr/>
          <p:nvPr/>
        </p:nvPicPr>
        <p:blipFill>
          <a:blip r:embed="rId3"/>
          <a:stretch/>
        </p:blipFill>
        <p:spPr>
          <a:xfrm>
            <a:off x="108000" y="3103560"/>
            <a:ext cx="302400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Мои документы\Света\1 сентября\Канада\0_56f29_4c388342_XL.jpg"/>
          <p:cNvPicPr/>
          <p:nvPr/>
        </p:nvPicPr>
        <p:blipFill>
          <a:blip r:embed="rId4"/>
          <a:stretch/>
        </p:blipFill>
        <p:spPr>
          <a:xfrm>
            <a:off x="3276720" y="3103560"/>
            <a:ext cx="5759280" cy="372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2411280" y="58680"/>
            <a:ext cx="21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805280" y="82440"/>
            <a:ext cx="50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Calibri"/>
              </a:rPr>
              <a:t>Природ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Мои документы\Света\1 сентября\Канада\r_p_0fb933de6d6d073d901cebdfb9e1d801.jpg"/>
          <p:cNvPicPr/>
          <p:nvPr/>
        </p:nvPicPr>
        <p:blipFill>
          <a:blip r:embed="rId1"/>
          <a:stretch/>
        </p:blipFill>
        <p:spPr>
          <a:xfrm>
            <a:off x="34920" y="3357720"/>
            <a:ext cx="4925880" cy="340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D:\Мои документы\Света\1 сентября\Канада\r_p_05a78ec67d029ba034977e00619fe029.jpg"/>
          <p:cNvPicPr/>
          <p:nvPr/>
        </p:nvPicPr>
        <p:blipFill>
          <a:blip r:embed="rId2"/>
          <a:stretch/>
        </p:blipFill>
        <p:spPr>
          <a:xfrm>
            <a:off x="5040360" y="968400"/>
            <a:ext cx="4016160" cy="579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:\Мои документы\Света\1 сентября\Канада\magdalen_islands.jpg"/>
          <p:cNvPicPr/>
          <p:nvPr/>
        </p:nvPicPr>
        <p:blipFill>
          <a:blip r:embed="rId3"/>
          <a:stretch/>
        </p:blipFill>
        <p:spPr>
          <a:xfrm>
            <a:off x="108000" y="115920"/>
            <a:ext cx="4697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Мои документы\Света\1 сентября\Канада\220px-Moraine_Lake-Banff_NP.JPG"/>
          <p:cNvPicPr/>
          <p:nvPr/>
        </p:nvPicPr>
        <p:blipFill>
          <a:blip r:embed="rId1"/>
          <a:stretch/>
        </p:blipFill>
        <p:spPr>
          <a:xfrm>
            <a:off x="4788000" y="3716280"/>
            <a:ext cx="4262400" cy="305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Мои документы\Света\1 сентября\Канада\r_p_2d55e0649bf25588daf42985936ef1fc.jpg"/>
          <p:cNvPicPr/>
          <p:nvPr/>
        </p:nvPicPr>
        <p:blipFill>
          <a:blip r:embed="rId2"/>
          <a:stretch/>
        </p:blipFill>
        <p:spPr>
          <a:xfrm>
            <a:off x="4371840" y="44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D:\Мои документы\Света\1 сентября\Канада\r_p_ffc1a5008666c2b64602838d1917d2ed.jpg"/>
          <p:cNvPicPr/>
          <p:nvPr/>
        </p:nvPicPr>
        <p:blipFill>
          <a:blip r:embed="rId3"/>
          <a:stretch/>
        </p:blipFill>
        <p:spPr>
          <a:xfrm>
            <a:off x="90360" y="3573360"/>
            <a:ext cx="4579920" cy="3200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250920" y="115920"/>
            <a:ext cx="3889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</a:rPr>
              <a:t>Вод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нада заним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-е место в мир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 запасам пресной в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:\Мои документы\Света\1 сентября\Канада\407.jpg"/>
          <p:cNvPicPr/>
          <p:nvPr/>
        </p:nvPicPr>
        <p:blipFill>
          <a:blip r:embed="rId1"/>
          <a:stretch/>
        </p:blipFill>
        <p:spPr>
          <a:xfrm>
            <a:off x="468360" y="72396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2340000" y="5502240"/>
            <a:ext cx="611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ана занимает 1-е место в мире по запасам древесины на душу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58920" y="763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Лес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18960" y="212760"/>
            <a:ext cx="79218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Минераль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пливны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фть, газ, уг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территории страны сосредоточ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ировых запасов цинка и никеля, серебра, плат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урана и свинца,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железных руд, титана, ме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месторождения золота, асбеста, калийных со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D:\Мои документы\Света\1 сентября\Канада\i (11).jpg"/>
          <p:cNvPicPr/>
          <p:nvPr/>
        </p:nvPicPr>
        <p:blipFill>
          <a:blip r:embed="rId1"/>
          <a:stretch/>
        </p:blipFill>
        <p:spPr>
          <a:xfrm>
            <a:off x="468360" y="43657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D:\Мои документы\Света\1 сентября\Канада\i (7).jpg"/>
          <p:cNvPicPr/>
          <p:nvPr/>
        </p:nvPicPr>
        <p:blipFill>
          <a:blip r:embed="rId2"/>
          <a:stretch/>
        </p:blipFill>
        <p:spPr>
          <a:xfrm>
            <a:off x="3851280" y="4726080"/>
            <a:ext cx="2131920" cy="1604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D:\Мои документы\Света\1 сентября\Канада\i (5).jpg"/>
          <p:cNvPicPr/>
          <p:nvPr/>
        </p:nvPicPr>
        <p:blipFill>
          <a:blip r:embed="rId3"/>
          <a:stretch/>
        </p:blipFill>
        <p:spPr>
          <a:xfrm>
            <a:off x="7137360" y="4365720"/>
            <a:ext cx="181944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D:\Мои документы\Света\1 сентября\Канада\i (13).jpg"/>
          <p:cNvPicPr/>
          <p:nvPr/>
        </p:nvPicPr>
        <p:blipFill>
          <a:blip r:embed="rId4"/>
          <a:stretch/>
        </p:blipFill>
        <p:spPr>
          <a:xfrm>
            <a:off x="7380360" y="115920"/>
            <a:ext cx="17208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Мои документы\Света\1 сентября\Канада\r_p_1ff7862ddf1fcdf024079d376efdb920.jpg"/>
          <p:cNvPicPr/>
          <p:nvPr/>
        </p:nvPicPr>
        <p:blipFill>
          <a:blip r:embed="rId1"/>
          <a:stretch/>
        </p:blipFill>
        <p:spPr>
          <a:xfrm>
            <a:off x="108000" y="3357720"/>
            <a:ext cx="5079960" cy="3384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2195640" y="187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Calibri"/>
              </a:rPr>
              <a:t>Насел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D:\Мои документы\Света\1 сентября\Канада\i (17).jpg"/>
          <p:cNvPicPr/>
          <p:nvPr/>
        </p:nvPicPr>
        <p:blipFill>
          <a:blip r:embed="rId2"/>
          <a:stretch/>
        </p:blipFill>
        <p:spPr>
          <a:xfrm>
            <a:off x="179280" y="866880"/>
            <a:ext cx="1893960" cy="2201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D:\Мои документы\Света\1 сентября\Канада\i (15).jpg"/>
          <p:cNvPicPr/>
          <p:nvPr/>
        </p:nvPicPr>
        <p:blipFill>
          <a:blip r:embed="rId3"/>
          <a:stretch/>
        </p:blipFill>
        <p:spPr>
          <a:xfrm>
            <a:off x="6948360" y="15084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195640" y="86688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34 млн. человек (2010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лотность – 3,4 чел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/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кв.к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Многонациональная стр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2 официальных языка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английский, француз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реобладает женское нас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D:\Мои документы\Света\1 сентября\Канада\i (19).jpg"/>
          <p:cNvPicPr/>
          <p:nvPr/>
        </p:nvPicPr>
        <p:blipFill>
          <a:blip r:embed="rId4"/>
          <a:stretch/>
        </p:blipFill>
        <p:spPr>
          <a:xfrm>
            <a:off x="7056360" y="4786200"/>
            <a:ext cx="1954440" cy="195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580000" y="31924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Религия – христиа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редняя продолжительность жизни – 78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37960" y="1843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859c"/>
                </a:solidFill>
                <a:latin typeface="Calibri"/>
              </a:rPr>
              <a:t>Экономика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Диаграмма 2" descr=""/>
          <p:cNvPicPr/>
          <p:nvPr/>
        </p:nvPicPr>
        <p:blipFill>
          <a:blip r:embed="rId1"/>
          <a:stretch/>
        </p:blipFill>
        <p:spPr>
          <a:xfrm>
            <a:off x="776160" y="717480"/>
            <a:ext cx="7950240" cy="5302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619280" y="5445000"/>
            <a:ext cx="85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ВП  47 066 $ на душу нас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187280" y="189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24000" y="119700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Горнодобывающая ( нефть, газ, уголь, железная руда, уран, медь, никель, цинк, асбест, калий, золото, серебро, платин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электроэнергетика (6-е место в мире). ГЭС – 61%, АЭС – 1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Машиностроение (автомобили, авиатехника, радиоэлектроника, приборы, станк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Металлургия (чёрная и цветна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Лесная и деревообрабатыв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Химическая (пластмассы, орг.хим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Пищевая промышлен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268360" y="810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Calibri"/>
              </a:rPr>
              <a:t>Сельское хозяйс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Мои документы\Света\1 сентября\Канада\20110214_canolafield.jpg"/>
          <p:cNvPicPr/>
          <p:nvPr/>
        </p:nvPicPr>
        <p:blipFill>
          <a:blip r:embed="rId1"/>
          <a:stretch/>
        </p:blipFill>
        <p:spPr>
          <a:xfrm>
            <a:off x="2987640" y="2652840"/>
            <a:ext cx="3240000" cy="2049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4920" y="714240"/>
            <a:ext cx="864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брабатываемые земли – 9% территории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Лидер по экспорту пшеницы на мировой рынок. Кукуруза, чечевица, рапс, табак, овощи. Фру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Животноводство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крупный рогатый скот, свиноводство, овцеводство, птицевод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ыболовство. Пушной хозяйство (норка, лисица, шиншилла, нутр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D:\Мои документы\Света\1 сентября\Канада\0_69c74_2e11b99e_XL.jpg"/>
          <p:cNvPicPr/>
          <p:nvPr/>
        </p:nvPicPr>
        <p:blipFill>
          <a:blip r:embed="rId2"/>
          <a:stretch/>
        </p:blipFill>
        <p:spPr>
          <a:xfrm>
            <a:off x="136440" y="5381640"/>
            <a:ext cx="2779920" cy="142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:\Мои документы\Света\1 сентября\Канада\24832-1u.jpg"/>
          <p:cNvPicPr/>
          <p:nvPr/>
        </p:nvPicPr>
        <p:blipFill>
          <a:blip r:embed="rId3"/>
          <a:stretch/>
        </p:blipFill>
        <p:spPr>
          <a:xfrm>
            <a:off x="2987640" y="4767120"/>
            <a:ext cx="3240000" cy="199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:\Мои документы\Света\1 сентября\Канада\1319109255_f18413007671301604922436.png"/>
          <p:cNvPicPr/>
          <p:nvPr/>
        </p:nvPicPr>
        <p:blipFill>
          <a:blip r:embed="rId4"/>
          <a:stretch/>
        </p:blipFill>
        <p:spPr>
          <a:xfrm>
            <a:off x="7740720" y="2179800"/>
            <a:ext cx="1297080" cy="176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:\Мои документы\Света\1 сентября\Канада\1311756957560.jpg"/>
          <p:cNvPicPr/>
          <p:nvPr/>
        </p:nvPicPr>
        <p:blipFill>
          <a:blip r:embed="rId5"/>
          <a:stretch/>
        </p:blipFill>
        <p:spPr>
          <a:xfrm>
            <a:off x="136440" y="2652840"/>
            <a:ext cx="2779920" cy="265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:\Мои документы\Света\1 сентября\Канада\a22.jpg"/>
          <p:cNvPicPr/>
          <p:nvPr/>
        </p:nvPicPr>
        <p:blipFill>
          <a:blip r:embed="rId6"/>
          <a:stretch/>
        </p:blipFill>
        <p:spPr>
          <a:xfrm>
            <a:off x="6300720" y="4032360"/>
            <a:ext cx="27370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619280" y="15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ранспор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835200"/>
          <a:ext cx="5999040" cy="3403440"/>
        </p:xfrm>
        <a:graphic>
          <a:graphicData uri="http://schemas.openxmlformats.org/drawingml/2006/table">
            <a:tbl>
              <a:tblPr/>
              <a:tblGrid>
                <a:gridCol w="3048120"/>
                <a:gridCol w="295092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анспортная отрас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в процен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душный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дорожный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обильный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земное и наземное ме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бопро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курсионный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4" descr="D:\Мои документы\Света\1 сентября\Канада\i (1).jpg"/>
          <p:cNvPicPr/>
          <p:nvPr/>
        </p:nvPicPr>
        <p:blipFill>
          <a:blip r:embed="rId1"/>
          <a:stretch/>
        </p:blipFill>
        <p:spPr>
          <a:xfrm>
            <a:off x="7129440" y="44280"/>
            <a:ext cx="1973160" cy="15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:\Мои документы\Света\1 сентября\Канада\Air_Canada_777.jpg"/>
          <p:cNvPicPr/>
          <p:nvPr/>
        </p:nvPicPr>
        <p:blipFill>
          <a:blip r:embed="rId2"/>
          <a:stretch/>
        </p:blipFill>
        <p:spPr>
          <a:xfrm>
            <a:off x="4967280" y="4316400"/>
            <a:ext cx="4143240" cy="2495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:\Мои документы\Света\1 сентября\Канада\i (20).jpg"/>
          <p:cNvPicPr/>
          <p:nvPr/>
        </p:nvPicPr>
        <p:blipFill>
          <a:blip r:embed="rId3"/>
          <a:stretch/>
        </p:blipFill>
        <p:spPr>
          <a:xfrm>
            <a:off x="6227640" y="1635120"/>
            <a:ext cx="1729080" cy="116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:\Мои документы\Света\1 сентября\Канада\i (10).jpg"/>
          <p:cNvPicPr/>
          <p:nvPr/>
        </p:nvPicPr>
        <p:blipFill>
          <a:blip r:embed="rId4"/>
          <a:stretch/>
        </p:blipFill>
        <p:spPr>
          <a:xfrm>
            <a:off x="7236000" y="2859120"/>
            <a:ext cx="1858680" cy="142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Мои документы\Света\1 сентября\Канада\r_p_7cea87aea3ca202b4db66df021fb29c9.jpg"/>
          <p:cNvPicPr/>
          <p:nvPr/>
        </p:nvPicPr>
        <p:blipFill>
          <a:blip r:embed="rId5"/>
          <a:stretch/>
        </p:blipFill>
        <p:spPr>
          <a:xfrm>
            <a:off x="92160" y="4316400"/>
            <a:ext cx="47671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611280" y="115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нешние экономические связ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Мои документы\Света\1 сентября\Канада\russia-canada.jpg"/>
          <p:cNvPicPr/>
          <p:nvPr/>
        </p:nvPicPr>
        <p:blipFill>
          <a:blip r:embed="rId1"/>
          <a:stretch/>
        </p:blipFill>
        <p:spPr>
          <a:xfrm>
            <a:off x="108000" y="4735440"/>
            <a:ext cx="2927160" cy="2027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468360" y="7650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й внешнеторговый партнёр – США (82%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и 3 место занимают Великобритания и Герм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:\Мои документы\Света\1 сентября\Канада\ref-1_1367069591-56852.coolpic"/>
          <p:cNvPicPr/>
          <p:nvPr/>
        </p:nvPicPr>
        <p:blipFill>
          <a:blip r:embed="rId2"/>
          <a:stretch/>
        </p:blipFill>
        <p:spPr>
          <a:xfrm>
            <a:off x="3130560" y="1916280"/>
            <a:ext cx="5921280" cy="3186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227160" y="3213000"/>
            <a:ext cx="280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ий товарооборот с Россией равен однодневному товарообороту с СШ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203640" y="551808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Канада – член ООН, НАТО, НАФТА, АТЭ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\Света\1 сентября\Канада\2529317.jpg"/>
          <p:cNvPicPr/>
          <p:nvPr/>
        </p:nvPicPr>
        <p:blipFill>
          <a:blip r:embed="rId1"/>
          <a:stretch/>
        </p:blipFill>
        <p:spPr>
          <a:xfrm>
            <a:off x="50760" y="61920"/>
            <a:ext cx="8985240" cy="67356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743040" y="115920"/>
            <a:ext cx="76626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D:\Мои документы\Света\1 сентября\Канада\r_p_c1dc0e1485d5b3026c246e6c6fe66920.jpg"/>
          <p:cNvPicPr/>
          <p:nvPr/>
        </p:nvPicPr>
        <p:blipFill>
          <a:blip r:embed="rId1"/>
          <a:stretch/>
        </p:blipFill>
        <p:spPr>
          <a:xfrm>
            <a:off x="5508720" y="4121280"/>
            <a:ext cx="3566880" cy="2676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D:\Мои документы\Света\1 сентября\Канада\r_p_e62691bcd9a66fc0f78d85b0c01339d5.jpg"/>
          <p:cNvPicPr/>
          <p:nvPr/>
        </p:nvPicPr>
        <p:blipFill>
          <a:blip r:embed="rId2"/>
          <a:stretch/>
        </p:blipFill>
        <p:spPr>
          <a:xfrm>
            <a:off x="2306520" y="4365720"/>
            <a:ext cx="3159360" cy="243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D:\Мои документы\Света\1 сентября\Канада\photo-55-ottawa-canada.jpg"/>
          <p:cNvPicPr/>
          <p:nvPr/>
        </p:nvPicPr>
        <p:blipFill>
          <a:blip r:embed="rId3"/>
          <a:stretch/>
        </p:blipFill>
        <p:spPr>
          <a:xfrm>
            <a:off x="2306520" y="1763640"/>
            <a:ext cx="3778200" cy="254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D:\Мои документы\Света\1 сентября\Канада\27724.jpg"/>
          <p:cNvPicPr/>
          <p:nvPr/>
        </p:nvPicPr>
        <p:blipFill>
          <a:blip r:embed="rId4"/>
          <a:stretch/>
        </p:blipFill>
        <p:spPr>
          <a:xfrm>
            <a:off x="46080" y="3214800"/>
            <a:ext cx="2222280" cy="3582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468360" y="7776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Calibri"/>
              </a:rPr>
              <a:t>Города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8" descr="D:\Мои документы\Света\1 сентября\Канада\port145613.jpg"/>
          <p:cNvPicPr/>
          <p:nvPr/>
        </p:nvPicPr>
        <p:blipFill>
          <a:blip r:embed="rId5"/>
          <a:stretch/>
        </p:blipFill>
        <p:spPr>
          <a:xfrm>
            <a:off x="5940360" y="77760"/>
            <a:ext cx="3135240" cy="2401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6227640" y="2565360"/>
            <a:ext cx="28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нреа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Торон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тт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анкув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9" descr="D:\Мои документы\Света\1 сентября\Канада\toronto-500x500.jpg"/>
          <p:cNvPicPr/>
          <p:nvPr/>
        </p:nvPicPr>
        <p:blipFill>
          <a:blip r:embed="rId6"/>
          <a:stretch/>
        </p:blipFill>
        <p:spPr>
          <a:xfrm>
            <a:off x="55440" y="933480"/>
            <a:ext cx="2212920" cy="2212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780000" y="189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Квеб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Калга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иннип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5840" y="549360"/>
            <a:ext cx="871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размерам территории занимает 2-е место в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ся к страна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ой семёр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ит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ружество государст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ит в союз НАФ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её территории находится Ниагарский водоп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Мои документы\Света\1 сентября\Канада\lm_canad.jpg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79280" y="115920"/>
            <a:ext cx="885672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 нас слишком много географии и слишком мало истори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аккензи Ки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аждого канадца (включая грудных детей) приходится по 30 га полей и лесов, гор и болот. На каждых семерых – по озеру. На каждую семью – если не по реке, то по большому руч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ходится на материке Северная Америка (в северном и западном полушария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юге и северо-западе граничит с С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лощади занимает 2-е место в мире(10 млн. кв.к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паде омывается водами Тихого океана, на востоке – Атлантического, на севере – Северного Ледовит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выгодное экономико-географическое положение между Европой, Азией и Латинской Амер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Мои документы\Света\1 сентября\Канада\r_p_ffc1a5008666c2b64602838d1917d2ed.jpg"/>
          <p:cNvPicPr/>
          <p:nvPr/>
        </p:nvPicPr>
        <p:blipFill>
          <a:blip r:embed="rId1"/>
          <a:stretch/>
        </p:blipFill>
        <p:spPr>
          <a:xfrm>
            <a:off x="34920" y="33480"/>
            <a:ext cx="5079960" cy="3549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5219640" y="11592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рироде Канада схожа с Росс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ные зоны сильно сдвинуты на юг. Иногда в Монреале можно видеть северное сияние (широта Симферополя, климат как в Москв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D:\Мои документы\Света\1 сентября\Канада\8681b55a-02ba-45f0-beb5-c50d3b76555d.jpg"/>
          <p:cNvPicPr/>
          <p:nvPr/>
        </p:nvPicPr>
        <p:blipFill>
          <a:blip r:embed="rId2"/>
          <a:stretch/>
        </p:blipFill>
        <p:spPr>
          <a:xfrm>
            <a:off x="34920" y="3641760"/>
            <a:ext cx="90741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240" y="63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Мои документы\Света\1 сентября\Канада\0266390331.jpg"/>
          <p:cNvPicPr/>
          <p:nvPr/>
        </p:nvPicPr>
        <p:blipFill>
          <a:blip r:embed="rId2"/>
          <a:stretch/>
        </p:blipFill>
        <p:spPr>
          <a:xfrm>
            <a:off x="4462560" y="2481120"/>
            <a:ext cx="4649760" cy="4365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5010120" y="3254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и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“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От моря до моря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D:\Мои документы\Света\1 сентября\Канада\250px-Canada_Parliament2.jpg"/>
          <p:cNvPicPr/>
          <p:nvPr/>
        </p:nvPicPr>
        <p:blipFill>
          <a:blip r:embed="rId3"/>
          <a:stretch/>
        </p:blipFill>
        <p:spPr>
          <a:xfrm>
            <a:off x="36360" y="3673440"/>
            <a:ext cx="4319640" cy="31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556000" y="3789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адский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т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Мои документы\Света\1 сентября\Канада\Elizabeth_II_greets_NASA_GSFC_employees,_May_8,_2007_edit.jpg"/>
          <p:cNvPicPr/>
          <p:nvPr/>
        </p:nvPicPr>
        <p:blipFill>
          <a:blip r:embed="rId1"/>
          <a:stretch/>
        </p:blipFill>
        <p:spPr>
          <a:xfrm>
            <a:off x="34920" y="44280"/>
            <a:ext cx="4876920" cy="6751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5076720" y="22212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правления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конституционная монарх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5219640" y="1844640"/>
            <a:ext cx="36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ада – государство, входящее в Британское Содружество, и формально главой государства является британская корол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ым представителем в Канаде является генерал-губернатор, назначаемый королевой по совету премьер-минист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Мои документы\Света\1 сентября\Канада\map.jpg"/>
          <p:cNvPicPr/>
          <p:nvPr/>
        </p:nvPicPr>
        <p:blipFill>
          <a:blip r:embed="rId1"/>
          <a:stretch/>
        </p:blipFill>
        <p:spPr>
          <a:xfrm>
            <a:off x="108000" y="993600"/>
            <a:ext cx="6551640" cy="5767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5092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Кана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– федеративное государство</a:t>
            </a:r>
            <a:r>
              <a:rPr b="0" i="1" lang="en-US" sz="3200" spc="-1" strike="noStrike">
                <a:solidFill>
                  <a:srgbClr val="558ed5"/>
                </a:solidFill>
                <a:latin typeface="Calibri"/>
              </a:rPr>
              <a:t>:</a:t>
            </a: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6742080" y="1341360"/>
            <a:ext cx="22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0 провинц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 терри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7:28:47Z</dcterms:created>
  <dc:creator>Михаил</dc:creator>
  <dc:description/>
  <dc:language>en-US</dc:language>
  <cp:lastModifiedBy>Иван</cp:lastModifiedBy>
  <dcterms:modified xsi:type="dcterms:W3CDTF">2014-01-25T20:04:05Z</dcterms:modified>
  <cp:revision>50</cp:revision>
  <dc:subject/>
  <dc:title>Презентация PowerPoint</dc:title>
</cp:coreProperties>
</file>