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9.jpeg" ContentType="image/jpeg"/>
  <Override PartName="/ppt/media/image42.jpeg" ContentType="image/jpeg"/>
  <Override PartName="/ppt/media/image33.jpeg" ContentType="image/jpeg"/>
  <Override PartName="/ppt/media/image12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31.png" ContentType="image/png"/>
  <Override PartName="/ppt/media/image47.jpeg" ContentType="image/jpeg"/>
  <Override PartName="/ppt/media/image48.jpeg" ContentType="image/jpeg"/>
  <Override PartName="/ppt/media/image32.jpeg" ContentType="image/jpeg"/>
  <Override PartName="/ppt/media/image38.jpeg" ContentType="image/jpeg"/>
  <Override PartName="/ppt/media/image49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11.png" ContentType="image/png"/>
  <Override PartName="/ppt/media/image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E8A0-CD0B-4869-8311-6774CF908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8DE6-0F7E-418C-AB3E-D8BEFA0D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1CD9-E4A2-4B32-9234-315BB8A7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9F2-1F9B-4CBC-83CC-18DEEB60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B853-26C3-434F-89D8-5BDC1E2E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6CA7-B80F-4A2C-B4F2-2606CB3B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F77E-49C5-46A6-8212-77E85041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BA76-93C3-41C5-8ED0-CB963FE1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6E84-28A2-4159-AFEE-43CF4849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2343-8701-4061-BC8F-8D20234D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9960-E612-4D4D-BBBD-13FA1B8C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2B7A-9082-495E-B150-79A919BA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8477-3CA1-4E94-AC54-59C3B0AFAE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Мои документы\Света\1 сентября\Канада\maple_syrup-300.jpg"/>
          <p:cNvPicPr/>
          <p:nvPr/>
        </p:nvPicPr>
        <p:blipFill>
          <a:blip r:embed="rId1"/>
          <a:stretch/>
        </p:blipFill>
        <p:spPr>
          <a:xfrm>
            <a:off x="108000" y="52560"/>
            <a:ext cx="2232000" cy="2976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D:\Мои документы\Света\1 сентября\Канада\88cc843223c1ada0-large.jpg"/>
          <p:cNvPicPr/>
          <p:nvPr/>
        </p:nvPicPr>
        <p:blipFill>
          <a:blip r:embed="rId2"/>
          <a:stretch/>
        </p:blipFill>
        <p:spPr>
          <a:xfrm>
            <a:off x="4670280" y="52560"/>
            <a:ext cx="4365720" cy="2976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D:\Мои документы\Света\1 сентября\Канада\2989444_f260.jpg"/>
          <p:cNvPicPr/>
          <p:nvPr/>
        </p:nvPicPr>
        <p:blipFill>
          <a:blip r:embed="rId3"/>
          <a:stretch/>
        </p:blipFill>
        <p:spPr>
          <a:xfrm>
            <a:off x="108000" y="3103560"/>
            <a:ext cx="3024000" cy="37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D:\Мои документы\Света\1 сентября\Канада\0_56f29_4c388342_XL.jpg"/>
          <p:cNvPicPr/>
          <p:nvPr/>
        </p:nvPicPr>
        <p:blipFill>
          <a:blip r:embed="rId4"/>
          <a:stretch/>
        </p:blipFill>
        <p:spPr>
          <a:xfrm>
            <a:off x="3276720" y="3103560"/>
            <a:ext cx="5759280" cy="3726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2411280" y="58680"/>
            <a:ext cx="21607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4805280" y="82440"/>
            <a:ext cx="502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53735"/>
                </a:solidFill>
                <a:latin typeface="Calibri"/>
              </a:rPr>
              <a:t>Природные ресурс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D:\Мои документы\Света\1 сентября\Канада\r_p_0fb933de6d6d073d901cebdfb9e1d801.jpg"/>
          <p:cNvPicPr/>
          <p:nvPr/>
        </p:nvPicPr>
        <p:blipFill>
          <a:blip r:embed="rId1"/>
          <a:stretch/>
        </p:blipFill>
        <p:spPr>
          <a:xfrm>
            <a:off x="34920" y="3357720"/>
            <a:ext cx="4925880" cy="3406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D:\Мои документы\Света\1 сентября\Канада\r_p_05a78ec67d029ba034977e00619fe029.jpg"/>
          <p:cNvPicPr/>
          <p:nvPr/>
        </p:nvPicPr>
        <p:blipFill>
          <a:blip r:embed="rId2"/>
          <a:stretch/>
        </p:blipFill>
        <p:spPr>
          <a:xfrm>
            <a:off x="5040360" y="968400"/>
            <a:ext cx="4016160" cy="579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D:\Мои документы\Света\1 сентября\Канада\magdalen_islands.jpg"/>
          <p:cNvPicPr/>
          <p:nvPr/>
        </p:nvPicPr>
        <p:blipFill>
          <a:blip r:embed="rId3"/>
          <a:stretch/>
        </p:blipFill>
        <p:spPr>
          <a:xfrm>
            <a:off x="108000" y="115920"/>
            <a:ext cx="46972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:\Мои документы\Света\1 сентября\Канада\220px-Moraine_Lake-Banff_NP.JPG"/>
          <p:cNvPicPr/>
          <p:nvPr/>
        </p:nvPicPr>
        <p:blipFill>
          <a:blip r:embed="rId1"/>
          <a:stretch/>
        </p:blipFill>
        <p:spPr>
          <a:xfrm>
            <a:off x="4788000" y="3716280"/>
            <a:ext cx="4262400" cy="3051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D:\Мои документы\Света\1 сентября\Канада\r_p_2d55e0649bf25588daf42985936ef1fc.jpg"/>
          <p:cNvPicPr/>
          <p:nvPr/>
        </p:nvPicPr>
        <p:blipFill>
          <a:blip r:embed="rId2"/>
          <a:stretch/>
        </p:blipFill>
        <p:spPr>
          <a:xfrm>
            <a:off x="4371840" y="44280"/>
            <a:ext cx="4703760" cy="3529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D:\Мои документы\Света\1 сентября\Канада\r_p_ffc1a5008666c2b64602838d1917d2ed.jpg"/>
          <p:cNvPicPr/>
          <p:nvPr/>
        </p:nvPicPr>
        <p:blipFill>
          <a:blip r:embed="rId3"/>
          <a:stretch/>
        </p:blipFill>
        <p:spPr>
          <a:xfrm>
            <a:off x="90360" y="3573360"/>
            <a:ext cx="4579920" cy="320040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250920" y="115920"/>
            <a:ext cx="388944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</a:rPr>
              <a:t>Водные ресурс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анада занима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-е место в мир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о запасам пресной во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D:\Мои документы\Света\1 сентября\Канада\407.jpg"/>
          <p:cNvPicPr/>
          <p:nvPr/>
        </p:nvPicPr>
        <p:blipFill>
          <a:blip r:embed="rId1"/>
          <a:stretch/>
        </p:blipFill>
        <p:spPr>
          <a:xfrm>
            <a:off x="468360" y="723960"/>
            <a:ext cx="8136000" cy="6102360"/>
          </a:xfrm>
          <a:prstGeom prst="rect">
            <a:avLst/>
          </a:prstGeom>
          <a:ln w="0">
            <a:noFill/>
          </a:ln>
        </p:spPr>
      </p:pic>
      <p:sp>
        <p:nvSpPr>
          <p:cNvPr id="74" name="TextBox 1"/>
          <p:cNvSpPr/>
          <p:nvPr/>
        </p:nvSpPr>
        <p:spPr>
          <a:xfrm>
            <a:off x="2340000" y="5502240"/>
            <a:ext cx="611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трана занимает 1-е место в мире по запасам древесины на душу населе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358920" y="763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Calibri"/>
              </a:rPr>
              <a:t>Лесные ресурс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318960" y="212760"/>
            <a:ext cx="79218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Calibri"/>
              </a:rPr>
              <a:t>Минеральные ресурс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пливны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ефть, газ, угол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территории страны сосредоточе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ировых запасов цинка и никеля, серебра, плати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 урана и свинца, 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 железных руд, титана, ме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ть месторождения золота, асбеста, калийных со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D:\Мои документы\Света\1 сентября\Канада\i (11).jpg"/>
          <p:cNvPicPr/>
          <p:nvPr/>
        </p:nvPicPr>
        <p:blipFill>
          <a:blip r:embed="rId1"/>
          <a:stretch/>
        </p:blipFill>
        <p:spPr>
          <a:xfrm>
            <a:off x="468360" y="436572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D:\Мои документы\Света\1 сентября\Канада\i (7).jpg"/>
          <p:cNvPicPr/>
          <p:nvPr/>
        </p:nvPicPr>
        <p:blipFill>
          <a:blip r:embed="rId2"/>
          <a:stretch/>
        </p:blipFill>
        <p:spPr>
          <a:xfrm>
            <a:off x="3851280" y="4726080"/>
            <a:ext cx="2131920" cy="1604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D:\Мои документы\Света\1 сентября\Канада\i (5).jpg"/>
          <p:cNvPicPr/>
          <p:nvPr/>
        </p:nvPicPr>
        <p:blipFill>
          <a:blip r:embed="rId3"/>
          <a:stretch/>
        </p:blipFill>
        <p:spPr>
          <a:xfrm>
            <a:off x="7137360" y="4365720"/>
            <a:ext cx="1819440" cy="122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D:\Мои документы\Света\1 сентября\Канада\i (13).jpg"/>
          <p:cNvPicPr/>
          <p:nvPr/>
        </p:nvPicPr>
        <p:blipFill>
          <a:blip r:embed="rId4"/>
          <a:stretch/>
        </p:blipFill>
        <p:spPr>
          <a:xfrm>
            <a:off x="7380360" y="115920"/>
            <a:ext cx="172080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D:\Мои документы\Света\1 сентября\Канада\r_p_1ff7862ddf1fcdf024079d376efdb920.jpg"/>
          <p:cNvPicPr/>
          <p:nvPr/>
        </p:nvPicPr>
        <p:blipFill>
          <a:blip r:embed="rId1"/>
          <a:stretch/>
        </p:blipFill>
        <p:spPr>
          <a:xfrm>
            <a:off x="108000" y="3357720"/>
            <a:ext cx="5079960" cy="338436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2195640" y="1872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Calibri"/>
              </a:rPr>
              <a:t>Насел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D:\Мои документы\Света\1 сентября\Канада\i (17).jpg"/>
          <p:cNvPicPr/>
          <p:nvPr/>
        </p:nvPicPr>
        <p:blipFill>
          <a:blip r:embed="rId2"/>
          <a:stretch/>
        </p:blipFill>
        <p:spPr>
          <a:xfrm>
            <a:off x="179280" y="866880"/>
            <a:ext cx="1893960" cy="2201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D:\Мои документы\Света\1 сентября\Канада\i (15).jpg"/>
          <p:cNvPicPr/>
          <p:nvPr/>
        </p:nvPicPr>
        <p:blipFill>
          <a:blip r:embed="rId3"/>
          <a:stretch/>
        </p:blipFill>
        <p:spPr>
          <a:xfrm>
            <a:off x="6948360" y="150840"/>
            <a:ext cx="2076480" cy="2076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2195640" y="866880"/>
            <a:ext cx="50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34 млн. человек (2010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Плотность – 3,4 чел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/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кв.к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Многонациональная стра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2 официальных языка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: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английский, французск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Преобладает женское насел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8" descr="D:\Мои документы\Света\1 сентября\Канада\i (19).jpg"/>
          <p:cNvPicPr/>
          <p:nvPr/>
        </p:nvPicPr>
        <p:blipFill>
          <a:blip r:embed="rId4"/>
          <a:stretch/>
        </p:blipFill>
        <p:spPr>
          <a:xfrm>
            <a:off x="7056360" y="4786200"/>
            <a:ext cx="1954440" cy="195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5580000" y="3192480"/>
            <a:ext cx="344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Религия – христианст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Средняя продолжительность жизни – 78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237960" y="18432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1859c"/>
                </a:solidFill>
                <a:latin typeface="Calibri"/>
              </a:rPr>
              <a:t>Экономика стра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Диаграмма 2" descr=""/>
          <p:cNvPicPr/>
          <p:nvPr/>
        </p:nvPicPr>
        <p:blipFill>
          <a:blip r:embed="rId1"/>
          <a:stretch/>
        </p:blipFill>
        <p:spPr>
          <a:xfrm>
            <a:off x="776160" y="717480"/>
            <a:ext cx="7950240" cy="530244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1619280" y="5445000"/>
            <a:ext cx="852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ВВП  47 066 $ на душу насе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187280" y="1890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ромышлен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324000" y="1197000"/>
            <a:ext cx="864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Calibri"/>
              </a:rPr>
              <a:t>Горнодобывающая ( нефть, газ, уголь, железная руда, уран, медь, никель, цинк, асбест, калий, золото, серебро, платин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Calibri"/>
              </a:rPr>
              <a:t>электроэнергетика (6-е место в мире). ГЭС – 61%, АЭС – 18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Calibri"/>
              </a:rPr>
              <a:t>Машиностроение (автомобили, авиатехника, радиоэлектроника, приборы, станк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Calibri"/>
              </a:rPr>
              <a:t>Металлургия (чёрная и цветна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Calibri"/>
              </a:rPr>
              <a:t>Лесная и деревообрабатывающ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Calibri"/>
              </a:rPr>
              <a:t>Химическая (пластмассы, орг.хим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Calibri"/>
              </a:rPr>
              <a:t>Пищевая промышлен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2268360" y="81000"/>
            <a:ext cx="63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53735"/>
                </a:solidFill>
                <a:latin typeface="Calibri"/>
              </a:rPr>
              <a:t>Сельское хозяйств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D:\Мои документы\Света\1 сентября\Канада\20110214_canolafield.jpg"/>
          <p:cNvPicPr/>
          <p:nvPr/>
        </p:nvPicPr>
        <p:blipFill>
          <a:blip r:embed="rId1"/>
          <a:stretch/>
        </p:blipFill>
        <p:spPr>
          <a:xfrm>
            <a:off x="2987640" y="2652840"/>
            <a:ext cx="3240000" cy="204948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34920" y="714240"/>
            <a:ext cx="864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Обрабатываемые земли – 9% территории стра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Лидер по экспорту пшеницы на мировой рынок. Кукуруза, чечевица, рапс, табак, овощи. Фрук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Животноводство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: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крупный рогатый скот, свиноводство, овцеводство, птицевод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Рыболовство. Пушной хозяйство (норка, лисица, шиншилла, нутр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D:\Мои документы\Света\1 сентября\Канада\0_69c74_2e11b99e_XL.jpg"/>
          <p:cNvPicPr/>
          <p:nvPr/>
        </p:nvPicPr>
        <p:blipFill>
          <a:blip r:embed="rId2"/>
          <a:stretch/>
        </p:blipFill>
        <p:spPr>
          <a:xfrm>
            <a:off x="136440" y="5381640"/>
            <a:ext cx="2779920" cy="1420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D:\Мои документы\Света\1 сентября\Канада\24832-1u.jpg"/>
          <p:cNvPicPr/>
          <p:nvPr/>
        </p:nvPicPr>
        <p:blipFill>
          <a:blip r:embed="rId3"/>
          <a:stretch/>
        </p:blipFill>
        <p:spPr>
          <a:xfrm>
            <a:off x="2987640" y="4767120"/>
            <a:ext cx="3240000" cy="199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D:\Мои документы\Света\1 сентября\Канада\1319109255_f18413007671301604922436.png"/>
          <p:cNvPicPr/>
          <p:nvPr/>
        </p:nvPicPr>
        <p:blipFill>
          <a:blip r:embed="rId4"/>
          <a:stretch/>
        </p:blipFill>
        <p:spPr>
          <a:xfrm>
            <a:off x="7740720" y="2179800"/>
            <a:ext cx="1297080" cy="176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D:\Мои документы\Света\1 сентября\Канада\1311756957560.jpg"/>
          <p:cNvPicPr/>
          <p:nvPr/>
        </p:nvPicPr>
        <p:blipFill>
          <a:blip r:embed="rId5"/>
          <a:stretch/>
        </p:blipFill>
        <p:spPr>
          <a:xfrm>
            <a:off x="136440" y="2652840"/>
            <a:ext cx="2779920" cy="2658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D:\Мои документы\Света\1 сентября\Канада\a22.jpg"/>
          <p:cNvPicPr/>
          <p:nvPr/>
        </p:nvPicPr>
        <p:blipFill>
          <a:blip r:embed="rId6"/>
          <a:stretch/>
        </p:blipFill>
        <p:spPr>
          <a:xfrm>
            <a:off x="6300720" y="4032360"/>
            <a:ext cx="273708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1619280" y="15228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Транспор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8000" y="835200"/>
          <a:ext cx="5999040" cy="3403440"/>
        </p:xfrm>
        <a:graphic>
          <a:graphicData uri="http://schemas.openxmlformats.org/drawingml/2006/table">
            <a:tbl>
              <a:tblPr/>
              <a:tblGrid>
                <a:gridCol w="3048120"/>
                <a:gridCol w="2950920"/>
              </a:tblGrid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ранспортная отрас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ля в процен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душный транспо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езнодорожный транспо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мобильный транспо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земное и наземное мет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бопро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курсионный транспо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03" name="Picture 4" descr="D:\Мои документы\Света\1 сентября\Канада\i (1).jpg"/>
          <p:cNvPicPr/>
          <p:nvPr/>
        </p:nvPicPr>
        <p:blipFill>
          <a:blip r:embed="rId1"/>
          <a:stretch/>
        </p:blipFill>
        <p:spPr>
          <a:xfrm>
            <a:off x="7129440" y="44280"/>
            <a:ext cx="1973160" cy="1552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D:\Мои документы\Света\1 сентября\Канада\Air_Canada_777.jpg"/>
          <p:cNvPicPr/>
          <p:nvPr/>
        </p:nvPicPr>
        <p:blipFill>
          <a:blip r:embed="rId2"/>
          <a:stretch/>
        </p:blipFill>
        <p:spPr>
          <a:xfrm>
            <a:off x="4967280" y="4316400"/>
            <a:ext cx="4143240" cy="2495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D:\Мои документы\Света\1 сентября\Канада\i (20).jpg"/>
          <p:cNvPicPr/>
          <p:nvPr/>
        </p:nvPicPr>
        <p:blipFill>
          <a:blip r:embed="rId3"/>
          <a:stretch/>
        </p:blipFill>
        <p:spPr>
          <a:xfrm>
            <a:off x="6227640" y="1635120"/>
            <a:ext cx="1729080" cy="116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D:\Мои документы\Света\1 сентября\Канада\i (10).jpg"/>
          <p:cNvPicPr/>
          <p:nvPr/>
        </p:nvPicPr>
        <p:blipFill>
          <a:blip r:embed="rId4"/>
          <a:stretch/>
        </p:blipFill>
        <p:spPr>
          <a:xfrm>
            <a:off x="7236000" y="2859120"/>
            <a:ext cx="1858680" cy="1423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D:\Мои документы\Света\1 сентября\Канада\r_p_7cea87aea3ca202b4db66df021fb29c9.jpg"/>
          <p:cNvPicPr/>
          <p:nvPr/>
        </p:nvPicPr>
        <p:blipFill>
          <a:blip r:embed="rId5"/>
          <a:stretch/>
        </p:blipFill>
        <p:spPr>
          <a:xfrm>
            <a:off x="92160" y="4316400"/>
            <a:ext cx="47671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611280" y="11592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Внешние экономические связ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D:\Мои документы\Света\1 сентября\Канада\russia-canada.jpg"/>
          <p:cNvPicPr/>
          <p:nvPr/>
        </p:nvPicPr>
        <p:blipFill>
          <a:blip r:embed="rId1"/>
          <a:stretch/>
        </p:blipFill>
        <p:spPr>
          <a:xfrm>
            <a:off x="108000" y="4735440"/>
            <a:ext cx="2927160" cy="20271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"/>
          <p:cNvSpPr/>
          <p:nvPr/>
        </p:nvSpPr>
        <p:spPr>
          <a:xfrm>
            <a:off x="468360" y="76500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лавный внешнеторговый партнёр – США (82%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 и 3 место занимают Великобритания и Герм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D:\Мои документы\Света\1 сентября\Канада\ref-1_1367069591-56852.coolpic"/>
          <p:cNvPicPr/>
          <p:nvPr/>
        </p:nvPicPr>
        <p:blipFill>
          <a:blip r:embed="rId2"/>
          <a:stretch/>
        </p:blipFill>
        <p:spPr>
          <a:xfrm>
            <a:off x="3130560" y="1916280"/>
            <a:ext cx="5921280" cy="31860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4"/>
          <p:cNvSpPr/>
          <p:nvPr/>
        </p:nvSpPr>
        <p:spPr>
          <a:xfrm>
            <a:off x="227160" y="3213000"/>
            <a:ext cx="280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щий товарооборот с Россией равен однодневному товарообороту с СШ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3203640" y="5518080"/>
            <a:ext cx="59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4a7b"/>
                </a:solidFill>
                <a:latin typeface="Calibri"/>
              </a:rPr>
              <a:t>Канада – член ООН, НАТО, НАФТА, АТЭ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Мои документы\Света\1 сентября\Канада\2529317.jpg"/>
          <p:cNvPicPr/>
          <p:nvPr/>
        </p:nvPicPr>
        <p:blipFill>
          <a:blip r:embed="rId1"/>
          <a:stretch/>
        </p:blipFill>
        <p:spPr>
          <a:xfrm>
            <a:off x="50760" y="61920"/>
            <a:ext cx="8985240" cy="67356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4" descr=""/>
          <p:cNvPicPr/>
          <p:nvPr/>
        </p:nvPicPr>
        <p:blipFill>
          <a:blip r:embed="rId2"/>
          <a:stretch/>
        </p:blipFill>
        <p:spPr>
          <a:xfrm>
            <a:off x="743040" y="115920"/>
            <a:ext cx="76626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9" descr="D:\Мои документы\Света\1 сентября\Канада\r_p_c1dc0e1485d5b3026c246e6c6fe66920.jpg"/>
          <p:cNvPicPr/>
          <p:nvPr/>
        </p:nvPicPr>
        <p:blipFill>
          <a:blip r:embed="rId1"/>
          <a:stretch/>
        </p:blipFill>
        <p:spPr>
          <a:xfrm>
            <a:off x="5508720" y="4121280"/>
            <a:ext cx="3566880" cy="2676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D:\Мои документы\Света\1 сентября\Канада\r_p_e62691bcd9a66fc0f78d85b0c01339d5.jpg"/>
          <p:cNvPicPr/>
          <p:nvPr/>
        </p:nvPicPr>
        <p:blipFill>
          <a:blip r:embed="rId2"/>
          <a:stretch/>
        </p:blipFill>
        <p:spPr>
          <a:xfrm>
            <a:off x="2306520" y="4365720"/>
            <a:ext cx="3159360" cy="243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D:\Мои документы\Света\1 сентября\Канада\photo-55-ottawa-canada.jpg"/>
          <p:cNvPicPr/>
          <p:nvPr/>
        </p:nvPicPr>
        <p:blipFill>
          <a:blip r:embed="rId3"/>
          <a:stretch/>
        </p:blipFill>
        <p:spPr>
          <a:xfrm>
            <a:off x="2306520" y="1763640"/>
            <a:ext cx="3778200" cy="2548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D:\Мои документы\Света\1 сентября\Канада\27724.jpg"/>
          <p:cNvPicPr/>
          <p:nvPr/>
        </p:nvPicPr>
        <p:blipFill>
          <a:blip r:embed="rId4"/>
          <a:stretch/>
        </p:blipFill>
        <p:spPr>
          <a:xfrm>
            <a:off x="46080" y="3214800"/>
            <a:ext cx="2222280" cy="35827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468360" y="7776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58ed5"/>
                </a:solidFill>
                <a:latin typeface="Calibri"/>
              </a:rPr>
              <a:t>Города Кана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8" descr="D:\Мои документы\Света\1 сентября\Канада\port145613.jpg"/>
          <p:cNvPicPr/>
          <p:nvPr/>
        </p:nvPicPr>
        <p:blipFill>
          <a:blip r:embed="rId5"/>
          <a:stretch/>
        </p:blipFill>
        <p:spPr>
          <a:xfrm>
            <a:off x="5940360" y="77760"/>
            <a:ext cx="3135240" cy="24019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6227640" y="2565360"/>
            <a:ext cx="284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Монреа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Торон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Отт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Ванкув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9" descr="D:\Мои документы\Света\1 сентября\Канада\toronto-500x500.jpg"/>
          <p:cNvPicPr/>
          <p:nvPr/>
        </p:nvPicPr>
        <p:blipFill>
          <a:blip r:embed="rId6"/>
          <a:stretch/>
        </p:blipFill>
        <p:spPr>
          <a:xfrm>
            <a:off x="55440" y="933480"/>
            <a:ext cx="2212920" cy="22129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780000" y="1890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Квеб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Калга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Виннипе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85840" y="549360"/>
            <a:ext cx="8712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размерам территории занимает 2-е место в ми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носится к страна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ьшой семёр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ходит 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дружество государст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ходит в союз НАФ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её территории находится Ниагарский водоп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Мои документы\Света\1 сентября\Канада\lm_canad.jpg"/>
          <p:cNvPicPr/>
          <p:nvPr/>
        </p:nvPicPr>
        <p:blipFill>
          <a:blip r:embed="rId1"/>
          <a:stretch/>
        </p:blipFill>
        <p:spPr>
          <a:xfrm>
            <a:off x="1116000" y="0"/>
            <a:ext cx="684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79280" y="115920"/>
            <a:ext cx="8856720" cy="62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еографическое поло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У нас слишком много географии и слишком мало истории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Маккензи Кин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каждого канадца (включая грудных детей) приходится по 30 га полей и лесов, гор и болот. На каждых семерых – по озеру. На каждую семью – если не по реке, то по большому ручь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ходится на материке Северная Америка (в северном и западном полушария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юге и северо-западе граничит с СШ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площади занимает 2-е место в мире(10 млн. кв.к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западе омывается водами Тихого океана, на востоке – Атлантического, на севере – Северного Ледовит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еет выгодное экономико-географическое положение между Европой, Азией и Латинской Амери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Мои документы\Света\1 сентября\Канада\r_p_ffc1a5008666c2b64602838d1917d2ed.jpg"/>
          <p:cNvPicPr/>
          <p:nvPr/>
        </p:nvPicPr>
        <p:blipFill>
          <a:blip r:embed="rId1"/>
          <a:stretch/>
        </p:blipFill>
        <p:spPr>
          <a:xfrm>
            <a:off x="34920" y="33480"/>
            <a:ext cx="5079960" cy="354960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5219640" y="115920"/>
            <a:ext cx="38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природе Канада схожа с Росси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родные зоны сильно сдвинуты на юг. Иногда в Монреале можно видеть северное сияние (широта Симферополя, климат как в Москве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D:\Мои документы\Света\1 сентября\Канада\8681b55a-02ba-45f0-beb5-c50d3b76555d.jpg"/>
          <p:cNvPicPr/>
          <p:nvPr/>
        </p:nvPicPr>
        <p:blipFill>
          <a:blip r:embed="rId2"/>
          <a:stretch/>
        </p:blipFill>
        <p:spPr>
          <a:xfrm>
            <a:off x="34920" y="3641760"/>
            <a:ext cx="907416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0240" y="63360"/>
            <a:ext cx="4751280" cy="356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D:\Мои документы\Света\1 сентября\Канада\0266390331.jpg"/>
          <p:cNvPicPr/>
          <p:nvPr/>
        </p:nvPicPr>
        <p:blipFill>
          <a:blip r:embed="rId2"/>
          <a:stretch/>
        </p:blipFill>
        <p:spPr>
          <a:xfrm>
            <a:off x="4462560" y="2481120"/>
            <a:ext cx="4649760" cy="436572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5010120" y="32544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виз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 “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От моря до моря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 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D:\Мои документы\Света\1 сентября\Канада\250px-Canada_Parliament2.jpg"/>
          <p:cNvPicPr/>
          <p:nvPr/>
        </p:nvPicPr>
        <p:blipFill>
          <a:blip r:embed="rId3"/>
          <a:stretch/>
        </p:blipFill>
        <p:spPr>
          <a:xfrm>
            <a:off x="36360" y="3673440"/>
            <a:ext cx="4319640" cy="3159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2556000" y="378936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надский пар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т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Мои документы\Света\1 сентября\Канада\Elizabeth_II_greets_NASA_GSFC_employees,_May_8,_2007_edit.jpg"/>
          <p:cNvPicPr/>
          <p:nvPr/>
        </p:nvPicPr>
        <p:blipFill>
          <a:blip r:embed="rId1"/>
          <a:stretch/>
        </p:blipFill>
        <p:spPr>
          <a:xfrm>
            <a:off x="34920" y="44280"/>
            <a:ext cx="4876920" cy="6751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1"/>
          <p:cNvSpPr/>
          <p:nvPr/>
        </p:nvSpPr>
        <p:spPr>
          <a:xfrm>
            <a:off x="5076720" y="222120"/>
            <a:ext cx="40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правления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конституционная монарх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5219640" y="1844640"/>
            <a:ext cx="360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нада – государство, входящее в Британское Содружество, и формально главой государства является британская короле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фициальным представителем в Канаде является генерал-губернатор, назначаемый королевой по совету премьер-министр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Мои документы\Света\1 сентября\Канада\map.jpg"/>
          <p:cNvPicPr/>
          <p:nvPr/>
        </p:nvPicPr>
        <p:blipFill>
          <a:blip r:embed="rId1"/>
          <a:stretch/>
        </p:blipFill>
        <p:spPr>
          <a:xfrm>
            <a:off x="108000" y="993600"/>
            <a:ext cx="6551640" cy="576756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250920" y="260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alibri"/>
              </a:rPr>
              <a:t>Канад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558ed5"/>
                </a:solidFill>
                <a:latin typeface="Calibri"/>
              </a:rPr>
              <a:t>– федеративное государство</a:t>
            </a:r>
            <a:r>
              <a:rPr b="0" i="1" lang="en-US" sz="3200" spc="-1" strike="noStrike">
                <a:solidFill>
                  <a:srgbClr val="558ed5"/>
                </a:solidFill>
                <a:latin typeface="Calibri"/>
              </a:rPr>
              <a:t>:</a:t>
            </a:r>
            <a:r>
              <a:rPr b="0" i="1" lang="ru-RU" sz="32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6742080" y="1341360"/>
            <a:ext cx="223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10 провинци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3 террит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7:28:47Z</dcterms:created>
  <dc:creator>Михаил</dc:creator>
  <dc:description/>
  <dc:language>en-US</dc:language>
  <cp:lastModifiedBy>Иван</cp:lastModifiedBy>
  <dcterms:modified xsi:type="dcterms:W3CDTF">2014-01-25T20:04:05Z</dcterms:modified>
  <cp:revision>50</cp:revision>
  <dc:subject/>
  <dc:title>Презентация PowerPoint</dc:title>
</cp:coreProperties>
</file>