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77252-7B2B-44F0-8D4B-850709C4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F9323-4A11-4EB0-97F8-D865B9AB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2AFAC-3EB3-4FAC-BF9D-091F6873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3AE1A-C872-4F3B-8372-6BD63EF8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65CB-E1DB-4BB9-8696-D953EBA4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B21C-8EE6-4C3C-A1A6-08DE95BB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5C6B-4879-444F-96C4-861A0B61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D184-EA02-4396-9395-406B5F3E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F922-53A7-422B-A1A6-8B7F1A21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A72C-CEF0-43D0-B5E1-70EA360C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DA47-AD18-44BC-B6FD-7C6B1D51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1182C-776F-4D17-B8B9-DDE09429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7E4B-EFE7-424C-B2C9-10B598E7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C3AA-FD23-4AE3-B774-294A928F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3C84-7990-486D-82A7-E07FBB83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3315-F6C5-4A9F-B65B-F10BA563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B89B-2490-4961-B9E9-58524E81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A0BD-6E7E-476E-A765-7E541C6B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9EB79-6D3A-45B3-847B-F1D7C8CB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9A073-55A7-4B0E-9110-B50273E8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BA340-F616-4E76-AC0C-3B0B4087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AD5E-75A7-42A0-874B-7774AB55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A84D4-D1CA-4E53-8AA6-57BFE04D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7D0FD-C603-4DB4-BA47-A22A8512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3B33-F9F4-4936-B993-6A7ED95C6F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0FB6-8BCA-4DB3-9166-7BC607E952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VKeldish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Келдыш Мстислав Всеволодович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1911 – 1978)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Советский учёны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 обла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математики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механики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академик АН ССС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Трижды Геро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Социалистическог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Тру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2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628640"/>
            <a:ext cx="3344760" cy="48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.В.Келдышу принадлежит большое количеств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ундаментальных исследований в обла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атематик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эрогидродинамик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ории колебаний. Им внесен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дающийся вклад 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работку ряда важнейши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просов авиационной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томной и космическ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хники, поставивший ег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число виднейших мировы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ены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76720" y="1125360"/>
            <a:ext cx="3567240" cy="54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2708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5e5ff"/>
                </a:solidFill>
                <a:latin typeface="Garamond"/>
              </a:rPr>
              <a:t>Авиация ВОВ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ИЛЬЮШИН Сергей Владимирович (1894-1977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оссийский авиаконструктор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академик Академии Наук СССР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енерал-полковник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нженерно-техническо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лужбы, трижды Геро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оциалистического Труд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д руководство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льюшина созданы многи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типы бомбардировщико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штурмовико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ассажирских самоле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42055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8064360" cy="2592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1844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494640"/>
            <a:ext cx="63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Штурмовик Ил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од выпуска - 19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2637000"/>
            <a:ext cx="7559640" cy="2376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000" y="1132560"/>
            <a:ext cx="57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Штурмовик Ил-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од выпуска - 19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65000"/>
            <a:ext cx="911844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Истребитель И – 16</a:t>
            </a:r>
            <a:br>
              <a:rPr sz="4400"/>
            </a:b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Год выпуска - 1944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92360" y="2373480"/>
            <a:ext cx="5327640" cy="357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7:19:05Z</dcterms:created>
  <dc:creator>User</dc:creator>
  <dc:description/>
  <dc:language>en-US</dc:language>
  <cp:lastModifiedBy>Admin</cp:lastModifiedBy>
  <dcterms:modified xsi:type="dcterms:W3CDTF">2010-02-14T15:25:23Z</dcterms:modified>
  <cp:revision>6</cp:revision>
  <dc:subject/>
  <dc:title>Сравнительная характеристика электровоза и тепловоза.</dc:title>
</cp:coreProperties>
</file>