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9237-3D47-43C5-9AF3-B0E5C278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7BBBB-F217-4E0B-BB26-F09C94B4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10A97-03E2-48AB-A751-592C62B7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E62F5-A420-4B86-9C40-13E11529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AA94-159B-408D-BAC9-DC43C774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0E2A-4FD7-4094-BB07-10D25B32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2A91-AF4C-40E4-A932-4BCDF35B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8AE1-211F-4C5C-9274-DE176D33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4D9D-D7CA-4C5C-884B-7E2AF420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EFFF-CE4C-4C59-88B2-9E0D1D52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E320-D557-49C4-B199-DCC6E682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99CE-6FB4-49A4-B434-CBD242B4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CB3C-3365-4711-B1C2-D461CDD8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8023-682D-40A1-80D1-68111F03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1540-1386-46B4-99ED-8C3D64E9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6E3C-B810-48B3-80BE-ED397C5F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BE63-0A4F-4333-B330-4F66FF8E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FCA7C-DEB7-4662-8092-0E4B4A2F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700B2-04B0-403D-925E-FE92B8ED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199AC-D660-4371-BA3D-8FD9E345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B2202-FCDB-465E-8A7C-CD80F7CF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585CA-0E06-455C-90A7-6AB8D737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59144-B509-4B81-9371-FEDC7CA5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AB065-F5F3-4113-A8D0-9F9F8DF6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48B4-D344-4663-9E06-A3BF4684D9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F95C-C5BA-41F2-B02E-0C6C841509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VKeldish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Келдыш Мстислав Всеволодович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1911 – 1978)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Советский учёны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 обла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математики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механики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академик АН ССС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Трижды Геро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Социалистическог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Тру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2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628640"/>
            <a:ext cx="3344760" cy="48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.В.Келдышу принадлежит большое количеств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ундаментальных исследований в обла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атематик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эрогидродинамик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ории колебаний. Им внесен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дающийся вклад 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работку ряда важнейши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просов авиационной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томной и космическ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хники, поставивший ег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число виднейших мировы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ены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76720" y="1125360"/>
            <a:ext cx="3567240" cy="54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2708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5e5ff"/>
                </a:solidFill>
                <a:latin typeface="Garamond"/>
              </a:rPr>
              <a:t>Авиация ВОВ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ИЛЬЮШИН Сергей Владимирович (1894-1977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оссийский авиаконструктор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академик Академии Наук СССР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енерал-полковник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нженерно-техническо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лужбы, трижды Геро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оциалистического Труд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д руководство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льюшина созданы многи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типы бомбардировщико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штурмовико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ассажирских самоле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42055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8064360" cy="2592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1844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494640"/>
            <a:ext cx="63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Штурмовик Ил-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од выпуска - 19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2637000"/>
            <a:ext cx="7559640" cy="2376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000" y="1132560"/>
            <a:ext cx="57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Штурмовик Ил-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од выпуска - 19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65000"/>
            <a:ext cx="911844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Истребитель И – 16</a:t>
            </a:r>
            <a:br>
              <a:rPr sz="4400"/>
            </a:b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Год выпуска - 1944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92360" y="2373480"/>
            <a:ext cx="5327640" cy="357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7:19:05Z</dcterms:created>
  <dc:creator>User</dc:creator>
  <dc:description/>
  <dc:language>en-US</dc:language>
  <cp:lastModifiedBy>Admin</cp:lastModifiedBy>
  <dcterms:modified xsi:type="dcterms:W3CDTF">2010-02-14T15:25:23Z</dcterms:modified>
  <cp:revision>6</cp:revision>
  <dc:subject/>
  <dc:title>Сравнительная характеристика электровоза и тепловоза.</dc:title>
</cp:coreProperties>
</file>