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733-6461-4F38-9BDD-F0BF4427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928-8822-4D24-A762-6C26BEE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A41-6D29-41F8-8864-2B0796A3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1F5-FF3C-4DCF-944C-1B5CA0B4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F14-DFE3-4F7A-9A96-6DB0E421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79B-C824-4101-B933-F72D2BD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316-248F-4393-B0C0-ABDFAE13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5E1-E878-4A49-A324-6D30A06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B42-341B-47D9-A42A-E9226039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5F9-9B11-481D-91A0-AD2CBC8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404-9665-4BEB-90E5-2C159F0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F24-AFE6-4378-B476-C6A9799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8AA9-C9DA-49C4-ABD2-0386FF41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«Цветная» разм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сыном или доч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братом или сестр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вну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друг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учени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росто хорошим челове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cc"/>
                </a:solidFill>
                <a:latin typeface="Arial"/>
              </a:rPr>
              <a:t>Помните  - улыбаясь, мы улучшаем свое здоровье и окружающую нас жиз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а «Паут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43185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Arial"/>
              </a:rPr>
              <a:t>Игра «Паут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5" descr="1191179443_2.jpg"/>
          <p:cNvPicPr/>
          <p:nvPr/>
        </p:nvPicPr>
        <p:blipFill>
          <a:blip r:embed="rId1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3880" y="286920"/>
            <a:ext cx="742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9144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Удачи вс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поисках добрых де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66i.jpeg"/>
          <p:cNvPicPr/>
          <p:nvPr/>
        </p:nvPicPr>
        <p:blipFill>
          <a:blip r:embed="rId2"/>
          <a:stretch/>
        </p:blipFill>
        <p:spPr>
          <a:xfrm>
            <a:off x="7380360" y="5157720"/>
            <a:ext cx="135720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Анима(104).gif"/>
          <p:cNvPicPr/>
          <p:nvPr/>
        </p:nvPicPr>
        <p:blipFill>
          <a:blip r:embed="rId3"/>
          <a:stretch/>
        </p:blipFill>
        <p:spPr>
          <a:xfrm flipH="1">
            <a:off x="8100720" y="1125360"/>
            <a:ext cx="1042920" cy="1171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Анима (29).gif"/>
          <p:cNvPicPr/>
          <p:nvPr/>
        </p:nvPicPr>
        <p:blipFill>
          <a:blip r:embed="rId4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Анима (19).gif"/>
          <p:cNvPicPr/>
          <p:nvPr/>
        </p:nvPicPr>
        <p:blipFill>
          <a:blip r:embed="rId5"/>
          <a:stretch/>
        </p:blipFill>
        <p:spPr>
          <a:xfrm>
            <a:off x="468360" y="476280"/>
            <a:ext cx="10792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говорим о доброте и отзывч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2232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99"/>
                </a:solidFill>
                <a:latin typeface="Arial"/>
              </a:rPr>
              <a:t>«Улыбнись миру и мир улыбнется теб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3937320" cy="39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словицы о добро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Жизнь дана на добрые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а желаешь, добро и дел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ый человек добру и у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Шапочка бакалавра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6648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558720"/>
            <a:ext cx="9144000" cy="77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46080"/>
            <a:ext cx="6048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2:53:12Z</dcterms:created>
  <dc:creator>Тихон</dc:creator>
  <dc:description/>
  <dc:language>en-US</dc:language>
  <cp:lastModifiedBy>Тихон</cp:lastModifiedBy>
  <dcterms:modified xsi:type="dcterms:W3CDTF">2013-12-02T14:51:19Z</dcterms:modified>
  <cp:revision>3</cp:revision>
  <dc:subject/>
  <dc:title>Поговорим о доброте и отзывчивости</dc:title>
</cp:coreProperties>
</file>