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0B9-8F60-4504-906F-04D8D76D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38F-BBE7-422F-BE8F-DC3A6985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74AC-4BBB-4613-AFA2-01A055B2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691E-408E-49B6-8740-8A60B157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0333-03C1-4B23-8F8A-EA25FCC7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808-A5EF-48D8-A194-6F69E41B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FE9-AE6C-4BA3-A69F-840A130A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1DEE-7893-463B-930E-691E8852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E4B-4ECF-41B3-A9F6-D0A805BF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5F2-F7C0-4C91-99AF-2F4AD764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B780-B172-446B-A901-523B4403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79B-245C-4221-9FA8-F5716EB1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3733-08FE-43AA-A1EE-F6D794BB3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«Цветная» размин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Кто считает себя хорошим сыном или дочк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Хорошим братом или сестр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Кто считает себя хорошим внук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Хорошим друг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Хорошим ученик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Просто хорошим человек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cc"/>
                </a:solidFill>
                <a:latin typeface="Arial"/>
              </a:rPr>
              <a:t>Помните  - улыбаясь, мы улучшаем свое здоровье и окружающую нас жизн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гра «Паути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87280" y="431856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Arial"/>
              </a:rPr>
              <a:t>Игра «Паутин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5" descr="1191179443_2.jpg"/>
          <p:cNvPicPr/>
          <p:nvPr/>
        </p:nvPicPr>
        <p:blipFill>
          <a:blip r:embed="rId1"/>
          <a:stretch/>
        </p:blipFill>
        <p:spPr>
          <a:xfrm>
            <a:off x="1214280" y="3143160"/>
            <a:ext cx="3500640" cy="30290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3880" y="286920"/>
            <a:ext cx="74278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0"/>
            <a:ext cx="91440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             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Удачи вс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в поисках добрых де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66i.jpeg"/>
          <p:cNvPicPr/>
          <p:nvPr/>
        </p:nvPicPr>
        <p:blipFill>
          <a:blip r:embed="rId2"/>
          <a:stretch/>
        </p:blipFill>
        <p:spPr>
          <a:xfrm>
            <a:off x="7380360" y="5157720"/>
            <a:ext cx="1357200" cy="1368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Анима(104).gif"/>
          <p:cNvPicPr/>
          <p:nvPr/>
        </p:nvPicPr>
        <p:blipFill>
          <a:blip r:embed="rId3"/>
          <a:stretch/>
        </p:blipFill>
        <p:spPr>
          <a:xfrm flipH="1">
            <a:off x="8100720" y="1125360"/>
            <a:ext cx="1042920" cy="1171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1" descr="Анима (29).gif"/>
          <p:cNvPicPr/>
          <p:nvPr/>
        </p:nvPicPr>
        <p:blipFill>
          <a:blip r:embed="rId4"/>
          <a:stretch/>
        </p:blipFill>
        <p:spPr>
          <a:xfrm flipH="1">
            <a:off x="6156000" y="4221000"/>
            <a:ext cx="1214280" cy="9874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2" descr="Анима (19).gif"/>
          <p:cNvPicPr/>
          <p:nvPr/>
        </p:nvPicPr>
        <p:blipFill>
          <a:blip r:embed="rId5"/>
          <a:stretch/>
        </p:blipFill>
        <p:spPr>
          <a:xfrm>
            <a:off x="468360" y="476280"/>
            <a:ext cx="1079280" cy="8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6828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Поговорим о доброте и отзывчив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920" y="98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64000" y="476280"/>
            <a:ext cx="2232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9999"/>
                </a:solidFill>
                <a:latin typeface="Arial"/>
              </a:rPr>
              <a:t>«Улыбнись миру и мир улыбнется теб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360" y="2349360"/>
            <a:ext cx="3937320" cy="39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Пословицы о доброт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Жизнь дана на добрые д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Добра желаешь, добро и дел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Добрый человек добру и учи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Шапочка бакалавра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66484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558720"/>
            <a:ext cx="9144000" cy="77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46080"/>
            <a:ext cx="60487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2:53:12Z</dcterms:created>
  <dc:creator>Тихон</dc:creator>
  <dc:description/>
  <dc:language>en-US</dc:language>
  <cp:lastModifiedBy>Тихон</cp:lastModifiedBy>
  <dcterms:modified xsi:type="dcterms:W3CDTF">2013-12-02T14:51:19Z</dcterms:modified>
  <cp:revision>3</cp:revision>
  <dc:subject/>
  <dc:title>Поговорим о доброте и отзывчивости</dc:title>
</cp:coreProperties>
</file>