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DD6-F7EA-4049-9BDD-F2E62B80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8A8-6B24-446E-AA86-C86113D1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C62-A0BF-4F3B-ADCC-B55B616E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095-F0AF-4553-9D78-696926F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BC8E-C4AE-4EB3-B9B1-D337200C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96DC-8E21-44C9-8873-F6619595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FA0-1141-4A54-AF02-450EC90C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F00-19EC-4159-A357-FA87AA00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2295-27CE-4BB2-B39B-FF14AC2A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4BD7-7F9A-487D-B501-59F1086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3F40-EE85-43B4-BF5C-1F86D00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CAE-3A55-4C0E-A4A5-EB62919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C37-349C-4742-ABEF-11EC18DC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51CA-716C-45AE-882D-4FD0906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6F42-D08D-47D6-9CBD-72F19C4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6D8C-D7F7-46F6-8342-2CBCCD6C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40D-3A06-4818-BA4D-FB5DCA24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95C-C278-4F2F-AC59-0F1446E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FD1-4AFB-493C-B6AE-EF630BCD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550-BDF9-4151-8030-37BFA3A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419-AC41-4E37-A701-3C464B8B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0C5-9FB3-43FE-B597-73D8A29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988-6D94-4285-907C-CECBA22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4CA-A4C1-43C9-A1E6-5886C18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021-4FCD-4E43-B0D8-F1299EA7E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7F4A-D9B5-4F0D-BEFE-07361ED09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700" spc="-1" strike="noStrike">
                <a:solidFill>
                  <a:srgbClr val="feec94"/>
                </a:solidFill>
                <a:latin typeface="Arial"/>
              </a:rPr>
              <a:t>Алексе́й Никола́евич Крыло́в</a:t>
            </a:r>
            <a:br>
              <a:rPr sz="4700"/>
            </a:br>
            <a:r>
              <a:rPr b="1" lang="en-US" sz="47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ru-RU" sz="4700" spc="-1" strike="noStrike">
                <a:solidFill>
                  <a:srgbClr val="feec94"/>
                </a:solidFill>
                <a:latin typeface="Arial"/>
              </a:rPr>
              <a:t>1863 – 1945)</a:t>
            </a:r>
            <a:endParaRPr b="1" lang="en-US" sz="47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957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РЫЛОВ Алексей Николаевич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(1863-1945), российский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ораблестроитель, механик 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атематик, академик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кадемии Наук СССР,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Герой Социалистического Труда.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Участник проектирования 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постройки первых русских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линкоров. Крылов А.Н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выпустил труды по теори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орабля, магнитных 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гироскопических компасов,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ртиллерии, механике, математике,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истории нау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оздал ряд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орабельных и артиллерийских приборов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464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eec94"/>
                </a:solidFill>
                <a:latin typeface="Times New Roman"/>
              </a:rPr>
              <a:t>Траектория полёта снаряда в воздухе</a:t>
            </a:r>
            <a:endParaRPr b="1" lang="en-US" sz="3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Содержимое 6" descr="0250198272.gif"/>
          <p:cNvPicPr/>
          <p:nvPr/>
        </p:nvPicPr>
        <p:blipFill>
          <a:blip r:embed="rId1"/>
          <a:stretch/>
        </p:blipFill>
        <p:spPr>
          <a:xfrm>
            <a:off x="611280" y="1413000"/>
            <a:ext cx="806436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новным назначением мал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кетного корабля проекта123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Буря», входящего в соста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ссийского военно-мор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лота, является нанес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даров противокорабельны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ылатыми ракетами мор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азирования по кораблям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нспортам противника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х районах моря пр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ажении десантов и пр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йствиях на мор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муник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96576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екабре 1970 года в соста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етского военно-мор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лота вошел новый сторожев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абль «Бдительный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был головной в с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аблей проекта 113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нергетическая установ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спечивала корабл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ксимальную скор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ыше 30 узлов. Даль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авания экономиче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коростью достигала 3000 ми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9280" y="685800"/>
            <a:ext cx="3935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 rot="21251400">
            <a:off x="394920" y="1483920"/>
            <a:ext cx="3672000" cy="460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 rot="441600">
            <a:off x="4716360" y="54900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 rot="21325800">
            <a:off x="423720" y="479160"/>
            <a:ext cx="3708720" cy="473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 rot="358200">
            <a:off x="4675320" y="1693800"/>
            <a:ext cx="37764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 rot="21351600">
            <a:off x="468000" y="1773000"/>
            <a:ext cx="3816360" cy="465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 rot="297600">
            <a:off x="4932000" y="476280"/>
            <a:ext cx="393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9152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бережная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сторических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рабле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лининград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851280" y="549360"/>
            <a:ext cx="4762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40:10Z</dcterms:created>
  <dc:creator>Admin</dc:creator>
  <dc:description/>
  <dc:language>en-US</dc:language>
  <cp:lastModifiedBy>GEG</cp:lastModifiedBy>
  <dcterms:modified xsi:type="dcterms:W3CDTF">2010-02-16T13:32:21Z</dcterms:modified>
  <cp:revision>4</cp:revision>
  <dc:subject/>
  <dc:title>Алексе́й Никола́евич Крыло́в (1863 – 1945)</dc:title>
</cp:coreProperties>
</file>