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2A3-A497-4E6E-B7CA-907ACE66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BB4-9E27-40DA-A485-5A3B3FFB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F43-1741-4517-9686-DB0A708C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243-432C-4063-A3F2-28B7BDA1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FC9-759B-4540-9421-86652770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53D3-83FC-4B86-93EB-B995437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30F6-6041-4062-A5B5-E8368938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E5E-797C-439C-B093-584090A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7C70-495B-4311-AC6D-0D911EBA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D5E-FE16-47B8-B605-BD143AF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72AE-1797-43B9-A9BF-F626171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67F-27AD-4683-B6E1-6CD53B46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C1C0-7175-4CE7-AB18-D2DBE498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5D93-F4D5-4237-9CC0-40A7F42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13D0-78A4-41FD-89BA-745D6838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DF76-48C3-4E56-8451-581F2B47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C40B-0418-4C3C-B5B3-30775A2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99B-6886-4DB0-A453-41FBFC2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79F-037A-4197-A1DF-9568FA6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A80-FDD7-4926-8AEE-3E30B61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D9E-024C-4623-9D6C-C9030786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4C1-092E-4B58-AB1F-B87CE7A1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31F-4FBA-4C99-B467-2A4FD31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E0B-EB86-41E9-8CF0-6453ED7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591-63D9-479F-96D6-AC7650728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D3B8-E3A8-40C9-9F9D-914FC7CCE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700" spc="-1" strike="noStrike">
                <a:solidFill>
                  <a:srgbClr val="feec94"/>
                </a:solidFill>
                <a:latin typeface="Arial"/>
              </a:rPr>
              <a:t>Алексе́й Никола́евич Крыло́в</a:t>
            </a:r>
            <a:br>
              <a:rPr sz="4700"/>
            </a:br>
            <a:r>
              <a:rPr b="1" lang="en-US" sz="47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ru-RU" sz="4700" spc="-1" strike="noStrike">
                <a:solidFill>
                  <a:srgbClr val="feec94"/>
                </a:solidFill>
                <a:latin typeface="Arial"/>
              </a:rPr>
              <a:t>1863 – 1945)</a:t>
            </a:r>
            <a:endParaRPr b="1" lang="en-US" sz="47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957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0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РЫЛОВ Алексей Николаевич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(1863-1945), российский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ораблестроитель, механик 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атематик, академик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кадемии Наук СССР,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Герой Социалистического Труда.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Участник проектирования 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постройки первых русских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линкоров. Крылов А.Н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выпустил труды по теори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орабля, магнитных и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гироскопических компасов,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артиллерии, механике, математике,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истории нау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оздал ряд 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корабельных и артиллерийских приборов.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41464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eec94"/>
                </a:solidFill>
                <a:latin typeface="Times New Roman"/>
              </a:rPr>
              <a:t>Траектория полёта снаряда в воздухе</a:t>
            </a:r>
            <a:endParaRPr b="1" lang="en-US" sz="3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Содержимое 6" descr="0250198272.gif"/>
          <p:cNvPicPr/>
          <p:nvPr/>
        </p:nvPicPr>
        <p:blipFill>
          <a:blip r:embed="rId1"/>
          <a:stretch/>
        </p:blipFill>
        <p:spPr>
          <a:xfrm>
            <a:off x="611280" y="1413000"/>
            <a:ext cx="806436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новным назначением мал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кетного корабля проекта123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Буря», входящего в соста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ссийского военно-мор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лота, является нанес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даров противокорабельны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ылатыми ракетами мор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азирования по кораблям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нспортам противника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х районах моря пр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ажении десантов и пр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йствиях на мор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муникац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96576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екабре 1970 года в соста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етского военно-мор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лота вошел новый сторожев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абль «Бдительный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был головной в с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аблей проекта 1135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нергетическая установ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спечивала корабл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ксимальную скор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ыше 30 узлов. Даль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авания экономиче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коростью достигала 3000 ми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9280" y="685800"/>
            <a:ext cx="3935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 rot="21251400">
            <a:off x="394920" y="1483920"/>
            <a:ext cx="3672000" cy="460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 rot="441600">
            <a:off x="4716360" y="54900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 rot="21325800">
            <a:off x="423720" y="479160"/>
            <a:ext cx="3708720" cy="473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 rot="358200">
            <a:off x="4675320" y="1693800"/>
            <a:ext cx="37764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 rot="21351600">
            <a:off x="468000" y="1773000"/>
            <a:ext cx="3816360" cy="465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 rot="297600">
            <a:off x="4932000" y="476280"/>
            <a:ext cx="393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9152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бережная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сторических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рабле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лининград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851280" y="549360"/>
            <a:ext cx="4762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40:10Z</dcterms:created>
  <dc:creator>Admin</dc:creator>
  <dc:description/>
  <dc:language>en-US</dc:language>
  <cp:lastModifiedBy>GEG</cp:lastModifiedBy>
  <dcterms:modified xsi:type="dcterms:W3CDTF">2010-02-16T13:32:21Z</dcterms:modified>
  <cp:revision>4</cp:revision>
  <dc:subject/>
  <dc:title>Алексе́й Никола́евич Крыло́в (1863 – 1945)</dc:title>
</cp:coreProperties>
</file>