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4AC-C450-4142-BC6D-1B84BD38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037-B73E-46D0-A3EB-AD064B3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006-EA0D-4AF3-9BFD-A2AD2E39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557-D039-4D03-9B0E-BAC317B2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7B8-A34F-4144-93BD-EE903DD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C69-335E-463F-B4F2-1C53D6C0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606-43CB-4194-A033-2E483CC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A1-BA11-49BB-A5CF-CB44A38E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9D6-EFDA-4194-A1BB-0E8CA33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2C9-78A3-4A66-9A6A-490E569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F45-0A6D-40A4-A53D-627B39F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B71-7C08-4E62-AD60-72E7D09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B33-EEE4-43A6-893A-957B912D0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-73080" y="139680"/>
            <a:ext cx="958212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115.jp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43" name="WordArt 2"/>
          <p:cNvSpPr txBox="1"/>
          <p:nvPr/>
        </p:nvSpPr>
        <p:spPr>
          <a:xfrm>
            <a:off x="285840" y="714240"/>
            <a:ext cx="348624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1785960" y="2643120"/>
            <a:ext cx="304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4"/>
          <p:cNvSpPr txBox="1"/>
          <p:nvPr/>
        </p:nvSpPr>
        <p:spPr>
          <a:xfrm rot="20371800">
            <a:off x="109440" y="4176360"/>
            <a:ext cx="50180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ого взгляд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221.gif"/>
          <p:cNvPicPr/>
          <p:nvPr/>
        </p:nvPicPr>
        <p:blipFill>
          <a:blip r:embed="rId1"/>
          <a:stretch/>
        </p:blipFill>
        <p:spPr>
          <a:xfrm>
            <a:off x="4286160" y="214200"/>
            <a:ext cx="4500720" cy="6470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4643280" y="500040"/>
            <a:ext cx="20005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Ю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8" name="Рисунок 5" descr="PIC_0095.JPG"/>
          <p:cNvPicPr/>
          <p:nvPr/>
        </p:nvPicPr>
        <p:blipFill>
          <a:blip r:embed="rId2"/>
          <a:stretch/>
        </p:blipFill>
        <p:spPr>
          <a:xfrm>
            <a:off x="428760" y="571680"/>
            <a:ext cx="3719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116.jpg"/>
          <p:cNvPicPr/>
          <p:nvPr/>
        </p:nvPicPr>
        <p:blipFill>
          <a:blip r:embed="rId1"/>
          <a:stretch/>
        </p:blipFill>
        <p:spPr>
          <a:xfrm>
            <a:off x="20520" y="1643040"/>
            <a:ext cx="9123480" cy="5214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1085760" y="214200"/>
            <a:ext cx="70581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Arial Black"/>
              </a:rPr>
              <a:t>Любовь к информа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51" name="j0214098.wav" descr=""/>
          <p:cNvPicPr/>
          <p:nvPr/>
        </p:nvPicPr>
        <p:blipFill>
          <a:blip r:embed="rId2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PIC_0096.JPG"/>
          <p:cNvPicPr/>
          <p:nvPr/>
        </p:nvPicPr>
        <p:blipFill>
          <a:blip r:embed="rId1"/>
          <a:stretch/>
        </p:blipFill>
        <p:spPr>
          <a:xfrm>
            <a:off x="2843280" y="1341360"/>
            <a:ext cx="2676600" cy="4265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778680" y="715680"/>
            <a:ext cx="72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  <a:ea typeface="Times New Roman"/>
              </a:rPr>
              <a:t>Вечерами за компьютером с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275160"/>
            <a:ext cx="87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Сочиненье надо к сроку написа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6448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  <a:ea typeface="Times New Roman"/>
              </a:rPr>
              <a:t>Ведь мне надо математику р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56160" y="0"/>
            <a:ext cx="88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чень поздно я из школы ух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012000" y="2500200"/>
            <a:ext cx="27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Л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IC_0097.JPG"/>
          <p:cNvPicPr/>
          <p:nvPr/>
        </p:nvPicPr>
        <p:blipFill>
          <a:blip r:embed="rId1"/>
          <a:stretch/>
        </p:blipFill>
        <p:spPr>
          <a:xfrm>
            <a:off x="2700360" y="1628640"/>
            <a:ext cx="2428920" cy="3643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811080" y="5429160"/>
            <a:ext cx="73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ного надо изучить мне новых 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952920" y="6000840"/>
            <a:ext cx="70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Я давно не сплю и очень плохо 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889920" y="28584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нформатику не сдашь ты просто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62040" y="92880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Я собрал остатки воли в свой кул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508720" y="2571840"/>
            <a:ext cx="277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Вит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6" descr="115.jp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2"/>
          <p:cNvSpPr txBox="1"/>
          <p:nvPr/>
        </p:nvSpPr>
        <p:spPr>
          <a:xfrm>
            <a:off x="285840" y="714240"/>
            <a:ext cx="348624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785960" y="2643120"/>
            <a:ext cx="304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WordArt 4"/>
          <p:cNvSpPr txBox="1"/>
          <p:nvPr/>
        </p:nvSpPr>
        <p:spPr>
          <a:xfrm rot="20371800">
            <a:off x="109440" y="4176360"/>
            <a:ext cx="50180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ого взгляд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j0214098.wav" descr=""/>
          <p:cNvPicPr/>
          <p:nvPr/>
        </p:nvPicPr>
        <p:blipFill>
          <a:blip r:embed="rId8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-871560" y="-493560"/>
            <a:ext cx="11112480" cy="712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7:00:33Z</dcterms:created>
  <dc:creator>Faruk</dc:creator>
  <dc:description/>
  <dc:language>en-US</dc:language>
  <cp:lastModifiedBy>Faruk</cp:lastModifiedBy>
  <dcterms:modified xsi:type="dcterms:W3CDTF">2011-03-11T17:31:05Z</dcterms:modified>
  <cp:revision>31</cp:revision>
  <dc:subject/>
  <dc:title>Слайд 1</dc:title>
</cp:coreProperties>
</file>