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064-A78F-4035-A17D-73FB1993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BC2-1CF2-4E13-B362-AE9000F4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B8C-3046-4DDA-96DD-70E88A0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710-F172-492E-9AAF-86F931BD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0C5-DA45-4027-AAA1-15A80717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503-049E-4318-AA0C-469E7F66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B05-3025-4C80-96CA-EA1D39DA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B3F-B91C-4A3F-914D-E18AC67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89B-B3C0-4F06-9F9F-D3A22A1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C83-69A3-432A-AAFC-11FC4EE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9C2-EC84-4923-B4B9-619DED3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147-22C8-46E9-851E-8AEAE5FD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9042-3621-422C-A1E6-6880BD42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matematika/library/fizkultminutki-na-urokakh-matematiki" TargetMode="External"/><Relationship Id="rId2" Type="http://schemas.openxmlformats.org/officeDocument/2006/relationships/hyperlink" Target="http://nsportal.ru/nachalnaya-shkola/matematika/library/fizkultminutki-na-urokakh-matematiki" TargetMode="External"/><Relationship Id="rId3" Type="http://schemas.openxmlformats.org/officeDocument/2006/relationships/hyperlink" Target="http://nsportal.ru/nachalnaya-shkola/matematika/library/fizkultminutki-na-urokakh-matematiki" TargetMode="External"/><Relationship Id="rId4" Type="http://schemas.openxmlformats.org/officeDocument/2006/relationships/hyperlink" Target="http://nsportal.ru/nachalnaya-shkola/matematika/library/fizkultminutki-na-urokakh-matematiki" TargetMode="External"/><Relationship Id="rId5" Type="http://schemas.openxmlformats.org/officeDocument/2006/relationships/hyperlink" Target="http://nsportal.ru/nachalnaya-shkola/matematika/library/fizkultminutki-na-urokakh-matematiki" TargetMode="External"/><Relationship Id="rId6" Type="http://schemas.openxmlformats.org/officeDocument/2006/relationships/hyperlink" Target="http://nsportal.ru/nachalnaya-shkola/matematika/library/fizkultminutki-na-urokakh-matematiki" TargetMode="External"/><Relationship Id="rId7" Type="http://schemas.openxmlformats.org/officeDocument/2006/relationships/hyperlink" Target="http://nsportal.ru/nachalnaya-shkola/matematika/library/fizkultminutki-na-urokakh-matematiki" TargetMode="External"/><Relationship Id="rId8" Type="http://schemas.openxmlformats.org/officeDocument/2006/relationships/hyperlink" Target="http://nsportal.ru/nachalnaya-shkola/matematika/library/fizkultminutki-na-urokakh-matematiki" TargetMode="External"/><Relationship Id="rId9" Type="http://schemas.openxmlformats.org/officeDocument/2006/relationships/hyperlink" Target="http://nsportal.ru/nachalnaya-shkola/matematika/library/fizkultminutki-na-urokakh-matematiki" TargetMode="External"/><Relationship Id="rId10" Type="http://schemas.openxmlformats.org/officeDocument/2006/relationships/hyperlink" Target="http://nsportal.ru/nachalnaya-shkola/matematika/library/fizkultminutki-na-urokakh-matematiki" TargetMode="External"/><Relationship Id="rId11" Type="http://schemas.openxmlformats.org/officeDocument/2006/relationships/hyperlink" Target="http://nsportal.ru/nachalnaya-shkola/matematika/library/fizkultminutki-na-urokakh-matematiki" TargetMode="External"/><Relationship Id="rId12" Type="http://schemas.openxmlformats.org/officeDocument/2006/relationships/hyperlink" Target="http://nsportal.ru/nachalnaya-shkola/matematika/library/fizkultminutki-na-urokakh-matematiki" TargetMode="External"/><Relationship Id="rId13" Type="http://schemas.openxmlformats.org/officeDocument/2006/relationships/hyperlink" Target="http://nsportal.ru/nachalnaya-shkola/matematika/library/fizkultminutki-na-urokakh-matematiki" TargetMode="External"/><Relationship Id="rId14" Type="http://schemas.openxmlformats.org/officeDocument/2006/relationships/hyperlink" Target="http://nsportal.ru/nachalnaya-shkola/matematika/library/fizkultminutki-na-urokakh-matematiki" TargetMode="External"/><Relationship Id="rId15" Type="http://schemas.openxmlformats.org/officeDocument/2006/relationships/hyperlink" Target="http://nsportal.ru/nachalnaya-shkola/matematika/library/fizkultminutki-na-urokakh-matematiki" TargetMode="External"/><Relationship Id="rId16" Type="http://schemas.openxmlformats.org/officeDocument/2006/relationships/hyperlink" Target="http://nsportal.ru/nachalnaya-shkola/matematika/library/fizkultminutki-na-urokakh-matematiki" TargetMode="External"/><Relationship Id="rId17" Type="http://schemas.openxmlformats.org/officeDocument/2006/relationships/hyperlink" Target="http://nsportal.ru/nachalnaya-shkola/matematika/library/fizkultminutki-na-urokakh-matematiki" TargetMode="External"/><Relationship Id="rId18" Type="http://schemas.openxmlformats.org/officeDocument/2006/relationships/hyperlink" Target="http://nsportal.ru/nachalnaya-shkola/matematika/library/fizkultminutki-na-urokakh-matematiki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СШТА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Arial"/>
              </a:rPr>
              <a:t>Урок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2089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826920" y="1557360"/>
            <a:ext cx="7345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5" descr="03tink"/>
          <p:cNvPicPr/>
          <p:nvPr/>
        </p:nvPicPr>
        <p:blipFill>
          <a:blip r:embed="rId1"/>
          <a:stretch/>
        </p:blipFill>
        <p:spPr>
          <a:xfrm>
            <a:off x="3708360" y="476280"/>
            <a:ext cx="3228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sport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chalnay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hkol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atematik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library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zkultminutki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n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rokakh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mat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zentaz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›Шрифты›…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mnast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6-1-0-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talny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f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prezentazia.ucoz.ru/load/ehlektronnye_fizkultminutki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4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grinikkos.com/view_post.php?id=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УСТ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24360" y="1196640"/>
            <a:ext cx="4844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Длина шага малыша 20см, а взрослого  – 4дм. Найдем отношение длины шага малыша к длине шага взрослого. Составим отношение – 20: 4. Длина шага малыша в 5 раз длиннее. Правда ли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17808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750960" y="5183640"/>
            <a:ext cx="74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Нет, неправда. В задаче использованы велич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выраженные в разных единицах изме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4дм = 40см. Тогда отношение будет 20:40=1:2.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Запол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628640"/>
          <a:ext cx="8228520" cy="4524120"/>
        </p:xfrm>
        <a:graphic>
          <a:graphicData uri="http://schemas.openxmlformats.org/drawingml/2006/table">
            <a:tbl>
              <a:tblPr/>
              <a:tblGrid>
                <a:gridCol w="3605040"/>
                <a:gridCol w="898560"/>
                <a:gridCol w="37249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 = ?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м = ?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м = ?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м = ?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км = ?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м =?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543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238520" y="2438280"/>
            <a:ext cx="305280" cy="304560"/>
            <a:chOff x="7238520" y="2438280"/>
            <a:chExt cx="305280" cy="304560"/>
          </a:xfrm>
        </p:grpSpPr>
        <p:sp>
          <p:nvSpPr>
            <p:cNvPr id="52" name="Line 4"/>
            <p:cNvSpPr/>
            <p:nvPr/>
          </p:nvSpPr>
          <p:spPr>
            <a:xfrm>
              <a:off x="723888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H="1">
              <a:off x="723852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"/>
          <p:cNvGrpSpPr/>
          <p:nvPr/>
        </p:nvGrpSpPr>
        <p:grpSpPr>
          <a:xfrm>
            <a:off x="7238880" y="2940120"/>
            <a:ext cx="1066680" cy="642600"/>
            <a:chOff x="7238880" y="2940120"/>
            <a:chExt cx="1066680" cy="642600"/>
          </a:xfrm>
        </p:grpSpPr>
        <p:sp>
          <p:nvSpPr>
            <p:cNvPr id="55" name="Text Box 7"/>
            <p:cNvSpPr/>
            <p:nvPr/>
          </p:nvSpPr>
          <p:spPr>
            <a:xfrm>
              <a:off x="746748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723888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152280" y="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СООТНОШЕНИЕ МЕЖДУ ЕДИНИЦАМИ ИЗМЕРЕНИЯ ВЕЛИЧИН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9880" y="2514600"/>
            <a:ext cx="6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9246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77120" y="251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28600" y="251460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9528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7238880" y="28195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 flipH="1">
            <a:off x="7238520" y="30481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958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5791320" y="2438280"/>
            <a:ext cx="304560" cy="304560"/>
            <a:chOff x="5791320" y="2438280"/>
            <a:chExt cx="304560" cy="304560"/>
          </a:xfrm>
        </p:grpSpPr>
        <p:sp>
          <p:nvSpPr>
            <p:cNvPr id="67" name="Line 19"/>
            <p:cNvSpPr/>
            <p:nvPr/>
          </p:nvSpPr>
          <p:spPr>
            <a:xfrm>
              <a:off x="5791320" y="2438280"/>
              <a:ext cx="30456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H="1">
              <a:off x="5791320" y="2438280"/>
              <a:ext cx="30456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5791320" y="2940120"/>
            <a:ext cx="1066680" cy="642600"/>
            <a:chOff x="5791320" y="2940120"/>
            <a:chExt cx="1066680" cy="642600"/>
          </a:xfrm>
        </p:grpSpPr>
        <p:sp>
          <p:nvSpPr>
            <p:cNvPr id="70" name="Text Box 22"/>
            <p:cNvSpPr/>
            <p:nvPr/>
          </p:nvSpPr>
          <p:spPr>
            <a:xfrm>
              <a:off x="601992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579132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4"/>
          <p:cNvSpPr/>
          <p:nvPr/>
        </p:nvSpPr>
        <p:spPr>
          <a:xfrm>
            <a:off x="5791320" y="2819520"/>
            <a:ext cx="7617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 flipH="1">
            <a:off x="5791320" y="3048120"/>
            <a:ext cx="7617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46483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7"/>
          <p:cNvGrpSpPr/>
          <p:nvPr/>
        </p:nvGrpSpPr>
        <p:grpSpPr>
          <a:xfrm>
            <a:off x="4343040" y="2438280"/>
            <a:ext cx="305280" cy="304560"/>
            <a:chOff x="4343040" y="2438280"/>
            <a:chExt cx="305280" cy="304560"/>
          </a:xfrm>
        </p:grpSpPr>
        <p:sp>
          <p:nvSpPr>
            <p:cNvPr id="76" name="Line 28"/>
            <p:cNvSpPr/>
            <p:nvPr/>
          </p:nvSpPr>
          <p:spPr>
            <a:xfrm>
              <a:off x="434340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 flipH="1">
              <a:off x="434304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0"/>
          <p:cNvGrpSpPr/>
          <p:nvPr/>
        </p:nvGrpSpPr>
        <p:grpSpPr>
          <a:xfrm>
            <a:off x="4343400" y="2940120"/>
            <a:ext cx="1066680" cy="642600"/>
            <a:chOff x="4343400" y="2940120"/>
            <a:chExt cx="1066680" cy="642600"/>
          </a:xfrm>
        </p:grpSpPr>
        <p:sp>
          <p:nvSpPr>
            <p:cNvPr id="79" name="Text Box 31"/>
            <p:cNvSpPr/>
            <p:nvPr/>
          </p:nvSpPr>
          <p:spPr>
            <a:xfrm>
              <a:off x="457200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2"/>
            <p:cNvSpPr/>
            <p:nvPr/>
          </p:nvSpPr>
          <p:spPr>
            <a:xfrm>
              <a:off x="434340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33"/>
          <p:cNvSpPr/>
          <p:nvPr/>
        </p:nvSpPr>
        <p:spPr>
          <a:xfrm>
            <a:off x="4343400" y="28195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>
            <a:off x="4343040" y="30481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23623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2057040" y="2438280"/>
            <a:ext cx="305280" cy="304560"/>
            <a:chOff x="2057040" y="2438280"/>
            <a:chExt cx="305280" cy="304560"/>
          </a:xfrm>
        </p:grpSpPr>
        <p:sp>
          <p:nvSpPr>
            <p:cNvPr id="85" name="Line 37"/>
            <p:cNvSpPr/>
            <p:nvPr/>
          </p:nvSpPr>
          <p:spPr>
            <a:xfrm>
              <a:off x="205740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 flipH="1">
              <a:off x="205704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057400" y="2940120"/>
            <a:ext cx="1066680" cy="642600"/>
            <a:chOff x="2057400" y="2940120"/>
            <a:chExt cx="1066680" cy="642600"/>
          </a:xfrm>
        </p:grpSpPr>
        <p:sp>
          <p:nvSpPr>
            <p:cNvPr id="88" name="Text Box 40"/>
            <p:cNvSpPr/>
            <p:nvPr/>
          </p:nvSpPr>
          <p:spPr>
            <a:xfrm>
              <a:off x="228600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1"/>
            <p:cNvSpPr/>
            <p:nvPr/>
          </p:nvSpPr>
          <p:spPr>
            <a:xfrm>
              <a:off x="205740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42"/>
          <p:cNvSpPr/>
          <p:nvPr/>
        </p:nvSpPr>
        <p:spPr>
          <a:xfrm>
            <a:off x="1187280" y="2852640"/>
            <a:ext cx="2743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 flipH="1">
            <a:off x="1066680" y="3048120"/>
            <a:ext cx="2743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2438280" y="114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ДИНИЦЫ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асштаб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это отношение длины отрезка на карте к длине соответствующего отрезка на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пределить масштаб карты, если расстояние от г. Заречного  до г. Пенза 12 к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40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и        Масшт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а         5см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.      12 км                х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км = 1200000 с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х = 2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М 1:2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9360" y="309636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00000" y="3860640"/>
                <a:ext cx="165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ово расстояние между Пензой и Нижним Ломовом, если масштаб карты:1 : 1800000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kartab(3)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. 23; № 840, № 843, № 846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ворческо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Составить с помощью карты Воронежской области задачу на масшта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Arial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36_1_11"/>
          <p:cNvPicPr/>
          <p:nvPr/>
        </p:nvPicPr>
        <p:blipFill>
          <a:blip r:embed="rId1"/>
          <a:stretch/>
        </p:blipFill>
        <p:spPr>
          <a:xfrm>
            <a:off x="324000" y="1268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30"/>
          <p:cNvPicPr/>
          <p:nvPr/>
        </p:nvPicPr>
        <p:blipFill>
          <a:blip r:embed="rId2"/>
          <a:stretch/>
        </p:blipFill>
        <p:spPr>
          <a:xfrm>
            <a:off x="1835280" y="2205000"/>
            <a:ext cx="1049040" cy="104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36_19_2"/>
          <p:cNvPicPr/>
          <p:nvPr/>
        </p:nvPicPr>
        <p:blipFill>
          <a:blip r:embed="rId3"/>
          <a:stretch/>
        </p:blipFill>
        <p:spPr>
          <a:xfrm>
            <a:off x="4427640" y="3573360"/>
            <a:ext cx="1584360" cy="112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36_2_17"/>
          <p:cNvPicPr/>
          <p:nvPr/>
        </p:nvPicPr>
        <p:blipFill>
          <a:blip r:embed="rId4"/>
          <a:stretch/>
        </p:blipFill>
        <p:spPr>
          <a:xfrm>
            <a:off x="7236000" y="5084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36_19_3"/>
          <p:cNvPicPr/>
          <p:nvPr/>
        </p:nvPicPr>
        <p:blipFill>
          <a:blip r:embed="rId5"/>
          <a:stretch/>
        </p:blipFill>
        <p:spPr>
          <a:xfrm>
            <a:off x="2916360" y="2852640"/>
            <a:ext cx="1584360" cy="11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36_19_1"/>
          <p:cNvPicPr/>
          <p:nvPr/>
        </p:nvPicPr>
        <p:blipFill>
          <a:blip r:embed="rId6"/>
          <a:stretch/>
        </p:blipFill>
        <p:spPr>
          <a:xfrm>
            <a:off x="6012000" y="4149720"/>
            <a:ext cx="14414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11:47Z</dcterms:created>
  <dc:creator>User</dc:creator>
  <dc:description/>
  <dc:language>en-US</dc:language>
  <cp:lastModifiedBy>User</cp:lastModifiedBy>
  <dcterms:modified xsi:type="dcterms:W3CDTF">2014-01-24T20:17:31Z</dcterms:modified>
  <cp:revision>24</cp:revision>
  <dc:subject/>
  <dc:title>МАСШТАБ</dc:title>
</cp:coreProperties>
</file>