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2.png" ContentType="image/png"/>
  <Override PartName="/ppt/media/image17.gif" ContentType="image/gi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38.wmf" ContentType="image/x-wmf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E9D-4014-4E10-83E5-07FC09C5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5A0-7E8E-42E7-B9AF-53BD61A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422-7770-4033-8F95-C319575F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05E-72C9-4C68-B9F9-1CBB5671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59BB-B862-41A7-89FC-468DAC58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CDCF-AE26-4153-9E1C-490F03D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251C-FC8D-481E-B0F4-5FAF9C2F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7A53-C2F9-43FD-B3B8-BFD43C17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CA58-10D0-4E88-8F36-9040BD7A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8A78-677F-4AA1-80BF-571CCE4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F7CF-826F-44D8-A46B-249B1F8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44E-E5AF-4B5E-9AAD-FECCDF1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49AF-4194-45EC-B78A-09F2777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647-C31F-4B3D-A410-0164DB2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978B-0D48-4A44-B15B-3CB27C9E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750D-6B57-44A9-8458-BFE8161C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8D59-DC49-4754-88B0-00281441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0B0-6335-4ABF-8997-6316AD1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01C-A14F-4E63-A1F9-350A611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13F-A979-4AFF-A7B0-656CB7D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6B9-EC00-4328-8218-CD5FA0C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955-049F-4DDF-8BD4-955DE98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D61-E9CC-4CFE-93F3-06ECC1A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A26-ED80-406F-8372-618CBF5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7B4-1243-4345-9255-8E6E43A61B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20E2-187B-46DE-AB3F-34A0907F53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5.png"/><Relationship Id="rId14" Type="http://schemas.openxmlformats.org/officeDocument/2006/relationships/image" Target="../media/image12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7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9.xml"/><Relationship Id="rId31" Type="http://schemas.openxmlformats.org/officeDocument/2006/relationships/slide" Target="slide19.xml"/><Relationship Id="rId32" Type="http://schemas.openxmlformats.org/officeDocument/2006/relationships/slide" Target="slide20.xml"/><Relationship Id="rId33" Type="http://schemas.openxmlformats.org/officeDocument/2006/relationships/slide" Target="slide20.xml"/><Relationship Id="rId34" Type="http://schemas.openxmlformats.org/officeDocument/2006/relationships/slide" Target="slide21.xml"/><Relationship Id="rId35" Type="http://schemas.openxmlformats.org/officeDocument/2006/relationships/slide" Target="slide21.xml"/><Relationship Id="rId36" Type="http://schemas.openxmlformats.org/officeDocument/2006/relationships/slide" Target="slide22.xml"/><Relationship Id="rId37" Type="http://schemas.openxmlformats.org/officeDocument/2006/relationships/slide" Target="slide22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«Математический аукцион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Рисунок15"/>
          <p:cNvPicPr/>
          <p:nvPr/>
        </p:nvPicPr>
        <p:blipFill>
          <a:blip r:embed="rId1"/>
          <a:stretch/>
        </p:blipFill>
        <p:spPr>
          <a:xfrm>
            <a:off x="6227640" y="242100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76964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Половина от половины числа равна половине. Какое это чис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58920" y="4797360"/>
            <a:ext cx="676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это число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5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Без имени-1"/>
          <p:cNvPicPr/>
          <p:nvPr/>
        </p:nvPicPr>
        <p:blipFill>
          <a:blip r:embed="rId1"/>
          <a:stretch/>
        </p:blipFill>
        <p:spPr>
          <a:xfrm>
            <a:off x="7074000" y="384336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5280" y="177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7.</a:t>
            </a:r>
            <a:br>
              <a:rPr sz="3600"/>
            </a:b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ИГРА «СЛОВА»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    Командам даются математические термины, на каждую букву которых необходимо составить новые математические термины или поня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567960" y="618336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42" descr="1.gif"/>
          <p:cNvPicPr/>
          <p:nvPr/>
        </p:nvPicPr>
        <p:blipFill>
          <a:blip r:embed="rId1"/>
          <a:stretch/>
        </p:blipFill>
        <p:spPr>
          <a:xfrm>
            <a:off x="7199280" y="3855960"/>
            <a:ext cx="1373400" cy="165276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" descr=""/>
          <p:cNvPicPr/>
          <p:nvPr/>
        </p:nvPicPr>
        <p:blipFill>
          <a:blip r:embed="rId2"/>
          <a:stretch/>
        </p:blipFill>
        <p:spPr>
          <a:xfrm>
            <a:off x="1920960" y="3157560"/>
            <a:ext cx="919080" cy="10857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2" descr=""/>
          <p:cNvPicPr/>
          <p:nvPr/>
        </p:nvPicPr>
        <p:blipFill>
          <a:blip r:embed="rId3"/>
          <a:stretch/>
        </p:blipFill>
        <p:spPr>
          <a:xfrm>
            <a:off x="1914480" y="3481560"/>
            <a:ext cx="932040" cy="10839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4"/>
          <a:stretch/>
        </p:blipFill>
        <p:spPr>
          <a:xfrm>
            <a:off x="1932120" y="3906720"/>
            <a:ext cx="914400" cy="10861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4" descr=""/>
          <p:cNvPicPr/>
          <p:nvPr/>
        </p:nvPicPr>
        <p:blipFill>
          <a:blip r:embed="rId5"/>
          <a:stretch/>
        </p:blipFill>
        <p:spPr>
          <a:xfrm>
            <a:off x="1938240" y="4309920"/>
            <a:ext cx="890640" cy="10796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6" descr=""/>
          <p:cNvPicPr/>
          <p:nvPr/>
        </p:nvPicPr>
        <p:blipFill>
          <a:blip r:embed="rId6"/>
          <a:stretch/>
        </p:blipFill>
        <p:spPr>
          <a:xfrm>
            <a:off x="1925640" y="4632480"/>
            <a:ext cx="933480" cy="10792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7"/>
          <a:stretch/>
        </p:blipFill>
        <p:spPr>
          <a:xfrm>
            <a:off x="1895400" y="493704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8" descr=""/>
          <p:cNvPicPr/>
          <p:nvPr/>
        </p:nvPicPr>
        <p:blipFill>
          <a:blip r:embed="rId8"/>
          <a:stretch/>
        </p:blipFill>
        <p:spPr>
          <a:xfrm>
            <a:off x="1920960" y="5261040"/>
            <a:ext cx="93168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9" descr=""/>
          <p:cNvPicPr/>
          <p:nvPr/>
        </p:nvPicPr>
        <p:blipFill>
          <a:blip r:embed="rId9"/>
          <a:stretch/>
        </p:blipFill>
        <p:spPr>
          <a:xfrm>
            <a:off x="5522760" y="3127320"/>
            <a:ext cx="944640" cy="108432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0" descr=""/>
          <p:cNvPicPr/>
          <p:nvPr/>
        </p:nvPicPr>
        <p:blipFill>
          <a:blip r:embed="rId10"/>
          <a:stretch/>
        </p:blipFill>
        <p:spPr>
          <a:xfrm>
            <a:off x="5583240" y="3481560"/>
            <a:ext cx="890640" cy="10839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1" descr=""/>
          <p:cNvPicPr/>
          <p:nvPr/>
        </p:nvPicPr>
        <p:blipFill>
          <a:blip r:embed="rId11"/>
          <a:stretch/>
        </p:blipFill>
        <p:spPr>
          <a:xfrm>
            <a:off x="5595840" y="3803760"/>
            <a:ext cx="914400" cy="1085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2" descr=""/>
          <p:cNvPicPr/>
          <p:nvPr/>
        </p:nvPicPr>
        <p:blipFill>
          <a:blip r:embed="rId12"/>
          <a:stretch/>
        </p:blipFill>
        <p:spPr>
          <a:xfrm>
            <a:off x="5572080" y="4230720"/>
            <a:ext cx="932040" cy="10843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3" descr=""/>
          <p:cNvPicPr/>
          <p:nvPr/>
        </p:nvPicPr>
        <p:blipFill>
          <a:blip r:embed="rId13"/>
          <a:stretch/>
        </p:blipFill>
        <p:spPr>
          <a:xfrm>
            <a:off x="5595840" y="4552920"/>
            <a:ext cx="878040" cy="10857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4" descr=""/>
          <p:cNvPicPr/>
          <p:nvPr/>
        </p:nvPicPr>
        <p:blipFill>
          <a:blip r:embed="rId14"/>
          <a:stretch/>
        </p:blipFill>
        <p:spPr>
          <a:xfrm>
            <a:off x="5614920" y="4919760"/>
            <a:ext cx="944640" cy="10843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5" descr=""/>
          <p:cNvPicPr/>
          <p:nvPr/>
        </p:nvPicPr>
        <p:blipFill>
          <a:blip r:embed="rId15"/>
          <a:stretch/>
        </p:blipFill>
        <p:spPr>
          <a:xfrm>
            <a:off x="5614920" y="5267160"/>
            <a:ext cx="901800" cy="1084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3040" y="2444400"/>
            <a:ext cx="68706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8.</a:t>
            </a:r>
            <a:br>
              <a:rPr sz="40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Одинаковым буквам соответствуют одинаковые числа. Запишите ребус в виде верного математического равенства.</a:t>
            </a:r>
            <a:br>
              <a:rPr sz="3200"/>
            </a:b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Не ту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34560" y="4522320"/>
            <a:ext cx="769644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buClr>
                <a:srgbClr val="006600"/>
              </a:buClr>
              <a:buFont typeface="Comic Sans MS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=36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16"/>
          <p:cNvPicPr/>
          <p:nvPr/>
        </p:nvPicPr>
        <p:blipFill>
          <a:blip r:embed="rId1"/>
          <a:stretch/>
        </p:blipFill>
        <p:spPr>
          <a:xfrm flipH="1">
            <a:off x="1353600" y="4076640"/>
            <a:ext cx="876600" cy="928800"/>
          </a:xfrm>
          <a:prstGeom prst="rect">
            <a:avLst/>
          </a:prstGeom>
          <a:ln w="0">
            <a:noFill/>
          </a:ln>
        </p:spPr>
      </p:pic>
      <p:sp>
        <p:nvSpPr>
          <p:cNvPr id="205" name="Дуга 8"/>
          <p:cNvSpPr/>
          <p:nvPr/>
        </p:nvSpPr>
        <p:spPr>
          <a:xfrm rot="19236000">
            <a:off x="431640" y="4614480"/>
            <a:ext cx="1251000" cy="116856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Дуга 9"/>
          <p:cNvSpPr/>
          <p:nvPr/>
        </p:nvSpPr>
        <p:spPr>
          <a:xfrm rot="19236000">
            <a:off x="1066680" y="499752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Дуга 10"/>
          <p:cNvSpPr/>
          <p:nvPr/>
        </p:nvSpPr>
        <p:spPr>
          <a:xfrm rot="19236000">
            <a:off x="1776240" y="481824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Дуга 11"/>
          <p:cNvSpPr/>
          <p:nvPr/>
        </p:nvSpPr>
        <p:spPr>
          <a:xfrm rot="19236000">
            <a:off x="1920960" y="4614480"/>
            <a:ext cx="1251000" cy="116856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Дуга 12"/>
          <p:cNvSpPr/>
          <p:nvPr/>
        </p:nvSpPr>
        <p:spPr>
          <a:xfrm rot="19236000">
            <a:off x="379440" y="481824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13"/>
          <p:cNvSpPr/>
          <p:nvPr/>
        </p:nvSpPr>
        <p:spPr>
          <a:xfrm>
            <a:off x="233280" y="4076640"/>
            <a:ext cx="4500720" cy="1800"/>
          </a:xfrm>
          <a:prstGeom prst="line">
            <a:avLst/>
          </a:prstGeom>
          <a:ln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оловина рамки 14"/>
          <p:cNvSpPr/>
          <p:nvPr/>
        </p:nvSpPr>
        <p:spPr>
          <a:xfrm>
            <a:off x="4365720" y="3743280"/>
            <a:ext cx="1214280" cy="357120"/>
          </a:xfrm>
          <a:custGeom>
            <a:avLst/>
            <a:gdLst/>
            <a:ahLst/>
            <a:rect l="l" t="t" r="r" b="b"/>
            <a:pathLst>
              <a:path w="1214438" h="357188">
                <a:moveTo>
                  <a:pt x="0" y="0"/>
                </a:moveTo>
                <a:lnTo>
                  <a:pt x="1214438" y="0"/>
                </a:lnTo>
                <a:lnTo>
                  <a:pt x="809629" y="119061"/>
                </a:lnTo>
                <a:lnTo>
                  <a:pt x="119061" y="119061"/>
                </a:lnTo>
                <a:lnTo>
                  <a:pt x="119061" y="322170"/>
                </a:lnTo>
                <a:lnTo>
                  <a:pt x="0" y="357188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оловина рамки 15"/>
          <p:cNvSpPr/>
          <p:nvPr/>
        </p:nvSpPr>
        <p:spPr>
          <a:xfrm rot="16200000">
            <a:off x="4830120" y="3612240"/>
            <a:ext cx="357120" cy="1285920"/>
          </a:xfrm>
          <a:custGeom>
            <a:avLst/>
            <a:gdLst/>
            <a:ahLst/>
            <a:rect l="l" t="t" r="r" b="b"/>
            <a:pathLst>
              <a:path w="357188" h="1285875">
                <a:moveTo>
                  <a:pt x="0" y="0"/>
                </a:moveTo>
                <a:lnTo>
                  <a:pt x="357188" y="0"/>
                </a:lnTo>
                <a:lnTo>
                  <a:pt x="324115" y="119061"/>
                </a:lnTo>
                <a:lnTo>
                  <a:pt x="119061" y="119061"/>
                </a:lnTo>
                <a:lnTo>
                  <a:pt x="119061" y="857254"/>
                </a:lnTo>
                <a:lnTo>
                  <a:pt x="0" y="128587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44730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4298040" y="32083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9.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делите число 188 пополам так, чтобы получилос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две сотни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4365720"/>
            <a:ext cx="76964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Прямоугольник 1" descr=""/>
          <p:cNvPicPr/>
          <p:nvPr/>
        </p:nvPicPr>
        <p:blipFill>
          <a:blip r:embed="rId1"/>
          <a:stretch/>
        </p:blipFill>
        <p:spPr>
          <a:xfrm>
            <a:off x="1779480" y="2408400"/>
            <a:ext cx="5596200" cy="395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2987640" y="3913200"/>
            <a:ext cx="3389400" cy="103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0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ясните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сколько треугольников    на рисун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843280" y="5425560"/>
            <a:ext cx="281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omic Sans MS"/>
              </a:rPr>
              <a:t>12 треугольни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http://ts4.mm.bing.net/images/thumbnail.aspx?q=1446236004111&amp;id=596fa2651fdc118ee958c78fb80df701&amp;url=http%3a%2f%2fwantuz.ru%2fuploads%2fposts%2f2011-02%2f1297246377_31180400.gif"/>
          <p:cNvPicPr/>
          <p:nvPr/>
        </p:nvPicPr>
        <p:blipFill>
          <a:blip r:embed="rId1"/>
          <a:stretch/>
        </p:blipFill>
        <p:spPr>
          <a:xfrm>
            <a:off x="328680" y="2340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5407200" y="2671920"/>
            <a:ext cx="3165480" cy="29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5407200" y="3597120"/>
            <a:ext cx="2117520" cy="199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5407200" y="3500280"/>
            <a:ext cx="957240" cy="205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5"/>
          <a:stretch/>
        </p:blipFill>
        <p:spPr>
          <a:xfrm>
            <a:off x="5416560" y="4437000"/>
            <a:ext cx="1898640" cy="114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50920" y="737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Данная фигура с периметром 16 см  состоит из семи квадратов. Найдите площадь этой фигу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120760" y="573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 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 = 7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в.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2" descr="http://school5kuz.3dn.ru/1271621565_r7.jpg"/>
          <p:cNvPicPr/>
          <p:nvPr/>
        </p:nvPicPr>
        <p:blipFill>
          <a:blip r:embed="rId1"/>
          <a:stretch/>
        </p:blipFill>
        <p:spPr>
          <a:xfrm>
            <a:off x="6500880" y="364320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36572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3"/>
          <p:cNvSpPr/>
          <p:nvPr/>
        </p:nvSpPr>
        <p:spPr>
          <a:xfrm>
            <a:off x="3290400" y="823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684360" y="52452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324000" y="3719160"/>
            <a:ext cx="61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64"/>
          <p:cNvSpPr/>
          <p:nvPr/>
        </p:nvSpPr>
        <p:spPr>
          <a:xfrm>
            <a:off x="6612480" y="2924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65"/>
          <p:cNvSpPr/>
          <p:nvPr/>
        </p:nvSpPr>
        <p:spPr>
          <a:xfrm>
            <a:off x="6612480" y="3284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66"/>
          <p:cNvSpPr/>
          <p:nvPr/>
        </p:nvSpPr>
        <p:spPr>
          <a:xfrm>
            <a:off x="6659640" y="36450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6659640" y="4005360"/>
            <a:ext cx="14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68"/>
          <p:cNvSpPr/>
          <p:nvPr/>
        </p:nvSpPr>
        <p:spPr>
          <a:xfrm>
            <a:off x="4926960" y="501336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=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131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кв.е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190520" y="1501920"/>
            <a:ext cx="72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числите площадь данной фигу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1"/>
          <a:stretch/>
        </p:blipFill>
        <p:spPr>
          <a:xfrm>
            <a:off x="709560" y="2311560"/>
            <a:ext cx="3846600" cy="327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30320" y="209520"/>
            <a:ext cx="87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Дана др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ое число нужно прибавить 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числителю и знаменателю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чтобы получилась др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763640" y="4292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826920" y="4869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908000" y="5300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335040" y="595008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Объект 4"/>
              <p:cNvSpPr txBox="1"/>
              <p:nvPr/>
            </p:nvSpPr>
            <p:spPr>
              <a:xfrm>
                <a:off x="5867280" y="692280"/>
                <a:ext cx="463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Объект 6"/>
              <p:cNvSpPr txBox="1"/>
              <p:nvPr/>
            </p:nvSpPr>
            <p:spPr>
              <a:xfrm>
                <a:off x="7093080" y="2349360"/>
                <a:ext cx="287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Объект 7"/>
              <p:cNvSpPr txBox="1"/>
              <p:nvPr/>
            </p:nvSpPr>
            <p:spPr>
              <a:xfrm>
                <a:off x="1187280" y="3645000"/>
                <a:ext cx="352764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Объект 8"/>
              <p:cNvSpPr txBox="1"/>
              <p:nvPr/>
            </p:nvSpPr>
            <p:spPr>
              <a:xfrm>
                <a:off x="4859280" y="3594240"/>
                <a:ext cx="127008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4" name="Picture 18" descr=""/>
          <p:cNvPicPr/>
          <p:nvPr/>
        </p:nvPicPr>
        <p:blipFill>
          <a:blip r:embed="rId1"/>
          <a:stretch/>
        </p:blipFill>
        <p:spPr>
          <a:xfrm>
            <a:off x="3857760" y="3772080"/>
            <a:ext cx="841320" cy="669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"/>
          <p:cNvPicPr/>
          <p:nvPr/>
        </p:nvPicPr>
        <p:blipFill>
          <a:blip r:embed="rId2"/>
          <a:stretch/>
        </p:blipFill>
        <p:spPr>
          <a:xfrm>
            <a:off x="3892680" y="465624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135000" y="2826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1763640" y="5867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" name="Shape 413"/>
          <p:cNvGrpSpPr/>
          <p:nvPr/>
        </p:nvGrpSpPr>
        <p:grpSpPr>
          <a:xfrm>
            <a:off x="6507000" y="3827520"/>
            <a:ext cx="2540160" cy="2138400"/>
            <a:chOff x="6507000" y="3827520"/>
            <a:chExt cx="2540160" cy="2138400"/>
          </a:xfrm>
        </p:grpSpPr>
        <p:sp>
          <p:nvSpPr>
            <p:cNvPr id="260" name="Shape 414"/>
            <p:cNvSpPr/>
            <p:nvPr/>
          </p:nvSpPr>
          <p:spPr>
            <a:xfrm>
              <a:off x="6507000" y="3827520"/>
              <a:ext cx="2540160" cy="2138400"/>
            </a:xfrm>
            <a:custGeom>
              <a:avLst/>
              <a:gdLst>
                <a:gd name="textAreaLeft" fmla="*/ 0 w 2540160"/>
                <a:gd name="textAreaRight" fmla="*/ 2540520 w 254016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119408" h="119345">
                  <a:moveTo>
                    <a:pt x="37167" y="117154"/>
                  </a:moveTo>
                  <a:lnTo>
                    <a:pt x="38551" y="117811"/>
                  </a:lnTo>
                  <a:lnTo>
                    <a:pt x="40528" y="118249"/>
                  </a:lnTo>
                  <a:lnTo>
                    <a:pt x="41912" y="117373"/>
                  </a:lnTo>
                  <a:lnTo>
                    <a:pt x="42900" y="116059"/>
                  </a:lnTo>
                  <a:lnTo>
                    <a:pt x="43493" y="116497"/>
                  </a:lnTo>
                  <a:lnTo>
                    <a:pt x="44482" y="117373"/>
                  </a:lnTo>
                  <a:lnTo>
                    <a:pt x="45470" y="117811"/>
                  </a:lnTo>
                  <a:lnTo>
                    <a:pt x="46656" y="117592"/>
                  </a:lnTo>
                  <a:lnTo>
                    <a:pt x="47645" y="116716"/>
                  </a:lnTo>
                  <a:lnTo>
                    <a:pt x="48831" y="116059"/>
                  </a:lnTo>
                  <a:lnTo>
                    <a:pt x="50017" y="116059"/>
                  </a:lnTo>
                  <a:lnTo>
                    <a:pt x="51203" y="116059"/>
                  </a:lnTo>
                  <a:lnTo>
                    <a:pt x="52389" y="116059"/>
                  </a:lnTo>
                  <a:lnTo>
                    <a:pt x="53576" y="116059"/>
                  </a:lnTo>
                  <a:lnTo>
                    <a:pt x="54564" y="116059"/>
                  </a:lnTo>
                  <a:lnTo>
                    <a:pt x="55750" y="116059"/>
                  </a:lnTo>
                  <a:lnTo>
                    <a:pt x="56936" y="116059"/>
                  </a:lnTo>
                  <a:lnTo>
                    <a:pt x="58123" y="116059"/>
                  </a:lnTo>
                  <a:lnTo>
                    <a:pt x="59309" y="115840"/>
                  </a:lnTo>
                  <a:lnTo>
                    <a:pt x="60693" y="115840"/>
                  </a:lnTo>
                  <a:lnTo>
                    <a:pt x="61879" y="115621"/>
                  </a:lnTo>
                  <a:lnTo>
                    <a:pt x="63460" y="115621"/>
                  </a:lnTo>
                  <a:lnTo>
                    <a:pt x="65042" y="115402"/>
                  </a:lnTo>
                  <a:lnTo>
                    <a:pt x="67217" y="115402"/>
                  </a:lnTo>
                  <a:lnTo>
                    <a:pt x="68996" y="115621"/>
                  </a:lnTo>
                  <a:lnTo>
                    <a:pt x="70577" y="116497"/>
                  </a:lnTo>
                  <a:lnTo>
                    <a:pt x="71566" y="116935"/>
                  </a:lnTo>
                  <a:lnTo>
                    <a:pt x="72950" y="117154"/>
                  </a:lnTo>
                  <a:lnTo>
                    <a:pt x="73543" y="116497"/>
                  </a:lnTo>
                  <a:lnTo>
                    <a:pt x="74333" y="115840"/>
                  </a:lnTo>
                  <a:lnTo>
                    <a:pt x="74531" y="116935"/>
                  </a:lnTo>
                  <a:lnTo>
                    <a:pt x="75520" y="117811"/>
                  </a:lnTo>
                  <a:lnTo>
                    <a:pt x="76706" y="118030"/>
                  </a:lnTo>
                  <a:lnTo>
                    <a:pt x="77892" y="118468"/>
                  </a:lnTo>
                  <a:lnTo>
                    <a:pt x="79078" y="117811"/>
                  </a:lnTo>
                  <a:lnTo>
                    <a:pt x="80264" y="117592"/>
                  </a:lnTo>
                  <a:lnTo>
                    <a:pt x="81055" y="118468"/>
                  </a:lnTo>
                  <a:lnTo>
                    <a:pt x="82439" y="119344"/>
                  </a:lnTo>
                  <a:lnTo>
                    <a:pt x="83427" y="118906"/>
                  </a:lnTo>
                  <a:lnTo>
                    <a:pt x="84614" y="118468"/>
                  </a:lnTo>
                  <a:lnTo>
                    <a:pt x="85800" y="117811"/>
                  </a:lnTo>
                  <a:lnTo>
                    <a:pt x="86986" y="117592"/>
                  </a:lnTo>
                  <a:lnTo>
                    <a:pt x="87381" y="116716"/>
                  </a:lnTo>
                  <a:lnTo>
                    <a:pt x="87777" y="115840"/>
                  </a:lnTo>
                  <a:lnTo>
                    <a:pt x="88172" y="115183"/>
                  </a:lnTo>
                  <a:lnTo>
                    <a:pt x="89358" y="115402"/>
                  </a:lnTo>
                  <a:lnTo>
                    <a:pt x="90940" y="115621"/>
                  </a:lnTo>
                  <a:lnTo>
                    <a:pt x="93114" y="115840"/>
                  </a:lnTo>
                  <a:lnTo>
                    <a:pt x="94894" y="115621"/>
                  </a:lnTo>
                  <a:lnTo>
                    <a:pt x="96871" y="115183"/>
                  </a:lnTo>
                  <a:lnTo>
                    <a:pt x="96871" y="113213"/>
                  </a:lnTo>
                  <a:lnTo>
                    <a:pt x="97068" y="111461"/>
                  </a:lnTo>
                  <a:lnTo>
                    <a:pt x="97266" y="109709"/>
                  </a:lnTo>
                  <a:lnTo>
                    <a:pt x="97464" y="107957"/>
                  </a:lnTo>
                  <a:lnTo>
                    <a:pt x="97661" y="105986"/>
                  </a:lnTo>
                  <a:lnTo>
                    <a:pt x="97859" y="104235"/>
                  </a:lnTo>
                  <a:lnTo>
                    <a:pt x="98057" y="102483"/>
                  </a:lnTo>
                  <a:lnTo>
                    <a:pt x="98254" y="100950"/>
                  </a:lnTo>
                  <a:lnTo>
                    <a:pt x="98452" y="99855"/>
                  </a:lnTo>
                  <a:lnTo>
                    <a:pt x="98057" y="99198"/>
                  </a:lnTo>
                  <a:lnTo>
                    <a:pt x="96673" y="98979"/>
                  </a:lnTo>
                  <a:lnTo>
                    <a:pt x="95487" y="98979"/>
                  </a:lnTo>
                  <a:lnTo>
                    <a:pt x="94301" y="98760"/>
                  </a:lnTo>
                  <a:lnTo>
                    <a:pt x="93114" y="98760"/>
                  </a:lnTo>
                  <a:lnTo>
                    <a:pt x="91731" y="98541"/>
                  </a:lnTo>
                  <a:lnTo>
                    <a:pt x="90544" y="98541"/>
                  </a:lnTo>
                  <a:lnTo>
                    <a:pt x="89358" y="98541"/>
                  </a:lnTo>
                  <a:lnTo>
                    <a:pt x="88172" y="98541"/>
                  </a:lnTo>
                  <a:lnTo>
                    <a:pt x="87381" y="97227"/>
                  </a:lnTo>
                  <a:lnTo>
                    <a:pt x="86590" y="96132"/>
                  </a:lnTo>
                  <a:lnTo>
                    <a:pt x="85404" y="95037"/>
                  </a:lnTo>
                  <a:lnTo>
                    <a:pt x="84416" y="94818"/>
                  </a:lnTo>
                  <a:lnTo>
                    <a:pt x="82637" y="95475"/>
                  </a:lnTo>
                  <a:lnTo>
                    <a:pt x="81450" y="96789"/>
                  </a:lnTo>
                  <a:lnTo>
                    <a:pt x="80462" y="95694"/>
                  </a:lnTo>
                  <a:lnTo>
                    <a:pt x="79276" y="95694"/>
                  </a:lnTo>
                  <a:lnTo>
                    <a:pt x="78485" y="95694"/>
                  </a:lnTo>
                  <a:lnTo>
                    <a:pt x="78683" y="94818"/>
                  </a:lnTo>
                  <a:lnTo>
                    <a:pt x="79474" y="94162"/>
                  </a:lnTo>
                  <a:lnTo>
                    <a:pt x="79869" y="92848"/>
                  </a:lnTo>
                  <a:lnTo>
                    <a:pt x="80462" y="91534"/>
                  </a:lnTo>
                  <a:lnTo>
                    <a:pt x="80857" y="90220"/>
                  </a:lnTo>
                  <a:lnTo>
                    <a:pt x="81450" y="89125"/>
                  </a:lnTo>
                  <a:lnTo>
                    <a:pt x="81648" y="87811"/>
                  </a:lnTo>
                  <a:lnTo>
                    <a:pt x="82044" y="86716"/>
                  </a:lnTo>
                  <a:lnTo>
                    <a:pt x="82637" y="85402"/>
                  </a:lnTo>
                  <a:lnTo>
                    <a:pt x="83427" y="84308"/>
                  </a:lnTo>
                  <a:lnTo>
                    <a:pt x="83625" y="82775"/>
                  </a:lnTo>
                  <a:lnTo>
                    <a:pt x="83823" y="81461"/>
                  </a:lnTo>
                  <a:lnTo>
                    <a:pt x="84218" y="80147"/>
                  </a:lnTo>
                  <a:lnTo>
                    <a:pt x="85207" y="79052"/>
                  </a:lnTo>
                  <a:lnTo>
                    <a:pt x="85404" y="77738"/>
                  </a:lnTo>
                  <a:lnTo>
                    <a:pt x="85800" y="76643"/>
                  </a:lnTo>
                  <a:lnTo>
                    <a:pt x="85997" y="75329"/>
                  </a:lnTo>
                  <a:lnTo>
                    <a:pt x="86195" y="74235"/>
                  </a:lnTo>
                  <a:lnTo>
                    <a:pt x="86195" y="72921"/>
                  </a:lnTo>
                  <a:lnTo>
                    <a:pt x="86393" y="71607"/>
                  </a:lnTo>
                  <a:lnTo>
                    <a:pt x="86590" y="70293"/>
                  </a:lnTo>
                  <a:lnTo>
                    <a:pt x="86788" y="68979"/>
                  </a:lnTo>
                  <a:lnTo>
                    <a:pt x="87184" y="68760"/>
                  </a:lnTo>
                  <a:lnTo>
                    <a:pt x="87777" y="68322"/>
                  </a:lnTo>
                  <a:lnTo>
                    <a:pt x="87777" y="66570"/>
                  </a:lnTo>
                  <a:lnTo>
                    <a:pt x="87777" y="65037"/>
                  </a:lnTo>
                  <a:lnTo>
                    <a:pt x="87777" y="63286"/>
                  </a:lnTo>
                  <a:lnTo>
                    <a:pt x="87777" y="61972"/>
                  </a:lnTo>
                  <a:lnTo>
                    <a:pt x="88567" y="62629"/>
                  </a:lnTo>
                  <a:lnTo>
                    <a:pt x="89358" y="63724"/>
                  </a:lnTo>
                  <a:lnTo>
                    <a:pt x="89951" y="64599"/>
                  </a:lnTo>
                  <a:lnTo>
                    <a:pt x="90940" y="65694"/>
                  </a:lnTo>
                  <a:lnTo>
                    <a:pt x="91928" y="66351"/>
                  </a:lnTo>
                  <a:lnTo>
                    <a:pt x="93114" y="67227"/>
                  </a:lnTo>
                  <a:lnTo>
                    <a:pt x="94301" y="67884"/>
                  </a:lnTo>
                  <a:lnTo>
                    <a:pt x="95487" y="68760"/>
                  </a:lnTo>
                  <a:lnTo>
                    <a:pt x="96673" y="68979"/>
                  </a:lnTo>
                  <a:lnTo>
                    <a:pt x="97859" y="69636"/>
                  </a:lnTo>
                  <a:lnTo>
                    <a:pt x="99243" y="69855"/>
                  </a:lnTo>
                  <a:lnTo>
                    <a:pt x="100627" y="70512"/>
                  </a:lnTo>
                  <a:lnTo>
                    <a:pt x="101813" y="70293"/>
                  </a:lnTo>
                  <a:lnTo>
                    <a:pt x="103197" y="70074"/>
                  </a:lnTo>
                  <a:lnTo>
                    <a:pt x="104185" y="69417"/>
                  </a:lnTo>
                  <a:lnTo>
                    <a:pt x="105174" y="68541"/>
                  </a:lnTo>
                  <a:lnTo>
                    <a:pt x="104581" y="67008"/>
                  </a:lnTo>
                  <a:lnTo>
                    <a:pt x="103592" y="66132"/>
                  </a:lnTo>
                  <a:lnTo>
                    <a:pt x="102406" y="65256"/>
                  </a:lnTo>
                  <a:lnTo>
                    <a:pt x="101418" y="64599"/>
                  </a:lnTo>
                  <a:lnTo>
                    <a:pt x="101220" y="64381"/>
                  </a:lnTo>
                  <a:lnTo>
                    <a:pt x="103197" y="64381"/>
                  </a:lnTo>
                  <a:lnTo>
                    <a:pt x="105371" y="64162"/>
                  </a:lnTo>
                  <a:lnTo>
                    <a:pt x="107348" y="63724"/>
                  </a:lnTo>
                  <a:lnTo>
                    <a:pt x="109523" y="63286"/>
                  </a:lnTo>
                  <a:lnTo>
                    <a:pt x="110116" y="62410"/>
                  </a:lnTo>
                  <a:lnTo>
                    <a:pt x="110907" y="61534"/>
                  </a:lnTo>
                  <a:lnTo>
                    <a:pt x="110907" y="60439"/>
                  </a:lnTo>
                  <a:lnTo>
                    <a:pt x="110511" y="59563"/>
                  </a:lnTo>
                  <a:lnTo>
                    <a:pt x="108930" y="58906"/>
                  </a:lnTo>
                  <a:lnTo>
                    <a:pt x="107546" y="58687"/>
                  </a:lnTo>
                  <a:lnTo>
                    <a:pt x="105964" y="58249"/>
                  </a:lnTo>
                  <a:lnTo>
                    <a:pt x="104778" y="58030"/>
                  </a:lnTo>
                  <a:lnTo>
                    <a:pt x="105964" y="57592"/>
                  </a:lnTo>
                  <a:lnTo>
                    <a:pt x="107151" y="57154"/>
                  </a:lnTo>
                  <a:lnTo>
                    <a:pt x="108337" y="56716"/>
                  </a:lnTo>
                  <a:lnTo>
                    <a:pt x="109721" y="56278"/>
                  </a:lnTo>
                  <a:lnTo>
                    <a:pt x="110709" y="55621"/>
                  </a:lnTo>
                  <a:lnTo>
                    <a:pt x="111895" y="54964"/>
                  </a:lnTo>
                  <a:lnTo>
                    <a:pt x="113081" y="54089"/>
                  </a:lnTo>
                  <a:lnTo>
                    <a:pt x="114268" y="53432"/>
                  </a:lnTo>
                  <a:lnTo>
                    <a:pt x="114663" y="52337"/>
                  </a:lnTo>
                  <a:lnTo>
                    <a:pt x="114861" y="51461"/>
                  </a:lnTo>
                  <a:lnTo>
                    <a:pt x="113675" y="50366"/>
                  </a:lnTo>
                  <a:lnTo>
                    <a:pt x="112686" y="49928"/>
                  </a:lnTo>
                  <a:lnTo>
                    <a:pt x="111500" y="49928"/>
                  </a:lnTo>
                  <a:lnTo>
                    <a:pt x="110314" y="49928"/>
                  </a:lnTo>
                  <a:lnTo>
                    <a:pt x="110116" y="49928"/>
                  </a:lnTo>
                  <a:lnTo>
                    <a:pt x="110907" y="48614"/>
                  </a:lnTo>
                  <a:lnTo>
                    <a:pt x="111895" y="47738"/>
                  </a:lnTo>
                  <a:lnTo>
                    <a:pt x="113081" y="46862"/>
                  </a:lnTo>
                  <a:lnTo>
                    <a:pt x="114268" y="45986"/>
                  </a:lnTo>
                  <a:lnTo>
                    <a:pt x="115256" y="45110"/>
                  </a:lnTo>
                  <a:lnTo>
                    <a:pt x="116442" y="44235"/>
                  </a:lnTo>
                  <a:lnTo>
                    <a:pt x="117431" y="43140"/>
                  </a:lnTo>
                  <a:lnTo>
                    <a:pt x="118617" y="42264"/>
                  </a:lnTo>
                  <a:lnTo>
                    <a:pt x="119012" y="40950"/>
                  </a:lnTo>
                  <a:lnTo>
                    <a:pt x="119210" y="39855"/>
                  </a:lnTo>
                  <a:lnTo>
                    <a:pt x="118419" y="38979"/>
                  </a:lnTo>
                  <a:lnTo>
                    <a:pt x="117431" y="38979"/>
                  </a:lnTo>
                  <a:lnTo>
                    <a:pt x="116442" y="39198"/>
                  </a:lnTo>
                  <a:lnTo>
                    <a:pt x="115454" y="39417"/>
                  </a:lnTo>
                  <a:lnTo>
                    <a:pt x="114070" y="40074"/>
                  </a:lnTo>
                  <a:lnTo>
                    <a:pt x="112686" y="41169"/>
                  </a:lnTo>
                  <a:lnTo>
                    <a:pt x="112686" y="40731"/>
                  </a:lnTo>
                  <a:lnTo>
                    <a:pt x="113675" y="38979"/>
                  </a:lnTo>
                  <a:lnTo>
                    <a:pt x="114663" y="37227"/>
                  </a:lnTo>
                  <a:lnTo>
                    <a:pt x="115651" y="35475"/>
                  </a:lnTo>
                  <a:lnTo>
                    <a:pt x="116838" y="33724"/>
                  </a:lnTo>
                  <a:lnTo>
                    <a:pt x="117628" y="31753"/>
                  </a:lnTo>
                  <a:lnTo>
                    <a:pt x="118419" y="30001"/>
                  </a:lnTo>
                  <a:lnTo>
                    <a:pt x="118815" y="28249"/>
                  </a:lnTo>
                  <a:lnTo>
                    <a:pt x="119408" y="26497"/>
                  </a:lnTo>
                  <a:lnTo>
                    <a:pt x="118815" y="25840"/>
                  </a:lnTo>
                  <a:lnTo>
                    <a:pt x="117826" y="26059"/>
                  </a:lnTo>
                  <a:lnTo>
                    <a:pt x="115849" y="26935"/>
                  </a:lnTo>
                  <a:lnTo>
                    <a:pt x="114465" y="28687"/>
                  </a:lnTo>
                  <a:lnTo>
                    <a:pt x="112884" y="30220"/>
                  </a:lnTo>
                  <a:lnTo>
                    <a:pt x="111698" y="31972"/>
                  </a:lnTo>
                  <a:lnTo>
                    <a:pt x="112093" y="30220"/>
                  </a:lnTo>
                  <a:lnTo>
                    <a:pt x="112686" y="28468"/>
                  </a:lnTo>
                  <a:lnTo>
                    <a:pt x="113081" y="26716"/>
                  </a:lnTo>
                  <a:lnTo>
                    <a:pt x="113675" y="24964"/>
                  </a:lnTo>
                  <a:lnTo>
                    <a:pt x="114070" y="23213"/>
                  </a:lnTo>
                  <a:lnTo>
                    <a:pt x="114663" y="21461"/>
                  </a:lnTo>
                  <a:lnTo>
                    <a:pt x="115058" y="19709"/>
                  </a:lnTo>
                  <a:lnTo>
                    <a:pt x="115454" y="17957"/>
                  </a:lnTo>
                  <a:lnTo>
                    <a:pt x="115454" y="16424"/>
                  </a:lnTo>
                  <a:lnTo>
                    <a:pt x="115058" y="15110"/>
                  </a:lnTo>
                  <a:lnTo>
                    <a:pt x="114070" y="15329"/>
                  </a:lnTo>
                  <a:lnTo>
                    <a:pt x="113279" y="15986"/>
                  </a:lnTo>
                  <a:lnTo>
                    <a:pt x="112686" y="16862"/>
                  </a:lnTo>
                  <a:lnTo>
                    <a:pt x="112093" y="17738"/>
                  </a:lnTo>
                  <a:lnTo>
                    <a:pt x="111104" y="19271"/>
                  </a:lnTo>
                  <a:lnTo>
                    <a:pt x="110116" y="21023"/>
                  </a:lnTo>
                  <a:lnTo>
                    <a:pt x="108930" y="22556"/>
                  </a:lnTo>
                  <a:lnTo>
                    <a:pt x="108139" y="24527"/>
                  </a:lnTo>
                  <a:lnTo>
                    <a:pt x="108337" y="22556"/>
                  </a:lnTo>
                  <a:lnTo>
                    <a:pt x="108534" y="20804"/>
                  </a:lnTo>
                  <a:lnTo>
                    <a:pt x="108732" y="18833"/>
                  </a:lnTo>
                  <a:lnTo>
                    <a:pt x="108930" y="17081"/>
                  </a:lnTo>
                  <a:lnTo>
                    <a:pt x="108732" y="15110"/>
                  </a:lnTo>
                  <a:lnTo>
                    <a:pt x="108732" y="13140"/>
                  </a:lnTo>
                  <a:lnTo>
                    <a:pt x="108337" y="11388"/>
                  </a:lnTo>
                  <a:lnTo>
                    <a:pt x="107941" y="9636"/>
                  </a:lnTo>
                  <a:lnTo>
                    <a:pt x="107151" y="7665"/>
                  </a:lnTo>
                  <a:lnTo>
                    <a:pt x="105767" y="6351"/>
                  </a:lnTo>
                  <a:lnTo>
                    <a:pt x="104581" y="6570"/>
                  </a:lnTo>
                  <a:lnTo>
                    <a:pt x="103988" y="7665"/>
                  </a:lnTo>
                  <a:lnTo>
                    <a:pt x="103197" y="9855"/>
                  </a:lnTo>
                  <a:lnTo>
                    <a:pt x="102604" y="12264"/>
                  </a:lnTo>
                  <a:lnTo>
                    <a:pt x="102208" y="13359"/>
                  </a:lnTo>
                  <a:lnTo>
                    <a:pt x="102208" y="14454"/>
                  </a:lnTo>
                  <a:lnTo>
                    <a:pt x="101813" y="15767"/>
                  </a:lnTo>
                  <a:lnTo>
                    <a:pt x="101813" y="17081"/>
                  </a:lnTo>
                  <a:lnTo>
                    <a:pt x="101418" y="19271"/>
                  </a:lnTo>
                  <a:lnTo>
                    <a:pt x="101022" y="21680"/>
                  </a:lnTo>
                  <a:lnTo>
                    <a:pt x="100824" y="22775"/>
                  </a:lnTo>
                  <a:lnTo>
                    <a:pt x="100627" y="24089"/>
                  </a:lnTo>
                  <a:lnTo>
                    <a:pt x="100429" y="25402"/>
                  </a:lnTo>
                  <a:lnTo>
                    <a:pt x="100429" y="26716"/>
                  </a:lnTo>
                  <a:lnTo>
                    <a:pt x="100034" y="28030"/>
                  </a:lnTo>
                  <a:lnTo>
                    <a:pt x="99836" y="29563"/>
                  </a:lnTo>
                  <a:lnTo>
                    <a:pt x="99638" y="30877"/>
                  </a:lnTo>
                  <a:lnTo>
                    <a:pt x="99441" y="32410"/>
                  </a:lnTo>
                  <a:lnTo>
                    <a:pt x="99045" y="33724"/>
                  </a:lnTo>
                  <a:lnTo>
                    <a:pt x="98650" y="35256"/>
                  </a:lnTo>
                  <a:lnTo>
                    <a:pt x="98057" y="36570"/>
                  </a:lnTo>
                  <a:lnTo>
                    <a:pt x="97661" y="38103"/>
                  </a:lnTo>
                  <a:lnTo>
                    <a:pt x="96871" y="39417"/>
                  </a:lnTo>
                  <a:lnTo>
                    <a:pt x="96277" y="40731"/>
                  </a:lnTo>
                  <a:lnTo>
                    <a:pt x="95684" y="42045"/>
                  </a:lnTo>
                  <a:lnTo>
                    <a:pt x="95091" y="43359"/>
                  </a:lnTo>
                  <a:lnTo>
                    <a:pt x="94103" y="44454"/>
                  </a:lnTo>
                  <a:lnTo>
                    <a:pt x="93312" y="45767"/>
                  </a:lnTo>
                  <a:lnTo>
                    <a:pt x="92324" y="47081"/>
                  </a:lnTo>
                  <a:lnTo>
                    <a:pt x="91533" y="48395"/>
                  </a:lnTo>
                  <a:lnTo>
                    <a:pt x="89951" y="49490"/>
                  </a:lnTo>
                  <a:lnTo>
                    <a:pt x="88370" y="50585"/>
                  </a:lnTo>
                  <a:lnTo>
                    <a:pt x="87974" y="49271"/>
                  </a:lnTo>
                  <a:lnTo>
                    <a:pt x="87777" y="47957"/>
                  </a:lnTo>
                  <a:lnTo>
                    <a:pt x="87184" y="46643"/>
                  </a:lnTo>
                  <a:lnTo>
                    <a:pt x="87184" y="45548"/>
                  </a:lnTo>
                  <a:lnTo>
                    <a:pt x="87184" y="44016"/>
                  </a:lnTo>
                  <a:lnTo>
                    <a:pt x="86986" y="42483"/>
                  </a:lnTo>
                  <a:lnTo>
                    <a:pt x="86393" y="40950"/>
                  </a:lnTo>
                  <a:lnTo>
                    <a:pt x="85800" y="39636"/>
                  </a:lnTo>
                  <a:lnTo>
                    <a:pt x="85207" y="38322"/>
                  </a:lnTo>
                  <a:lnTo>
                    <a:pt x="84614" y="37008"/>
                  </a:lnTo>
                  <a:lnTo>
                    <a:pt x="83823" y="35694"/>
                  </a:lnTo>
                  <a:lnTo>
                    <a:pt x="83032" y="34381"/>
                  </a:lnTo>
                  <a:lnTo>
                    <a:pt x="82439" y="33067"/>
                  </a:lnTo>
                  <a:lnTo>
                    <a:pt x="81846" y="31753"/>
                  </a:lnTo>
                  <a:lnTo>
                    <a:pt x="81846" y="30439"/>
                  </a:lnTo>
                  <a:lnTo>
                    <a:pt x="81055" y="29125"/>
                  </a:lnTo>
                  <a:lnTo>
                    <a:pt x="79869" y="28030"/>
                  </a:lnTo>
                  <a:lnTo>
                    <a:pt x="79078" y="26935"/>
                  </a:lnTo>
                  <a:lnTo>
                    <a:pt x="77101" y="24964"/>
                  </a:lnTo>
                  <a:lnTo>
                    <a:pt x="75124" y="23432"/>
                  </a:lnTo>
                  <a:lnTo>
                    <a:pt x="75915" y="22337"/>
                  </a:lnTo>
                  <a:lnTo>
                    <a:pt x="77101" y="21461"/>
                  </a:lnTo>
                  <a:lnTo>
                    <a:pt x="78090" y="20585"/>
                  </a:lnTo>
                  <a:lnTo>
                    <a:pt x="78485" y="19271"/>
                  </a:lnTo>
                  <a:lnTo>
                    <a:pt x="77892" y="18833"/>
                  </a:lnTo>
                  <a:lnTo>
                    <a:pt x="79078" y="16862"/>
                  </a:lnTo>
                  <a:lnTo>
                    <a:pt x="79869" y="14891"/>
                  </a:lnTo>
                  <a:lnTo>
                    <a:pt x="79078" y="14235"/>
                  </a:lnTo>
                  <a:lnTo>
                    <a:pt x="78287" y="14454"/>
                  </a:lnTo>
                  <a:lnTo>
                    <a:pt x="78683" y="12921"/>
                  </a:lnTo>
                  <a:lnTo>
                    <a:pt x="79078" y="11388"/>
                  </a:lnTo>
                  <a:lnTo>
                    <a:pt x="79078" y="9855"/>
                  </a:lnTo>
                  <a:lnTo>
                    <a:pt x="79078" y="8541"/>
                  </a:lnTo>
                  <a:lnTo>
                    <a:pt x="78287" y="8541"/>
                  </a:lnTo>
                  <a:lnTo>
                    <a:pt x="77694" y="9198"/>
                  </a:lnTo>
                  <a:lnTo>
                    <a:pt x="77497" y="7446"/>
                  </a:lnTo>
                  <a:lnTo>
                    <a:pt x="77497" y="5913"/>
                  </a:lnTo>
                  <a:lnTo>
                    <a:pt x="77299" y="4162"/>
                  </a:lnTo>
                  <a:lnTo>
                    <a:pt x="77101" y="2848"/>
                  </a:lnTo>
                  <a:lnTo>
                    <a:pt x="76508" y="2410"/>
                  </a:lnTo>
                  <a:lnTo>
                    <a:pt x="76113" y="2410"/>
                  </a:lnTo>
                  <a:lnTo>
                    <a:pt x="75915" y="2629"/>
                  </a:lnTo>
                  <a:lnTo>
                    <a:pt x="75717" y="3067"/>
                  </a:lnTo>
                  <a:lnTo>
                    <a:pt x="74927" y="1315"/>
                  </a:lnTo>
                  <a:lnTo>
                    <a:pt x="73740" y="1"/>
                  </a:lnTo>
                  <a:lnTo>
                    <a:pt x="72752" y="220"/>
                  </a:lnTo>
                  <a:lnTo>
                    <a:pt x="72752" y="1534"/>
                  </a:lnTo>
                  <a:lnTo>
                    <a:pt x="73147" y="3505"/>
                  </a:lnTo>
                  <a:lnTo>
                    <a:pt x="73543" y="5475"/>
                  </a:lnTo>
                  <a:lnTo>
                    <a:pt x="73543" y="7446"/>
                  </a:lnTo>
                  <a:lnTo>
                    <a:pt x="73543" y="9636"/>
                  </a:lnTo>
                  <a:lnTo>
                    <a:pt x="72950" y="11388"/>
                  </a:lnTo>
                  <a:lnTo>
                    <a:pt x="72357" y="13359"/>
                  </a:lnTo>
                  <a:lnTo>
                    <a:pt x="71566" y="15110"/>
                  </a:lnTo>
                  <a:lnTo>
                    <a:pt x="70775" y="17081"/>
                  </a:lnTo>
                  <a:lnTo>
                    <a:pt x="69984" y="18176"/>
                  </a:lnTo>
                  <a:lnTo>
                    <a:pt x="69391" y="19490"/>
                  </a:lnTo>
                  <a:lnTo>
                    <a:pt x="67414" y="18176"/>
                  </a:lnTo>
                  <a:lnTo>
                    <a:pt x="65437" y="17519"/>
                  </a:lnTo>
                  <a:lnTo>
                    <a:pt x="63460" y="16862"/>
                  </a:lnTo>
                  <a:lnTo>
                    <a:pt x="61681" y="16862"/>
                  </a:lnTo>
                  <a:lnTo>
                    <a:pt x="59506" y="16424"/>
                  </a:lnTo>
                  <a:lnTo>
                    <a:pt x="57530" y="16643"/>
                  </a:lnTo>
                  <a:lnTo>
                    <a:pt x="55355" y="16643"/>
                  </a:lnTo>
                  <a:lnTo>
                    <a:pt x="53378" y="17300"/>
                  </a:lnTo>
                  <a:lnTo>
                    <a:pt x="51401" y="18176"/>
                  </a:lnTo>
                  <a:lnTo>
                    <a:pt x="49424" y="19271"/>
                  </a:lnTo>
                  <a:lnTo>
                    <a:pt x="48238" y="19052"/>
                  </a:lnTo>
                  <a:lnTo>
                    <a:pt x="47052" y="18614"/>
                  </a:lnTo>
                  <a:lnTo>
                    <a:pt x="46063" y="17738"/>
                  </a:lnTo>
                  <a:lnTo>
                    <a:pt x="45273" y="17081"/>
                  </a:lnTo>
                  <a:lnTo>
                    <a:pt x="43691" y="15110"/>
                  </a:lnTo>
                  <a:lnTo>
                    <a:pt x="42703" y="13140"/>
                  </a:lnTo>
                  <a:lnTo>
                    <a:pt x="41516" y="8322"/>
                  </a:lnTo>
                  <a:lnTo>
                    <a:pt x="41516" y="7008"/>
                  </a:lnTo>
                  <a:lnTo>
                    <a:pt x="41516" y="5694"/>
                  </a:lnTo>
                  <a:lnTo>
                    <a:pt x="41516" y="4381"/>
                  </a:lnTo>
                  <a:lnTo>
                    <a:pt x="42109" y="3286"/>
                  </a:lnTo>
                  <a:lnTo>
                    <a:pt x="42109" y="2410"/>
                  </a:lnTo>
                  <a:lnTo>
                    <a:pt x="42109" y="1534"/>
                  </a:lnTo>
                  <a:lnTo>
                    <a:pt x="42109" y="658"/>
                  </a:lnTo>
                  <a:lnTo>
                    <a:pt x="41714" y="220"/>
                  </a:lnTo>
                  <a:lnTo>
                    <a:pt x="40330" y="439"/>
                  </a:lnTo>
                  <a:lnTo>
                    <a:pt x="39737" y="1534"/>
                  </a:lnTo>
                  <a:lnTo>
                    <a:pt x="39539" y="2629"/>
                  </a:lnTo>
                  <a:lnTo>
                    <a:pt x="39342" y="3943"/>
                  </a:lnTo>
                  <a:lnTo>
                    <a:pt x="38749" y="3505"/>
                  </a:lnTo>
                  <a:lnTo>
                    <a:pt x="38156" y="3724"/>
                  </a:lnTo>
                  <a:lnTo>
                    <a:pt x="37365" y="5256"/>
                  </a:lnTo>
                  <a:lnTo>
                    <a:pt x="37562" y="7446"/>
                  </a:lnTo>
                  <a:lnTo>
                    <a:pt x="36969" y="7884"/>
                  </a:lnTo>
                  <a:lnTo>
                    <a:pt x="36574" y="8322"/>
                  </a:lnTo>
                  <a:lnTo>
                    <a:pt x="36772" y="9855"/>
                  </a:lnTo>
                  <a:lnTo>
                    <a:pt x="37167" y="11388"/>
                  </a:lnTo>
                  <a:lnTo>
                    <a:pt x="36376" y="11607"/>
                  </a:lnTo>
                  <a:lnTo>
                    <a:pt x="36574" y="12702"/>
                  </a:lnTo>
                  <a:lnTo>
                    <a:pt x="37167" y="14235"/>
                  </a:lnTo>
                  <a:lnTo>
                    <a:pt x="38156" y="15986"/>
                  </a:lnTo>
                  <a:lnTo>
                    <a:pt x="37167" y="15986"/>
                  </a:lnTo>
                  <a:lnTo>
                    <a:pt x="36969" y="16643"/>
                  </a:lnTo>
                  <a:lnTo>
                    <a:pt x="38156" y="18833"/>
                  </a:lnTo>
                  <a:lnTo>
                    <a:pt x="40132" y="20366"/>
                  </a:lnTo>
                  <a:lnTo>
                    <a:pt x="39737" y="20804"/>
                  </a:lnTo>
                  <a:lnTo>
                    <a:pt x="39935" y="21242"/>
                  </a:lnTo>
                  <a:lnTo>
                    <a:pt x="41516" y="22118"/>
                  </a:lnTo>
                  <a:lnTo>
                    <a:pt x="43493" y="22556"/>
                  </a:lnTo>
                  <a:lnTo>
                    <a:pt x="41912" y="24089"/>
                  </a:lnTo>
                  <a:lnTo>
                    <a:pt x="40330" y="25840"/>
                  </a:lnTo>
                  <a:lnTo>
                    <a:pt x="38749" y="27592"/>
                  </a:lnTo>
                  <a:lnTo>
                    <a:pt x="37562" y="29563"/>
                  </a:lnTo>
                  <a:lnTo>
                    <a:pt x="37167" y="30877"/>
                  </a:lnTo>
                  <a:lnTo>
                    <a:pt x="36376" y="32410"/>
                  </a:lnTo>
                  <a:lnTo>
                    <a:pt x="35190" y="33943"/>
                  </a:lnTo>
                  <a:lnTo>
                    <a:pt x="34399" y="35913"/>
                  </a:lnTo>
                  <a:lnTo>
                    <a:pt x="33609" y="37884"/>
                  </a:lnTo>
                  <a:lnTo>
                    <a:pt x="33016" y="39855"/>
                  </a:lnTo>
                  <a:lnTo>
                    <a:pt x="33213" y="40074"/>
                  </a:lnTo>
                  <a:lnTo>
                    <a:pt x="33411" y="40512"/>
                  </a:lnTo>
                  <a:lnTo>
                    <a:pt x="32422" y="42483"/>
                  </a:lnTo>
                  <a:lnTo>
                    <a:pt x="31829" y="44672"/>
                  </a:lnTo>
                  <a:lnTo>
                    <a:pt x="31434" y="45767"/>
                  </a:lnTo>
                  <a:lnTo>
                    <a:pt x="31236" y="47081"/>
                  </a:lnTo>
                  <a:lnTo>
                    <a:pt x="30841" y="48176"/>
                  </a:lnTo>
                  <a:lnTo>
                    <a:pt x="30643" y="49490"/>
                  </a:lnTo>
                  <a:lnTo>
                    <a:pt x="29655" y="49928"/>
                  </a:lnTo>
                  <a:lnTo>
                    <a:pt x="28666" y="50147"/>
                  </a:lnTo>
                  <a:lnTo>
                    <a:pt x="27480" y="50147"/>
                  </a:lnTo>
                  <a:lnTo>
                    <a:pt x="26492" y="50147"/>
                  </a:lnTo>
                  <a:lnTo>
                    <a:pt x="24317" y="48614"/>
                  </a:lnTo>
                  <a:lnTo>
                    <a:pt x="22735" y="47300"/>
                  </a:lnTo>
                  <a:lnTo>
                    <a:pt x="20956" y="45548"/>
                  </a:lnTo>
                  <a:lnTo>
                    <a:pt x="19572" y="44016"/>
                  </a:lnTo>
                  <a:lnTo>
                    <a:pt x="17991" y="42045"/>
                  </a:lnTo>
                  <a:lnTo>
                    <a:pt x="16607" y="40074"/>
                  </a:lnTo>
                  <a:lnTo>
                    <a:pt x="15421" y="38103"/>
                  </a:lnTo>
                  <a:lnTo>
                    <a:pt x="14432" y="36351"/>
                  </a:lnTo>
                  <a:lnTo>
                    <a:pt x="13642" y="34599"/>
                  </a:lnTo>
                  <a:lnTo>
                    <a:pt x="13246" y="33067"/>
                  </a:lnTo>
                  <a:lnTo>
                    <a:pt x="12653" y="31096"/>
                  </a:lnTo>
                  <a:lnTo>
                    <a:pt x="12258" y="29782"/>
                  </a:lnTo>
                  <a:lnTo>
                    <a:pt x="12060" y="27811"/>
                  </a:lnTo>
                  <a:lnTo>
                    <a:pt x="11862" y="26278"/>
                  </a:lnTo>
                  <a:lnTo>
                    <a:pt x="11665" y="24308"/>
                  </a:lnTo>
                  <a:lnTo>
                    <a:pt x="11665" y="22775"/>
                  </a:lnTo>
                  <a:lnTo>
                    <a:pt x="11467" y="21023"/>
                  </a:lnTo>
                  <a:lnTo>
                    <a:pt x="11467" y="19271"/>
                  </a:lnTo>
                  <a:lnTo>
                    <a:pt x="11467" y="17519"/>
                  </a:lnTo>
                  <a:lnTo>
                    <a:pt x="11862" y="15986"/>
                  </a:lnTo>
                  <a:lnTo>
                    <a:pt x="11665" y="14672"/>
                  </a:lnTo>
                  <a:lnTo>
                    <a:pt x="11665" y="13359"/>
                  </a:lnTo>
                  <a:lnTo>
                    <a:pt x="11665" y="12045"/>
                  </a:lnTo>
                  <a:lnTo>
                    <a:pt x="11665" y="10950"/>
                  </a:lnTo>
                  <a:lnTo>
                    <a:pt x="11269" y="8541"/>
                  </a:lnTo>
                  <a:lnTo>
                    <a:pt x="10478" y="6789"/>
                  </a:lnTo>
                  <a:lnTo>
                    <a:pt x="9490" y="5913"/>
                  </a:lnTo>
                  <a:lnTo>
                    <a:pt x="8502" y="5913"/>
                  </a:lnTo>
                  <a:lnTo>
                    <a:pt x="7513" y="7008"/>
                  </a:lnTo>
                  <a:lnTo>
                    <a:pt x="7315" y="8322"/>
                  </a:lnTo>
                  <a:lnTo>
                    <a:pt x="7118" y="9855"/>
                  </a:lnTo>
                  <a:lnTo>
                    <a:pt x="7118" y="11607"/>
                  </a:lnTo>
                  <a:lnTo>
                    <a:pt x="7118" y="18614"/>
                  </a:lnTo>
                  <a:lnTo>
                    <a:pt x="6327" y="17300"/>
                  </a:lnTo>
                  <a:lnTo>
                    <a:pt x="5536" y="16205"/>
                  </a:lnTo>
                  <a:lnTo>
                    <a:pt x="4548" y="15329"/>
                  </a:lnTo>
                  <a:lnTo>
                    <a:pt x="3559" y="15548"/>
                  </a:lnTo>
                  <a:lnTo>
                    <a:pt x="3361" y="17081"/>
                  </a:lnTo>
                  <a:lnTo>
                    <a:pt x="3361" y="18833"/>
                  </a:lnTo>
                  <a:lnTo>
                    <a:pt x="3361" y="20804"/>
                  </a:lnTo>
                  <a:lnTo>
                    <a:pt x="3559" y="22775"/>
                  </a:lnTo>
                  <a:lnTo>
                    <a:pt x="3559" y="24089"/>
                  </a:lnTo>
                  <a:lnTo>
                    <a:pt x="3955" y="25402"/>
                  </a:lnTo>
                  <a:lnTo>
                    <a:pt x="4152" y="26716"/>
                  </a:lnTo>
                  <a:lnTo>
                    <a:pt x="4745" y="28249"/>
                  </a:lnTo>
                  <a:lnTo>
                    <a:pt x="5141" y="29563"/>
                  </a:lnTo>
                  <a:lnTo>
                    <a:pt x="5536" y="30877"/>
                  </a:lnTo>
                  <a:lnTo>
                    <a:pt x="5932" y="32191"/>
                  </a:lnTo>
                  <a:lnTo>
                    <a:pt x="6525" y="33724"/>
                  </a:lnTo>
                  <a:lnTo>
                    <a:pt x="4943" y="32191"/>
                  </a:lnTo>
                  <a:lnTo>
                    <a:pt x="3757" y="30658"/>
                  </a:lnTo>
                  <a:lnTo>
                    <a:pt x="2175" y="29344"/>
                  </a:lnTo>
                  <a:lnTo>
                    <a:pt x="791" y="28249"/>
                  </a:lnTo>
                  <a:lnTo>
                    <a:pt x="198" y="28249"/>
                  </a:lnTo>
                  <a:lnTo>
                    <a:pt x="1" y="29125"/>
                  </a:lnTo>
                  <a:lnTo>
                    <a:pt x="1" y="31096"/>
                  </a:lnTo>
                  <a:lnTo>
                    <a:pt x="594" y="33067"/>
                  </a:lnTo>
                  <a:lnTo>
                    <a:pt x="1187" y="35037"/>
                  </a:lnTo>
                  <a:lnTo>
                    <a:pt x="2373" y="37227"/>
                  </a:lnTo>
                  <a:lnTo>
                    <a:pt x="3361" y="38979"/>
                  </a:lnTo>
                  <a:lnTo>
                    <a:pt x="4548" y="40731"/>
                  </a:lnTo>
                  <a:lnTo>
                    <a:pt x="5734" y="42483"/>
                  </a:lnTo>
                  <a:lnTo>
                    <a:pt x="7118" y="44454"/>
                  </a:lnTo>
                  <a:lnTo>
                    <a:pt x="5338" y="43578"/>
                  </a:lnTo>
                  <a:lnTo>
                    <a:pt x="3559" y="42921"/>
                  </a:lnTo>
                  <a:lnTo>
                    <a:pt x="2571" y="42483"/>
                  </a:lnTo>
                  <a:lnTo>
                    <a:pt x="1582" y="42264"/>
                  </a:lnTo>
                  <a:lnTo>
                    <a:pt x="594" y="42045"/>
                  </a:lnTo>
                  <a:lnTo>
                    <a:pt x="1" y="42921"/>
                  </a:lnTo>
                  <a:lnTo>
                    <a:pt x="1" y="44016"/>
                  </a:lnTo>
                  <a:lnTo>
                    <a:pt x="791" y="45110"/>
                  </a:lnTo>
                  <a:lnTo>
                    <a:pt x="1582" y="46205"/>
                  </a:lnTo>
                  <a:lnTo>
                    <a:pt x="2373" y="47300"/>
                  </a:lnTo>
                  <a:lnTo>
                    <a:pt x="3757" y="48395"/>
                  </a:lnTo>
                  <a:lnTo>
                    <a:pt x="5141" y="49709"/>
                  </a:lnTo>
                  <a:lnTo>
                    <a:pt x="6525" y="50585"/>
                  </a:lnTo>
                  <a:lnTo>
                    <a:pt x="8304" y="51680"/>
                  </a:lnTo>
                  <a:lnTo>
                    <a:pt x="6920" y="51461"/>
                  </a:lnTo>
                  <a:lnTo>
                    <a:pt x="5734" y="51461"/>
                  </a:lnTo>
                  <a:lnTo>
                    <a:pt x="4745" y="51680"/>
                  </a:lnTo>
                  <a:lnTo>
                    <a:pt x="3955" y="52556"/>
                  </a:lnTo>
                  <a:lnTo>
                    <a:pt x="4745" y="54308"/>
                  </a:lnTo>
                  <a:lnTo>
                    <a:pt x="6327" y="55840"/>
                  </a:lnTo>
                  <a:lnTo>
                    <a:pt x="7315" y="56278"/>
                  </a:lnTo>
                  <a:lnTo>
                    <a:pt x="8502" y="56935"/>
                  </a:lnTo>
                  <a:lnTo>
                    <a:pt x="9490" y="57592"/>
                  </a:lnTo>
                  <a:lnTo>
                    <a:pt x="10478" y="58249"/>
                  </a:lnTo>
                  <a:lnTo>
                    <a:pt x="9490" y="58249"/>
                  </a:lnTo>
                  <a:lnTo>
                    <a:pt x="8502" y="58468"/>
                  </a:lnTo>
                  <a:lnTo>
                    <a:pt x="7513" y="58687"/>
                  </a:lnTo>
                  <a:lnTo>
                    <a:pt x="6920" y="59563"/>
                  </a:lnTo>
                  <a:lnTo>
                    <a:pt x="7908" y="60877"/>
                  </a:lnTo>
                  <a:lnTo>
                    <a:pt x="9292" y="62191"/>
                  </a:lnTo>
                  <a:lnTo>
                    <a:pt x="10083" y="62629"/>
                  </a:lnTo>
                  <a:lnTo>
                    <a:pt x="11269" y="63067"/>
                  </a:lnTo>
                  <a:lnTo>
                    <a:pt x="12258" y="63286"/>
                  </a:lnTo>
                  <a:lnTo>
                    <a:pt x="13444" y="63724"/>
                  </a:lnTo>
                  <a:lnTo>
                    <a:pt x="14630" y="63943"/>
                  </a:lnTo>
                  <a:lnTo>
                    <a:pt x="15816" y="64162"/>
                  </a:lnTo>
                  <a:lnTo>
                    <a:pt x="17002" y="64381"/>
                  </a:lnTo>
                  <a:lnTo>
                    <a:pt x="18189" y="64818"/>
                  </a:lnTo>
                  <a:lnTo>
                    <a:pt x="16212" y="65475"/>
                  </a:lnTo>
                  <a:lnTo>
                    <a:pt x="14432" y="66132"/>
                  </a:lnTo>
                  <a:lnTo>
                    <a:pt x="12258" y="66132"/>
                  </a:lnTo>
                  <a:lnTo>
                    <a:pt x="10281" y="66351"/>
                  </a:lnTo>
                  <a:lnTo>
                    <a:pt x="9688" y="67227"/>
                  </a:lnTo>
                  <a:lnTo>
                    <a:pt x="9885" y="68541"/>
                  </a:lnTo>
                  <a:lnTo>
                    <a:pt x="10874" y="69198"/>
                  </a:lnTo>
                  <a:lnTo>
                    <a:pt x="12060" y="69855"/>
                  </a:lnTo>
                  <a:lnTo>
                    <a:pt x="13444" y="70074"/>
                  </a:lnTo>
                  <a:lnTo>
                    <a:pt x="14828" y="70512"/>
                  </a:lnTo>
                  <a:lnTo>
                    <a:pt x="16014" y="70512"/>
                  </a:lnTo>
                  <a:lnTo>
                    <a:pt x="17200" y="70731"/>
                  </a:lnTo>
                  <a:lnTo>
                    <a:pt x="18386" y="70512"/>
                  </a:lnTo>
                  <a:lnTo>
                    <a:pt x="19770" y="70293"/>
                  </a:lnTo>
                  <a:lnTo>
                    <a:pt x="20956" y="69636"/>
                  </a:lnTo>
                  <a:lnTo>
                    <a:pt x="22142" y="69198"/>
                  </a:lnTo>
                  <a:lnTo>
                    <a:pt x="23329" y="68760"/>
                  </a:lnTo>
                  <a:lnTo>
                    <a:pt x="24515" y="68322"/>
                  </a:lnTo>
                  <a:lnTo>
                    <a:pt x="26096" y="66351"/>
                  </a:lnTo>
                  <a:lnTo>
                    <a:pt x="27678" y="64599"/>
                  </a:lnTo>
                  <a:lnTo>
                    <a:pt x="29062" y="62848"/>
                  </a:lnTo>
                  <a:lnTo>
                    <a:pt x="31039" y="61753"/>
                  </a:lnTo>
                  <a:lnTo>
                    <a:pt x="31039" y="66132"/>
                  </a:lnTo>
                  <a:lnTo>
                    <a:pt x="31829" y="66570"/>
                  </a:lnTo>
                  <a:lnTo>
                    <a:pt x="31829" y="67884"/>
                  </a:lnTo>
                  <a:lnTo>
                    <a:pt x="31829" y="69198"/>
                  </a:lnTo>
                  <a:lnTo>
                    <a:pt x="31829" y="70512"/>
                  </a:lnTo>
                  <a:lnTo>
                    <a:pt x="32027" y="71826"/>
                  </a:lnTo>
                  <a:lnTo>
                    <a:pt x="32027" y="73140"/>
                  </a:lnTo>
                  <a:lnTo>
                    <a:pt x="32225" y="74454"/>
                  </a:lnTo>
                  <a:lnTo>
                    <a:pt x="32422" y="75767"/>
                  </a:lnTo>
                  <a:lnTo>
                    <a:pt x="33016" y="77300"/>
                  </a:lnTo>
                  <a:lnTo>
                    <a:pt x="33411" y="78395"/>
                  </a:lnTo>
                  <a:lnTo>
                    <a:pt x="34202" y="79271"/>
                  </a:lnTo>
                  <a:lnTo>
                    <a:pt x="34597" y="81242"/>
                  </a:lnTo>
                  <a:lnTo>
                    <a:pt x="35190" y="83432"/>
                  </a:lnTo>
                  <a:lnTo>
                    <a:pt x="35783" y="85402"/>
                  </a:lnTo>
                  <a:lnTo>
                    <a:pt x="36969" y="87592"/>
                  </a:lnTo>
                  <a:lnTo>
                    <a:pt x="37958" y="88249"/>
                  </a:lnTo>
                  <a:lnTo>
                    <a:pt x="38353" y="89563"/>
                  </a:lnTo>
                  <a:lnTo>
                    <a:pt x="38551" y="90877"/>
                  </a:lnTo>
                  <a:lnTo>
                    <a:pt x="39539" y="92191"/>
                  </a:lnTo>
                  <a:lnTo>
                    <a:pt x="40132" y="93505"/>
                  </a:lnTo>
                  <a:lnTo>
                    <a:pt x="41319" y="94818"/>
                  </a:lnTo>
                  <a:lnTo>
                    <a:pt x="39935" y="95037"/>
                  </a:lnTo>
                  <a:lnTo>
                    <a:pt x="38749" y="95913"/>
                  </a:lnTo>
                  <a:lnTo>
                    <a:pt x="37562" y="96351"/>
                  </a:lnTo>
                  <a:lnTo>
                    <a:pt x="36574" y="97227"/>
                  </a:lnTo>
                  <a:lnTo>
                    <a:pt x="35981" y="95694"/>
                  </a:lnTo>
                  <a:lnTo>
                    <a:pt x="34795" y="94818"/>
                  </a:lnTo>
                  <a:lnTo>
                    <a:pt x="32818" y="94600"/>
                  </a:lnTo>
                  <a:lnTo>
                    <a:pt x="31039" y="95913"/>
                  </a:lnTo>
                  <a:lnTo>
                    <a:pt x="30050" y="97227"/>
                  </a:lnTo>
                  <a:lnTo>
                    <a:pt x="29062" y="98760"/>
                  </a:lnTo>
                  <a:lnTo>
                    <a:pt x="27875" y="98541"/>
                  </a:lnTo>
                  <a:lnTo>
                    <a:pt x="26689" y="98541"/>
                  </a:lnTo>
                  <a:lnTo>
                    <a:pt x="25503" y="98541"/>
                  </a:lnTo>
                  <a:lnTo>
                    <a:pt x="24515" y="98541"/>
                  </a:lnTo>
                  <a:lnTo>
                    <a:pt x="23329" y="98322"/>
                  </a:lnTo>
                  <a:lnTo>
                    <a:pt x="22340" y="98322"/>
                  </a:lnTo>
                  <a:lnTo>
                    <a:pt x="21154" y="98322"/>
                  </a:lnTo>
                  <a:lnTo>
                    <a:pt x="20165" y="98322"/>
                  </a:lnTo>
                  <a:lnTo>
                    <a:pt x="19770" y="99855"/>
                  </a:lnTo>
                  <a:lnTo>
                    <a:pt x="19770" y="101826"/>
                  </a:lnTo>
                  <a:lnTo>
                    <a:pt x="19572" y="103359"/>
                  </a:lnTo>
                  <a:lnTo>
                    <a:pt x="19572" y="105110"/>
                  </a:lnTo>
                  <a:lnTo>
                    <a:pt x="19375" y="106862"/>
                  </a:lnTo>
                  <a:lnTo>
                    <a:pt x="19375" y="108833"/>
                  </a:lnTo>
                  <a:lnTo>
                    <a:pt x="19375" y="110585"/>
                  </a:lnTo>
                  <a:lnTo>
                    <a:pt x="19572" y="112337"/>
                  </a:lnTo>
                  <a:lnTo>
                    <a:pt x="19770" y="114089"/>
                  </a:lnTo>
                  <a:lnTo>
                    <a:pt x="20561" y="115840"/>
                  </a:lnTo>
                  <a:lnTo>
                    <a:pt x="20759" y="116059"/>
                  </a:lnTo>
                  <a:lnTo>
                    <a:pt x="21352" y="116059"/>
                  </a:lnTo>
                  <a:lnTo>
                    <a:pt x="21747" y="115840"/>
                  </a:lnTo>
                  <a:lnTo>
                    <a:pt x="22538" y="115840"/>
                  </a:lnTo>
                  <a:lnTo>
                    <a:pt x="23724" y="115840"/>
                  </a:lnTo>
                  <a:lnTo>
                    <a:pt x="24910" y="115840"/>
                  </a:lnTo>
                  <a:lnTo>
                    <a:pt x="26096" y="116059"/>
                  </a:lnTo>
                  <a:lnTo>
                    <a:pt x="27085" y="116059"/>
                  </a:lnTo>
                  <a:lnTo>
                    <a:pt x="28271" y="116059"/>
                  </a:lnTo>
                  <a:lnTo>
                    <a:pt x="29259" y="116278"/>
                  </a:lnTo>
                  <a:lnTo>
                    <a:pt x="30446" y="116716"/>
                  </a:lnTo>
                  <a:lnTo>
                    <a:pt x="31236" y="118030"/>
                  </a:lnTo>
                  <a:lnTo>
                    <a:pt x="32225" y="119344"/>
                  </a:lnTo>
                  <a:lnTo>
                    <a:pt x="33411" y="118906"/>
                  </a:lnTo>
                  <a:lnTo>
                    <a:pt x="34992" y="118687"/>
                  </a:lnTo>
                  <a:lnTo>
                    <a:pt x="35981" y="118030"/>
                  </a:lnTo>
                  <a:lnTo>
                    <a:pt x="37167" y="117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Shape 415"/>
            <p:cNvSpPr/>
            <p:nvPr/>
          </p:nvSpPr>
          <p:spPr>
            <a:xfrm>
              <a:off x="7129440" y="5538240"/>
              <a:ext cx="151200" cy="4078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7118" h="22775">
                  <a:moveTo>
                    <a:pt x="6722" y="21898"/>
                  </a:moveTo>
                  <a:lnTo>
                    <a:pt x="6920" y="20146"/>
                  </a:lnTo>
                  <a:lnTo>
                    <a:pt x="6920" y="18614"/>
                  </a:lnTo>
                  <a:lnTo>
                    <a:pt x="6920" y="17957"/>
                  </a:lnTo>
                  <a:lnTo>
                    <a:pt x="6722" y="17738"/>
                  </a:lnTo>
                  <a:lnTo>
                    <a:pt x="6722" y="16424"/>
                  </a:lnTo>
                  <a:lnTo>
                    <a:pt x="6722" y="15110"/>
                  </a:lnTo>
                  <a:lnTo>
                    <a:pt x="6722" y="13796"/>
                  </a:lnTo>
                  <a:lnTo>
                    <a:pt x="6920" y="12482"/>
                  </a:lnTo>
                  <a:lnTo>
                    <a:pt x="6920" y="10949"/>
                  </a:lnTo>
                  <a:lnTo>
                    <a:pt x="6920" y="9635"/>
                  </a:lnTo>
                  <a:lnTo>
                    <a:pt x="6920" y="8322"/>
                  </a:lnTo>
                  <a:lnTo>
                    <a:pt x="7117" y="7008"/>
                  </a:lnTo>
                  <a:lnTo>
                    <a:pt x="6722" y="5475"/>
                  </a:lnTo>
                  <a:lnTo>
                    <a:pt x="6524" y="3942"/>
                  </a:lnTo>
                  <a:lnTo>
                    <a:pt x="6327" y="2409"/>
                  </a:lnTo>
                  <a:lnTo>
                    <a:pt x="6129" y="1095"/>
                  </a:lnTo>
                  <a:lnTo>
                    <a:pt x="4943" y="0"/>
                  </a:lnTo>
                  <a:lnTo>
                    <a:pt x="3757" y="219"/>
                  </a:lnTo>
                  <a:lnTo>
                    <a:pt x="2373" y="657"/>
                  </a:lnTo>
                  <a:lnTo>
                    <a:pt x="1780" y="1752"/>
                  </a:lnTo>
                  <a:lnTo>
                    <a:pt x="1187" y="2847"/>
                  </a:lnTo>
                  <a:lnTo>
                    <a:pt x="593" y="3942"/>
                  </a:lnTo>
                  <a:lnTo>
                    <a:pt x="396" y="5475"/>
                  </a:lnTo>
                  <a:lnTo>
                    <a:pt x="198" y="7227"/>
                  </a:lnTo>
                  <a:lnTo>
                    <a:pt x="0" y="8979"/>
                  </a:lnTo>
                  <a:lnTo>
                    <a:pt x="593" y="10730"/>
                  </a:lnTo>
                  <a:lnTo>
                    <a:pt x="396" y="12482"/>
                  </a:lnTo>
                  <a:lnTo>
                    <a:pt x="791" y="14234"/>
                  </a:lnTo>
                  <a:lnTo>
                    <a:pt x="1384" y="16205"/>
                  </a:lnTo>
                  <a:lnTo>
                    <a:pt x="1582" y="18614"/>
                  </a:lnTo>
                  <a:lnTo>
                    <a:pt x="1977" y="20803"/>
                  </a:lnTo>
                  <a:lnTo>
                    <a:pt x="3163" y="22774"/>
                  </a:lnTo>
                  <a:lnTo>
                    <a:pt x="4943" y="22336"/>
                  </a:lnTo>
                  <a:lnTo>
                    <a:pt x="6722" y="21898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Shape 416"/>
            <p:cNvSpPr/>
            <p:nvPr/>
          </p:nvSpPr>
          <p:spPr>
            <a:xfrm>
              <a:off x="7167240" y="5624640"/>
              <a:ext cx="79920" cy="235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757" h="13140">
                  <a:moveTo>
                    <a:pt x="3559" y="12483"/>
                  </a:moveTo>
                  <a:lnTo>
                    <a:pt x="3757" y="11607"/>
                  </a:lnTo>
                  <a:lnTo>
                    <a:pt x="3757" y="10731"/>
                  </a:lnTo>
                  <a:lnTo>
                    <a:pt x="3559" y="10293"/>
                  </a:lnTo>
                  <a:lnTo>
                    <a:pt x="3559" y="10074"/>
                  </a:lnTo>
                  <a:lnTo>
                    <a:pt x="3559" y="8541"/>
                  </a:lnTo>
                  <a:lnTo>
                    <a:pt x="3559" y="7008"/>
                  </a:lnTo>
                  <a:lnTo>
                    <a:pt x="3559" y="5475"/>
                  </a:lnTo>
                  <a:lnTo>
                    <a:pt x="3757" y="4162"/>
                  </a:lnTo>
                  <a:lnTo>
                    <a:pt x="3361" y="2410"/>
                  </a:lnTo>
                  <a:lnTo>
                    <a:pt x="3164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1" y="1096"/>
                  </a:lnTo>
                  <a:lnTo>
                    <a:pt x="198" y="2410"/>
                  </a:lnTo>
                  <a:lnTo>
                    <a:pt x="1" y="4380"/>
                  </a:lnTo>
                  <a:lnTo>
                    <a:pt x="198" y="6351"/>
                  </a:lnTo>
                  <a:lnTo>
                    <a:pt x="1" y="7227"/>
                  </a:lnTo>
                  <a:lnTo>
                    <a:pt x="198" y="8103"/>
                  </a:lnTo>
                  <a:lnTo>
                    <a:pt x="396" y="9198"/>
                  </a:lnTo>
                  <a:lnTo>
                    <a:pt x="594" y="10512"/>
                  </a:lnTo>
                  <a:lnTo>
                    <a:pt x="791" y="11826"/>
                  </a:lnTo>
                  <a:lnTo>
                    <a:pt x="1582" y="13140"/>
                  </a:lnTo>
                  <a:lnTo>
                    <a:pt x="2571" y="12702"/>
                  </a:lnTo>
                  <a:lnTo>
                    <a:pt x="3559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Shape 417"/>
            <p:cNvSpPr/>
            <p:nvPr/>
          </p:nvSpPr>
          <p:spPr>
            <a:xfrm>
              <a:off x="8227080" y="5550120"/>
              <a:ext cx="146880" cy="3924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920" h="21899">
                  <a:moveTo>
                    <a:pt x="5536" y="20803"/>
                  </a:moveTo>
                  <a:lnTo>
                    <a:pt x="6129" y="19489"/>
                  </a:lnTo>
                  <a:lnTo>
                    <a:pt x="5931" y="18176"/>
                  </a:lnTo>
                  <a:lnTo>
                    <a:pt x="5733" y="16862"/>
                  </a:lnTo>
                  <a:lnTo>
                    <a:pt x="6327" y="15767"/>
                  </a:lnTo>
                  <a:lnTo>
                    <a:pt x="6129" y="14453"/>
                  </a:lnTo>
                  <a:lnTo>
                    <a:pt x="6129" y="13358"/>
                  </a:lnTo>
                  <a:lnTo>
                    <a:pt x="6129" y="12044"/>
                  </a:lnTo>
                  <a:lnTo>
                    <a:pt x="6327" y="10949"/>
                  </a:lnTo>
                  <a:lnTo>
                    <a:pt x="6327" y="9635"/>
                  </a:lnTo>
                  <a:lnTo>
                    <a:pt x="6524" y="8540"/>
                  </a:lnTo>
                  <a:lnTo>
                    <a:pt x="6722" y="7227"/>
                  </a:lnTo>
                  <a:lnTo>
                    <a:pt x="6920" y="6351"/>
                  </a:lnTo>
                  <a:lnTo>
                    <a:pt x="6524" y="5256"/>
                  </a:lnTo>
                  <a:lnTo>
                    <a:pt x="6129" y="4599"/>
                  </a:lnTo>
                  <a:lnTo>
                    <a:pt x="5733" y="3723"/>
                  </a:lnTo>
                  <a:lnTo>
                    <a:pt x="6327" y="3066"/>
                  </a:lnTo>
                  <a:lnTo>
                    <a:pt x="5536" y="1095"/>
                  </a:lnTo>
                  <a:lnTo>
                    <a:pt x="4152" y="0"/>
                  </a:lnTo>
                  <a:lnTo>
                    <a:pt x="2768" y="0"/>
                  </a:lnTo>
                  <a:lnTo>
                    <a:pt x="1780" y="657"/>
                  </a:lnTo>
                  <a:lnTo>
                    <a:pt x="989" y="1752"/>
                  </a:lnTo>
                  <a:lnTo>
                    <a:pt x="989" y="3066"/>
                  </a:lnTo>
                  <a:lnTo>
                    <a:pt x="593" y="3285"/>
                  </a:lnTo>
                  <a:lnTo>
                    <a:pt x="396" y="3942"/>
                  </a:lnTo>
                  <a:lnTo>
                    <a:pt x="396" y="5694"/>
                  </a:lnTo>
                  <a:lnTo>
                    <a:pt x="989" y="7884"/>
                  </a:lnTo>
                  <a:lnTo>
                    <a:pt x="593" y="9197"/>
                  </a:lnTo>
                  <a:lnTo>
                    <a:pt x="593" y="10730"/>
                  </a:lnTo>
                  <a:lnTo>
                    <a:pt x="593" y="12263"/>
                  </a:lnTo>
                  <a:lnTo>
                    <a:pt x="989" y="13796"/>
                  </a:lnTo>
                  <a:lnTo>
                    <a:pt x="791" y="15110"/>
                  </a:lnTo>
                  <a:lnTo>
                    <a:pt x="593" y="16424"/>
                  </a:lnTo>
                  <a:lnTo>
                    <a:pt x="198" y="17738"/>
                  </a:lnTo>
                  <a:lnTo>
                    <a:pt x="396" y="19270"/>
                  </a:lnTo>
                  <a:lnTo>
                    <a:pt x="0" y="20584"/>
                  </a:lnTo>
                  <a:lnTo>
                    <a:pt x="989" y="21679"/>
                  </a:lnTo>
                  <a:lnTo>
                    <a:pt x="1977" y="21898"/>
                  </a:lnTo>
                  <a:lnTo>
                    <a:pt x="3163" y="21679"/>
                  </a:lnTo>
                  <a:lnTo>
                    <a:pt x="4152" y="20803"/>
                  </a:lnTo>
                  <a:lnTo>
                    <a:pt x="5536" y="20803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Shape 418"/>
            <p:cNvSpPr/>
            <p:nvPr/>
          </p:nvSpPr>
          <p:spPr>
            <a:xfrm>
              <a:off x="7289280" y="5542200"/>
              <a:ext cx="130320" cy="3924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130" h="21899">
                  <a:moveTo>
                    <a:pt x="5536" y="19489"/>
                  </a:moveTo>
                  <a:lnTo>
                    <a:pt x="4943" y="17081"/>
                  </a:lnTo>
                  <a:lnTo>
                    <a:pt x="5141" y="14891"/>
                  </a:lnTo>
                  <a:lnTo>
                    <a:pt x="5141" y="13577"/>
                  </a:lnTo>
                  <a:lnTo>
                    <a:pt x="5338" y="12482"/>
                  </a:lnTo>
                  <a:lnTo>
                    <a:pt x="5338" y="11168"/>
                  </a:lnTo>
                  <a:lnTo>
                    <a:pt x="5338" y="10073"/>
                  </a:lnTo>
                  <a:lnTo>
                    <a:pt x="5734" y="8103"/>
                  </a:lnTo>
                  <a:lnTo>
                    <a:pt x="5536" y="6132"/>
                  </a:lnTo>
                  <a:lnTo>
                    <a:pt x="5338" y="4161"/>
                  </a:lnTo>
                  <a:lnTo>
                    <a:pt x="6129" y="2409"/>
                  </a:lnTo>
                  <a:lnTo>
                    <a:pt x="5536" y="1095"/>
                  </a:lnTo>
                  <a:lnTo>
                    <a:pt x="4943" y="219"/>
                  </a:lnTo>
                  <a:lnTo>
                    <a:pt x="3757" y="0"/>
                  </a:lnTo>
                  <a:lnTo>
                    <a:pt x="2966" y="657"/>
                  </a:lnTo>
                  <a:lnTo>
                    <a:pt x="1978" y="1314"/>
                  </a:lnTo>
                  <a:lnTo>
                    <a:pt x="1187" y="1752"/>
                  </a:lnTo>
                  <a:lnTo>
                    <a:pt x="1" y="3285"/>
                  </a:lnTo>
                  <a:lnTo>
                    <a:pt x="198" y="5256"/>
                  </a:lnTo>
                  <a:lnTo>
                    <a:pt x="396" y="7227"/>
                  </a:lnTo>
                  <a:lnTo>
                    <a:pt x="198" y="9416"/>
                  </a:lnTo>
                  <a:lnTo>
                    <a:pt x="198" y="10730"/>
                  </a:lnTo>
                  <a:lnTo>
                    <a:pt x="396" y="12044"/>
                  </a:lnTo>
                  <a:lnTo>
                    <a:pt x="198" y="13358"/>
                  </a:lnTo>
                  <a:lnTo>
                    <a:pt x="198" y="14672"/>
                  </a:lnTo>
                  <a:lnTo>
                    <a:pt x="198" y="15986"/>
                  </a:lnTo>
                  <a:lnTo>
                    <a:pt x="198" y="17300"/>
                  </a:lnTo>
                  <a:lnTo>
                    <a:pt x="198" y="18614"/>
                  </a:lnTo>
                  <a:lnTo>
                    <a:pt x="791" y="19927"/>
                  </a:lnTo>
                  <a:lnTo>
                    <a:pt x="1780" y="21241"/>
                  </a:lnTo>
                  <a:lnTo>
                    <a:pt x="3361" y="21898"/>
                  </a:lnTo>
                  <a:lnTo>
                    <a:pt x="4350" y="20803"/>
                  </a:lnTo>
                  <a:lnTo>
                    <a:pt x="5536" y="19489"/>
                  </a:lnTo>
                  <a:close/>
                </a:path>
              </a:pathLst>
            </a:custGeom>
            <a:solidFill>
              <a:srgbClr val="ad9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Shape 419"/>
            <p:cNvSpPr/>
            <p:nvPr/>
          </p:nvSpPr>
          <p:spPr>
            <a:xfrm>
              <a:off x="8109360" y="5558040"/>
              <a:ext cx="117720" cy="372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5537" h="20804">
                  <a:moveTo>
                    <a:pt x="4153" y="19708"/>
                  </a:moveTo>
                  <a:lnTo>
                    <a:pt x="4153" y="19051"/>
                  </a:lnTo>
                  <a:lnTo>
                    <a:pt x="4943" y="18832"/>
                  </a:lnTo>
                  <a:lnTo>
                    <a:pt x="4746" y="17519"/>
                  </a:lnTo>
                  <a:lnTo>
                    <a:pt x="5141" y="16205"/>
                  </a:lnTo>
                  <a:lnTo>
                    <a:pt x="5339" y="14891"/>
                  </a:lnTo>
                  <a:lnTo>
                    <a:pt x="5536" y="13577"/>
                  </a:lnTo>
                  <a:lnTo>
                    <a:pt x="4943" y="11168"/>
                  </a:lnTo>
                  <a:lnTo>
                    <a:pt x="5141" y="8978"/>
                  </a:lnTo>
                  <a:lnTo>
                    <a:pt x="5141" y="7665"/>
                  </a:lnTo>
                  <a:lnTo>
                    <a:pt x="5141" y="6570"/>
                  </a:lnTo>
                  <a:lnTo>
                    <a:pt x="4943" y="5256"/>
                  </a:lnTo>
                  <a:lnTo>
                    <a:pt x="4943" y="4161"/>
                  </a:lnTo>
                  <a:lnTo>
                    <a:pt x="5339" y="2190"/>
                  </a:lnTo>
                  <a:lnTo>
                    <a:pt x="4943" y="438"/>
                  </a:lnTo>
                  <a:lnTo>
                    <a:pt x="3164" y="0"/>
                  </a:lnTo>
                  <a:lnTo>
                    <a:pt x="1582" y="438"/>
                  </a:lnTo>
                  <a:lnTo>
                    <a:pt x="989" y="657"/>
                  </a:lnTo>
                  <a:lnTo>
                    <a:pt x="396" y="1314"/>
                  </a:lnTo>
                  <a:lnTo>
                    <a:pt x="396" y="2628"/>
                  </a:lnTo>
                  <a:lnTo>
                    <a:pt x="199" y="3942"/>
                  </a:lnTo>
                  <a:lnTo>
                    <a:pt x="1" y="5256"/>
                  </a:lnTo>
                  <a:lnTo>
                    <a:pt x="396" y="7008"/>
                  </a:lnTo>
                  <a:lnTo>
                    <a:pt x="1" y="8759"/>
                  </a:lnTo>
                  <a:lnTo>
                    <a:pt x="396" y="10511"/>
                  </a:lnTo>
                  <a:lnTo>
                    <a:pt x="396" y="12263"/>
                  </a:lnTo>
                  <a:lnTo>
                    <a:pt x="1" y="14015"/>
                  </a:lnTo>
                  <a:lnTo>
                    <a:pt x="199" y="15329"/>
                  </a:lnTo>
                  <a:lnTo>
                    <a:pt x="396" y="17081"/>
                  </a:lnTo>
                  <a:lnTo>
                    <a:pt x="1" y="18394"/>
                  </a:lnTo>
                  <a:lnTo>
                    <a:pt x="199" y="20146"/>
                  </a:lnTo>
                  <a:lnTo>
                    <a:pt x="1187" y="20365"/>
                  </a:lnTo>
                  <a:lnTo>
                    <a:pt x="2373" y="20803"/>
                  </a:lnTo>
                  <a:lnTo>
                    <a:pt x="3164" y="20365"/>
                  </a:lnTo>
                  <a:lnTo>
                    <a:pt x="4153" y="19708"/>
                  </a:lnTo>
                  <a:close/>
                </a:path>
              </a:pathLst>
            </a:custGeom>
            <a:solidFill>
              <a:srgbClr val="ad9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Shape 420"/>
            <p:cNvSpPr/>
            <p:nvPr/>
          </p:nvSpPr>
          <p:spPr>
            <a:xfrm>
              <a:off x="7970400" y="5542200"/>
              <a:ext cx="134280" cy="364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6327" h="20366">
                  <a:moveTo>
                    <a:pt x="5338" y="19051"/>
                  </a:moveTo>
                  <a:lnTo>
                    <a:pt x="5733" y="17519"/>
                  </a:lnTo>
                  <a:lnTo>
                    <a:pt x="5733" y="15986"/>
                  </a:lnTo>
                  <a:lnTo>
                    <a:pt x="5535" y="14453"/>
                  </a:lnTo>
                  <a:lnTo>
                    <a:pt x="6326" y="13139"/>
                  </a:lnTo>
                  <a:lnTo>
                    <a:pt x="5931" y="11825"/>
                  </a:lnTo>
                  <a:lnTo>
                    <a:pt x="5733" y="10511"/>
                  </a:lnTo>
                  <a:lnTo>
                    <a:pt x="5535" y="9197"/>
                  </a:lnTo>
                  <a:lnTo>
                    <a:pt x="5931" y="7884"/>
                  </a:lnTo>
                  <a:lnTo>
                    <a:pt x="5733" y="5694"/>
                  </a:lnTo>
                  <a:lnTo>
                    <a:pt x="5931" y="3504"/>
                  </a:lnTo>
                  <a:lnTo>
                    <a:pt x="5733" y="2409"/>
                  </a:lnTo>
                  <a:lnTo>
                    <a:pt x="5535" y="1533"/>
                  </a:lnTo>
                  <a:lnTo>
                    <a:pt x="4942" y="876"/>
                  </a:lnTo>
                  <a:lnTo>
                    <a:pt x="4152" y="438"/>
                  </a:lnTo>
                  <a:lnTo>
                    <a:pt x="2965" y="0"/>
                  </a:lnTo>
                  <a:lnTo>
                    <a:pt x="1977" y="438"/>
                  </a:lnTo>
                  <a:lnTo>
                    <a:pt x="1384" y="1533"/>
                  </a:lnTo>
                  <a:lnTo>
                    <a:pt x="791" y="2847"/>
                  </a:lnTo>
                  <a:lnTo>
                    <a:pt x="593" y="4380"/>
                  </a:lnTo>
                  <a:lnTo>
                    <a:pt x="395" y="6351"/>
                  </a:lnTo>
                  <a:lnTo>
                    <a:pt x="0" y="7884"/>
                  </a:lnTo>
                  <a:lnTo>
                    <a:pt x="0" y="9854"/>
                  </a:lnTo>
                  <a:lnTo>
                    <a:pt x="198" y="12044"/>
                  </a:lnTo>
                  <a:lnTo>
                    <a:pt x="0" y="14453"/>
                  </a:lnTo>
                  <a:lnTo>
                    <a:pt x="198" y="15986"/>
                  </a:lnTo>
                  <a:lnTo>
                    <a:pt x="593" y="17957"/>
                  </a:lnTo>
                  <a:lnTo>
                    <a:pt x="791" y="18614"/>
                  </a:lnTo>
                  <a:lnTo>
                    <a:pt x="1384" y="19489"/>
                  </a:lnTo>
                  <a:lnTo>
                    <a:pt x="1977" y="19927"/>
                  </a:lnTo>
                  <a:lnTo>
                    <a:pt x="3163" y="20365"/>
                  </a:lnTo>
                  <a:lnTo>
                    <a:pt x="4349" y="19927"/>
                  </a:lnTo>
                  <a:lnTo>
                    <a:pt x="5338" y="19051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Shape 421"/>
            <p:cNvSpPr/>
            <p:nvPr/>
          </p:nvSpPr>
          <p:spPr>
            <a:xfrm>
              <a:off x="6931800" y="5605200"/>
              <a:ext cx="214200" cy="294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0084" h="16424">
                  <a:moveTo>
                    <a:pt x="8699" y="10511"/>
                  </a:moveTo>
                  <a:lnTo>
                    <a:pt x="8699" y="8978"/>
                  </a:lnTo>
                  <a:lnTo>
                    <a:pt x="8897" y="7664"/>
                  </a:lnTo>
                  <a:lnTo>
                    <a:pt x="8699" y="6350"/>
                  </a:lnTo>
                  <a:lnTo>
                    <a:pt x="8502" y="5256"/>
                  </a:lnTo>
                  <a:lnTo>
                    <a:pt x="8897" y="657"/>
                  </a:lnTo>
                  <a:lnTo>
                    <a:pt x="6920" y="219"/>
                  </a:lnTo>
                  <a:lnTo>
                    <a:pt x="4943" y="219"/>
                  </a:lnTo>
                  <a:lnTo>
                    <a:pt x="2768" y="0"/>
                  </a:lnTo>
                  <a:lnTo>
                    <a:pt x="792" y="0"/>
                  </a:lnTo>
                  <a:lnTo>
                    <a:pt x="594" y="1533"/>
                  </a:lnTo>
                  <a:lnTo>
                    <a:pt x="396" y="3285"/>
                  </a:lnTo>
                  <a:lnTo>
                    <a:pt x="198" y="5037"/>
                  </a:lnTo>
                  <a:lnTo>
                    <a:pt x="198" y="6788"/>
                  </a:lnTo>
                  <a:lnTo>
                    <a:pt x="1" y="8321"/>
                  </a:lnTo>
                  <a:lnTo>
                    <a:pt x="1" y="10073"/>
                  </a:lnTo>
                  <a:lnTo>
                    <a:pt x="1" y="11606"/>
                  </a:lnTo>
                  <a:lnTo>
                    <a:pt x="594" y="13577"/>
                  </a:lnTo>
                  <a:lnTo>
                    <a:pt x="1582" y="15766"/>
                  </a:lnTo>
                  <a:lnTo>
                    <a:pt x="3559" y="15766"/>
                  </a:lnTo>
                  <a:lnTo>
                    <a:pt x="5734" y="15766"/>
                  </a:lnTo>
                  <a:lnTo>
                    <a:pt x="6722" y="15766"/>
                  </a:lnTo>
                  <a:lnTo>
                    <a:pt x="7908" y="15985"/>
                  </a:lnTo>
                  <a:lnTo>
                    <a:pt x="8897" y="15985"/>
                  </a:lnTo>
                  <a:lnTo>
                    <a:pt x="10083" y="16423"/>
                  </a:lnTo>
                  <a:lnTo>
                    <a:pt x="9885" y="14891"/>
                  </a:lnTo>
                  <a:lnTo>
                    <a:pt x="9688" y="13358"/>
                  </a:lnTo>
                  <a:lnTo>
                    <a:pt x="9095" y="11825"/>
                  </a:lnTo>
                  <a:lnTo>
                    <a:pt x="8699" y="1051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Shape 422"/>
            <p:cNvSpPr/>
            <p:nvPr/>
          </p:nvSpPr>
          <p:spPr>
            <a:xfrm>
              <a:off x="7549920" y="5616720"/>
              <a:ext cx="416160" cy="2746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9573" h="15330">
                  <a:moveTo>
                    <a:pt x="16607" y="14891"/>
                  </a:moveTo>
                  <a:lnTo>
                    <a:pt x="16805" y="14673"/>
                  </a:lnTo>
                  <a:lnTo>
                    <a:pt x="19572" y="14673"/>
                  </a:lnTo>
                  <a:lnTo>
                    <a:pt x="19177" y="12702"/>
                  </a:lnTo>
                  <a:lnTo>
                    <a:pt x="18782" y="11169"/>
                  </a:lnTo>
                  <a:lnTo>
                    <a:pt x="18584" y="9198"/>
                  </a:lnTo>
                  <a:lnTo>
                    <a:pt x="19177" y="7665"/>
                  </a:lnTo>
                  <a:lnTo>
                    <a:pt x="18782" y="5913"/>
                  </a:lnTo>
                  <a:lnTo>
                    <a:pt x="18782" y="4381"/>
                  </a:lnTo>
                  <a:lnTo>
                    <a:pt x="18979" y="2629"/>
                  </a:lnTo>
                  <a:lnTo>
                    <a:pt x="19572" y="1315"/>
                  </a:lnTo>
                  <a:lnTo>
                    <a:pt x="19572" y="658"/>
                  </a:lnTo>
                  <a:lnTo>
                    <a:pt x="19572" y="1"/>
                  </a:lnTo>
                  <a:lnTo>
                    <a:pt x="18189" y="439"/>
                  </a:lnTo>
                  <a:lnTo>
                    <a:pt x="17002" y="439"/>
                  </a:lnTo>
                  <a:lnTo>
                    <a:pt x="16212" y="658"/>
                  </a:lnTo>
                  <a:lnTo>
                    <a:pt x="15816" y="439"/>
                  </a:lnTo>
                  <a:lnTo>
                    <a:pt x="14828" y="439"/>
                  </a:lnTo>
                  <a:lnTo>
                    <a:pt x="13839" y="658"/>
                  </a:lnTo>
                  <a:lnTo>
                    <a:pt x="12455" y="439"/>
                  </a:lnTo>
                  <a:lnTo>
                    <a:pt x="11269" y="1"/>
                  </a:lnTo>
                  <a:lnTo>
                    <a:pt x="10478" y="220"/>
                  </a:lnTo>
                  <a:lnTo>
                    <a:pt x="10083" y="877"/>
                  </a:lnTo>
                  <a:lnTo>
                    <a:pt x="8699" y="439"/>
                  </a:lnTo>
                  <a:lnTo>
                    <a:pt x="7711" y="877"/>
                  </a:lnTo>
                  <a:lnTo>
                    <a:pt x="6129" y="439"/>
                  </a:lnTo>
                  <a:lnTo>
                    <a:pt x="4548" y="439"/>
                  </a:lnTo>
                  <a:lnTo>
                    <a:pt x="3164" y="439"/>
                  </a:lnTo>
                  <a:lnTo>
                    <a:pt x="1978" y="658"/>
                  </a:lnTo>
                  <a:lnTo>
                    <a:pt x="989" y="658"/>
                  </a:lnTo>
                  <a:lnTo>
                    <a:pt x="396" y="439"/>
                  </a:lnTo>
                  <a:lnTo>
                    <a:pt x="1" y="1972"/>
                  </a:lnTo>
                  <a:lnTo>
                    <a:pt x="396" y="3505"/>
                  </a:lnTo>
                  <a:lnTo>
                    <a:pt x="791" y="5037"/>
                  </a:lnTo>
                  <a:lnTo>
                    <a:pt x="396" y="6789"/>
                  </a:lnTo>
                  <a:lnTo>
                    <a:pt x="198" y="8103"/>
                  </a:lnTo>
                  <a:lnTo>
                    <a:pt x="198" y="9417"/>
                  </a:lnTo>
                  <a:lnTo>
                    <a:pt x="198" y="10731"/>
                  </a:lnTo>
                  <a:lnTo>
                    <a:pt x="198" y="12264"/>
                  </a:lnTo>
                  <a:lnTo>
                    <a:pt x="396" y="13797"/>
                  </a:lnTo>
                  <a:lnTo>
                    <a:pt x="198" y="15329"/>
                  </a:lnTo>
                  <a:lnTo>
                    <a:pt x="989" y="15110"/>
                  </a:lnTo>
                  <a:lnTo>
                    <a:pt x="1978" y="15329"/>
                  </a:lnTo>
                  <a:lnTo>
                    <a:pt x="3757" y="15329"/>
                  </a:lnTo>
                  <a:lnTo>
                    <a:pt x="5536" y="15329"/>
                  </a:lnTo>
                  <a:lnTo>
                    <a:pt x="7315" y="15110"/>
                  </a:lnTo>
                  <a:lnTo>
                    <a:pt x="9292" y="15110"/>
                  </a:lnTo>
                  <a:lnTo>
                    <a:pt x="11072" y="14891"/>
                  </a:lnTo>
                  <a:lnTo>
                    <a:pt x="12851" y="14891"/>
                  </a:lnTo>
                  <a:lnTo>
                    <a:pt x="14630" y="14891"/>
                  </a:lnTo>
                  <a:lnTo>
                    <a:pt x="16607" y="1489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Shape 423"/>
            <p:cNvSpPr/>
            <p:nvPr/>
          </p:nvSpPr>
          <p:spPr>
            <a:xfrm>
              <a:off x="8378640" y="5608800"/>
              <a:ext cx="197640" cy="274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9292" h="15329">
                  <a:moveTo>
                    <a:pt x="8303" y="14234"/>
                  </a:moveTo>
                  <a:lnTo>
                    <a:pt x="8303" y="12482"/>
                  </a:lnTo>
                  <a:lnTo>
                    <a:pt x="8303" y="10730"/>
                  </a:lnTo>
                  <a:lnTo>
                    <a:pt x="8501" y="8978"/>
                  </a:lnTo>
                  <a:lnTo>
                    <a:pt x="8699" y="7445"/>
                  </a:lnTo>
                  <a:lnTo>
                    <a:pt x="8897" y="5693"/>
                  </a:lnTo>
                  <a:lnTo>
                    <a:pt x="9094" y="4161"/>
                  </a:lnTo>
                  <a:lnTo>
                    <a:pt x="9094" y="2409"/>
                  </a:lnTo>
                  <a:lnTo>
                    <a:pt x="9292" y="876"/>
                  </a:lnTo>
                  <a:lnTo>
                    <a:pt x="8106" y="438"/>
                  </a:lnTo>
                  <a:lnTo>
                    <a:pt x="6920" y="219"/>
                  </a:lnTo>
                  <a:lnTo>
                    <a:pt x="5733" y="219"/>
                  </a:lnTo>
                  <a:lnTo>
                    <a:pt x="4547" y="219"/>
                  </a:lnTo>
                  <a:lnTo>
                    <a:pt x="3361" y="0"/>
                  </a:lnTo>
                  <a:lnTo>
                    <a:pt x="2175" y="0"/>
                  </a:lnTo>
                  <a:lnTo>
                    <a:pt x="989" y="0"/>
                  </a:lnTo>
                  <a:lnTo>
                    <a:pt x="0" y="219"/>
                  </a:lnTo>
                  <a:lnTo>
                    <a:pt x="198" y="1533"/>
                  </a:lnTo>
                  <a:lnTo>
                    <a:pt x="989" y="2847"/>
                  </a:lnTo>
                  <a:lnTo>
                    <a:pt x="593" y="4818"/>
                  </a:lnTo>
                  <a:lnTo>
                    <a:pt x="791" y="7007"/>
                  </a:lnTo>
                  <a:lnTo>
                    <a:pt x="396" y="8759"/>
                  </a:lnTo>
                  <a:lnTo>
                    <a:pt x="396" y="10730"/>
                  </a:lnTo>
                  <a:lnTo>
                    <a:pt x="198" y="12701"/>
                  </a:lnTo>
                  <a:lnTo>
                    <a:pt x="0" y="14672"/>
                  </a:lnTo>
                  <a:lnTo>
                    <a:pt x="0" y="14891"/>
                  </a:lnTo>
                  <a:lnTo>
                    <a:pt x="1780" y="15110"/>
                  </a:lnTo>
                  <a:lnTo>
                    <a:pt x="3757" y="15328"/>
                  </a:lnTo>
                  <a:lnTo>
                    <a:pt x="5536" y="15328"/>
                  </a:lnTo>
                  <a:lnTo>
                    <a:pt x="7513" y="15328"/>
                  </a:lnTo>
                  <a:lnTo>
                    <a:pt x="8303" y="14234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Shape 424"/>
            <p:cNvSpPr/>
            <p:nvPr/>
          </p:nvSpPr>
          <p:spPr>
            <a:xfrm>
              <a:off x="6523560" y="3843000"/>
              <a:ext cx="2506680" cy="1769760"/>
            </a:xfrm>
            <a:custGeom>
              <a:avLst/>
              <a:gdLst>
                <a:gd name="textAreaLeft" fmla="*/ 0 w 2506680"/>
                <a:gd name="textAreaRight" fmla="*/ 2507040 w 250668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117826" h="98760">
                  <a:moveTo>
                    <a:pt x="63460" y="98103"/>
                  </a:moveTo>
                  <a:lnTo>
                    <a:pt x="64844" y="98103"/>
                  </a:lnTo>
                  <a:lnTo>
                    <a:pt x="66228" y="98760"/>
                  </a:lnTo>
                  <a:lnTo>
                    <a:pt x="67414" y="97227"/>
                  </a:lnTo>
                  <a:lnTo>
                    <a:pt x="68600" y="95475"/>
                  </a:lnTo>
                  <a:lnTo>
                    <a:pt x="68996" y="94380"/>
                  </a:lnTo>
                  <a:lnTo>
                    <a:pt x="69786" y="93942"/>
                  </a:lnTo>
                  <a:lnTo>
                    <a:pt x="70577" y="93505"/>
                  </a:lnTo>
                  <a:lnTo>
                    <a:pt x="71961" y="93942"/>
                  </a:lnTo>
                  <a:lnTo>
                    <a:pt x="74531" y="95694"/>
                  </a:lnTo>
                  <a:lnTo>
                    <a:pt x="75519" y="95037"/>
                  </a:lnTo>
                  <a:lnTo>
                    <a:pt x="76508" y="94380"/>
                  </a:lnTo>
                  <a:lnTo>
                    <a:pt x="77101" y="93286"/>
                  </a:lnTo>
                  <a:lnTo>
                    <a:pt x="77892" y="92410"/>
                  </a:lnTo>
                  <a:lnTo>
                    <a:pt x="78287" y="91315"/>
                  </a:lnTo>
                  <a:lnTo>
                    <a:pt x="78880" y="90220"/>
                  </a:lnTo>
                  <a:lnTo>
                    <a:pt x="79276" y="88906"/>
                  </a:lnTo>
                  <a:lnTo>
                    <a:pt x="79869" y="88030"/>
                  </a:lnTo>
                  <a:lnTo>
                    <a:pt x="80462" y="85840"/>
                  </a:lnTo>
                  <a:lnTo>
                    <a:pt x="81450" y="83651"/>
                  </a:lnTo>
                  <a:lnTo>
                    <a:pt x="82043" y="81242"/>
                  </a:lnTo>
                  <a:lnTo>
                    <a:pt x="82636" y="79052"/>
                  </a:lnTo>
                  <a:lnTo>
                    <a:pt x="83229" y="77957"/>
                  </a:lnTo>
                  <a:lnTo>
                    <a:pt x="83823" y="76862"/>
                  </a:lnTo>
                  <a:lnTo>
                    <a:pt x="84020" y="75548"/>
                  </a:lnTo>
                  <a:lnTo>
                    <a:pt x="84416" y="74453"/>
                  </a:lnTo>
                  <a:lnTo>
                    <a:pt x="84416" y="73140"/>
                  </a:lnTo>
                  <a:lnTo>
                    <a:pt x="84613" y="71826"/>
                  </a:lnTo>
                  <a:lnTo>
                    <a:pt x="84811" y="70512"/>
                  </a:lnTo>
                  <a:lnTo>
                    <a:pt x="85009" y="69417"/>
                  </a:lnTo>
                  <a:lnTo>
                    <a:pt x="85009" y="67884"/>
                  </a:lnTo>
                  <a:lnTo>
                    <a:pt x="85799" y="67008"/>
                  </a:lnTo>
                  <a:lnTo>
                    <a:pt x="85997" y="67008"/>
                  </a:lnTo>
                  <a:lnTo>
                    <a:pt x="85997" y="60877"/>
                  </a:lnTo>
                  <a:lnTo>
                    <a:pt x="85404" y="60877"/>
                  </a:lnTo>
                  <a:lnTo>
                    <a:pt x="84811" y="60658"/>
                  </a:lnTo>
                  <a:lnTo>
                    <a:pt x="84613" y="60877"/>
                  </a:lnTo>
                  <a:lnTo>
                    <a:pt x="84416" y="61315"/>
                  </a:lnTo>
                  <a:lnTo>
                    <a:pt x="83823" y="61096"/>
                  </a:lnTo>
                  <a:lnTo>
                    <a:pt x="83625" y="61534"/>
                  </a:lnTo>
                  <a:lnTo>
                    <a:pt x="83427" y="61972"/>
                  </a:lnTo>
                  <a:lnTo>
                    <a:pt x="82636" y="61972"/>
                  </a:lnTo>
                  <a:lnTo>
                    <a:pt x="82241" y="62410"/>
                  </a:lnTo>
                  <a:lnTo>
                    <a:pt x="81648" y="62629"/>
                  </a:lnTo>
                  <a:lnTo>
                    <a:pt x="81253" y="62410"/>
                  </a:lnTo>
                  <a:lnTo>
                    <a:pt x="80857" y="61972"/>
                  </a:lnTo>
                  <a:lnTo>
                    <a:pt x="80659" y="61753"/>
                  </a:lnTo>
                  <a:lnTo>
                    <a:pt x="81253" y="61972"/>
                  </a:lnTo>
                  <a:lnTo>
                    <a:pt x="81846" y="62191"/>
                  </a:lnTo>
                  <a:lnTo>
                    <a:pt x="82241" y="61534"/>
                  </a:lnTo>
                  <a:lnTo>
                    <a:pt x="83032" y="61315"/>
                  </a:lnTo>
                  <a:lnTo>
                    <a:pt x="83229" y="61315"/>
                  </a:lnTo>
                  <a:lnTo>
                    <a:pt x="83229" y="60439"/>
                  </a:lnTo>
                  <a:lnTo>
                    <a:pt x="83625" y="60220"/>
                  </a:lnTo>
                  <a:lnTo>
                    <a:pt x="84218" y="60439"/>
                  </a:lnTo>
                  <a:lnTo>
                    <a:pt x="84218" y="59782"/>
                  </a:lnTo>
                  <a:lnTo>
                    <a:pt x="84613" y="59344"/>
                  </a:lnTo>
                  <a:lnTo>
                    <a:pt x="85009" y="59563"/>
                  </a:lnTo>
                  <a:lnTo>
                    <a:pt x="85404" y="60220"/>
                  </a:lnTo>
                  <a:lnTo>
                    <a:pt x="85009" y="58906"/>
                  </a:lnTo>
                  <a:lnTo>
                    <a:pt x="84613" y="57811"/>
                  </a:lnTo>
                  <a:lnTo>
                    <a:pt x="84416" y="56497"/>
                  </a:lnTo>
                  <a:lnTo>
                    <a:pt x="84613" y="55621"/>
                  </a:lnTo>
                  <a:lnTo>
                    <a:pt x="85009" y="55621"/>
                  </a:lnTo>
                  <a:lnTo>
                    <a:pt x="85404" y="57592"/>
                  </a:lnTo>
                  <a:lnTo>
                    <a:pt x="85997" y="59782"/>
                  </a:lnTo>
                  <a:lnTo>
                    <a:pt x="85997" y="59344"/>
                  </a:lnTo>
                  <a:lnTo>
                    <a:pt x="86393" y="59125"/>
                  </a:lnTo>
                  <a:lnTo>
                    <a:pt x="86393" y="58030"/>
                  </a:lnTo>
                  <a:lnTo>
                    <a:pt x="86986" y="57373"/>
                  </a:lnTo>
                  <a:lnTo>
                    <a:pt x="87183" y="58687"/>
                  </a:lnTo>
                  <a:lnTo>
                    <a:pt x="87381" y="60220"/>
                  </a:lnTo>
                  <a:lnTo>
                    <a:pt x="88963" y="61753"/>
                  </a:lnTo>
                  <a:lnTo>
                    <a:pt x="90544" y="63723"/>
                  </a:lnTo>
                  <a:lnTo>
                    <a:pt x="91137" y="64599"/>
                  </a:lnTo>
                  <a:lnTo>
                    <a:pt x="92126" y="65475"/>
                  </a:lnTo>
                  <a:lnTo>
                    <a:pt x="93114" y="65913"/>
                  </a:lnTo>
                  <a:lnTo>
                    <a:pt x="94300" y="66570"/>
                  </a:lnTo>
                  <a:lnTo>
                    <a:pt x="96277" y="67227"/>
                  </a:lnTo>
                  <a:lnTo>
                    <a:pt x="98452" y="68103"/>
                  </a:lnTo>
                  <a:lnTo>
                    <a:pt x="99638" y="68322"/>
                  </a:lnTo>
                  <a:lnTo>
                    <a:pt x="100824" y="68541"/>
                  </a:lnTo>
                  <a:lnTo>
                    <a:pt x="102010" y="68322"/>
                  </a:lnTo>
                  <a:lnTo>
                    <a:pt x="103197" y="67884"/>
                  </a:lnTo>
                  <a:lnTo>
                    <a:pt x="102999" y="66570"/>
                  </a:lnTo>
                  <a:lnTo>
                    <a:pt x="102208" y="65913"/>
                  </a:lnTo>
                  <a:lnTo>
                    <a:pt x="101220" y="65256"/>
                  </a:lnTo>
                  <a:lnTo>
                    <a:pt x="100429" y="64599"/>
                  </a:lnTo>
                  <a:lnTo>
                    <a:pt x="99638" y="64161"/>
                  </a:lnTo>
                  <a:lnTo>
                    <a:pt x="99045" y="63505"/>
                  </a:lnTo>
                  <a:lnTo>
                    <a:pt x="98452" y="62848"/>
                  </a:lnTo>
                  <a:lnTo>
                    <a:pt x="97661" y="63067"/>
                  </a:lnTo>
                  <a:lnTo>
                    <a:pt x="97463" y="62629"/>
                  </a:lnTo>
                  <a:lnTo>
                    <a:pt x="97463" y="62410"/>
                  </a:lnTo>
                  <a:lnTo>
                    <a:pt x="98650" y="62191"/>
                  </a:lnTo>
                  <a:lnTo>
                    <a:pt x="100033" y="62191"/>
                  </a:lnTo>
                  <a:lnTo>
                    <a:pt x="101417" y="62410"/>
                  </a:lnTo>
                  <a:lnTo>
                    <a:pt x="102801" y="62629"/>
                  </a:lnTo>
                  <a:lnTo>
                    <a:pt x="103987" y="62410"/>
                  </a:lnTo>
                  <a:lnTo>
                    <a:pt x="105569" y="62410"/>
                  </a:lnTo>
                  <a:lnTo>
                    <a:pt x="106755" y="62191"/>
                  </a:lnTo>
                  <a:lnTo>
                    <a:pt x="108337" y="61753"/>
                  </a:lnTo>
                  <a:lnTo>
                    <a:pt x="108732" y="61096"/>
                  </a:lnTo>
                  <a:lnTo>
                    <a:pt x="109127" y="60658"/>
                  </a:lnTo>
                  <a:lnTo>
                    <a:pt x="109127" y="59782"/>
                  </a:lnTo>
                  <a:lnTo>
                    <a:pt x="108930" y="59344"/>
                  </a:lnTo>
                  <a:lnTo>
                    <a:pt x="107150" y="58687"/>
                  </a:lnTo>
                  <a:lnTo>
                    <a:pt x="105371" y="58468"/>
                  </a:lnTo>
                  <a:lnTo>
                    <a:pt x="103592" y="58030"/>
                  </a:lnTo>
                  <a:lnTo>
                    <a:pt x="102010" y="57592"/>
                  </a:lnTo>
                  <a:lnTo>
                    <a:pt x="101813" y="57154"/>
                  </a:lnTo>
                  <a:lnTo>
                    <a:pt x="102010" y="56935"/>
                  </a:lnTo>
                  <a:lnTo>
                    <a:pt x="103790" y="56059"/>
                  </a:lnTo>
                  <a:lnTo>
                    <a:pt x="105767" y="55840"/>
                  </a:lnTo>
                  <a:lnTo>
                    <a:pt x="107546" y="54964"/>
                  </a:lnTo>
                  <a:lnTo>
                    <a:pt x="109325" y="54307"/>
                  </a:lnTo>
                  <a:lnTo>
                    <a:pt x="110907" y="53432"/>
                  </a:lnTo>
                  <a:lnTo>
                    <a:pt x="112686" y="52337"/>
                  </a:lnTo>
                  <a:lnTo>
                    <a:pt x="113081" y="51242"/>
                  </a:lnTo>
                  <a:lnTo>
                    <a:pt x="112884" y="50366"/>
                  </a:lnTo>
                  <a:lnTo>
                    <a:pt x="111302" y="49709"/>
                  </a:lnTo>
                  <a:lnTo>
                    <a:pt x="109720" y="49928"/>
                  </a:lnTo>
                  <a:lnTo>
                    <a:pt x="108139" y="50366"/>
                  </a:lnTo>
                  <a:lnTo>
                    <a:pt x="106755" y="50147"/>
                  </a:lnTo>
                  <a:lnTo>
                    <a:pt x="106755" y="49928"/>
                  </a:lnTo>
                  <a:lnTo>
                    <a:pt x="107941" y="48833"/>
                  </a:lnTo>
                  <a:lnTo>
                    <a:pt x="109127" y="47738"/>
                  </a:lnTo>
                  <a:lnTo>
                    <a:pt x="110313" y="46643"/>
                  </a:lnTo>
                  <a:lnTo>
                    <a:pt x="111500" y="45548"/>
                  </a:lnTo>
                  <a:lnTo>
                    <a:pt x="112686" y="44453"/>
                  </a:lnTo>
                  <a:lnTo>
                    <a:pt x="113872" y="43359"/>
                  </a:lnTo>
                  <a:lnTo>
                    <a:pt x="115058" y="42264"/>
                  </a:lnTo>
                  <a:lnTo>
                    <a:pt x="116442" y="41388"/>
                  </a:lnTo>
                  <a:lnTo>
                    <a:pt x="117035" y="40512"/>
                  </a:lnTo>
                  <a:lnTo>
                    <a:pt x="117628" y="39636"/>
                  </a:lnTo>
                  <a:lnTo>
                    <a:pt x="116047" y="38979"/>
                  </a:lnTo>
                  <a:lnTo>
                    <a:pt x="114663" y="39417"/>
                  </a:lnTo>
                  <a:lnTo>
                    <a:pt x="112884" y="40293"/>
                  </a:lnTo>
                  <a:lnTo>
                    <a:pt x="111302" y="41607"/>
                  </a:lnTo>
                  <a:lnTo>
                    <a:pt x="109720" y="43140"/>
                  </a:lnTo>
                  <a:lnTo>
                    <a:pt x="108534" y="44672"/>
                  </a:lnTo>
                  <a:lnTo>
                    <a:pt x="107743" y="44891"/>
                  </a:lnTo>
                  <a:lnTo>
                    <a:pt x="107150" y="44672"/>
                  </a:lnTo>
                  <a:lnTo>
                    <a:pt x="107150" y="44453"/>
                  </a:lnTo>
                  <a:lnTo>
                    <a:pt x="108732" y="42264"/>
                  </a:lnTo>
                  <a:lnTo>
                    <a:pt x="110313" y="40293"/>
                  </a:lnTo>
                  <a:lnTo>
                    <a:pt x="111697" y="38103"/>
                  </a:lnTo>
                  <a:lnTo>
                    <a:pt x="113279" y="36132"/>
                  </a:lnTo>
                  <a:lnTo>
                    <a:pt x="114267" y="33723"/>
                  </a:lnTo>
                  <a:lnTo>
                    <a:pt x="115454" y="31534"/>
                  </a:lnTo>
                  <a:lnTo>
                    <a:pt x="116442" y="29125"/>
                  </a:lnTo>
                  <a:lnTo>
                    <a:pt x="117628" y="26935"/>
                  </a:lnTo>
                  <a:lnTo>
                    <a:pt x="117628" y="26278"/>
                  </a:lnTo>
                  <a:lnTo>
                    <a:pt x="117826" y="26059"/>
                  </a:lnTo>
                  <a:lnTo>
                    <a:pt x="116640" y="26059"/>
                  </a:lnTo>
                  <a:lnTo>
                    <a:pt x="115651" y="26716"/>
                  </a:lnTo>
                  <a:lnTo>
                    <a:pt x="114663" y="27592"/>
                  </a:lnTo>
                  <a:lnTo>
                    <a:pt x="113872" y="28687"/>
                  </a:lnTo>
                  <a:lnTo>
                    <a:pt x="112093" y="30658"/>
                  </a:lnTo>
                  <a:lnTo>
                    <a:pt x="110511" y="32629"/>
                  </a:lnTo>
                  <a:lnTo>
                    <a:pt x="108930" y="34599"/>
                  </a:lnTo>
                  <a:lnTo>
                    <a:pt x="107348" y="36789"/>
                  </a:lnTo>
                  <a:lnTo>
                    <a:pt x="107150" y="36570"/>
                  </a:lnTo>
                  <a:lnTo>
                    <a:pt x="106953" y="36351"/>
                  </a:lnTo>
                  <a:lnTo>
                    <a:pt x="107743" y="34818"/>
                  </a:lnTo>
                  <a:lnTo>
                    <a:pt x="108732" y="33505"/>
                  </a:lnTo>
                  <a:lnTo>
                    <a:pt x="109523" y="31315"/>
                  </a:lnTo>
                  <a:lnTo>
                    <a:pt x="110511" y="29344"/>
                  </a:lnTo>
                  <a:lnTo>
                    <a:pt x="111104" y="27154"/>
                  </a:lnTo>
                  <a:lnTo>
                    <a:pt x="111895" y="25183"/>
                  </a:lnTo>
                  <a:lnTo>
                    <a:pt x="112290" y="22775"/>
                  </a:lnTo>
                  <a:lnTo>
                    <a:pt x="112884" y="20585"/>
                  </a:lnTo>
                  <a:lnTo>
                    <a:pt x="113279" y="18395"/>
                  </a:lnTo>
                  <a:lnTo>
                    <a:pt x="113872" y="16205"/>
                  </a:lnTo>
                  <a:lnTo>
                    <a:pt x="113872" y="15110"/>
                  </a:lnTo>
                  <a:lnTo>
                    <a:pt x="112093" y="16643"/>
                  </a:lnTo>
                  <a:lnTo>
                    <a:pt x="110907" y="18614"/>
                  </a:lnTo>
                  <a:lnTo>
                    <a:pt x="109720" y="20585"/>
                  </a:lnTo>
                  <a:lnTo>
                    <a:pt x="108732" y="22775"/>
                  </a:lnTo>
                  <a:lnTo>
                    <a:pt x="107941" y="24088"/>
                  </a:lnTo>
                  <a:lnTo>
                    <a:pt x="107348" y="25402"/>
                  </a:lnTo>
                  <a:lnTo>
                    <a:pt x="106755" y="26716"/>
                  </a:lnTo>
                  <a:lnTo>
                    <a:pt x="106360" y="28030"/>
                  </a:lnTo>
                  <a:lnTo>
                    <a:pt x="105767" y="28468"/>
                  </a:lnTo>
                  <a:lnTo>
                    <a:pt x="105173" y="28687"/>
                  </a:lnTo>
                  <a:lnTo>
                    <a:pt x="104976" y="28468"/>
                  </a:lnTo>
                  <a:lnTo>
                    <a:pt x="105173" y="26935"/>
                  </a:lnTo>
                  <a:lnTo>
                    <a:pt x="105569" y="25621"/>
                  </a:lnTo>
                  <a:lnTo>
                    <a:pt x="105964" y="24307"/>
                  </a:lnTo>
                  <a:lnTo>
                    <a:pt x="106360" y="22994"/>
                  </a:lnTo>
                  <a:lnTo>
                    <a:pt x="106557" y="21461"/>
                  </a:lnTo>
                  <a:lnTo>
                    <a:pt x="106755" y="20147"/>
                  </a:lnTo>
                  <a:lnTo>
                    <a:pt x="106953" y="18614"/>
                  </a:lnTo>
                  <a:lnTo>
                    <a:pt x="107150" y="17300"/>
                  </a:lnTo>
                  <a:lnTo>
                    <a:pt x="107150" y="15767"/>
                  </a:lnTo>
                  <a:lnTo>
                    <a:pt x="107150" y="14453"/>
                  </a:lnTo>
                  <a:lnTo>
                    <a:pt x="106953" y="12921"/>
                  </a:lnTo>
                  <a:lnTo>
                    <a:pt x="106953" y="11607"/>
                  </a:lnTo>
                  <a:lnTo>
                    <a:pt x="106557" y="10293"/>
                  </a:lnTo>
                  <a:lnTo>
                    <a:pt x="106360" y="8979"/>
                  </a:lnTo>
                  <a:lnTo>
                    <a:pt x="105767" y="7665"/>
                  </a:lnTo>
                  <a:lnTo>
                    <a:pt x="105371" y="6570"/>
                  </a:lnTo>
                  <a:lnTo>
                    <a:pt x="104778" y="6351"/>
                  </a:lnTo>
                  <a:lnTo>
                    <a:pt x="104383" y="6351"/>
                  </a:lnTo>
                  <a:lnTo>
                    <a:pt x="103790" y="7446"/>
                  </a:lnTo>
                  <a:lnTo>
                    <a:pt x="103197" y="8760"/>
                  </a:lnTo>
                  <a:lnTo>
                    <a:pt x="102801" y="10074"/>
                  </a:lnTo>
                  <a:lnTo>
                    <a:pt x="102801" y="11388"/>
                  </a:lnTo>
                  <a:lnTo>
                    <a:pt x="102406" y="12702"/>
                  </a:lnTo>
                  <a:lnTo>
                    <a:pt x="102208" y="14015"/>
                  </a:lnTo>
                  <a:lnTo>
                    <a:pt x="102010" y="15329"/>
                  </a:lnTo>
                  <a:lnTo>
                    <a:pt x="102010" y="16862"/>
                  </a:lnTo>
                  <a:lnTo>
                    <a:pt x="101615" y="18176"/>
                  </a:lnTo>
                  <a:lnTo>
                    <a:pt x="101417" y="19490"/>
                  </a:lnTo>
                  <a:lnTo>
                    <a:pt x="101022" y="21023"/>
                  </a:lnTo>
                  <a:lnTo>
                    <a:pt x="100824" y="22556"/>
                  </a:lnTo>
                  <a:lnTo>
                    <a:pt x="100429" y="23869"/>
                  </a:lnTo>
                  <a:lnTo>
                    <a:pt x="100429" y="25183"/>
                  </a:lnTo>
                  <a:lnTo>
                    <a:pt x="100033" y="26716"/>
                  </a:lnTo>
                  <a:lnTo>
                    <a:pt x="100033" y="28249"/>
                  </a:lnTo>
                  <a:lnTo>
                    <a:pt x="99638" y="29563"/>
                  </a:lnTo>
                  <a:lnTo>
                    <a:pt x="99440" y="31096"/>
                  </a:lnTo>
                  <a:lnTo>
                    <a:pt x="99045" y="32410"/>
                  </a:lnTo>
                  <a:lnTo>
                    <a:pt x="98847" y="33942"/>
                  </a:lnTo>
                  <a:lnTo>
                    <a:pt x="98452" y="35256"/>
                  </a:lnTo>
                  <a:lnTo>
                    <a:pt x="98056" y="36789"/>
                  </a:lnTo>
                  <a:lnTo>
                    <a:pt x="97463" y="38103"/>
                  </a:lnTo>
                  <a:lnTo>
                    <a:pt x="97068" y="39636"/>
                  </a:lnTo>
                  <a:lnTo>
                    <a:pt x="96080" y="40950"/>
                  </a:lnTo>
                  <a:lnTo>
                    <a:pt x="95091" y="42702"/>
                  </a:lnTo>
                  <a:lnTo>
                    <a:pt x="94103" y="44234"/>
                  </a:lnTo>
                  <a:lnTo>
                    <a:pt x="93114" y="45986"/>
                  </a:lnTo>
                  <a:lnTo>
                    <a:pt x="91730" y="47300"/>
                  </a:lnTo>
                  <a:lnTo>
                    <a:pt x="90544" y="48833"/>
                  </a:lnTo>
                  <a:lnTo>
                    <a:pt x="88963" y="49928"/>
                  </a:lnTo>
                  <a:lnTo>
                    <a:pt x="87579" y="51023"/>
                  </a:lnTo>
                  <a:lnTo>
                    <a:pt x="86986" y="51023"/>
                  </a:lnTo>
                  <a:lnTo>
                    <a:pt x="86590" y="50804"/>
                  </a:lnTo>
                  <a:lnTo>
                    <a:pt x="86393" y="48833"/>
                  </a:lnTo>
                  <a:lnTo>
                    <a:pt x="85997" y="47300"/>
                  </a:lnTo>
                  <a:lnTo>
                    <a:pt x="85602" y="45767"/>
                  </a:lnTo>
                  <a:lnTo>
                    <a:pt x="85206" y="44234"/>
                  </a:lnTo>
                  <a:lnTo>
                    <a:pt x="85602" y="43359"/>
                  </a:lnTo>
                  <a:lnTo>
                    <a:pt x="85602" y="42483"/>
                  </a:lnTo>
                  <a:lnTo>
                    <a:pt x="85206" y="41388"/>
                  </a:lnTo>
                  <a:lnTo>
                    <a:pt x="85206" y="40731"/>
                  </a:lnTo>
                  <a:lnTo>
                    <a:pt x="84416" y="39198"/>
                  </a:lnTo>
                  <a:lnTo>
                    <a:pt x="83823" y="37884"/>
                  </a:lnTo>
                  <a:lnTo>
                    <a:pt x="83032" y="36570"/>
                  </a:lnTo>
                  <a:lnTo>
                    <a:pt x="82439" y="35475"/>
                  </a:lnTo>
                  <a:lnTo>
                    <a:pt x="81648" y="34161"/>
                  </a:lnTo>
                  <a:lnTo>
                    <a:pt x="80857" y="32848"/>
                  </a:lnTo>
                  <a:lnTo>
                    <a:pt x="80264" y="31753"/>
                  </a:lnTo>
                  <a:lnTo>
                    <a:pt x="79671" y="30658"/>
                  </a:lnTo>
                  <a:lnTo>
                    <a:pt x="79869" y="30001"/>
                  </a:lnTo>
                  <a:lnTo>
                    <a:pt x="80066" y="29782"/>
                  </a:lnTo>
                  <a:lnTo>
                    <a:pt x="78485" y="27811"/>
                  </a:lnTo>
                  <a:lnTo>
                    <a:pt x="76903" y="26059"/>
                  </a:lnTo>
                  <a:lnTo>
                    <a:pt x="75124" y="24526"/>
                  </a:lnTo>
                  <a:lnTo>
                    <a:pt x="73345" y="23432"/>
                  </a:lnTo>
                  <a:lnTo>
                    <a:pt x="72949" y="22775"/>
                  </a:lnTo>
                  <a:lnTo>
                    <a:pt x="72949" y="22118"/>
                  </a:lnTo>
                  <a:lnTo>
                    <a:pt x="73740" y="21242"/>
                  </a:lnTo>
                  <a:lnTo>
                    <a:pt x="74729" y="20585"/>
                  </a:lnTo>
                  <a:lnTo>
                    <a:pt x="75717" y="19928"/>
                  </a:lnTo>
                  <a:lnTo>
                    <a:pt x="76706" y="19271"/>
                  </a:lnTo>
                  <a:lnTo>
                    <a:pt x="76112" y="19271"/>
                  </a:lnTo>
                  <a:lnTo>
                    <a:pt x="75717" y="19271"/>
                  </a:lnTo>
                  <a:lnTo>
                    <a:pt x="75322" y="18614"/>
                  </a:lnTo>
                  <a:lnTo>
                    <a:pt x="76706" y="16643"/>
                  </a:lnTo>
                  <a:lnTo>
                    <a:pt x="77892" y="14891"/>
                  </a:lnTo>
                  <a:lnTo>
                    <a:pt x="77101" y="14891"/>
                  </a:lnTo>
                  <a:lnTo>
                    <a:pt x="76508" y="14672"/>
                  </a:lnTo>
                  <a:lnTo>
                    <a:pt x="76706" y="13140"/>
                  </a:lnTo>
                  <a:lnTo>
                    <a:pt x="77101" y="11607"/>
                  </a:lnTo>
                  <a:lnTo>
                    <a:pt x="77299" y="10293"/>
                  </a:lnTo>
                  <a:lnTo>
                    <a:pt x="77496" y="8979"/>
                  </a:lnTo>
                  <a:lnTo>
                    <a:pt x="76903" y="10074"/>
                  </a:lnTo>
                  <a:lnTo>
                    <a:pt x="75915" y="10512"/>
                  </a:lnTo>
                  <a:lnTo>
                    <a:pt x="75717" y="9855"/>
                  </a:lnTo>
                  <a:lnTo>
                    <a:pt x="75915" y="9417"/>
                  </a:lnTo>
                  <a:lnTo>
                    <a:pt x="75915" y="7665"/>
                  </a:lnTo>
                  <a:lnTo>
                    <a:pt x="75915" y="6351"/>
                  </a:lnTo>
                  <a:lnTo>
                    <a:pt x="75717" y="4599"/>
                  </a:lnTo>
                  <a:lnTo>
                    <a:pt x="75717" y="3286"/>
                  </a:lnTo>
                  <a:lnTo>
                    <a:pt x="75519" y="3723"/>
                  </a:lnTo>
                  <a:lnTo>
                    <a:pt x="75717" y="4599"/>
                  </a:lnTo>
                  <a:lnTo>
                    <a:pt x="75519" y="5475"/>
                  </a:lnTo>
                  <a:lnTo>
                    <a:pt x="75322" y="6132"/>
                  </a:lnTo>
                  <a:lnTo>
                    <a:pt x="74531" y="5475"/>
                  </a:lnTo>
                  <a:lnTo>
                    <a:pt x="74531" y="4599"/>
                  </a:lnTo>
                  <a:lnTo>
                    <a:pt x="74333" y="3723"/>
                  </a:lnTo>
                  <a:lnTo>
                    <a:pt x="74333" y="3067"/>
                  </a:lnTo>
                  <a:lnTo>
                    <a:pt x="73542" y="1534"/>
                  </a:lnTo>
                  <a:lnTo>
                    <a:pt x="72949" y="1"/>
                  </a:lnTo>
                  <a:lnTo>
                    <a:pt x="73147" y="1315"/>
                  </a:lnTo>
                  <a:lnTo>
                    <a:pt x="73345" y="2848"/>
                  </a:lnTo>
                  <a:lnTo>
                    <a:pt x="73345" y="4161"/>
                  </a:lnTo>
                  <a:lnTo>
                    <a:pt x="73542" y="5694"/>
                  </a:lnTo>
                  <a:lnTo>
                    <a:pt x="73542" y="7008"/>
                  </a:lnTo>
                  <a:lnTo>
                    <a:pt x="73542" y="8541"/>
                  </a:lnTo>
                  <a:lnTo>
                    <a:pt x="73147" y="9855"/>
                  </a:lnTo>
                  <a:lnTo>
                    <a:pt x="72949" y="11388"/>
                  </a:lnTo>
                  <a:lnTo>
                    <a:pt x="72356" y="12483"/>
                  </a:lnTo>
                  <a:lnTo>
                    <a:pt x="72159" y="13578"/>
                  </a:lnTo>
                  <a:lnTo>
                    <a:pt x="71763" y="14672"/>
                  </a:lnTo>
                  <a:lnTo>
                    <a:pt x="71170" y="15986"/>
                  </a:lnTo>
                  <a:lnTo>
                    <a:pt x="71566" y="16424"/>
                  </a:lnTo>
                  <a:lnTo>
                    <a:pt x="71961" y="17519"/>
                  </a:lnTo>
                  <a:lnTo>
                    <a:pt x="71566" y="19052"/>
                  </a:lnTo>
                  <a:lnTo>
                    <a:pt x="70577" y="20147"/>
                  </a:lnTo>
                  <a:lnTo>
                    <a:pt x="70775" y="19052"/>
                  </a:lnTo>
                  <a:lnTo>
                    <a:pt x="70775" y="18176"/>
                  </a:lnTo>
                  <a:lnTo>
                    <a:pt x="70775" y="16643"/>
                  </a:lnTo>
                  <a:lnTo>
                    <a:pt x="70182" y="17738"/>
                  </a:lnTo>
                  <a:lnTo>
                    <a:pt x="69589" y="18833"/>
                  </a:lnTo>
                  <a:lnTo>
                    <a:pt x="68798" y="19490"/>
                  </a:lnTo>
                  <a:lnTo>
                    <a:pt x="67809" y="19928"/>
                  </a:lnTo>
                  <a:lnTo>
                    <a:pt x="66623" y="18833"/>
                  </a:lnTo>
                  <a:lnTo>
                    <a:pt x="65635" y="18176"/>
                  </a:lnTo>
                  <a:lnTo>
                    <a:pt x="64251" y="17519"/>
                  </a:lnTo>
                  <a:lnTo>
                    <a:pt x="62867" y="17300"/>
                  </a:lnTo>
                  <a:lnTo>
                    <a:pt x="61088" y="16862"/>
                  </a:lnTo>
                  <a:lnTo>
                    <a:pt x="59309" y="16643"/>
                  </a:lnTo>
                  <a:lnTo>
                    <a:pt x="57529" y="16424"/>
                  </a:lnTo>
                  <a:lnTo>
                    <a:pt x="55750" y="16643"/>
                  </a:lnTo>
                  <a:lnTo>
                    <a:pt x="53971" y="16643"/>
                  </a:lnTo>
                  <a:lnTo>
                    <a:pt x="52192" y="17300"/>
                  </a:lnTo>
                  <a:lnTo>
                    <a:pt x="50610" y="17957"/>
                  </a:lnTo>
                  <a:lnTo>
                    <a:pt x="49424" y="19271"/>
                  </a:lnTo>
                  <a:lnTo>
                    <a:pt x="47447" y="19271"/>
                  </a:lnTo>
                  <a:lnTo>
                    <a:pt x="45865" y="18614"/>
                  </a:lnTo>
                  <a:lnTo>
                    <a:pt x="44284" y="17300"/>
                  </a:lnTo>
                  <a:lnTo>
                    <a:pt x="42900" y="16205"/>
                  </a:lnTo>
                  <a:lnTo>
                    <a:pt x="41912" y="14891"/>
                  </a:lnTo>
                  <a:lnTo>
                    <a:pt x="41318" y="13578"/>
                  </a:lnTo>
                  <a:lnTo>
                    <a:pt x="40725" y="12045"/>
                  </a:lnTo>
                  <a:lnTo>
                    <a:pt x="40330" y="10731"/>
                  </a:lnTo>
                  <a:lnTo>
                    <a:pt x="39935" y="8979"/>
                  </a:lnTo>
                  <a:lnTo>
                    <a:pt x="39737" y="7665"/>
                  </a:lnTo>
                  <a:lnTo>
                    <a:pt x="39737" y="5913"/>
                  </a:lnTo>
                  <a:lnTo>
                    <a:pt x="39737" y="4599"/>
                  </a:lnTo>
                  <a:lnTo>
                    <a:pt x="40330" y="2410"/>
                  </a:lnTo>
                  <a:lnTo>
                    <a:pt x="40528" y="439"/>
                  </a:lnTo>
                  <a:lnTo>
                    <a:pt x="39935" y="1096"/>
                  </a:lnTo>
                  <a:lnTo>
                    <a:pt x="39539" y="2191"/>
                  </a:lnTo>
                  <a:lnTo>
                    <a:pt x="39539" y="3942"/>
                  </a:lnTo>
                  <a:lnTo>
                    <a:pt x="39144" y="5694"/>
                  </a:lnTo>
                  <a:lnTo>
                    <a:pt x="38155" y="5037"/>
                  </a:lnTo>
                  <a:lnTo>
                    <a:pt x="37562" y="4161"/>
                  </a:lnTo>
                  <a:lnTo>
                    <a:pt x="37365" y="6351"/>
                  </a:lnTo>
                  <a:lnTo>
                    <a:pt x="38353" y="8541"/>
                  </a:lnTo>
                  <a:lnTo>
                    <a:pt x="38155" y="8979"/>
                  </a:lnTo>
                  <a:lnTo>
                    <a:pt x="37958" y="9417"/>
                  </a:lnTo>
                  <a:lnTo>
                    <a:pt x="37365" y="9198"/>
                  </a:lnTo>
                  <a:lnTo>
                    <a:pt x="37167" y="8760"/>
                  </a:lnTo>
                  <a:lnTo>
                    <a:pt x="37167" y="8322"/>
                  </a:lnTo>
                  <a:lnTo>
                    <a:pt x="36969" y="8103"/>
                  </a:lnTo>
                  <a:lnTo>
                    <a:pt x="36771" y="9198"/>
                  </a:lnTo>
                  <a:lnTo>
                    <a:pt x="37167" y="10293"/>
                  </a:lnTo>
                  <a:lnTo>
                    <a:pt x="37562" y="11388"/>
                  </a:lnTo>
                  <a:lnTo>
                    <a:pt x="38155" y="12483"/>
                  </a:lnTo>
                  <a:lnTo>
                    <a:pt x="37760" y="12921"/>
                  </a:lnTo>
                  <a:lnTo>
                    <a:pt x="37365" y="12921"/>
                  </a:lnTo>
                  <a:lnTo>
                    <a:pt x="36771" y="12483"/>
                  </a:lnTo>
                  <a:lnTo>
                    <a:pt x="37958" y="14453"/>
                  </a:lnTo>
                  <a:lnTo>
                    <a:pt x="39935" y="15986"/>
                  </a:lnTo>
                  <a:lnTo>
                    <a:pt x="39737" y="16643"/>
                  </a:lnTo>
                  <a:lnTo>
                    <a:pt x="39341" y="17081"/>
                  </a:lnTo>
                  <a:lnTo>
                    <a:pt x="38155" y="16424"/>
                  </a:lnTo>
                  <a:lnTo>
                    <a:pt x="37365" y="16205"/>
                  </a:lnTo>
                  <a:lnTo>
                    <a:pt x="37760" y="17300"/>
                  </a:lnTo>
                  <a:lnTo>
                    <a:pt x="38946" y="18176"/>
                  </a:lnTo>
                  <a:lnTo>
                    <a:pt x="40132" y="18833"/>
                  </a:lnTo>
                  <a:lnTo>
                    <a:pt x="41516" y="19709"/>
                  </a:lnTo>
                  <a:lnTo>
                    <a:pt x="41516" y="19928"/>
                  </a:lnTo>
                  <a:lnTo>
                    <a:pt x="41121" y="20366"/>
                  </a:lnTo>
                  <a:lnTo>
                    <a:pt x="42900" y="20804"/>
                  </a:lnTo>
                  <a:lnTo>
                    <a:pt x="44877" y="20585"/>
                  </a:lnTo>
                  <a:lnTo>
                    <a:pt x="45075" y="21023"/>
                  </a:lnTo>
                  <a:lnTo>
                    <a:pt x="45075" y="21461"/>
                  </a:lnTo>
                  <a:lnTo>
                    <a:pt x="42900" y="22556"/>
                  </a:lnTo>
                  <a:lnTo>
                    <a:pt x="40923" y="24307"/>
                  </a:lnTo>
                  <a:lnTo>
                    <a:pt x="39144" y="26059"/>
                  </a:lnTo>
                  <a:lnTo>
                    <a:pt x="37958" y="28249"/>
                  </a:lnTo>
                  <a:lnTo>
                    <a:pt x="38155" y="28687"/>
                  </a:lnTo>
                  <a:lnTo>
                    <a:pt x="38353" y="28030"/>
                  </a:lnTo>
                  <a:lnTo>
                    <a:pt x="38946" y="27811"/>
                  </a:lnTo>
                  <a:lnTo>
                    <a:pt x="39144" y="28906"/>
                  </a:lnTo>
                  <a:lnTo>
                    <a:pt x="39341" y="30439"/>
                  </a:lnTo>
                  <a:lnTo>
                    <a:pt x="40330" y="30001"/>
                  </a:lnTo>
                  <a:lnTo>
                    <a:pt x="40528" y="31096"/>
                  </a:lnTo>
                  <a:lnTo>
                    <a:pt x="40923" y="30439"/>
                  </a:lnTo>
                  <a:lnTo>
                    <a:pt x="41516" y="30658"/>
                  </a:lnTo>
                  <a:lnTo>
                    <a:pt x="40923" y="31315"/>
                  </a:lnTo>
                  <a:lnTo>
                    <a:pt x="40528" y="31972"/>
                  </a:lnTo>
                  <a:lnTo>
                    <a:pt x="39935" y="31753"/>
                  </a:lnTo>
                  <a:lnTo>
                    <a:pt x="39935" y="31534"/>
                  </a:lnTo>
                  <a:lnTo>
                    <a:pt x="39935" y="30877"/>
                  </a:lnTo>
                  <a:lnTo>
                    <a:pt x="38946" y="30877"/>
                  </a:lnTo>
                  <a:lnTo>
                    <a:pt x="38551" y="30439"/>
                  </a:lnTo>
                  <a:lnTo>
                    <a:pt x="38551" y="29782"/>
                  </a:lnTo>
                  <a:lnTo>
                    <a:pt x="38155" y="29563"/>
                  </a:lnTo>
                  <a:lnTo>
                    <a:pt x="38155" y="29344"/>
                  </a:lnTo>
                  <a:lnTo>
                    <a:pt x="36376" y="31096"/>
                  </a:lnTo>
                  <a:lnTo>
                    <a:pt x="35190" y="33505"/>
                  </a:lnTo>
                  <a:lnTo>
                    <a:pt x="34597" y="34599"/>
                  </a:lnTo>
                  <a:lnTo>
                    <a:pt x="34201" y="35913"/>
                  </a:lnTo>
                  <a:lnTo>
                    <a:pt x="33806" y="37008"/>
                  </a:lnTo>
                  <a:lnTo>
                    <a:pt x="33411" y="38322"/>
                  </a:lnTo>
                  <a:lnTo>
                    <a:pt x="33806" y="38541"/>
                  </a:lnTo>
                  <a:lnTo>
                    <a:pt x="33806" y="39417"/>
                  </a:lnTo>
                  <a:lnTo>
                    <a:pt x="33015" y="40950"/>
                  </a:lnTo>
                  <a:lnTo>
                    <a:pt x="32422" y="42921"/>
                  </a:lnTo>
                  <a:lnTo>
                    <a:pt x="32225" y="43140"/>
                  </a:lnTo>
                  <a:lnTo>
                    <a:pt x="30841" y="48614"/>
                  </a:lnTo>
                  <a:lnTo>
                    <a:pt x="31236" y="48833"/>
                  </a:lnTo>
                  <a:lnTo>
                    <a:pt x="31236" y="49490"/>
                  </a:lnTo>
                  <a:lnTo>
                    <a:pt x="30445" y="49709"/>
                  </a:lnTo>
                  <a:lnTo>
                    <a:pt x="29655" y="49928"/>
                  </a:lnTo>
                  <a:lnTo>
                    <a:pt x="27875" y="50366"/>
                  </a:lnTo>
                  <a:lnTo>
                    <a:pt x="26294" y="50366"/>
                  </a:lnTo>
                  <a:lnTo>
                    <a:pt x="24514" y="49709"/>
                  </a:lnTo>
                  <a:lnTo>
                    <a:pt x="23131" y="48833"/>
                  </a:lnTo>
                  <a:lnTo>
                    <a:pt x="21549" y="47519"/>
                  </a:lnTo>
                  <a:lnTo>
                    <a:pt x="20363" y="46424"/>
                  </a:lnTo>
                  <a:lnTo>
                    <a:pt x="19177" y="45110"/>
                  </a:lnTo>
                  <a:lnTo>
                    <a:pt x="17991" y="44015"/>
                  </a:lnTo>
                  <a:lnTo>
                    <a:pt x="16804" y="42483"/>
                  </a:lnTo>
                  <a:lnTo>
                    <a:pt x="16014" y="40950"/>
                  </a:lnTo>
                  <a:lnTo>
                    <a:pt x="14827" y="39417"/>
                  </a:lnTo>
                  <a:lnTo>
                    <a:pt x="14037" y="38103"/>
                  </a:lnTo>
                  <a:lnTo>
                    <a:pt x="13048" y="36351"/>
                  </a:lnTo>
                  <a:lnTo>
                    <a:pt x="12257" y="34818"/>
                  </a:lnTo>
                  <a:lnTo>
                    <a:pt x="11664" y="33067"/>
                  </a:lnTo>
                  <a:lnTo>
                    <a:pt x="11071" y="31534"/>
                  </a:lnTo>
                  <a:lnTo>
                    <a:pt x="10478" y="29782"/>
                  </a:lnTo>
                  <a:lnTo>
                    <a:pt x="10281" y="28030"/>
                  </a:lnTo>
                  <a:lnTo>
                    <a:pt x="10083" y="26278"/>
                  </a:lnTo>
                  <a:lnTo>
                    <a:pt x="10083" y="24526"/>
                  </a:lnTo>
                  <a:lnTo>
                    <a:pt x="9687" y="22994"/>
                  </a:lnTo>
                  <a:lnTo>
                    <a:pt x="9687" y="21680"/>
                  </a:lnTo>
                  <a:lnTo>
                    <a:pt x="9687" y="20366"/>
                  </a:lnTo>
                  <a:lnTo>
                    <a:pt x="9885" y="19052"/>
                  </a:lnTo>
                  <a:lnTo>
                    <a:pt x="9885" y="17519"/>
                  </a:lnTo>
                  <a:lnTo>
                    <a:pt x="9885" y="16205"/>
                  </a:lnTo>
                  <a:lnTo>
                    <a:pt x="9885" y="14891"/>
                  </a:lnTo>
                  <a:lnTo>
                    <a:pt x="9885" y="13578"/>
                  </a:lnTo>
                  <a:lnTo>
                    <a:pt x="9885" y="11826"/>
                  </a:lnTo>
                  <a:lnTo>
                    <a:pt x="10083" y="10074"/>
                  </a:lnTo>
                  <a:lnTo>
                    <a:pt x="9687" y="8103"/>
                  </a:lnTo>
                  <a:lnTo>
                    <a:pt x="9292" y="6789"/>
                  </a:lnTo>
                  <a:lnTo>
                    <a:pt x="8501" y="6132"/>
                  </a:lnTo>
                  <a:lnTo>
                    <a:pt x="7908" y="6132"/>
                  </a:lnTo>
                  <a:lnTo>
                    <a:pt x="7315" y="7008"/>
                  </a:lnTo>
                  <a:lnTo>
                    <a:pt x="7315" y="8322"/>
                  </a:lnTo>
                  <a:lnTo>
                    <a:pt x="7315" y="9417"/>
                  </a:lnTo>
                  <a:lnTo>
                    <a:pt x="7315" y="10512"/>
                  </a:lnTo>
                  <a:lnTo>
                    <a:pt x="7117" y="11607"/>
                  </a:lnTo>
                  <a:lnTo>
                    <a:pt x="7117" y="12921"/>
                  </a:lnTo>
                  <a:lnTo>
                    <a:pt x="7117" y="14015"/>
                  </a:lnTo>
                  <a:lnTo>
                    <a:pt x="7117" y="15329"/>
                  </a:lnTo>
                  <a:lnTo>
                    <a:pt x="7117" y="16424"/>
                  </a:lnTo>
                  <a:lnTo>
                    <a:pt x="7315" y="17738"/>
                  </a:lnTo>
                  <a:lnTo>
                    <a:pt x="7315" y="18833"/>
                  </a:lnTo>
                  <a:lnTo>
                    <a:pt x="7513" y="20147"/>
                  </a:lnTo>
                  <a:lnTo>
                    <a:pt x="7513" y="21242"/>
                  </a:lnTo>
                  <a:lnTo>
                    <a:pt x="7711" y="22337"/>
                  </a:lnTo>
                  <a:lnTo>
                    <a:pt x="7908" y="23651"/>
                  </a:lnTo>
                  <a:lnTo>
                    <a:pt x="8304" y="24964"/>
                  </a:lnTo>
                  <a:lnTo>
                    <a:pt x="8501" y="26059"/>
                  </a:lnTo>
                  <a:lnTo>
                    <a:pt x="8897" y="27154"/>
                  </a:lnTo>
                  <a:lnTo>
                    <a:pt x="9094" y="28468"/>
                  </a:lnTo>
                  <a:lnTo>
                    <a:pt x="9687" y="29782"/>
                  </a:lnTo>
                  <a:lnTo>
                    <a:pt x="9490" y="30001"/>
                  </a:lnTo>
                  <a:lnTo>
                    <a:pt x="9292" y="30220"/>
                  </a:lnTo>
                  <a:lnTo>
                    <a:pt x="8699" y="29563"/>
                  </a:lnTo>
                  <a:lnTo>
                    <a:pt x="8304" y="28468"/>
                  </a:lnTo>
                  <a:lnTo>
                    <a:pt x="7711" y="26716"/>
                  </a:lnTo>
                  <a:lnTo>
                    <a:pt x="7513" y="24964"/>
                  </a:lnTo>
                  <a:lnTo>
                    <a:pt x="6920" y="23213"/>
                  </a:lnTo>
                  <a:lnTo>
                    <a:pt x="6722" y="21461"/>
                  </a:lnTo>
                  <a:lnTo>
                    <a:pt x="5931" y="19709"/>
                  </a:lnTo>
                  <a:lnTo>
                    <a:pt x="5338" y="18176"/>
                  </a:lnTo>
                  <a:lnTo>
                    <a:pt x="4547" y="16643"/>
                  </a:lnTo>
                  <a:lnTo>
                    <a:pt x="3559" y="15548"/>
                  </a:lnTo>
                  <a:lnTo>
                    <a:pt x="3361" y="16862"/>
                  </a:lnTo>
                  <a:lnTo>
                    <a:pt x="3361" y="18176"/>
                  </a:lnTo>
                  <a:lnTo>
                    <a:pt x="3361" y="19490"/>
                  </a:lnTo>
                  <a:lnTo>
                    <a:pt x="3361" y="20804"/>
                  </a:lnTo>
                  <a:lnTo>
                    <a:pt x="3361" y="22118"/>
                  </a:lnTo>
                  <a:lnTo>
                    <a:pt x="3757" y="23432"/>
                  </a:lnTo>
                  <a:lnTo>
                    <a:pt x="3954" y="24745"/>
                  </a:lnTo>
                  <a:lnTo>
                    <a:pt x="4547" y="26278"/>
                  </a:lnTo>
                  <a:lnTo>
                    <a:pt x="4745" y="27592"/>
                  </a:lnTo>
                  <a:lnTo>
                    <a:pt x="5141" y="28906"/>
                  </a:lnTo>
                  <a:lnTo>
                    <a:pt x="5536" y="30220"/>
                  </a:lnTo>
                  <a:lnTo>
                    <a:pt x="6129" y="31534"/>
                  </a:lnTo>
                  <a:lnTo>
                    <a:pt x="6722" y="32629"/>
                  </a:lnTo>
                  <a:lnTo>
                    <a:pt x="7315" y="33942"/>
                  </a:lnTo>
                  <a:lnTo>
                    <a:pt x="7908" y="35256"/>
                  </a:lnTo>
                  <a:lnTo>
                    <a:pt x="8501" y="36570"/>
                  </a:lnTo>
                  <a:lnTo>
                    <a:pt x="9292" y="37665"/>
                  </a:lnTo>
                  <a:lnTo>
                    <a:pt x="9687" y="39198"/>
                  </a:lnTo>
                  <a:lnTo>
                    <a:pt x="9292" y="39198"/>
                  </a:lnTo>
                  <a:lnTo>
                    <a:pt x="8897" y="39198"/>
                  </a:lnTo>
                  <a:lnTo>
                    <a:pt x="7711" y="37665"/>
                  </a:lnTo>
                  <a:lnTo>
                    <a:pt x="6920" y="36132"/>
                  </a:lnTo>
                  <a:lnTo>
                    <a:pt x="5734" y="34818"/>
                  </a:lnTo>
                  <a:lnTo>
                    <a:pt x="4943" y="33505"/>
                  </a:lnTo>
                  <a:lnTo>
                    <a:pt x="3757" y="32191"/>
                  </a:lnTo>
                  <a:lnTo>
                    <a:pt x="2570" y="30877"/>
                  </a:lnTo>
                  <a:lnTo>
                    <a:pt x="1384" y="29782"/>
                  </a:lnTo>
                  <a:lnTo>
                    <a:pt x="396" y="28687"/>
                  </a:lnTo>
                  <a:lnTo>
                    <a:pt x="0" y="28687"/>
                  </a:lnTo>
                  <a:lnTo>
                    <a:pt x="198" y="30877"/>
                  </a:lnTo>
                  <a:lnTo>
                    <a:pt x="791" y="33067"/>
                  </a:lnTo>
                  <a:lnTo>
                    <a:pt x="1582" y="35037"/>
                  </a:lnTo>
                  <a:lnTo>
                    <a:pt x="2768" y="37227"/>
                  </a:lnTo>
                  <a:lnTo>
                    <a:pt x="3954" y="38979"/>
                  </a:lnTo>
                  <a:lnTo>
                    <a:pt x="5338" y="40950"/>
                  </a:lnTo>
                  <a:lnTo>
                    <a:pt x="6722" y="42702"/>
                  </a:lnTo>
                  <a:lnTo>
                    <a:pt x="8501" y="44672"/>
                  </a:lnTo>
                  <a:lnTo>
                    <a:pt x="9292" y="45110"/>
                  </a:lnTo>
                  <a:lnTo>
                    <a:pt x="10083" y="46205"/>
                  </a:lnTo>
                  <a:lnTo>
                    <a:pt x="10083" y="46424"/>
                  </a:lnTo>
                  <a:lnTo>
                    <a:pt x="10281" y="46643"/>
                  </a:lnTo>
                  <a:lnTo>
                    <a:pt x="9885" y="46862"/>
                  </a:lnTo>
                  <a:lnTo>
                    <a:pt x="9490" y="46643"/>
                  </a:lnTo>
                  <a:lnTo>
                    <a:pt x="7711" y="45110"/>
                  </a:lnTo>
                  <a:lnTo>
                    <a:pt x="5931" y="44453"/>
                  </a:lnTo>
                  <a:lnTo>
                    <a:pt x="4152" y="43578"/>
                  </a:lnTo>
                  <a:lnTo>
                    <a:pt x="2373" y="42921"/>
                  </a:lnTo>
                  <a:lnTo>
                    <a:pt x="1187" y="42264"/>
                  </a:lnTo>
                  <a:lnTo>
                    <a:pt x="0" y="42483"/>
                  </a:lnTo>
                  <a:lnTo>
                    <a:pt x="594" y="43796"/>
                  </a:lnTo>
                  <a:lnTo>
                    <a:pt x="1780" y="45329"/>
                  </a:lnTo>
                  <a:lnTo>
                    <a:pt x="2966" y="46424"/>
                  </a:lnTo>
                  <a:lnTo>
                    <a:pt x="4350" y="47738"/>
                  </a:lnTo>
                  <a:lnTo>
                    <a:pt x="5536" y="48614"/>
                  </a:lnTo>
                  <a:lnTo>
                    <a:pt x="7117" y="49490"/>
                  </a:lnTo>
                  <a:lnTo>
                    <a:pt x="8304" y="50366"/>
                  </a:lnTo>
                  <a:lnTo>
                    <a:pt x="9885" y="51242"/>
                  </a:lnTo>
                  <a:lnTo>
                    <a:pt x="10874" y="51242"/>
                  </a:lnTo>
                  <a:lnTo>
                    <a:pt x="12060" y="51461"/>
                  </a:lnTo>
                  <a:lnTo>
                    <a:pt x="13048" y="51680"/>
                  </a:lnTo>
                  <a:lnTo>
                    <a:pt x="14037" y="52337"/>
                  </a:lnTo>
                  <a:lnTo>
                    <a:pt x="13839" y="52556"/>
                  </a:lnTo>
                  <a:lnTo>
                    <a:pt x="13641" y="52775"/>
                  </a:lnTo>
                  <a:lnTo>
                    <a:pt x="12455" y="52556"/>
                  </a:lnTo>
                  <a:lnTo>
                    <a:pt x="11269" y="52556"/>
                  </a:lnTo>
                  <a:lnTo>
                    <a:pt x="10281" y="52337"/>
                  </a:lnTo>
                  <a:lnTo>
                    <a:pt x="9292" y="52118"/>
                  </a:lnTo>
                  <a:lnTo>
                    <a:pt x="8106" y="51680"/>
                  </a:lnTo>
                  <a:lnTo>
                    <a:pt x="7117" y="51680"/>
                  </a:lnTo>
                  <a:lnTo>
                    <a:pt x="5931" y="51461"/>
                  </a:lnTo>
                  <a:lnTo>
                    <a:pt x="4943" y="51461"/>
                  </a:lnTo>
                  <a:lnTo>
                    <a:pt x="4152" y="51680"/>
                  </a:lnTo>
                  <a:lnTo>
                    <a:pt x="4745" y="52994"/>
                  </a:lnTo>
                  <a:lnTo>
                    <a:pt x="5931" y="54088"/>
                  </a:lnTo>
                  <a:lnTo>
                    <a:pt x="7117" y="54745"/>
                  </a:lnTo>
                  <a:lnTo>
                    <a:pt x="8699" y="55621"/>
                  </a:lnTo>
                  <a:lnTo>
                    <a:pt x="10083" y="56278"/>
                  </a:lnTo>
                  <a:lnTo>
                    <a:pt x="11862" y="56935"/>
                  </a:lnTo>
                  <a:lnTo>
                    <a:pt x="13444" y="57154"/>
                  </a:lnTo>
                  <a:lnTo>
                    <a:pt x="15025" y="57592"/>
                  </a:lnTo>
                  <a:lnTo>
                    <a:pt x="16804" y="57811"/>
                  </a:lnTo>
                  <a:lnTo>
                    <a:pt x="18584" y="58030"/>
                  </a:lnTo>
                  <a:lnTo>
                    <a:pt x="18781" y="58687"/>
                  </a:lnTo>
                  <a:lnTo>
                    <a:pt x="17200" y="58906"/>
                  </a:lnTo>
                  <a:lnTo>
                    <a:pt x="15421" y="58906"/>
                  </a:lnTo>
                  <a:lnTo>
                    <a:pt x="13444" y="58687"/>
                  </a:lnTo>
                  <a:lnTo>
                    <a:pt x="11467" y="58468"/>
                  </a:lnTo>
                  <a:lnTo>
                    <a:pt x="9292" y="58249"/>
                  </a:lnTo>
                  <a:lnTo>
                    <a:pt x="7513" y="58687"/>
                  </a:lnTo>
                  <a:lnTo>
                    <a:pt x="7513" y="59125"/>
                  </a:lnTo>
                  <a:lnTo>
                    <a:pt x="8501" y="60001"/>
                  </a:lnTo>
                  <a:lnTo>
                    <a:pt x="9687" y="60877"/>
                  </a:lnTo>
                  <a:lnTo>
                    <a:pt x="10874" y="61315"/>
                  </a:lnTo>
                  <a:lnTo>
                    <a:pt x="12455" y="61972"/>
                  </a:lnTo>
                  <a:lnTo>
                    <a:pt x="13641" y="62191"/>
                  </a:lnTo>
                  <a:lnTo>
                    <a:pt x="15223" y="62410"/>
                  </a:lnTo>
                  <a:lnTo>
                    <a:pt x="16607" y="62629"/>
                  </a:lnTo>
                  <a:lnTo>
                    <a:pt x="18188" y="63067"/>
                  </a:lnTo>
                  <a:lnTo>
                    <a:pt x="18781" y="62629"/>
                  </a:lnTo>
                  <a:lnTo>
                    <a:pt x="19374" y="62191"/>
                  </a:lnTo>
                  <a:lnTo>
                    <a:pt x="19968" y="61753"/>
                  </a:lnTo>
                  <a:lnTo>
                    <a:pt x="20758" y="62191"/>
                  </a:lnTo>
                  <a:lnTo>
                    <a:pt x="20758" y="62848"/>
                  </a:lnTo>
                  <a:lnTo>
                    <a:pt x="19374" y="63505"/>
                  </a:lnTo>
                  <a:lnTo>
                    <a:pt x="18188" y="64380"/>
                  </a:lnTo>
                  <a:lnTo>
                    <a:pt x="16804" y="65037"/>
                  </a:lnTo>
                  <a:lnTo>
                    <a:pt x="15618" y="65694"/>
                  </a:lnTo>
                  <a:lnTo>
                    <a:pt x="14037" y="65913"/>
                  </a:lnTo>
                  <a:lnTo>
                    <a:pt x="12653" y="66351"/>
                  </a:lnTo>
                  <a:lnTo>
                    <a:pt x="11269" y="66351"/>
                  </a:lnTo>
                  <a:lnTo>
                    <a:pt x="10083" y="66570"/>
                  </a:lnTo>
                  <a:lnTo>
                    <a:pt x="9885" y="66789"/>
                  </a:lnTo>
                  <a:lnTo>
                    <a:pt x="9885" y="67227"/>
                  </a:lnTo>
                  <a:lnTo>
                    <a:pt x="10676" y="67665"/>
                  </a:lnTo>
                  <a:lnTo>
                    <a:pt x="11862" y="68103"/>
                  </a:lnTo>
                  <a:lnTo>
                    <a:pt x="12851" y="68322"/>
                  </a:lnTo>
                  <a:lnTo>
                    <a:pt x="14037" y="68760"/>
                  </a:lnTo>
                  <a:lnTo>
                    <a:pt x="15223" y="68760"/>
                  </a:lnTo>
                  <a:lnTo>
                    <a:pt x="16607" y="68760"/>
                  </a:lnTo>
                  <a:lnTo>
                    <a:pt x="17793" y="68541"/>
                  </a:lnTo>
                  <a:lnTo>
                    <a:pt x="19177" y="68322"/>
                  </a:lnTo>
                  <a:lnTo>
                    <a:pt x="20363" y="67665"/>
                  </a:lnTo>
                  <a:lnTo>
                    <a:pt x="21549" y="67227"/>
                  </a:lnTo>
                  <a:lnTo>
                    <a:pt x="22735" y="66570"/>
                  </a:lnTo>
                  <a:lnTo>
                    <a:pt x="24119" y="66132"/>
                  </a:lnTo>
                  <a:lnTo>
                    <a:pt x="25305" y="64161"/>
                  </a:lnTo>
                  <a:lnTo>
                    <a:pt x="26887" y="62410"/>
                  </a:lnTo>
                  <a:lnTo>
                    <a:pt x="28666" y="60877"/>
                  </a:lnTo>
                  <a:lnTo>
                    <a:pt x="30445" y="59563"/>
                  </a:lnTo>
                  <a:lnTo>
                    <a:pt x="30248" y="58468"/>
                  </a:lnTo>
                  <a:lnTo>
                    <a:pt x="29852" y="57592"/>
                  </a:lnTo>
                  <a:lnTo>
                    <a:pt x="29655" y="56716"/>
                  </a:lnTo>
                  <a:lnTo>
                    <a:pt x="30643" y="56497"/>
                  </a:lnTo>
                  <a:lnTo>
                    <a:pt x="31236" y="57154"/>
                  </a:lnTo>
                  <a:lnTo>
                    <a:pt x="31236" y="58687"/>
                  </a:lnTo>
                  <a:lnTo>
                    <a:pt x="31236" y="60439"/>
                  </a:lnTo>
                  <a:lnTo>
                    <a:pt x="30841" y="61972"/>
                  </a:lnTo>
                  <a:lnTo>
                    <a:pt x="30841" y="63723"/>
                  </a:lnTo>
                  <a:lnTo>
                    <a:pt x="31236" y="64161"/>
                  </a:lnTo>
                  <a:lnTo>
                    <a:pt x="31829" y="64599"/>
                  </a:lnTo>
                  <a:lnTo>
                    <a:pt x="31829" y="66132"/>
                  </a:lnTo>
                  <a:lnTo>
                    <a:pt x="31829" y="67665"/>
                  </a:lnTo>
                  <a:lnTo>
                    <a:pt x="31829" y="69198"/>
                  </a:lnTo>
                  <a:lnTo>
                    <a:pt x="32027" y="70950"/>
                  </a:lnTo>
                  <a:lnTo>
                    <a:pt x="32027" y="72264"/>
                  </a:lnTo>
                  <a:lnTo>
                    <a:pt x="32422" y="74015"/>
                  </a:lnTo>
                  <a:lnTo>
                    <a:pt x="32818" y="75329"/>
                  </a:lnTo>
                  <a:lnTo>
                    <a:pt x="33411" y="77081"/>
                  </a:lnTo>
                  <a:lnTo>
                    <a:pt x="34004" y="77519"/>
                  </a:lnTo>
                  <a:lnTo>
                    <a:pt x="34597" y="78833"/>
                  </a:lnTo>
                  <a:lnTo>
                    <a:pt x="34992" y="80585"/>
                  </a:lnTo>
                  <a:lnTo>
                    <a:pt x="35388" y="82337"/>
                  </a:lnTo>
                  <a:lnTo>
                    <a:pt x="35981" y="84088"/>
                  </a:lnTo>
                  <a:lnTo>
                    <a:pt x="36771" y="86059"/>
                  </a:lnTo>
                  <a:lnTo>
                    <a:pt x="37760" y="86497"/>
                  </a:lnTo>
                  <a:lnTo>
                    <a:pt x="38353" y="87811"/>
                  </a:lnTo>
                  <a:lnTo>
                    <a:pt x="38551" y="89125"/>
                  </a:lnTo>
                  <a:lnTo>
                    <a:pt x="39341" y="90439"/>
                  </a:lnTo>
                  <a:lnTo>
                    <a:pt x="39737" y="91753"/>
                  </a:lnTo>
                  <a:lnTo>
                    <a:pt x="40725" y="93067"/>
                  </a:lnTo>
                  <a:lnTo>
                    <a:pt x="41912" y="93942"/>
                  </a:lnTo>
                  <a:lnTo>
                    <a:pt x="43295" y="94818"/>
                  </a:lnTo>
                  <a:lnTo>
                    <a:pt x="44284" y="93942"/>
                  </a:lnTo>
                  <a:lnTo>
                    <a:pt x="45470" y="94161"/>
                  </a:lnTo>
                  <a:lnTo>
                    <a:pt x="46656" y="94818"/>
                  </a:lnTo>
                  <a:lnTo>
                    <a:pt x="47842" y="95475"/>
                  </a:lnTo>
                  <a:lnTo>
                    <a:pt x="48435" y="96789"/>
                  </a:lnTo>
                  <a:lnTo>
                    <a:pt x="48831" y="98322"/>
                  </a:lnTo>
                  <a:lnTo>
                    <a:pt x="49028" y="98322"/>
                  </a:lnTo>
                  <a:lnTo>
                    <a:pt x="49424" y="98322"/>
                  </a:lnTo>
                  <a:lnTo>
                    <a:pt x="50215" y="98103"/>
                  </a:lnTo>
                  <a:lnTo>
                    <a:pt x="51203" y="98541"/>
                  </a:lnTo>
                  <a:lnTo>
                    <a:pt x="52192" y="98322"/>
                  </a:lnTo>
                  <a:lnTo>
                    <a:pt x="53378" y="98322"/>
                  </a:lnTo>
                  <a:lnTo>
                    <a:pt x="54762" y="98322"/>
                  </a:lnTo>
                  <a:lnTo>
                    <a:pt x="56343" y="98541"/>
                  </a:lnTo>
                  <a:lnTo>
                    <a:pt x="56541" y="98103"/>
                  </a:lnTo>
                  <a:lnTo>
                    <a:pt x="57134" y="98322"/>
                  </a:lnTo>
                  <a:lnTo>
                    <a:pt x="57529" y="98541"/>
                  </a:lnTo>
                  <a:lnTo>
                    <a:pt x="58320" y="98760"/>
                  </a:lnTo>
                  <a:lnTo>
                    <a:pt x="58320" y="98103"/>
                  </a:lnTo>
                  <a:lnTo>
                    <a:pt x="58913" y="97665"/>
                  </a:lnTo>
                  <a:lnTo>
                    <a:pt x="59704" y="97665"/>
                  </a:lnTo>
                  <a:lnTo>
                    <a:pt x="60692" y="98322"/>
                  </a:lnTo>
                  <a:lnTo>
                    <a:pt x="61483" y="98541"/>
                  </a:lnTo>
                  <a:lnTo>
                    <a:pt x="62274" y="98322"/>
                  </a:lnTo>
                  <a:lnTo>
                    <a:pt x="62867" y="98103"/>
                  </a:lnTo>
                  <a:lnTo>
                    <a:pt x="63460" y="98103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Shape 425"/>
            <p:cNvSpPr/>
            <p:nvPr/>
          </p:nvSpPr>
          <p:spPr>
            <a:xfrm>
              <a:off x="7293240" y="5028120"/>
              <a:ext cx="862200" cy="5256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0528" h="29344">
                  <a:moveTo>
                    <a:pt x="10676" y="27373"/>
                  </a:moveTo>
                  <a:lnTo>
                    <a:pt x="11664" y="27810"/>
                  </a:lnTo>
                  <a:lnTo>
                    <a:pt x="13048" y="28248"/>
                  </a:lnTo>
                  <a:lnTo>
                    <a:pt x="14630" y="28467"/>
                  </a:lnTo>
                  <a:lnTo>
                    <a:pt x="16607" y="28905"/>
                  </a:lnTo>
                  <a:lnTo>
                    <a:pt x="18386" y="28905"/>
                  </a:lnTo>
                  <a:lnTo>
                    <a:pt x="20561" y="29124"/>
                  </a:lnTo>
                  <a:lnTo>
                    <a:pt x="21549" y="29124"/>
                  </a:lnTo>
                  <a:lnTo>
                    <a:pt x="22735" y="29124"/>
                  </a:lnTo>
                  <a:lnTo>
                    <a:pt x="23921" y="29124"/>
                  </a:lnTo>
                  <a:lnTo>
                    <a:pt x="25107" y="29343"/>
                  </a:lnTo>
                  <a:lnTo>
                    <a:pt x="27084" y="28905"/>
                  </a:lnTo>
                  <a:lnTo>
                    <a:pt x="29061" y="28686"/>
                  </a:lnTo>
                  <a:lnTo>
                    <a:pt x="30841" y="28248"/>
                  </a:lnTo>
                  <a:lnTo>
                    <a:pt x="-32718" y="28029"/>
                  </a:lnTo>
                  <a:lnTo>
                    <a:pt x="-31532" y="27154"/>
                  </a:lnTo>
                  <a:lnTo>
                    <a:pt x="-30346" y="26497"/>
                  </a:lnTo>
                  <a:lnTo>
                    <a:pt x="-29753" y="25621"/>
                  </a:lnTo>
                  <a:lnTo>
                    <a:pt x="-29160" y="24745"/>
                  </a:lnTo>
                  <a:lnTo>
                    <a:pt x="-28765" y="23650"/>
                  </a:lnTo>
                  <a:lnTo>
                    <a:pt x="-28172" y="22555"/>
                  </a:lnTo>
                  <a:lnTo>
                    <a:pt x="-27578" y="21022"/>
                  </a:lnTo>
                  <a:lnTo>
                    <a:pt x="-26985" y="19489"/>
                  </a:lnTo>
                  <a:lnTo>
                    <a:pt x="-26590" y="17519"/>
                  </a:lnTo>
                  <a:lnTo>
                    <a:pt x="-26195" y="15548"/>
                  </a:lnTo>
                  <a:lnTo>
                    <a:pt x="-25799" y="13358"/>
                  </a:lnTo>
                  <a:lnTo>
                    <a:pt x="-25404" y="11387"/>
                  </a:lnTo>
                  <a:lnTo>
                    <a:pt x="-25404" y="9197"/>
                  </a:lnTo>
                  <a:lnTo>
                    <a:pt x="-25206" y="7227"/>
                  </a:lnTo>
                  <a:lnTo>
                    <a:pt x="-25206" y="5256"/>
                  </a:lnTo>
                  <a:lnTo>
                    <a:pt x="-25008" y="3723"/>
                  </a:lnTo>
                  <a:lnTo>
                    <a:pt x="-25008" y="2190"/>
                  </a:lnTo>
                  <a:lnTo>
                    <a:pt x="-25008" y="1095"/>
                  </a:lnTo>
                  <a:lnTo>
                    <a:pt x="-25206" y="219"/>
                  </a:lnTo>
                  <a:lnTo>
                    <a:pt x="-25206" y="0"/>
                  </a:lnTo>
                  <a:lnTo>
                    <a:pt x="-25997" y="0"/>
                  </a:lnTo>
                  <a:lnTo>
                    <a:pt x="-27578" y="657"/>
                  </a:lnTo>
                  <a:lnTo>
                    <a:pt x="-28962" y="1095"/>
                  </a:lnTo>
                  <a:lnTo>
                    <a:pt x="-30148" y="1533"/>
                  </a:lnTo>
                  <a:lnTo>
                    <a:pt x="-31532" y="1971"/>
                  </a:lnTo>
                  <a:lnTo>
                    <a:pt x="32620" y="2628"/>
                  </a:lnTo>
                  <a:lnTo>
                    <a:pt x="30841" y="3066"/>
                  </a:lnTo>
                  <a:lnTo>
                    <a:pt x="29061" y="3504"/>
                  </a:lnTo>
                  <a:lnTo>
                    <a:pt x="27282" y="3942"/>
                  </a:lnTo>
                  <a:lnTo>
                    <a:pt x="25701" y="4380"/>
                  </a:lnTo>
                  <a:lnTo>
                    <a:pt x="23921" y="4599"/>
                  </a:lnTo>
                  <a:lnTo>
                    <a:pt x="22340" y="4818"/>
                  </a:lnTo>
                  <a:lnTo>
                    <a:pt x="20758" y="5037"/>
                  </a:lnTo>
                  <a:lnTo>
                    <a:pt x="19572" y="5256"/>
                  </a:lnTo>
                  <a:lnTo>
                    <a:pt x="17991" y="5037"/>
                  </a:lnTo>
                  <a:lnTo>
                    <a:pt x="16409" y="4818"/>
                  </a:lnTo>
                  <a:lnTo>
                    <a:pt x="14827" y="4599"/>
                  </a:lnTo>
                  <a:lnTo>
                    <a:pt x="13444" y="4380"/>
                  </a:lnTo>
                  <a:lnTo>
                    <a:pt x="11862" y="3942"/>
                  </a:lnTo>
                  <a:lnTo>
                    <a:pt x="10478" y="3723"/>
                  </a:lnTo>
                  <a:lnTo>
                    <a:pt x="8897" y="3285"/>
                  </a:lnTo>
                  <a:lnTo>
                    <a:pt x="7710" y="3066"/>
                  </a:lnTo>
                  <a:lnTo>
                    <a:pt x="6129" y="2628"/>
                  </a:lnTo>
                  <a:lnTo>
                    <a:pt x="4943" y="2190"/>
                  </a:lnTo>
                  <a:lnTo>
                    <a:pt x="3757" y="1752"/>
                  </a:lnTo>
                  <a:lnTo>
                    <a:pt x="2768" y="1533"/>
                  </a:lnTo>
                  <a:lnTo>
                    <a:pt x="1187" y="876"/>
                  </a:lnTo>
                  <a:lnTo>
                    <a:pt x="593" y="657"/>
                  </a:lnTo>
                  <a:lnTo>
                    <a:pt x="0" y="657"/>
                  </a:lnTo>
                  <a:lnTo>
                    <a:pt x="198" y="1971"/>
                  </a:lnTo>
                  <a:lnTo>
                    <a:pt x="396" y="3285"/>
                  </a:lnTo>
                  <a:lnTo>
                    <a:pt x="593" y="4161"/>
                  </a:lnTo>
                  <a:lnTo>
                    <a:pt x="989" y="5256"/>
                  </a:lnTo>
                  <a:lnTo>
                    <a:pt x="1384" y="6570"/>
                  </a:lnTo>
                  <a:lnTo>
                    <a:pt x="1780" y="8102"/>
                  </a:lnTo>
                  <a:lnTo>
                    <a:pt x="2175" y="9635"/>
                  </a:lnTo>
                  <a:lnTo>
                    <a:pt x="2373" y="11168"/>
                  </a:lnTo>
                  <a:lnTo>
                    <a:pt x="2768" y="12920"/>
                  </a:lnTo>
                  <a:lnTo>
                    <a:pt x="2966" y="14672"/>
                  </a:lnTo>
                  <a:lnTo>
                    <a:pt x="3559" y="16643"/>
                  </a:lnTo>
                  <a:lnTo>
                    <a:pt x="3757" y="18175"/>
                  </a:lnTo>
                  <a:lnTo>
                    <a:pt x="4350" y="19708"/>
                  </a:lnTo>
                  <a:lnTo>
                    <a:pt x="4745" y="21241"/>
                  </a:lnTo>
                  <a:lnTo>
                    <a:pt x="5734" y="22993"/>
                  </a:lnTo>
                  <a:lnTo>
                    <a:pt x="6327" y="24088"/>
                  </a:lnTo>
                  <a:lnTo>
                    <a:pt x="7513" y="25402"/>
                  </a:lnTo>
                  <a:lnTo>
                    <a:pt x="8897" y="26278"/>
                  </a:lnTo>
                  <a:lnTo>
                    <a:pt x="10676" y="27373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Shape 426"/>
            <p:cNvSpPr/>
            <p:nvPr/>
          </p:nvSpPr>
          <p:spPr>
            <a:xfrm>
              <a:off x="7327080" y="5063400"/>
              <a:ext cx="798840" cy="486360"/>
            </a:xfrm>
            <a:custGeom>
              <a:avLst/>
              <a:gdLst>
                <a:gd name="textAreaLeft" fmla="*/ 0 w 798840"/>
                <a:gd name="textAreaRight" fmla="*/ 799200 w 79884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37563" h="27154">
                  <a:moveTo>
                    <a:pt x="9688" y="25402"/>
                  </a:moveTo>
                  <a:lnTo>
                    <a:pt x="10479" y="25621"/>
                  </a:lnTo>
                  <a:lnTo>
                    <a:pt x="11863" y="26058"/>
                  </a:lnTo>
                  <a:lnTo>
                    <a:pt x="13246" y="26496"/>
                  </a:lnTo>
                  <a:lnTo>
                    <a:pt x="15223" y="26934"/>
                  </a:lnTo>
                  <a:lnTo>
                    <a:pt x="17003" y="26934"/>
                  </a:lnTo>
                  <a:lnTo>
                    <a:pt x="18980" y="27153"/>
                  </a:lnTo>
                  <a:lnTo>
                    <a:pt x="20956" y="27153"/>
                  </a:lnTo>
                  <a:lnTo>
                    <a:pt x="23131" y="27153"/>
                  </a:lnTo>
                  <a:lnTo>
                    <a:pt x="25108" y="26715"/>
                  </a:lnTo>
                  <a:lnTo>
                    <a:pt x="27085" y="26496"/>
                  </a:lnTo>
                  <a:lnTo>
                    <a:pt x="28667" y="26058"/>
                  </a:lnTo>
                  <a:lnTo>
                    <a:pt x="30446" y="25839"/>
                  </a:lnTo>
                  <a:lnTo>
                    <a:pt x="31632" y="25183"/>
                  </a:lnTo>
                  <a:lnTo>
                    <a:pt x="32620" y="24526"/>
                  </a:lnTo>
                  <a:lnTo>
                    <a:pt x="-32323" y="23650"/>
                  </a:lnTo>
                  <a:lnTo>
                    <a:pt x="-31729" y="22774"/>
                  </a:lnTo>
                  <a:lnTo>
                    <a:pt x="-31334" y="21679"/>
                  </a:lnTo>
                  <a:lnTo>
                    <a:pt x="-30741" y="20584"/>
                  </a:lnTo>
                  <a:lnTo>
                    <a:pt x="-30346" y="19051"/>
                  </a:lnTo>
                  <a:lnTo>
                    <a:pt x="-29753" y="17737"/>
                  </a:lnTo>
                  <a:lnTo>
                    <a:pt x="-29555" y="15766"/>
                  </a:lnTo>
                  <a:lnTo>
                    <a:pt x="-29159" y="14015"/>
                  </a:lnTo>
                  <a:lnTo>
                    <a:pt x="-28764" y="12263"/>
                  </a:lnTo>
                  <a:lnTo>
                    <a:pt x="-28369" y="10511"/>
                  </a:lnTo>
                  <a:lnTo>
                    <a:pt x="-28369" y="8540"/>
                  </a:lnTo>
                  <a:lnTo>
                    <a:pt x="-28171" y="6569"/>
                  </a:lnTo>
                  <a:lnTo>
                    <a:pt x="-28171" y="4599"/>
                  </a:lnTo>
                  <a:lnTo>
                    <a:pt x="-27973" y="3285"/>
                  </a:lnTo>
                  <a:lnTo>
                    <a:pt x="-28171" y="1971"/>
                  </a:lnTo>
                  <a:lnTo>
                    <a:pt x="-28171" y="876"/>
                  </a:lnTo>
                  <a:lnTo>
                    <a:pt x="-28369" y="219"/>
                  </a:lnTo>
                  <a:lnTo>
                    <a:pt x="-28369" y="0"/>
                  </a:lnTo>
                  <a:lnTo>
                    <a:pt x="-28962" y="0"/>
                  </a:lnTo>
                  <a:lnTo>
                    <a:pt x="-30543" y="657"/>
                  </a:lnTo>
                  <a:lnTo>
                    <a:pt x="-31729" y="657"/>
                  </a:lnTo>
                  <a:lnTo>
                    <a:pt x="-32718" y="1095"/>
                  </a:lnTo>
                  <a:lnTo>
                    <a:pt x="31434" y="1533"/>
                  </a:lnTo>
                  <a:lnTo>
                    <a:pt x="30050" y="1971"/>
                  </a:lnTo>
                  <a:lnTo>
                    <a:pt x="28469" y="2190"/>
                  </a:lnTo>
                  <a:lnTo>
                    <a:pt x="26887" y="2628"/>
                  </a:lnTo>
                  <a:lnTo>
                    <a:pt x="25306" y="2847"/>
                  </a:lnTo>
                  <a:lnTo>
                    <a:pt x="23922" y="3285"/>
                  </a:lnTo>
                  <a:lnTo>
                    <a:pt x="22143" y="3504"/>
                  </a:lnTo>
                  <a:lnTo>
                    <a:pt x="20759" y="3723"/>
                  </a:lnTo>
                  <a:lnTo>
                    <a:pt x="19375" y="3942"/>
                  </a:lnTo>
                  <a:lnTo>
                    <a:pt x="18189" y="4161"/>
                  </a:lnTo>
                  <a:lnTo>
                    <a:pt x="16607" y="3942"/>
                  </a:lnTo>
                  <a:lnTo>
                    <a:pt x="15223" y="3942"/>
                  </a:lnTo>
                  <a:lnTo>
                    <a:pt x="13839" y="3723"/>
                  </a:lnTo>
                  <a:lnTo>
                    <a:pt x="12456" y="3504"/>
                  </a:lnTo>
                  <a:lnTo>
                    <a:pt x="10874" y="3066"/>
                  </a:lnTo>
                  <a:lnTo>
                    <a:pt x="9688" y="3066"/>
                  </a:lnTo>
                  <a:lnTo>
                    <a:pt x="8304" y="2628"/>
                  </a:lnTo>
                  <a:lnTo>
                    <a:pt x="7118" y="2628"/>
                  </a:lnTo>
                  <a:lnTo>
                    <a:pt x="5734" y="2190"/>
                  </a:lnTo>
                  <a:lnTo>
                    <a:pt x="4548" y="1971"/>
                  </a:lnTo>
                  <a:lnTo>
                    <a:pt x="3362" y="1533"/>
                  </a:lnTo>
                  <a:lnTo>
                    <a:pt x="2571" y="1314"/>
                  </a:lnTo>
                  <a:lnTo>
                    <a:pt x="1187" y="657"/>
                  </a:lnTo>
                  <a:lnTo>
                    <a:pt x="594" y="657"/>
                  </a:lnTo>
                  <a:lnTo>
                    <a:pt x="1" y="657"/>
                  </a:lnTo>
                  <a:lnTo>
                    <a:pt x="1" y="1971"/>
                  </a:lnTo>
                  <a:lnTo>
                    <a:pt x="1" y="3285"/>
                  </a:lnTo>
                  <a:lnTo>
                    <a:pt x="199" y="4161"/>
                  </a:lnTo>
                  <a:lnTo>
                    <a:pt x="594" y="5037"/>
                  </a:lnTo>
                  <a:lnTo>
                    <a:pt x="989" y="6350"/>
                  </a:lnTo>
                  <a:lnTo>
                    <a:pt x="1385" y="7664"/>
                  </a:lnTo>
                  <a:lnTo>
                    <a:pt x="1780" y="9197"/>
                  </a:lnTo>
                  <a:lnTo>
                    <a:pt x="1978" y="10511"/>
                  </a:lnTo>
                  <a:lnTo>
                    <a:pt x="2176" y="12263"/>
                  </a:lnTo>
                  <a:lnTo>
                    <a:pt x="2373" y="13796"/>
                  </a:lnTo>
                  <a:lnTo>
                    <a:pt x="2966" y="15548"/>
                  </a:lnTo>
                  <a:lnTo>
                    <a:pt x="3164" y="16861"/>
                  </a:lnTo>
                  <a:lnTo>
                    <a:pt x="3559" y="18394"/>
                  </a:lnTo>
                  <a:lnTo>
                    <a:pt x="4153" y="19708"/>
                  </a:lnTo>
                  <a:lnTo>
                    <a:pt x="4943" y="21241"/>
                  </a:lnTo>
                  <a:lnTo>
                    <a:pt x="5536" y="22336"/>
                  </a:lnTo>
                  <a:lnTo>
                    <a:pt x="6723" y="23650"/>
                  </a:lnTo>
                  <a:lnTo>
                    <a:pt x="7909" y="24526"/>
                  </a:lnTo>
                  <a:lnTo>
                    <a:pt x="9688" y="25402"/>
                  </a:lnTo>
                  <a:close/>
                </a:path>
              </a:pathLst>
            </a:custGeom>
            <a:solidFill>
              <a:srgbClr val="bd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Shape 427"/>
            <p:cNvSpPr/>
            <p:nvPr/>
          </p:nvSpPr>
          <p:spPr>
            <a:xfrm>
              <a:off x="7356600" y="5102640"/>
              <a:ext cx="735840" cy="443160"/>
            </a:xfrm>
            <a:custGeom>
              <a:avLst/>
              <a:gdLst>
                <a:gd name="textAreaLeft" fmla="*/ 0 w 735840"/>
                <a:gd name="textAreaRight" fmla="*/ 736200 w 73584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34598" h="24746">
                  <a:moveTo>
                    <a:pt x="8699" y="22994"/>
                  </a:moveTo>
                  <a:lnTo>
                    <a:pt x="9490" y="23213"/>
                  </a:lnTo>
                  <a:lnTo>
                    <a:pt x="10676" y="23650"/>
                  </a:lnTo>
                  <a:lnTo>
                    <a:pt x="12258" y="23869"/>
                  </a:lnTo>
                  <a:lnTo>
                    <a:pt x="14037" y="24307"/>
                  </a:lnTo>
                  <a:lnTo>
                    <a:pt x="15816" y="24307"/>
                  </a:lnTo>
                  <a:lnTo>
                    <a:pt x="17596" y="24526"/>
                  </a:lnTo>
                  <a:lnTo>
                    <a:pt x="19572" y="24526"/>
                  </a:lnTo>
                  <a:lnTo>
                    <a:pt x="21549" y="24745"/>
                  </a:lnTo>
                  <a:lnTo>
                    <a:pt x="23329" y="24307"/>
                  </a:lnTo>
                  <a:lnTo>
                    <a:pt x="25108" y="24088"/>
                  </a:lnTo>
                  <a:lnTo>
                    <a:pt x="26689" y="23650"/>
                  </a:lnTo>
                  <a:lnTo>
                    <a:pt x="28271" y="23432"/>
                  </a:lnTo>
                  <a:lnTo>
                    <a:pt x="29457" y="22775"/>
                  </a:lnTo>
                  <a:lnTo>
                    <a:pt x="30446" y="22118"/>
                  </a:lnTo>
                  <a:lnTo>
                    <a:pt x="31039" y="21242"/>
                  </a:lnTo>
                  <a:lnTo>
                    <a:pt x="31632" y="20585"/>
                  </a:lnTo>
                  <a:lnTo>
                    <a:pt x="32027" y="19709"/>
                  </a:lnTo>
                  <a:lnTo>
                    <a:pt x="32620" y="18614"/>
                  </a:lnTo>
                  <a:lnTo>
                    <a:pt x="-32520" y="17300"/>
                  </a:lnTo>
                  <a:lnTo>
                    <a:pt x="-32125" y="15986"/>
                  </a:lnTo>
                  <a:lnTo>
                    <a:pt x="-31927" y="14234"/>
                  </a:lnTo>
                  <a:lnTo>
                    <a:pt x="-31532" y="12702"/>
                  </a:lnTo>
                  <a:lnTo>
                    <a:pt x="-31334" y="10950"/>
                  </a:lnTo>
                  <a:lnTo>
                    <a:pt x="-30939" y="9417"/>
                  </a:lnTo>
                  <a:lnTo>
                    <a:pt x="-30939" y="7446"/>
                  </a:lnTo>
                  <a:lnTo>
                    <a:pt x="-30939" y="5913"/>
                  </a:lnTo>
                  <a:lnTo>
                    <a:pt x="-30939" y="4380"/>
                  </a:lnTo>
                  <a:lnTo>
                    <a:pt x="-30939" y="3067"/>
                  </a:lnTo>
                  <a:lnTo>
                    <a:pt x="-31137" y="1753"/>
                  </a:lnTo>
                  <a:lnTo>
                    <a:pt x="-31137" y="877"/>
                  </a:lnTo>
                  <a:lnTo>
                    <a:pt x="-31334" y="220"/>
                  </a:lnTo>
                  <a:lnTo>
                    <a:pt x="-31334" y="1"/>
                  </a:lnTo>
                  <a:lnTo>
                    <a:pt x="-31927" y="1"/>
                  </a:lnTo>
                  <a:lnTo>
                    <a:pt x="32225" y="439"/>
                  </a:lnTo>
                  <a:lnTo>
                    <a:pt x="31236" y="439"/>
                  </a:lnTo>
                  <a:lnTo>
                    <a:pt x="30248" y="877"/>
                  </a:lnTo>
                  <a:lnTo>
                    <a:pt x="29062" y="1096"/>
                  </a:lnTo>
                  <a:lnTo>
                    <a:pt x="27876" y="1534"/>
                  </a:lnTo>
                  <a:lnTo>
                    <a:pt x="26294" y="1753"/>
                  </a:lnTo>
                  <a:lnTo>
                    <a:pt x="24910" y="1972"/>
                  </a:lnTo>
                  <a:lnTo>
                    <a:pt x="23526" y="2191"/>
                  </a:lnTo>
                  <a:lnTo>
                    <a:pt x="22142" y="2629"/>
                  </a:lnTo>
                  <a:lnTo>
                    <a:pt x="20561" y="2848"/>
                  </a:lnTo>
                  <a:lnTo>
                    <a:pt x="19177" y="3067"/>
                  </a:lnTo>
                  <a:lnTo>
                    <a:pt x="17991" y="3067"/>
                  </a:lnTo>
                  <a:lnTo>
                    <a:pt x="16805" y="3286"/>
                  </a:lnTo>
                  <a:lnTo>
                    <a:pt x="15421" y="3067"/>
                  </a:lnTo>
                  <a:lnTo>
                    <a:pt x="14037" y="2848"/>
                  </a:lnTo>
                  <a:lnTo>
                    <a:pt x="12653" y="2629"/>
                  </a:lnTo>
                  <a:lnTo>
                    <a:pt x="11467" y="2629"/>
                  </a:lnTo>
                  <a:lnTo>
                    <a:pt x="10083" y="2410"/>
                  </a:lnTo>
                  <a:lnTo>
                    <a:pt x="8897" y="2191"/>
                  </a:lnTo>
                  <a:lnTo>
                    <a:pt x="7711" y="1972"/>
                  </a:lnTo>
                  <a:lnTo>
                    <a:pt x="6722" y="1972"/>
                  </a:lnTo>
                  <a:lnTo>
                    <a:pt x="5536" y="1534"/>
                  </a:lnTo>
                  <a:lnTo>
                    <a:pt x="4350" y="1315"/>
                  </a:lnTo>
                  <a:lnTo>
                    <a:pt x="3362" y="1096"/>
                  </a:lnTo>
                  <a:lnTo>
                    <a:pt x="2769" y="877"/>
                  </a:lnTo>
                  <a:lnTo>
                    <a:pt x="1582" y="439"/>
                  </a:lnTo>
                  <a:lnTo>
                    <a:pt x="989" y="220"/>
                  </a:lnTo>
                  <a:lnTo>
                    <a:pt x="198" y="220"/>
                  </a:lnTo>
                  <a:lnTo>
                    <a:pt x="1" y="1534"/>
                  </a:lnTo>
                  <a:lnTo>
                    <a:pt x="1" y="2848"/>
                  </a:lnTo>
                  <a:lnTo>
                    <a:pt x="1" y="3723"/>
                  </a:lnTo>
                  <a:lnTo>
                    <a:pt x="198" y="4599"/>
                  </a:lnTo>
                  <a:lnTo>
                    <a:pt x="594" y="5694"/>
                  </a:lnTo>
                  <a:lnTo>
                    <a:pt x="989" y="7008"/>
                  </a:lnTo>
                  <a:lnTo>
                    <a:pt x="1385" y="8322"/>
                  </a:lnTo>
                  <a:lnTo>
                    <a:pt x="1582" y="9636"/>
                  </a:lnTo>
                  <a:lnTo>
                    <a:pt x="1780" y="10950"/>
                  </a:lnTo>
                  <a:lnTo>
                    <a:pt x="1978" y="12483"/>
                  </a:lnTo>
                  <a:lnTo>
                    <a:pt x="2571" y="14015"/>
                  </a:lnTo>
                  <a:lnTo>
                    <a:pt x="2769" y="15110"/>
                  </a:lnTo>
                  <a:lnTo>
                    <a:pt x="3164" y="16424"/>
                  </a:lnTo>
                  <a:lnTo>
                    <a:pt x="3559" y="17738"/>
                  </a:lnTo>
                  <a:lnTo>
                    <a:pt x="4350" y="19052"/>
                  </a:lnTo>
                  <a:lnTo>
                    <a:pt x="4943" y="20147"/>
                  </a:lnTo>
                  <a:lnTo>
                    <a:pt x="6129" y="21242"/>
                  </a:lnTo>
                  <a:lnTo>
                    <a:pt x="7118" y="22118"/>
                  </a:lnTo>
                  <a:lnTo>
                    <a:pt x="8699" y="22994"/>
                  </a:lnTo>
                  <a:close/>
                </a:path>
              </a:pathLst>
            </a:custGeom>
            <a:solidFill>
              <a:srgbClr val="c47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Shape 428"/>
            <p:cNvSpPr/>
            <p:nvPr/>
          </p:nvSpPr>
          <p:spPr>
            <a:xfrm>
              <a:off x="7381800" y="5137920"/>
              <a:ext cx="681120" cy="4039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32028" h="22556">
                  <a:moveTo>
                    <a:pt x="8106" y="21023"/>
                  </a:moveTo>
                  <a:lnTo>
                    <a:pt x="8897" y="21242"/>
                  </a:lnTo>
                  <a:lnTo>
                    <a:pt x="10083" y="21461"/>
                  </a:lnTo>
                  <a:lnTo>
                    <a:pt x="11269" y="21679"/>
                  </a:lnTo>
                  <a:lnTo>
                    <a:pt x="13049" y="22117"/>
                  </a:lnTo>
                  <a:lnTo>
                    <a:pt x="14630" y="22117"/>
                  </a:lnTo>
                  <a:lnTo>
                    <a:pt x="16410" y="22336"/>
                  </a:lnTo>
                  <a:lnTo>
                    <a:pt x="18189" y="22336"/>
                  </a:lnTo>
                  <a:lnTo>
                    <a:pt x="20166" y="22555"/>
                  </a:lnTo>
                  <a:lnTo>
                    <a:pt x="21747" y="22336"/>
                  </a:lnTo>
                  <a:lnTo>
                    <a:pt x="23526" y="22117"/>
                  </a:lnTo>
                  <a:lnTo>
                    <a:pt x="24910" y="21679"/>
                  </a:lnTo>
                  <a:lnTo>
                    <a:pt x="26492" y="21461"/>
                  </a:lnTo>
                  <a:lnTo>
                    <a:pt x="27480" y="20804"/>
                  </a:lnTo>
                  <a:lnTo>
                    <a:pt x="28469" y="20147"/>
                  </a:lnTo>
                  <a:lnTo>
                    <a:pt x="28864" y="19490"/>
                  </a:lnTo>
                  <a:lnTo>
                    <a:pt x="29457" y="18833"/>
                  </a:lnTo>
                  <a:lnTo>
                    <a:pt x="29853" y="17957"/>
                  </a:lnTo>
                  <a:lnTo>
                    <a:pt x="30248" y="17081"/>
                  </a:lnTo>
                  <a:lnTo>
                    <a:pt x="30643" y="15767"/>
                  </a:lnTo>
                  <a:lnTo>
                    <a:pt x="31039" y="14672"/>
                  </a:lnTo>
                  <a:lnTo>
                    <a:pt x="31237" y="12920"/>
                  </a:lnTo>
                  <a:lnTo>
                    <a:pt x="31434" y="11606"/>
                  </a:lnTo>
                  <a:lnTo>
                    <a:pt x="31632" y="9855"/>
                  </a:lnTo>
                  <a:lnTo>
                    <a:pt x="32027" y="8541"/>
                  </a:lnTo>
                  <a:lnTo>
                    <a:pt x="32027" y="6789"/>
                  </a:lnTo>
                  <a:lnTo>
                    <a:pt x="32027" y="5256"/>
                  </a:lnTo>
                  <a:lnTo>
                    <a:pt x="32027" y="3942"/>
                  </a:lnTo>
                  <a:lnTo>
                    <a:pt x="32027" y="2847"/>
                  </a:lnTo>
                  <a:lnTo>
                    <a:pt x="31632" y="877"/>
                  </a:lnTo>
                  <a:lnTo>
                    <a:pt x="31434" y="1"/>
                  </a:lnTo>
                  <a:lnTo>
                    <a:pt x="30841" y="1"/>
                  </a:lnTo>
                  <a:lnTo>
                    <a:pt x="29655" y="220"/>
                  </a:lnTo>
                  <a:lnTo>
                    <a:pt x="28667" y="220"/>
                  </a:lnTo>
                  <a:lnTo>
                    <a:pt x="27876" y="658"/>
                  </a:lnTo>
                  <a:lnTo>
                    <a:pt x="26690" y="658"/>
                  </a:lnTo>
                  <a:lnTo>
                    <a:pt x="25701" y="1096"/>
                  </a:lnTo>
                  <a:lnTo>
                    <a:pt x="24317" y="1096"/>
                  </a:lnTo>
                  <a:lnTo>
                    <a:pt x="23131" y="1533"/>
                  </a:lnTo>
                  <a:lnTo>
                    <a:pt x="21747" y="1533"/>
                  </a:lnTo>
                  <a:lnTo>
                    <a:pt x="20561" y="1971"/>
                  </a:lnTo>
                  <a:lnTo>
                    <a:pt x="19177" y="1971"/>
                  </a:lnTo>
                  <a:lnTo>
                    <a:pt x="17793" y="2190"/>
                  </a:lnTo>
                  <a:lnTo>
                    <a:pt x="16607" y="2190"/>
                  </a:lnTo>
                  <a:lnTo>
                    <a:pt x="15619" y="2409"/>
                  </a:lnTo>
                  <a:lnTo>
                    <a:pt x="14433" y="2190"/>
                  </a:lnTo>
                  <a:lnTo>
                    <a:pt x="13246" y="2190"/>
                  </a:lnTo>
                  <a:lnTo>
                    <a:pt x="12060" y="1971"/>
                  </a:lnTo>
                  <a:lnTo>
                    <a:pt x="10874" y="1971"/>
                  </a:lnTo>
                  <a:lnTo>
                    <a:pt x="9688" y="1752"/>
                  </a:lnTo>
                  <a:lnTo>
                    <a:pt x="8502" y="1752"/>
                  </a:lnTo>
                  <a:lnTo>
                    <a:pt x="7513" y="1533"/>
                  </a:lnTo>
                  <a:lnTo>
                    <a:pt x="6525" y="1533"/>
                  </a:lnTo>
                  <a:lnTo>
                    <a:pt x="4548" y="1096"/>
                  </a:lnTo>
                  <a:lnTo>
                    <a:pt x="2966" y="658"/>
                  </a:lnTo>
                  <a:lnTo>
                    <a:pt x="1780" y="220"/>
                  </a:lnTo>
                  <a:lnTo>
                    <a:pt x="1385" y="220"/>
                  </a:lnTo>
                  <a:lnTo>
                    <a:pt x="792" y="220"/>
                  </a:lnTo>
                  <a:lnTo>
                    <a:pt x="396" y="1533"/>
                  </a:lnTo>
                  <a:lnTo>
                    <a:pt x="1" y="2847"/>
                  </a:lnTo>
                  <a:lnTo>
                    <a:pt x="1" y="3723"/>
                  </a:lnTo>
                  <a:lnTo>
                    <a:pt x="594" y="5475"/>
                  </a:lnTo>
                  <a:lnTo>
                    <a:pt x="1385" y="7884"/>
                  </a:lnTo>
                  <a:lnTo>
                    <a:pt x="1385" y="8979"/>
                  </a:lnTo>
                  <a:lnTo>
                    <a:pt x="1583" y="10293"/>
                  </a:lnTo>
                  <a:lnTo>
                    <a:pt x="1780" y="11606"/>
                  </a:lnTo>
                  <a:lnTo>
                    <a:pt x="2176" y="12920"/>
                  </a:lnTo>
                  <a:lnTo>
                    <a:pt x="2373" y="14015"/>
                  </a:lnTo>
                  <a:lnTo>
                    <a:pt x="2769" y="15329"/>
                  </a:lnTo>
                  <a:lnTo>
                    <a:pt x="3164" y="16424"/>
                  </a:lnTo>
                  <a:lnTo>
                    <a:pt x="3955" y="17519"/>
                  </a:lnTo>
                  <a:lnTo>
                    <a:pt x="4548" y="18395"/>
                  </a:lnTo>
                  <a:lnTo>
                    <a:pt x="5536" y="19490"/>
                  </a:lnTo>
                  <a:lnTo>
                    <a:pt x="6723" y="20147"/>
                  </a:lnTo>
                  <a:lnTo>
                    <a:pt x="8106" y="21023"/>
                  </a:lnTo>
                  <a:close/>
                </a:path>
              </a:pathLst>
            </a:custGeom>
            <a:solidFill>
              <a:srgbClr val="cc8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Shape 429"/>
            <p:cNvSpPr/>
            <p:nvPr/>
          </p:nvSpPr>
          <p:spPr>
            <a:xfrm>
              <a:off x="7407000" y="5173200"/>
              <a:ext cx="626400" cy="36468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29457" h="20366">
                  <a:moveTo>
                    <a:pt x="7512" y="18833"/>
                  </a:moveTo>
                  <a:lnTo>
                    <a:pt x="8106" y="19052"/>
                  </a:lnTo>
                  <a:lnTo>
                    <a:pt x="9292" y="19271"/>
                  </a:lnTo>
                  <a:lnTo>
                    <a:pt x="10478" y="19490"/>
                  </a:lnTo>
                  <a:lnTo>
                    <a:pt x="12059" y="19927"/>
                  </a:lnTo>
                  <a:lnTo>
                    <a:pt x="13443" y="19927"/>
                  </a:lnTo>
                  <a:lnTo>
                    <a:pt x="15223" y="20146"/>
                  </a:lnTo>
                  <a:lnTo>
                    <a:pt x="16804" y="20146"/>
                  </a:lnTo>
                  <a:lnTo>
                    <a:pt x="18583" y="20365"/>
                  </a:lnTo>
                  <a:lnTo>
                    <a:pt x="20165" y="20146"/>
                  </a:lnTo>
                  <a:lnTo>
                    <a:pt x="21746" y="19927"/>
                  </a:lnTo>
                  <a:lnTo>
                    <a:pt x="23130" y="19490"/>
                  </a:lnTo>
                  <a:lnTo>
                    <a:pt x="24514" y="19271"/>
                  </a:lnTo>
                  <a:lnTo>
                    <a:pt x="25503" y="18614"/>
                  </a:lnTo>
                  <a:lnTo>
                    <a:pt x="26293" y="18176"/>
                  </a:lnTo>
                  <a:lnTo>
                    <a:pt x="26886" y="17519"/>
                  </a:lnTo>
                  <a:lnTo>
                    <a:pt x="27282" y="16862"/>
                  </a:lnTo>
                  <a:lnTo>
                    <a:pt x="27677" y="15986"/>
                  </a:lnTo>
                  <a:lnTo>
                    <a:pt x="28073" y="15110"/>
                  </a:lnTo>
                  <a:lnTo>
                    <a:pt x="28270" y="14015"/>
                  </a:lnTo>
                  <a:lnTo>
                    <a:pt x="28666" y="12920"/>
                  </a:lnTo>
                  <a:lnTo>
                    <a:pt x="28863" y="11606"/>
                  </a:lnTo>
                  <a:lnTo>
                    <a:pt x="29061" y="10292"/>
                  </a:lnTo>
                  <a:lnTo>
                    <a:pt x="29259" y="8979"/>
                  </a:lnTo>
                  <a:lnTo>
                    <a:pt x="29456" y="7665"/>
                  </a:lnTo>
                  <a:lnTo>
                    <a:pt x="29259" y="6132"/>
                  </a:lnTo>
                  <a:lnTo>
                    <a:pt x="29259" y="4818"/>
                  </a:lnTo>
                  <a:lnTo>
                    <a:pt x="29259" y="3504"/>
                  </a:lnTo>
                  <a:lnTo>
                    <a:pt x="29259" y="2628"/>
                  </a:lnTo>
                  <a:lnTo>
                    <a:pt x="29061" y="876"/>
                  </a:lnTo>
                  <a:lnTo>
                    <a:pt x="28863" y="219"/>
                  </a:lnTo>
                  <a:lnTo>
                    <a:pt x="28270" y="219"/>
                  </a:lnTo>
                  <a:lnTo>
                    <a:pt x="27282" y="438"/>
                  </a:lnTo>
                  <a:lnTo>
                    <a:pt x="25503" y="438"/>
                  </a:lnTo>
                  <a:lnTo>
                    <a:pt x="23723" y="876"/>
                  </a:lnTo>
                  <a:lnTo>
                    <a:pt x="22537" y="876"/>
                  </a:lnTo>
                  <a:lnTo>
                    <a:pt x="21351" y="1095"/>
                  </a:lnTo>
                  <a:lnTo>
                    <a:pt x="20165" y="1095"/>
                  </a:lnTo>
                  <a:lnTo>
                    <a:pt x="18979" y="1314"/>
                  </a:lnTo>
                  <a:lnTo>
                    <a:pt x="17793" y="1314"/>
                  </a:lnTo>
                  <a:lnTo>
                    <a:pt x="16606" y="1533"/>
                  </a:lnTo>
                  <a:lnTo>
                    <a:pt x="15420" y="1533"/>
                  </a:lnTo>
                  <a:lnTo>
                    <a:pt x="14432" y="1752"/>
                  </a:lnTo>
                  <a:lnTo>
                    <a:pt x="13246" y="1533"/>
                  </a:lnTo>
                  <a:lnTo>
                    <a:pt x="12257" y="1533"/>
                  </a:lnTo>
                  <a:lnTo>
                    <a:pt x="11071" y="1314"/>
                  </a:lnTo>
                  <a:lnTo>
                    <a:pt x="10082" y="1314"/>
                  </a:lnTo>
                  <a:lnTo>
                    <a:pt x="8106" y="1095"/>
                  </a:lnTo>
                  <a:lnTo>
                    <a:pt x="6326" y="876"/>
                  </a:lnTo>
                  <a:lnTo>
                    <a:pt x="4547" y="438"/>
                  </a:lnTo>
                  <a:lnTo>
                    <a:pt x="3163" y="438"/>
                  </a:lnTo>
                  <a:lnTo>
                    <a:pt x="2175" y="0"/>
                  </a:lnTo>
                  <a:lnTo>
                    <a:pt x="1779" y="0"/>
                  </a:lnTo>
                  <a:lnTo>
                    <a:pt x="989" y="0"/>
                  </a:lnTo>
                  <a:lnTo>
                    <a:pt x="593" y="1314"/>
                  </a:lnTo>
                  <a:lnTo>
                    <a:pt x="0" y="2628"/>
                  </a:lnTo>
                  <a:lnTo>
                    <a:pt x="0" y="3504"/>
                  </a:lnTo>
                  <a:lnTo>
                    <a:pt x="593" y="5256"/>
                  </a:lnTo>
                  <a:lnTo>
                    <a:pt x="1186" y="7446"/>
                  </a:lnTo>
                  <a:lnTo>
                    <a:pt x="1582" y="9417"/>
                  </a:lnTo>
                  <a:lnTo>
                    <a:pt x="2175" y="11825"/>
                  </a:lnTo>
                  <a:lnTo>
                    <a:pt x="2570" y="13796"/>
                  </a:lnTo>
                  <a:lnTo>
                    <a:pt x="3559" y="15767"/>
                  </a:lnTo>
                  <a:lnTo>
                    <a:pt x="4152" y="16424"/>
                  </a:lnTo>
                  <a:lnTo>
                    <a:pt x="5140" y="17300"/>
                  </a:lnTo>
                  <a:lnTo>
                    <a:pt x="6129" y="17957"/>
                  </a:lnTo>
                  <a:lnTo>
                    <a:pt x="7512" y="18833"/>
                  </a:lnTo>
                  <a:close/>
                </a:path>
              </a:pathLst>
            </a:custGeom>
            <a:solidFill>
              <a:srgbClr val="d19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Shape 430"/>
            <p:cNvSpPr/>
            <p:nvPr/>
          </p:nvSpPr>
          <p:spPr>
            <a:xfrm>
              <a:off x="7432200" y="5208840"/>
              <a:ext cx="572040" cy="32544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6887" h="18176">
                  <a:moveTo>
                    <a:pt x="6920" y="16862"/>
                  </a:moveTo>
                  <a:lnTo>
                    <a:pt x="7513" y="17081"/>
                  </a:lnTo>
                  <a:lnTo>
                    <a:pt x="8501" y="17300"/>
                  </a:lnTo>
                  <a:lnTo>
                    <a:pt x="9687" y="17519"/>
                  </a:lnTo>
                  <a:lnTo>
                    <a:pt x="11071" y="17956"/>
                  </a:lnTo>
                  <a:lnTo>
                    <a:pt x="12257" y="17956"/>
                  </a:lnTo>
                  <a:lnTo>
                    <a:pt x="13839" y="17956"/>
                  </a:lnTo>
                  <a:lnTo>
                    <a:pt x="15420" y="17956"/>
                  </a:lnTo>
                  <a:lnTo>
                    <a:pt x="17200" y="18175"/>
                  </a:lnTo>
                  <a:lnTo>
                    <a:pt x="18583" y="17956"/>
                  </a:lnTo>
                  <a:lnTo>
                    <a:pt x="19967" y="17737"/>
                  </a:lnTo>
                  <a:lnTo>
                    <a:pt x="21351" y="17300"/>
                  </a:lnTo>
                  <a:lnTo>
                    <a:pt x="22735" y="17081"/>
                  </a:lnTo>
                  <a:lnTo>
                    <a:pt x="24317" y="15986"/>
                  </a:lnTo>
                  <a:lnTo>
                    <a:pt x="25305" y="14891"/>
                  </a:lnTo>
                  <a:lnTo>
                    <a:pt x="25898" y="13358"/>
                  </a:lnTo>
                  <a:lnTo>
                    <a:pt x="26491" y="11387"/>
                  </a:lnTo>
                  <a:lnTo>
                    <a:pt x="26491" y="10073"/>
                  </a:lnTo>
                  <a:lnTo>
                    <a:pt x="26689" y="8978"/>
                  </a:lnTo>
                  <a:lnTo>
                    <a:pt x="26689" y="7883"/>
                  </a:lnTo>
                  <a:lnTo>
                    <a:pt x="26887" y="6789"/>
                  </a:lnTo>
                  <a:lnTo>
                    <a:pt x="26689" y="4380"/>
                  </a:lnTo>
                  <a:lnTo>
                    <a:pt x="26491" y="2409"/>
                  </a:lnTo>
                  <a:lnTo>
                    <a:pt x="26294" y="876"/>
                  </a:lnTo>
                  <a:lnTo>
                    <a:pt x="26096" y="438"/>
                  </a:lnTo>
                  <a:lnTo>
                    <a:pt x="25700" y="438"/>
                  </a:lnTo>
                  <a:lnTo>
                    <a:pt x="24712" y="438"/>
                  </a:lnTo>
                  <a:lnTo>
                    <a:pt x="23130" y="438"/>
                  </a:lnTo>
                  <a:lnTo>
                    <a:pt x="21549" y="657"/>
                  </a:lnTo>
                  <a:lnTo>
                    <a:pt x="20560" y="657"/>
                  </a:lnTo>
                  <a:lnTo>
                    <a:pt x="19572" y="657"/>
                  </a:lnTo>
                  <a:lnTo>
                    <a:pt x="18386" y="657"/>
                  </a:lnTo>
                  <a:lnTo>
                    <a:pt x="17397" y="657"/>
                  </a:lnTo>
                  <a:lnTo>
                    <a:pt x="15223" y="657"/>
                  </a:lnTo>
                  <a:lnTo>
                    <a:pt x="13443" y="876"/>
                  </a:lnTo>
                  <a:lnTo>
                    <a:pt x="11269" y="657"/>
                  </a:lnTo>
                  <a:lnTo>
                    <a:pt x="9490" y="657"/>
                  </a:lnTo>
                  <a:lnTo>
                    <a:pt x="7513" y="657"/>
                  </a:lnTo>
                  <a:lnTo>
                    <a:pt x="6129" y="657"/>
                  </a:lnTo>
                  <a:lnTo>
                    <a:pt x="4547" y="438"/>
                  </a:lnTo>
                  <a:lnTo>
                    <a:pt x="3361" y="219"/>
                  </a:lnTo>
                  <a:lnTo>
                    <a:pt x="2570" y="0"/>
                  </a:lnTo>
                  <a:lnTo>
                    <a:pt x="2373" y="0"/>
                  </a:lnTo>
                  <a:lnTo>
                    <a:pt x="1582" y="0"/>
                  </a:lnTo>
                  <a:lnTo>
                    <a:pt x="791" y="1533"/>
                  </a:lnTo>
                  <a:lnTo>
                    <a:pt x="198" y="2847"/>
                  </a:lnTo>
                  <a:lnTo>
                    <a:pt x="0" y="3723"/>
                  </a:lnTo>
                  <a:lnTo>
                    <a:pt x="593" y="5037"/>
                  </a:lnTo>
                  <a:lnTo>
                    <a:pt x="1186" y="7008"/>
                  </a:lnTo>
                  <a:lnTo>
                    <a:pt x="1384" y="8759"/>
                  </a:lnTo>
                  <a:lnTo>
                    <a:pt x="1977" y="10730"/>
                  </a:lnTo>
                  <a:lnTo>
                    <a:pt x="2373" y="12263"/>
                  </a:lnTo>
                  <a:lnTo>
                    <a:pt x="3361" y="14015"/>
                  </a:lnTo>
                  <a:lnTo>
                    <a:pt x="3954" y="14672"/>
                  </a:lnTo>
                  <a:lnTo>
                    <a:pt x="4745" y="15548"/>
                  </a:lnTo>
                  <a:lnTo>
                    <a:pt x="5733" y="16205"/>
                  </a:lnTo>
                  <a:lnTo>
                    <a:pt x="6920" y="16862"/>
                  </a:lnTo>
                  <a:close/>
                </a:path>
              </a:pathLst>
            </a:custGeom>
            <a:solidFill>
              <a:srgbClr val="d9a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Shape 431"/>
            <p:cNvSpPr/>
            <p:nvPr/>
          </p:nvSpPr>
          <p:spPr>
            <a:xfrm>
              <a:off x="7457400" y="5240160"/>
              <a:ext cx="517320" cy="2901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4317" h="16205">
                  <a:moveTo>
                    <a:pt x="6327" y="15110"/>
                  </a:moveTo>
                  <a:lnTo>
                    <a:pt x="6920" y="15329"/>
                  </a:lnTo>
                  <a:lnTo>
                    <a:pt x="7908" y="15548"/>
                  </a:lnTo>
                  <a:lnTo>
                    <a:pt x="8897" y="15767"/>
                  </a:lnTo>
                  <a:lnTo>
                    <a:pt x="10083" y="15985"/>
                  </a:lnTo>
                  <a:lnTo>
                    <a:pt x="11269" y="15985"/>
                  </a:lnTo>
                  <a:lnTo>
                    <a:pt x="12851" y="15985"/>
                  </a:lnTo>
                  <a:lnTo>
                    <a:pt x="14234" y="15985"/>
                  </a:lnTo>
                  <a:lnTo>
                    <a:pt x="15816" y="16204"/>
                  </a:lnTo>
                  <a:lnTo>
                    <a:pt x="17002" y="15985"/>
                  </a:lnTo>
                  <a:lnTo>
                    <a:pt x="18386" y="15767"/>
                  </a:lnTo>
                  <a:lnTo>
                    <a:pt x="19572" y="15548"/>
                  </a:lnTo>
                  <a:lnTo>
                    <a:pt x="20758" y="15329"/>
                  </a:lnTo>
                  <a:lnTo>
                    <a:pt x="22340" y="14234"/>
                  </a:lnTo>
                  <a:lnTo>
                    <a:pt x="23131" y="13139"/>
                  </a:lnTo>
                  <a:lnTo>
                    <a:pt x="23724" y="11825"/>
                  </a:lnTo>
                  <a:lnTo>
                    <a:pt x="24119" y="10292"/>
                  </a:lnTo>
                  <a:lnTo>
                    <a:pt x="24119" y="8102"/>
                  </a:lnTo>
                  <a:lnTo>
                    <a:pt x="24317" y="6131"/>
                  </a:lnTo>
                  <a:lnTo>
                    <a:pt x="24119" y="4161"/>
                  </a:lnTo>
                  <a:lnTo>
                    <a:pt x="23921" y="2409"/>
                  </a:lnTo>
                  <a:lnTo>
                    <a:pt x="23526" y="1095"/>
                  </a:lnTo>
                  <a:lnTo>
                    <a:pt x="23328" y="657"/>
                  </a:lnTo>
                  <a:lnTo>
                    <a:pt x="22933" y="438"/>
                  </a:lnTo>
                  <a:lnTo>
                    <a:pt x="22142" y="438"/>
                  </a:lnTo>
                  <a:lnTo>
                    <a:pt x="20956" y="438"/>
                  </a:lnTo>
                  <a:lnTo>
                    <a:pt x="19572" y="438"/>
                  </a:lnTo>
                  <a:lnTo>
                    <a:pt x="17595" y="219"/>
                  </a:lnTo>
                  <a:lnTo>
                    <a:pt x="15816" y="219"/>
                  </a:lnTo>
                  <a:lnTo>
                    <a:pt x="14037" y="219"/>
                  </a:lnTo>
                  <a:lnTo>
                    <a:pt x="12257" y="219"/>
                  </a:lnTo>
                  <a:lnTo>
                    <a:pt x="10478" y="219"/>
                  </a:lnTo>
                  <a:lnTo>
                    <a:pt x="8699" y="219"/>
                  </a:lnTo>
                  <a:lnTo>
                    <a:pt x="7117" y="219"/>
                  </a:lnTo>
                  <a:lnTo>
                    <a:pt x="5931" y="219"/>
                  </a:lnTo>
                  <a:lnTo>
                    <a:pt x="4547" y="0"/>
                  </a:lnTo>
                  <a:lnTo>
                    <a:pt x="3757" y="0"/>
                  </a:lnTo>
                  <a:lnTo>
                    <a:pt x="2966" y="0"/>
                  </a:lnTo>
                  <a:lnTo>
                    <a:pt x="2768" y="0"/>
                  </a:lnTo>
                  <a:lnTo>
                    <a:pt x="1977" y="219"/>
                  </a:lnTo>
                  <a:lnTo>
                    <a:pt x="989" y="1533"/>
                  </a:lnTo>
                  <a:lnTo>
                    <a:pt x="198" y="2847"/>
                  </a:lnTo>
                  <a:lnTo>
                    <a:pt x="0" y="3723"/>
                  </a:lnTo>
                  <a:lnTo>
                    <a:pt x="594" y="5037"/>
                  </a:lnTo>
                  <a:lnTo>
                    <a:pt x="989" y="6788"/>
                  </a:lnTo>
                  <a:lnTo>
                    <a:pt x="1187" y="8102"/>
                  </a:lnTo>
                  <a:lnTo>
                    <a:pt x="1780" y="9854"/>
                  </a:lnTo>
                  <a:lnTo>
                    <a:pt x="2175" y="11168"/>
                  </a:lnTo>
                  <a:lnTo>
                    <a:pt x="3164" y="12701"/>
                  </a:lnTo>
                  <a:lnTo>
                    <a:pt x="3559" y="13139"/>
                  </a:lnTo>
                  <a:lnTo>
                    <a:pt x="4350" y="13796"/>
                  </a:lnTo>
                  <a:lnTo>
                    <a:pt x="5140" y="14453"/>
                  </a:lnTo>
                  <a:lnTo>
                    <a:pt x="6327" y="15110"/>
                  </a:lnTo>
                  <a:close/>
                </a:path>
              </a:pathLst>
            </a:custGeom>
            <a:solidFill>
              <a:srgbClr val="e0b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Shape 432"/>
            <p:cNvSpPr/>
            <p:nvPr/>
          </p:nvSpPr>
          <p:spPr>
            <a:xfrm>
              <a:off x="7482600" y="5263560"/>
              <a:ext cx="466560" cy="2628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945" h="14673">
                  <a:moveTo>
                    <a:pt x="5734" y="13578"/>
                  </a:moveTo>
                  <a:lnTo>
                    <a:pt x="7118" y="14016"/>
                  </a:lnTo>
                  <a:lnTo>
                    <a:pt x="9095" y="14454"/>
                  </a:lnTo>
                  <a:lnTo>
                    <a:pt x="10281" y="14454"/>
                  </a:lnTo>
                  <a:lnTo>
                    <a:pt x="11665" y="14454"/>
                  </a:lnTo>
                  <a:lnTo>
                    <a:pt x="12851" y="14454"/>
                  </a:lnTo>
                  <a:lnTo>
                    <a:pt x="14432" y="14672"/>
                  </a:lnTo>
                  <a:lnTo>
                    <a:pt x="15421" y="14454"/>
                  </a:lnTo>
                  <a:lnTo>
                    <a:pt x="16607" y="14235"/>
                  </a:lnTo>
                  <a:lnTo>
                    <a:pt x="17595" y="14016"/>
                  </a:lnTo>
                  <a:lnTo>
                    <a:pt x="18781" y="13797"/>
                  </a:lnTo>
                  <a:lnTo>
                    <a:pt x="20363" y="12921"/>
                  </a:lnTo>
                  <a:lnTo>
                    <a:pt x="20956" y="12045"/>
                  </a:lnTo>
                  <a:lnTo>
                    <a:pt x="21352" y="10731"/>
                  </a:lnTo>
                  <a:lnTo>
                    <a:pt x="21747" y="9417"/>
                  </a:lnTo>
                  <a:lnTo>
                    <a:pt x="21747" y="7665"/>
                  </a:lnTo>
                  <a:lnTo>
                    <a:pt x="21945" y="6132"/>
                  </a:lnTo>
                  <a:lnTo>
                    <a:pt x="21549" y="4381"/>
                  </a:lnTo>
                  <a:lnTo>
                    <a:pt x="21352" y="3067"/>
                  </a:lnTo>
                  <a:lnTo>
                    <a:pt x="20956" y="1972"/>
                  </a:lnTo>
                  <a:lnTo>
                    <a:pt x="20758" y="1534"/>
                  </a:lnTo>
                  <a:lnTo>
                    <a:pt x="20363" y="1315"/>
                  </a:lnTo>
                  <a:lnTo>
                    <a:pt x="19770" y="1096"/>
                  </a:lnTo>
                  <a:lnTo>
                    <a:pt x="18584" y="877"/>
                  </a:lnTo>
                  <a:lnTo>
                    <a:pt x="17398" y="877"/>
                  </a:lnTo>
                  <a:lnTo>
                    <a:pt x="15816" y="439"/>
                  </a:lnTo>
                  <a:lnTo>
                    <a:pt x="14235" y="220"/>
                  </a:lnTo>
                  <a:lnTo>
                    <a:pt x="12653" y="220"/>
                  </a:lnTo>
                  <a:lnTo>
                    <a:pt x="11071" y="220"/>
                  </a:lnTo>
                  <a:lnTo>
                    <a:pt x="9292" y="1"/>
                  </a:lnTo>
                  <a:lnTo>
                    <a:pt x="7908" y="1"/>
                  </a:lnTo>
                  <a:lnTo>
                    <a:pt x="6524" y="220"/>
                  </a:lnTo>
                  <a:lnTo>
                    <a:pt x="5536" y="439"/>
                  </a:lnTo>
                  <a:lnTo>
                    <a:pt x="3954" y="658"/>
                  </a:lnTo>
                  <a:lnTo>
                    <a:pt x="3164" y="658"/>
                  </a:lnTo>
                  <a:lnTo>
                    <a:pt x="2175" y="877"/>
                  </a:lnTo>
                  <a:lnTo>
                    <a:pt x="1187" y="2191"/>
                  </a:lnTo>
                  <a:lnTo>
                    <a:pt x="198" y="3505"/>
                  </a:lnTo>
                  <a:lnTo>
                    <a:pt x="1" y="4381"/>
                  </a:lnTo>
                  <a:lnTo>
                    <a:pt x="396" y="5475"/>
                  </a:lnTo>
                  <a:lnTo>
                    <a:pt x="791" y="6789"/>
                  </a:lnTo>
                  <a:lnTo>
                    <a:pt x="989" y="8103"/>
                  </a:lnTo>
                  <a:lnTo>
                    <a:pt x="1582" y="9417"/>
                  </a:lnTo>
                  <a:lnTo>
                    <a:pt x="1780" y="10512"/>
                  </a:lnTo>
                  <a:lnTo>
                    <a:pt x="2768" y="11607"/>
                  </a:lnTo>
                  <a:lnTo>
                    <a:pt x="3954" y="12483"/>
                  </a:lnTo>
                  <a:lnTo>
                    <a:pt x="5734" y="13578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Shape 433"/>
            <p:cNvSpPr/>
            <p:nvPr/>
          </p:nvSpPr>
          <p:spPr>
            <a:xfrm>
              <a:off x="7171560" y="4243320"/>
              <a:ext cx="1173240" cy="8748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55157" h="48833">
                  <a:moveTo>
                    <a:pt x="24514" y="658"/>
                  </a:moveTo>
                  <a:lnTo>
                    <a:pt x="23921" y="658"/>
                  </a:lnTo>
                  <a:lnTo>
                    <a:pt x="22933" y="658"/>
                  </a:lnTo>
                  <a:lnTo>
                    <a:pt x="21153" y="439"/>
                  </a:lnTo>
                  <a:lnTo>
                    <a:pt x="19177" y="658"/>
                  </a:lnTo>
                  <a:lnTo>
                    <a:pt x="17990" y="658"/>
                  </a:lnTo>
                  <a:lnTo>
                    <a:pt x="16804" y="877"/>
                  </a:lnTo>
                  <a:lnTo>
                    <a:pt x="15618" y="1096"/>
                  </a:lnTo>
                  <a:lnTo>
                    <a:pt x="14432" y="1752"/>
                  </a:lnTo>
                  <a:lnTo>
                    <a:pt x="12257" y="2847"/>
                  </a:lnTo>
                  <a:lnTo>
                    <a:pt x="10676" y="4818"/>
                  </a:lnTo>
                  <a:lnTo>
                    <a:pt x="9687" y="5694"/>
                  </a:lnTo>
                  <a:lnTo>
                    <a:pt x="8896" y="7008"/>
                  </a:lnTo>
                  <a:lnTo>
                    <a:pt x="7908" y="8322"/>
                  </a:lnTo>
                  <a:lnTo>
                    <a:pt x="6920" y="9855"/>
                  </a:lnTo>
                  <a:lnTo>
                    <a:pt x="5931" y="11169"/>
                  </a:lnTo>
                  <a:lnTo>
                    <a:pt x="4943" y="12920"/>
                  </a:lnTo>
                  <a:lnTo>
                    <a:pt x="3954" y="14453"/>
                  </a:lnTo>
                  <a:lnTo>
                    <a:pt x="3163" y="16424"/>
                  </a:lnTo>
                  <a:lnTo>
                    <a:pt x="2175" y="17957"/>
                  </a:lnTo>
                  <a:lnTo>
                    <a:pt x="1384" y="19709"/>
                  </a:lnTo>
                  <a:lnTo>
                    <a:pt x="791" y="21460"/>
                  </a:lnTo>
                  <a:lnTo>
                    <a:pt x="396" y="23431"/>
                  </a:lnTo>
                  <a:lnTo>
                    <a:pt x="0" y="24964"/>
                  </a:lnTo>
                  <a:lnTo>
                    <a:pt x="0" y="26716"/>
                  </a:lnTo>
                  <a:lnTo>
                    <a:pt x="198" y="28468"/>
                  </a:lnTo>
                  <a:lnTo>
                    <a:pt x="791" y="30220"/>
                  </a:lnTo>
                  <a:lnTo>
                    <a:pt x="1186" y="31533"/>
                  </a:lnTo>
                  <a:lnTo>
                    <a:pt x="2175" y="-32251"/>
                  </a:lnTo>
                  <a:lnTo>
                    <a:pt x="3163" y="-30718"/>
                  </a:lnTo>
                  <a:lnTo>
                    <a:pt x="4745" y="-28966"/>
                  </a:lnTo>
                  <a:lnTo>
                    <a:pt x="5931" y="-27433"/>
                  </a:lnTo>
                  <a:lnTo>
                    <a:pt x="7710" y="-25900"/>
                  </a:lnTo>
                  <a:lnTo>
                    <a:pt x="9490" y="-24367"/>
                  </a:lnTo>
                  <a:lnTo>
                    <a:pt x="11467" y="-22835"/>
                  </a:lnTo>
                  <a:lnTo>
                    <a:pt x="13246" y="-21740"/>
                  </a:lnTo>
                  <a:lnTo>
                    <a:pt x="15025" y="-20426"/>
                  </a:lnTo>
                  <a:lnTo>
                    <a:pt x="17002" y="-19550"/>
                  </a:lnTo>
                  <a:lnTo>
                    <a:pt x="18979" y="-18455"/>
                  </a:lnTo>
                  <a:lnTo>
                    <a:pt x="20560" y="-18017"/>
                  </a:lnTo>
                  <a:lnTo>
                    <a:pt x="22340" y="-17360"/>
                  </a:lnTo>
                  <a:lnTo>
                    <a:pt x="23921" y="-16922"/>
                  </a:lnTo>
                  <a:lnTo>
                    <a:pt x="25503" y="-16703"/>
                  </a:lnTo>
                  <a:lnTo>
                    <a:pt x="26689" y="-17141"/>
                  </a:lnTo>
                  <a:lnTo>
                    <a:pt x="28666" y="-17360"/>
                  </a:lnTo>
                  <a:lnTo>
                    <a:pt x="29457" y="-17798"/>
                  </a:lnTo>
                  <a:lnTo>
                    <a:pt x="30643" y="-18017"/>
                  </a:lnTo>
                  <a:lnTo>
                    <a:pt x="31829" y="-18455"/>
                  </a:lnTo>
                  <a:lnTo>
                    <a:pt x="-32521" y="-18674"/>
                  </a:lnTo>
                  <a:lnTo>
                    <a:pt x="-31335" y="-19331"/>
                  </a:lnTo>
                  <a:lnTo>
                    <a:pt x="-30149" y="-19769"/>
                  </a:lnTo>
                  <a:lnTo>
                    <a:pt x="-28962" y="-20207"/>
                  </a:lnTo>
                  <a:lnTo>
                    <a:pt x="-27579" y="-20645"/>
                  </a:lnTo>
                  <a:lnTo>
                    <a:pt x="-26392" y="-21302"/>
                  </a:lnTo>
                  <a:lnTo>
                    <a:pt x="-25009" y="-21740"/>
                  </a:lnTo>
                  <a:lnTo>
                    <a:pt x="-23625" y="-22397"/>
                  </a:lnTo>
                  <a:lnTo>
                    <a:pt x="-22241" y="-22835"/>
                  </a:lnTo>
                  <a:lnTo>
                    <a:pt x="-21252" y="-23711"/>
                  </a:lnTo>
                  <a:lnTo>
                    <a:pt x="-20066" y="-24586"/>
                  </a:lnTo>
                  <a:lnTo>
                    <a:pt x="-18880" y="-25462"/>
                  </a:lnTo>
                  <a:lnTo>
                    <a:pt x="-17694" y="-26119"/>
                  </a:lnTo>
                  <a:lnTo>
                    <a:pt x="-16705" y="-26995"/>
                  </a:lnTo>
                  <a:lnTo>
                    <a:pt x="-15717" y="-27871"/>
                  </a:lnTo>
                  <a:lnTo>
                    <a:pt x="-14728" y="-28747"/>
                  </a:lnTo>
                  <a:lnTo>
                    <a:pt x="-13740" y="-29404"/>
                  </a:lnTo>
                  <a:lnTo>
                    <a:pt x="-12356" y="-31375"/>
                  </a:lnTo>
                  <a:lnTo>
                    <a:pt x="-11170" y="32190"/>
                  </a:lnTo>
                  <a:lnTo>
                    <a:pt x="-10577" y="30001"/>
                  </a:lnTo>
                  <a:lnTo>
                    <a:pt x="-10379" y="28030"/>
                  </a:lnTo>
                  <a:lnTo>
                    <a:pt x="-10775" y="26716"/>
                  </a:lnTo>
                  <a:lnTo>
                    <a:pt x="-10972" y="25621"/>
                  </a:lnTo>
                  <a:lnTo>
                    <a:pt x="-11170" y="24307"/>
                  </a:lnTo>
                  <a:lnTo>
                    <a:pt x="-11368" y="23212"/>
                  </a:lnTo>
                  <a:lnTo>
                    <a:pt x="-12158" y="20804"/>
                  </a:lnTo>
                  <a:lnTo>
                    <a:pt x="-12949" y="18614"/>
                  </a:lnTo>
                  <a:lnTo>
                    <a:pt x="-13938" y="16205"/>
                  </a:lnTo>
                  <a:lnTo>
                    <a:pt x="-14926" y="14015"/>
                  </a:lnTo>
                  <a:lnTo>
                    <a:pt x="-16112" y="12044"/>
                  </a:lnTo>
                  <a:lnTo>
                    <a:pt x="-17101" y="10074"/>
                  </a:lnTo>
                  <a:lnTo>
                    <a:pt x="-18485" y="8103"/>
                  </a:lnTo>
                  <a:lnTo>
                    <a:pt x="-19671" y="6351"/>
                  </a:lnTo>
                  <a:lnTo>
                    <a:pt x="-21055" y="4818"/>
                  </a:lnTo>
                  <a:lnTo>
                    <a:pt x="-22439" y="3504"/>
                  </a:lnTo>
                  <a:lnTo>
                    <a:pt x="-23822" y="2190"/>
                  </a:lnTo>
                  <a:lnTo>
                    <a:pt x="-25206" y="1533"/>
                  </a:lnTo>
                  <a:lnTo>
                    <a:pt x="-26590" y="877"/>
                  </a:lnTo>
                  <a:lnTo>
                    <a:pt x="-27776" y="877"/>
                  </a:lnTo>
                  <a:lnTo>
                    <a:pt x="-29160" y="658"/>
                  </a:lnTo>
                  <a:lnTo>
                    <a:pt x="-30544" y="439"/>
                  </a:lnTo>
                  <a:lnTo>
                    <a:pt x="-31928" y="220"/>
                  </a:lnTo>
                  <a:lnTo>
                    <a:pt x="32422" y="220"/>
                  </a:lnTo>
                  <a:lnTo>
                    <a:pt x="31236" y="1"/>
                  </a:lnTo>
                  <a:lnTo>
                    <a:pt x="30050" y="1"/>
                  </a:lnTo>
                  <a:lnTo>
                    <a:pt x="29061" y="1"/>
                  </a:lnTo>
                  <a:lnTo>
                    <a:pt x="28270" y="1"/>
                  </a:lnTo>
                  <a:lnTo>
                    <a:pt x="26491" y="1"/>
                  </a:lnTo>
                  <a:lnTo>
                    <a:pt x="25305" y="1"/>
                  </a:lnTo>
                  <a:lnTo>
                    <a:pt x="24514" y="220"/>
                  </a:lnTo>
                  <a:lnTo>
                    <a:pt x="24514" y="658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Shape 434"/>
            <p:cNvSpPr/>
            <p:nvPr/>
          </p:nvSpPr>
          <p:spPr>
            <a:xfrm>
              <a:off x="7196760" y="4263120"/>
              <a:ext cx="1122840" cy="839520"/>
            </a:xfrm>
            <a:custGeom>
              <a:avLst/>
              <a:gdLst>
                <a:gd name="textAreaLeft" fmla="*/ 0 w 1122840"/>
                <a:gd name="textAreaRight" fmla="*/ 1123200 w 112284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52785" h="46862">
                  <a:moveTo>
                    <a:pt x="23526" y="438"/>
                  </a:moveTo>
                  <a:lnTo>
                    <a:pt x="22933" y="438"/>
                  </a:lnTo>
                  <a:lnTo>
                    <a:pt x="21944" y="438"/>
                  </a:lnTo>
                  <a:lnTo>
                    <a:pt x="20165" y="438"/>
                  </a:lnTo>
                  <a:lnTo>
                    <a:pt x="18188" y="657"/>
                  </a:lnTo>
                  <a:lnTo>
                    <a:pt x="17002" y="657"/>
                  </a:lnTo>
                  <a:lnTo>
                    <a:pt x="16014" y="657"/>
                  </a:lnTo>
                  <a:lnTo>
                    <a:pt x="14827" y="876"/>
                  </a:lnTo>
                  <a:lnTo>
                    <a:pt x="13839" y="1533"/>
                  </a:lnTo>
                  <a:lnTo>
                    <a:pt x="11664" y="2628"/>
                  </a:lnTo>
                  <a:lnTo>
                    <a:pt x="10281" y="4599"/>
                  </a:lnTo>
                  <a:lnTo>
                    <a:pt x="9292" y="5475"/>
                  </a:lnTo>
                  <a:lnTo>
                    <a:pt x="8501" y="6570"/>
                  </a:lnTo>
                  <a:lnTo>
                    <a:pt x="7513" y="7884"/>
                  </a:lnTo>
                  <a:lnTo>
                    <a:pt x="6722" y="9417"/>
                  </a:lnTo>
                  <a:lnTo>
                    <a:pt x="5536" y="10730"/>
                  </a:lnTo>
                  <a:lnTo>
                    <a:pt x="4745" y="12482"/>
                  </a:lnTo>
                  <a:lnTo>
                    <a:pt x="3757" y="14015"/>
                  </a:lnTo>
                  <a:lnTo>
                    <a:pt x="2966" y="15767"/>
                  </a:lnTo>
                  <a:lnTo>
                    <a:pt x="1977" y="17300"/>
                  </a:lnTo>
                  <a:lnTo>
                    <a:pt x="1384" y="19052"/>
                  </a:lnTo>
                  <a:lnTo>
                    <a:pt x="791" y="20584"/>
                  </a:lnTo>
                  <a:lnTo>
                    <a:pt x="396" y="22336"/>
                  </a:lnTo>
                  <a:lnTo>
                    <a:pt x="0" y="23869"/>
                  </a:lnTo>
                  <a:lnTo>
                    <a:pt x="0" y="25621"/>
                  </a:lnTo>
                  <a:lnTo>
                    <a:pt x="198" y="27154"/>
                  </a:lnTo>
                  <a:lnTo>
                    <a:pt x="791" y="28906"/>
                  </a:lnTo>
                  <a:lnTo>
                    <a:pt x="1187" y="30220"/>
                  </a:lnTo>
                  <a:lnTo>
                    <a:pt x="1977" y="31752"/>
                  </a:lnTo>
                  <a:lnTo>
                    <a:pt x="2966" y="-32251"/>
                  </a:lnTo>
                  <a:lnTo>
                    <a:pt x="4350" y="-30499"/>
                  </a:lnTo>
                  <a:lnTo>
                    <a:pt x="5536" y="-29185"/>
                  </a:lnTo>
                  <a:lnTo>
                    <a:pt x="7315" y="-27652"/>
                  </a:lnTo>
                  <a:lnTo>
                    <a:pt x="9094" y="-26119"/>
                  </a:lnTo>
                  <a:lnTo>
                    <a:pt x="10874" y="-24587"/>
                  </a:lnTo>
                  <a:lnTo>
                    <a:pt x="12653" y="-23492"/>
                  </a:lnTo>
                  <a:lnTo>
                    <a:pt x="14432" y="-22178"/>
                  </a:lnTo>
                  <a:lnTo>
                    <a:pt x="16211" y="-21302"/>
                  </a:lnTo>
                  <a:lnTo>
                    <a:pt x="17991" y="-20426"/>
                  </a:lnTo>
                  <a:lnTo>
                    <a:pt x="19572" y="-19988"/>
                  </a:lnTo>
                  <a:lnTo>
                    <a:pt x="21351" y="-19331"/>
                  </a:lnTo>
                  <a:lnTo>
                    <a:pt x="22735" y="-18893"/>
                  </a:lnTo>
                  <a:lnTo>
                    <a:pt x="24317" y="-18674"/>
                  </a:lnTo>
                  <a:lnTo>
                    <a:pt x="25503" y="-19112"/>
                  </a:lnTo>
                  <a:lnTo>
                    <a:pt x="27282" y="-19331"/>
                  </a:lnTo>
                  <a:lnTo>
                    <a:pt x="28271" y="-19769"/>
                  </a:lnTo>
                  <a:lnTo>
                    <a:pt x="29259" y="-19988"/>
                  </a:lnTo>
                  <a:lnTo>
                    <a:pt x="30445" y="-20207"/>
                  </a:lnTo>
                  <a:lnTo>
                    <a:pt x="31631" y="-20426"/>
                  </a:lnTo>
                  <a:lnTo>
                    <a:pt x="-32718" y="-21083"/>
                  </a:lnTo>
                  <a:lnTo>
                    <a:pt x="-31532" y="-21521"/>
                  </a:lnTo>
                  <a:lnTo>
                    <a:pt x="-30346" y="-21959"/>
                  </a:lnTo>
                  <a:lnTo>
                    <a:pt x="-29160" y="-22397"/>
                  </a:lnTo>
                  <a:lnTo>
                    <a:pt x="-27974" y="-23054"/>
                  </a:lnTo>
                  <a:lnTo>
                    <a:pt x="-26590" y="-23492"/>
                  </a:lnTo>
                  <a:lnTo>
                    <a:pt x="-25404" y="-24149"/>
                  </a:lnTo>
                  <a:lnTo>
                    <a:pt x="-24020" y="-24587"/>
                  </a:lnTo>
                  <a:lnTo>
                    <a:pt x="-23031" y="-25462"/>
                  </a:lnTo>
                  <a:lnTo>
                    <a:pt x="-21845" y="-26119"/>
                  </a:lnTo>
                  <a:lnTo>
                    <a:pt x="-20857" y="-26995"/>
                  </a:lnTo>
                  <a:lnTo>
                    <a:pt x="-19671" y="-27652"/>
                  </a:lnTo>
                  <a:lnTo>
                    <a:pt x="-18682" y="-28528"/>
                  </a:lnTo>
                  <a:lnTo>
                    <a:pt x="-17694" y="-29404"/>
                  </a:lnTo>
                  <a:lnTo>
                    <a:pt x="-16705" y="-30280"/>
                  </a:lnTo>
                  <a:lnTo>
                    <a:pt x="-15717" y="-30937"/>
                  </a:lnTo>
                  <a:lnTo>
                    <a:pt x="-14531" y="32628"/>
                  </a:lnTo>
                  <a:lnTo>
                    <a:pt x="-13542" y="30876"/>
                  </a:lnTo>
                  <a:lnTo>
                    <a:pt x="-12949" y="28906"/>
                  </a:lnTo>
                  <a:lnTo>
                    <a:pt x="-12751" y="26935"/>
                  </a:lnTo>
                  <a:lnTo>
                    <a:pt x="-13344" y="24526"/>
                  </a:lnTo>
                  <a:lnTo>
                    <a:pt x="-13740" y="22336"/>
                  </a:lnTo>
                  <a:lnTo>
                    <a:pt x="-14531" y="20147"/>
                  </a:lnTo>
                  <a:lnTo>
                    <a:pt x="-15124" y="17957"/>
                  </a:lnTo>
                  <a:lnTo>
                    <a:pt x="-16112" y="15767"/>
                  </a:lnTo>
                  <a:lnTo>
                    <a:pt x="-16903" y="13577"/>
                  </a:lnTo>
                  <a:lnTo>
                    <a:pt x="-18089" y="11606"/>
                  </a:lnTo>
                  <a:lnTo>
                    <a:pt x="-19078" y="9855"/>
                  </a:lnTo>
                  <a:lnTo>
                    <a:pt x="-20461" y="7884"/>
                  </a:lnTo>
                  <a:lnTo>
                    <a:pt x="-21648" y="6132"/>
                  </a:lnTo>
                  <a:lnTo>
                    <a:pt x="-22834" y="4599"/>
                  </a:lnTo>
                  <a:lnTo>
                    <a:pt x="-24020" y="3504"/>
                  </a:lnTo>
                  <a:lnTo>
                    <a:pt x="-25404" y="2190"/>
                  </a:lnTo>
                  <a:lnTo>
                    <a:pt x="-26788" y="1314"/>
                  </a:lnTo>
                  <a:lnTo>
                    <a:pt x="-28171" y="657"/>
                  </a:lnTo>
                  <a:lnTo>
                    <a:pt x="-29358" y="657"/>
                  </a:lnTo>
                  <a:lnTo>
                    <a:pt x="-30741" y="438"/>
                  </a:lnTo>
                  <a:lnTo>
                    <a:pt x="-32125" y="220"/>
                  </a:lnTo>
                  <a:lnTo>
                    <a:pt x="32224" y="1"/>
                  </a:lnTo>
                  <a:lnTo>
                    <a:pt x="31038" y="1"/>
                  </a:lnTo>
                  <a:lnTo>
                    <a:pt x="28864" y="1"/>
                  </a:lnTo>
                  <a:lnTo>
                    <a:pt x="27084" y="1"/>
                  </a:lnTo>
                  <a:lnTo>
                    <a:pt x="25305" y="1"/>
                  </a:lnTo>
                  <a:lnTo>
                    <a:pt x="24317" y="1"/>
                  </a:lnTo>
                  <a:lnTo>
                    <a:pt x="23526" y="1"/>
                  </a:lnTo>
                  <a:lnTo>
                    <a:pt x="23526" y="438"/>
                  </a:lnTo>
                  <a:close/>
                </a:path>
              </a:pathLst>
            </a:custGeom>
            <a:solidFill>
              <a:srgbClr val="bd6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Shape 435"/>
            <p:cNvSpPr/>
            <p:nvPr/>
          </p:nvSpPr>
          <p:spPr>
            <a:xfrm>
              <a:off x="7221960" y="4282560"/>
              <a:ext cx="1076760" cy="800280"/>
            </a:xfrm>
            <a:custGeom>
              <a:avLst/>
              <a:gdLst>
                <a:gd name="textAreaLeft" fmla="*/ 0 w 1076760"/>
                <a:gd name="textAreaRight" fmla="*/ 1077120 w 10767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50611" h="44672">
                  <a:moveTo>
                    <a:pt x="22340" y="438"/>
                  </a:moveTo>
                  <a:lnTo>
                    <a:pt x="21945" y="438"/>
                  </a:lnTo>
                  <a:lnTo>
                    <a:pt x="20956" y="438"/>
                  </a:lnTo>
                  <a:lnTo>
                    <a:pt x="19177" y="438"/>
                  </a:lnTo>
                  <a:lnTo>
                    <a:pt x="17398" y="657"/>
                  </a:lnTo>
                  <a:lnTo>
                    <a:pt x="16211" y="657"/>
                  </a:lnTo>
                  <a:lnTo>
                    <a:pt x="15223" y="657"/>
                  </a:lnTo>
                  <a:lnTo>
                    <a:pt x="14037" y="876"/>
                  </a:lnTo>
                  <a:lnTo>
                    <a:pt x="13048" y="1533"/>
                  </a:lnTo>
                  <a:lnTo>
                    <a:pt x="11071" y="2628"/>
                  </a:lnTo>
                  <a:lnTo>
                    <a:pt x="9688" y="4380"/>
                  </a:lnTo>
                  <a:lnTo>
                    <a:pt x="8699" y="5037"/>
                  </a:lnTo>
                  <a:lnTo>
                    <a:pt x="7908" y="6351"/>
                  </a:lnTo>
                  <a:lnTo>
                    <a:pt x="7118" y="7446"/>
                  </a:lnTo>
                  <a:lnTo>
                    <a:pt x="6327" y="8979"/>
                  </a:lnTo>
                  <a:lnTo>
                    <a:pt x="5338" y="10292"/>
                  </a:lnTo>
                  <a:lnTo>
                    <a:pt x="4350" y="11606"/>
                  </a:lnTo>
                  <a:lnTo>
                    <a:pt x="3361" y="13139"/>
                  </a:lnTo>
                  <a:lnTo>
                    <a:pt x="2768" y="14891"/>
                  </a:lnTo>
                  <a:lnTo>
                    <a:pt x="1978" y="16205"/>
                  </a:lnTo>
                  <a:lnTo>
                    <a:pt x="1187" y="17957"/>
                  </a:lnTo>
                  <a:lnTo>
                    <a:pt x="594" y="19489"/>
                  </a:lnTo>
                  <a:lnTo>
                    <a:pt x="396" y="21241"/>
                  </a:lnTo>
                  <a:lnTo>
                    <a:pt x="1" y="22774"/>
                  </a:lnTo>
                  <a:lnTo>
                    <a:pt x="1" y="24307"/>
                  </a:lnTo>
                  <a:lnTo>
                    <a:pt x="1" y="25840"/>
                  </a:lnTo>
                  <a:lnTo>
                    <a:pt x="594" y="27592"/>
                  </a:lnTo>
                  <a:lnTo>
                    <a:pt x="989" y="28906"/>
                  </a:lnTo>
                  <a:lnTo>
                    <a:pt x="1780" y="30219"/>
                  </a:lnTo>
                  <a:lnTo>
                    <a:pt x="2768" y="31752"/>
                  </a:lnTo>
                  <a:lnTo>
                    <a:pt x="4152" y="-32251"/>
                  </a:lnTo>
                  <a:lnTo>
                    <a:pt x="5338" y="-30937"/>
                  </a:lnTo>
                  <a:lnTo>
                    <a:pt x="6920" y="-29404"/>
                  </a:lnTo>
                  <a:lnTo>
                    <a:pt x="8699" y="-28090"/>
                  </a:lnTo>
                  <a:lnTo>
                    <a:pt x="10478" y="-26557"/>
                  </a:lnTo>
                  <a:lnTo>
                    <a:pt x="12060" y="-25463"/>
                  </a:lnTo>
                  <a:lnTo>
                    <a:pt x="13839" y="-24368"/>
                  </a:lnTo>
                  <a:lnTo>
                    <a:pt x="15421" y="-23492"/>
                  </a:lnTo>
                  <a:lnTo>
                    <a:pt x="17200" y="-22397"/>
                  </a:lnTo>
                  <a:lnTo>
                    <a:pt x="18781" y="-21959"/>
                  </a:lnTo>
                  <a:lnTo>
                    <a:pt x="20363" y="-21302"/>
                  </a:lnTo>
                  <a:lnTo>
                    <a:pt x="21747" y="-21083"/>
                  </a:lnTo>
                  <a:lnTo>
                    <a:pt x="23328" y="-20864"/>
                  </a:lnTo>
                  <a:lnTo>
                    <a:pt x="24515" y="-21302"/>
                  </a:lnTo>
                  <a:lnTo>
                    <a:pt x="26294" y="-21521"/>
                  </a:lnTo>
                  <a:lnTo>
                    <a:pt x="28073" y="-22178"/>
                  </a:lnTo>
                  <a:lnTo>
                    <a:pt x="30248" y="-22616"/>
                  </a:lnTo>
                  <a:lnTo>
                    <a:pt x="31236" y="-23273"/>
                  </a:lnTo>
                  <a:lnTo>
                    <a:pt x="32422" y="-23711"/>
                  </a:lnTo>
                  <a:lnTo>
                    <a:pt x="-31927" y="-24149"/>
                  </a:lnTo>
                  <a:lnTo>
                    <a:pt x="-30741" y="-24587"/>
                  </a:lnTo>
                  <a:lnTo>
                    <a:pt x="-29555" y="-25244"/>
                  </a:lnTo>
                  <a:lnTo>
                    <a:pt x="-28369" y="-25682"/>
                  </a:lnTo>
                  <a:lnTo>
                    <a:pt x="-27183" y="-26120"/>
                  </a:lnTo>
                  <a:lnTo>
                    <a:pt x="-25799" y="-26557"/>
                  </a:lnTo>
                  <a:lnTo>
                    <a:pt x="-24811" y="-27433"/>
                  </a:lnTo>
                  <a:lnTo>
                    <a:pt x="-23624" y="-28090"/>
                  </a:lnTo>
                  <a:lnTo>
                    <a:pt x="-22636" y="-28747"/>
                  </a:lnTo>
                  <a:lnTo>
                    <a:pt x="-21450" y="-29404"/>
                  </a:lnTo>
                  <a:lnTo>
                    <a:pt x="-19670" y="-30937"/>
                  </a:lnTo>
                  <a:lnTo>
                    <a:pt x="-17891" y="-32470"/>
                  </a:lnTo>
                  <a:lnTo>
                    <a:pt x="-16705" y="31095"/>
                  </a:lnTo>
                  <a:lnTo>
                    <a:pt x="-15717" y="29343"/>
                  </a:lnTo>
                  <a:lnTo>
                    <a:pt x="-15124" y="27373"/>
                  </a:lnTo>
                  <a:lnTo>
                    <a:pt x="-14926" y="25621"/>
                  </a:lnTo>
                  <a:lnTo>
                    <a:pt x="-15519" y="23431"/>
                  </a:lnTo>
                  <a:lnTo>
                    <a:pt x="-15914" y="21241"/>
                  </a:lnTo>
                  <a:lnTo>
                    <a:pt x="-16705" y="19052"/>
                  </a:lnTo>
                  <a:lnTo>
                    <a:pt x="-17298" y="17081"/>
                  </a:lnTo>
                  <a:lnTo>
                    <a:pt x="-18287" y="14891"/>
                  </a:lnTo>
                  <a:lnTo>
                    <a:pt x="-19077" y="12920"/>
                  </a:lnTo>
                  <a:lnTo>
                    <a:pt x="-20066" y="10949"/>
                  </a:lnTo>
                  <a:lnTo>
                    <a:pt x="-21054" y="9197"/>
                  </a:lnTo>
                  <a:lnTo>
                    <a:pt x="-22438" y="7227"/>
                  </a:lnTo>
                  <a:lnTo>
                    <a:pt x="-23624" y="5694"/>
                  </a:lnTo>
                  <a:lnTo>
                    <a:pt x="-24811" y="4161"/>
                  </a:lnTo>
                  <a:lnTo>
                    <a:pt x="-25997" y="3066"/>
                  </a:lnTo>
                  <a:lnTo>
                    <a:pt x="-27381" y="1752"/>
                  </a:lnTo>
                  <a:lnTo>
                    <a:pt x="-28567" y="1095"/>
                  </a:lnTo>
                  <a:lnTo>
                    <a:pt x="-29753" y="657"/>
                  </a:lnTo>
                  <a:lnTo>
                    <a:pt x="-30939" y="657"/>
                  </a:lnTo>
                  <a:lnTo>
                    <a:pt x="-32323" y="438"/>
                  </a:lnTo>
                  <a:lnTo>
                    <a:pt x="32027" y="219"/>
                  </a:lnTo>
                  <a:lnTo>
                    <a:pt x="30841" y="0"/>
                  </a:lnTo>
                  <a:lnTo>
                    <a:pt x="29655" y="0"/>
                  </a:lnTo>
                  <a:lnTo>
                    <a:pt x="27480" y="0"/>
                  </a:lnTo>
                  <a:lnTo>
                    <a:pt x="25898" y="0"/>
                  </a:lnTo>
                  <a:lnTo>
                    <a:pt x="24119" y="0"/>
                  </a:lnTo>
                  <a:lnTo>
                    <a:pt x="23131" y="0"/>
                  </a:lnTo>
                  <a:lnTo>
                    <a:pt x="22340" y="0"/>
                  </a:lnTo>
                  <a:lnTo>
                    <a:pt x="22340" y="438"/>
                  </a:lnTo>
                  <a:close/>
                </a:path>
              </a:pathLst>
            </a:custGeom>
            <a:solidFill>
              <a:srgbClr val="c2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Shape 436"/>
            <p:cNvSpPr/>
            <p:nvPr/>
          </p:nvSpPr>
          <p:spPr>
            <a:xfrm>
              <a:off x="7247160" y="4298400"/>
              <a:ext cx="1026000" cy="76896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48238" h="42921">
                  <a:moveTo>
                    <a:pt x="21352" y="438"/>
                  </a:moveTo>
                  <a:lnTo>
                    <a:pt x="20759" y="438"/>
                  </a:lnTo>
                  <a:lnTo>
                    <a:pt x="19770" y="438"/>
                  </a:lnTo>
                  <a:lnTo>
                    <a:pt x="18189" y="438"/>
                  </a:lnTo>
                  <a:lnTo>
                    <a:pt x="16607" y="657"/>
                  </a:lnTo>
                  <a:lnTo>
                    <a:pt x="15421" y="657"/>
                  </a:lnTo>
                  <a:lnTo>
                    <a:pt x="14432" y="657"/>
                  </a:lnTo>
                  <a:lnTo>
                    <a:pt x="13246" y="876"/>
                  </a:lnTo>
                  <a:lnTo>
                    <a:pt x="12455" y="1533"/>
                  </a:lnTo>
                  <a:lnTo>
                    <a:pt x="10479" y="2409"/>
                  </a:lnTo>
                  <a:lnTo>
                    <a:pt x="9095" y="4161"/>
                  </a:lnTo>
                  <a:lnTo>
                    <a:pt x="8304" y="4818"/>
                  </a:lnTo>
                  <a:lnTo>
                    <a:pt x="7513" y="5913"/>
                  </a:lnTo>
                  <a:lnTo>
                    <a:pt x="6722" y="7227"/>
                  </a:lnTo>
                  <a:lnTo>
                    <a:pt x="5932" y="8540"/>
                  </a:lnTo>
                  <a:lnTo>
                    <a:pt x="4943" y="9854"/>
                  </a:lnTo>
                  <a:lnTo>
                    <a:pt x="4350" y="11168"/>
                  </a:lnTo>
                  <a:lnTo>
                    <a:pt x="3362" y="12701"/>
                  </a:lnTo>
                  <a:lnTo>
                    <a:pt x="2768" y="14453"/>
                  </a:lnTo>
                  <a:lnTo>
                    <a:pt x="1780" y="15767"/>
                  </a:lnTo>
                  <a:lnTo>
                    <a:pt x="1187" y="17300"/>
                  </a:lnTo>
                  <a:lnTo>
                    <a:pt x="594" y="18832"/>
                  </a:lnTo>
                  <a:lnTo>
                    <a:pt x="396" y="20365"/>
                  </a:lnTo>
                  <a:lnTo>
                    <a:pt x="1" y="21898"/>
                  </a:lnTo>
                  <a:lnTo>
                    <a:pt x="1" y="23431"/>
                  </a:lnTo>
                  <a:lnTo>
                    <a:pt x="1" y="24964"/>
                  </a:lnTo>
                  <a:lnTo>
                    <a:pt x="594" y="26497"/>
                  </a:lnTo>
                  <a:lnTo>
                    <a:pt x="989" y="27811"/>
                  </a:lnTo>
                  <a:lnTo>
                    <a:pt x="1780" y="29124"/>
                  </a:lnTo>
                  <a:lnTo>
                    <a:pt x="2768" y="30438"/>
                  </a:lnTo>
                  <a:lnTo>
                    <a:pt x="3955" y="31971"/>
                  </a:lnTo>
                  <a:lnTo>
                    <a:pt x="5141" y="-32251"/>
                  </a:lnTo>
                  <a:lnTo>
                    <a:pt x="6722" y="-30937"/>
                  </a:lnTo>
                  <a:lnTo>
                    <a:pt x="8106" y="-29623"/>
                  </a:lnTo>
                  <a:lnTo>
                    <a:pt x="9885" y="-28090"/>
                  </a:lnTo>
                  <a:lnTo>
                    <a:pt x="11467" y="-27215"/>
                  </a:lnTo>
                  <a:lnTo>
                    <a:pt x="13049" y="-26120"/>
                  </a:lnTo>
                  <a:lnTo>
                    <a:pt x="14630" y="-25244"/>
                  </a:lnTo>
                  <a:lnTo>
                    <a:pt x="16409" y="-24149"/>
                  </a:lnTo>
                  <a:lnTo>
                    <a:pt x="17793" y="-23711"/>
                  </a:lnTo>
                  <a:lnTo>
                    <a:pt x="19375" y="-23054"/>
                  </a:lnTo>
                  <a:lnTo>
                    <a:pt x="20759" y="-22835"/>
                  </a:lnTo>
                  <a:lnTo>
                    <a:pt x="22142" y="-22616"/>
                  </a:lnTo>
                  <a:lnTo>
                    <a:pt x="23131" y="-23054"/>
                  </a:lnTo>
                  <a:lnTo>
                    <a:pt x="24910" y="-23273"/>
                  </a:lnTo>
                  <a:lnTo>
                    <a:pt x="26689" y="-23930"/>
                  </a:lnTo>
                  <a:lnTo>
                    <a:pt x="28864" y="-24368"/>
                  </a:lnTo>
                  <a:lnTo>
                    <a:pt x="29852" y="-24806"/>
                  </a:lnTo>
                  <a:lnTo>
                    <a:pt x="30841" y="-25244"/>
                  </a:lnTo>
                  <a:lnTo>
                    <a:pt x="32027" y="-25682"/>
                  </a:lnTo>
                  <a:lnTo>
                    <a:pt x="-32323" y="-26120"/>
                  </a:lnTo>
                  <a:lnTo>
                    <a:pt x="-31137" y="-26777"/>
                  </a:lnTo>
                  <a:lnTo>
                    <a:pt x="-29950" y="-27215"/>
                  </a:lnTo>
                  <a:lnTo>
                    <a:pt x="-28764" y="-27652"/>
                  </a:lnTo>
                  <a:lnTo>
                    <a:pt x="-27578" y="-28090"/>
                  </a:lnTo>
                  <a:lnTo>
                    <a:pt x="-25601" y="-29623"/>
                  </a:lnTo>
                  <a:lnTo>
                    <a:pt x="-23624" y="-30937"/>
                  </a:lnTo>
                  <a:lnTo>
                    <a:pt x="-21845" y="-32470"/>
                  </a:lnTo>
                  <a:lnTo>
                    <a:pt x="-20066" y="31533"/>
                  </a:lnTo>
                  <a:lnTo>
                    <a:pt x="-18880" y="29781"/>
                  </a:lnTo>
                  <a:lnTo>
                    <a:pt x="-17891" y="28249"/>
                  </a:lnTo>
                  <a:lnTo>
                    <a:pt x="-17496" y="26278"/>
                  </a:lnTo>
                  <a:lnTo>
                    <a:pt x="-17298" y="24526"/>
                  </a:lnTo>
                  <a:lnTo>
                    <a:pt x="-17891" y="22336"/>
                  </a:lnTo>
                  <a:lnTo>
                    <a:pt x="-18286" y="20365"/>
                  </a:lnTo>
                  <a:lnTo>
                    <a:pt x="-18880" y="18394"/>
                  </a:lnTo>
                  <a:lnTo>
                    <a:pt x="-19473" y="16424"/>
                  </a:lnTo>
                  <a:lnTo>
                    <a:pt x="-20461" y="14453"/>
                  </a:lnTo>
                  <a:lnTo>
                    <a:pt x="-21252" y="12482"/>
                  </a:lnTo>
                  <a:lnTo>
                    <a:pt x="-22240" y="10511"/>
                  </a:lnTo>
                  <a:lnTo>
                    <a:pt x="-23229" y="8978"/>
                  </a:lnTo>
                  <a:lnTo>
                    <a:pt x="-24415" y="7008"/>
                  </a:lnTo>
                  <a:lnTo>
                    <a:pt x="-25601" y="5694"/>
                  </a:lnTo>
                  <a:lnTo>
                    <a:pt x="-26787" y="4161"/>
                  </a:lnTo>
                  <a:lnTo>
                    <a:pt x="-27776" y="3066"/>
                  </a:lnTo>
                  <a:lnTo>
                    <a:pt x="-28962" y="1752"/>
                  </a:lnTo>
                  <a:lnTo>
                    <a:pt x="-30148" y="1095"/>
                  </a:lnTo>
                  <a:lnTo>
                    <a:pt x="-31334" y="657"/>
                  </a:lnTo>
                  <a:lnTo>
                    <a:pt x="-32520" y="657"/>
                  </a:lnTo>
                  <a:lnTo>
                    <a:pt x="31829" y="438"/>
                  </a:lnTo>
                  <a:lnTo>
                    <a:pt x="30643" y="219"/>
                  </a:lnTo>
                  <a:lnTo>
                    <a:pt x="29457" y="0"/>
                  </a:lnTo>
                  <a:lnTo>
                    <a:pt x="28469" y="0"/>
                  </a:lnTo>
                  <a:lnTo>
                    <a:pt x="26294" y="0"/>
                  </a:lnTo>
                  <a:lnTo>
                    <a:pt x="24712" y="0"/>
                  </a:lnTo>
                  <a:lnTo>
                    <a:pt x="23131" y="0"/>
                  </a:lnTo>
                  <a:lnTo>
                    <a:pt x="22142" y="0"/>
                  </a:lnTo>
                  <a:lnTo>
                    <a:pt x="21352" y="219"/>
                  </a:lnTo>
                  <a:lnTo>
                    <a:pt x="21352" y="438"/>
                  </a:lnTo>
                  <a:close/>
                </a:path>
              </a:pathLst>
            </a:custGeom>
            <a:solidFill>
              <a:srgbClr val="c97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Shape 437"/>
            <p:cNvSpPr/>
            <p:nvPr/>
          </p:nvSpPr>
          <p:spPr>
            <a:xfrm>
              <a:off x="7268040" y="4313880"/>
              <a:ext cx="979920" cy="733680"/>
            </a:xfrm>
            <a:custGeom>
              <a:avLst/>
              <a:gdLst>
                <a:gd name="textAreaLeft" fmla="*/ 0 w 979920"/>
                <a:gd name="textAreaRight" fmla="*/ 980280 w 97992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46063" h="40950">
                  <a:moveTo>
                    <a:pt x="20560" y="438"/>
                  </a:moveTo>
                  <a:lnTo>
                    <a:pt x="19967" y="438"/>
                  </a:lnTo>
                  <a:lnTo>
                    <a:pt x="18979" y="438"/>
                  </a:lnTo>
                  <a:lnTo>
                    <a:pt x="17397" y="438"/>
                  </a:lnTo>
                  <a:lnTo>
                    <a:pt x="15816" y="657"/>
                  </a:lnTo>
                  <a:lnTo>
                    <a:pt x="13839" y="657"/>
                  </a:lnTo>
                  <a:lnTo>
                    <a:pt x="12060" y="1533"/>
                  </a:lnTo>
                  <a:lnTo>
                    <a:pt x="10083" y="2409"/>
                  </a:lnTo>
                  <a:lnTo>
                    <a:pt x="8896" y="4161"/>
                  </a:lnTo>
                  <a:lnTo>
                    <a:pt x="7315" y="5913"/>
                  </a:lnTo>
                  <a:lnTo>
                    <a:pt x="5733" y="8321"/>
                  </a:lnTo>
                  <a:lnTo>
                    <a:pt x="4745" y="9635"/>
                  </a:lnTo>
                  <a:lnTo>
                    <a:pt x="4152" y="10949"/>
                  </a:lnTo>
                  <a:lnTo>
                    <a:pt x="3163" y="12263"/>
                  </a:lnTo>
                  <a:lnTo>
                    <a:pt x="2570" y="13796"/>
                  </a:lnTo>
                  <a:lnTo>
                    <a:pt x="1779" y="15110"/>
                  </a:lnTo>
                  <a:lnTo>
                    <a:pt x="1186" y="16643"/>
                  </a:lnTo>
                  <a:lnTo>
                    <a:pt x="593" y="18175"/>
                  </a:lnTo>
                  <a:lnTo>
                    <a:pt x="396" y="19708"/>
                  </a:lnTo>
                  <a:lnTo>
                    <a:pt x="0" y="21022"/>
                  </a:lnTo>
                  <a:lnTo>
                    <a:pt x="0" y="22555"/>
                  </a:lnTo>
                  <a:lnTo>
                    <a:pt x="0" y="23869"/>
                  </a:lnTo>
                  <a:lnTo>
                    <a:pt x="593" y="25402"/>
                  </a:lnTo>
                  <a:lnTo>
                    <a:pt x="989" y="26497"/>
                  </a:lnTo>
                  <a:lnTo>
                    <a:pt x="1779" y="27810"/>
                  </a:lnTo>
                  <a:lnTo>
                    <a:pt x="2570" y="29124"/>
                  </a:lnTo>
                  <a:lnTo>
                    <a:pt x="3756" y="30438"/>
                  </a:lnTo>
                  <a:lnTo>
                    <a:pt x="4943" y="31752"/>
                  </a:lnTo>
                  <a:lnTo>
                    <a:pt x="6326" y="-32470"/>
                  </a:lnTo>
                  <a:lnTo>
                    <a:pt x="7710" y="-31156"/>
                  </a:lnTo>
                  <a:lnTo>
                    <a:pt x="9490" y="-29842"/>
                  </a:lnTo>
                  <a:lnTo>
                    <a:pt x="10873" y="-28966"/>
                  </a:lnTo>
                  <a:lnTo>
                    <a:pt x="12455" y="-27872"/>
                  </a:lnTo>
                  <a:lnTo>
                    <a:pt x="14036" y="-26996"/>
                  </a:lnTo>
                  <a:lnTo>
                    <a:pt x="15816" y="-25901"/>
                  </a:lnTo>
                  <a:lnTo>
                    <a:pt x="17200" y="-25463"/>
                  </a:lnTo>
                  <a:lnTo>
                    <a:pt x="18583" y="-25025"/>
                  </a:lnTo>
                  <a:lnTo>
                    <a:pt x="19967" y="-24806"/>
                  </a:lnTo>
                  <a:lnTo>
                    <a:pt x="21351" y="-24587"/>
                  </a:lnTo>
                  <a:lnTo>
                    <a:pt x="22340" y="-25025"/>
                  </a:lnTo>
                  <a:lnTo>
                    <a:pt x="23921" y="-25244"/>
                  </a:lnTo>
                  <a:lnTo>
                    <a:pt x="25503" y="-25682"/>
                  </a:lnTo>
                  <a:lnTo>
                    <a:pt x="27677" y="-26120"/>
                  </a:lnTo>
                  <a:lnTo>
                    <a:pt x="29654" y="-26996"/>
                  </a:lnTo>
                  <a:lnTo>
                    <a:pt x="31829" y="-27653"/>
                  </a:lnTo>
                  <a:lnTo>
                    <a:pt x="-32719" y="-28309"/>
                  </a:lnTo>
                  <a:lnTo>
                    <a:pt x="-31532" y="-28747"/>
                  </a:lnTo>
                  <a:lnTo>
                    <a:pt x="-30346" y="-29185"/>
                  </a:lnTo>
                  <a:lnTo>
                    <a:pt x="-29160" y="-29623"/>
                  </a:lnTo>
                  <a:lnTo>
                    <a:pt x="-27381" y="-30937"/>
                  </a:lnTo>
                  <a:lnTo>
                    <a:pt x="-25404" y="-32251"/>
                  </a:lnTo>
                  <a:lnTo>
                    <a:pt x="-23625" y="31752"/>
                  </a:lnTo>
                  <a:lnTo>
                    <a:pt x="-22043" y="30438"/>
                  </a:lnTo>
                  <a:lnTo>
                    <a:pt x="-21055" y="28686"/>
                  </a:lnTo>
                  <a:lnTo>
                    <a:pt x="-20066" y="26935"/>
                  </a:lnTo>
                  <a:lnTo>
                    <a:pt x="-19671" y="25183"/>
                  </a:lnTo>
                  <a:lnTo>
                    <a:pt x="-19473" y="23650"/>
                  </a:lnTo>
                  <a:lnTo>
                    <a:pt x="-19869" y="21679"/>
                  </a:lnTo>
                  <a:lnTo>
                    <a:pt x="-20264" y="19708"/>
                  </a:lnTo>
                  <a:lnTo>
                    <a:pt x="-20857" y="17737"/>
                  </a:lnTo>
                  <a:lnTo>
                    <a:pt x="-21450" y="15767"/>
                  </a:lnTo>
                  <a:lnTo>
                    <a:pt x="-22439" y="13796"/>
                  </a:lnTo>
                  <a:lnTo>
                    <a:pt x="-23229" y="11825"/>
                  </a:lnTo>
                  <a:lnTo>
                    <a:pt x="-24218" y="10073"/>
                  </a:lnTo>
                  <a:lnTo>
                    <a:pt x="-25009" y="8540"/>
                  </a:lnTo>
                  <a:lnTo>
                    <a:pt x="-26195" y="6789"/>
                  </a:lnTo>
                  <a:lnTo>
                    <a:pt x="-27183" y="5256"/>
                  </a:lnTo>
                  <a:lnTo>
                    <a:pt x="-28369" y="3942"/>
                  </a:lnTo>
                  <a:lnTo>
                    <a:pt x="-29358" y="2847"/>
                  </a:lnTo>
                  <a:lnTo>
                    <a:pt x="-30544" y="1752"/>
                  </a:lnTo>
                  <a:lnTo>
                    <a:pt x="-31730" y="1095"/>
                  </a:lnTo>
                  <a:lnTo>
                    <a:pt x="32620" y="657"/>
                  </a:lnTo>
                  <a:lnTo>
                    <a:pt x="31631" y="657"/>
                  </a:lnTo>
                  <a:lnTo>
                    <a:pt x="30445" y="438"/>
                  </a:lnTo>
                  <a:lnTo>
                    <a:pt x="29259" y="438"/>
                  </a:lnTo>
                  <a:lnTo>
                    <a:pt x="28073" y="219"/>
                  </a:lnTo>
                  <a:lnTo>
                    <a:pt x="27084" y="219"/>
                  </a:lnTo>
                  <a:lnTo>
                    <a:pt x="25107" y="219"/>
                  </a:lnTo>
                  <a:lnTo>
                    <a:pt x="23526" y="219"/>
                  </a:lnTo>
                  <a:lnTo>
                    <a:pt x="22142" y="0"/>
                  </a:lnTo>
                  <a:lnTo>
                    <a:pt x="21153" y="0"/>
                  </a:lnTo>
                  <a:lnTo>
                    <a:pt x="20560" y="219"/>
                  </a:lnTo>
                  <a:lnTo>
                    <a:pt x="20560" y="438"/>
                  </a:lnTo>
                  <a:close/>
                </a:path>
              </a:pathLst>
            </a:custGeom>
            <a:solidFill>
              <a:srgbClr val="cf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Shape 438"/>
            <p:cNvSpPr/>
            <p:nvPr/>
          </p:nvSpPr>
          <p:spPr>
            <a:xfrm>
              <a:off x="7293240" y="4333680"/>
              <a:ext cx="933480" cy="69840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3889" h="38979">
                  <a:moveTo>
                    <a:pt x="19374" y="438"/>
                  </a:moveTo>
                  <a:lnTo>
                    <a:pt x="18979" y="438"/>
                  </a:lnTo>
                  <a:lnTo>
                    <a:pt x="18188" y="438"/>
                  </a:lnTo>
                  <a:lnTo>
                    <a:pt x="16607" y="438"/>
                  </a:lnTo>
                  <a:lnTo>
                    <a:pt x="15025" y="657"/>
                  </a:lnTo>
                  <a:lnTo>
                    <a:pt x="13048" y="657"/>
                  </a:lnTo>
                  <a:lnTo>
                    <a:pt x="11269" y="1314"/>
                  </a:lnTo>
                  <a:lnTo>
                    <a:pt x="9490" y="2190"/>
                  </a:lnTo>
                  <a:lnTo>
                    <a:pt x="8501" y="3723"/>
                  </a:lnTo>
                  <a:lnTo>
                    <a:pt x="6920" y="5475"/>
                  </a:lnTo>
                  <a:lnTo>
                    <a:pt x="5536" y="7664"/>
                  </a:lnTo>
                  <a:lnTo>
                    <a:pt x="4547" y="8978"/>
                  </a:lnTo>
                  <a:lnTo>
                    <a:pt x="3757" y="10292"/>
                  </a:lnTo>
                  <a:lnTo>
                    <a:pt x="2966" y="11606"/>
                  </a:lnTo>
                  <a:lnTo>
                    <a:pt x="2373" y="13139"/>
                  </a:lnTo>
                  <a:lnTo>
                    <a:pt x="1582" y="14453"/>
                  </a:lnTo>
                  <a:lnTo>
                    <a:pt x="989" y="15767"/>
                  </a:lnTo>
                  <a:lnTo>
                    <a:pt x="396" y="17080"/>
                  </a:lnTo>
                  <a:lnTo>
                    <a:pt x="198" y="18613"/>
                  </a:lnTo>
                  <a:lnTo>
                    <a:pt x="0" y="19927"/>
                  </a:lnTo>
                  <a:lnTo>
                    <a:pt x="0" y="21241"/>
                  </a:lnTo>
                  <a:lnTo>
                    <a:pt x="0" y="22555"/>
                  </a:lnTo>
                  <a:lnTo>
                    <a:pt x="593" y="24088"/>
                  </a:lnTo>
                  <a:lnTo>
                    <a:pt x="989" y="25183"/>
                  </a:lnTo>
                  <a:lnTo>
                    <a:pt x="1582" y="26496"/>
                  </a:lnTo>
                  <a:lnTo>
                    <a:pt x="2373" y="27810"/>
                  </a:lnTo>
                  <a:lnTo>
                    <a:pt x="3559" y="29124"/>
                  </a:lnTo>
                  <a:lnTo>
                    <a:pt x="4745" y="30219"/>
                  </a:lnTo>
                  <a:lnTo>
                    <a:pt x="6129" y="31533"/>
                  </a:lnTo>
                  <a:lnTo>
                    <a:pt x="7513" y="-32689"/>
                  </a:lnTo>
                  <a:lnTo>
                    <a:pt x="9094" y="-31375"/>
                  </a:lnTo>
                  <a:lnTo>
                    <a:pt x="10478" y="-30499"/>
                  </a:lnTo>
                  <a:lnTo>
                    <a:pt x="12060" y="-29623"/>
                  </a:lnTo>
                  <a:lnTo>
                    <a:pt x="13444" y="-28748"/>
                  </a:lnTo>
                  <a:lnTo>
                    <a:pt x="15025" y="-27872"/>
                  </a:lnTo>
                  <a:lnTo>
                    <a:pt x="16409" y="-27434"/>
                  </a:lnTo>
                  <a:lnTo>
                    <a:pt x="17793" y="-26996"/>
                  </a:lnTo>
                  <a:lnTo>
                    <a:pt x="18979" y="-26777"/>
                  </a:lnTo>
                  <a:lnTo>
                    <a:pt x="20165" y="-26558"/>
                  </a:lnTo>
                  <a:lnTo>
                    <a:pt x="21154" y="-26996"/>
                  </a:lnTo>
                  <a:lnTo>
                    <a:pt x="22735" y="-27215"/>
                  </a:lnTo>
                  <a:lnTo>
                    <a:pt x="24317" y="-27653"/>
                  </a:lnTo>
                  <a:lnTo>
                    <a:pt x="26294" y="-28091"/>
                  </a:lnTo>
                  <a:lnTo>
                    <a:pt x="28073" y="-28967"/>
                  </a:lnTo>
                  <a:lnTo>
                    <a:pt x="30248" y="-29842"/>
                  </a:lnTo>
                  <a:lnTo>
                    <a:pt x="32224" y="-30718"/>
                  </a:lnTo>
                  <a:lnTo>
                    <a:pt x="-31137" y="-31594"/>
                  </a:lnTo>
                  <a:lnTo>
                    <a:pt x="-29358" y="32628"/>
                  </a:lnTo>
                  <a:lnTo>
                    <a:pt x="-27381" y="31314"/>
                  </a:lnTo>
                  <a:lnTo>
                    <a:pt x="-25799" y="30000"/>
                  </a:lnTo>
                  <a:lnTo>
                    <a:pt x="-24218" y="28686"/>
                  </a:lnTo>
                  <a:lnTo>
                    <a:pt x="-23229" y="26934"/>
                  </a:lnTo>
                  <a:lnTo>
                    <a:pt x="-22241" y="25402"/>
                  </a:lnTo>
                  <a:lnTo>
                    <a:pt x="-21845" y="23869"/>
                  </a:lnTo>
                  <a:lnTo>
                    <a:pt x="-21648" y="22336"/>
                  </a:lnTo>
                  <a:lnTo>
                    <a:pt x="-22043" y="20365"/>
                  </a:lnTo>
                  <a:lnTo>
                    <a:pt x="-22438" y="18613"/>
                  </a:lnTo>
                  <a:lnTo>
                    <a:pt x="-23031" y="16642"/>
                  </a:lnTo>
                  <a:lnTo>
                    <a:pt x="-23625" y="14891"/>
                  </a:lnTo>
                  <a:lnTo>
                    <a:pt x="-24613" y="12920"/>
                  </a:lnTo>
                  <a:lnTo>
                    <a:pt x="-25404" y="11168"/>
                  </a:lnTo>
                  <a:lnTo>
                    <a:pt x="-26195" y="9416"/>
                  </a:lnTo>
                  <a:lnTo>
                    <a:pt x="-26985" y="8102"/>
                  </a:lnTo>
                  <a:lnTo>
                    <a:pt x="-28172" y="6350"/>
                  </a:lnTo>
                  <a:lnTo>
                    <a:pt x="-29160" y="5037"/>
                  </a:lnTo>
                  <a:lnTo>
                    <a:pt x="-30346" y="3723"/>
                  </a:lnTo>
                  <a:lnTo>
                    <a:pt x="-31335" y="2847"/>
                  </a:lnTo>
                  <a:lnTo>
                    <a:pt x="32027" y="1095"/>
                  </a:lnTo>
                  <a:lnTo>
                    <a:pt x="30050" y="657"/>
                  </a:lnTo>
                  <a:lnTo>
                    <a:pt x="28864" y="438"/>
                  </a:lnTo>
                  <a:lnTo>
                    <a:pt x="27677" y="219"/>
                  </a:lnTo>
                  <a:lnTo>
                    <a:pt x="26689" y="0"/>
                  </a:lnTo>
                  <a:lnTo>
                    <a:pt x="25701" y="0"/>
                  </a:lnTo>
                  <a:lnTo>
                    <a:pt x="23921" y="0"/>
                  </a:lnTo>
                  <a:lnTo>
                    <a:pt x="22340" y="0"/>
                  </a:lnTo>
                  <a:lnTo>
                    <a:pt x="20956" y="0"/>
                  </a:lnTo>
                  <a:lnTo>
                    <a:pt x="19967" y="0"/>
                  </a:lnTo>
                  <a:lnTo>
                    <a:pt x="19374" y="0"/>
                  </a:lnTo>
                  <a:lnTo>
                    <a:pt x="19374" y="438"/>
                  </a:lnTo>
                  <a:close/>
                </a:path>
              </a:pathLst>
            </a:custGeom>
            <a:solidFill>
              <a:srgbClr val="d68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Shape 439"/>
            <p:cNvSpPr/>
            <p:nvPr/>
          </p:nvSpPr>
          <p:spPr>
            <a:xfrm>
              <a:off x="7314480" y="4353120"/>
              <a:ext cx="887400" cy="6591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41715" h="36789">
                  <a:moveTo>
                    <a:pt x="18584" y="438"/>
                  </a:moveTo>
                  <a:lnTo>
                    <a:pt x="18189" y="438"/>
                  </a:lnTo>
                  <a:lnTo>
                    <a:pt x="17398" y="438"/>
                  </a:lnTo>
                  <a:lnTo>
                    <a:pt x="16014" y="219"/>
                  </a:lnTo>
                  <a:lnTo>
                    <a:pt x="14432" y="438"/>
                  </a:lnTo>
                  <a:lnTo>
                    <a:pt x="12653" y="438"/>
                  </a:lnTo>
                  <a:lnTo>
                    <a:pt x="10874" y="1095"/>
                  </a:lnTo>
                  <a:lnTo>
                    <a:pt x="9095" y="1971"/>
                  </a:lnTo>
                  <a:lnTo>
                    <a:pt x="8106" y="3504"/>
                  </a:lnTo>
                  <a:lnTo>
                    <a:pt x="6722" y="5255"/>
                  </a:lnTo>
                  <a:lnTo>
                    <a:pt x="5141" y="7226"/>
                  </a:lnTo>
                  <a:lnTo>
                    <a:pt x="4350" y="8321"/>
                  </a:lnTo>
                  <a:lnTo>
                    <a:pt x="3559" y="9635"/>
                  </a:lnTo>
                  <a:lnTo>
                    <a:pt x="2966" y="10949"/>
                  </a:lnTo>
                  <a:lnTo>
                    <a:pt x="2373" y="12263"/>
                  </a:lnTo>
                  <a:lnTo>
                    <a:pt x="1582" y="13577"/>
                  </a:lnTo>
                  <a:lnTo>
                    <a:pt x="989" y="14891"/>
                  </a:lnTo>
                  <a:lnTo>
                    <a:pt x="594" y="16204"/>
                  </a:lnTo>
                  <a:lnTo>
                    <a:pt x="396" y="17518"/>
                  </a:lnTo>
                  <a:lnTo>
                    <a:pt x="1" y="18832"/>
                  </a:lnTo>
                  <a:lnTo>
                    <a:pt x="1" y="20146"/>
                  </a:lnTo>
                  <a:lnTo>
                    <a:pt x="1" y="21460"/>
                  </a:lnTo>
                  <a:lnTo>
                    <a:pt x="594" y="22774"/>
                  </a:lnTo>
                  <a:lnTo>
                    <a:pt x="1582" y="24964"/>
                  </a:lnTo>
                  <a:lnTo>
                    <a:pt x="3559" y="27372"/>
                  </a:lnTo>
                  <a:lnTo>
                    <a:pt x="4548" y="28467"/>
                  </a:lnTo>
                  <a:lnTo>
                    <a:pt x="5734" y="29781"/>
                  </a:lnTo>
                  <a:lnTo>
                    <a:pt x="7118" y="30876"/>
                  </a:lnTo>
                  <a:lnTo>
                    <a:pt x="8699" y="32190"/>
                  </a:lnTo>
                  <a:lnTo>
                    <a:pt x="9886" y="-32470"/>
                  </a:lnTo>
                  <a:lnTo>
                    <a:pt x="11467" y="-31594"/>
                  </a:lnTo>
                  <a:lnTo>
                    <a:pt x="12653" y="-30937"/>
                  </a:lnTo>
                  <a:lnTo>
                    <a:pt x="14235" y="-30062"/>
                  </a:lnTo>
                  <a:lnTo>
                    <a:pt x="15619" y="-29624"/>
                  </a:lnTo>
                  <a:lnTo>
                    <a:pt x="17003" y="-29186"/>
                  </a:lnTo>
                  <a:lnTo>
                    <a:pt x="18189" y="-28967"/>
                  </a:lnTo>
                  <a:lnTo>
                    <a:pt x="19375" y="-28748"/>
                  </a:lnTo>
                  <a:lnTo>
                    <a:pt x="20363" y="-29186"/>
                  </a:lnTo>
                  <a:lnTo>
                    <a:pt x="21747" y="-29405"/>
                  </a:lnTo>
                  <a:lnTo>
                    <a:pt x="23329" y="-29843"/>
                  </a:lnTo>
                  <a:lnTo>
                    <a:pt x="25108" y="-30281"/>
                  </a:lnTo>
                  <a:lnTo>
                    <a:pt x="26887" y="-31156"/>
                  </a:lnTo>
                  <a:lnTo>
                    <a:pt x="28864" y="-31813"/>
                  </a:lnTo>
                  <a:lnTo>
                    <a:pt x="30643" y="-32689"/>
                  </a:lnTo>
                  <a:lnTo>
                    <a:pt x="-32718" y="31971"/>
                  </a:lnTo>
                  <a:lnTo>
                    <a:pt x="-30939" y="30657"/>
                  </a:lnTo>
                  <a:lnTo>
                    <a:pt x="-29160" y="29562"/>
                  </a:lnTo>
                  <a:lnTo>
                    <a:pt x="-27578" y="28248"/>
                  </a:lnTo>
                  <a:lnTo>
                    <a:pt x="-26194" y="27153"/>
                  </a:lnTo>
                  <a:lnTo>
                    <a:pt x="-25206" y="25620"/>
                  </a:lnTo>
                  <a:lnTo>
                    <a:pt x="-24415" y="24088"/>
                  </a:lnTo>
                  <a:lnTo>
                    <a:pt x="-24019" y="22555"/>
                  </a:lnTo>
                  <a:lnTo>
                    <a:pt x="-23822" y="21022"/>
                  </a:lnTo>
                  <a:lnTo>
                    <a:pt x="-24217" y="19270"/>
                  </a:lnTo>
                  <a:lnTo>
                    <a:pt x="-24613" y="17518"/>
                  </a:lnTo>
                  <a:lnTo>
                    <a:pt x="-25206" y="15766"/>
                  </a:lnTo>
                  <a:lnTo>
                    <a:pt x="-25799" y="14015"/>
                  </a:lnTo>
                  <a:lnTo>
                    <a:pt x="-26590" y="12263"/>
                  </a:lnTo>
                  <a:lnTo>
                    <a:pt x="-27380" y="10730"/>
                  </a:lnTo>
                  <a:lnTo>
                    <a:pt x="-28171" y="8978"/>
                  </a:lnTo>
                  <a:lnTo>
                    <a:pt x="-28962" y="7664"/>
                  </a:lnTo>
                  <a:lnTo>
                    <a:pt x="-29950" y="6131"/>
                  </a:lnTo>
                  <a:lnTo>
                    <a:pt x="-30939" y="4818"/>
                  </a:lnTo>
                  <a:lnTo>
                    <a:pt x="-31927" y="3504"/>
                  </a:lnTo>
                  <a:lnTo>
                    <a:pt x="32620" y="2628"/>
                  </a:lnTo>
                  <a:lnTo>
                    <a:pt x="30446" y="876"/>
                  </a:lnTo>
                  <a:lnTo>
                    <a:pt x="28666" y="438"/>
                  </a:lnTo>
                  <a:lnTo>
                    <a:pt x="26492" y="219"/>
                  </a:lnTo>
                  <a:lnTo>
                    <a:pt x="24713" y="0"/>
                  </a:lnTo>
                  <a:lnTo>
                    <a:pt x="22736" y="0"/>
                  </a:lnTo>
                  <a:lnTo>
                    <a:pt x="21352" y="0"/>
                  </a:lnTo>
                  <a:lnTo>
                    <a:pt x="19968" y="0"/>
                  </a:lnTo>
                  <a:lnTo>
                    <a:pt x="19177" y="0"/>
                  </a:lnTo>
                  <a:lnTo>
                    <a:pt x="18584" y="0"/>
                  </a:lnTo>
                  <a:lnTo>
                    <a:pt x="18584" y="438"/>
                  </a:lnTo>
                  <a:close/>
                </a:path>
              </a:pathLst>
            </a:custGeom>
            <a:solidFill>
              <a:srgbClr val="db9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Shape 440"/>
            <p:cNvSpPr/>
            <p:nvPr/>
          </p:nvSpPr>
          <p:spPr>
            <a:xfrm>
              <a:off x="7339680" y="4368960"/>
              <a:ext cx="837000" cy="6278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w="39342" h="35038">
                  <a:moveTo>
                    <a:pt x="17595" y="439"/>
                  </a:moveTo>
                  <a:lnTo>
                    <a:pt x="17199" y="439"/>
                  </a:lnTo>
                  <a:lnTo>
                    <a:pt x="16409" y="439"/>
                  </a:lnTo>
                  <a:lnTo>
                    <a:pt x="15025" y="220"/>
                  </a:lnTo>
                  <a:lnTo>
                    <a:pt x="13641" y="439"/>
                  </a:lnTo>
                  <a:lnTo>
                    <a:pt x="11862" y="439"/>
                  </a:lnTo>
                  <a:lnTo>
                    <a:pt x="10280" y="1096"/>
                  </a:lnTo>
                  <a:lnTo>
                    <a:pt x="8699" y="1972"/>
                  </a:lnTo>
                  <a:lnTo>
                    <a:pt x="7710" y="3505"/>
                  </a:lnTo>
                  <a:lnTo>
                    <a:pt x="6326" y="5037"/>
                  </a:lnTo>
                  <a:lnTo>
                    <a:pt x="4942" y="7008"/>
                  </a:lnTo>
                  <a:lnTo>
                    <a:pt x="4152" y="8103"/>
                  </a:lnTo>
                  <a:lnTo>
                    <a:pt x="3559" y="9198"/>
                  </a:lnTo>
                  <a:lnTo>
                    <a:pt x="2965" y="10512"/>
                  </a:lnTo>
                  <a:lnTo>
                    <a:pt x="2372" y="11826"/>
                  </a:lnTo>
                  <a:lnTo>
                    <a:pt x="1582" y="12921"/>
                  </a:lnTo>
                  <a:lnTo>
                    <a:pt x="988" y="14235"/>
                  </a:lnTo>
                  <a:lnTo>
                    <a:pt x="593" y="15329"/>
                  </a:lnTo>
                  <a:lnTo>
                    <a:pt x="395" y="16643"/>
                  </a:lnTo>
                  <a:lnTo>
                    <a:pt x="0" y="17738"/>
                  </a:lnTo>
                  <a:lnTo>
                    <a:pt x="0" y="19052"/>
                  </a:lnTo>
                  <a:lnTo>
                    <a:pt x="0" y="20366"/>
                  </a:lnTo>
                  <a:lnTo>
                    <a:pt x="593" y="21680"/>
                  </a:lnTo>
                  <a:lnTo>
                    <a:pt x="1582" y="23651"/>
                  </a:lnTo>
                  <a:lnTo>
                    <a:pt x="3361" y="26059"/>
                  </a:lnTo>
                  <a:lnTo>
                    <a:pt x="4349" y="27154"/>
                  </a:lnTo>
                  <a:lnTo>
                    <a:pt x="5535" y="28468"/>
                  </a:lnTo>
                  <a:lnTo>
                    <a:pt x="6722" y="29563"/>
                  </a:lnTo>
                  <a:lnTo>
                    <a:pt x="8105" y="30658"/>
                  </a:lnTo>
                  <a:lnTo>
                    <a:pt x="9292" y="31534"/>
                  </a:lnTo>
                  <a:lnTo>
                    <a:pt x="10675" y="32410"/>
                  </a:lnTo>
                  <a:lnTo>
                    <a:pt x="12059" y="-32469"/>
                  </a:lnTo>
                  <a:lnTo>
                    <a:pt x="13443" y="-31812"/>
                  </a:lnTo>
                  <a:lnTo>
                    <a:pt x="14629" y="-31374"/>
                  </a:lnTo>
                  <a:lnTo>
                    <a:pt x="15816" y="-30937"/>
                  </a:lnTo>
                  <a:lnTo>
                    <a:pt x="17002" y="-30718"/>
                  </a:lnTo>
                  <a:lnTo>
                    <a:pt x="18188" y="-30499"/>
                  </a:lnTo>
                  <a:lnTo>
                    <a:pt x="19176" y="-30937"/>
                  </a:lnTo>
                  <a:lnTo>
                    <a:pt x="20362" y="-31156"/>
                  </a:lnTo>
                  <a:lnTo>
                    <a:pt x="21746" y="-31593"/>
                  </a:lnTo>
                  <a:lnTo>
                    <a:pt x="23526" y="-32031"/>
                  </a:lnTo>
                  <a:lnTo>
                    <a:pt x="25305" y="-32688"/>
                  </a:lnTo>
                  <a:lnTo>
                    <a:pt x="27084" y="32191"/>
                  </a:lnTo>
                  <a:lnTo>
                    <a:pt x="29061" y="31315"/>
                  </a:lnTo>
                  <a:lnTo>
                    <a:pt x="31038" y="30439"/>
                  </a:lnTo>
                  <a:lnTo>
                    <a:pt x="32619" y="29344"/>
                  </a:lnTo>
                  <a:lnTo>
                    <a:pt x="-31137" y="28249"/>
                  </a:lnTo>
                  <a:lnTo>
                    <a:pt x="-29753" y="26935"/>
                  </a:lnTo>
                  <a:lnTo>
                    <a:pt x="-28370" y="25840"/>
                  </a:lnTo>
                  <a:lnTo>
                    <a:pt x="-27381" y="24308"/>
                  </a:lnTo>
                  <a:lnTo>
                    <a:pt x="-26788" y="22994"/>
                  </a:lnTo>
                  <a:lnTo>
                    <a:pt x="-26393" y="21461"/>
                  </a:lnTo>
                  <a:lnTo>
                    <a:pt x="-26195" y="20147"/>
                  </a:lnTo>
                  <a:lnTo>
                    <a:pt x="-26590" y="18395"/>
                  </a:lnTo>
                  <a:lnTo>
                    <a:pt x="-26986" y="16643"/>
                  </a:lnTo>
                  <a:lnTo>
                    <a:pt x="-27579" y="14891"/>
                  </a:lnTo>
                  <a:lnTo>
                    <a:pt x="-27974" y="13359"/>
                  </a:lnTo>
                  <a:lnTo>
                    <a:pt x="-28765" y="11607"/>
                  </a:lnTo>
                  <a:lnTo>
                    <a:pt x="-29358" y="10074"/>
                  </a:lnTo>
                  <a:lnTo>
                    <a:pt x="-30149" y="8541"/>
                  </a:lnTo>
                  <a:lnTo>
                    <a:pt x="-30940" y="7227"/>
                  </a:lnTo>
                  <a:lnTo>
                    <a:pt x="-31928" y="5694"/>
                  </a:lnTo>
                  <a:lnTo>
                    <a:pt x="32619" y="4599"/>
                  </a:lnTo>
                  <a:lnTo>
                    <a:pt x="31631" y="3286"/>
                  </a:lnTo>
                  <a:lnTo>
                    <a:pt x="30840" y="2629"/>
                  </a:lnTo>
                  <a:lnTo>
                    <a:pt x="28863" y="1096"/>
                  </a:lnTo>
                  <a:lnTo>
                    <a:pt x="27084" y="658"/>
                  </a:lnTo>
                  <a:lnTo>
                    <a:pt x="25107" y="439"/>
                  </a:lnTo>
                  <a:lnTo>
                    <a:pt x="23328" y="220"/>
                  </a:lnTo>
                  <a:lnTo>
                    <a:pt x="21549" y="220"/>
                  </a:lnTo>
                  <a:lnTo>
                    <a:pt x="20165" y="220"/>
                  </a:lnTo>
                  <a:lnTo>
                    <a:pt x="18979" y="1"/>
                  </a:lnTo>
                  <a:lnTo>
                    <a:pt x="18188" y="1"/>
                  </a:lnTo>
                  <a:lnTo>
                    <a:pt x="17595" y="220"/>
                  </a:lnTo>
                  <a:lnTo>
                    <a:pt x="17595" y="439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Shape 441"/>
            <p:cNvSpPr/>
            <p:nvPr/>
          </p:nvSpPr>
          <p:spPr>
            <a:xfrm>
              <a:off x="8058960" y="5397120"/>
              <a:ext cx="134280" cy="101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327" h="5694">
                  <a:moveTo>
                    <a:pt x="2768" y="4161"/>
                  </a:moveTo>
                  <a:lnTo>
                    <a:pt x="3164" y="4161"/>
                  </a:lnTo>
                  <a:lnTo>
                    <a:pt x="3559" y="4380"/>
                  </a:lnTo>
                  <a:lnTo>
                    <a:pt x="3954" y="2847"/>
                  </a:lnTo>
                  <a:lnTo>
                    <a:pt x="4350" y="3066"/>
                  </a:lnTo>
                  <a:lnTo>
                    <a:pt x="4745" y="3066"/>
                  </a:lnTo>
                  <a:lnTo>
                    <a:pt x="5141" y="2409"/>
                  </a:lnTo>
                  <a:lnTo>
                    <a:pt x="5536" y="2847"/>
                  </a:lnTo>
                  <a:lnTo>
                    <a:pt x="6327" y="2628"/>
                  </a:lnTo>
                  <a:lnTo>
                    <a:pt x="6327" y="1314"/>
                  </a:lnTo>
                  <a:lnTo>
                    <a:pt x="6327" y="0"/>
                  </a:lnTo>
                  <a:lnTo>
                    <a:pt x="6129" y="1314"/>
                  </a:lnTo>
                  <a:lnTo>
                    <a:pt x="5734" y="2409"/>
                  </a:lnTo>
                  <a:lnTo>
                    <a:pt x="5338" y="1752"/>
                  </a:lnTo>
                  <a:lnTo>
                    <a:pt x="4943" y="1314"/>
                  </a:lnTo>
                  <a:lnTo>
                    <a:pt x="4745" y="1971"/>
                  </a:lnTo>
                  <a:lnTo>
                    <a:pt x="4548" y="2628"/>
                  </a:lnTo>
                  <a:lnTo>
                    <a:pt x="4152" y="2190"/>
                  </a:lnTo>
                  <a:lnTo>
                    <a:pt x="3757" y="2190"/>
                  </a:lnTo>
                  <a:lnTo>
                    <a:pt x="3559" y="2847"/>
                  </a:lnTo>
                  <a:lnTo>
                    <a:pt x="3361" y="3723"/>
                  </a:lnTo>
                  <a:lnTo>
                    <a:pt x="2571" y="3504"/>
                  </a:lnTo>
                  <a:lnTo>
                    <a:pt x="2175" y="4380"/>
                  </a:lnTo>
                  <a:lnTo>
                    <a:pt x="1978" y="5256"/>
                  </a:lnTo>
                  <a:lnTo>
                    <a:pt x="989" y="5037"/>
                  </a:lnTo>
                  <a:lnTo>
                    <a:pt x="198" y="4818"/>
                  </a:lnTo>
                  <a:lnTo>
                    <a:pt x="1" y="4818"/>
                  </a:lnTo>
                  <a:lnTo>
                    <a:pt x="198" y="5256"/>
                  </a:lnTo>
                  <a:lnTo>
                    <a:pt x="791" y="5694"/>
                  </a:lnTo>
                  <a:lnTo>
                    <a:pt x="1187" y="5256"/>
                  </a:lnTo>
                  <a:lnTo>
                    <a:pt x="1978" y="5256"/>
                  </a:lnTo>
                  <a:lnTo>
                    <a:pt x="2571" y="5037"/>
                  </a:lnTo>
                  <a:lnTo>
                    <a:pt x="2768" y="4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1160" bIns="11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Shape 442"/>
            <p:cNvSpPr/>
            <p:nvPr/>
          </p:nvSpPr>
          <p:spPr>
            <a:xfrm>
              <a:off x="7360560" y="5420520"/>
              <a:ext cx="163800" cy="626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711" h="3504">
                  <a:moveTo>
                    <a:pt x="7711" y="876"/>
                  </a:moveTo>
                  <a:lnTo>
                    <a:pt x="7117" y="1533"/>
                  </a:lnTo>
                  <a:lnTo>
                    <a:pt x="6722" y="2847"/>
                  </a:lnTo>
                  <a:lnTo>
                    <a:pt x="6327" y="1752"/>
                  </a:lnTo>
                  <a:lnTo>
                    <a:pt x="5931" y="1095"/>
                  </a:lnTo>
                  <a:lnTo>
                    <a:pt x="5338" y="1752"/>
                  </a:lnTo>
                  <a:lnTo>
                    <a:pt x="4943" y="2628"/>
                  </a:lnTo>
                  <a:lnTo>
                    <a:pt x="4547" y="1971"/>
                  </a:lnTo>
                  <a:lnTo>
                    <a:pt x="4350" y="1314"/>
                  </a:lnTo>
                  <a:lnTo>
                    <a:pt x="3559" y="1533"/>
                  </a:lnTo>
                  <a:lnTo>
                    <a:pt x="3361" y="2190"/>
                  </a:lnTo>
                  <a:lnTo>
                    <a:pt x="2966" y="1314"/>
                  </a:lnTo>
                  <a:lnTo>
                    <a:pt x="2571" y="876"/>
                  </a:lnTo>
                  <a:lnTo>
                    <a:pt x="2175" y="876"/>
                  </a:lnTo>
                  <a:lnTo>
                    <a:pt x="1780" y="876"/>
                  </a:lnTo>
                  <a:lnTo>
                    <a:pt x="989" y="0"/>
                  </a:lnTo>
                  <a:lnTo>
                    <a:pt x="198" y="0"/>
                  </a:lnTo>
                  <a:lnTo>
                    <a:pt x="0" y="438"/>
                  </a:lnTo>
                  <a:lnTo>
                    <a:pt x="594" y="876"/>
                  </a:lnTo>
                  <a:lnTo>
                    <a:pt x="791" y="657"/>
                  </a:lnTo>
                  <a:lnTo>
                    <a:pt x="1187" y="657"/>
                  </a:lnTo>
                  <a:lnTo>
                    <a:pt x="1384" y="1314"/>
                  </a:lnTo>
                  <a:lnTo>
                    <a:pt x="2175" y="1314"/>
                  </a:lnTo>
                  <a:lnTo>
                    <a:pt x="2373" y="1314"/>
                  </a:lnTo>
                  <a:lnTo>
                    <a:pt x="2768" y="1971"/>
                  </a:lnTo>
                  <a:lnTo>
                    <a:pt x="3361" y="2628"/>
                  </a:lnTo>
                  <a:lnTo>
                    <a:pt x="4152" y="1971"/>
                  </a:lnTo>
                  <a:lnTo>
                    <a:pt x="4350" y="2628"/>
                  </a:lnTo>
                  <a:lnTo>
                    <a:pt x="4943" y="3285"/>
                  </a:lnTo>
                  <a:lnTo>
                    <a:pt x="5536" y="2409"/>
                  </a:lnTo>
                  <a:lnTo>
                    <a:pt x="6129" y="1752"/>
                  </a:lnTo>
                  <a:lnTo>
                    <a:pt x="6129" y="2628"/>
                  </a:lnTo>
                  <a:lnTo>
                    <a:pt x="6524" y="3504"/>
                  </a:lnTo>
                  <a:lnTo>
                    <a:pt x="7315" y="2190"/>
                  </a:lnTo>
                  <a:lnTo>
                    <a:pt x="7711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Shape 443"/>
            <p:cNvSpPr/>
            <p:nvPr/>
          </p:nvSpPr>
          <p:spPr>
            <a:xfrm>
              <a:off x="7289280" y="5294880"/>
              <a:ext cx="239760" cy="86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1270" h="4819">
                  <a:moveTo>
                    <a:pt x="9490" y="4161"/>
                  </a:moveTo>
                  <a:lnTo>
                    <a:pt x="9688" y="4380"/>
                  </a:lnTo>
                  <a:lnTo>
                    <a:pt x="10281" y="4599"/>
                  </a:lnTo>
                  <a:lnTo>
                    <a:pt x="10676" y="3285"/>
                  </a:lnTo>
                  <a:lnTo>
                    <a:pt x="11269" y="2191"/>
                  </a:lnTo>
                  <a:lnTo>
                    <a:pt x="10478" y="2847"/>
                  </a:lnTo>
                  <a:lnTo>
                    <a:pt x="10083" y="3942"/>
                  </a:lnTo>
                  <a:lnTo>
                    <a:pt x="9885" y="3504"/>
                  </a:lnTo>
                  <a:lnTo>
                    <a:pt x="9885" y="3066"/>
                  </a:lnTo>
                  <a:lnTo>
                    <a:pt x="9095" y="3504"/>
                  </a:lnTo>
                  <a:lnTo>
                    <a:pt x="8897" y="4161"/>
                  </a:lnTo>
                  <a:lnTo>
                    <a:pt x="8502" y="3504"/>
                  </a:lnTo>
                  <a:lnTo>
                    <a:pt x="8106" y="3066"/>
                  </a:lnTo>
                  <a:lnTo>
                    <a:pt x="7315" y="4161"/>
                  </a:lnTo>
                  <a:lnTo>
                    <a:pt x="6920" y="3285"/>
                  </a:lnTo>
                  <a:lnTo>
                    <a:pt x="6722" y="2410"/>
                  </a:lnTo>
                  <a:lnTo>
                    <a:pt x="5932" y="3285"/>
                  </a:lnTo>
                  <a:lnTo>
                    <a:pt x="5338" y="3942"/>
                  </a:lnTo>
                  <a:lnTo>
                    <a:pt x="4943" y="2847"/>
                  </a:lnTo>
                  <a:lnTo>
                    <a:pt x="4745" y="1972"/>
                  </a:lnTo>
                  <a:lnTo>
                    <a:pt x="4152" y="2191"/>
                  </a:lnTo>
                  <a:lnTo>
                    <a:pt x="3757" y="2629"/>
                  </a:lnTo>
                  <a:lnTo>
                    <a:pt x="3361" y="1753"/>
                  </a:lnTo>
                  <a:lnTo>
                    <a:pt x="2966" y="1315"/>
                  </a:lnTo>
                  <a:lnTo>
                    <a:pt x="2571" y="1534"/>
                  </a:lnTo>
                  <a:lnTo>
                    <a:pt x="2175" y="1972"/>
                  </a:lnTo>
                  <a:lnTo>
                    <a:pt x="1780" y="877"/>
                  </a:lnTo>
                  <a:lnTo>
                    <a:pt x="989" y="877"/>
                  </a:lnTo>
                  <a:lnTo>
                    <a:pt x="198" y="658"/>
                  </a:lnTo>
                  <a:lnTo>
                    <a:pt x="1" y="1"/>
                  </a:lnTo>
                  <a:lnTo>
                    <a:pt x="1" y="877"/>
                  </a:lnTo>
                  <a:lnTo>
                    <a:pt x="594" y="1534"/>
                  </a:lnTo>
                  <a:lnTo>
                    <a:pt x="989" y="1315"/>
                  </a:lnTo>
                  <a:lnTo>
                    <a:pt x="1385" y="1534"/>
                  </a:lnTo>
                  <a:lnTo>
                    <a:pt x="1780" y="2191"/>
                  </a:lnTo>
                  <a:lnTo>
                    <a:pt x="2768" y="2410"/>
                  </a:lnTo>
                  <a:lnTo>
                    <a:pt x="2966" y="1972"/>
                  </a:lnTo>
                  <a:lnTo>
                    <a:pt x="3361" y="2847"/>
                  </a:lnTo>
                  <a:lnTo>
                    <a:pt x="4152" y="3066"/>
                  </a:lnTo>
                  <a:lnTo>
                    <a:pt x="4350" y="2629"/>
                  </a:lnTo>
                  <a:lnTo>
                    <a:pt x="4548" y="2629"/>
                  </a:lnTo>
                  <a:lnTo>
                    <a:pt x="4745" y="3504"/>
                  </a:lnTo>
                  <a:lnTo>
                    <a:pt x="5141" y="4380"/>
                  </a:lnTo>
                  <a:lnTo>
                    <a:pt x="5932" y="3942"/>
                  </a:lnTo>
                  <a:lnTo>
                    <a:pt x="6525" y="3285"/>
                  </a:lnTo>
                  <a:lnTo>
                    <a:pt x="6722" y="4161"/>
                  </a:lnTo>
                  <a:lnTo>
                    <a:pt x="7513" y="4818"/>
                  </a:lnTo>
                  <a:lnTo>
                    <a:pt x="7711" y="4380"/>
                  </a:lnTo>
                  <a:lnTo>
                    <a:pt x="8106" y="3942"/>
                  </a:lnTo>
                  <a:lnTo>
                    <a:pt x="8699" y="4599"/>
                  </a:lnTo>
                  <a:lnTo>
                    <a:pt x="9490" y="4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Shape 444"/>
            <p:cNvSpPr/>
            <p:nvPr/>
          </p:nvSpPr>
          <p:spPr>
            <a:xfrm>
              <a:off x="8067240" y="5275440"/>
              <a:ext cx="189000" cy="90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897" h="5038">
                  <a:moveTo>
                    <a:pt x="3163" y="4380"/>
                  </a:moveTo>
                  <a:lnTo>
                    <a:pt x="3558" y="3942"/>
                  </a:lnTo>
                  <a:lnTo>
                    <a:pt x="3954" y="3505"/>
                  </a:lnTo>
                  <a:lnTo>
                    <a:pt x="4349" y="3724"/>
                  </a:lnTo>
                  <a:lnTo>
                    <a:pt x="5140" y="3942"/>
                  </a:lnTo>
                  <a:lnTo>
                    <a:pt x="5733" y="2848"/>
                  </a:lnTo>
                  <a:lnTo>
                    <a:pt x="6326" y="3067"/>
                  </a:lnTo>
                  <a:lnTo>
                    <a:pt x="6919" y="3286"/>
                  </a:lnTo>
                  <a:lnTo>
                    <a:pt x="7512" y="2410"/>
                  </a:lnTo>
                  <a:lnTo>
                    <a:pt x="8105" y="2629"/>
                  </a:lnTo>
                  <a:lnTo>
                    <a:pt x="8699" y="2629"/>
                  </a:lnTo>
                  <a:lnTo>
                    <a:pt x="8896" y="1315"/>
                  </a:lnTo>
                  <a:lnTo>
                    <a:pt x="8896" y="1"/>
                  </a:lnTo>
                  <a:lnTo>
                    <a:pt x="8699" y="1"/>
                  </a:lnTo>
                  <a:lnTo>
                    <a:pt x="8501" y="1096"/>
                  </a:lnTo>
                  <a:lnTo>
                    <a:pt x="8105" y="2191"/>
                  </a:lnTo>
                  <a:lnTo>
                    <a:pt x="7512" y="1315"/>
                  </a:lnTo>
                  <a:lnTo>
                    <a:pt x="7117" y="658"/>
                  </a:lnTo>
                  <a:lnTo>
                    <a:pt x="6919" y="1972"/>
                  </a:lnTo>
                  <a:lnTo>
                    <a:pt x="6524" y="2848"/>
                  </a:lnTo>
                  <a:lnTo>
                    <a:pt x="5931" y="2191"/>
                  </a:lnTo>
                  <a:lnTo>
                    <a:pt x="5338" y="1753"/>
                  </a:lnTo>
                  <a:lnTo>
                    <a:pt x="5140" y="2629"/>
                  </a:lnTo>
                  <a:lnTo>
                    <a:pt x="4745" y="3505"/>
                  </a:lnTo>
                  <a:lnTo>
                    <a:pt x="4152" y="3067"/>
                  </a:lnTo>
                  <a:lnTo>
                    <a:pt x="3756" y="2848"/>
                  </a:lnTo>
                  <a:lnTo>
                    <a:pt x="3361" y="3286"/>
                  </a:lnTo>
                  <a:lnTo>
                    <a:pt x="3163" y="3724"/>
                  </a:lnTo>
                  <a:lnTo>
                    <a:pt x="2570" y="3505"/>
                  </a:lnTo>
                  <a:lnTo>
                    <a:pt x="1977" y="3505"/>
                  </a:lnTo>
                  <a:lnTo>
                    <a:pt x="1582" y="4161"/>
                  </a:lnTo>
                  <a:lnTo>
                    <a:pt x="988" y="4599"/>
                  </a:lnTo>
                  <a:lnTo>
                    <a:pt x="0" y="3505"/>
                  </a:lnTo>
                  <a:lnTo>
                    <a:pt x="198" y="4380"/>
                  </a:lnTo>
                  <a:lnTo>
                    <a:pt x="988" y="5037"/>
                  </a:lnTo>
                  <a:lnTo>
                    <a:pt x="1582" y="4818"/>
                  </a:lnTo>
                  <a:lnTo>
                    <a:pt x="1977" y="4161"/>
                  </a:lnTo>
                  <a:lnTo>
                    <a:pt x="2372" y="3724"/>
                  </a:lnTo>
                  <a:lnTo>
                    <a:pt x="3163" y="4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Shape 445"/>
            <p:cNvSpPr/>
            <p:nvPr/>
          </p:nvSpPr>
          <p:spPr>
            <a:xfrm>
              <a:off x="8054640" y="5122440"/>
              <a:ext cx="231120" cy="1645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0875" h="9198">
                  <a:moveTo>
                    <a:pt x="3362" y="8322"/>
                  </a:moveTo>
                  <a:lnTo>
                    <a:pt x="3757" y="8103"/>
                  </a:lnTo>
                  <a:lnTo>
                    <a:pt x="4152" y="7227"/>
                  </a:lnTo>
                  <a:lnTo>
                    <a:pt x="4350" y="6570"/>
                  </a:lnTo>
                  <a:lnTo>
                    <a:pt x="5141" y="7227"/>
                  </a:lnTo>
                  <a:lnTo>
                    <a:pt x="5734" y="6570"/>
                  </a:lnTo>
                  <a:lnTo>
                    <a:pt x="6129" y="6132"/>
                  </a:lnTo>
                  <a:lnTo>
                    <a:pt x="6723" y="6132"/>
                  </a:lnTo>
                  <a:lnTo>
                    <a:pt x="7513" y="6351"/>
                  </a:lnTo>
                  <a:lnTo>
                    <a:pt x="7711" y="5694"/>
                  </a:lnTo>
                  <a:lnTo>
                    <a:pt x="7909" y="4818"/>
                  </a:lnTo>
                  <a:lnTo>
                    <a:pt x="8106" y="4161"/>
                  </a:lnTo>
                  <a:lnTo>
                    <a:pt x="9095" y="4161"/>
                  </a:lnTo>
                  <a:lnTo>
                    <a:pt x="9490" y="3066"/>
                  </a:lnTo>
                  <a:lnTo>
                    <a:pt x="9886" y="3066"/>
                  </a:lnTo>
                  <a:lnTo>
                    <a:pt x="10281" y="3285"/>
                  </a:lnTo>
                  <a:lnTo>
                    <a:pt x="10874" y="1534"/>
                  </a:lnTo>
                  <a:lnTo>
                    <a:pt x="10874" y="1"/>
                  </a:lnTo>
                  <a:lnTo>
                    <a:pt x="10676" y="1"/>
                  </a:lnTo>
                  <a:lnTo>
                    <a:pt x="10479" y="1534"/>
                  </a:lnTo>
                  <a:lnTo>
                    <a:pt x="9886" y="2847"/>
                  </a:lnTo>
                  <a:lnTo>
                    <a:pt x="9688" y="2409"/>
                  </a:lnTo>
                  <a:lnTo>
                    <a:pt x="9490" y="2191"/>
                  </a:lnTo>
                  <a:lnTo>
                    <a:pt x="8897" y="2847"/>
                  </a:lnTo>
                  <a:lnTo>
                    <a:pt x="8699" y="3942"/>
                  </a:lnTo>
                  <a:lnTo>
                    <a:pt x="8304" y="3504"/>
                  </a:lnTo>
                  <a:lnTo>
                    <a:pt x="7909" y="3504"/>
                  </a:lnTo>
                  <a:lnTo>
                    <a:pt x="7711" y="4818"/>
                  </a:lnTo>
                  <a:lnTo>
                    <a:pt x="7316" y="6132"/>
                  </a:lnTo>
                  <a:lnTo>
                    <a:pt x="6327" y="5475"/>
                  </a:lnTo>
                  <a:lnTo>
                    <a:pt x="5734" y="5037"/>
                  </a:lnTo>
                  <a:lnTo>
                    <a:pt x="5536" y="5913"/>
                  </a:lnTo>
                  <a:lnTo>
                    <a:pt x="5141" y="6789"/>
                  </a:lnTo>
                  <a:lnTo>
                    <a:pt x="4746" y="6132"/>
                  </a:lnTo>
                  <a:lnTo>
                    <a:pt x="4350" y="5694"/>
                  </a:lnTo>
                  <a:lnTo>
                    <a:pt x="3955" y="6789"/>
                  </a:lnTo>
                  <a:lnTo>
                    <a:pt x="3559" y="7884"/>
                  </a:lnTo>
                  <a:lnTo>
                    <a:pt x="2769" y="7446"/>
                  </a:lnTo>
                  <a:lnTo>
                    <a:pt x="2176" y="7665"/>
                  </a:lnTo>
                  <a:lnTo>
                    <a:pt x="1582" y="8322"/>
                  </a:lnTo>
                  <a:lnTo>
                    <a:pt x="989" y="8541"/>
                  </a:lnTo>
                  <a:lnTo>
                    <a:pt x="396" y="7884"/>
                  </a:lnTo>
                  <a:lnTo>
                    <a:pt x="1" y="7665"/>
                  </a:lnTo>
                  <a:lnTo>
                    <a:pt x="396" y="8322"/>
                  </a:lnTo>
                  <a:lnTo>
                    <a:pt x="1187" y="9198"/>
                  </a:lnTo>
                  <a:lnTo>
                    <a:pt x="1780" y="8979"/>
                  </a:lnTo>
                  <a:lnTo>
                    <a:pt x="2176" y="8103"/>
                  </a:lnTo>
                  <a:lnTo>
                    <a:pt x="2571" y="7665"/>
                  </a:lnTo>
                  <a:lnTo>
                    <a:pt x="3362" y="8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3800" bIns="73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Shape 446"/>
            <p:cNvSpPr/>
            <p:nvPr/>
          </p:nvSpPr>
          <p:spPr>
            <a:xfrm>
              <a:off x="7221960" y="5153760"/>
              <a:ext cx="214200" cy="117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083" h="6570">
                  <a:moveTo>
                    <a:pt x="10083" y="3942"/>
                  </a:moveTo>
                  <a:lnTo>
                    <a:pt x="9292" y="4818"/>
                  </a:lnTo>
                  <a:lnTo>
                    <a:pt x="9095" y="6132"/>
                  </a:lnTo>
                  <a:lnTo>
                    <a:pt x="8699" y="5256"/>
                  </a:lnTo>
                  <a:lnTo>
                    <a:pt x="8699" y="4380"/>
                  </a:lnTo>
                  <a:lnTo>
                    <a:pt x="8106" y="4599"/>
                  </a:lnTo>
                  <a:lnTo>
                    <a:pt x="7908" y="5256"/>
                  </a:lnTo>
                  <a:lnTo>
                    <a:pt x="7513" y="4599"/>
                  </a:lnTo>
                  <a:lnTo>
                    <a:pt x="7315" y="3942"/>
                  </a:lnTo>
                  <a:lnTo>
                    <a:pt x="5931" y="5256"/>
                  </a:lnTo>
                  <a:lnTo>
                    <a:pt x="5338" y="4161"/>
                  </a:lnTo>
                  <a:lnTo>
                    <a:pt x="5536" y="3066"/>
                  </a:lnTo>
                  <a:lnTo>
                    <a:pt x="4943" y="3504"/>
                  </a:lnTo>
                  <a:lnTo>
                    <a:pt x="4548" y="3942"/>
                  </a:lnTo>
                  <a:lnTo>
                    <a:pt x="4350" y="3285"/>
                  </a:lnTo>
                  <a:lnTo>
                    <a:pt x="4350" y="2628"/>
                  </a:lnTo>
                  <a:lnTo>
                    <a:pt x="3559" y="3066"/>
                  </a:lnTo>
                  <a:lnTo>
                    <a:pt x="2966" y="3723"/>
                  </a:lnTo>
                  <a:lnTo>
                    <a:pt x="2768" y="2847"/>
                  </a:lnTo>
                  <a:lnTo>
                    <a:pt x="2571" y="1971"/>
                  </a:lnTo>
                  <a:lnTo>
                    <a:pt x="2373" y="1314"/>
                  </a:lnTo>
                  <a:lnTo>
                    <a:pt x="1978" y="1095"/>
                  </a:lnTo>
                  <a:lnTo>
                    <a:pt x="1384" y="1533"/>
                  </a:lnTo>
                  <a:lnTo>
                    <a:pt x="594" y="657"/>
                  </a:lnTo>
                  <a:lnTo>
                    <a:pt x="198" y="1"/>
                  </a:lnTo>
                  <a:lnTo>
                    <a:pt x="1" y="1"/>
                  </a:lnTo>
                  <a:lnTo>
                    <a:pt x="396" y="1095"/>
                  </a:lnTo>
                  <a:lnTo>
                    <a:pt x="1384" y="2190"/>
                  </a:lnTo>
                  <a:lnTo>
                    <a:pt x="1780" y="1971"/>
                  </a:lnTo>
                  <a:lnTo>
                    <a:pt x="2175" y="1752"/>
                  </a:lnTo>
                  <a:lnTo>
                    <a:pt x="2175" y="2190"/>
                  </a:lnTo>
                  <a:lnTo>
                    <a:pt x="2373" y="3285"/>
                  </a:lnTo>
                  <a:lnTo>
                    <a:pt x="2571" y="3723"/>
                  </a:lnTo>
                  <a:lnTo>
                    <a:pt x="3361" y="4161"/>
                  </a:lnTo>
                  <a:lnTo>
                    <a:pt x="3954" y="3504"/>
                  </a:lnTo>
                  <a:lnTo>
                    <a:pt x="4152" y="4161"/>
                  </a:lnTo>
                  <a:lnTo>
                    <a:pt x="4745" y="4161"/>
                  </a:lnTo>
                  <a:lnTo>
                    <a:pt x="5338" y="4161"/>
                  </a:lnTo>
                  <a:lnTo>
                    <a:pt x="5536" y="5256"/>
                  </a:lnTo>
                  <a:lnTo>
                    <a:pt x="5931" y="5475"/>
                  </a:lnTo>
                  <a:lnTo>
                    <a:pt x="6327" y="5475"/>
                  </a:lnTo>
                  <a:lnTo>
                    <a:pt x="7118" y="4599"/>
                  </a:lnTo>
                  <a:lnTo>
                    <a:pt x="7315" y="5475"/>
                  </a:lnTo>
                  <a:lnTo>
                    <a:pt x="8106" y="5913"/>
                  </a:lnTo>
                  <a:lnTo>
                    <a:pt x="8304" y="5694"/>
                  </a:lnTo>
                  <a:lnTo>
                    <a:pt x="8501" y="6132"/>
                  </a:lnTo>
                  <a:lnTo>
                    <a:pt x="8897" y="6570"/>
                  </a:lnTo>
                  <a:lnTo>
                    <a:pt x="9688" y="5256"/>
                  </a:lnTo>
                  <a:lnTo>
                    <a:pt x="10083" y="3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Shape 447"/>
            <p:cNvSpPr/>
            <p:nvPr/>
          </p:nvSpPr>
          <p:spPr>
            <a:xfrm>
              <a:off x="7877880" y="5008680"/>
              <a:ext cx="399600" cy="15300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782" h="8541">
                  <a:moveTo>
                    <a:pt x="4152" y="7884"/>
                  </a:moveTo>
                  <a:lnTo>
                    <a:pt x="4745" y="8322"/>
                  </a:lnTo>
                  <a:lnTo>
                    <a:pt x="5536" y="8541"/>
                  </a:lnTo>
                  <a:lnTo>
                    <a:pt x="6129" y="7665"/>
                  </a:lnTo>
                  <a:lnTo>
                    <a:pt x="6525" y="7884"/>
                  </a:lnTo>
                  <a:lnTo>
                    <a:pt x="7118" y="8103"/>
                  </a:lnTo>
                  <a:lnTo>
                    <a:pt x="7711" y="7227"/>
                  </a:lnTo>
                  <a:lnTo>
                    <a:pt x="8106" y="7227"/>
                  </a:lnTo>
                  <a:lnTo>
                    <a:pt x="8502" y="7665"/>
                  </a:lnTo>
                  <a:lnTo>
                    <a:pt x="9095" y="7446"/>
                  </a:lnTo>
                  <a:lnTo>
                    <a:pt x="9688" y="6789"/>
                  </a:lnTo>
                  <a:lnTo>
                    <a:pt x="10083" y="7227"/>
                  </a:lnTo>
                  <a:lnTo>
                    <a:pt x="10874" y="7227"/>
                  </a:lnTo>
                  <a:lnTo>
                    <a:pt x="11467" y="6351"/>
                  </a:lnTo>
                  <a:lnTo>
                    <a:pt x="11862" y="6570"/>
                  </a:lnTo>
                  <a:lnTo>
                    <a:pt x="12455" y="6789"/>
                  </a:lnTo>
                  <a:lnTo>
                    <a:pt x="12851" y="5913"/>
                  </a:lnTo>
                  <a:lnTo>
                    <a:pt x="13246" y="5256"/>
                  </a:lnTo>
                  <a:lnTo>
                    <a:pt x="13839" y="5913"/>
                  </a:lnTo>
                  <a:lnTo>
                    <a:pt x="14828" y="5694"/>
                  </a:lnTo>
                  <a:lnTo>
                    <a:pt x="15223" y="4818"/>
                  </a:lnTo>
                  <a:lnTo>
                    <a:pt x="15421" y="3942"/>
                  </a:lnTo>
                  <a:lnTo>
                    <a:pt x="16014" y="3942"/>
                  </a:lnTo>
                  <a:lnTo>
                    <a:pt x="16805" y="4161"/>
                  </a:lnTo>
                  <a:lnTo>
                    <a:pt x="17002" y="3504"/>
                  </a:lnTo>
                  <a:lnTo>
                    <a:pt x="17200" y="3066"/>
                  </a:lnTo>
                  <a:lnTo>
                    <a:pt x="18189" y="2847"/>
                  </a:lnTo>
                  <a:lnTo>
                    <a:pt x="18782" y="2190"/>
                  </a:lnTo>
                  <a:lnTo>
                    <a:pt x="18386" y="876"/>
                  </a:lnTo>
                  <a:lnTo>
                    <a:pt x="17793" y="0"/>
                  </a:lnTo>
                  <a:lnTo>
                    <a:pt x="18189" y="1314"/>
                  </a:lnTo>
                  <a:lnTo>
                    <a:pt x="18189" y="2628"/>
                  </a:lnTo>
                  <a:lnTo>
                    <a:pt x="17793" y="2628"/>
                  </a:lnTo>
                  <a:lnTo>
                    <a:pt x="17596" y="2628"/>
                  </a:lnTo>
                  <a:lnTo>
                    <a:pt x="17200" y="2190"/>
                  </a:lnTo>
                  <a:lnTo>
                    <a:pt x="16805" y="1752"/>
                  </a:lnTo>
                  <a:lnTo>
                    <a:pt x="16805" y="2847"/>
                  </a:lnTo>
                  <a:lnTo>
                    <a:pt x="16607" y="3942"/>
                  </a:lnTo>
                  <a:lnTo>
                    <a:pt x="15816" y="3504"/>
                  </a:lnTo>
                  <a:lnTo>
                    <a:pt x="15223" y="3066"/>
                  </a:lnTo>
                  <a:lnTo>
                    <a:pt x="14828" y="4380"/>
                  </a:lnTo>
                  <a:lnTo>
                    <a:pt x="14432" y="5694"/>
                  </a:lnTo>
                  <a:lnTo>
                    <a:pt x="13642" y="5037"/>
                  </a:lnTo>
                  <a:lnTo>
                    <a:pt x="13049" y="4380"/>
                  </a:lnTo>
                  <a:lnTo>
                    <a:pt x="12455" y="5256"/>
                  </a:lnTo>
                  <a:lnTo>
                    <a:pt x="12060" y="6351"/>
                  </a:lnTo>
                  <a:lnTo>
                    <a:pt x="11665" y="5694"/>
                  </a:lnTo>
                  <a:lnTo>
                    <a:pt x="11072" y="5256"/>
                  </a:lnTo>
                  <a:lnTo>
                    <a:pt x="10874" y="6132"/>
                  </a:lnTo>
                  <a:lnTo>
                    <a:pt x="10676" y="7008"/>
                  </a:lnTo>
                  <a:lnTo>
                    <a:pt x="9885" y="6351"/>
                  </a:lnTo>
                  <a:lnTo>
                    <a:pt x="9490" y="5694"/>
                  </a:lnTo>
                  <a:lnTo>
                    <a:pt x="9095" y="6351"/>
                  </a:lnTo>
                  <a:lnTo>
                    <a:pt x="8699" y="7227"/>
                  </a:lnTo>
                  <a:lnTo>
                    <a:pt x="7909" y="6570"/>
                  </a:lnTo>
                  <a:lnTo>
                    <a:pt x="7315" y="6570"/>
                  </a:lnTo>
                  <a:lnTo>
                    <a:pt x="7118" y="7008"/>
                  </a:lnTo>
                  <a:lnTo>
                    <a:pt x="6920" y="7665"/>
                  </a:lnTo>
                  <a:lnTo>
                    <a:pt x="6327" y="6789"/>
                  </a:lnTo>
                  <a:lnTo>
                    <a:pt x="5932" y="6351"/>
                  </a:lnTo>
                  <a:lnTo>
                    <a:pt x="5536" y="7227"/>
                  </a:lnTo>
                  <a:lnTo>
                    <a:pt x="4943" y="8103"/>
                  </a:lnTo>
                  <a:lnTo>
                    <a:pt x="4548" y="7227"/>
                  </a:lnTo>
                  <a:lnTo>
                    <a:pt x="4152" y="7227"/>
                  </a:lnTo>
                  <a:lnTo>
                    <a:pt x="3559" y="7665"/>
                  </a:lnTo>
                  <a:lnTo>
                    <a:pt x="3164" y="8322"/>
                  </a:lnTo>
                  <a:lnTo>
                    <a:pt x="2769" y="7665"/>
                  </a:lnTo>
                  <a:lnTo>
                    <a:pt x="2373" y="7446"/>
                  </a:lnTo>
                  <a:lnTo>
                    <a:pt x="2175" y="7446"/>
                  </a:lnTo>
                  <a:lnTo>
                    <a:pt x="1978" y="7884"/>
                  </a:lnTo>
                  <a:lnTo>
                    <a:pt x="989" y="7665"/>
                  </a:lnTo>
                  <a:lnTo>
                    <a:pt x="198" y="7884"/>
                  </a:lnTo>
                  <a:lnTo>
                    <a:pt x="1" y="8103"/>
                  </a:lnTo>
                  <a:lnTo>
                    <a:pt x="396" y="8541"/>
                  </a:lnTo>
                  <a:lnTo>
                    <a:pt x="1385" y="8322"/>
                  </a:lnTo>
                  <a:lnTo>
                    <a:pt x="2373" y="8103"/>
                  </a:lnTo>
                  <a:lnTo>
                    <a:pt x="3164" y="8541"/>
                  </a:lnTo>
                  <a:lnTo>
                    <a:pt x="4152" y="7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2280" bIns="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Shape 448"/>
            <p:cNvSpPr/>
            <p:nvPr/>
          </p:nvSpPr>
          <p:spPr>
            <a:xfrm>
              <a:off x="7221960" y="5008680"/>
              <a:ext cx="248040" cy="1450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1665" h="8103">
                  <a:moveTo>
                    <a:pt x="11665" y="7227"/>
                  </a:moveTo>
                  <a:lnTo>
                    <a:pt x="11665" y="6570"/>
                  </a:lnTo>
                  <a:lnTo>
                    <a:pt x="11071" y="7227"/>
                  </a:lnTo>
                  <a:lnTo>
                    <a:pt x="10478" y="7227"/>
                  </a:lnTo>
                  <a:lnTo>
                    <a:pt x="10478" y="6570"/>
                  </a:lnTo>
                  <a:lnTo>
                    <a:pt x="10083" y="6132"/>
                  </a:lnTo>
                  <a:lnTo>
                    <a:pt x="9490" y="6351"/>
                  </a:lnTo>
                  <a:lnTo>
                    <a:pt x="8897" y="6789"/>
                  </a:lnTo>
                  <a:lnTo>
                    <a:pt x="8501" y="6132"/>
                  </a:lnTo>
                  <a:lnTo>
                    <a:pt x="8501" y="5475"/>
                  </a:lnTo>
                  <a:lnTo>
                    <a:pt x="8106" y="5913"/>
                  </a:lnTo>
                  <a:lnTo>
                    <a:pt x="7711" y="6570"/>
                  </a:lnTo>
                  <a:lnTo>
                    <a:pt x="7315" y="5256"/>
                  </a:lnTo>
                  <a:lnTo>
                    <a:pt x="7118" y="4161"/>
                  </a:lnTo>
                  <a:lnTo>
                    <a:pt x="6129" y="5256"/>
                  </a:lnTo>
                  <a:lnTo>
                    <a:pt x="5536" y="4161"/>
                  </a:lnTo>
                  <a:lnTo>
                    <a:pt x="5141" y="3285"/>
                  </a:lnTo>
                  <a:lnTo>
                    <a:pt x="4745" y="3942"/>
                  </a:lnTo>
                  <a:lnTo>
                    <a:pt x="4548" y="4818"/>
                  </a:lnTo>
                  <a:lnTo>
                    <a:pt x="3757" y="3504"/>
                  </a:lnTo>
                  <a:lnTo>
                    <a:pt x="3757" y="2190"/>
                  </a:lnTo>
                  <a:lnTo>
                    <a:pt x="3559" y="2190"/>
                  </a:lnTo>
                  <a:lnTo>
                    <a:pt x="3164" y="2628"/>
                  </a:lnTo>
                  <a:lnTo>
                    <a:pt x="2966" y="3504"/>
                  </a:lnTo>
                  <a:lnTo>
                    <a:pt x="2571" y="2190"/>
                  </a:lnTo>
                  <a:lnTo>
                    <a:pt x="2373" y="1533"/>
                  </a:lnTo>
                  <a:lnTo>
                    <a:pt x="1780" y="2190"/>
                  </a:lnTo>
                  <a:lnTo>
                    <a:pt x="1384" y="876"/>
                  </a:lnTo>
                  <a:lnTo>
                    <a:pt x="594" y="1095"/>
                  </a:lnTo>
                  <a:lnTo>
                    <a:pt x="396" y="438"/>
                  </a:lnTo>
                  <a:lnTo>
                    <a:pt x="396" y="0"/>
                  </a:lnTo>
                  <a:lnTo>
                    <a:pt x="198" y="0"/>
                  </a:lnTo>
                  <a:lnTo>
                    <a:pt x="1" y="657"/>
                  </a:lnTo>
                  <a:lnTo>
                    <a:pt x="594" y="1533"/>
                  </a:lnTo>
                  <a:lnTo>
                    <a:pt x="989" y="1533"/>
                  </a:lnTo>
                  <a:lnTo>
                    <a:pt x="1187" y="2190"/>
                  </a:lnTo>
                  <a:lnTo>
                    <a:pt x="1384" y="2847"/>
                  </a:lnTo>
                  <a:lnTo>
                    <a:pt x="1780" y="2628"/>
                  </a:lnTo>
                  <a:lnTo>
                    <a:pt x="2175" y="2628"/>
                  </a:lnTo>
                  <a:lnTo>
                    <a:pt x="2175" y="3285"/>
                  </a:lnTo>
                  <a:lnTo>
                    <a:pt x="2768" y="3942"/>
                  </a:lnTo>
                  <a:lnTo>
                    <a:pt x="3164" y="3723"/>
                  </a:lnTo>
                  <a:lnTo>
                    <a:pt x="3559" y="3723"/>
                  </a:lnTo>
                  <a:lnTo>
                    <a:pt x="3954" y="4599"/>
                  </a:lnTo>
                  <a:lnTo>
                    <a:pt x="4745" y="5256"/>
                  </a:lnTo>
                  <a:lnTo>
                    <a:pt x="5338" y="4599"/>
                  </a:lnTo>
                  <a:lnTo>
                    <a:pt x="5536" y="5037"/>
                  </a:lnTo>
                  <a:lnTo>
                    <a:pt x="6129" y="5694"/>
                  </a:lnTo>
                  <a:lnTo>
                    <a:pt x="6920" y="5694"/>
                  </a:lnTo>
                  <a:lnTo>
                    <a:pt x="7118" y="6351"/>
                  </a:lnTo>
                  <a:lnTo>
                    <a:pt x="7513" y="7008"/>
                  </a:lnTo>
                  <a:lnTo>
                    <a:pt x="7908" y="6789"/>
                  </a:lnTo>
                  <a:lnTo>
                    <a:pt x="8304" y="6789"/>
                  </a:lnTo>
                  <a:lnTo>
                    <a:pt x="8699" y="7227"/>
                  </a:lnTo>
                  <a:lnTo>
                    <a:pt x="9490" y="7227"/>
                  </a:lnTo>
                  <a:lnTo>
                    <a:pt x="9885" y="6789"/>
                  </a:lnTo>
                  <a:lnTo>
                    <a:pt x="10083" y="7446"/>
                  </a:lnTo>
                  <a:lnTo>
                    <a:pt x="10478" y="8103"/>
                  </a:lnTo>
                  <a:lnTo>
                    <a:pt x="11071" y="7884"/>
                  </a:lnTo>
                  <a:lnTo>
                    <a:pt x="11665" y="7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4360" bIns="54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Shape 449"/>
            <p:cNvSpPr/>
            <p:nvPr/>
          </p:nvSpPr>
          <p:spPr>
            <a:xfrm>
              <a:off x="7347960" y="4247280"/>
              <a:ext cx="794880" cy="8200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820080"/>
                <a:gd name="textAreaBottom" fmla="*/ 820440 h 820080"/>
              </a:gdLst>
              <a:ahLst/>
              <a:rect l="textAreaLeft" t="textAreaTop" r="textAreaRight" b="textAreaBottom"/>
              <a:pathLst>
                <a:path w="37365" h="45768">
                  <a:moveTo>
                    <a:pt x="18386" y="-20645"/>
                  </a:moveTo>
                  <a:lnTo>
                    <a:pt x="18781" y="-22616"/>
                  </a:lnTo>
                  <a:lnTo>
                    <a:pt x="19177" y="-24368"/>
                  </a:lnTo>
                  <a:lnTo>
                    <a:pt x="19572" y="-26338"/>
                  </a:lnTo>
                  <a:lnTo>
                    <a:pt x="20165" y="-27871"/>
                  </a:lnTo>
                  <a:lnTo>
                    <a:pt x="20561" y="-28966"/>
                  </a:lnTo>
                  <a:lnTo>
                    <a:pt x="21549" y="-29185"/>
                  </a:lnTo>
                  <a:lnTo>
                    <a:pt x="22340" y="-29404"/>
                  </a:lnTo>
                  <a:lnTo>
                    <a:pt x="23131" y="-29842"/>
                  </a:lnTo>
                  <a:lnTo>
                    <a:pt x="23131" y="-31156"/>
                  </a:lnTo>
                  <a:lnTo>
                    <a:pt x="23131" y="-32251"/>
                  </a:lnTo>
                  <a:lnTo>
                    <a:pt x="22735" y="31971"/>
                  </a:lnTo>
                  <a:lnTo>
                    <a:pt x="22537" y="30877"/>
                  </a:lnTo>
                  <a:lnTo>
                    <a:pt x="23328" y="31314"/>
                  </a:lnTo>
                  <a:lnTo>
                    <a:pt x="24317" y="32190"/>
                  </a:lnTo>
                  <a:lnTo>
                    <a:pt x="25107" y="32628"/>
                  </a:lnTo>
                  <a:lnTo>
                    <a:pt x="26491" y="-32689"/>
                  </a:lnTo>
                  <a:lnTo>
                    <a:pt x="27678" y="-32689"/>
                  </a:lnTo>
                  <a:lnTo>
                    <a:pt x="29061" y="-32689"/>
                  </a:lnTo>
                  <a:lnTo>
                    <a:pt x="30248" y="32409"/>
                  </a:lnTo>
                  <a:lnTo>
                    <a:pt x="31631" y="32190"/>
                  </a:lnTo>
                  <a:lnTo>
                    <a:pt x="32620" y="31533"/>
                  </a:lnTo>
                  <a:lnTo>
                    <a:pt x="-31730" y="30877"/>
                  </a:lnTo>
                  <a:lnTo>
                    <a:pt x="-30939" y="29782"/>
                  </a:lnTo>
                  <a:lnTo>
                    <a:pt x="-29951" y="28906"/>
                  </a:lnTo>
                  <a:lnTo>
                    <a:pt x="-29358" y="27154"/>
                  </a:lnTo>
                  <a:lnTo>
                    <a:pt x="-28765" y="25402"/>
                  </a:lnTo>
                  <a:lnTo>
                    <a:pt x="-28567" y="23650"/>
                  </a:lnTo>
                  <a:lnTo>
                    <a:pt x="-28172" y="21898"/>
                  </a:lnTo>
                  <a:lnTo>
                    <a:pt x="-28369" y="19928"/>
                  </a:lnTo>
                  <a:lnTo>
                    <a:pt x="-28765" y="18176"/>
                  </a:lnTo>
                  <a:lnTo>
                    <a:pt x="-29358" y="16643"/>
                  </a:lnTo>
                  <a:lnTo>
                    <a:pt x="-29951" y="15329"/>
                  </a:lnTo>
                  <a:lnTo>
                    <a:pt x="-31335" y="13796"/>
                  </a:lnTo>
                  <a:lnTo>
                    <a:pt x="-32521" y="12482"/>
                  </a:lnTo>
                  <a:lnTo>
                    <a:pt x="31434" y="11387"/>
                  </a:lnTo>
                  <a:lnTo>
                    <a:pt x="30050" y="10950"/>
                  </a:lnTo>
                  <a:lnTo>
                    <a:pt x="30643" y="10293"/>
                  </a:lnTo>
                  <a:lnTo>
                    <a:pt x="30643" y="9417"/>
                  </a:lnTo>
                  <a:lnTo>
                    <a:pt x="30248" y="8760"/>
                  </a:lnTo>
                  <a:lnTo>
                    <a:pt x="29852" y="8541"/>
                  </a:lnTo>
                  <a:lnTo>
                    <a:pt x="30643" y="7227"/>
                  </a:lnTo>
                  <a:lnTo>
                    <a:pt x="31434" y="5913"/>
                  </a:lnTo>
                  <a:lnTo>
                    <a:pt x="32027" y="4380"/>
                  </a:lnTo>
                  <a:lnTo>
                    <a:pt x="32422" y="3066"/>
                  </a:lnTo>
                  <a:lnTo>
                    <a:pt x="31829" y="2628"/>
                  </a:lnTo>
                  <a:lnTo>
                    <a:pt x="31038" y="2409"/>
                  </a:lnTo>
                  <a:lnTo>
                    <a:pt x="30643" y="2190"/>
                  </a:lnTo>
                  <a:lnTo>
                    <a:pt x="31038" y="1314"/>
                  </a:lnTo>
                  <a:lnTo>
                    <a:pt x="30050" y="877"/>
                  </a:lnTo>
                  <a:lnTo>
                    <a:pt x="29259" y="1314"/>
                  </a:lnTo>
                  <a:lnTo>
                    <a:pt x="28468" y="1096"/>
                  </a:lnTo>
                  <a:lnTo>
                    <a:pt x="28271" y="220"/>
                  </a:lnTo>
                  <a:lnTo>
                    <a:pt x="27282" y="1"/>
                  </a:lnTo>
                  <a:lnTo>
                    <a:pt x="26689" y="658"/>
                  </a:lnTo>
                  <a:lnTo>
                    <a:pt x="26491" y="1314"/>
                  </a:lnTo>
                  <a:lnTo>
                    <a:pt x="26491" y="2190"/>
                  </a:lnTo>
                  <a:lnTo>
                    <a:pt x="25898" y="3504"/>
                  </a:lnTo>
                  <a:lnTo>
                    <a:pt x="25305" y="5256"/>
                  </a:lnTo>
                  <a:lnTo>
                    <a:pt x="24514" y="6570"/>
                  </a:lnTo>
                  <a:lnTo>
                    <a:pt x="23921" y="8322"/>
                  </a:lnTo>
                  <a:lnTo>
                    <a:pt x="22735" y="9636"/>
                  </a:lnTo>
                  <a:lnTo>
                    <a:pt x="21747" y="10950"/>
                  </a:lnTo>
                  <a:lnTo>
                    <a:pt x="20363" y="12044"/>
                  </a:lnTo>
                  <a:lnTo>
                    <a:pt x="19177" y="12920"/>
                  </a:lnTo>
                  <a:lnTo>
                    <a:pt x="18584" y="14015"/>
                  </a:lnTo>
                  <a:lnTo>
                    <a:pt x="19374" y="15110"/>
                  </a:lnTo>
                  <a:lnTo>
                    <a:pt x="20758" y="15986"/>
                  </a:lnTo>
                  <a:lnTo>
                    <a:pt x="20165" y="17081"/>
                  </a:lnTo>
                  <a:lnTo>
                    <a:pt x="19770" y="18395"/>
                  </a:lnTo>
                  <a:lnTo>
                    <a:pt x="19572" y="19709"/>
                  </a:lnTo>
                  <a:lnTo>
                    <a:pt x="19572" y="21241"/>
                  </a:lnTo>
                  <a:lnTo>
                    <a:pt x="19572" y="22555"/>
                  </a:lnTo>
                  <a:lnTo>
                    <a:pt x="19770" y="24088"/>
                  </a:lnTo>
                  <a:lnTo>
                    <a:pt x="19967" y="25402"/>
                  </a:lnTo>
                  <a:lnTo>
                    <a:pt x="20363" y="26935"/>
                  </a:lnTo>
                  <a:lnTo>
                    <a:pt x="19177" y="26497"/>
                  </a:lnTo>
                  <a:lnTo>
                    <a:pt x="18188" y="26059"/>
                  </a:lnTo>
                  <a:lnTo>
                    <a:pt x="17002" y="25840"/>
                  </a:lnTo>
                  <a:lnTo>
                    <a:pt x="16014" y="26278"/>
                  </a:lnTo>
                  <a:lnTo>
                    <a:pt x="16211" y="25183"/>
                  </a:lnTo>
                  <a:lnTo>
                    <a:pt x="16607" y="24088"/>
                  </a:lnTo>
                  <a:lnTo>
                    <a:pt x="16804" y="21898"/>
                  </a:lnTo>
                  <a:lnTo>
                    <a:pt x="17002" y="19709"/>
                  </a:lnTo>
                  <a:lnTo>
                    <a:pt x="16804" y="17300"/>
                  </a:lnTo>
                  <a:lnTo>
                    <a:pt x="16211" y="15548"/>
                  </a:lnTo>
                  <a:lnTo>
                    <a:pt x="16607" y="14453"/>
                  </a:lnTo>
                  <a:lnTo>
                    <a:pt x="16804" y="13358"/>
                  </a:lnTo>
                  <a:lnTo>
                    <a:pt x="16014" y="12482"/>
                  </a:lnTo>
                  <a:lnTo>
                    <a:pt x="15421" y="12482"/>
                  </a:lnTo>
                  <a:lnTo>
                    <a:pt x="14234" y="11168"/>
                  </a:lnTo>
                  <a:lnTo>
                    <a:pt x="13048" y="10074"/>
                  </a:lnTo>
                  <a:lnTo>
                    <a:pt x="11862" y="8760"/>
                  </a:lnTo>
                  <a:lnTo>
                    <a:pt x="11269" y="7665"/>
                  </a:lnTo>
                  <a:lnTo>
                    <a:pt x="10280" y="6132"/>
                  </a:lnTo>
                  <a:lnTo>
                    <a:pt x="9687" y="4818"/>
                  </a:lnTo>
                  <a:lnTo>
                    <a:pt x="9094" y="3285"/>
                  </a:lnTo>
                  <a:lnTo>
                    <a:pt x="9094" y="1752"/>
                  </a:lnTo>
                  <a:lnTo>
                    <a:pt x="8501" y="658"/>
                  </a:lnTo>
                  <a:lnTo>
                    <a:pt x="7908" y="1"/>
                  </a:lnTo>
                  <a:lnTo>
                    <a:pt x="6920" y="220"/>
                  </a:lnTo>
                  <a:lnTo>
                    <a:pt x="6327" y="877"/>
                  </a:lnTo>
                  <a:lnTo>
                    <a:pt x="6524" y="2190"/>
                  </a:lnTo>
                  <a:lnTo>
                    <a:pt x="5536" y="2190"/>
                  </a:lnTo>
                  <a:lnTo>
                    <a:pt x="4943" y="2847"/>
                  </a:lnTo>
                  <a:lnTo>
                    <a:pt x="4745" y="3723"/>
                  </a:lnTo>
                  <a:lnTo>
                    <a:pt x="4152" y="4380"/>
                  </a:lnTo>
                  <a:lnTo>
                    <a:pt x="3757" y="5256"/>
                  </a:lnTo>
                  <a:lnTo>
                    <a:pt x="3559" y="6351"/>
                  </a:lnTo>
                  <a:lnTo>
                    <a:pt x="3954" y="7446"/>
                  </a:lnTo>
                  <a:lnTo>
                    <a:pt x="5140" y="8760"/>
                  </a:lnTo>
                  <a:lnTo>
                    <a:pt x="6129" y="10074"/>
                  </a:lnTo>
                  <a:lnTo>
                    <a:pt x="7117" y="11387"/>
                  </a:lnTo>
                  <a:lnTo>
                    <a:pt x="5140" y="11825"/>
                  </a:lnTo>
                  <a:lnTo>
                    <a:pt x="3361" y="12920"/>
                  </a:lnTo>
                  <a:lnTo>
                    <a:pt x="1977" y="14234"/>
                  </a:lnTo>
                  <a:lnTo>
                    <a:pt x="989" y="16205"/>
                  </a:lnTo>
                  <a:lnTo>
                    <a:pt x="198" y="17519"/>
                  </a:lnTo>
                  <a:lnTo>
                    <a:pt x="0" y="18833"/>
                  </a:lnTo>
                  <a:lnTo>
                    <a:pt x="0" y="20147"/>
                  </a:lnTo>
                  <a:lnTo>
                    <a:pt x="198" y="21679"/>
                  </a:lnTo>
                  <a:lnTo>
                    <a:pt x="396" y="22993"/>
                  </a:lnTo>
                  <a:lnTo>
                    <a:pt x="989" y="24307"/>
                  </a:lnTo>
                  <a:lnTo>
                    <a:pt x="1384" y="25621"/>
                  </a:lnTo>
                  <a:lnTo>
                    <a:pt x="1977" y="27154"/>
                  </a:lnTo>
                  <a:lnTo>
                    <a:pt x="2966" y="28468"/>
                  </a:lnTo>
                  <a:lnTo>
                    <a:pt x="4350" y="29782"/>
                  </a:lnTo>
                  <a:lnTo>
                    <a:pt x="5931" y="30658"/>
                  </a:lnTo>
                  <a:lnTo>
                    <a:pt x="7710" y="31533"/>
                  </a:lnTo>
                  <a:lnTo>
                    <a:pt x="9490" y="31314"/>
                  </a:lnTo>
                  <a:lnTo>
                    <a:pt x="11664" y="31096"/>
                  </a:lnTo>
                  <a:lnTo>
                    <a:pt x="11664" y="32190"/>
                  </a:lnTo>
                  <a:lnTo>
                    <a:pt x="11664" y="-32032"/>
                  </a:lnTo>
                  <a:lnTo>
                    <a:pt x="11664" y="-30937"/>
                  </a:lnTo>
                  <a:lnTo>
                    <a:pt x="11664" y="-29623"/>
                  </a:lnTo>
                  <a:lnTo>
                    <a:pt x="13048" y="-29185"/>
                  </a:lnTo>
                  <a:lnTo>
                    <a:pt x="14432" y="-27871"/>
                  </a:lnTo>
                  <a:lnTo>
                    <a:pt x="15025" y="-26776"/>
                  </a:lnTo>
                  <a:lnTo>
                    <a:pt x="15223" y="-25462"/>
                  </a:lnTo>
                  <a:lnTo>
                    <a:pt x="15421" y="-24149"/>
                  </a:lnTo>
                  <a:lnTo>
                    <a:pt x="15816" y="-22616"/>
                  </a:lnTo>
                  <a:lnTo>
                    <a:pt x="16014" y="-21083"/>
                  </a:lnTo>
                  <a:lnTo>
                    <a:pt x="17002" y="-19769"/>
                  </a:lnTo>
                  <a:lnTo>
                    <a:pt x="17595" y="-20426"/>
                  </a:lnTo>
                  <a:lnTo>
                    <a:pt x="18386" y="-20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Shape 450"/>
            <p:cNvSpPr/>
            <p:nvPr/>
          </p:nvSpPr>
          <p:spPr>
            <a:xfrm>
              <a:off x="7844400" y="4953600"/>
              <a:ext cx="294120" cy="1098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839" h="6133">
                  <a:moveTo>
                    <a:pt x="7117" y="5037"/>
                  </a:moveTo>
                  <a:lnTo>
                    <a:pt x="7710" y="5475"/>
                  </a:lnTo>
                  <a:lnTo>
                    <a:pt x="8501" y="5694"/>
                  </a:lnTo>
                  <a:lnTo>
                    <a:pt x="8699" y="4818"/>
                  </a:lnTo>
                  <a:lnTo>
                    <a:pt x="9292" y="4599"/>
                  </a:lnTo>
                  <a:lnTo>
                    <a:pt x="9490" y="4818"/>
                  </a:lnTo>
                  <a:lnTo>
                    <a:pt x="9885" y="5256"/>
                  </a:lnTo>
                  <a:lnTo>
                    <a:pt x="10478" y="4818"/>
                  </a:lnTo>
                  <a:lnTo>
                    <a:pt x="10873" y="3942"/>
                  </a:lnTo>
                  <a:lnTo>
                    <a:pt x="11466" y="4599"/>
                  </a:lnTo>
                  <a:lnTo>
                    <a:pt x="12257" y="4599"/>
                  </a:lnTo>
                  <a:lnTo>
                    <a:pt x="12653" y="3066"/>
                  </a:lnTo>
                  <a:lnTo>
                    <a:pt x="13246" y="3504"/>
                  </a:lnTo>
                  <a:lnTo>
                    <a:pt x="13839" y="3285"/>
                  </a:lnTo>
                  <a:lnTo>
                    <a:pt x="13641" y="1315"/>
                  </a:lnTo>
                  <a:lnTo>
                    <a:pt x="13246" y="1"/>
                  </a:lnTo>
                  <a:lnTo>
                    <a:pt x="13246" y="1534"/>
                  </a:lnTo>
                  <a:lnTo>
                    <a:pt x="13246" y="3285"/>
                  </a:lnTo>
                  <a:lnTo>
                    <a:pt x="12653" y="2409"/>
                  </a:lnTo>
                  <a:lnTo>
                    <a:pt x="12257" y="2190"/>
                  </a:lnTo>
                  <a:lnTo>
                    <a:pt x="12060" y="3285"/>
                  </a:lnTo>
                  <a:lnTo>
                    <a:pt x="11862" y="4380"/>
                  </a:lnTo>
                  <a:lnTo>
                    <a:pt x="10676" y="3066"/>
                  </a:lnTo>
                  <a:lnTo>
                    <a:pt x="10280" y="3942"/>
                  </a:lnTo>
                  <a:lnTo>
                    <a:pt x="10083" y="5037"/>
                  </a:lnTo>
                  <a:lnTo>
                    <a:pt x="9292" y="4161"/>
                  </a:lnTo>
                  <a:lnTo>
                    <a:pt x="8699" y="3723"/>
                  </a:lnTo>
                  <a:lnTo>
                    <a:pt x="8501" y="4599"/>
                  </a:lnTo>
                  <a:lnTo>
                    <a:pt x="8106" y="5475"/>
                  </a:lnTo>
                  <a:lnTo>
                    <a:pt x="7513" y="4818"/>
                  </a:lnTo>
                  <a:lnTo>
                    <a:pt x="6920" y="4380"/>
                  </a:lnTo>
                  <a:lnTo>
                    <a:pt x="6524" y="4818"/>
                  </a:lnTo>
                  <a:lnTo>
                    <a:pt x="6326" y="5694"/>
                  </a:lnTo>
                  <a:lnTo>
                    <a:pt x="5536" y="4599"/>
                  </a:lnTo>
                  <a:lnTo>
                    <a:pt x="4943" y="4161"/>
                  </a:lnTo>
                  <a:lnTo>
                    <a:pt x="4547" y="4599"/>
                  </a:lnTo>
                  <a:lnTo>
                    <a:pt x="4350" y="5256"/>
                  </a:lnTo>
                  <a:lnTo>
                    <a:pt x="3756" y="4599"/>
                  </a:lnTo>
                  <a:lnTo>
                    <a:pt x="3361" y="3942"/>
                  </a:lnTo>
                  <a:lnTo>
                    <a:pt x="2966" y="4380"/>
                  </a:lnTo>
                  <a:lnTo>
                    <a:pt x="2768" y="5037"/>
                  </a:lnTo>
                  <a:lnTo>
                    <a:pt x="2373" y="3723"/>
                  </a:lnTo>
                  <a:lnTo>
                    <a:pt x="1977" y="2847"/>
                  </a:lnTo>
                  <a:lnTo>
                    <a:pt x="1779" y="3066"/>
                  </a:lnTo>
                  <a:lnTo>
                    <a:pt x="1582" y="3504"/>
                  </a:lnTo>
                  <a:lnTo>
                    <a:pt x="1186" y="2628"/>
                  </a:lnTo>
                  <a:lnTo>
                    <a:pt x="593" y="2409"/>
                  </a:lnTo>
                  <a:lnTo>
                    <a:pt x="396" y="1752"/>
                  </a:lnTo>
                  <a:lnTo>
                    <a:pt x="198" y="1534"/>
                  </a:lnTo>
                  <a:lnTo>
                    <a:pt x="0" y="2190"/>
                  </a:lnTo>
                  <a:lnTo>
                    <a:pt x="396" y="3066"/>
                  </a:lnTo>
                  <a:lnTo>
                    <a:pt x="791" y="3066"/>
                  </a:lnTo>
                  <a:lnTo>
                    <a:pt x="1186" y="3504"/>
                  </a:lnTo>
                  <a:lnTo>
                    <a:pt x="1186" y="3942"/>
                  </a:lnTo>
                  <a:lnTo>
                    <a:pt x="1977" y="4161"/>
                  </a:lnTo>
                  <a:lnTo>
                    <a:pt x="2175" y="4818"/>
                  </a:lnTo>
                  <a:lnTo>
                    <a:pt x="2768" y="5256"/>
                  </a:lnTo>
                  <a:lnTo>
                    <a:pt x="3163" y="5037"/>
                  </a:lnTo>
                  <a:lnTo>
                    <a:pt x="3559" y="4818"/>
                  </a:lnTo>
                  <a:lnTo>
                    <a:pt x="3954" y="5256"/>
                  </a:lnTo>
                  <a:lnTo>
                    <a:pt x="4350" y="5694"/>
                  </a:lnTo>
                  <a:lnTo>
                    <a:pt x="4745" y="5475"/>
                  </a:lnTo>
                  <a:lnTo>
                    <a:pt x="5140" y="5256"/>
                  </a:lnTo>
                  <a:lnTo>
                    <a:pt x="5338" y="5037"/>
                  </a:lnTo>
                  <a:lnTo>
                    <a:pt x="5733" y="5694"/>
                  </a:lnTo>
                  <a:lnTo>
                    <a:pt x="6524" y="6132"/>
                  </a:lnTo>
                  <a:lnTo>
                    <a:pt x="7117" y="50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Shape 451"/>
            <p:cNvSpPr/>
            <p:nvPr/>
          </p:nvSpPr>
          <p:spPr>
            <a:xfrm>
              <a:off x="7225920" y="4726080"/>
              <a:ext cx="370080" cy="309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7398" h="17301">
                  <a:moveTo>
                    <a:pt x="15618" y="16424"/>
                  </a:moveTo>
                  <a:lnTo>
                    <a:pt x="15420" y="15767"/>
                  </a:lnTo>
                  <a:lnTo>
                    <a:pt x="15618" y="15548"/>
                  </a:lnTo>
                  <a:lnTo>
                    <a:pt x="16211" y="16424"/>
                  </a:lnTo>
                  <a:lnTo>
                    <a:pt x="17200" y="16862"/>
                  </a:lnTo>
                  <a:lnTo>
                    <a:pt x="17397" y="15548"/>
                  </a:lnTo>
                  <a:lnTo>
                    <a:pt x="17200" y="14235"/>
                  </a:lnTo>
                  <a:lnTo>
                    <a:pt x="17002" y="14016"/>
                  </a:lnTo>
                  <a:lnTo>
                    <a:pt x="17002" y="15329"/>
                  </a:lnTo>
                  <a:lnTo>
                    <a:pt x="17002" y="16643"/>
                  </a:lnTo>
                  <a:lnTo>
                    <a:pt x="16013" y="15329"/>
                  </a:lnTo>
                  <a:lnTo>
                    <a:pt x="15223" y="14672"/>
                  </a:lnTo>
                  <a:lnTo>
                    <a:pt x="15025" y="15767"/>
                  </a:lnTo>
                  <a:lnTo>
                    <a:pt x="14630" y="17081"/>
                  </a:lnTo>
                  <a:lnTo>
                    <a:pt x="13839" y="15986"/>
                  </a:lnTo>
                  <a:lnTo>
                    <a:pt x="13246" y="15548"/>
                  </a:lnTo>
                  <a:lnTo>
                    <a:pt x="13048" y="16205"/>
                  </a:lnTo>
                  <a:lnTo>
                    <a:pt x="12653" y="16862"/>
                  </a:lnTo>
                  <a:lnTo>
                    <a:pt x="12060" y="15767"/>
                  </a:lnTo>
                  <a:lnTo>
                    <a:pt x="11467" y="14672"/>
                  </a:lnTo>
                  <a:lnTo>
                    <a:pt x="10873" y="15548"/>
                  </a:lnTo>
                  <a:lnTo>
                    <a:pt x="10478" y="16424"/>
                  </a:lnTo>
                  <a:lnTo>
                    <a:pt x="10083" y="15329"/>
                  </a:lnTo>
                  <a:lnTo>
                    <a:pt x="9687" y="14453"/>
                  </a:lnTo>
                  <a:lnTo>
                    <a:pt x="9292" y="14672"/>
                  </a:lnTo>
                  <a:lnTo>
                    <a:pt x="8897" y="15329"/>
                  </a:lnTo>
                  <a:lnTo>
                    <a:pt x="8501" y="15767"/>
                  </a:lnTo>
                  <a:lnTo>
                    <a:pt x="8303" y="15548"/>
                  </a:lnTo>
                  <a:lnTo>
                    <a:pt x="8106" y="14453"/>
                  </a:lnTo>
                  <a:lnTo>
                    <a:pt x="7908" y="13797"/>
                  </a:lnTo>
                  <a:lnTo>
                    <a:pt x="7513" y="14235"/>
                  </a:lnTo>
                  <a:lnTo>
                    <a:pt x="7117" y="14672"/>
                  </a:lnTo>
                  <a:lnTo>
                    <a:pt x="6920" y="13578"/>
                  </a:lnTo>
                  <a:lnTo>
                    <a:pt x="6920" y="12483"/>
                  </a:lnTo>
                  <a:lnTo>
                    <a:pt x="6326" y="12483"/>
                  </a:lnTo>
                  <a:lnTo>
                    <a:pt x="6129" y="12921"/>
                  </a:lnTo>
                  <a:lnTo>
                    <a:pt x="5536" y="12045"/>
                  </a:lnTo>
                  <a:lnTo>
                    <a:pt x="5733" y="11388"/>
                  </a:lnTo>
                  <a:lnTo>
                    <a:pt x="5140" y="11607"/>
                  </a:lnTo>
                  <a:lnTo>
                    <a:pt x="4547" y="12045"/>
                  </a:lnTo>
                  <a:lnTo>
                    <a:pt x="4547" y="11169"/>
                  </a:lnTo>
                  <a:lnTo>
                    <a:pt x="4547" y="10293"/>
                  </a:lnTo>
                  <a:lnTo>
                    <a:pt x="3756" y="10512"/>
                  </a:lnTo>
                  <a:lnTo>
                    <a:pt x="3163" y="10512"/>
                  </a:lnTo>
                  <a:lnTo>
                    <a:pt x="3559" y="9417"/>
                  </a:lnTo>
                  <a:lnTo>
                    <a:pt x="3954" y="8541"/>
                  </a:lnTo>
                  <a:lnTo>
                    <a:pt x="2373" y="9198"/>
                  </a:lnTo>
                  <a:lnTo>
                    <a:pt x="2373" y="7665"/>
                  </a:lnTo>
                  <a:lnTo>
                    <a:pt x="2966" y="6351"/>
                  </a:lnTo>
                  <a:lnTo>
                    <a:pt x="2373" y="6570"/>
                  </a:lnTo>
                  <a:lnTo>
                    <a:pt x="1780" y="6789"/>
                  </a:lnTo>
                  <a:lnTo>
                    <a:pt x="1977" y="5694"/>
                  </a:lnTo>
                  <a:lnTo>
                    <a:pt x="2570" y="4818"/>
                  </a:lnTo>
                  <a:lnTo>
                    <a:pt x="1582" y="4818"/>
                  </a:lnTo>
                  <a:lnTo>
                    <a:pt x="791" y="4818"/>
                  </a:lnTo>
                  <a:lnTo>
                    <a:pt x="1186" y="3943"/>
                  </a:lnTo>
                  <a:lnTo>
                    <a:pt x="1780" y="2848"/>
                  </a:lnTo>
                  <a:lnTo>
                    <a:pt x="1186" y="2848"/>
                  </a:lnTo>
                  <a:lnTo>
                    <a:pt x="593" y="2848"/>
                  </a:lnTo>
                  <a:lnTo>
                    <a:pt x="791" y="1972"/>
                  </a:lnTo>
                  <a:lnTo>
                    <a:pt x="593" y="1315"/>
                  </a:lnTo>
                  <a:lnTo>
                    <a:pt x="989" y="658"/>
                  </a:lnTo>
                  <a:lnTo>
                    <a:pt x="1384" y="1"/>
                  </a:lnTo>
                  <a:lnTo>
                    <a:pt x="396" y="439"/>
                  </a:lnTo>
                  <a:lnTo>
                    <a:pt x="0" y="1753"/>
                  </a:lnTo>
                  <a:lnTo>
                    <a:pt x="198" y="1972"/>
                  </a:lnTo>
                  <a:lnTo>
                    <a:pt x="198" y="2848"/>
                  </a:lnTo>
                  <a:lnTo>
                    <a:pt x="396" y="3286"/>
                  </a:lnTo>
                  <a:lnTo>
                    <a:pt x="1186" y="3505"/>
                  </a:lnTo>
                  <a:lnTo>
                    <a:pt x="593" y="4381"/>
                  </a:lnTo>
                  <a:lnTo>
                    <a:pt x="791" y="5475"/>
                  </a:lnTo>
                  <a:lnTo>
                    <a:pt x="1780" y="5694"/>
                  </a:lnTo>
                  <a:lnTo>
                    <a:pt x="1384" y="6132"/>
                  </a:lnTo>
                  <a:lnTo>
                    <a:pt x="1384" y="7008"/>
                  </a:lnTo>
                  <a:lnTo>
                    <a:pt x="2373" y="7227"/>
                  </a:lnTo>
                  <a:lnTo>
                    <a:pt x="1977" y="8103"/>
                  </a:lnTo>
                  <a:lnTo>
                    <a:pt x="1977" y="9198"/>
                  </a:lnTo>
                  <a:lnTo>
                    <a:pt x="2373" y="9417"/>
                  </a:lnTo>
                  <a:lnTo>
                    <a:pt x="2966" y="9417"/>
                  </a:lnTo>
                  <a:lnTo>
                    <a:pt x="3163" y="9198"/>
                  </a:lnTo>
                  <a:lnTo>
                    <a:pt x="3361" y="9198"/>
                  </a:lnTo>
                  <a:lnTo>
                    <a:pt x="3163" y="9855"/>
                  </a:lnTo>
                  <a:lnTo>
                    <a:pt x="2966" y="10950"/>
                  </a:lnTo>
                  <a:lnTo>
                    <a:pt x="3559" y="10950"/>
                  </a:lnTo>
                  <a:lnTo>
                    <a:pt x="4152" y="10950"/>
                  </a:lnTo>
                  <a:lnTo>
                    <a:pt x="3954" y="11826"/>
                  </a:lnTo>
                  <a:lnTo>
                    <a:pt x="4350" y="12483"/>
                  </a:lnTo>
                  <a:lnTo>
                    <a:pt x="4745" y="12264"/>
                  </a:lnTo>
                  <a:lnTo>
                    <a:pt x="5338" y="12264"/>
                  </a:lnTo>
                  <a:lnTo>
                    <a:pt x="5338" y="12921"/>
                  </a:lnTo>
                  <a:lnTo>
                    <a:pt x="5733" y="13578"/>
                  </a:lnTo>
                  <a:lnTo>
                    <a:pt x="6524" y="13359"/>
                  </a:lnTo>
                  <a:lnTo>
                    <a:pt x="6524" y="14453"/>
                  </a:lnTo>
                  <a:lnTo>
                    <a:pt x="7117" y="15110"/>
                  </a:lnTo>
                  <a:lnTo>
                    <a:pt x="7710" y="15110"/>
                  </a:lnTo>
                  <a:lnTo>
                    <a:pt x="8106" y="15986"/>
                  </a:lnTo>
                  <a:lnTo>
                    <a:pt x="9094" y="16205"/>
                  </a:lnTo>
                  <a:lnTo>
                    <a:pt x="9292" y="15767"/>
                  </a:lnTo>
                  <a:lnTo>
                    <a:pt x="9687" y="15548"/>
                  </a:lnTo>
                  <a:lnTo>
                    <a:pt x="9885" y="16205"/>
                  </a:lnTo>
                  <a:lnTo>
                    <a:pt x="10280" y="16862"/>
                  </a:lnTo>
                  <a:lnTo>
                    <a:pt x="10873" y="16424"/>
                  </a:lnTo>
                  <a:lnTo>
                    <a:pt x="11467" y="15986"/>
                  </a:lnTo>
                  <a:lnTo>
                    <a:pt x="11862" y="16862"/>
                  </a:lnTo>
                  <a:lnTo>
                    <a:pt x="13048" y="17081"/>
                  </a:lnTo>
                  <a:lnTo>
                    <a:pt x="13641" y="16424"/>
                  </a:lnTo>
                  <a:lnTo>
                    <a:pt x="13839" y="16862"/>
                  </a:lnTo>
                  <a:lnTo>
                    <a:pt x="14630" y="17300"/>
                  </a:lnTo>
                  <a:lnTo>
                    <a:pt x="15223" y="17081"/>
                  </a:lnTo>
                  <a:lnTo>
                    <a:pt x="15618" y="16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Shape 452"/>
            <p:cNvSpPr/>
            <p:nvPr/>
          </p:nvSpPr>
          <p:spPr>
            <a:xfrm>
              <a:off x="7612920" y="4734000"/>
              <a:ext cx="210240" cy="2980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9885" h="16644">
                  <a:moveTo>
                    <a:pt x="5140" y="16643"/>
                  </a:moveTo>
                  <a:lnTo>
                    <a:pt x="5140" y="14672"/>
                  </a:lnTo>
                  <a:lnTo>
                    <a:pt x="5338" y="12702"/>
                  </a:lnTo>
                  <a:lnTo>
                    <a:pt x="5338" y="10950"/>
                  </a:lnTo>
                  <a:lnTo>
                    <a:pt x="5338" y="9198"/>
                  </a:lnTo>
                  <a:lnTo>
                    <a:pt x="5338" y="7227"/>
                  </a:lnTo>
                  <a:lnTo>
                    <a:pt x="5338" y="5475"/>
                  </a:lnTo>
                  <a:lnTo>
                    <a:pt x="5338" y="3505"/>
                  </a:lnTo>
                  <a:lnTo>
                    <a:pt x="5733" y="1753"/>
                  </a:lnTo>
                  <a:lnTo>
                    <a:pt x="5931" y="1753"/>
                  </a:lnTo>
                  <a:lnTo>
                    <a:pt x="6326" y="1753"/>
                  </a:lnTo>
                  <a:lnTo>
                    <a:pt x="6129" y="3067"/>
                  </a:lnTo>
                  <a:lnTo>
                    <a:pt x="5931" y="4380"/>
                  </a:lnTo>
                  <a:lnTo>
                    <a:pt x="5931" y="5694"/>
                  </a:lnTo>
                  <a:lnTo>
                    <a:pt x="5931" y="7008"/>
                  </a:lnTo>
                  <a:lnTo>
                    <a:pt x="5931" y="8322"/>
                  </a:lnTo>
                  <a:lnTo>
                    <a:pt x="5931" y="9855"/>
                  </a:lnTo>
                  <a:lnTo>
                    <a:pt x="5931" y="11169"/>
                  </a:lnTo>
                  <a:lnTo>
                    <a:pt x="5931" y="12702"/>
                  </a:lnTo>
                  <a:lnTo>
                    <a:pt x="6524" y="10512"/>
                  </a:lnTo>
                  <a:lnTo>
                    <a:pt x="7710" y="8760"/>
                  </a:lnTo>
                  <a:lnTo>
                    <a:pt x="8303" y="8103"/>
                  </a:lnTo>
                  <a:lnTo>
                    <a:pt x="9292" y="7884"/>
                  </a:lnTo>
                  <a:lnTo>
                    <a:pt x="9687" y="7227"/>
                  </a:lnTo>
                  <a:lnTo>
                    <a:pt x="9885" y="6351"/>
                  </a:lnTo>
                  <a:lnTo>
                    <a:pt x="9094" y="4380"/>
                  </a:lnTo>
                  <a:lnTo>
                    <a:pt x="8303" y="2410"/>
                  </a:lnTo>
                  <a:lnTo>
                    <a:pt x="7117" y="877"/>
                  </a:lnTo>
                  <a:lnTo>
                    <a:pt x="5733" y="1"/>
                  </a:lnTo>
                  <a:lnTo>
                    <a:pt x="4547" y="1"/>
                  </a:lnTo>
                  <a:lnTo>
                    <a:pt x="3361" y="220"/>
                  </a:lnTo>
                  <a:lnTo>
                    <a:pt x="2372" y="439"/>
                  </a:lnTo>
                  <a:lnTo>
                    <a:pt x="1779" y="1534"/>
                  </a:lnTo>
                  <a:lnTo>
                    <a:pt x="989" y="2191"/>
                  </a:lnTo>
                  <a:lnTo>
                    <a:pt x="593" y="3286"/>
                  </a:lnTo>
                  <a:lnTo>
                    <a:pt x="0" y="4380"/>
                  </a:lnTo>
                  <a:lnTo>
                    <a:pt x="198" y="5913"/>
                  </a:lnTo>
                  <a:lnTo>
                    <a:pt x="198" y="7008"/>
                  </a:lnTo>
                  <a:lnTo>
                    <a:pt x="989" y="8322"/>
                  </a:lnTo>
                  <a:lnTo>
                    <a:pt x="1977" y="8979"/>
                  </a:lnTo>
                  <a:lnTo>
                    <a:pt x="2966" y="10074"/>
                  </a:lnTo>
                  <a:lnTo>
                    <a:pt x="3361" y="11388"/>
                  </a:lnTo>
                  <a:lnTo>
                    <a:pt x="3954" y="12921"/>
                  </a:lnTo>
                  <a:lnTo>
                    <a:pt x="3756" y="11388"/>
                  </a:lnTo>
                  <a:lnTo>
                    <a:pt x="3756" y="9855"/>
                  </a:lnTo>
                  <a:lnTo>
                    <a:pt x="3756" y="8322"/>
                  </a:lnTo>
                  <a:lnTo>
                    <a:pt x="3756" y="7008"/>
                  </a:lnTo>
                  <a:lnTo>
                    <a:pt x="3756" y="5475"/>
                  </a:lnTo>
                  <a:lnTo>
                    <a:pt x="3756" y="4161"/>
                  </a:lnTo>
                  <a:lnTo>
                    <a:pt x="3954" y="2629"/>
                  </a:lnTo>
                  <a:lnTo>
                    <a:pt x="4349" y="1315"/>
                  </a:lnTo>
                  <a:lnTo>
                    <a:pt x="4547" y="1315"/>
                  </a:lnTo>
                  <a:lnTo>
                    <a:pt x="4745" y="1753"/>
                  </a:lnTo>
                  <a:lnTo>
                    <a:pt x="4152" y="3505"/>
                  </a:lnTo>
                  <a:lnTo>
                    <a:pt x="4152" y="5256"/>
                  </a:lnTo>
                  <a:lnTo>
                    <a:pt x="4152" y="7008"/>
                  </a:lnTo>
                  <a:lnTo>
                    <a:pt x="4349" y="8979"/>
                  </a:lnTo>
                  <a:lnTo>
                    <a:pt x="4349" y="10731"/>
                  </a:lnTo>
                  <a:lnTo>
                    <a:pt x="4547" y="12483"/>
                  </a:lnTo>
                  <a:lnTo>
                    <a:pt x="4547" y="14453"/>
                  </a:lnTo>
                  <a:lnTo>
                    <a:pt x="4745" y="16424"/>
                  </a:lnTo>
                  <a:lnTo>
                    <a:pt x="4942" y="16643"/>
                  </a:lnTo>
                  <a:lnTo>
                    <a:pt x="5140" y="16643"/>
                  </a:lnTo>
                  <a:close/>
                </a:path>
              </a:pathLst>
            </a:custGeom>
            <a:solidFill>
              <a:srgbClr val="f2d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Shape 453"/>
            <p:cNvSpPr/>
            <p:nvPr/>
          </p:nvSpPr>
          <p:spPr>
            <a:xfrm>
              <a:off x="7196760" y="4839840"/>
              <a:ext cx="92520" cy="1530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350" h="8541">
                  <a:moveTo>
                    <a:pt x="4350" y="6789"/>
                  </a:moveTo>
                  <a:lnTo>
                    <a:pt x="4350" y="6351"/>
                  </a:lnTo>
                  <a:lnTo>
                    <a:pt x="3757" y="7008"/>
                  </a:lnTo>
                  <a:lnTo>
                    <a:pt x="3164" y="7884"/>
                  </a:lnTo>
                  <a:lnTo>
                    <a:pt x="2966" y="6351"/>
                  </a:lnTo>
                  <a:lnTo>
                    <a:pt x="2768" y="5256"/>
                  </a:lnTo>
                  <a:lnTo>
                    <a:pt x="2175" y="5694"/>
                  </a:lnTo>
                  <a:lnTo>
                    <a:pt x="1780" y="6351"/>
                  </a:lnTo>
                  <a:lnTo>
                    <a:pt x="1582" y="5475"/>
                  </a:lnTo>
                  <a:lnTo>
                    <a:pt x="1582" y="4818"/>
                  </a:lnTo>
                  <a:lnTo>
                    <a:pt x="1187" y="4599"/>
                  </a:lnTo>
                  <a:lnTo>
                    <a:pt x="989" y="5037"/>
                  </a:lnTo>
                  <a:lnTo>
                    <a:pt x="791" y="5037"/>
                  </a:lnTo>
                  <a:lnTo>
                    <a:pt x="594" y="5256"/>
                  </a:lnTo>
                  <a:lnTo>
                    <a:pt x="396" y="3723"/>
                  </a:lnTo>
                  <a:lnTo>
                    <a:pt x="594" y="2409"/>
                  </a:lnTo>
                  <a:lnTo>
                    <a:pt x="396" y="1095"/>
                  </a:lnTo>
                  <a:lnTo>
                    <a:pt x="396" y="0"/>
                  </a:lnTo>
                  <a:lnTo>
                    <a:pt x="0" y="1095"/>
                  </a:lnTo>
                  <a:lnTo>
                    <a:pt x="198" y="2409"/>
                  </a:lnTo>
                  <a:lnTo>
                    <a:pt x="198" y="3942"/>
                  </a:lnTo>
                  <a:lnTo>
                    <a:pt x="198" y="5475"/>
                  </a:lnTo>
                  <a:lnTo>
                    <a:pt x="396" y="5475"/>
                  </a:lnTo>
                  <a:lnTo>
                    <a:pt x="791" y="5694"/>
                  </a:lnTo>
                  <a:lnTo>
                    <a:pt x="989" y="5475"/>
                  </a:lnTo>
                  <a:lnTo>
                    <a:pt x="1187" y="6351"/>
                  </a:lnTo>
                  <a:lnTo>
                    <a:pt x="2175" y="6789"/>
                  </a:lnTo>
                  <a:lnTo>
                    <a:pt x="2373" y="6351"/>
                  </a:lnTo>
                  <a:lnTo>
                    <a:pt x="2570" y="5913"/>
                  </a:lnTo>
                  <a:lnTo>
                    <a:pt x="2570" y="7227"/>
                  </a:lnTo>
                  <a:lnTo>
                    <a:pt x="2966" y="8540"/>
                  </a:lnTo>
                  <a:lnTo>
                    <a:pt x="3757" y="7884"/>
                  </a:lnTo>
                  <a:lnTo>
                    <a:pt x="4350" y="67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2280" bIns="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Shape 454"/>
            <p:cNvSpPr/>
            <p:nvPr/>
          </p:nvSpPr>
          <p:spPr>
            <a:xfrm>
              <a:off x="8138880" y="4686840"/>
              <a:ext cx="205920" cy="2782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688" h="15548">
                  <a:moveTo>
                    <a:pt x="1978" y="14891"/>
                  </a:moveTo>
                  <a:lnTo>
                    <a:pt x="1780" y="14234"/>
                  </a:lnTo>
                  <a:lnTo>
                    <a:pt x="1780" y="13796"/>
                  </a:lnTo>
                  <a:lnTo>
                    <a:pt x="2571" y="14015"/>
                  </a:lnTo>
                  <a:lnTo>
                    <a:pt x="3559" y="13796"/>
                  </a:lnTo>
                  <a:lnTo>
                    <a:pt x="3362" y="12701"/>
                  </a:lnTo>
                  <a:lnTo>
                    <a:pt x="3362" y="11825"/>
                  </a:lnTo>
                  <a:lnTo>
                    <a:pt x="4152" y="12263"/>
                  </a:lnTo>
                  <a:lnTo>
                    <a:pt x="4943" y="12701"/>
                  </a:lnTo>
                  <a:lnTo>
                    <a:pt x="4943" y="11387"/>
                  </a:lnTo>
                  <a:lnTo>
                    <a:pt x="4943" y="10292"/>
                  </a:lnTo>
                  <a:lnTo>
                    <a:pt x="5339" y="10511"/>
                  </a:lnTo>
                  <a:lnTo>
                    <a:pt x="5932" y="10730"/>
                  </a:lnTo>
                  <a:lnTo>
                    <a:pt x="6129" y="9854"/>
                  </a:lnTo>
                  <a:lnTo>
                    <a:pt x="6129" y="8978"/>
                  </a:lnTo>
                  <a:lnTo>
                    <a:pt x="5932" y="8759"/>
                  </a:lnTo>
                  <a:lnTo>
                    <a:pt x="5932" y="8540"/>
                  </a:lnTo>
                  <a:lnTo>
                    <a:pt x="6722" y="8540"/>
                  </a:lnTo>
                  <a:lnTo>
                    <a:pt x="7315" y="7883"/>
                  </a:lnTo>
                  <a:lnTo>
                    <a:pt x="7118" y="6788"/>
                  </a:lnTo>
                  <a:lnTo>
                    <a:pt x="7711" y="7007"/>
                  </a:lnTo>
                  <a:lnTo>
                    <a:pt x="8304" y="6570"/>
                  </a:lnTo>
                  <a:lnTo>
                    <a:pt x="8106" y="5037"/>
                  </a:lnTo>
                  <a:lnTo>
                    <a:pt x="7711" y="3942"/>
                  </a:lnTo>
                  <a:lnTo>
                    <a:pt x="8502" y="4380"/>
                  </a:lnTo>
                  <a:lnTo>
                    <a:pt x="9688" y="4818"/>
                  </a:lnTo>
                  <a:lnTo>
                    <a:pt x="9292" y="3504"/>
                  </a:lnTo>
                  <a:lnTo>
                    <a:pt x="8699" y="2190"/>
                  </a:lnTo>
                  <a:lnTo>
                    <a:pt x="7909" y="1095"/>
                  </a:lnTo>
                  <a:lnTo>
                    <a:pt x="7315" y="0"/>
                  </a:lnTo>
                  <a:lnTo>
                    <a:pt x="6920" y="0"/>
                  </a:lnTo>
                  <a:lnTo>
                    <a:pt x="6920" y="219"/>
                  </a:lnTo>
                  <a:lnTo>
                    <a:pt x="8304" y="2190"/>
                  </a:lnTo>
                  <a:lnTo>
                    <a:pt x="9292" y="4380"/>
                  </a:lnTo>
                  <a:lnTo>
                    <a:pt x="7909" y="3504"/>
                  </a:lnTo>
                  <a:lnTo>
                    <a:pt x="6722" y="3066"/>
                  </a:lnTo>
                  <a:lnTo>
                    <a:pt x="7513" y="4818"/>
                  </a:lnTo>
                  <a:lnTo>
                    <a:pt x="7909" y="6570"/>
                  </a:lnTo>
                  <a:lnTo>
                    <a:pt x="6920" y="5913"/>
                  </a:lnTo>
                  <a:lnTo>
                    <a:pt x="5932" y="5037"/>
                  </a:lnTo>
                  <a:lnTo>
                    <a:pt x="6129" y="5913"/>
                  </a:lnTo>
                  <a:lnTo>
                    <a:pt x="6722" y="7007"/>
                  </a:lnTo>
                  <a:lnTo>
                    <a:pt x="6722" y="7445"/>
                  </a:lnTo>
                  <a:lnTo>
                    <a:pt x="6525" y="8102"/>
                  </a:lnTo>
                  <a:lnTo>
                    <a:pt x="5734" y="7664"/>
                  </a:lnTo>
                  <a:lnTo>
                    <a:pt x="4943" y="7226"/>
                  </a:lnTo>
                  <a:lnTo>
                    <a:pt x="5339" y="8759"/>
                  </a:lnTo>
                  <a:lnTo>
                    <a:pt x="5734" y="10292"/>
                  </a:lnTo>
                  <a:lnTo>
                    <a:pt x="4745" y="9635"/>
                  </a:lnTo>
                  <a:lnTo>
                    <a:pt x="4152" y="9416"/>
                  </a:lnTo>
                  <a:lnTo>
                    <a:pt x="4350" y="10730"/>
                  </a:lnTo>
                  <a:lnTo>
                    <a:pt x="4548" y="12263"/>
                  </a:lnTo>
                  <a:lnTo>
                    <a:pt x="3757" y="11606"/>
                  </a:lnTo>
                  <a:lnTo>
                    <a:pt x="2966" y="11387"/>
                  </a:lnTo>
                  <a:lnTo>
                    <a:pt x="2966" y="12482"/>
                  </a:lnTo>
                  <a:lnTo>
                    <a:pt x="2966" y="13796"/>
                  </a:lnTo>
                  <a:lnTo>
                    <a:pt x="1978" y="13358"/>
                  </a:lnTo>
                  <a:lnTo>
                    <a:pt x="1187" y="12920"/>
                  </a:lnTo>
                  <a:lnTo>
                    <a:pt x="1385" y="14015"/>
                  </a:lnTo>
                  <a:lnTo>
                    <a:pt x="1385" y="15110"/>
                  </a:lnTo>
                  <a:lnTo>
                    <a:pt x="1" y="14015"/>
                  </a:lnTo>
                  <a:lnTo>
                    <a:pt x="396" y="14672"/>
                  </a:lnTo>
                  <a:lnTo>
                    <a:pt x="1187" y="15548"/>
                  </a:lnTo>
                  <a:lnTo>
                    <a:pt x="1780" y="15329"/>
                  </a:lnTo>
                  <a:lnTo>
                    <a:pt x="1978" y="148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Shape 455"/>
            <p:cNvSpPr/>
            <p:nvPr/>
          </p:nvSpPr>
          <p:spPr>
            <a:xfrm>
              <a:off x="7066080" y="4761360"/>
              <a:ext cx="58680" cy="86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769" h="4819">
                  <a:moveTo>
                    <a:pt x="2373" y="4818"/>
                  </a:moveTo>
                  <a:lnTo>
                    <a:pt x="1978" y="3942"/>
                  </a:lnTo>
                  <a:lnTo>
                    <a:pt x="1385" y="3285"/>
                  </a:lnTo>
                  <a:lnTo>
                    <a:pt x="1978" y="2628"/>
                  </a:lnTo>
                  <a:lnTo>
                    <a:pt x="2769" y="2628"/>
                  </a:lnTo>
                  <a:lnTo>
                    <a:pt x="2769" y="2410"/>
                  </a:lnTo>
                  <a:lnTo>
                    <a:pt x="1582" y="1972"/>
                  </a:lnTo>
                  <a:lnTo>
                    <a:pt x="594" y="1315"/>
                  </a:lnTo>
                  <a:lnTo>
                    <a:pt x="1385" y="439"/>
                  </a:lnTo>
                  <a:lnTo>
                    <a:pt x="2571" y="220"/>
                  </a:lnTo>
                  <a:lnTo>
                    <a:pt x="1385" y="1"/>
                  </a:lnTo>
                  <a:lnTo>
                    <a:pt x="396" y="658"/>
                  </a:lnTo>
                  <a:lnTo>
                    <a:pt x="1" y="1315"/>
                  </a:lnTo>
                  <a:lnTo>
                    <a:pt x="594" y="1753"/>
                  </a:lnTo>
                  <a:lnTo>
                    <a:pt x="1385" y="2410"/>
                  </a:lnTo>
                  <a:lnTo>
                    <a:pt x="989" y="2847"/>
                  </a:lnTo>
                  <a:lnTo>
                    <a:pt x="989" y="3723"/>
                  </a:lnTo>
                  <a:lnTo>
                    <a:pt x="1582" y="4161"/>
                  </a:lnTo>
                  <a:lnTo>
                    <a:pt x="2373" y="4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Shape 456"/>
            <p:cNvSpPr/>
            <p:nvPr/>
          </p:nvSpPr>
          <p:spPr>
            <a:xfrm>
              <a:off x="6969600" y="4737600"/>
              <a:ext cx="75600" cy="900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560" h="5038">
                  <a:moveTo>
                    <a:pt x="3164" y="4818"/>
                  </a:moveTo>
                  <a:lnTo>
                    <a:pt x="3559" y="4380"/>
                  </a:lnTo>
                  <a:lnTo>
                    <a:pt x="2966" y="3724"/>
                  </a:lnTo>
                  <a:lnTo>
                    <a:pt x="2373" y="3505"/>
                  </a:lnTo>
                  <a:lnTo>
                    <a:pt x="1583" y="3067"/>
                  </a:lnTo>
                  <a:lnTo>
                    <a:pt x="1187" y="2410"/>
                  </a:lnTo>
                  <a:lnTo>
                    <a:pt x="2176" y="2410"/>
                  </a:lnTo>
                  <a:lnTo>
                    <a:pt x="3362" y="2410"/>
                  </a:lnTo>
                  <a:lnTo>
                    <a:pt x="1780" y="1534"/>
                  </a:lnTo>
                  <a:lnTo>
                    <a:pt x="594" y="877"/>
                  </a:lnTo>
                  <a:lnTo>
                    <a:pt x="1780" y="220"/>
                  </a:lnTo>
                  <a:lnTo>
                    <a:pt x="3164" y="877"/>
                  </a:lnTo>
                  <a:lnTo>
                    <a:pt x="3164" y="439"/>
                  </a:lnTo>
                  <a:lnTo>
                    <a:pt x="1780" y="1"/>
                  </a:lnTo>
                  <a:lnTo>
                    <a:pt x="396" y="220"/>
                  </a:lnTo>
                  <a:lnTo>
                    <a:pt x="1" y="658"/>
                  </a:lnTo>
                  <a:lnTo>
                    <a:pt x="396" y="1096"/>
                  </a:lnTo>
                  <a:lnTo>
                    <a:pt x="989" y="1534"/>
                  </a:lnTo>
                  <a:lnTo>
                    <a:pt x="594" y="2191"/>
                  </a:lnTo>
                  <a:lnTo>
                    <a:pt x="594" y="2848"/>
                  </a:lnTo>
                  <a:lnTo>
                    <a:pt x="1385" y="3505"/>
                  </a:lnTo>
                  <a:lnTo>
                    <a:pt x="1978" y="4161"/>
                  </a:lnTo>
                  <a:lnTo>
                    <a:pt x="2176" y="4380"/>
                  </a:lnTo>
                  <a:lnTo>
                    <a:pt x="2769" y="4818"/>
                  </a:lnTo>
                  <a:lnTo>
                    <a:pt x="2571" y="5037"/>
                  </a:lnTo>
                  <a:lnTo>
                    <a:pt x="2769" y="4818"/>
                  </a:lnTo>
                  <a:lnTo>
                    <a:pt x="3164" y="4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Shape 457"/>
            <p:cNvSpPr/>
            <p:nvPr/>
          </p:nvSpPr>
          <p:spPr>
            <a:xfrm>
              <a:off x="8416440" y="4749480"/>
              <a:ext cx="54360" cy="745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71" h="4162">
                  <a:moveTo>
                    <a:pt x="2571" y="658"/>
                  </a:moveTo>
                  <a:lnTo>
                    <a:pt x="1582" y="658"/>
                  </a:lnTo>
                  <a:lnTo>
                    <a:pt x="1384" y="220"/>
                  </a:lnTo>
                  <a:lnTo>
                    <a:pt x="594" y="1"/>
                  </a:lnTo>
                  <a:lnTo>
                    <a:pt x="396" y="658"/>
                  </a:lnTo>
                  <a:lnTo>
                    <a:pt x="594" y="658"/>
                  </a:lnTo>
                  <a:lnTo>
                    <a:pt x="989" y="439"/>
                  </a:lnTo>
                  <a:lnTo>
                    <a:pt x="989" y="877"/>
                  </a:lnTo>
                  <a:lnTo>
                    <a:pt x="1187" y="1534"/>
                  </a:lnTo>
                  <a:lnTo>
                    <a:pt x="1582" y="1096"/>
                  </a:lnTo>
                  <a:lnTo>
                    <a:pt x="2175" y="1096"/>
                  </a:lnTo>
                  <a:lnTo>
                    <a:pt x="1187" y="2629"/>
                  </a:lnTo>
                  <a:lnTo>
                    <a:pt x="1" y="3723"/>
                  </a:lnTo>
                  <a:lnTo>
                    <a:pt x="198" y="4161"/>
                  </a:lnTo>
                  <a:lnTo>
                    <a:pt x="1582" y="2629"/>
                  </a:lnTo>
                  <a:lnTo>
                    <a:pt x="2571" y="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Shape 458"/>
            <p:cNvSpPr/>
            <p:nvPr/>
          </p:nvSpPr>
          <p:spPr>
            <a:xfrm>
              <a:off x="7789680" y="4537800"/>
              <a:ext cx="281520" cy="2746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3246" h="15330">
                  <a:moveTo>
                    <a:pt x="13048" y="11826"/>
                  </a:moveTo>
                  <a:lnTo>
                    <a:pt x="13048" y="10512"/>
                  </a:lnTo>
                  <a:lnTo>
                    <a:pt x="13246" y="9417"/>
                  </a:lnTo>
                  <a:lnTo>
                    <a:pt x="13246" y="8103"/>
                  </a:lnTo>
                  <a:lnTo>
                    <a:pt x="13246" y="7008"/>
                  </a:lnTo>
                  <a:lnTo>
                    <a:pt x="12653" y="4600"/>
                  </a:lnTo>
                  <a:lnTo>
                    <a:pt x="11862" y="2848"/>
                  </a:lnTo>
                  <a:lnTo>
                    <a:pt x="10873" y="1534"/>
                  </a:lnTo>
                  <a:lnTo>
                    <a:pt x="9885" y="1096"/>
                  </a:lnTo>
                  <a:lnTo>
                    <a:pt x="8699" y="439"/>
                  </a:lnTo>
                  <a:lnTo>
                    <a:pt x="7710" y="1"/>
                  </a:lnTo>
                  <a:lnTo>
                    <a:pt x="6524" y="1"/>
                  </a:lnTo>
                  <a:lnTo>
                    <a:pt x="5338" y="1"/>
                  </a:lnTo>
                  <a:lnTo>
                    <a:pt x="4152" y="1"/>
                  </a:lnTo>
                  <a:lnTo>
                    <a:pt x="3361" y="658"/>
                  </a:lnTo>
                  <a:lnTo>
                    <a:pt x="2768" y="658"/>
                  </a:lnTo>
                  <a:lnTo>
                    <a:pt x="1384" y="1753"/>
                  </a:lnTo>
                  <a:lnTo>
                    <a:pt x="593" y="3286"/>
                  </a:lnTo>
                  <a:lnTo>
                    <a:pt x="0" y="5037"/>
                  </a:lnTo>
                  <a:lnTo>
                    <a:pt x="0" y="7008"/>
                  </a:lnTo>
                  <a:lnTo>
                    <a:pt x="0" y="7884"/>
                  </a:lnTo>
                  <a:lnTo>
                    <a:pt x="396" y="9198"/>
                  </a:lnTo>
                  <a:lnTo>
                    <a:pt x="791" y="10293"/>
                  </a:lnTo>
                  <a:lnTo>
                    <a:pt x="1384" y="11388"/>
                  </a:lnTo>
                  <a:lnTo>
                    <a:pt x="1186" y="10293"/>
                  </a:lnTo>
                  <a:lnTo>
                    <a:pt x="1582" y="9417"/>
                  </a:lnTo>
                  <a:lnTo>
                    <a:pt x="2570" y="8322"/>
                  </a:lnTo>
                  <a:lnTo>
                    <a:pt x="4152" y="7884"/>
                  </a:lnTo>
                  <a:lnTo>
                    <a:pt x="5931" y="8541"/>
                  </a:lnTo>
                  <a:lnTo>
                    <a:pt x="7315" y="9855"/>
                  </a:lnTo>
                  <a:lnTo>
                    <a:pt x="7710" y="11388"/>
                  </a:lnTo>
                  <a:lnTo>
                    <a:pt x="7710" y="13140"/>
                  </a:lnTo>
                  <a:lnTo>
                    <a:pt x="6326" y="14454"/>
                  </a:lnTo>
                  <a:lnTo>
                    <a:pt x="4745" y="15110"/>
                  </a:lnTo>
                  <a:lnTo>
                    <a:pt x="5733" y="15110"/>
                  </a:lnTo>
                  <a:lnTo>
                    <a:pt x="6920" y="15329"/>
                  </a:lnTo>
                  <a:lnTo>
                    <a:pt x="8106" y="15110"/>
                  </a:lnTo>
                  <a:lnTo>
                    <a:pt x="9292" y="15110"/>
                  </a:lnTo>
                  <a:lnTo>
                    <a:pt x="10280" y="14454"/>
                  </a:lnTo>
                  <a:lnTo>
                    <a:pt x="11466" y="13797"/>
                  </a:lnTo>
                  <a:lnTo>
                    <a:pt x="12257" y="12921"/>
                  </a:lnTo>
                  <a:lnTo>
                    <a:pt x="13048" y="118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Shape 459"/>
            <p:cNvSpPr/>
            <p:nvPr/>
          </p:nvSpPr>
          <p:spPr>
            <a:xfrm>
              <a:off x="7360560" y="4466880"/>
              <a:ext cx="176400" cy="33336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304" h="18614">
                  <a:moveTo>
                    <a:pt x="7117" y="18614"/>
                  </a:moveTo>
                  <a:lnTo>
                    <a:pt x="5141" y="17081"/>
                  </a:lnTo>
                  <a:lnTo>
                    <a:pt x="3559" y="15329"/>
                  </a:lnTo>
                  <a:lnTo>
                    <a:pt x="2373" y="13358"/>
                  </a:lnTo>
                  <a:lnTo>
                    <a:pt x="1977" y="11168"/>
                  </a:lnTo>
                  <a:lnTo>
                    <a:pt x="1780" y="9854"/>
                  </a:lnTo>
                  <a:lnTo>
                    <a:pt x="1977" y="8541"/>
                  </a:lnTo>
                  <a:lnTo>
                    <a:pt x="2175" y="7446"/>
                  </a:lnTo>
                  <a:lnTo>
                    <a:pt x="2768" y="6570"/>
                  </a:lnTo>
                  <a:lnTo>
                    <a:pt x="3757" y="4599"/>
                  </a:lnTo>
                  <a:lnTo>
                    <a:pt x="5536" y="3285"/>
                  </a:lnTo>
                  <a:lnTo>
                    <a:pt x="6722" y="2847"/>
                  </a:lnTo>
                  <a:lnTo>
                    <a:pt x="8304" y="2847"/>
                  </a:lnTo>
                  <a:lnTo>
                    <a:pt x="7711" y="1752"/>
                  </a:lnTo>
                  <a:lnTo>
                    <a:pt x="7117" y="1314"/>
                  </a:lnTo>
                  <a:lnTo>
                    <a:pt x="6524" y="876"/>
                  </a:lnTo>
                  <a:lnTo>
                    <a:pt x="6327" y="219"/>
                  </a:lnTo>
                  <a:lnTo>
                    <a:pt x="4943" y="0"/>
                  </a:lnTo>
                  <a:lnTo>
                    <a:pt x="3757" y="657"/>
                  </a:lnTo>
                  <a:lnTo>
                    <a:pt x="2768" y="1314"/>
                  </a:lnTo>
                  <a:lnTo>
                    <a:pt x="1977" y="2628"/>
                  </a:lnTo>
                  <a:lnTo>
                    <a:pt x="791" y="3942"/>
                  </a:lnTo>
                  <a:lnTo>
                    <a:pt x="396" y="5694"/>
                  </a:lnTo>
                  <a:lnTo>
                    <a:pt x="0" y="7665"/>
                  </a:lnTo>
                  <a:lnTo>
                    <a:pt x="198" y="9635"/>
                  </a:lnTo>
                  <a:lnTo>
                    <a:pt x="396" y="10511"/>
                  </a:lnTo>
                  <a:lnTo>
                    <a:pt x="791" y="11825"/>
                  </a:lnTo>
                  <a:lnTo>
                    <a:pt x="1187" y="12920"/>
                  </a:lnTo>
                  <a:lnTo>
                    <a:pt x="1780" y="14234"/>
                  </a:lnTo>
                  <a:lnTo>
                    <a:pt x="2175" y="15110"/>
                  </a:lnTo>
                  <a:lnTo>
                    <a:pt x="2966" y="16205"/>
                  </a:lnTo>
                  <a:lnTo>
                    <a:pt x="3757" y="16862"/>
                  </a:lnTo>
                  <a:lnTo>
                    <a:pt x="5141" y="17738"/>
                  </a:lnTo>
                  <a:lnTo>
                    <a:pt x="5931" y="17957"/>
                  </a:lnTo>
                  <a:lnTo>
                    <a:pt x="7117" y="18614"/>
                  </a:lnTo>
                  <a:close/>
                </a:path>
              </a:pathLst>
            </a:custGeom>
            <a:solidFill>
              <a:srgbClr val="f7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Shape 460"/>
            <p:cNvSpPr/>
            <p:nvPr/>
          </p:nvSpPr>
          <p:spPr>
            <a:xfrm>
              <a:off x="7415280" y="4529880"/>
              <a:ext cx="268920" cy="26280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653" h="14672">
                  <a:moveTo>
                    <a:pt x="7908" y="14453"/>
                  </a:moveTo>
                  <a:lnTo>
                    <a:pt x="6524" y="14234"/>
                  </a:lnTo>
                  <a:lnTo>
                    <a:pt x="5536" y="13577"/>
                  </a:lnTo>
                  <a:lnTo>
                    <a:pt x="4745" y="12263"/>
                  </a:lnTo>
                  <a:lnTo>
                    <a:pt x="4547" y="10949"/>
                  </a:lnTo>
                  <a:lnTo>
                    <a:pt x="5141" y="8978"/>
                  </a:lnTo>
                  <a:lnTo>
                    <a:pt x="6722" y="7883"/>
                  </a:lnTo>
                  <a:lnTo>
                    <a:pt x="7711" y="7664"/>
                  </a:lnTo>
                  <a:lnTo>
                    <a:pt x="8897" y="8102"/>
                  </a:lnTo>
                  <a:lnTo>
                    <a:pt x="9687" y="9635"/>
                  </a:lnTo>
                  <a:lnTo>
                    <a:pt x="10083" y="11387"/>
                  </a:lnTo>
                  <a:lnTo>
                    <a:pt x="9490" y="12920"/>
                  </a:lnTo>
                  <a:lnTo>
                    <a:pt x="8304" y="14234"/>
                  </a:lnTo>
                  <a:lnTo>
                    <a:pt x="9490" y="12920"/>
                  </a:lnTo>
                  <a:lnTo>
                    <a:pt x="10478" y="11606"/>
                  </a:lnTo>
                  <a:lnTo>
                    <a:pt x="11467" y="10949"/>
                  </a:lnTo>
                  <a:lnTo>
                    <a:pt x="12060" y="9854"/>
                  </a:lnTo>
                  <a:lnTo>
                    <a:pt x="12258" y="8759"/>
                  </a:lnTo>
                  <a:lnTo>
                    <a:pt x="12653" y="7664"/>
                  </a:lnTo>
                  <a:lnTo>
                    <a:pt x="12258" y="5474"/>
                  </a:lnTo>
                  <a:lnTo>
                    <a:pt x="11862" y="3504"/>
                  </a:lnTo>
                  <a:lnTo>
                    <a:pt x="11071" y="1752"/>
                  </a:lnTo>
                  <a:lnTo>
                    <a:pt x="9687" y="657"/>
                  </a:lnTo>
                  <a:lnTo>
                    <a:pt x="8501" y="219"/>
                  </a:lnTo>
                  <a:lnTo>
                    <a:pt x="7315" y="219"/>
                  </a:lnTo>
                  <a:lnTo>
                    <a:pt x="6129" y="0"/>
                  </a:lnTo>
                  <a:lnTo>
                    <a:pt x="5141" y="0"/>
                  </a:lnTo>
                  <a:lnTo>
                    <a:pt x="3954" y="0"/>
                  </a:lnTo>
                  <a:lnTo>
                    <a:pt x="2966" y="438"/>
                  </a:lnTo>
                  <a:lnTo>
                    <a:pt x="2175" y="876"/>
                  </a:lnTo>
                  <a:lnTo>
                    <a:pt x="1582" y="2190"/>
                  </a:lnTo>
                  <a:lnTo>
                    <a:pt x="396" y="3942"/>
                  </a:lnTo>
                  <a:lnTo>
                    <a:pt x="1" y="5912"/>
                  </a:lnTo>
                  <a:lnTo>
                    <a:pt x="1" y="8102"/>
                  </a:lnTo>
                  <a:lnTo>
                    <a:pt x="791" y="10292"/>
                  </a:lnTo>
                  <a:lnTo>
                    <a:pt x="1977" y="11825"/>
                  </a:lnTo>
                  <a:lnTo>
                    <a:pt x="3757" y="13577"/>
                  </a:lnTo>
                  <a:lnTo>
                    <a:pt x="4547" y="14015"/>
                  </a:lnTo>
                  <a:lnTo>
                    <a:pt x="5536" y="14672"/>
                  </a:lnTo>
                  <a:lnTo>
                    <a:pt x="6722" y="14453"/>
                  </a:lnTo>
                  <a:lnTo>
                    <a:pt x="7908" y="14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Shape 461"/>
            <p:cNvSpPr/>
            <p:nvPr/>
          </p:nvSpPr>
          <p:spPr>
            <a:xfrm>
              <a:off x="7882200" y="4459320"/>
              <a:ext cx="248040" cy="3373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11665" h="18833">
                  <a:moveTo>
                    <a:pt x="11664" y="8979"/>
                  </a:moveTo>
                  <a:lnTo>
                    <a:pt x="11269" y="6570"/>
                  </a:lnTo>
                  <a:lnTo>
                    <a:pt x="10281" y="4599"/>
                  </a:lnTo>
                  <a:lnTo>
                    <a:pt x="8897" y="2628"/>
                  </a:lnTo>
                  <a:lnTo>
                    <a:pt x="7315" y="1095"/>
                  </a:lnTo>
                  <a:lnTo>
                    <a:pt x="6129" y="219"/>
                  </a:lnTo>
                  <a:lnTo>
                    <a:pt x="4943" y="0"/>
                  </a:lnTo>
                  <a:lnTo>
                    <a:pt x="3757" y="0"/>
                  </a:lnTo>
                  <a:lnTo>
                    <a:pt x="2571" y="657"/>
                  </a:lnTo>
                  <a:lnTo>
                    <a:pt x="2571" y="1095"/>
                  </a:lnTo>
                  <a:lnTo>
                    <a:pt x="2373" y="1971"/>
                  </a:lnTo>
                  <a:lnTo>
                    <a:pt x="1187" y="2409"/>
                  </a:lnTo>
                  <a:lnTo>
                    <a:pt x="0" y="3066"/>
                  </a:lnTo>
                  <a:lnTo>
                    <a:pt x="396" y="3723"/>
                  </a:lnTo>
                  <a:lnTo>
                    <a:pt x="2175" y="3285"/>
                  </a:lnTo>
                  <a:lnTo>
                    <a:pt x="3954" y="3723"/>
                  </a:lnTo>
                  <a:lnTo>
                    <a:pt x="5338" y="4380"/>
                  </a:lnTo>
                  <a:lnTo>
                    <a:pt x="6920" y="5694"/>
                  </a:lnTo>
                  <a:lnTo>
                    <a:pt x="8106" y="7227"/>
                  </a:lnTo>
                  <a:lnTo>
                    <a:pt x="9094" y="9198"/>
                  </a:lnTo>
                  <a:lnTo>
                    <a:pt x="9490" y="11168"/>
                  </a:lnTo>
                  <a:lnTo>
                    <a:pt x="9885" y="13577"/>
                  </a:lnTo>
                  <a:lnTo>
                    <a:pt x="9490" y="14891"/>
                  </a:lnTo>
                  <a:lnTo>
                    <a:pt x="9094" y="16205"/>
                  </a:lnTo>
                  <a:lnTo>
                    <a:pt x="8501" y="17519"/>
                  </a:lnTo>
                  <a:lnTo>
                    <a:pt x="7711" y="18833"/>
                  </a:lnTo>
                  <a:lnTo>
                    <a:pt x="8501" y="17738"/>
                  </a:lnTo>
                  <a:lnTo>
                    <a:pt x="9490" y="16862"/>
                  </a:lnTo>
                  <a:lnTo>
                    <a:pt x="10083" y="15548"/>
                  </a:lnTo>
                  <a:lnTo>
                    <a:pt x="10874" y="14453"/>
                  </a:lnTo>
                  <a:lnTo>
                    <a:pt x="11071" y="12920"/>
                  </a:lnTo>
                  <a:lnTo>
                    <a:pt x="11467" y="11606"/>
                  </a:lnTo>
                  <a:lnTo>
                    <a:pt x="11467" y="10292"/>
                  </a:lnTo>
                  <a:lnTo>
                    <a:pt x="11664" y="8979"/>
                  </a:lnTo>
                  <a:close/>
                </a:path>
              </a:pathLst>
            </a:custGeom>
            <a:solidFill>
              <a:srgbClr val="f7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Shape 462"/>
            <p:cNvSpPr/>
            <p:nvPr/>
          </p:nvSpPr>
          <p:spPr>
            <a:xfrm>
              <a:off x="8513280" y="4647600"/>
              <a:ext cx="63000" cy="121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966" h="6789">
                  <a:moveTo>
                    <a:pt x="2966" y="1314"/>
                  </a:moveTo>
                  <a:lnTo>
                    <a:pt x="2571" y="1314"/>
                  </a:lnTo>
                  <a:lnTo>
                    <a:pt x="2175" y="1533"/>
                  </a:lnTo>
                  <a:lnTo>
                    <a:pt x="2175" y="657"/>
                  </a:lnTo>
                  <a:lnTo>
                    <a:pt x="1977" y="0"/>
                  </a:lnTo>
                  <a:lnTo>
                    <a:pt x="1187" y="219"/>
                  </a:lnTo>
                  <a:lnTo>
                    <a:pt x="791" y="219"/>
                  </a:lnTo>
                  <a:lnTo>
                    <a:pt x="396" y="219"/>
                  </a:lnTo>
                  <a:lnTo>
                    <a:pt x="396" y="876"/>
                  </a:lnTo>
                  <a:lnTo>
                    <a:pt x="396" y="1095"/>
                  </a:lnTo>
                  <a:lnTo>
                    <a:pt x="594" y="1533"/>
                  </a:lnTo>
                  <a:lnTo>
                    <a:pt x="989" y="876"/>
                  </a:lnTo>
                  <a:lnTo>
                    <a:pt x="1780" y="657"/>
                  </a:lnTo>
                  <a:lnTo>
                    <a:pt x="1187" y="1971"/>
                  </a:lnTo>
                  <a:lnTo>
                    <a:pt x="791" y="3723"/>
                  </a:lnTo>
                  <a:lnTo>
                    <a:pt x="1582" y="2628"/>
                  </a:lnTo>
                  <a:lnTo>
                    <a:pt x="2571" y="1752"/>
                  </a:lnTo>
                  <a:lnTo>
                    <a:pt x="2175" y="2847"/>
                  </a:lnTo>
                  <a:lnTo>
                    <a:pt x="1780" y="3942"/>
                  </a:lnTo>
                  <a:lnTo>
                    <a:pt x="989" y="5037"/>
                  </a:lnTo>
                  <a:lnTo>
                    <a:pt x="396" y="6132"/>
                  </a:lnTo>
                  <a:lnTo>
                    <a:pt x="1" y="6351"/>
                  </a:lnTo>
                  <a:lnTo>
                    <a:pt x="198" y="6789"/>
                  </a:lnTo>
                  <a:lnTo>
                    <a:pt x="989" y="5475"/>
                  </a:lnTo>
                  <a:lnTo>
                    <a:pt x="1977" y="4380"/>
                  </a:lnTo>
                  <a:lnTo>
                    <a:pt x="2373" y="2847"/>
                  </a:lnTo>
                  <a:lnTo>
                    <a:pt x="2966" y="1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Shape 463"/>
            <p:cNvSpPr/>
            <p:nvPr/>
          </p:nvSpPr>
          <p:spPr>
            <a:xfrm>
              <a:off x="6847560" y="4651560"/>
              <a:ext cx="92520" cy="113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351" h="6351">
                  <a:moveTo>
                    <a:pt x="2966" y="6351"/>
                  </a:moveTo>
                  <a:lnTo>
                    <a:pt x="2571" y="5694"/>
                  </a:lnTo>
                  <a:lnTo>
                    <a:pt x="1978" y="5037"/>
                  </a:lnTo>
                  <a:lnTo>
                    <a:pt x="2571" y="5037"/>
                  </a:lnTo>
                  <a:lnTo>
                    <a:pt x="3164" y="5256"/>
                  </a:lnTo>
                  <a:lnTo>
                    <a:pt x="3164" y="5037"/>
                  </a:lnTo>
                  <a:lnTo>
                    <a:pt x="1978" y="3942"/>
                  </a:lnTo>
                  <a:lnTo>
                    <a:pt x="989" y="2628"/>
                  </a:lnTo>
                  <a:lnTo>
                    <a:pt x="1978" y="2847"/>
                  </a:lnTo>
                  <a:lnTo>
                    <a:pt x="2966" y="3504"/>
                  </a:lnTo>
                  <a:lnTo>
                    <a:pt x="1978" y="2190"/>
                  </a:lnTo>
                  <a:lnTo>
                    <a:pt x="989" y="1314"/>
                  </a:lnTo>
                  <a:lnTo>
                    <a:pt x="594" y="876"/>
                  </a:lnTo>
                  <a:lnTo>
                    <a:pt x="396" y="657"/>
                  </a:lnTo>
                  <a:lnTo>
                    <a:pt x="1978" y="657"/>
                  </a:lnTo>
                  <a:lnTo>
                    <a:pt x="3559" y="1533"/>
                  </a:lnTo>
                  <a:lnTo>
                    <a:pt x="3757" y="1752"/>
                  </a:lnTo>
                  <a:lnTo>
                    <a:pt x="4350" y="2190"/>
                  </a:lnTo>
                  <a:lnTo>
                    <a:pt x="3362" y="1095"/>
                  </a:lnTo>
                  <a:lnTo>
                    <a:pt x="2373" y="438"/>
                  </a:lnTo>
                  <a:lnTo>
                    <a:pt x="1187" y="0"/>
                  </a:lnTo>
                  <a:lnTo>
                    <a:pt x="199" y="219"/>
                  </a:lnTo>
                  <a:lnTo>
                    <a:pt x="1" y="438"/>
                  </a:lnTo>
                  <a:lnTo>
                    <a:pt x="199" y="1314"/>
                  </a:lnTo>
                  <a:lnTo>
                    <a:pt x="989" y="1971"/>
                  </a:lnTo>
                  <a:lnTo>
                    <a:pt x="594" y="2409"/>
                  </a:lnTo>
                  <a:lnTo>
                    <a:pt x="792" y="3285"/>
                  </a:lnTo>
                  <a:lnTo>
                    <a:pt x="1385" y="3723"/>
                  </a:lnTo>
                  <a:lnTo>
                    <a:pt x="1978" y="4380"/>
                  </a:lnTo>
                  <a:lnTo>
                    <a:pt x="1582" y="4818"/>
                  </a:lnTo>
                  <a:lnTo>
                    <a:pt x="1385" y="5256"/>
                  </a:lnTo>
                  <a:lnTo>
                    <a:pt x="2176" y="5694"/>
                  </a:lnTo>
                  <a:lnTo>
                    <a:pt x="2966" y="6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Shape 464"/>
            <p:cNvSpPr/>
            <p:nvPr/>
          </p:nvSpPr>
          <p:spPr>
            <a:xfrm>
              <a:off x="7415280" y="5554080"/>
              <a:ext cx="130320" cy="3726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6130" h="20804">
                  <a:moveTo>
                    <a:pt x="5734" y="18613"/>
                  </a:moveTo>
                  <a:lnTo>
                    <a:pt x="5734" y="17300"/>
                  </a:lnTo>
                  <a:lnTo>
                    <a:pt x="5536" y="15986"/>
                  </a:lnTo>
                  <a:lnTo>
                    <a:pt x="5338" y="14672"/>
                  </a:lnTo>
                  <a:lnTo>
                    <a:pt x="5734" y="13577"/>
                  </a:lnTo>
                  <a:lnTo>
                    <a:pt x="5338" y="12044"/>
                  </a:lnTo>
                  <a:lnTo>
                    <a:pt x="5536" y="10730"/>
                  </a:lnTo>
                  <a:lnTo>
                    <a:pt x="5734" y="9416"/>
                  </a:lnTo>
                  <a:lnTo>
                    <a:pt x="6129" y="8103"/>
                  </a:lnTo>
                  <a:lnTo>
                    <a:pt x="5338" y="5913"/>
                  </a:lnTo>
                  <a:lnTo>
                    <a:pt x="5536" y="3942"/>
                  </a:lnTo>
                  <a:lnTo>
                    <a:pt x="5536" y="1971"/>
                  </a:lnTo>
                  <a:lnTo>
                    <a:pt x="4547" y="657"/>
                  </a:lnTo>
                  <a:lnTo>
                    <a:pt x="3361" y="0"/>
                  </a:lnTo>
                  <a:lnTo>
                    <a:pt x="2175" y="438"/>
                  </a:lnTo>
                  <a:lnTo>
                    <a:pt x="1384" y="1095"/>
                  </a:lnTo>
                  <a:lnTo>
                    <a:pt x="791" y="2190"/>
                  </a:lnTo>
                  <a:lnTo>
                    <a:pt x="198" y="3285"/>
                  </a:lnTo>
                  <a:lnTo>
                    <a:pt x="396" y="4599"/>
                  </a:lnTo>
                  <a:lnTo>
                    <a:pt x="594" y="6132"/>
                  </a:lnTo>
                  <a:lnTo>
                    <a:pt x="594" y="7665"/>
                  </a:lnTo>
                  <a:lnTo>
                    <a:pt x="198" y="8978"/>
                  </a:lnTo>
                  <a:lnTo>
                    <a:pt x="198" y="10730"/>
                  </a:lnTo>
                  <a:lnTo>
                    <a:pt x="396" y="12263"/>
                  </a:lnTo>
                  <a:lnTo>
                    <a:pt x="198" y="14015"/>
                  </a:lnTo>
                  <a:lnTo>
                    <a:pt x="1" y="15548"/>
                  </a:lnTo>
                  <a:lnTo>
                    <a:pt x="198" y="17519"/>
                  </a:lnTo>
                  <a:lnTo>
                    <a:pt x="198" y="17081"/>
                  </a:lnTo>
                  <a:lnTo>
                    <a:pt x="594" y="16862"/>
                  </a:lnTo>
                  <a:lnTo>
                    <a:pt x="989" y="17957"/>
                  </a:lnTo>
                  <a:lnTo>
                    <a:pt x="791" y="19051"/>
                  </a:lnTo>
                  <a:lnTo>
                    <a:pt x="1582" y="19927"/>
                  </a:lnTo>
                  <a:lnTo>
                    <a:pt x="2768" y="20803"/>
                  </a:lnTo>
                  <a:lnTo>
                    <a:pt x="4350" y="19927"/>
                  </a:lnTo>
                  <a:lnTo>
                    <a:pt x="5734" y="18613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Shape 465"/>
            <p:cNvSpPr/>
            <p:nvPr/>
          </p:nvSpPr>
          <p:spPr>
            <a:xfrm>
              <a:off x="7869600" y="471420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582" h="1971">
                  <a:moveTo>
                    <a:pt x="1582" y="1533"/>
                  </a:moveTo>
                  <a:lnTo>
                    <a:pt x="1384" y="438"/>
                  </a:lnTo>
                  <a:lnTo>
                    <a:pt x="989" y="0"/>
                  </a:lnTo>
                  <a:lnTo>
                    <a:pt x="198" y="219"/>
                  </a:lnTo>
                  <a:lnTo>
                    <a:pt x="0" y="1095"/>
                  </a:lnTo>
                  <a:lnTo>
                    <a:pt x="593" y="1971"/>
                  </a:lnTo>
                  <a:lnTo>
                    <a:pt x="1582" y="1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5440" bIns="-55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Shape 466"/>
            <p:cNvSpPr/>
            <p:nvPr/>
          </p:nvSpPr>
          <p:spPr>
            <a:xfrm>
              <a:off x="7549920" y="4698720"/>
              <a:ext cx="29160" cy="313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85" h="1752">
                  <a:moveTo>
                    <a:pt x="1385" y="657"/>
                  </a:moveTo>
                  <a:lnTo>
                    <a:pt x="1187" y="0"/>
                  </a:lnTo>
                  <a:lnTo>
                    <a:pt x="791" y="0"/>
                  </a:lnTo>
                  <a:lnTo>
                    <a:pt x="198" y="0"/>
                  </a:lnTo>
                  <a:lnTo>
                    <a:pt x="1" y="657"/>
                  </a:lnTo>
                  <a:lnTo>
                    <a:pt x="1" y="1095"/>
                  </a:lnTo>
                  <a:lnTo>
                    <a:pt x="396" y="1752"/>
                  </a:lnTo>
                  <a:lnTo>
                    <a:pt x="989" y="1314"/>
                  </a:lnTo>
                  <a:lnTo>
                    <a:pt x="1385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400" bIns="-59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Shape 467"/>
            <p:cNvSpPr/>
            <p:nvPr/>
          </p:nvSpPr>
          <p:spPr>
            <a:xfrm>
              <a:off x="8618400" y="4506120"/>
              <a:ext cx="75600" cy="16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560" h="9198">
                  <a:moveTo>
                    <a:pt x="989" y="9197"/>
                  </a:moveTo>
                  <a:lnTo>
                    <a:pt x="1780" y="7664"/>
                  </a:lnTo>
                  <a:lnTo>
                    <a:pt x="2571" y="6132"/>
                  </a:lnTo>
                  <a:lnTo>
                    <a:pt x="2966" y="4380"/>
                  </a:lnTo>
                  <a:lnTo>
                    <a:pt x="3559" y="2847"/>
                  </a:lnTo>
                  <a:lnTo>
                    <a:pt x="2769" y="3066"/>
                  </a:lnTo>
                  <a:lnTo>
                    <a:pt x="2176" y="3942"/>
                  </a:lnTo>
                  <a:lnTo>
                    <a:pt x="2373" y="2409"/>
                  </a:lnTo>
                  <a:lnTo>
                    <a:pt x="2176" y="1314"/>
                  </a:lnTo>
                  <a:lnTo>
                    <a:pt x="1582" y="1533"/>
                  </a:lnTo>
                  <a:lnTo>
                    <a:pt x="1385" y="657"/>
                  </a:lnTo>
                  <a:lnTo>
                    <a:pt x="989" y="0"/>
                  </a:lnTo>
                  <a:lnTo>
                    <a:pt x="396" y="0"/>
                  </a:lnTo>
                  <a:lnTo>
                    <a:pt x="1" y="438"/>
                  </a:lnTo>
                  <a:lnTo>
                    <a:pt x="199" y="657"/>
                  </a:lnTo>
                  <a:lnTo>
                    <a:pt x="594" y="438"/>
                  </a:lnTo>
                  <a:lnTo>
                    <a:pt x="792" y="219"/>
                  </a:lnTo>
                  <a:lnTo>
                    <a:pt x="1187" y="876"/>
                  </a:lnTo>
                  <a:lnTo>
                    <a:pt x="989" y="2409"/>
                  </a:lnTo>
                  <a:lnTo>
                    <a:pt x="792" y="3942"/>
                  </a:lnTo>
                  <a:lnTo>
                    <a:pt x="1385" y="2847"/>
                  </a:lnTo>
                  <a:lnTo>
                    <a:pt x="1978" y="1752"/>
                  </a:lnTo>
                  <a:lnTo>
                    <a:pt x="1582" y="3504"/>
                  </a:lnTo>
                  <a:lnTo>
                    <a:pt x="989" y="5475"/>
                  </a:lnTo>
                  <a:lnTo>
                    <a:pt x="1187" y="5694"/>
                  </a:lnTo>
                  <a:lnTo>
                    <a:pt x="1978" y="4599"/>
                  </a:lnTo>
                  <a:lnTo>
                    <a:pt x="2966" y="3504"/>
                  </a:lnTo>
                  <a:lnTo>
                    <a:pt x="2373" y="4818"/>
                  </a:lnTo>
                  <a:lnTo>
                    <a:pt x="1978" y="6351"/>
                  </a:lnTo>
                  <a:lnTo>
                    <a:pt x="1187" y="7664"/>
                  </a:lnTo>
                  <a:lnTo>
                    <a:pt x="594" y="9197"/>
                  </a:lnTo>
                  <a:lnTo>
                    <a:pt x="989" y="9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3800" bIns="73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Shape 468"/>
            <p:cNvSpPr/>
            <p:nvPr/>
          </p:nvSpPr>
          <p:spPr>
            <a:xfrm>
              <a:off x="7217640" y="4619880"/>
              <a:ext cx="63000" cy="428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967" h="2410">
                  <a:moveTo>
                    <a:pt x="2966" y="1533"/>
                  </a:moveTo>
                  <a:lnTo>
                    <a:pt x="2966" y="876"/>
                  </a:lnTo>
                  <a:lnTo>
                    <a:pt x="2373" y="1095"/>
                  </a:lnTo>
                  <a:lnTo>
                    <a:pt x="2176" y="1971"/>
                  </a:lnTo>
                  <a:lnTo>
                    <a:pt x="1780" y="1314"/>
                  </a:lnTo>
                  <a:lnTo>
                    <a:pt x="1582" y="876"/>
                  </a:lnTo>
                  <a:lnTo>
                    <a:pt x="1385" y="657"/>
                  </a:lnTo>
                  <a:lnTo>
                    <a:pt x="989" y="1095"/>
                  </a:lnTo>
                  <a:lnTo>
                    <a:pt x="594" y="876"/>
                  </a:lnTo>
                  <a:lnTo>
                    <a:pt x="396" y="438"/>
                  </a:lnTo>
                  <a:lnTo>
                    <a:pt x="199" y="1"/>
                  </a:lnTo>
                  <a:lnTo>
                    <a:pt x="1" y="438"/>
                  </a:lnTo>
                  <a:lnTo>
                    <a:pt x="199" y="1314"/>
                  </a:lnTo>
                  <a:lnTo>
                    <a:pt x="594" y="1752"/>
                  </a:lnTo>
                  <a:lnTo>
                    <a:pt x="1385" y="1752"/>
                  </a:lnTo>
                  <a:lnTo>
                    <a:pt x="2176" y="2409"/>
                  </a:lnTo>
                  <a:lnTo>
                    <a:pt x="2966" y="1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8240" bIns="-48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Shape 469"/>
            <p:cNvSpPr/>
            <p:nvPr/>
          </p:nvSpPr>
          <p:spPr>
            <a:xfrm>
              <a:off x="6775920" y="4537800"/>
              <a:ext cx="88200" cy="979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152" h="5476">
                  <a:moveTo>
                    <a:pt x="1582" y="5475"/>
                  </a:moveTo>
                  <a:lnTo>
                    <a:pt x="989" y="4600"/>
                  </a:lnTo>
                  <a:lnTo>
                    <a:pt x="791" y="3724"/>
                  </a:lnTo>
                  <a:lnTo>
                    <a:pt x="1186" y="3943"/>
                  </a:lnTo>
                  <a:lnTo>
                    <a:pt x="1779" y="4381"/>
                  </a:lnTo>
                  <a:lnTo>
                    <a:pt x="1384" y="3286"/>
                  </a:lnTo>
                  <a:lnTo>
                    <a:pt x="1186" y="2410"/>
                  </a:lnTo>
                  <a:lnTo>
                    <a:pt x="1779" y="2848"/>
                  </a:lnTo>
                  <a:lnTo>
                    <a:pt x="2570" y="3286"/>
                  </a:lnTo>
                  <a:lnTo>
                    <a:pt x="1977" y="1972"/>
                  </a:lnTo>
                  <a:lnTo>
                    <a:pt x="1582" y="877"/>
                  </a:lnTo>
                  <a:lnTo>
                    <a:pt x="2175" y="1534"/>
                  </a:lnTo>
                  <a:lnTo>
                    <a:pt x="2965" y="2410"/>
                  </a:lnTo>
                  <a:lnTo>
                    <a:pt x="3361" y="3286"/>
                  </a:lnTo>
                  <a:lnTo>
                    <a:pt x="4152" y="4381"/>
                  </a:lnTo>
                  <a:lnTo>
                    <a:pt x="3163" y="1972"/>
                  </a:lnTo>
                  <a:lnTo>
                    <a:pt x="1582" y="1"/>
                  </a:lnTo>
                  <a:lnTo>
                    <a:pt x="1186" y="1"/>
                  </a:lnTo>
                  <a:lnTo>
                    <a:pt x="1186" y="439"/>
                  </a:lnTo>
                  <a:lnTo>
                    <a:pt x="1186" y="1096"/>
                  </a:lnTo>
                  <a:lnTo>
                    <a:pt x="1582" y="1972"/>
                  </a:lnTo>
                  <a:lnTo>
                    <a:pt x="989" y="1972"/>
                  </a:lnTo>
                  <a:lnTo>
                    <a:pt x="593" y="2410"/>
                  </a:lnTo>
                  <a:lnTo>
                    <a:pt x="593" y="2629"/>
                  </a:lnTo>
                  <a:lnTo>
                    <a:pt x="395" y="3067"/>
                  </a:lnTo>
                  <a:lnTo>
                    <a:pt x="0" y="3505"/>
                  </a:lnTo>
                  <a:lnTo>
                    <a:pt x="395" y="4381"/>
                  </a:lnTo>
                  <a:lnTo>
                    <a:pt x="791" y="4819"/>
                  </a:lnTo>
                  <a:lnTo>
                    <a:pt x="1582" y="5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Shape 470"/>
            <p:cNvSpPr/>
            <p:nvPr/>
          </p:nvSpPr>
          <p:spPr>
            <a:xfrm>
              <a:off x="7642440" y="4529880"/>
              <a:ext cx="50400" cy="86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374" h="4818">
                  <a:moveTo>
                    <a:pt x="1780" y="0"/>
                  </a:moveTo>
                  <a:lnTo>
                    <a:pt x="1" y="438"/>
                  </a:lnTo>
                  <a:lnTo>
                    <a:pt x="792" y="1095"/>
                  </a:lnTo>
                  <a:lnTo>
                    <a:pt x="1583" y="2190"/>
                  </a:lnTo>
                  <a:lnTo>
                    <a:pt x="1978" y="3504"/>
                  </a:lnTo>
                  <a:lnTo>
                    <a:pt x="2373" y="4818"/>
                  </a:lnTo>
                  <a:lnTo>
                    <a:pt x="2373" y="3504"/>
                  </a:lnTo>
                  <a:lnTo>
                    <a:pt x="2373" y="2190"/>
                  </a:lnTo>
                  <a:lnTo>
                    <a:pt x="1978" y="876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Shape 471"/>
            <p:cNvSpPr/>
            <p:nvPr/>
          </p:nvSpPr>
          <p:spPr>
            <a:xfrm>
              <a:off x="8256600" y="454140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768" h="4162">
                  <a:moveTo>
                    <a:pt x="1977" y="3067"/>
                  </a:moveTo>
                  <a:lnTo>
                    <a:pt x="2373" y="3286"/>
                  </a:lnTo>
                  <a:lnTo>
                    <a:pt x="2768" y="3286"/>
                  </a:lnTo>
                  <a:lnTo>
                    <a:pt x="2373" y="1534"/>
                  </a:lnTo>
                  <a:lnTo>
                    <a:pt x="1779" y="1"/>
                  </a:lnTo>
                  <a:lnTo>
                    <a:pt x="1582" y="1"/>
                  </a:lnTo>
                  <a:lnTo>
                    <a:pt x="1977" y="1096"/>
                  </a:lnTo>
                  <a:lnTo>
                    <a:pt x="2373" y="2410"/>
                  </a:lnTo>
                  <a:lnTo>
                    <a:pt x="2373" y="2629"/>
                  </a:lnTo>
                  <a:lnTo>
                    <a:pt x="1977" y="2410"/>
                  </a:lnTo>
                  <a:lnTo>
                    <a:pt x="1779" y="2191"/>
                  </a:lnTo>
                  <a:lnTo>
                    <a:pt x="1384" y="2629"/>
                  </a:lnTo>
                  <a:lnTo>
                    <a:pt x="1384" y="3505"/>
                  </a:lnTo>
                  <a:lnTo>
                    <a:pt x="593" y="3286"/>
                  </a:lnTo>
                  <a:lnTo>
                    <a:pt x="0" y="3724"/>
                  </a:lnTo>
                  <a:lnTo>
                    <a:pt x="0" y="4162"/>
                  </a:lnTo>
                  <a:lnTo>
                    <a:pt x="593" y="3724"/>
                  </a:lnTo>
                  <a:lnTo>
                    <a:pt x="1186" y="3943"/>
                  </a:lnTo>
                  <a:lnTo>
                    <a:pt x="1779" y="3724"/>
                  </a:lnTo>
                  <a:lnTo>
                    <a:pt x="1977" y="30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Shape 472"/>
            <p:cNvSpPr/>
            <p:nvPr/>
          </p:nvSpPr>
          <p:spPr>
            <a:xfrm>
              <a:off x="7785360" y="4541400"/>
              <a:ext cx="46080" cy="62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76" h="3505">
                  <a:moveTo>
                    <a:pt x="2175" y="220"/>
                  </a:moveTo>
                  <a:lnTo>
                    <a:pt x="1582" y="1"/>
                  </a:lnTo>
                  <a:lnTo>
                    <a:pt x="989" y="1"/>
                  </a:lnTo>
                  <a:lnTo>
                    <a:pt x="198" y="1534"/>
                  </a:lnTo>
                  <a:lnTo>
                    <a:pt x="1" y="3505"/>
                  </a:lnTo>
                  <a:lnTo>
                    <a:pt x="791" y="1753"/>
                  </a:lnTo>
                  <a:lnTo>
                    <a:pt x="2175" y="22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Shape 473"/>
            <p:cNvSpPr/>
            <p:nvPr/>
          </p:nvSpPr>
          <p:spPr>
            <a:xfrm>
              <a:off x="7251480" y="4525920"/>
              <a:ext cx="54360" cy="428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571" h="2409">
                  <a:moveTo>
                    <a:pt x="2570" y="1095"/>
                  </a:moveTo>
                  <a:lnTo>
                    <a:pt x="2570" y="876"/>
                  </a:lnTo>
                  <a:lnTo>
                    <a:pt x="1977" y="1314"/>
                  </a:lnTo>
                  <a:lnTo>
                    <a:pt x="1582" y="1752"/>
                  </a:lnTo>
                  <a:lnTo>
                    <a:pt x="1582" y="876"/>
                  </a:lnTo>
                  <a:lnTo>
                    <a:pt x="1187" y="657"/>
                  </a:lnTo>
                  <a:lnTo>
                    <a:pt x="594" y="219"/>
                  </a:lnTo>
                  <a:lnTo>
                    <a:pt x="396" y="0"/>
                  </a:lnTo>
                  <a:lnTo>
                    <a:pt x="0" y="219"/>
                  </a:lnTo>
                  <a:lnTo>
                    <a:pt x="198" y="657"/>
                  </a:lnTo>
                  <a:lnTo>
                    <a:pt x="989" y="1314"/>
                  </a:lnTo>
                  <a:lnTo>
                    <a:pt x="1384" y="2409"/>
                  </a:lnTo>
                  <a:lnTo>
                    <a:pt x="1977" y="1752"/>
                  </a:lnTo>
                  <a:lnTo>
                    <a:pt x="2570" y="10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880" bIns="-47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Shape 474"/>
            <p:cNvSpPr/>
            <p:nvPr/>
          </p:nvSpPr>
          <p:spPr>
            <a:xfrm>
              <a:off x="7768800" y="4270680"/>
              <a:ext cx="248040" cy="25884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665" h="14454">
                  <a:moveTo>
                    <a:pt x="4152" y="14453"/>
                  </a:moveTo>
                  <a:lnTo>
                    <a:pt x="4152" y="13139"/>
                  </a:lnTo>
                  <a:lnTo>
                    <a:pt x="4943" y="12482"/>
                  </a:lnTo>
                  <a:lnTo>
                    <a:pt x="5932" y="12044"/>
                  </a:lnTo>
                  <a:lnTo>
                    <a:pt x="6920" y="11825"/>
                  </a:lnTo>
                  <a:lnTo>
                    <a:pt x="6722" y="10730"/>
                  </a:lnTo>
                  <a:lnTo>
                    <a:pt x="7118" y="10073"/>
                  </a:lnTo>
                  <a:lnTo>
                    <a:pt x="8304" y="9198"/>
                  </a:lnTo>
                  <a:lnTo>
                    <a:pt x="9885" y="8760"/>
                  </a:lnTo>
                  <a:lnTo>
                    <a:pt x="9490" y="8103"/>
                  </a:lnTo>
                  <a:lnTo>
                    <a:pt x="9095" y="7884"/>
                  </a:lnTo>
                  <a:lnTo>
                    <a:pt x="8897" y="7446"/>
                  </a:lnTo>
                  <a:lnTo>
                    <a:pt x="9292" y="7008"/>
                  </a:lnTo>
                  <a:lnTo>
                    <a:pt x="9885" y="5913"/>
                  </a:lnTo>
                  <a:lnTo>
                    <a:pt x="10676" y="4818"/>
                  </a:lnTo>
                  <a:lnTo>
                    <a:pt x="11072" y="3504"/>
                  </a:lnTo>
                  <a:lnTo>
                    <a:pt x="11665" y="2409"/>
                  </a:lnTo>
                  <a:lnTo>
                    <a:pt x="10676" y="1971"/>
                  </a:lnTo>
                  <a:lnTo>
                    <a:pt x="10083" y="1752"/>
                  </a:lnTo>
                  <a:lnTo>
                    <a:pt x="10083" y="876"/>
                  </a:lnTo>
                  <a:lnTo>
                    <a:pt x="8502" y="1095"/>
                  </a:lnTo>
                  <a:lnTo>
                    <a:pt x="7711" y="438"/>
                  </a:lnTo>
                  <a:lnTo>
                    <a:pt x="7711" y="219"/>
                  </a:lnTo>
                  <a:lnTo>
                    <a:pt x="7711" y="0"/>
                  </a:lnTo>
                  <a:lnTo>
                    <a:pt x="7315" y="1314"/>
                  </a:lnTo>
                  <a:lnTo>
                    <a:pt x="6920" y="2847"/>
                  </a:lnTo>
                  <a:lnTo>
                    <a:pt x="6327" y="4161"/>
                  </a:lnTo>
                  <a:lnTo>
                    <a:pt x="5734" y="5475"/>
                  </a:lnTo>
                  <a:lnTo>
                    <a:pt x="5141" y="6789"/>
                  </a:lnTo>
                  <a:lnTo>
                    <a:pt x="4548" y="8103"/>
                  </a:lnTo>
                  <a:lnTo>
                    <a:pt x="3559" y="9198"/>
                  </a:lnTo>
                  <a:lnTo>
                    <a:pt x="2768" y="10292"/>
                  </a:lnTo>
                  <a:lnTo>
                    <a:pt x="1582" y="11168"/>
                  </a:lnTo>
                  <a:lnTo>
                    <a:pt x="594" y="12044"/>
                  </a:lnTo>
                  <a:lnTo>
                    <a:pt x="198" y="12044"/>
                  </a:lnTo>
                  <a:lnTo>
                    <a:pt x="1" y="12482"/>
                  </a:lnTo>
                  <a:lnTo>
                    <a:pt x="792" y="13358"/>
                  </a:lnTo>
                  <a:lnTo>
                    <a:pt x="1978" y="14015"/>
                  </a:lnTo>
                  <a:lnTo>
                    <a:pt x="2966" y="14015"/>
                  </a:lnTo>
                  <a:lnTo>
                    <a:pt x="4152" y="14453"/>
                  </a:lnTo>
                  <a:close/>
                </a:path>
              </a:pathLst>
            </a:custGeom>
            <a:solidFill>
              <a:srgbClr val="edc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Shape 475"/>
            <p:cNvSpPr/>
            <p:nvPr/>
          </p:nvSpPr>
          <p:spPr>
            <a:xfrm>
              <a:off x="7449120" y="4266720"/>
              <a:ext cx="231120" cy="250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0874" h="14016">
                  <a:moveTo>
                    <a:pt x="10873" y="13139"/>
                  </a:moveTo>
                  <a:lnTo>
                    <a:pt x="10873" y="12701"/>
                  </a:lnTo>
                  <a:lnTo>
                    <a:pt x="9094" y="11387"/>
                  </a:lnTo>
                  <a:lnTo>
                    <a:pt x="7908" y="10292"/>
                  </a:lnTo>
                  <a:lnTo>
                    <a:pt x="6722" y="8760"/>
                  </a:lnTo>
                  <a:lnTo>
                    <a:pt x="5733" y="7227"/>
                  </a:lnTo>
                  <a:lnTo>
                    <a:pt x="4745" y="5475"/>
                  </a:lnTo>
                  <a:lnTo>
                    <a:pt x="4152" y="3723"/>
                  </a:lnTo>
                  <a:lnTo>
                    <a:pt x="3361" y="1971"/>
                  </a:lnTo>
                  <a:lnTo>
                    <a:pt x="3163" y="438"/>
                  </a:lnTo>
                  <a:lnTo>
                    <a:pt x="2965" y="1"/>
                  </a:lnTo>
                  <a:lnTo>
                    <a:pt x="2768" y="657"/>
                  </a:lnTo>
                  <a:lnTo>
                    <a:pt x="2768" y="1533"/>
                  </a:lnTo>
                  <a:lnTo>
                    <a:pt x="2570" y="1971"/>
                  </a:lnTo>
                  <a:lnTo>
                    <a:pt x="1977" y="2409"/>
                  </a:lnTo>
                  <a:lnTo>
                    <a:pt x="1384" y="2409"/>
                  </a:lnTo>
                  <a:lnTo>
                    <a:pt x="1384" y="3066"/>
                  </a:lnTo>
                  <a:lnTo>
                    <a:pt x="791" y="3723"/>
                  </a:lnTo>
                  <a:lnTo>
                    <a:pt x="198" y="3942"/>
                  </a:lnTo>
                  <a:lnTo>
                    <a:pt x="395" y="5037"/>
                  </a:lnTo>
                  <a:lnTo>
                    <a:pt x="0" y="5913"/>
                  </a:lnTo>
                  <a:lnTo>
                    <a:pt x="791" y="7008"/>
                  </a:lnTo>
                  <a:lnTo>
                    <a:pt x="4152" y="10949"/>
                  </a:lnTo>
                  <a:lnTo>
                    <a:pt x="3756" y="11606"/>
                  </a:lnTo>
                  <a:lnTo>
                    <a:pt x="4152" y="12044"/>
                  </a:lnTo>
                  <a:lnTo>
                    <a:pt x="4547" y="12263"/>
                  </a:lnTo>
                  <a:lnTo>
                    <a:pt x="4942" y="12920"/>
                  </a:lnTo>
                  <a:lnTo>
                    <a:pt x="6524" y="14015"/>
                  </a:lnTo>
                  <a:lnTo>
                    <a:pt x="6524" y="13577"/>
                  </a:lnTo>
                  <a:lnTo>
                    <a:pt x="6722" y="13577"/>
                  </a:lnTo>
                  <a:lnTo>
                    <a:pt x="7117" y="13577"/>
                  </a:lnTo>
                  <a:lnTo>
                    <a:pt x="7710" y="14015"/>
                  </a:lnTo>
                  <a:lnTo>
                    <a:pt x="9292" y="13796"/>
                  </a:lnTo>
                  <a:lnTo>
                    <a:pt x="10873" y="13139"/>
                  </a:lnTo>
                  <a:close/>
                </a:path>
              </a:pathLst>
            </a:custGeom>
            <a:solidFill>
              <a:srgbClr val="edc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Shape 476"/>
            <p:cNvSpPr/>
            <p:nvPr/>
          </p:nvSpPr>
          <p:spPr>
            <a:xfrm>
              <a:off x="8651880" y="4357080"/>
              <a:ext cx="88200" cy="15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152" h="8760">
                  <a:moveTo>
                    <a:pt x="4152" y="3504"/>
                  </a:moveTo>
                  <a:lnTo>
                    <a:pt x="3757" y="3066"/>
                  </a:lnTo>
                  <a:lnTo>
                    <a:pt x="3559" y="3285"/>
                  </a:lnTo>
                  <a:lnTo>
                    <a:pt x="2966" y="3942"/>
                  </a:lnTo>
                  <a:lnTo>
                    <a:pt x="2768" y="2409"/>
                  </a:lnTo>
                  <a:lnTo>
                    <a:pt x="2373" y="1314"/>
                  </a:lnTo>
                  <a:lnTo>
                    <a:pt x="1977" y="1314"/>
                  </a:lnTo>
                  <a:lnTo>
                    <a:pt x="1582" y="1752"/>
                  </a:lnTo>
                  <a:lnTo>
                    <a:pt x="1384" y="657"/>
                  </a:lnTo>
                  <a:lnTo>
                    <a:pt x="1187" y="0"/>
                  </a:lnTo>
                  <a:lnTo>
                    <a:pt x="396" y="438"/>
                  </a:lnTo>
                  <a:lnTo>
                    <a:pt x="0" y="1533"/>
                  </a:lnTo>
                  <a:lnTo>
                    <a:pt x="0" y="1752"/>
                  </a:lnTo>
                  <a:lnTo>
                    <a:pt x="198" y="1971"/>
                  </a:lnTo>
                  <a:lnTo>
                    <a:pt x="396" y="1095"/>
                  </a:lnTo>
                  <a:lnTo>
                    <a:pt x="989" y="438"/>
                  </a:lnTo>
                  <a:lnTo>
                    <a:pt x="791" y="1971"/>
                  </a:lnTo>
                  <a:lnTo>
                    <a:pt x="791" y="3723"/>
                  </a:lnTo>
                  <a:lnTo>
                    <a:pt x="989" y="3723"/>
                  </a:lnTo>
                  <a:lnTo>
                    <a:pt x="1384" y="2409"/>
                  </a:lnTo>
                  <a:lnTo>
                    <a:pt x="1977" y="1752"/>
                  </a:lnTo>
                  <a:lnTo>
                    <a:pt x="2373" y="2847"/>
                  </a:lnTo>
                  <a:lnTo>
                    <a:pt x="2175" y="4161"/>
                  </a:lnTo>
                  <a:lnTo>
                    <a:pt x="1780" y="5255"/>
                  </a:lnTo>
                  <a:lnTo>
                    <a:pt x="1977" y="6569"/>
                  </a:lnTo>
                  <a:lnTo>
                    <a:pt x="2570" y="4818"/>
                  </a:lnTo>
                  <a:lnTo>
                    <a:pt x="3757" y="3723"/>
                  </a:lnTo>
                  <a:lnTo>
                    <a:pt x="3757" y="5036"/>
                  </a:lnTo>
                  <a:lnTo>
                    <a:pt x="3559" y="6350"/>
                  </a:lnTo>
                  <a:lnTo>
                    <a:pt x="3164" y="7445"/>
                  </a:lnTo>
                  <a:lnTo>
                    <a:pt x="3164" y="8759"/>
                  </a:lnTo>
                  <a:lnTo>
                    <a:pt x="3559" y="7445"/>
                  </a:lnTo>
                  <a:lnTo>
                    <a:pt x="3954" y="6131"/>
                  </a:lnTo>
                  <a:lnTo>
                    <a:pt x="3954" y="4818"/>
                  </a:lnTo>
                  <a:lnTo>
                    <a:pt x="4152" y="3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6240" bIns="66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Shape 477"/>
            <p:cNvSpPr/>
            <p:nvPr/>
          </p:nvSpPr>
          <p:spPr>
            <a:xfrm>
              <a:off x="8214480" y="4451400"/>
              <a:ext cx="37800" cy="39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80" h="2191">
                  <a:moveTo>
                    <a:pt x="1780" y="1971"/>
                  </a:moveTo>
                  <a:lnTo>
                    <a:pt x="1780" y="876"/>
                  </a:lnTo>
                  <a:lnTo>
                    <a:pt x="1384" y="0"/>
                  </a:lnTo>
                  <a:lnTo>
                    <a:pt x="989" y="0"/>
                  </a:lnTo>
                  <a:lnTo>
                    <a:pt x="989" y="438"/>
                  </a:lnTo>
                  <a:lnTo>
                    <a:pt x="1384" y="1314"/>
                  </a:lnTo>
                  <a:lnTo>
                    <a:pt x="0" y="1971"/>
                  </a:lnTo>
                  <a:lnTo>
                    <a:pt x="396" y="2190"/>
                  </a:lnTo>
                  <a:lnTo>
                    <a:pt x="791" y="1971"/>
                  </a:lnTo>
                  <a:lnTo>
                    <a:pt x="1186" y="1533"/>
                  </a:lnTo>
                  <a:lnTo>
                    <a:pt x="1780" y="19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1480" bIns="-51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Shape 478"/>
            <p:cNvSpPr/>
            <p:nvPr/>
          </p:nvSpPr>
          <p:spPr>
            <a:xfrm>
              <a:off x="7289280" y="4435560"/>
              <a:ext cx="63000" cy="50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967" h="2848">
                  <a:moveTo>
                    <a:pt x="2966" y="1752"/>
                  </a:moveTo>
                  <a:lnTo>
                    <a:pt x="2373" y="1752"/>
                  </a:lnTo>
                  <a:lnTo>
                    <a:pt x="1780" y="2409"/>
                  </a:lnTo>
                  <a:lnTo>
                    <a:pt x="1780" y="1095"/>
                  </a:lnTo>
                  <a:lnTo>
                    <a:pt x="1187" y="1533"/>
                  </a:lnTo>
                  <a:lnTo>
                    <a:pt x="791" y="876"/>
                  </a:lnTo>
                  <a:lnTo>
                    <a:pt x="594" y="220"/>
                  </a:lnTo>
                  <a:lnTo>
                    <a:pt x="396" y="1"/>
                  </a:lnTo>
                  <a:lnTo>
                    <a:pt x="198" y="1"/>
                  </a:lnTo>
                  <a:lnTo>
                    <a:pt x="1" y="657"/>
                  </a:lnTo>
                  <a:lnTo>
                    <a:pt x="594" y="1533"/>
                  </a:lnTo>
                  <a:lnTo>
                    <a:pt x="396" y="1971"/>
                  </a:lnTo>
                  <a:lnTo>
                    <a:pt x="989" y="2190"/>
                  </a:lnTo>
                  <a:lnTo>
                    <a:pt x="1385" y="1971"/>
                  </a:lnTo>
                  <a:lnTo>
                    <a:pt x="1385" y="2628"/>
                  </a:lnTo>
                  <a:lnTo>
                    <a:pt x="1978" y="2847"/>
                  </a:lnTo>
                  <a:lnTo>
                    <a:pt x="2373" y="2190"/>
                  </a:lnTo>
                  <a:lnTo>
                    <a:pt x="2966" y="1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Shape 479"/>
            <p:cNvSpPr/>
            <p:nvPr/>
          </p:nvSpPr>
          <p:spPr>
            <a:xfrm>
              <a:off x="8142840" y="4368960"/>
              <a:ext cx="63000" cy="54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966" h="3067">
                  <a:moveTo>
                    <a:pt x="1977" y="2410"/>
                  </a:moveTo>
                  <a:lnTo>
                    <a:pt x="2768" y="1753"/>
                  </a:lnTo>
                  <a:lnTo>
                    <a:pt x="2966" y="1096"/>
                  </a:lnTo>
                  <a:lnTo>
                    <a:pt x="2571" y="220"/>
                  </a:lnTo>
                  <a:lnTo>
                    <a:pt x="1977" y="1"/>
                  </a:lnTo>
                  <a:lnTo>
                    <a:pt x="2571" y="1534"/>
                  </a:lnTo>
                  <a:lnTo>
                    <a:pt x="1780" y="1096"/>
                  </a:lnTo>
                  <a:lnTo>
                    <a:pt x="989" y="1315"/>
                  </a:lnTo>
                  <a:lnTo>
                    <a:pt x="1582" y="2410"/>
                  </a:lnTo>
                  <a:lnTo>
                    <a:pt x="0" y="2410"/>
                  </a:lnTo>
                  <a:lnTo>
                    <a:pt x="198" y="2848"/>
                  </a:lnTo>
                  <a:lnTo>
                    <a:pt x="989" y="3067"/>
                  </a:lnTo>
                  <a:lnTo>
                    <a:pt x="1582" y="2848"/>
                  </a:lnTo>
                  <a:lnTo>
                    <a:pt x="1977" y="2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Shape 480"/>
            <p:cNvSpPr/>
            <p:nvPr/>
          </p:nvSpPr>
          <p:spPr>
            <a:xfrm>
              <a:off x="8105040" y="4302360"/>
              <a:ext cx="54360" cy="54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571" h="3066">
                  <a:moveTo>
                    <a:pt x="2175" y="2409"/>
                  </a:moveTo>
                  <a:lnTo>
                    <a:pt x="2570" y="1752"/>
                  </a:lnTo>
                  <a:lnTo>
                    <a:pt x="2570" y="1095"/>
                  </a:lnTo>
                  <a:lnTo>
                    <a:pt x="1977" y="219"/>
                  </a:lnTo>
                  <a:lnTo>
                    <a:pt x="1384" y="0"/>
                  </a:lnTo>
                  <a:lnTo>
                    <a:pt x="1779" y="876"/>
                  </a:lnTo>
                  <a:lnTo>
                    <a:pt x="2175" y="1971"/>
                  </a:lnTo>
                  <a:lnTo>
                    <a:pt x="1384" y="1752"/>
                  </a:lnTo>
                  <a:lnTo>
                    <a:pt x="791" y="1533"/>
                  </a:lnTo>
                  <a:lnTo>
                    <a:pt x="791" y="1752"/>
                  </a:lnTo>
                  <a:lnTo>
                    <a:pt x="989" y="2190"/>
                  </a:lnTo>
                  <a:lnTo>
                    <a:pt x="396" y="2409"/>
                  </a:lnTo>
                  <a:lnTo>
                    <a:pt x="0" y="2628"/>
                  </a:lnTo>
                  <a:lnTo>
                    <a:pt x="198" y="2847"/>
                  </a:lnTo>
                  <a:lnTo>
                    <a:pt x="593" y="3066"/>
                  </a:lnTo>
                  <a:lnTo>
                    <a:pt x="1384" y="2628"/>
                  </a:lnTo>
                  <a:lnTo>
                    <a:pt x="2175" y="2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Shape 481"/>
            <p:cNvSpPr/>
            <p:nvPr/>
          </p:nvSpPr>
          <p:spPr>
            <a:xfrm>
              <a:off x="7642440" y="4270680"/>
              <a:ext cx="159840" cy="626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514" h="3505">
                  <a:moveTo>
                    <a:pt x="3164" y="2409"/>
                  </a:moveTo>
                  <a:lnTo>
                    <a:pt x="3362" y="3066"/>
                  </a:lnTo>
                  <a:lnTo>
                    <a:pt x="3955" y="3285"/>
                  </a:lnTo>
                  <a:lnTo>
                    <a:pt x="4548" y="2190"/>
                  </a:lnTo>
                  <a:lnTo>
                    <a:pt x="4746" y="2628"/>
                  </a:lnTo>
                  <a:lnTo>
                    <a:pt x="5339" y="3285"/>
                  </a:lnTo>
                  <a:lnTo>
                    <a:pt x="5536" y="2628"/>
                  </a:lnTo>
                  <a:lnTo>
                    <a:pt x="5932" y="2190"/>
                  </a:lnTo>
                  <a:lnTo>
                    <a:pt x="6525" y="3066"/>
                  </a:lnTo>
                  <a:lnTo>
                    <a:pt x="7316" y="3285"/>
                  </a:lnTo>
                  <a:lnTo>
                    <a:pt x="7513" y="1533"/>
                  </a:lnTo>
                  <a:lnTo>
                    <a:pt x="7118" y="0"/>
                  </a:lnTo>
                  <a:lnTo>
                    <a:pt x="6920" y="0"/>
                  </a:lnTo>
                  <a:lnTo>
                    <a:pt x="6920" y="1314"/>
                  </a:lnTo>
                  <a:lnTo>
                    <a:pt x="6920" y="2847"/>
                  </a:lnTo>
                  <a:lnTo>
                    <a:pt x="6129" y="1971"/>
                  </a:lnTo>
                  <a:lnTo>
                    <a:pt x="5536" y="1314"/>
                  </a:lnTo>
                  <a:lnTo>
                    <a:pt x="5339" y="1752"/>
                  </a:lnTo>
                  <a:lnTo>
                    <a:pt x="5141" y="2409"/>
                  </a:lnTo>
                  <a:lnTo>
                    <a:pt x="4350" y="1095"/>
                  </a:lnTo>
                  <a:lnTo>
                    <a:pt x="3955" y="1752"/>
                  </a:lnTo>
                  <a:lnTo>
                    <a:pt x="3757" y="2628"/>
                  </a:lnTo>
                  <a:lnTo>
                    <a:pt x="3164" y="1752"/>
                  </a:lnTo>
                  <a:lnTo>
                    <a:pt x="2769" y="1533"/>
                  </a:lnTo>
                  <a:lnTo>
                    <a:pt x="2176" y="2847"/>
                  </a:lnTo>
                  <a:lnTo>
                    <a:pt x="1385" y="1971"/>
                  </a:lnTo>
                  <a:lnTo>
                    <a:pt x="792" y="1752"/>
                  </a:lnTo>
                  <a:lnTo>
                    <a:pt x="594" y="1314"/>
                  </a:lnTo>
                  <a:lnTo>
                    <a:pt x="396" y="1314"/>
                  </a:lnTo>
                  <a:lnTo>
                    <a:pt x="1" y="1971"/>
                  </a:lnTo>
                  <a:lnTo>
                    <a:pt x="199" y="2628"/>
                  </a:lnTo>
                  <a:lnTo>
                    <a:pt x="594" y="2409"/>
                  </a:lnTo>
                  <a:lnTo>
                    <a:pt x="989" y="1971"/>
                  </a:lnTo>
                  <a:lnTo>
                    <a:pt x="1583" y="2628"/>
                  </a:lnTo>
                  <a:lnTo>
                    <a:pt x="2373" y="3504"/>
                  </a:lnTo>
                  <a:lnTo>
                    <a:pt x="3164" y="2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Shape 482"/>
            <p:cNvSpPr/>
            <p:nvPr/>
          </p:nvSpPr>
          <p:spPr>
            <a:xfrm>
              <a:off x="7621560" y="4168800"/>
              <a:ext cx="231120" cy="860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0874" h="4818">
                  <a:moveTo>
                    <a:pt x="7513" y="3066"/>
                  </a:moveTo>
                  <a:lnTo>
                    <a:pt x="7908" y="3723"/>
                  </a:lnTo>
                  <a:lnTo>
                    <a:pt x="8897" y="4380"/>
                  </a:lnTo>
                  <a:lnTo>
                    <a:pt x="9094" y="3723"/>
                  </a:lnTo>
                  <a:lnTo>
                    <a:pt x="9292" y="3066"/>
                  </a:lnTo>
                  <a:lnTo>
                    <a:pt x="9885" y="3723"/>
                  </a:lnTo>
                  <a:lnTo>
                    <a:pt x="10874" y="4161"/>
                  </a:lnTo>
                  <a:lnTo>
                    <a:pt x="10874" y="2847"/>
                  </a:lnTo>
                  <a:lnTo>
                    <a:pt x="10478" y="1752"/>
                  </a:lnTo>
                  <a:lnTo>
                    <a:pt x="9687" y="876"/>
                  </a:lnTo>
                  <a:lnTo>
                    <a:pt x="9292" y="0"/>
                  </a:lnTo>
                  <a:lnTo>
                    <a:pt x="8897" y="219"/>
                  </a:lnTo>
                  <a:lnTo>
                    <a:pt x="9292" y="657"/>
                  </a:lnTo>
                  <a:lnTo>
                    <a:pt x="10083" y="1971"/>
                  </a:lnTo>
                  <a:lnTo>
                    <a:pt x="10478" y="3723"/>
                  </a:lnTo>
                  <a:lnTo>
                    <a:pt x="9490" y="2628"/>
                  </a:lnTo>
                  <a:lnTo>
                    <a:pt x="8501" y="1533"/>
                  </a:lnTo>
                  <a:lnTo>
                    <a:pt x="8699" y="2628"/>
                  </a:lnTo>
                  <a:lnTo>
                    <a:pt x="8699" y="3723"/>
                  </a:lnTo>
                  <a:lnTo>
                    <a:pt x="7908" y="2628"/>
                  </a:lnTo>
                  <a:lnTo>
                    <a:pt x="7117" y="1971"/>
                  </a:lnTo>
                  <a:lnTo>
                    <a:pt x="6920" y="3066"/>
                  </a:lnTo>
                  <a:lnTo>
                    <a:pt x="6722" y="4161"/>
                  </a:lnTo>
                  <a:lnTo>
                    <a:pt x="5931" y="2847"/>
                  </a:lnTo>
                  <a:lnTo>
                    <a:pt x="5141" y="1971"/>
                  </a:lnTo>
                  <a:lnTo>
                    <a:pt x="4943" y="2847"/>
                  </a:lnTo>
                  <a:lnTo>
                    <a:pt x="4943" y="3723"/>
                  </a:lnTo>
                  <a:lnTo>
                    <a:pt x="4152" y="2628"/>
                  </a:lnTo>
                  <a:lnTo>
                    <a:pt x="3361" y="1971"/>
                  </a:lnTo>
                  <a:lnTo>
                    <a:pt x="2768" y="3285"/>
                  </a:lnTo>
                  <a:lnTo>
                    <a:pt x="2175" y="2409"/>
                  </a:lnTo>
                  <a:lnTo>
                    <a:pt x="1780" y="1752"/>
                  </a:lnTo>
                  <a:lnTo>
                    <a:pt x="1187" y="1971"/>
                  </a:lnTo>
                  <a:lnTo>
                    <a:pt x="989" y="2409"/>
                  </a:lnTo>
                  <a:lnTo>
                    <a:pt x="594" y="2628"/>
                  </a:lnTo>
                  <a:lnTo>
                    <a:pt x="396" y="2409"/>
                  </a:lnTo>
                  <a:lnTo>
                    <a:pt x="396" y="1752"/>
                  </a:lnTo>
                  <a:lnTo>
                    <a:pt x="396" y="1314"/>
                  </a:lnTo>
                  <a:lnTo>
                    <a:pt x="0" y="1971"/>
                  </a:lnTo>
                  <a:lnTo>
                    <a:pt x="0" y="3066"/>
                  </a:lnTo>
                  <a:lnTo>
                    <a:pt x="396" y="3285"/>
                  </a:lnTo>
                  <a:lnTo>
                    <a:pt x="1187" y="3066"/>
                  </a:lnTo>
                  <a:lnTo>
                    <a:pt x="1780" y="2190"/>
                  </a:lnTo>
                  <a:lnTo>
                    <a:pt x="2175" y="3066"/>
                  </a:lnTo>
                  <a:lnTo>
                    <a:pt x="2966" y="3723"/>
                  </a:lnTo>
                  <a:lnTo>
                    <a:pt x="3559" y="2847"/>
                  </a:lnTo>
                  <a:lnTo>
                    <a:pt x="4152" y="3942"/>
                  </a:lnTo>
                  <a:lnTo>
                    <a:pt x="5141" y="4380"/>
                  </a:lnTo>
                  <a:lnTo>
                    <a:pt x="5141" y="3504"/>
                  </a:lnTo>
                  <a:lnTo>
                    <a:pt x="5536" y="3066"/>
                  </a:lnTo>
                  <a:lnTo>
                    <a:pt x="6129" y="3942"/>
                  </a:lnTo>
                  <a:lnTo>
                    <a:pt x="6920" y="4818"/>
                  </a:lnTo>
                  <a:lnTo>
                    <a:pt x="7315" y="3942"/>
                  </a:lnTo>
                  <a:lnTo>
                    <a:pt x="7513" y="30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Shape 483"/>
            <p:cNvSpPr/>
            <p:nvPr/>
          </p:nvSpPr>
          <p:spPr>
            <a:xfrm>
              <a:off x="8046360" y="4074480"/>
              <a:ext cx="50400" cy="141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73" h="7884">
                  <a:moveTo>
                    <a:pt x="1780" y="5475"/>
                  </a:moveTo>
                  <a:lnTo>
                    <a:pt x="1582" y="4599"/>
                  </a:lnTo>
                  <a:lnTo>
                    <a:pt x="1977" y="3942"/>
                  </a:lnTo>
                  <a:lnTo>
                    <a:pt x="2175" y="1971"/>
                  </a:lnTo>
                  <a:lnTo>
                    <a:pt x="2373" y="220"/>
                  </a:lnTo>
                  <a:lnTo>
                    <a:pt x="1977" y="1"/>
                  </a:lnTo>
                  <a:lnTo>
                    <a:pt x="1780" y="220"/>
                  </a:lnTo>
                  <a:lnTo>
                    <a:pt x="1582" y="1533"/>
                  </a:lnTo>
                  <a:lnTo>
                    <a:pt x="1384" y="3066"/>
                  </a:lnTo>
                  <a:lnTo>
                    <a:pt x="791" y="3723"/>
                  </a:lnTo>
                  <a:lnTo>
                    <a:pt x="989" y="4380"/>
                  </a:lnTo>
                  <a:lnTo>
                    <a:pt x="1187" y="4380"/>
                  </a:lnTo>
                  <a:lnTo>
                    <a:pt x="791" y="5475"/>
                  </a:lnTo>
                  <a:lnTo>
                    <a:pt x="989" y="6570"/>
                  </a:lnTo>
                  <a:lnTo>
                    <a:pt x="198" y="7227"/>
                  </a:lnTo>
                  <a:lnTo>
                    <a:pt x="1" y="7884"/>
                  </a:lnTo>
                  <a:lnTo>
                    <a:pt x="989" y="7008"/>
                  </a:lnTo>
                  <a:lnTo>
                    <a:pt x="1780" y="5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Shape 484"/>
            <p:cNvSpPr/>
            <p:nvPr/>
          </p:nvSpPr>
          <p:spPr>
            <a:xfrm>
              <a:off x="7381800" y="4094280"/>
              <a:ext cx="121680" cy="1058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735" h="5913">
                  <a:moveTo>
                    <a:pt x="5734" y="5694"/>
                  </a:moveTo>
                  <a:lnTo>
                    <a:pt x="4746" y="5256"/>
                  </a:lnTo>
                  <a:lnTo>
                    <a:pt x="4350" y="4380"/>
                  </a:lnTo>
                  <a:lnTo>
                    <a:pt x="4153" y="4380"/>
                  </a:lnTo>
                  <a:lnTo>
                    <a:pt x="3955" y="4818"/>
                  </a:lnTo>
                  <a:lnTo>
                    <a:pt x="4350" y="5475"/>
                  </a:lnTo>
                  <a:lnTo>
                    <a:pt x="3559" y="5256"/>
                  </a:lnTo>
                  <a:lnTo>
                    <a:pt x="2966" y="4818"/>
                  </a:lnTo>
                  <a:lnTo>
                    <a:pt x="2373" y="3723"/>
                  </a:lnTo>
                  <a:lnTo>
                    <a:pt x="1978" y="3285"/>
                  </a:lnTo>
                  <a:lnTo>
                    <a:pt x="1187" y="2190"/>
                  </a:lnTo>
                  <a:lnTo>
                    <a:pt x="396" y="1095"/>
                  </a:lnTo>
                  <a:lnTo>
                    <a:pt x="396" y="657"/>
                  </a:lnTo>
                  <a:lnTo>
                    <a:pt x="792" y="219"/>
                  </a:lnTo>
                  <a:lnTo>
                    <a:pt x="396" y="0"/>
                  </a:lnTo>
                  <a:lnTo>
                    <a:pt x="199" y="0"/>
                  </a:lnTo>
                  <a:lnTo>
                    <a:pt x="1" y="1314"/>
                  </a:lnTo>
                  <a:lnTo>
                    <a:pt x="792" y="2628"/>
                  </a:lnTo>
                  <a:lnTo>
                    <a:pt x="1780" y="3942"/>
                  </a:lnTo>
                  <a:lnTo>
                    <a:pt x="2769" y="5475"/>
                  </a:lnTo>
                  <a:lnTo>
                    <a:pt x="3757" y="5913"/>
                  </a:lnTo>
                  <a:lnTo>
                    <a:pt x="4943" y="5913"/>
                  </a:lnTo>
                  <a:lnTo>
                    <a:pt x="5339" y="5913"/>
                  </a:lnTo>
                  <a:lnTo>
                    <a:pt x="5734" y="5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Shape 485"/>
            <p:cNvSpPr/>
            <p:nvPr/>
          </p:nvSpPr>
          <p:spPr>
            <a:xfrm>
              <a:off x="7427880" y="5620680"/>
              <a:ext cx="83880" cy="235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955" h="13140">
                  <a:moveTo>
                    <a:pt x="3757" y="12483"/>
                  </a:moveTo>
                  <a:lnTo>
                    <a:pt x="3757" y="11607"/>
                  </a:lnTo>
                  <a:lnTo>
                    <a:pt x="3954" y="10731"/>
                  </a:lnTo>
                  <a:lnTo>
                    <a:pt x="3757" y="10293"/>
                  </a:lnTo>
                  <a:lnTo>
                    <a:pt x="3757" y="10074"/>
                  </a:lnTo>
                  <a:lnTo>
                    <a:pt x="3757" y="8541"/>
                  </a:lnTo>
                  <a:lnTo>
                    <a:pt x="3757" y="7008"/>
                  </a:lnTo>
                  <a:lnTo>
                    <a:pt x="3757" y="5475"/>
                  </a:lnTo>
                  <a:lnTo>
                    <a:pt x="3954" y="4162"/>
                  </a:lnTo>
                  <a:lnTo>
                    <a:pt x="3559" y="2410"/>
                  </a:lnTo>
                  <a:lnTo>
                    <a:pt x="3361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1" y="1096"/>
                  </a:lnTo>
                  <a:lnTo>
                    <a:pt x="198" y="2410"/>
                  </a:lnTo>
                  <a:lnTo>
                    <a:pt x="1" y="4381"/>
                  </a:lnTo>
                  <a:lnTo>
                    <a:pt x="198" y="6351"/>
                  </a:lnTo>
                  <a:lnTo>
                    <a:pt x="1" y="7227"/>
                  </a:lnTo>
                  <a:lnTo>
                    <a:pt x="198" y="8103"/>
                  </a:lnTo>
                  <a:lnTo>
                    <a:pt x="396" y="9198"/>
                  </a:lnTo>
                  <a:lnTo>
                    <a:pt x="791" y="10512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571" y="12702"/>
                  </a:lnTo>
                  <a:lnTo>
                    <a:pt x="3757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Shape 486"/>
            <p:cNvSpPr/>
            <p:nvPr/>
          </p:nvSpPr>
          <p:spPr>
            <a:xfrm>
              <a:off x="7301880" y="5605200"/>
              <a:ext cx="83880" cy="231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955" h="12920">
                  <a:moveTo>
                    <a:pt x="3757" y="12263"/>
                  </a:moveTo>
                  <a:lnTo>
                    <a:pt x="3757" y="11387"/>
                  </a:lnTo>
                  <a:lnTo>
                    <a:pt x="3955" y="10511"/>
                  </a:lnTo>
                  <a:lnTo>
                    <a:pt x="3757" y="10292"/>
                  </a:lnTo>
                  <a:lnTo>
                    <a:pt x="3757" y="10073"/>
                  </a:lnTo>
                  <a:lnTo>
                    <a:pt x="3757" y="8321"/>
                  </a:lnTo>
                  <a:lnTo>
                    <a:pt x="3757" y="7007"/>
                  </a:lnTo>
                  <a:lnTo>
                    <a:pt x="3757" y="5256"/>
                  </a:lnTo>
                  <a:lnTo>
                    <a:pt x="3955" y="3942"/>
                  </a:lnTo>
                  <a:lnTo>
                    <a:pt x="3559" y="2190"/>
                  </a:lnTo>
                  <a:lnTo>
                    <a:pt x="3362" y="438"/>
                  </a:lnTo>
                  <a:lnTo>
                    <a:pt x="2768" y="0"/>
                  </a:lnTo>
                  <a:lnTo>
                    <a:pt x="1978" y="219"/>
                  </a:lnTo>
                  <a:lnTo>
                    <a:pt x="989" y="876"/>
                  </a:lnTo>
                  <a:lnTo>
                    <a:pt x="396" y="2190"/>
                  </a:lnTo>
                  <a:lnTo>
                    <a:pt x="198" y="4161"/>
                  </a:lnTo>
                  <a:lnTo>
                    <a:pt x="396" y="6131"/>
                  </a:lnTo>
                  <a:lnTo>
                    <a:pt x="1" y="7007"/>
                  </a:lnTo>
                  <a:lnTo>
                    <a:pt x="396" y="8102"/>
                  </a:lnTo>
                  <a:lnTo>
                    <a:pt x="594" y="9197"/>
                  </a:lnTo>
                  <a:lnTo>
                    <a:pt x="792" y="10511"/>
                  </a:lnTo>
                  <a:lnTo>
                    <a:pt x="989" y="11606"/>
                  </a:lnTo>
                  <a:lnTo>
                    <a:pt x="1780" y="12920"/>
                  </a:lnTo>
                  <a:lnTo>
                    <a:pt x="2768" y="12482"/>
                  </a:lnTo>
                  <a:lnTo>
                    <a:pt x="3757" y="1226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Shape 487"/>
            <p:cNvSpPr/>
            <p:nvPr/>
          </p:nvSpPr>
          <p:spPr>
            <a:xfrm>
              <a:off x="7987320" y="5616720"/>
              <a:ext cx="79920" cy="235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758" h="13140">
                  <a:moveTo>
                    <a:pt x="3559" y="12483"/>
                  </a:moveTo>
                  <a:lnTo>
                    <a:pt x="3757" y="11607"/>
                  </a:lnTo>
                  <a:lnTo>
                    <a:pt x="3757" y="10731"/>
                  </a:lnTo>
                  <a:lnTo>
                    <a:pt x="3559" y="10293"/>
                  </a:lnTo>
                  <a:lnTo>
                    <a:pt x="3559" y="10074"/>
                  </a:lnTo>
                  <a:lnTo>
                    <a:pt x="3559" y="8541"/>
                  </a:lnTo>
                  <a:lnTo>
                    <a:pt x="3559" y="7008"/>
                  </a:lnTo>
                  <a:lnTo>
                    <a:pt x="3559" y="5475"/>
                  </a:lnTo>
                  <a:lnTo>
                    <a:pt x="3757" y="4162"/>
                  </a:lnTo>
                  <a:lnTo>
                    <a:pt x="3559" y="2410"/>
                  </a:lnTo>
                  <a:lnTo>
                    <a:pt x="3362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2" y="1096"/>
                  </a:lnTo>
                  <a:lnTo>
                    <a:pt x="199" y="2410"/>
                  </a:lnTo>
                  <a:lnTo>
                    <a:pt x="1" y="4381"/>
                  </a:lnTo>
                  <a:lnTo>
                    <a:pt x="199" y="6351"/>
                  </a:lnTo>
                  <a:lnTo>
                    <a:pt x="1" y="7227"/>
                  </a:lnTo>
                  <a:lnTo>
                    <a:pt x="199" y="8103"/>
                  </a:lnTo>
                  <a:lnTo>
                    <a:pt x="396" y="9417"/>
                  </a:lnTo>
                  <a:lnTo>
                    <a:pt x="792" y="10731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571" y="12702"/>
                  </a:lnTo>
                  <a:lnTo>
                    <a:pt x="3559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Shape 488"/>
            <p:cNvSpPr/>
            <p:nvPr/>
          </p:nvSpPr>
          <p:spPr>
            <a:xfrm>
              <a:off x="8117640" y="5597280"/>
              <a:ext cx="83880" cy="231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955" h="12920">
                  <a:moveTo>
                    <a:pt x="3757" y="12263"/>
                  </a:moveTo>
                  <a:lnTo>
                    <a:pt x="3954" y="11387"/>
                  </a:lnTo>
                  <a:lnTo>
                    <a:pt x="3954" y="10511"/>
                  </a:lnTo>
                  <a:lnTo>
                    <a:pt x="3757" y="10292"/>
                  </a:lnTo>
                  <a:lnTo>
                    <a:pt x="3757" y="10073"/>
                  </a:lnTo>
                  <a:lnTo>
                    <a:pt x="3757" y="8540"/>
                  </a:lnTo>
                  <a:lnTo>
                    <a:pt x="3757" y="7007"/>
                  </a:lnTo>
                  <a:lnTo>
                    <a:pt x="3757" y="5475"/>
                  </a:lnTo>
                  <a:lnTo>
                    <a:pt x="3954" y="4161"/>
                  </a:lnTo>
                  <a:lnTo>
                    <a:pt x="3559" y="2190"/>
                  </a:lnTo>
                  <a:lnTo>
                    <a:pt x="3361" y="438"/>
                  </a:lnTo>
                  <a:lnTo>
                    <a:pt x="2768" y="0"/>
                  </a:lnTo>
                  <a:lnTo>
                    <a:pt x="1977" y="219"/>
                  </a:lnTo>
                  <a:lnTo>
                    <a:pt x="989" y="876"/>
                  </a:lnTo>
                  <a:lnTo>
                    <a:pt x="396" y="2190"/>
                  </a:lnTo>
                  <a:lnTo>
                    <a:pt x="198" y="4161"/>
                  </a:lnTo>
                  <a:lnTo>
                    <a:pt x="396" y="6131"/>
                  </a:lnTo>
                  <a:lnTo>
                    <a:pt x="0" y="7007"/>
                  </a:lnTo>
                  <a:lnTo>
                    <a:pt x="396" y="8102"/>
                  </a:lnTo>
                  <a:lnTo>
                    <a:pt x="593" y="9197"/>
                  </a:lnTo>
                  <a:lnTo>
                    <a:pt x="791" y="10511"/>
                  </a:lnTo>
                  <a:lnTo>
                    <a:pt x="989" y="11606"/>
                  </a:lnTo>
                  <a:lnTo>
                    <a:pt x="1780" y="12920"/>
                  </a:lnTo>
                  <a:lnTo>
                    <a:pt x="2768" y="12482"/>
                  </a:lnTo>
                  <a:lnTo>
                    <a:pt x="3757" y="1226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Shape 489"/>
            <p:cNvSpPr/>
            <p:nvPr/>
          </p:nvSpPr>
          <p:spPr>
            <a:xfrm>
              <a:off x="8248320" y="5640480"/>
              <a:ext cx="83880" cy="235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955" h="13140">
                  <a:moveTo>
                    <a:pt x="3757" y="12483"/>
                  </a:moveTo>
                  <a:lnTo>
                    <a:pt x="3757" y="11607"/>
                  </a:lnTo>
                  <a:lnTo>
                    <a:pt x="3955" y="10731"/>
                  </a:lnTo>
                  <a:lnTo>
                    <a:pt x="3757" y="10293"/>
                  </a:lnTo>
                  <a:lnTo>
                    <a:pt x="3757" y="10074"/>
                  </a:lnTo>
                  <a:lnTo>
                    <a:pt x="3757" y="8541"/>
                  </a:lnTo>
                  <a:lnTo>
                    <a:pt x="3757" y="7008"/>
                  </a:lnTo>
                  <a:lnTo>
                    <a:pt x="3757" y="5475"/>
                  </a:lnTo>
                  <a:lnTo>
                    <a:pt x="3955" y="4161"/>
                  </a:lnTo>
                  <a:lnTo>
                    <a:pt x="3559" y="2410"/>
                  </a:lnTo>
                  <a:lnTo>
                    <a:pt x="3362" y="658"/>
                  </a:lnTo>
                  <a:lnTo>
                    <a:pt x="2769" y="1"/>
                  </a:lnTo>
                  <a:lnTo>
                    <a:pt x="1978" y="220"/>
                  </a:lnTo>
                  <a:lnTo>
                    <a:pt x="989" y="1096"/>
                  </a:lnTo>
                  <a:lnTo>
                    <a:pt x="199" y="2410"/>
                  </a:lnTo>
                  <a:lnTo>
                    <a:pt x="1" y="4161"/>
                  </a:lnTo>
                  <a:lnTo>
                    <a:pt x="199" y="6132"/>
                  </a:lnTo>
                  <a:lnTo>
                    <a:pt x="1" y="7008"/>
                  </a:lnTo>
                  <a:lnTo>
                    <a:pt x="199" y="8103"/>
                  </a:lnTo>
                  <a:lnTo>
                    <a:pt x="396" y="9198"/>
                  </a:lnTo>
                  <a:lnTo>
                    <a:pt x="792" y="10512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769" y="12702"/>
                  </a:lnTo>
                  <a:lnTo>
                    <a:pt x="3757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Прямоугольник 2"/>
          <p:cNvSpPr/>
          <p:nvPr/>
        </p:nvSpPr>
        <p:spPr>
          <a:xfrm>
            <a:off x="2000160" y="1125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а дробь      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число нужно вычесть и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слителя и прибавить к знаменателю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получилась дроб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Объект 3"/>
              <p:cNvSpPr txBox="1"/>
              <p:nvPr/>
            </p:nvSpPr>
            <p:spPr>
              <a:xfrm>
                <a:off x="4859280" y="843120"/>
                <a:ext cx="409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Объект 4"/>
              <p:cNvSpPr txBox="1"/>
              <p:nvPr/>
            </p:nvSpPr>
            <p:spPr>
              <a:xfrm>
                <a:off x="6221520" y="2708280"/>
                <a:ext cx="412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Объект 6"/>
              <p:cNvSpPr txBox="1"/>
              <p:nvPr/>
            </p:nvSpPr>
            <p:spPr>
              <a:xfrm>
                <a:off x="1403280" y="3787920"/>
                <a:ext cx="36403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Объект 7"/>
              <p:cNvSpPr txBox="1"/>
              <p:nvPr/>
            </p:nvSpPr>
            <p:spPr>
              <a:xfrm>
                <a:off x="4998960" y="3672000"/>
                <a:ext cx="15732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5"/>
          <p:cNvSpPr/>
          <p:nvPr/>
        </p:nvSpPr>
        <p:spPr>
          <a:xfrm>
            <a:off x="250920" y="21024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Переход х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Зная, что каждому числу соответствует буква алфавита с таким же порядковым номером, расшифруйте следующие сообщ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12-21-12-21-26-12-1 12-21-12-21-26-16-15-12-21 19-26-10-13-1 12-1-17-32-26-16-15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13984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укушка кукушонку сшила капюшо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Цели иг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вивать интуицию, догадку, эрудицию и владение методами математ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будить математическую любознательность и инициативу; развивать устойчивый интерес к мате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6"/>
          <p:cNvSpPr/>
          <p:nvPr/>
        </p:nvSpPr>
        <p:spPr>
          <a:xfrm>
            <a:off x="108000" y="272520"/>
            <a:ext cx="8569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ой материал с экологической точки зрения более подходит для изготовления детской игруш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а) дсп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б) фанер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) ли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2300400" y="5160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" name="Shape 651"/>
          <p:cNvGrpSpPr/>
          <p:nvPr/>
        </p:nvGrpSpPr>
        <p:grpSpPr>
          <a:xfrm>
            <a:off x="5649840" y="3402000"/>
            <a:ext cx="2327400" cy="3238560"/>
            <a:chOff x="5649840" y="3402000"/>
            <a:chExt cx="2327400" cy="3238560"/>
          </a:xfrm>
        </p:grpSpPr>
        <p:sp>
          <p:nvSpPr>
            <p:cNvPr id="348" name="Shape 652"/>
            <p:cNvSpPr/>
            <p:nvPr/>
          </p:nvSpPr>
          <p:spPr>
            <a:xfrm>
              <a:off x="5649840" y="3402000"/>
              <a:ext cx="2327400" cy="3238560"/>
            </a:xfrm>
            <a:custGeom>
              <a:avLst/>
              <a:gdLst>
                <a:gd name="textAreaLeft" fmla="*/ 0 w 2327400"/>
                <a:gd name="textAreaRight" fmla="*/ 2327760 w 232740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118261" h="118548">
                  <a:moveTo>
                    <a:pt x="15223" y="6238"/>
                  </a:moveTo>
                  <a:lnTo>
                    <a:pt x="15500" y="7007"/>
                  </a:lnTo>
                  <a:lnTo>
                    <a:pt x="15816" y="7776"/>
                  </a:lnTo>
                  <a:lnTo>
                    <a:pt x="16172" y="8488"/>
                  </a:lnTo>
                  <a:lnTo>
                    <a:pt x="16567" y="9201"/>
                  </a:lnTo>
                  <a:lnTo>
                    <a:pt x="16923" y="9856"/>
                  </a:lnTo>
                  <a:lnTo>
                    <a:pt x="17319" y="10568"/>
                  </a:lnTo>
                  <a:lnTo>
                    <a:pt x="17754" y="11251"/>
                  </a:lnTo>
                  <a:lnTo>
                    <a:pt x="18228" y="12049"/>
                  </a:lnTo>
                  <a:lnTo>
                    <a:pt x="18505" y="12448"/>
                  </a:lnTo>
                  <a:lnTo>
                    <a:pt x="18900" y="12789"/>
                  </a:lnTo>
                  <a:lnTo>
                    <a:pt x="19375" y="13046"/>
                  </a:lnTo>
                  <a:lnTo>
                    <a:pt x="19928" y="13331"/>
                  </a:lnTo>
                  <a:lnTo>
                    <a:pt x="20363" y="13587"/>
                  </a:lnTo>
                  <a:lnTo>
                    <a:pt x="20798" y="13900"/>
                  </a:lnTo>
                  <a:lnTo>
                    <a:pt x="21114" y="14299"/>
                  </a:lnTo>
                  <a:lnTo>
                    <a:pt x="21233" y="14840"/>
                  </a:lnTo>
                  <a:lnTo>
                    <a:pt x="20877" y="18515"/>
                  </a:lnTo>
                  <a:lnTo>
                    <a:pt x="20561" y="22417"/>
                  </a:lnTo>
                  <a:lnTo>
                    <a:pt x="20284" y="26404"/>
                  </a:lnTo>
                  <a:lnTo>
                    <a:pt x="20086" y="30535"/>
                  </a:lnTo>
                  <a:lnTo>
                    <a:pt x="19928" y="34665"/>
                  </a:lnTo>
                  <a:lnTo>
                    <a:pt x="19928" y="38823"/>
                  </a:lnTo>
                  <a:lnTo>
                    <a:pt x="20047" y="42868"/>
                  </a:lnTo>
                  <a:lnTo>
                    <a:pt x="20403" y="46855"/>
                  </a:lnTo>
                  <a:lnTo>
                    <a:pt x="20363" y="47226"/>
                  </a:lnTo>
                  <a:lnTo>
                    <a:pt x="20363" y="47653"/>
                  </a:lnTo>
                  <a:lnTo>
                    <a:pt x="20363" y="48109"/>
                  </a:lnTo>
                  <a:lnTo>
                    <a:pt x="20363" y="48564"/>
                  </a:lnTo>
                  <a:lnTo>
                    <a:pt x="20363" y="49020"/>
                  </a:lnTo>
                  <a:lnTo>
                    <a:pt x="20363" y="49476"/>
                  </a:lnTo>
                  <a:lnTo>
                    <a:pt x="20403" y="49932"/>
                  </a:lnTo>
                  <a:lnTo>
                    <a:pt x="20521" y="50416"/>
                  </a:lnTo>
                  <a:lnTo>
                    <a:pt x="20877" y="50160"/>
                  </a:lnTo>
                  <a:lnTo>
                    <a:pt x="21273" y="49875"/>
                  </a:lnTo>
                  <a:lnTo>
                    <a:pt x="21668" y="49533"/>
                  </a:lnTo>
                  <a:lnTo>
                    <a:pt x="22182" y="49248"/>
                  </a:lnTo>
                  <a:lnTo>
                    <a:pt x="22656" y="48963"/>
                  </a:lnTo>
                  <a:lnTo>
                    <a:pt x="23210" y="48792"/>
                  </a:lnTo>
                  <a:lnTo>
                    <a:pt x="23803" y="48735"/>
                  </a:lnTo>
                  <a:lnTo>
                    <a:pt x="24515" y="48849"/>
                  </a:lnTo>
                  <a:lnTo>
                    <a:pt x="25029" y="49362"/>
                  </a:lnTo>
                  <a:lnTo>
                    <a:pt x="25305" y="49932"/>
                  </a:lnTo>
                  <a:lnTo>
                    <a:pt x="25345" y="50501"/>
                  </a:lnTo>
                  <a:lnTo>
                    <a:pt x="25345" y="51099"/>
                  </a:lnTo>
                  <a:lnTo>
                    <a:pt x="25305" y="51698"/>
                  </a:lnTo>
                  <a:lnTo>
                    <a:pt x="25424" y="52296"/>
                  </a:lnTo>
                  <a:lnTo>
                    <a:pt x="25701" y="52865"/>
                  </a:lnTo>
                  <a:lnTo>
                    <a:pt x="26333" y="53464"/>
                  </a:lnTo>
                  <a:lnTo>
                    <a:pt x="26689" y="53606"/>
                  </a:lnTo>
                  <a:lnTo>
                    <a:pt x="27124" y="53777"/>
                  </a:lnTo>
                  <a:lnTo>
                    <a:pt x="27559" y="53919"/>
                  </a:lnTo>
                  <a:lnTo>
                    <a:pt x="27994" y="54090"/>
                  </a:lnTo>
                  <a:lnTo>
                    <a:pt x="28389" y="54176"/>
                  </a:lnTo>
                  <a:lnTo>
                    <a:pt x="28785" y="54290"/>
                  </a:lnTo>
                  <a:lnTo>
                    <a:pt x="29180" y="54318"/>
                  </a:lnTo>
                  <a:lnTo>
                    <a:pt x="29576" y="54347"/>
                  </a:lnTo>
                  <a:lnTo>
                    <a:pt x="30169" y="54916"/>
                  </a:lnTo>
                  <a:lnTo>
                    <a:pt x="30683" y="55600"/>
                  </a:lnTo>
                  <a:lnTo>
                    <a:pt x="31078" y="56283"/>
                  </a:lnTo>
                  <a:lnTo>
                    <a:pt x="31434" y="57024"/>
                  </a:lnTo>
                  <a:lnTo>
                    <a:pt x="31671" y="57736"/>
                  </a:lnTo>
                  <a:lnTo>
                    <a:pt x="31948" y="58477"/>
                  </a:lnTo>
                  <a:lnTo>
                    <a:pt x="32146" y="59189"/>
                  </a:lnTo>
                  <a:lnTo>
                    <a:pt x="32343" y="59901"/>
                  </a:lnTo>
                  <a:lnTo>
                    <a:pt x="33292" y="59986"/>
                  </a:lnTo>
                  <a:lnTo>
                    <a:pt x="34241" y="60214"/>
                  </a:lnTo>
                  <a:lnTo>
                    <a:pt x="35111" y="60556"/>
                  </a:lnTo>
                  <a:lnTo>
                    <a:pt x="35981" y="60983"/>
                  </a:lnTo>
                  <a:lnTo>
                    <a:pt x="36811" y="61410"/>
                  </a:lnTo>
                  <a:lnTo>
                    <a:pt x="37681" y="61838"/>
                  </a:lnTo>
                  <a:lnTo>
                    <a:pt x="38590" y="62236"/>
                  </a:lnTo>
                  <a:lnTo>
                    <a:pt x="39618" y="62607"/>
                  </a:lnTo>
                  <a:lnTo>
                    <a:pt x="39895" y="62749"/>
                  </a:lnTo>
                  <a:lnTo>
                    <a:pt x="40251" y="62920"/>
                  </a:lnTo>
                  <a:lnTo>
                    <a:pt x="40646" y="63091"/>
                  </a:lnTo>
                  <a:lnTo>
                    <a:pt x="41042" y="63262"/>
                  </a:lnTo>
                  <a:lnTo>
                    <a:pt x="41437" y="63376"/>
                  </a:lnTo>
                  <a:lnTo>
                    <a:pt x="41833" y="63490"/>
                  </a:lnTo>
                  <a:lnTo>
                    <a:pt x="42228" y="63547"/>
                  </a:lnTo>
                  <a:lnTo>
                    <a:pt x="42623" y="63575"/>
                  </a:lnTo>
                  <a:lnTo>
                    <a:pt x="42821" y="63404"/>
                  </a:lnTo>
                  <a:lnTo>
                    <a:pt x="43058" y="63262"/>
                  </a:lnTo>
                  <a:lnTo>
                    <a:pt x="43217" y="63062"/>
                  </a:lnTo>
                  <a:lnTo>
                    <a:pt x="43414" y="62892"/>
                  </a:lnTo>
                  <a:lnTo>
                    <a:pt x="43612" y="62721"/>
                  </a:lnTo>
                  <a:lnTo>
                    <a:pt x="43849" y="62578"/>
                  </a:lnTo>
                  <a:lnTo>
                    <a:pt x="44165" y="62493"/>
                  </a:lnTo>
                  <a:lnTo>
                    <a:pt x="44561" y="62521"/>
                  </a:lnTo>
                  <a:lnTo>
                    <a:pt x="45035" y="62464"/>
                  </a:lnTo>
                  <a:lnTo>
                    <a:pt x="45510" y="62350"/>
                  </a:lnTo>
                  <a:lnTo>
                    <a:pt x="45905" y="62151"/>
                  </a:lnTo>
                  <a:lnTo>
                    <a:pt x="46340" y="61952"/>
                  </a:lnTo>
                  <a:lnTo>
                    <a:pt x="46696" y="61667"/>
                  </a:lnTo>
                  <a:lnTo>
                    <a:pt x="47052" y="61410"/>
                  </a:lnTo>
                  <a:lnTo>
                    <a:pt x="47408" y="61126"/>
                  </a:lnTo>
                  <a:lnTo>
                    <a:pt x="47803" y="60869"/>
                  </a:lnTo>
                  <a:lnTo>
                    <a:pt x="48277" y="60357"/>
                  </a:lnTo>
                  <a:lnTo>
                    <a:pt x="48791" y="59844"/>
                  </a:lnTo>
                  <a:lnTo>
                    <a:pt x="49305" y="59303"/>
                  </a:lnTo>
                  <a:lnTo>
                    <a:pt x="49819" y="58790"/>
                  </a:lnTo>
                  <a:lnTo>
                    <a:pt x="50294" y="58249"/>
                  </a:lnTo>
                  <a:lnTo>
                    <a:pt x="50887" y="57765"/>
                  </a:lnTo>
                  <a:lnTo>
                    <a:pt x="51480" y="57309"/>
                  </a:lnTo>
                  <a:lnTo>
                    <a:pt x="52152" y="56939"/>
                  </a:lnTo>
                  <a:lnTo>
                    <a:pt x="51401" y="56454"/>
                  </a:lnTo>
                  <a:lnTo>
                    <a:pt x="50808" y="55942"/>
                  </a:lnTo>
                  <a:lnTo>
                    <a:pt x="50333" y="55372"/>
                  </a:lnTo>
                  <a:lnTo>
                    <a:pt x="49978" y="54802"/>
                  </a:lnTo>
                  <a:lnTo>
                    <a:pt x="49661" y="54147"/>
                  </a:lnTo>
                  <a:lnTo>
                    <a:pt x="49503" y="53464"/>
                  </a:lnTo>
                  <a:lnTo>
                    <a:pt x="49385" y="52723"/>
                  </a:lnTo>
                  <a:lnTo>
                    <a:pt x="49385" y="51982"/>
                  </a:lnTo>
                  <a:lnTo>
                    <a:pt x="48554" y="51982"/>
                  </a:lnTo>
                  <a:lnTo>
                    <a:pt x="47724" y="52011"/>
                  </a:lnTo>
                  <a:lnTo>
                    <a:pt x="46933" y="51925"/>
                  </a:lnTo>
                  <a:lnTo>
                    <a:pt x="46221" y="51869"/>
                  </a:lnTo>
                  <a:lnTo>
                    <a:pt x="45510" y="51726"/>
                  </a:lnTo>
                  <a:lnTo>
                    <a:pt x="44838" y="51555"/>
                  </a:lnTo>
                  <a:lnTo>
                    <a:pt x="44165" y="51356"/>
                  </a:lnTo>
                  <a:lnTo>
                    <a:pt x="43572" y="51128"/>
                  </a:lnTo>
                  <a:lnTo>
                    <a:pt x="43296" y="49163"/>
                  </a:lnTo>
                  <a:lnTo>
                    <a:pt x="43019" y="47197"/>
                  </a:lnTo>
                  <a:lnTo>
                    <a:pt x="42782" y="45175"/>
                  </a:lnTo>
                  <a:lnTo>
                    <a:pt x="42623" y="43153"/>
                  </a:lnTo>
                  <a:lnTo>
                    <a:pt x="42544" y="41102"/>
                  </a:lnTo>
                  <a:lnTo>
                    <a:pt x="42703" y="39051"/>
                  </a:lnTo>
                  <a:lnTo>
                    <a:pt x="43058" y="37029"/>
                  </a:lnTo>
                  <a:lnTo>
                    <a:pt x="43691" y="35035"/>
                  </a:lnTo>
                  <a:lnTo>
                    <a:pt x="43770" y="34579"/>
                  </a:lnTo>
                  <a:lnTo>
                    <a:pt x="43968" y="34123"/>
                  </a:lnTo>
                  <a:lnTo>
                    <a:pt x="44126" y="33639"/>
                  </a:lnTo>
                  <a:lnTo>
                    <a:pt x="44363" y="33183"/>
                  </a:lnTo>
                  <a:lnTo>
                    <a:pt x="44521" y="32699"/>
                  </a:lnTo>
                  <a:lnTo>
                    <a:pt x="44679" y="32244"/>
                  </a:lnTo>
                  <a:lnTo>
                    <a:pt x="44798" y="31788"/>
                  </a:lnTo>
                  <a:lnTo>
                    <a:pt x="44917" y="31361"/>
                  </a:lnTo>
                  <a:lnTo>
                    <a:pt x="44521" y="31161"/>
                  </a:lnTo>
                  <a:lnTo>
                    <a:pt x="44126" y="31047"/>
                  </a:lnTo>
                  <a:lnTo>
                    <a:pt x="43691" y="30905"/>
                  </a:lnTo>
                  <a:lnTo>
                    <a:pt x="43296" y="30819"/>
                  </a:lnTo>
                  <a:lnTo>
                    <a:pt x="42861" y="30677"/>
                  </a:lnTo>
                  <a:lnTo>
                    <a:pt x="42465" y="30563"/>
                  </a:lnTo>
                  <a:lnTo>
                    <a:pt x="42109" y="30364"/>
                  </a:lnTo>
                  <a:lnTo>
                    <a:pt x="41793" y="30164"/>
                  </a:lnTo>
                  <a:lnTo>
                    <a:pt x="40844" y="29395"/>
                  </a:lnTo>
                  <a:lnTo>
                    <a:pt x="40132" y="28598"/>
                  </a:lnTo>
                  <a:lnTo>
                    <a:pt x="39539" y="27743"/>
                  </a:lnTo>
                  <a:lnTo>
                    <a:pt x="39144" y="26917"/>
                  </a:lnTo>
                  <a:lnTo>
                    <a:pt x="38828" y="26034"/>
                  </a:lnTo>
                  <a:lnTo>
                    <a:pt x="38749" y="25123"/>
                  </a:lnTo>
                  <a:lnTo>
                    <a:pt x="38749" y="24183"/>
                  </a:lnTo>
                  <a:lnTo>
                    <a:pt x="38986" y="23271"/>
                  </a:lnTo>
                  <a:lnTo>
                    <a:pt x="39342" y="22246"/>
                  </a:lnTo>
                  <a:lnTo>
                    <a:pt x="39974" y="21391"/>
                  </a:lnTo>
                  <a:lnTo>
                    <a:pt x="40844" y="20651"/>
                  </a:lnTo>
                  <a:lnTo>
                    <a:pt x="41912" y="20053"/>
                  </a:lnTo>
                  <a:lnTo>
                    <a:pt x="43058" y="19540"/>
                  </a:lnTo>
                  <a:lnTo>
                    <a:pt x="44363" y="19141"/>
                  </a:lnTo>
                  <a:lnTo>
                    <a:pt x="45707" y="18856"/>
                  </a:lnTo>
                  <a:lnTo>
                    <a:pt x="47091" y="18657"/>
                  </a:lnTo>
                  <a:lnTo>
                    <a:pt x="48791" y="18657"/>
                  </a:lnTo>
                  <a:lnTo>
                    <a:pt x="48910" y="17973"/>
                  </a:lnTo>
                  <a:lnTo>
                    <a:pt x="49147" y="17290"/>
                  </a:lnTo>
                  <a:lnTo>
                    <a:pt x="49424" y="16635"/>
                  </a:lnTo>
                  <a:lnTo>
                    <a:pt x="49859" y="16037"/>
                  </a:lnTo>
                  <a:lnTo>
                    <a:pt x="50294" y="15410"/>
                  </a:lnTo>
                  <a:lnTo>
                    <a:pt x="50887" y="14897"/>
                  </a:lnTo>
                  <a:lnTo>
                    <a:pt x="51559" y="14470"/>
                  </a:lnTo>
                  <a:lnTo>
                    <a:pt x="52389" y="14128"/>
                  </a:lnTo>
                  <a:lnTo>
                    <a:pt x="52587" y="14071"/>
                  </a:lnTo>
                  <a:lnTo>
                    <a:pt x="52745" y="14071"/>
                  </a:lnTo>
                  <a:lnTo>
                    <a:pt x="52903" y="14071"/>
                  </a:lnTo>
                  <a:lnTo>
                    <a:pt x="53062" y="14100"/>
                  </a:lnTo>
                  <a:lnTo>
                    <a:pt x="53180" y="14128"/>
                  </a:lnTo>
                  <a:lnTo>
                    <a:pt x="53378" y="14185"/>
                  </a:lnTo>
                  <a:lnTo>
                    <a:pt x="53576" y="14214"/>
                  </a:lnTo>
                  <a:lnTo>
                    <a:pt x="53852" y="14242"/>
                  </a:lnTo>
                  <a:lnTo>
                    <a:pt x="54050" y="14498"/>
                  </a:lnTo>
                  <a:lnTo>
                    <a:pt x="54208" y="14812"/>
                  </a:lnTo>
                  <a:lnTo>
                    <a:pt x="54287" y="15125"/>
                  </a:lnTo>
                  <a:lnTo>
                    <a:pt x="54366" y="15467"/>
                  </a:lnTo>
                  <a:lnTo>
                    <a:pt x="54406" y="15780"/>
                  </a:lnTo>
                  <a:lnTo>
                    <a:pt x="54446" y="16094"/>
                  </a:lnTo>
                  <a:lnTo>
                    <a:pt x="54525" y="16378"/>
                  </a:lnTo>
                  <a:lnTo>
                    <a:pt x="54683" y="16663"/>
                  </a:lnTo>
                  <a:lnTo>
                    <a:pt x="55869" y="15353"/>
                  </a:lnTo>
                  <a:lnTo>
                    <a:pt x="57213" y="14043"/>
                  </a:lnTo>
                  <a:lnTo>
                    <a:pt x="58676" y="12789"/>
                  </a:lnTo>
                  <a:lnTo>
                    <a:pt x="60297" y="11622"/>
                  </a:lnTo>
                  <a:lnTo>
                    <a:pt x="61997" y="10596"/>
                  </a:lnTo>
                  <a:lnTo>
                    <a:pt x="63816" y="9770"/>
                  </a:lnTo>
                  <a:lnTo>
                    <a:pt x="65714" y="9201"/>
                  </a:lnTo>
                  <a:lnTo>
                    <a:pt x="67731" y="8916"/>
                  </a:lnTo>
                  <a:lnTo>
                    <a:pt x="68086" y="8773"/>
                  </a:lnTo>
                  <a:lnTo>
                    <a:pt x="68521" y="8688"/>
                  </a:lnTo>
                  <a:lnTo>
                    <a:pt x="68917" y="8574"/>
                  </a:lnTo>
                  <a:lnTo>
                    <a:pt x="69312" y="8488"/>
                  </a:lnTo>
                  <a:lnTo>
                    <a:pt x="69312" y="7976"/>
                  </a:lnTo>
                  <a:lnTo>
                    <a:pt x="69154" y="7492"/>
                  </a:lnTo>
                  <a:lnTo>
                    <a:pt x="68877" y="7036"/>
                  </a:lnTo>
                  <a:lnTo>
                    <a:pt x="68521" y="6609"/>
                  </a:lnTo>
                  <a:lnTo>
                    <a:pt x="68007" y="6181"/>
                  </a:lnTo>
                  <a:lnTo>
                    <a:pt x="67533" y="5783"/>
                  </a:lnTo>
                  <a:lnTo>
                    <a:pt x="67058" y="5412"/>
                  </a:lnTo>
                  <a:lnTo>
                    <a:pt x="66663" y="5099"/>
                  </a:lnTo>
                  <a:lnTo>
                    <a:pt x="66623" y="4900"/>
                  </a:lnTo>
                  <a:lnTo>
                    <a:pt x="66584" y="4729"/>
                  </a:lnTo>
                  <a:lnTo>
                    <a:pt x="66505" y="4558"/>
                  </a:lnTo>
                  <a:lnTo>
                    <a:pt x="66465" y="4387"/>
                  </a:lnTo>
                  <a:lnTo>
                    <a:pt x="66386" y="4216"/>
                  </a:lnTo>
                  <a:lnTo>
                    <a:pt x="66465" y="4074"/>
                  </a:lnTo>
                  <a:lnTo>
                    <a:pt x="66584" y="3931"/>
                  </a:lnTo>
                  <a:lnTo>
                    <a:pt x="66900" y="3874"/>
                  </a:lnTo>
                  <a:lnTo>
                    <a:pt x="67493" y="3960"/>
                  </a:lnTo>
                  <a:lnTo>
                    <a:pt x="68086" y="4045"/>
                  </a:lnTo>
                  <a:lnTo>
                    <a:pt x="68679" y="4131"/>
                  </a:lnTo>
                  <a:lnTo>
                    <a:pt x="69312" y="4216"/>
                  </a:lnTo>
                  <a:lnTo>
                    <a:pt x="69905" y="4301"/>
                  </a:lnTo>
                  <a:lnTo>
                    <a:pt x="70498" y="4444"/>
                  </a:lnTo>
                  <a:lnTo>
                    <a:pt x="71052" y="4586"/>
                  </a:lnTo>
                  <a:lnTo>
                    <a:pt x="71605" y="4757"/>
                  </a:lnTo>
                  <a:lnTo>
                    <a:pt x="71684" y="4900"/>
                  </a:lnTo>
                  <a:lnTo>
                    <a:pt x="71961" y="4900"/>
                  </a:lnTo>
                  <a:lnTo>
                    <a:pt x="72277" y="4900"/>
                  </a:lnTo>
                  <a:lnTo>
                    <a:pt x="72594" y="5014"/>
                  </a:lnTo>
                  <a:lnTo>
                    <a:pt x="74057" y="5355"/>
                  </a:lnTo>
                  <a:lnTo>
                    <a:pt x="75638" y="5726"/>
                  </a:lnTo>
                  <a:lnTo>
                    <a:pt x="77299" y="6096"/>
                  </a:lnTo>
                  <a:lnTo>
                    <a:pt x="78999" y="6495"/>
                  </a:lnTo>
                  <a:lnTo>
                    <a:pt x="80620" y="6893"/>
                  </a:lnTo>
                  <a:lnTo>
                    <a:pt x="82241" y="7378"/>
                  </a:lnTo>
                  <a:lnTo>
                    <a:pt x="83783" y="7919"/>
                  </a:lnTo>
                  <a:lnTo>
                    <a:pt x="85246" y="8574"/>
                  </a:lnTo>
                  <a:lnTo>
                    <a:pt x="87342" y="9229"/>
                  </a:lnTo>
                  <a:lnTo>
                    <a:pt x="89358" y="10027"/>
                  </a:lnTo>
                  <a:lnTo>
                    <a:pt x="91217" y="10881"/>
                  </a:lnTo>
                  <a:lnTo>
                    <a:pt x="93075" y="11821"/>
                  </a:lnTo>
                  <a:lnTo>
                    <a:pt x="94854" y="12761"/>
                  </a:lnTo>
                  <a:lnTo>
                    <a:pt x="96673" y="13701"/>
                  </a:lnTo>
                  <a:lnTo>
                    <a:pt x="98492" y="14612"/>
                  </a:lnTo>
                  <a:lnTo>
                    <a:pt x="100469" y="15524"/>
                  </a:lnTo>
                  <a:lnTo>
                    <a:pt x="100745" y="15837"/>
                  </a:lnTo>
                  <a:lnTo>
                    <a:pt x="100864" y="16179"/>
                  </a:lnTo>
                  <a:lnTo>
                    <a:pt x="100785" y="16464"/>
                  </a:lnTo>
                  <a:lnTo>
                    <a:pt x="100587" y="16777"/>
                  </a:lnTo>
                  <a:lnTo>
                    <a:pt x="100310" y="17033"/>
                  </a:lnTo>
                  <a:lnTo>
                    <a:pt x="100113" y="17318"/>
                  </a:lnTo>
                  <a:lnTo>
                    <a:pt x="99955" y="17603"/>
                  </a:lnTo>
                  <a:lnTo>
                    <a:pt x="99994" y="17888"/>
                  </a:lnTo>
                  <a:lnTo>
                    <a:pt x="99757" y="17973"/>
                  </a:lnTo>
                  <a:lnTo>
                    <a:pt x="100113" y="17973"/>
                  </a:lnTo>
                  <a:lnTo>
                    <a:pt x="100469" y="18059"/>
                  </a:lnTo>
                  <a:lnTo>
                    <a:pt x="100864" y="18116"/>
                  </a:lnTo>
                  <a:lnTo>
                    <a:pt x="101259" y="18230"/>
                  </a:lnTo>
                  <a:lnTo>
                    <a:pt x="101576" y="18315"/>
                  </a:lnTo>
                  <a:lnTo>
                    <a:pt x="101932" y="18486"/>
                  </a:lnTo>
                  <a:lnTo>
                    <a:pt x="102248" y="18629"/>
                  </a:lnTo>
                  <a:lnTo>
                    <a:pt x="102525" y="18828"/>
                  </a:lnTo>
                  <a:lnTo>
                    <a:pt x="102643" y="19284"/>
                  </a:lnTo>
                  <a:lnTo>
                    <a:pt x="102880" y="19768"/>
                  </a:lnTo>
                  <a:lnTo>
                    <a:pt x="103118" y="20224"/>
                  </a:lnTo>
                  <a:lnTo>
                    <a:pt x="103474" y="20679"/>
                  </a:lnTo>
                  <a:lnTo>
                    <a:pt x="103829" y="21107"/>
                  </a:lnTo>
                  <a:lnTo>
                    <a:pt x="104185" y="21534"/>
                  </a:lnTo>
                  <a:lnTo>
                    <a:pt x="104541" y="21961"/>
                  </a:lnTo>
                  <a:lnTo>
                    <a:pt x="104936" y="22417"/>
                  </a:lnTo>
                  <a:lnTo>
                    <a:pt x="104857" y="22559"/>
                  </a:lnTo>
                  <a:lnTo>
                    <a:pt x="104976" y="22759"/>
                  </a:lnTo>
                  <a:lnTo>
                    <a:pt x="105174" y="22958"/>
                  </a:lnTo>
                  <a:lnTo>
                    <a:pt x="105411" y="23186"/>
                  </a:lnTo>
                  <a:lnTo>
                    <a:pt x="105648" y="23613"/>
                  </a:lnTo>
                  <a:lnTo>
                    <a:pt x="105885" y="24040"/>
                  </a:lnTo>
                  <a:lnTo>
                    <a:pt x="106123" y="24468"/>
                  </a:lnTo>
                  <a:lnTo>
                    <a:pt x="106360" y="24923"/>
                  </a:lnTo>
                  <a:lnTo>
                    <a:pt x="106558" y="25351"/>
                  </a:lnTo>
                  <a:lnTo>
                    <a:pt x="106755" y="25778"/>
                  </a:lnTo>
                  <a:lnTo>
                    <a:pt x="106913" y="26205"/>
                  </a:lnTo>
                  <a:lnTo>
                    <a:pt x="107111" y="26661"/>
                  </a:lnTo>
                  <a:lnTo>
                    <a:pt x="106913" y="26718"/>
                  </a:lnTo>
                  <a:lnTo>
                    <a:pt x="106913" y="26889"/>
                  </a:lnTo>
                  <a:lnTo>
                    <a:pt x="106992" y="27031"/>
                  </a:lnTo>
                  <a:lnTo>
                    <a:pt x="107111" y="27202"/>
                  </a:lnTo>
                  <a:lnTo>
                    <a:pt x="106913" y="27601"/>
                  </a:lnTo>
                  <a:lnTo>
                    <a:pt x="106755" y="28028"/>
                  </a:lnTo>
                  <a:lnTo>
                    <a:pt x="106558" y="28427"/>
                  </a:lnTo>
                  <a:lnTo>
                    <a:pt x="106399" y="28797"/>
                  </a:lnTo>
                  <a:lnTo>
                    <a:pt x="106123" y="29110"/>
                  </a:lnTo>
                  <a:lnTo>
                    <a:pt x="105846" y="29424"/>
                  </a:lnTo>
                  <a:lnTo>
                    <a:pt x="105490" y="29680"/>
                  </a:lnTo>
                  <a:lnTo>
                    <a:pt x="105055" y="29965"/>
                  </a:lnTo>
                  <a:lnTo>
                    <a:pt x="105609" y="31873"/>
                  </a:lnTo>
                  <a:lnTo>
                    <a:pt x="105846" y="33896"/>
                  </a:lnTo>
                  <a:lnTo>
                    <a:pt x="105688" y="35889"/>
                  </a:lnTo>
                  <a:lnTo>
                    <a:pt x="105174" y="37912"/>
                  </a:lnTo>
                  <a:lnTo>
                    <a:pt x="104264" y="39820"/>
                  </a:lnTo>
                  <a:lnTo>
                    <a:pt x="103039" y="41671"/>
                  </a:lnTo>
                  <a:lnTo>
                    <a:pt x="101497" y="43380"/>
                  </a:lnTo>
                  <a:lnTo>
                    <a:pt x="99638" y="44947"/>
                  </a:lnTo>
                  <a:lnTo>
                    <a:pt x="98057" y="45716"/>
                  </a:lnTo>
                  <a:lnTo>
                    <a:pt x="99480" y="46371"/>
                  </a:lnTo>
                  <a:lnTo>
                    <a:pt x="100666" y="47197"/>
                  </a:lnTo>
                  <a:lnTo>
                    <a:pt x="101615" y="48080"/>
                  </a:lnTo>
                  <a:lnTo>
                    <a:pt x="102485" y="49049"/>
                  </a:lnTo>
                  <a:lnTo>
                    <a:pt x="103197" y="50046"/>
                  </a:lnTo>
                  <a:lnTo>
                    <a:pt x="103948" y="51099"/>
                  </a:lnTo>
                  <a:lnTo>
                    <a:pt x="104699" y="52153"/>
                  </a:lnTo>
                  <a:lnTo>
                    <a:pt x="105530" y="53207"/>
                  </a:lnTo>
                  <a:lnTo>
                    <a:pt x="106241" y="54489"/>
                  </a:lnTo>
                  <a:lnTo>
                    <a:pt x="107230" y="55685"/>
                  </a:lnTo>
                  <a:lnTo>
                    <a:pt x="108376" y="56796"/>
                  </a:lnTo>
                  <a:lnTo>
                    <a:pt x="109760" y="57850"/>
                  </a:lnTo>
                  <a:lnTo>
                    <a:pt x="111184" y="58790"/>
                  </a:lnTo>
                  <a:lnTo>
                    <a:pt x="112726" y="59701"/>
                  </a:lnTo>
                  <a:lnTo>
                    <a:pt x="114189" y="60527"/>
                  </a:lnTo>
                  <a:lnTo>
                    <a:pt x="115691" y="61296"/>
                  </a:lnTo>
                  <a:lnTo>
                    <a:pt x="116245" y="61724"/>
                  </a:lnTo>
                  <a:lnTo>
                    <a:pt x="116798" y="62265"/>
                  </a:lnTo>
                  <a:lnTo>
                    <a:pt x="117273" y="62835"/>
                  </a:lnTo>
                  <a:lnTo>
                    <a:pt x="117707" y="63490"/>
                  </a:lnTo>
                  <a:lnTo>
                    <a:pt x="117984" y="64116"/>
                  </a:lnTo>
                  <a:lnTo>
                    <a:pt x="118182" y="64800"/>
                  </a:lnTo>
                  <a:lnTo>
                    <a:pt x="118261" y="65484"/>
                  </a:lnTo>
                  <a:lnTo>
                    <a:pt x="118221" y="66167"/>
                  </a:lnTo>
                  <a:lnTo>
                    <a:pt x="117866" y="67534"/>
                  </a:lnTo>
                  <a:lnTo>
                    <a:pt x="117273" y="68902"/>
                  </a:lnTo>
                  <a:lnTo>
                    <a:pt x="116442" y="70183"/>
                  </a:lnTo>
                  <a:lnTo>
                    <a:pt x="115493" y="71380"/>
                  </a:lnTo>
                  <a:lnTo>
                    <a:pt x="114268" y="72433"/>
                  </a:lnTo>
                  <a:lnTo>
                    <a:pt x="112923" y="73373"/>
                  </a:lnTo>
                  <a:lnTo>
                    <a:pt x="111342" y="74114"/>
                  </a:lnTo>
                  <a:lnTo>
                    <a:pt x="109642" y="74712"/>
                  </a:lnTo>
                  <a:lnTo>
                    <a:pt x="109246" y="74627"/>
                  </a:lnTo>
                  <a:lnTo>
                    <a:pt x="108890" y="74655"/>
                  </a:lnTo>
                  <a:lnTo>
                    <a:pt x="108534" y="74684"/>
                  </a:lnTo>
                  <a:lnTo>
                    <a:pt x="108258" y="74769"/>
                  </a:lnTo>
                  <a:lnTo>
                    <a:pt x="107902" y="74826"/>
                  </a:lnTo>
                  <a:lnTo>
                    <a:pt x="107586" y="74911"/>
                  </a:lnTo>
                  <a:lnTo>
                    <a:pt x="107230" y="74968"/>
                  </a:lnTo>
                  <a:lnTo>
                    <a:pt x="106874" y="75054"/>
                  </a:lnTo>
                  <a:lnTo>
                    <a:pt x="107309" y="75168"/>
                  </a:lnTo>
                  <a:lnTo>
                    <a:pt x="107704" y="75367"/>
                  </a:lnTo>
                  <a:lnTo>
                    <a:pt x="108020" y="75624"/>
                  </a:lnTo>
                  <a:lnTo>
                    <a:pt x="108297" y="75965"/>
                  </a:lnTo>
                  <a:lnTo>
                    <a:pt x="108495" y="76307"/>
                  </a:lnTo>
                  <a:lnTo>
                    <a:pt x="108653" y="76649"/>
                  </a:lnTo>
                  <a:lnTo>
                    <a:pt x="108772" y="76962"/>
                  </a:lnTo>
                  <a:lnTo>
                    <a:pt x="108930" y="77304"/>
                  </a:lnTo>
                  <a:lnTo>
                    <a:pt x="108890" y="78244"/>
                  </a:lnTo>
                  <a:lnTo>
                    <a:pt x="108772" y="79241"/>
                  </a:lnTo>
                  <a:lnTo>
                    <a:pt x="108455" y="80209"/>
                  </a:lnTo>
                  <a:lnTo>
                    <a:pt x="108100" y="81206"/>
                  </a:lnTo>
                  <a:lnTo>
                    <a:pt x="107546" y="82146"/>
                  </a:lnTo>
                  <a:lnTo>
                    <a:pt x="106992" y="83086"/>
                  </a:lnTo>
                  <a:lnTo>
                    <a:pt x="106320" y="83941"/>
                  </a:lnTo>
                  <a:lnTo>
                    <a:pt x="105648" y="84795"/>
                  </a:lnTo>
                  <a:lnTo>
                    <a:pt x="104857" y="85821"/>
                  </a:lnTo>
                  <a:lnTo>
                    <a:pt x="104067" y="86846"/>
                  </a:lnTo>
                  <a:lnTo>
                    <a:pt x="103197" y="87843"/>
                  </a:lnTo>
                  <a:lnTo>
                    <a:pt x="102327" y="88868"/>
                  </a:lnTo>
                  <a:lnTo>
                    <a:pt x="101457" y="89865"/>
                  </a:lnTo>
                  <a:lnTo>
                    <a:pt x="100627" y="90891"/>
                  </a:lnTo>
                  <a:lnTo>
                    <a:pt x="99836" y="91916"/>
                  </a:lnTo>
                  <a:lnTo>
                    <a:pt x="99164" y="92970"/>
                  </a:lnTo>
                  <a:lnTo>
                    <a:pt x="98847" y="93141"/>
                  </a:lnTo>
                  <a:lnTo>
                    <a:pt x="98808" y="93340"/>
                  </a:lnTo>
                  <a:lnTo>
                    <a:pt x="98768" y="93540"/>
                  </a:lnTo>
                  <a:lnTo>
                    <a:pt x="98768" y="93767"/>
                  </a:lnTo>
                  <a:lnTo>
                    <a:pt x="98373" y="94223"/>
                  </a:lnTo>
                  <a:lnTo>
                    <a:pt x="98136" y="94707"/>
                  </a:lnTo>
                  <a:lnTo>
                    <a:pt x="97938" y="95163"/>
                  </a:lnTo>
                  <a:lnTo>
                    <a:pt x="97819" y="95647"/>
                  </a:lnTo>
                  <a:lnTo>
                    <a:pt x="97701" y="96103"/>
                  </a:lnTo>
                  <a:lnTo>
                    <a:pt x="97582" y="96587"/>
                  </a:lnTo>
                  <a:lnTo>
                    <a:pt x="97464" y="97071"/>
                  </a:lnTo>
                  <a:lnTo>
                    <a:pt x="97345" y="97584"/>
                  </a:lnTo>
                  <a:lnTo>
                    <a:pt x="97226" y="98439"/>
                  </a:lnTo>
                  <a:lnTo>
                    <a:pt x="97226" y="99293"/>
                  </a:lnTo>
                  <a:lnTo>
                    <a:pt x="97345" y="100062"/>
                  </a:lnTo>
                  <a:lnTo>
                    <a:pt x="97622" y="100860"/>
                  </a:lnTo>
                  <a:lnTo>
                    <a:pt x="97978" y="101543"/>
                  </a:lnTo>
                  <a:lnTo>
                    <a:pt x="98452" y="102227"/>
                  </a:lnTo>
                  <a:lnTo>
                    <a:pt x="99045" y="102882"/>
                  </a:lnTo>
                  <a:lnTo>
                    <a:pt x="99757" y="103509"/>
                  </a:lnTo>
                  <a:lnTo>
                    <a:pt x="99757" y="103651"/>
                  </a:lnTo>
                  <a:lnTo>
                    <a:pt x="99757" y="103794"/>
                  </a:lnTo>
                  <a:lnTo>
                    <a:pt x="99757" y="103879"/>
                  </a:lnTo>
                  <a:lnTo>
                    <a:pt x="99757" y="103993"/>
                  </a:lnTo>
                  <a:lnTo>
                    <a:pt x="99678" y="104078"/>
                  </a:lnTo>
                  <a:lnTo>
                    <a:pt x="99638" y="104164"/>
                  </a:lnTo>
                  <a:lnTo>
                    <a:pt x="99559" y="104278"/>
                  </a:lnTo>
                  <a:lnTo>
                    <a:pt x="99520" y="104449"/>
                  </a:lnTo>
                  <a:lnTo>
                    <a:pt x="99282" y="104563"/>
                  </a:lnTo>
                  <a:lnTo>
                    <a:pt x="99085" y="104676"/>
                  </a:lnTo>
                  <a:lnTo>
                    <a:pt x="98887" y="104762"/>
                  </a:lnTo>
                  <a:lnTo>
                    <a:pt x="98729" y="104847"/>
                  </a:lnTo>
                  <a:lnTo>
                    <a:pt x="98531" y="104904"/>
                  </a:lnTo>
                  <a:lnTo>
                    <a:pt x="98373" y="104990"/>
                  </a:lnTo>
                  <a:lnTo>
                    <a:pt x="98136" y="105132"/>
                  </a:lnTo>
                  <a:lnTo>
                    <a:pt x="97938" y="105332"/>
                  </a:lnTo>
                  <a:lnTo>
                    <a:pt x="98413" y="105730"/>
                  </a:lnTo>
                  <a:lnTo>
                    <a:pt x="98966" y="105873"/>
                  </a:lnTo>
                  <a:lnTo>
                    <a:pt x="99480" y="105816"/>
                  </a:lnTo>
                  <a:lnTo>
                    <a:pt x="100034" y="105673"/>
                  </a:lnTo>
                  <a:lnTo>
                    <a:pt x="100587" y="105417"/>
                  </a:lnTo>
                  <a:lnTo>
                    <a:pt x="101141" y="105218"/>
                  </a:lnTo>
                  <a:lnTo>
                    <a:pt x="101694" y="105104"/>
                  </a:lnTo>
                  <a:lnTo>
                    <a:pt x="102287" y="105161"/>
                  </a:lnTo>
                  <a:lnTo>
                    <a:pt x="102129" y="105332"/>
                  </a:lnTo>
                  <a:lnTo>
                    <a:pt x="101971" y="105531"/>
                  </a:lnTo>
                  <a:lnTo>
                    <a:pt x="101734" y="105702"/>
                  </a:lnTo>
                  <a:lnTo>
                    <a:pt x="101536" y="105901"/>
                  </a:lnTo>
                  <a:lnTo>
                    <a:pt x="101220" y="106044"/>
                  </a:lnTo>
                  <a:lnTo>
                    <a:pt x="100943" y="106215"/>
                  </a:lnTo>
                  <a:lnTo>
                    <a:pt x="100627" y="106329"/>
                  </a:lnTo>
                  <a:lnTo>
                    <a:pt x="100350" y="106471"/>
                  </a:lnTo>
                  <a:lnTo>
                    <a:pt x="100587" y="106756"/>
                  </a:lnTo>
                  <a:lnTo>
                    <a:pt x="100943" y="106955"/>
                  </a:lnTo>
                  <a:lnTo>
                    <a:pt x="101338" y="107041"/>
                  </a:lnTo>
                  <a:lnTo>
                    <a:pt x="101773" y="107069"/>
                  </a:lnTo>
                  <a:lnTo>
                    <a:pt x="102208" y="107041"/>
                  </a:lnTo>
                  <a:lnTo>
                    <a:pt x="102643" y="107041"/>
                  </a:lnTo>
                  <a:lnTo>
                    <a:pt x="102999" y="107098"/>
                  </a:lnTo>
                  <a:lnTo>
                    <a:pt x="103355" y="107240"/>
                  </a:lnTo>
                  <a:lnTo>
                    <a:pt x="102999" y="107411"/>
                  </a:lnTo>
                  <a:lnTo>
                    <a:pt x="102762" y="107639"/>
                  </a:lnTo>
                  <a:lnTo>
                    <a:pt x="102643" y="107724"/>
                  </a:lnTo>
                  <a:lnTo>
                    <a:pt x="102643" y="107867"/>
                  </a:lnTo>
                  <a:lnTo>
                    <a:pt x="102683" y="108038"/>
                  </a:lnTo>
                  <a:lnTo>
                    <a:pt x="102880" y="108208"/>
                  </a:lnTo>
                  <a:lnTo>
                    <a:pt x="104699" y="109490"/>
                  </a:lnTo>
                  <a:lnTo>
                    <a:pt x="104581" y="109490"/>
                  </a:lnTo>
                  <a:lnTo>
                    <a:pt x="105450" y="110231"/>
                  </a:lnTo>
                  <a:lnTo>
                    <a:pt x="106241" y="111000"/>
                  </a:lnTo>
                  <a:lnTo>
                    <a:pt x="106913" y="111712"/>
                  </a:lnTo>
                  <a:lnTo>
                    <a:pt x="107546" y="112481"/>
                  </a:lnTo>
                  <a:lnTo>
                    <a:pt x="108020" y="113221"/>
                  </a:lnTo>
                  <a:lnTo>
                    <a:pt x="108495" y="114019"/>
                  </a:lnTo>
                  <a:lnTo>
                    <a:pt x="108851" y="114873"/>
                  </a:lnTo>
                  <a:lnTo>
                    <a:pt x="109167" y="115842"/>
                  </a:lnTo>
                  <a:lnTo>
                    <a:pt x="108890" y="116269"/>
                  </a:lnTo>
                  <a:lnTo>
                    <a:pt x="108653" y="116696"/>
                  </a:lnTo>
                  <a:lnTo>
                    <a:pt x="108376" y="117095"/>
                  </a:lnTo>
                  <a:lnTo>
                    <a:pt x="108139" y="117494"/>
                  </a:lnTo>
                  <a:lnTo>
                    <a:pt x="107744" y="117807"/>
                  </a:lnTo>
                  <a:lnTo>
                    <a:pt x="107269" y="118064"/>
                  </a:lnTo>
                  <a:lnTo>
                    <a:pt x="106637" y="118206"/>
                  </a:lnTo>
                  <a:lnTo>
                    <a:pt x="105925" y="118291"/>
                  </a:lnTo>
                  <a:lnTo>
                    <a:pt x="105490" y="118377"/>
                  </a:lnTo>
                  <a:lnTo>
                    <a:pt x="105095" y="118377"/>
                  </a:lnTo>
                  <a:lnTo>
                    <a:pt x="104699" y="118377"/>
                  </a:lnTo>
                  <a:lnTo>
                    <a:pt x="104343" y="118548"/>
                  </a:lnTo>
                  <a:lnTo>
                    <a:pt x="103908" y="118405"/>
                  </a:lnTo>
                  <a:lnTo>
                    <a:pt x="103553" y="118377"/>
                  </a:lnTo>
                  <a:lnTo>
                    <a:pt x="103197" y="118348"/>
                  </a:lnTo>
                  <a:lnTo>
                    <a:pt x="102841" y="118405"/>
                  </a:lnTo>
                  <a:lnTo>
                    <a:pt x="102485" y="118405"/>
                  </a:lnTo>
                  <a:lnTo>
                    <a:pt x="102129" y="118434"/>
                  </a:lnTo>
                  <a:lnTo>
                    <a:pt x="101734" y="118377"/>
                  </a:lnTo>
                  <a:lnTo>
                    <a:pt x="101338" y="118291"/>
                  </a:lnTo>
                  <a:lnTo>
                    <a:pt x="100745" y="118291"/>
                  </a:lnTo>
                  <a:lnTo>
                    <a:pt x="100192" y="118235"/>
                  </a:lnTo>
                  <a:lnTo>
                    <a:pt x="99638" y="118121"/>
                  </a:lnTo>
                  <a:lnTo>
                    <a:pt x="99085" y="118007"/>
                  </a:lnTo>
                  <a:lnTo>
                    <a:pt x="98492" y="117836"/>
                  </a:lnTo>
                  <a:lnTo>
                    <a:pt x="97899" y="117722"/>
                  </a:lnTo>
                  <a:lnTo>
                    <a:pt x="97305" y="117608"/>
                  </a:lnTo>
                  <a:lnTo>
                    <a:pt x="96712" y="117608"/>
                  </a:lnTo>
                  <a:lnTo>
                    <a:pt x="96515" y="117409"/>
                  </a:lnTo>
                  <a:lnTo>
                    <a:pt x="96357" y="117295"/>
                  </a:lnTo>
                  <a:lnTo>
                    <a:pt x="96119" y="117209"/>
                  </a:lnTo>
                  <a:lnTo>
                    <a:pt x="95882" y="117181"/>
                  </a:lnTo>
                  <a:lnTo>
                    <a:pt x="95605" y="117152"/>
                  </a:lnTo>
                  <a:lnTo>
                    <a:pt x="95368" y="117124"/>
                  </a:lnTo>
                  <a:lnTo>
                    <a:pt x="95131" y="117095"/>
                  </a:lnTo>
                  <a:lnTo>
                    <a:pt x="94933" y="117067"/>
                  </a:lnTo>
                  <a:lnTo>
                    <a:pt x="93747" y="116753"/>
                  </a:lnTo>
                  <a:lnTo>
                    <a:pt x="92719" y="116440"/>
                  </a:lnTo>
                  <a:lnTo>
                    <a:pt x="91731" y="116070"/>
                  </a:lnTo>
                  <a:lnTo>
                    <a:pt x="90821" y="115700"/>
                  </a:lnTo>
                  <a:lnTo>
                    <a:pt x="89872" y="115301"/>
                  </a:lnTo>
                  <a:lnTo>
                    <a:pt x="88923" y="114930"/>
                  </a:lnTo>
                  <a:lnTo>
                    <a:pt x="87935" y="114589"/>
                  </a:lnTo>
                  <a:lnTo>
                    <a:pt x="86946" y="114275"/>
                  </a:lnTo>
                  <a:lnTo>
                    <a:pt x="86709" y="114104"/>
                  </a:lnTo>
                  <a:lnTo>
                    <a:pt x="86472" y="113962"/>
                  </a:lnTo>
                  <a:lnTo>
                    <a:pt x="86195" y="113791"/>
                  </a:lnTo>
                  <a:lnTo>
                    <a:pt x="85918" y="113649"/>
                  </a:lnTo>
                  <a:lnTo>
                    <a:pt x="85602" y="113478"/>
                  </a:lnTo>
                  <a:lnTo>
                    <a:pt x="85325" y="113307"/>
                  </a:lnTo>
                  <a:lnTo>
                    <a:pt x="85088" y="113136"/>
                  </a:lnTo>
                  <a:lnTo>
                    <a:pt x="84890" y="112994"/>
                  </a:lnTo>
                  <a:lnTo>
                    <a:pt x="84653" y="113079"/>
                  </a:lnTo>
                  <a:lnTo>
                    <a:pt x="84890" y="112908"/>
                  </a:lnTo>
                  <a:lnTo>
                    <a:pt x="84337" y="112566"/>
                  </a:lnTo>
                  <a:lnTo>
                    <a:pt x="83902" y="112196"/>
                  </a:lnTo>
                  <a:lnTo>
                    <a:pt x="83546" y="111797"/>
                  </a:lnTo>
                  <a:lnTo>
                    <a:pt x="83190" y="111427"/>
                  </a:lnTo>
                  <a:lnTo>
                    <a:pt x="82834" y="111000"/>
                  </a:lnTo>
                  <a:lnTo>
                    <a:pt x="82518" y="110629"/>
                  </a:lnTo>
                  <a:lnTo>
                    <a:pt x="82123" y="110288"/>
                  </a:lnTo>
                  <a:lnTo>
                    <a:pt x="81767" y="110031"/>
                  </a:lnTo>
                  <a:lnTo>
                    <a:pt x="81450" y="110231"/>
                  </a:lnTo>
                  <a:lnTo>
                    <a:pt x="81213" y="110487"/>
                  </a:lnTo>
                  <a:lnTo>
                    <a:pt x="80976" y="110743"/>
                  </a:lnTo>
                  <a:lnTo>
                    <a:pt x="80778" y="111028"/>
                  </a:lnTo>
                  <a:lnTo>
                    <a:pt x="80541" y="111285"/>
                  </a:lnTo>
                  <a:lnTo>
                    <a:pt x="80422" y="111569"/>
                  </a:lnTo>
                  <a:lnTo>
                    <a:pt x="80264" y="111826"/>
                  </a:lnTo>
                  <a:lnTo>
                    <a:pt x="80185" y="112111"/>
                  </a:lnTo>
                  <a:lnTo>
                    <a:pt x="79790" y="112367"/>
                  </a:lnTo>
                  <a:lnTo>
                    <a:pt x="79394" y="112680"/>
                  </a:lnTo>
                  <a:lnTo>
                    <a:pt x="78920" y="112994"/>
                  </a:lnTo>
                  <a:lnTo>
                    <a:pt x="78485" y="113335"/>
                  </a:lnTo>
                  <a:lnTo>
                    <a:pt x="77971" y="113620"/>
                  </a:lnTo>
                  <a:lnTo>
                    <a:pt x="77497" y="113877"/>
                  </a:lnTo>
                  <a:lnTo>
                    <a:pt x="76983" y="114047"/>
                  </a:lnTo>
                  <a:lnTo>
                    <a:pt x="76548" y="114190"/>
                  </a:lnTo>
                  <a:lnTo>
                    <a:pt x="76271" y="114275"/>
                  </a:lnTo>
                  <a:lnTo>
                    <a:pt x="75994" y="114389"/>
                  </a:lnTo>
                  <a:lnTo>
                    <a:pt x="75717" y="114446"/>
                  </a:lnTo>
                  <a:lnTo>
                    <a:pt x="75480" y="114532"/>
                  </a:lnTo>
                  <a:lnTo>
                    <a:pt x="75203" y="114589"/>
                  </a:lnTo>
                  <a:lnTo>
                    <a:pt x="74966" y="114674"/>
                  </a:lnTo>
                  <a:lnTo>
                    <a:pt x="74729" y="114788"/>
                  </a:lnTo>
                  <a:lnTo>
                    <a:pt x="74610" y="114987"/>
                  </a:lnTo>
                  <a:lnTo>
                    <a:pt x="73622" y="115073"/>
                  </a:lnTo>
                  <a:lnTo>
                    <a:pt x="72594" y="115272"/>
                  </a:lnTo>
                  <a:lnTo>
                    <a:pt x="71526" y="115529"/>
                  </a:lnTo>
                  <a:lnTo>
                    <a:pt x="70459" y="115813"/>
                  </a:lnTo>
                  <a:lnTo>
                    <a:pt x="69352" y="116041"/>
                  </a:lnTo>
                  <a:lnTo>
                    <a:pt x="68284" y="116241"/>
                  </a:lnTo>
                  <a:lnTo>
                    <a:pt x="67217" y="116355"/>
                  </a:lnTo>
                  <a:lnTo>
                    <a:pt x="66189" y="116383"/>
                  </a:lnTo>
                  <a:lnTo>
                    <a:pt x="65240" y="116469"/>
                  </a:lnTo>
                  <a:lnTo>
                    <a:pt x="64330" y="116582"/>
                  </a:lnTo>
                  <a:lnTo>
                    <a:pt x="63421" y="116639"/>
                  </a:lnTo>
                  <a:lnTo>
                    <a:pt x="62511" y="116725"/>
                  </a:lnTo>
                  <a:lnTo>
                    <a:pt x="61562" y="116782"/>
                  </a:lnTo>
                  <a:lnTo>
                    <a:pt x="60693" y="116867"/>
                  </a:lnTo>
                  <a:lnTo>
                    <a:pt x="59823" y="116953"/>
                  </a:lnTo>
                  <a:lnTo>
                    <a:pt x="59032" y="117152"/>
                  </a:lnTo>
                  <a:lnTo>
                    <a:pt x="58478" y="117038"/>
                  </a:lnTo>
                  <a:lnTo>
                    <a:pt x="57964" y="116981"/>
                  </a:lnTo>
                  <a:lnTo>
                    <a:pt x="57411" y="116953"/>
                  </a:lnTo>
                  <a:lnTo>
                    <a:pt x="56857" y="116953"/>
                  </a:lnTo>
                  <a:lnTo>
                    <a:pt x="56304" y="116953"/>
                  </a:lnTo>
                  <a:lnTo>
                    <a:pt x="55750" y="116953"/>
                  </a:lnTo>
                  <a:lnTo>
                    <a:pt x="55236" y="116924"/>
                  </a:lnTo>
                  <a:lnTo>
                    <a:pt x="54801" y="116896"/>
                  </a:lnTo>
                  <a:lnTo>
                    <a:pt x="54525" y="116839"/>
                  </a:lnTo>
                  <a:lnTo>
                    <a:pt x="54248" y="116782"/>
                  </a:lnTo>
                  <a:lnTo>
                    <a:pt x="53931" y="116725"/>
                  </a:lnTo>
                  <a:lnTo>
                    <a:pt x="53655" y="116668"/>
                  </a:lnTo>
                  <a:lnTo>
                    <a:pt x="53338" y="116582"/>
                  </a:lnTo>
                  <a:lnTo>
                    <a:pt x="53022" y="116497"/>
                  </a:lnTo>
                  <a:lnTo>
                    <a:pt x="52627" y="116440"/>
                  </a:lnTo>
                  <a:lnTo>
                    <a:pt x="52271" y="116383"/>
                  </a:lnTo>
                  <a:lnTo>
                    <a:pt x="51955" y="115956"/>
                  </a:lnTo>
                  <a:lnTo>
                    <a:pt x="51678" y="115529"/>
                  </a:lnTo>
                  <a:lnTo>
                    <a:pt x="51322" y="115073"/>
                  </a:lnTo>
                  <a:lnTo>
                    <a:pt x="51085" y="114617"/>
                  </a:lnTo>
                  <a:lnTo>
                    <a:pt x="50887" y="114133"/>
                  </a:lnTo>
                  <a:lnTo>
                    <a:pt x="50847" y="113677"/>
                  </a:lnTo>
                  <a:lnTo>
                    <a:pt x="50966" y="113221"/>
                  </a:lnTo>
                  <a:lnTo>
                    <a:pt x="51322" y="112823"/>
                  </a:lnTo>
                  <a:lnTo>
                    <a:pt x="51322" y="112538"/>
                  </a:lnTo>
                  <a:lnTo>
                    <a:pt x="51875" y="111968"/>
                  </a:lnTo>
                  <a:lnTo>
                    <a:pt x="52587" y="111456"/>
                  </a:lnTo>
                  <a:lnTo>
                    <a:pt x="53299" y="110943"/>
                  </a:lnTo>
                  <a:lnTo>
                    <a:pt x="54129" y="110487"/>
                  </a:lnTo>
                  <a:lnTo>
                    <a:pt x="54920" y="109974"/>
                  </a:lnTo>
                  <a:lnTo>
                    <a:pt x="55750" y="109519"/>
                  </a:lnTo>
                  <a:lnTo>
                    <a:pt x="56502" y="109063"/>
                  </a:lnTo>
                  <a:lnTo>
                    <a:pt x="57253" y="108636"/>
                  </a:lnTo>
                  <a:lnTo>
                    <a:pt x="56857" y="108465"/>
                  </a:lnTo>
                  <a:lnTo>
                    <a:pt x="56462" y="108379"/>
                  </a:lnTo>
                  <a:lnTo>
                    <a:pt x="56027" y="108351"/>
                  </a:lnTo>
                  <a:lnTo>
                    <a:pt x="55632" y="108322"/>
                  </a:lnTo>
                  <a:lnTo>
                    <a:pt x="55236" y="108237"/>
                  </a:lnTo>
                  <a:lnTo>
                    <a:pt x="54920" y="108094"/>
                  </a:lnTo>
                  <a:lnTo>
                    <a:pt x="54722" y="107838"/>
                  </a:lnTo>
                  <a:lnTo>
                    <a:pt x="54683" y="107496"/>
                  </a:lnTo>
                  <a:lnTo>
                    <a:pt x="54920" y="107297"/>
                  </a:lnTo>
                  <a:lnTo>
                    <a:pt x="55236" y="107211"/>
                  </a:lnTo>
                  <a:lnTo>
                    <a:pt x="55553" y="107211"/>
                  </a:lnTo>
                  <a:lnTo>
                    <a:pt x="55908" y="107325"/>
                  </a:lnTo>
                  <a:lnTo>
                    <a:pt x="56304" y="107439"/>
                  </a:lnTo>
                  <a:lnTo>
                    <a:pt x="56739" y="107582"/>
                  </a:lnTo>
                  <a:lnTo>
                    <a:pt x="57174" y="107696"/>
                  </a:lnTo>
                  <a:lnTo>
                    <a:pt x="57609" y="107838"/>
                  </a:lnTo>
                  <a:lnTo>
                    <a:pt x="58004" y="107895"/>
                  </a:lnTo>
                  <a:lnTo>
                    <a:pt x="58439" y="107952"/>
                  </a:lnTo>
                  <a:lnTo>
                    <a:pt x="58913" y="107924"/>
                  </a:lnTo>
                  <a:lnTo>
                    <a:pt x="59427" y="107838"/>
                  </a:lnTo>
                  <a:lnTo>
                    <a:pt x="59625" y="107724"/>
                  </a:lnTo>
                  <a:lnTo>
                    <a:pt x="59862" y="107667"/>
                  </a:lnTo>
                  <a:lnTo>
                    <a:pt x="60060" y="107582"/>
                  </a:lnTo>
                  <a:lnTo>
                    <a:pt x="60258" y="107496"/>
                  </a:lnTo>
                  <a:lnTo>
                    <a:pt x="59823" y="107297"/>
                  </a:lnTo>
                  <a:lnTo>
                    <a:pt x="59467" y="107268"/>
                  </a:lnTo>
                  <a:lnTo>
                    <a:pt x="59072" y="107297"/>
                  </a:lnTo>
                  <a:lnTo>
                    <a:pt x="58755" y="107354"/>
                  </a:lnTo>
                  <a:lnTo>
                    <a:pt x="58399" y="107354"/>
                  </a:lnTo>
                  <a:lnTo>
                    <a:pt x="58202" y="107297"/>
                  </a:lnTo>
                  <a:lnTo>
                    <a:pt x="58004" y="107041"/>
                  </a:lnTo>
                  <a:lnTo>
                    <a:pt x="57964" y="106642"/>
                  </a:lnTo>
                  <a:lnTo>
                    <a:pt x="58241" y="106385"/>
                  </a:lnTo>
                  <a:lnTo>
                    <a:pt x="58597" y="106272"/>
                  </a:lnTo>
                  <a:lnTo>
                    <a:pt x="58913" y="106243"/>
                  </a:lnTo>
                  <a:lnTo>
                    <a:pt x="59269" y="106300"/>
                  </a:lnTo>
                  <a:lnTo>
                    <a:pt x="59625" y="106357"/>
                  </a:lnTo>
                  <a:lnTo>
                    <a:pt x="59981" y="106471"/>
                  </a:lnTo>
                  <a:lnTo>
                    <a:pt x="60337" y="106556"/>
                  </a:lnTo>
                  <a:lnTo>
                    <a:pt x="60732" y="106642"/>
                  </a:lnTo>
                  <a:lnTo>
                    <a:pt x="61088" y="106927"/>
                  </a:lnTo>
                  <a:lnTo>
                    <a:pt x="61444" y="107012"/>
                  </a:lnTo>
                  <a:lnTo>
                    <a:pt x="61721" y="106870"/>
                  </a:lnTo>
                  <a:lnTo>
                    <a:pt x="62037" y="106670"/>
                  </a:lnTo>
                  <a:lnTo>
                    <a:pt x="62274" y="106357"/>
                  </a:lnTo>
                  <a:lnTo>
                    <a:pt x="62511" y="106044"/>
                  </a:lnTo>
                  <a:lnTo>
                    <a:pt x="62788" y="105787"/>
                  </a:lnTo>
                  <a:lnTo>
                    <a:pt x="63144" y="105673"/>
                  </a:lnTo>
                  <a:lnTo>
                    <a:pt x="63342" y="105446"/>
                  </a:lnTo>
                  <a:lnTo>
                    <a:pt x="63579" y="105246"/>
                  </a:lnTo>
                  <a:lnTo>
                    <a:pt x="63816" y="105047"/>
                  </a:lnTo>
                  <a:lnTo>
                    <a:pt x="64053" y="104847"/>
                  </a:lnTo>
                  <a:lnTo>
                    <a:pt x="64212" y="104591"/>
                  </a:lnTo>
                  <a:lnTo>
                    <a:pt x="64370" y="104335"/>
                  </a:lnTo>
                  <a:lnTo>
                    <a:pt x="64409" y="104050"/>
                  </a:lnTo>
                  <a:lnTo>
                    <a:pt x="64370" y="103765"/>
                  </a:lnTo>
                  <a:lnTo>
                    <a:pt x="63737" y="102797"/>
                  </a:lnTo>
                  <a:lnTo>
                    <a:pt x="63104" y="101857"/>
                  </a:lnTo>
                  <a:lnTo>
                    <a:pt x="62393" y="100974"/>
                  </a:lnTo>
                  <a:lnTo>
                    <a:pt x="61721" y="100148"/>
                  </a:lnTo>
                  <a:lnTo>
                    <a:pt x="60930" y="99322"/>
                  </a:lnTo>
                  <a:lnTo>
                    <a:pt x="60139" y="98524"/>
                  </a:lnTo>
                  <a:lnTo>
                    <a:pt x="59230" y="97755"/>
                  </a:lnTo>
                  <a:lnTo>
                    <a:pt x="58320" y="96986"/>
                  </a:lnTo>
                  <a:lnTo>
                    <a:pt x="56264" y="94679"/>
                  </a:lnTo>
                  <a:lnTo>
                    <a:pt x="54366" y="92286"/>
                  </a:lnTo>
                  <a:lnTo>
                    <a:pt x="52587" y="89808"/>
                  </a:lnTo>
                  <a:lnTo>
                    <a:pt x="51006" y="87302"/>
                  </a:lnTo>
                  <a:lnTo>
                    <a:pt x="49622" y="84710"/>
                  </a:lnTo>
                  <a:lnTo>
                    <a:pt x="48554" y="82089"/>
                  </a:lnTo>
                  <a:lnTo>
                    <a:pt x="47803" y="79412"/>
                  </a:lnTo>
                  <a:lnTo>
                    <a:pt x="47447" y="76706"/>
                  </a:lnTo>
                  <a:lnTo>
                    <a:pt x="46933" y="76564"/>
                  </a:lnTo>
                  <a:lnTo>
                    <a:pt x="46419" y="76450"/>
                  </a:lnTo>
                  <a:lnTo>
                    <a:pt x="45826" y="76336"/>
                  </a:lnTo>
                  <a:lnTo>
                    <a:pt x="45233" y="76222"/>
                  </a:lnTo>
                  <a:lnTo>
                    <a:pt x="44600" y="76079"/>
                  </a:lnTo>
                  <a:lnTo>
                    <a:pt x="44007" y="75965"/>
                  </a:lnTo>
                  <a:lnTo>
                    <a:pt x="43414" y="75794"/>
                  </a:lnTo>
                  <a:lnTo>
                    <a:pt x="42861" y="75652"/>
                  </a:lnTo>
                  <a:lnTo>
                    <a:pt x="41754" y="75111"/>
                  </a:lnTo>
                  <a:lnTo>
                    <a:pt x="40726" y="74570"/>
                  </a:lnTo>
                  <a:lnTo>
                    <a:pt x="39737" y="74028"/>
                  </a:lnTo>
                  <a:lnTo>
                    <a:pt x="38788" y="73487"/>
                  </a:lnTo>
                  <a:lnTo>
                    <a:pt x="37839" y="72861"/>
                  </a:lnTo>
                  <a:lnTo>
                    <a:pt x="36930" y="72234"/>
                  </a:lnTo>
                  <a:lnTo>
                    <a:pt x="36060" y="71550"/>
                  </a:lnTo>
                  <a:lnTo>
                    <a:pt x="35269" y="70781"/>
                  </a:lnTo>
                  <a:lnTo>
                    <a:pt x="34795" y="70326"/>
                  </a:lnTo>
                  <a:lnTo>
                    <a:pt x="34320" y="69927"/>
                  </a:lnTo>
                  <a:lnTo>
                    <a:pt x="33767" y="69557"/>
                  </a:lnTo>
                  <a:lnTo>
                    <a:pt x="33174" y="69272"/>
                  </a:lnTo>
                  <a:lnTo>
                    <a:pt x="32502" y="69015"/>
                  </a:lnTo>
                  <a:lnTo>
                    <a:pt x="31829" y="68873"/>
                  </a:lnTo>
                  <a:lnTo>
                    <a:pt x="31118" y="68788"/>
                  </a:lnTo>
                  <a:lnTo>
                    <a:pt x="30406" y="68788"/>
                  </a:lnTo>
                  <a:lnTo>
                    <a:pt x="30169" y="68617"/>
                  </a:lnTo>
                  <a:lnTo>
                    <a:pt x="29971" y="68531"/>
                  </a:lnTo>
                  <a:lnTo>
                    <a:pt x="29694" y="68474"/>
                  </a:lnTo>
                  <a:lnTo>
                    <a:pt x="29457" y="68474"/>
                  </a:lnTo>
                  <a:lnTo>
                    <a:pt x="29180" y="68417"/>
                  </a:lnTo>
                  <a:lnTo>
                    <a:pt x="28943" y="68389"/>
                  </a:lnTo>
                  <a:lnTo>
                    <a:pt x="28745" y="68303"/>
                  </a:lnTo>
                  <a:lnTo>
                    <a:pt x="28627" y="68161"/>
                  </a:lnTo>
                  <a:lnTo>
                    <a:pt x="28073" y="67962"/>
                  </a:lnTo>
                  <a:lnTo>
                    <a:pt x="27717" y="67677"/>
                  </a:lnTo>
                  <a:lnTo>
                    <a:pt x="27441" y="67335"/>
                  </a:lnTo>
                  <a:lnTo>
                    <a:pt x="27322" y="66936"/>
                  </a:lnTo>
                  <a:lnTo>
                    <a:pt x="27203" y="66509"/>
                  </a:lnTo>
                  <a:lnTo>
                    <a:pt x="27164" y="66082"/>
                  </a:lnTo>
                  <a:lnTo>
                    <a:pt x="27164" y="65654"/>
                  </a:lnTo>
                  <a:lnTo>
                    <a:pt x="27164" y="65313"/>
                  </a:lnTo>
                  <a:lnTo>
                    <a:pt x="27757" y="64942"/>
                  </a:lnTo>
                  <a:lnTo>
                    <a:pt x="26808" y="64259"/>
                  </a:lnTo>
                  <a:lnTo>
                    <a:pt x="26413" y="64287"/>
                  </a:lnTo>
                  <a:lnTo>
                    <a:pt x="26057" y="64344"/>
                  </a:lnTo>
                  <a:lnTo>
                    <a:pt x="25661" y="64344"/>
                  </a:lnTo>
                  <a:lnTo>
                    <a:pt x="25266" y="64344"/>
                  </a:lnTo>
                  <a:lnTo>
                    <a:pt x="24871" y="64287"/>
                  </a:lnTo>
                  <a:lnTo>
                    <a:pt x="24515" y="64230"/>
                  </a:lnTo>
                  <a:lnTo>
                    <a:pt x="24159" y="64116"/>
                  </a:lnTo>
                  <a:lnTo>
                    <a:pt x="23882" y="64002"/>
                  </a:lnTo>
                  <a:lnTo>
                    <a:pt x="23645" y="64031"/>
                  </a:lnTo>
                  <a:lnTo>
                    <a:pt x="23447" y="63974"/>
                  </a:lnTo>
                  <a:lnTo>
                    <a:pt x="23210" y="63860"/>
                  </a:lnTo>
                  <a:lnTo>
                    <a:pt x="23052" y="63831"/>
                  </a:lnTo>
                  <a:lnTo>
                    <a:pt x="22933" y="63746"/>
                  </a:lnTo>
                  <a:lnTo>
                    <a:pt x="22815" y="63945"/>
                  </a:lnTo>
                  <a:lnTo>
                    <a:pt x="22854" y="64259"/>
                  </a:lnTo>
                  <a:lnTo>
                    <a:pt x="22854" y="64401"/>
                  </a:lnTo>
                  <a:lnTo>
                    <a:pt x="22933" y="64544"/>
                  </a:lnTo>
                  <a:lnTo>
                    <a:pt x="22973" y="64686"/>
                  </a:lnTo>
                  <a:lnTo>
                    <a:pt x="23052" y="64857"/>
                  </a:lnTo>
                  <a:lnTo>
                    <a:pt x="23052" y="67734"/>
                  </a:lnTo>
                  <a:lnTo>
                    <a:pt x="23170" y="70696"/>
                  </a:lnTo>
                  <a:lnTo>
                    <a:pt x="23289" y="73687"/>
                  </a:lnTo>
                  <a:lnTo>
                    <a:pt x="23526" y="76763"/>
                  </a:lnTo>
                  <a:lnTo>
                    <a:pt x="23724" y="79782"/>
                  </a:lnTo>
                  <a:lnTo>
                    <a:pt x="24001" y="82830"/>
                  </a:lnTo>
                  <a:lnTo>
                    <a:pt x="24357" y="85849"/>
                  </a:lnTo>
                  <a:lnTo>
                    <a:pt x="24752" y="88868"/>
                  </a:lnTo>
                  <a:lnTo>
                    <a:pt x="24989" y="89068"/>
                  </a:lnTo>
                  <a:lnTo>
                    <a:pt x="24950" y="90065"/>
                  </a:lnTo>
                  <a:lnTo>
                    <a:pt x="25068" y="91061"/>
                  </a:lnTo>
                  <a:lnTo>
                    <a:pt x="25187" y="92058"/>
                  </a:lnTo>
                  <a:lnTo>
                    <a:pt x="25385" y="93055"/>
                  </a:lnTo>
                  <a:lnTo>
                    <a:pt x="25503" y="94024"/>
                  </a:lnTo>
                  <a:lnTo>
                    <a:pt x="25661" y="95021"/>
                  </a:lnTo>
                  <a:lnTo>
                    <a:pt x="25701" y="96018"/>
                  </a:lnTo>
                  <a:lnTo>
                    <a:pt x="25701" y="97071"/>
                  </a:lnTo>
                  <a:lnTo>
                    <a:pt x="25938" y="97698"/>
                  </a:lnTo>
                  <a:lnTo>
                    <a:pt x="26057" y="98410"/>
                  </a:lnTo>
                  <a:lnTo>
                    <a:pt x="26096" y="99094"/>
                  </a:lnTo>
                  <a:lnTo>
                    <a:pt x="26175" y="99834"/>
                  </a:lnTo>
                  <a:lnTo>
                    <a:pt x="26175" y="100546"/>
                  </a:lnTo>
                  <a:lnTo>
                    <a:pt x="26215" y="101315"/>
                  </a:lnTo>
                  <a:lnTo>
                    <a:pt x="26333" y="102085"/>
                  </a:lnTo>
                  <a:lnTo>
                    <a:pt x="26571" y="102882"/>
                  </a:lnTo>
                  <a:lnTo>
                    <a:pt x="26650" y="103452"/>
                  </a:lnTo>
                  <a:lnTo>
                    <a:pt x="26610" y="104050"/>
                  </a:lnTo>
                  <a:lnTo>
                    <a:pt x="26452" y="104620"/>
                  </a:lnTo>
                  <a:lnTo>
                    <a:pt x="26175" y="105218"/>
                  </a:lnTo>
                  <a:lnTo>
                    <a:pt x="25780" y="105730"/>
                  </a:lnTo>
                  <a:lnTo>
                    <a:pt x="25305" y="106243"/>
                  </a:lnTo>
                  <a:lnTo>
                    <a:pt x="24752" y="106670"/>
                  </a:lnTo>
                  <a:lnTo>
                    <a:pt x="24159" y="107069"/>
                  </a:lnTo>
                  <a:lnTo>
                    <a:pt x="23329" y="107240"/>
                  </a:lnTo>
                  <a:lnTo>
                    <a:pt x="22577" y="107382"/>
                  </a:lnTo>
                  <a:lnTo>
                    <a:pt x="21866" y="107468"/>
                  </a:lnTo>
                  <a:lnTo>
                    <a:pt x="21193" y="107525"/>
                  </a:lnTo>
                  <a:lnTo>
                    <a:pt x="20482" y="107525"/>
                  </a:lnTo>
                  <a:lnTo>
                    <a:pt x="19810" y="107496"/>
                  </a:lnTo>
                  <a:lnTo>
                    <a:pt x="19137" y="107411"/>
                  </a:lnTo>
                  <a:lnTo>
                    <a:pt x="18465" y="107325"/>
                  </a:lnTo>
                  <a:lnTo>
                    <a:pt x="17635" y="107069"/>
                  </a:lnTo>
                  <a:lnTo>
                    <a:pt x="16805" y="106813"/>
                  </a:lnTo>
                  <a:lnTo>
                    <a:pt x="15935" y="106471"/>
                  </a:lnTo>
                  <a:lnTo>
                    <a:pt x="15184" y="106101"/>
                  </a:lnTo>
                  <a:lnTo>
                    <a:pt x="14432" y="105645"/>
                  </a:lnTo>
                  <a:lnTo>
                    <a:pt x="13879" y="105132"/>
                  </a:lnTo>
                  <a:lnTo>
                    <a:pt x="13444" y="104563"/>
                  </a:lnTo>
                  <a:lnTo>
                    <a:pt x="13286" y="103936"/>
                  </a:lnTo>
                  <a:lnTo>
                    <a:pt x="13523" y="102967"/>
                  </a:lnTo>
                  <a:lnTo>
                    <a:pt x="13562" y="102028"/>
                  </a:lnTo>
                  <a:lnTo>
                    <a:pt x="13483" y="101116"/>
                  </a:lnTo>
                  <a:lnTo>
                    <a:pt x="13404" y="100233"/>
                  </a:lnTo>
                  <a:lnTo>
                    <a:pt x="13207" y="99293"/>
                  </a:lnTo>
                  <a:lnTo>
                    <a:pt x="13088" y="98382"/>
                  </a:lnTo>
                  <a:lnTo>
                    <a:pt x="13009" y="97385"/>
                  </a:lnTo>
                  <a:lnTo>
                    <a:pt x="13048" y="96359"/>
                  </a:lnTo>
                  <a:lnTo>
                    <a:pt x="12890" y="94536"/>
                  </a:lnTo>
                  <a:lnTo>
                    <a:pt x="12772" y="94622"/>
                  </a:lnTo>
                  <a:lnTo>
                    <a:pt x="12732" y="94309"/>
                  </a:lnTo>
                  <a:lnTo>
                    <a:pt x="12732" y="94052"/>
                  </a:lnTo>
                  <a:lnTo>
                    <a:pt x="12732" y="93796"/>
                  </a:lnTo>
                  <a:lnTo>
                    <a:pt x="12811" y="93568"/>
                  </a:lnTo>
                  <a:lnTo>
                    <a:pt x="12811" y="93312"/>
                  </a:lnTo>
                  <a:lnTo>
                    <a:pt x="12851" y="93055"/>
                  </a:lnTo>
                  <a:lnTo>
                    <a:pt x="12811" y="92799"/>
                  </a:lnTo>
                  <a:lnTo>
                    <a:pt x="12772" y="92543"/>
                  </a:lnTo>
                  <a:lnTo>
                    <a:pt x="12653" y="88811"/>
                  </a:lnTo>
                  <a:lnTo>
                    <a:pt x="12495" y="84995"/>
                  </a:lnTo>
                  <a:lnTo>
                    <a:pt x="12258" y="81064"/>
                  </a:lnTo>
                  <a:lnTo>
                    <a:pt x="12020" y="77162"/>
                  </a:lnTo>
                  <a:lnTo>
                    <a:pt x="11704" y="73202"/>
                  </a:lnTo>
                  <a:lnTo>
                    <a:pt x="11348" y="69300"/>
                  </a:lnTo>
                  <a:lnTo>
                    <a:pt x="10953" y="65455"/>
                  </a:lnTo>
                  <a:lnTo>
                    <a:pt x="10597" y="61724"/>
                  </a:lnTo>
                  <a:lnTo>
                    <a:pt x="9292" y="61980"/>
                  </a:lnTo>
                  <a:lnTo>
                    <a:pt x="8027" y="62208"/>
                  </a:lnTo>
                  <a:lnTo>
                    <a:pt x="6762" y="62350"/>
                  </a:lnTo>
                  <a:lnTo>
                    <a:pt x="5536" y="62436"/>
                  </a:lnTo>
                  <a:lnTo>
                    <a:pt x="4310" y="62350"/>
                  </a:lnTo>
                  <a:lnTo>
                    <a:pt x="3164" y="62151"/>
                  </a:lnTo>
                  <a:lnTo>
                    <a:pt x="2057" y="61752"/>
                  </a:lnTo>
                  <a:lnTo>
                    <a:pt x="1068" y="61211"/>
                  </a:lnTo>
                  <a:lnTo>
                    <a:pt x="712" y="60841"/>
                  </a:lnTo>
                  <a:lnTo>
                    <a:pt x="475" y="60470"/>
                  </a:lnTo>
                  <a:lnTo>
                    <a:pt x="238" y="60100"/>
                  </a:lnTo>
                  <a:lnTo>
                    <a:pt x="119" y="59758"/>
                  </a:lnTo>
                  <a:lnTo>
                    <a:pt x="1" y="59360"/>
                  </a:lnTo>
                  <a:lnTo>
                    <a:pt x="1" y="58989"/>
                  </a:lnTo>
                  <a:lnTo>
                    <a:pt x="119" y="58619"/>
                  </a:lnTo>
                  <a:lnTo>
                    <a:pt x="357" y="58249"/>
                  </a:lnTo>
                  <a:lnTo>
                    <a:pt x="1147" y="57907"/>
                  </a:lnTo>
                  <a:lnTo>
                    <a:pt x="1978" y="57793"/>
                  </a:lnTo>
                  <a:lnTo>
                    <a:pt x="2847" y="57850"/>
                  </a:lnTo>
                  <a:lnTo>
                    <a:pt x="3757" y="57992"/>
                  </a:lnTo>
                  <a:lnTo>
                    <a:pt x="4627" y="58106"/>
                  </a:lnTo>
                  <a:lnTo>
                    <a:pt x="5536" y="58192"/>
                  </a:lnTo>
                  <a:lnTo>
                    <a:pt x="6406" y="58135"/>
                  </a:lnTo>
                  <a:lnTo>
                    <a:pt x="7355" y="57907"/>
                  </a:lnTo>
                  <a:lnTo>
                    <a:pt x="7157" y="57736"/>
                  </a:lnTo>
                  <a:lnTo>
                    <a:pt x="6999" y="57594"/>
                  </a:lnTo>
                  <a:lnTo>
                    <a:pt x="6841" y="57423"/>
                  </a:lnTo>
                  <a:lnTo>
                    <a:pt x="6762" y="57280"/>
                  </a:lnTo>
                  <a:lnTo>
                    <a:pt x="6643" y="57081"/>
                  </a:lnTo>
                  <a:lnTo>
                    <a:pt x="6564" y="56910"/>
                  </a:lnTo>
                  <a:lnTo>
                    <a:pt x="6525" y="56739"/>
                  </a:lnTo>
                  <a:lnTo>
                    <a:pt x="6525" y="56597"/>
                  </a:lnTo>
                  <a:lnTo>
                    <a:pt x="6683" y="56255"/>
                  </a:lnTo>
                  <a:lnTo>
                    <a:pt x="6880" y="55942"/>
                  </a:lnTo>
                  <a:lnTo>
                    <a:pt x="7078" y="55628"/>
                  </a:lnTo>
                  <a:lnTo>
                    <a:pt x="7355" y="55372"/>
                  </a:lnTo>
                  <a:lnTo>
                    <a:pt x="7592" y="55059"/>
                  </a:lnTo>
                  <a:lnTo>
                    <a:pt x="7948" y="54802"/>
                  </a:lnTo>
                  <a:lnTo>
                    <a:pt x="8264" y="54546"/>
                  </a:lnTo>
                  <a:lnTo>
                    <a:pt x="8699" y="54347"/>
                  </a:lnTo>
                  <a:lnTo>
                    <a:pt x="8304" y="54090"/>
                  </a:lnTo>
                  <a:lnTo>
                    <a:pt x="7948" y="53891"/>
                  </a:lnTo>
                  <a:lnTo>
                    <a:pt x="7632" y="53634"/>
                  </a:lnTo>
                  <a:lnTo>
                    <a:pt x="7434" y="53435"/>
                  </a:lnTo>
                  <a:lnTo>
                    <a:pt x="7236" y="53150"/>
                  </a:lnTo>
                  <a:lnTo>
                    <a:pt x="7157" y="52894"/>
                  </a:lnTo>
                  <a:lnTo>
                    <a:pt x="7157" y="52581"/>
                  </a:lnTo>
                  <a:lnTo>
                    <a:pt x="7355" y="52239"/>
                  </a:lnTo>
                  <a:lnTo>
                    <a:pt x="7434" y="51897"/>
                  </a:lnTo>
                  <a:lnTo>
                    <a:pt x="7671" y="51584"/>
                  </a:lnTo>
                  <a:lnTo>
                    <a:pt x="7948" y="51270"/>
                  </a:lnTo>
                  <a:lnTo>
                    <a:pt x="8304" y="51014"/>
                  </a:lnTo>
                  <a:lnTo>
                    <a:pt x="8660" y="50758"/>
                  </a:lnTo>
                  <a:lnTo>
                    <a:pt x="9095" y="50587"/>
                  </a:lnTo>
                  <a:lnTo>
                    <a:pt x="9530" y="50444"/>
                  </a:lnTo>
                  <a:lnTo>
                    <a:pt x="10004" y="50416"/>
                  </a:lnTo>
                  <a:lnTo>
                    <a:pt x="10162" y="50216"/>
                  </a:lnTo>
                  <a:lnTo>
                    <a:pt x="10281" y="50046"/>
                  </a:lnTo>
                  <a:lnTo>
                    <a:pt x="10281" y="49846"/>
                  </a:lnTo>
                  <a:lnTo>
                    <a:pt x="10281" y="49647"/>
                  </a:lnTo>
                  <a:lnTo>
                    <a:pt x="10202" y="49390"/>
                  </a:lnTo>
                  <a:lnTo>
                    <a:pt x="10202" y="49163"/>
                  </a:lnTo>
                  <a:lnTo>
                    <a:pt x="10202" y="48906"/>
                  </a:lnTo>
                  <a:lnTo>
                    <a:pt x="10360" y="48678"/>
                  </a:lnTo>
                  <a:lnTo>
                    <a:pt x="10558" y="46542"/>
                  </a:lnTo>
                  <a:lnTo>
                    <a:pt x="10478" y="44491"/>
                  </a:lnTo>
                  <a:lnTo>
                    <a:pt x="10202" y="42498"/>
                  </a:lnTo>
                  <a:lnTo>
                    <a:pt x="9806" y="40532"/>
                  </a:lnTo>
                  <a:lnTo>
                    <a:pt x="9292" y="38538"/>
                  </a:lnTo>
                  <a:lnTo>
                    <a:pt x="8857" y="36545"/>
                  </a:lnTo>
                  <a:lnTo>
                    <a:pt x="8502" y="34551"/>
                  </a:lnTo>
                  <a:lnTo>
                    <a:pt x="8422" y="32500"/>
                  </a:lnTo>
                  <a:lnTo>
                    <a:pt x="8343" y="30364"/>
                  </a:lnTo>
                  <a:lnTo>
                    <a:pt x="8185" y="28256"/>
                  </a:lnTo>
                  <a:lnTo>
                    <a:pt x="7908" y="26148"/>
                  </a:lnTo>
                  <a:lnTo>
                    <a:pt x="7592" y="24040"/>
                  </a:lnTo>
                  <a:lnTo>
                    <a:pt x="7197" y="21904"/>
                  </a:lnTo>
                  <a:lnTo>
                    <a:pt x="6762" y="19853"/>
                  </a:lnTo>
                  <a:lnTo>
                    <a:pt x="6327" y="17803"/>
                  </a:lnTo>
                  <a:lnTo>
                    <a:pt x="5892" y="15809"/>
                  </a:lnTo>
                  <a:lnTo>
                    <a:pt x="5694" y="15666"/>
                  </a:lnTo>
                  <a:lnTo>
                    <a:pt x="5615" y="15495"/>
                  </a:lnTo>
                  <a:lnTo>
                    <a:pt x="5576" y="15324"/>
                  </a:lnTo>
                  <a:lnTo>
                    <a:pt x="5655" y="15182"/>
                  </a:lnTo>
                  <a:lnTo>
                    <a:pt x="6525" y="14185"/>
                  </a:lnTo>
                  <a:lnTo>
                    <a:pt x="7355" y="13131"/>
                  </a:lnTo>
                  <a:lnTo>
                    <a:pt x="8067" y="11963"/>
                  </a:lnTo>
                  <a:lnTo>
                    <a:pt x="8739" y="10767"/>
                  </a:lnTo>
                  <a:lnTo>
                    <a:pt x="9332" y="9485"/>
                  </a:lnTo>
                  <a:lnTo>
                    <a:pt x="9925" y="8232"/>
                  </a:lnTo>
                  <a:lnTo>
                    <a:pt x="10558" y="6979"/>
                  </a:lnTo>
                  <a:lnTo>
                    <a:pt x="11230" y="5783"/>
                  </a:lnTo>
                  <a:lnTo>
                    <a:pt x="11388" y="5071"/>
                  </a:lnTo>
                  <a:lnTo>
                    <a:pt x="11586" y="4387"/>
                  </a:lnTo>
                  <a:lnTo>
                    <a:pt x="11783" y="3703"/>
                  </a:lnTo>
                  <a:lnTo>
                    <a:pt x="11981" y="3048"/>
                  </a:lnTo>
                  <a:lnTo>
                    <a:pt x="12100" y="2365"/>
                  </a:lnTo>
                  <a:lnTo>
                    <a:pt x="12218" y="1681"/>
                  </a:lnTo>
                  <a:lnTo>
                    <a:pt x="12218" y="969"/>
                  </a:lnTo>
                  <a:lnTo>
                    <a:pt x="12179" y="228"/>
                  </a:lnTo>
                  <a:lnTo>
                    <a:pt x="12455" y="171"/>
                  </a:lnTo>
                  <a:lnTo>
                    <a:pt x="12653" y="86"/>
                  </a:lnTo>
                  <a:lnTo>
                    <a:pt x="12732" y="0"/>
                  </a:lnTo>
                  <a:lnTo>
                    <a:pt x="12851" y="29"/>
                  </a:lnTo>
                  <a:lnTo>
                    <a:pt x="12930" y="86"/>
                  </a:lnTo>
                  <a:lnTo>
                    <a:pt x="13048" y="228"/>
                  </a:lnTo>
                  <a:lnTo>
                    <a:pt x="13286" y="969"/>
                  </a:lnTo>
                  <a:lnTo>
                    <a:pt x="13562" y="1709"/>
                  </a:lnTo>
                  <a:lnTo>
                    <a:pt x="13839" y="2450"/>
                  </a:lnTo>
                  <a:lnTo>
                    <a:pt x="14116" y="3219"/>
                  </a:lnTo>
                  <a:lnTo>
                    <a:pt x="14353" y="3931"/>
                  </a:lnTo>
                  <a:lnTo>
                    <a:pt x="14630" y="4672"/>
                  </a:lnTo>
                  <a:lnTo>
                    <a:pt x="14907" y="5441"/>
                  </a:lnTo>
                  <a:lnTo>
                    <a:pt x="15223" y="6238"/>
                  </a:lnTo>
                  <a:close/>
                  <a:moveTo>
                    <a:pt x="79948" y="102711"/>
                  </a:moveTo>
                  <a:lnTo>
                    <a:pt x="79948" y="102711"/>
                  </a:lnTo>
                  <a:lnTo>
                    <a:pt x="79671" y="101914"/>
                  </a:lnTo>
                  <a:lnTo>
                    <a:pt x="79434" y="101173"/>
                  </a:lnTo>
                  <a:lnTo>
                    <a:pt x="79197" y="100461"/>
                  </a:lnTo>
                  <a:lnTo>
                    <a:pt x="78960" y="99749"/>
                  </a:lnTo>
                  <a:lnTo>
                    <a:pt x="78683" y="99008"/>
                  </a:lnTo>
                  <a:lnTo>
                    <a:pt x="78406" y="98296"/>
                  </a:lnTo>
                  <a:lnTo>
                    <a:pt x="78129" y="97527"/>
                  </a:lnTo>
                  <a:lnTo>
                    <a:pt x="77892" y="96787"/>
                  </a:lnTo>
                  <a:lnTo>
                    <a:pt x="78090" y="97527"/>
                  </a:lnTo>
                  <a:lnTo>
                    <a:pt x="78327" y="98353"/>
                  </a:lnTo>
                  <a:lnTo>
                    <a:pt x="78564" y="99179"/>
                  </a:lnTo>
                  <a:lnTo>
                    <a:pt x="78801" y="100005"/>
                  </a:lnTo>
                  <a:lnTo>
                    <a:pt x="79039" y="100746"/>
                  </a:lnTo>
                  <a:lnTo>
                    <a:pt x="79315" y="101486"/>
                  </a:lnTo>
                  <a:lnTo>
                    <a:pt x="79592" y="102141"/>
                  </a:lnTo>
                  <a:lnTo>
                    <a:pt x="79948" y="102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Shape 653"/>
            <p:cNvSpPr/>
            <p:nvPr/>
          </p:nvSpPr>
          <p:spPr>
            <a:xfrm>
              <a:off x="5906520" y="3514680"/>
              <a:ext cx="4680" cy="11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8" h="428">
                  <a:moveTo>
                    <a:pt x="0" y="1"/>
                  </a:moveTo>
                  <a:lnTo>
                    <a:pt x="238" y="1"/>
                  </a:lnTo>
                  <a:lnTo>
                    <a:pt x="238" y="428"/>
                  </a:lnTo>
                  <a:lnTo>
                    <a:pt x="0" y="4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4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0" bIns="-79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Shape 654"/>
            <p:cNvSpPr/>
            <p:nvPr/>
          </p:nvSpPr>
          <p:spPr>
            <a:xfrm>
              <a:off x="7013880" y="3555000"/>
              <a:ext cx="574920" cy="35640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220" h="13047">
                  <a:moveTo>
                    <a:pt x="10280" y="1995"/>
                  </a:moveTo>
                  <a:lnTo>
                    <a:pt x="12455" y="2792"/>
                  </a:lnTo>
                  <a:lnTo>
                    <a:pt x="14748" y="3647"/>
                  </a:lnTo>
                  <a:lnTo>
                    <a:pt x="17041" y="4501"/>
                  </a:lnTo>
                  <a:lnTo>
                    <a:pt x="19334" y="5441"/>
                  </a:lnTo>
                  <a:lnTo>
                    <a:pt x="21549" y="6409"/>
                  </a:lnTo>
                  <a:lnTo>
                    <a:pt x="23723" y="7463"/>
                  </a:lnTo>
                  <a:lnTo>
                    <a:pt x="25779" y="8574"/>
                  </a:lnTo>
                  <a:lnTo>
                    <a:pt x="27677" y="9827"/>
                  </a:lnTo>
                  <a:lnTo>
                    <a:pt x="27914" y="9856"/>
                  </a:lnTo>
                  <a:lnTo>
                    <a:pt x="28191" y="9941"/>
                  </a:lnTo>
                  <a:lnTo>
                    <a:pt x="28428" y="10084"/>
                  </a:lnTo>
                  <a:lnTo>
                    <a:pt x="28666" y="10255"/>
                  </a:lnTo>
                  <a:lnTo>
                    <a:pt x="28824" y="10426"/>
                  </a:lnTo>
                  <a:lnTo>
                    <a:pt x="28982" y="10596"/>
                  </a:lnTo>
                  <a:lnTo>
                    <a:pt x="29101" y="10767"/>
                  </a:lnTo>
                  <a:lnTo>
                    <a:pt x="29219" y="10967"/>
                  </a:lnTo>
                  <a:lnTo>
                    <a:pt x="28942" y="11309"/>
                  </a:lnTo>
                  <a:lnTo>
                    <a:pt x="28547" y="11536"/>
                  </a:lnTo>
                  <a:lnTo>
                    <a:pt x="28033" y="11650"/>
                  </a:lnTo>
                  <a:lnTo>
                    <a:pt x="27479" y="11707"/>
                  </a:lnTo>
                  <a:lnTo>
                    <a:pt x="26847" y="11707"/>
                  </a:lnTo>
                  <a:lnTo>
                    <a:pt x="26214" y="11736"/>
                  </a:lnTo>
                  <a:lnTo>
                    <a:pt x="25621" y="11821"/>
                  </a:lnTo>
                  <a:lnTo>
                    <a:pt x="25107" y="12021"/>
                  </a:lnTo>
                  <a:lnTo>
                    <a:pt x="24475" y="12163"/>
                  </a:lnTo>
                  <a:lnTo>
                    <a:pt x="23881" y="12334"/>
                  </a:lnTo>
                  <a:lnTo>
                    <a:pt x="23288" y="12476"/>
                  </a:lnTo>
                  <a:lnTo>
                    <a:pt x="22695" y="12647"/>
                  </a:lnTo>
                  <a:lnTo>
                    <a:pt x="22063" y="12761"/>
                  </a:lnTo>
                  <a:lnTo>
                    <a:pt x="21430" y="12875"/>
                  </a:lnTo>
                  <a:lnTo>
                    <a:pt x="20797" y="12961"/>
                  </a:lnTo>
                  <a:lnTo>
                    <a:pt x="20165" y="13046"/>
                  </a:lnTo>
                  <a:lnTo>
                    <a:pt x="19809" y="12847"/>
                  </a:lnTo>
                  <a:lnTo>
                    <a:pt x="19532" y="12647"/>
                  </a:lnTo>
                  <a:lnTo>
                    <a:pt x="19295" y="12419"/>
                  </a:lnTo>
                  <a:lnTo>
                    <a:pt x="19097" y="12220"/>
                  </a:lnTo>
                  <a:lnTo>
                    <a:pt x="18860" y="11992"/>
                  </a:lnTo>
                  <a:lnTo>
                    <a:pt x="18662" y="11793"/>
                  </a:lnTo>
                  <a:lnTo>
                    <a:pt x="18425" y="11622"/>
                  </a:lnTo>
                  <a:lnTo>
                    <a:pt x="18227" y="11479"/>
                  </a:lnTo>
                  <a:lnTo>
                    <a:pt x="17476" y="10853"/>
                  </a:lnTo>
                  <a:lnTo>
                    <a:pt x="16764" y="10226"/>
                  </a:lnTo>
                  <a:lnTo>
                    <a:pt x="15974" y="9600"/>
                  </a:lnTo>
                  <a:lnTo>
                    <a:pt x="15222" y="9001"/>
                  </a:lnTo>
                  <a:lnTo>
                    <a:pt x="14432" y="8375"/>
                  </a:lnTo>
                  <a:lnTo>
                    <a:pt x="13680" y="7748"/>
                  </a:lnTo>
                  <a:lnTo>
                    <a:pt x="12929" y="7150"/>
                  </a:lnTo>
                  <a:lnTo>
                    <a:pt x="12218" y="6609"/>
                  </a:lnTo>
                  <a:lnTo>
                    <a:pt x="11783" y="6466"/>
                  </a:lnTo>
                  <a:lnTo>
                    <a:pt x="11387" y="6295"/>
                  </a:lnTo>
                  <a:lnTo>
                    <a:pt x="10952" y="6096"/>
                  </a:lnTo>
                  <a:lnTo>
                    <a:pt x="10557" y="5925"/>
                  </a:lnTo>
                  <a:lnTo>
                    <a:pt x="10122" y="5697"/>
                  </a:lnTo>
                  <a:lnTo>
                    <a:pt x="9687" y="5498"/>
                  </a:lnTo>
                  <a:lnTo>
                    <a:pt x="9252" y="5299"/>
                  </a:lnTo>
                  <a:lnTo>
                    <a:pt x="8817" y="5128"/>
                  </a:lnTo>
                  <a:lnTo>
                    <a:pt x="8303" y="4729"/>
                  </a:lnTo>
                  <a:lnTo>
                    <a:pt x="7710" y="4416"/>
                  </a:lnTo>
                  <a:lnTo>
                    <a:pt x="6998" y="4131"/>
                  </a:lnTo>
                  <a:lnTo>
                    <a:pt x="6247" y="3903"/>
                  </a:lnTo>
                  <a:lnTo>
                    <a:pt x="5456" y="3618"/>
                  </a:lnTo>
                  <a:lnTo>
                    <a:pt x="4666" y="3333"/>
                  </a:lnTo>
                  <a:lnTo>
                    <a:pt x="3914" y="2991"/>
                  </a:lnTo>
                  <a:lnTo>
                    <a:pt x="3282" y="2621"/>
                  </a:lnTo>
                  <a:lnTo>
                    <a:pt x="2491" y="2621"/>
                  </a:lnTo>
                  <a:lnTo>
                    <a:pt x="1977" y="2479"/>
                  </a:lnTo>
                  <a:lnTo>
                    <a:pt x="1621" y="2194"/>
                  </a:lnTo>
                  <a:lnTo>
                    <a:pt x="1384" y="1824"/>
                  </a:lnTo>
                  <a:lnTo>
                    <a:pt x="1147" y="1396"/>
                  </a:lnTo>
                  <a:lnTo>
                    <a:pt x="909" y="998"/>
                  </a:lnTo>
                  <a:lnTo>
                    <a:pt x="633" y="627"/>
                  </a:lnTo>
                  <a:lnTo>
                    <a:pt x="237" y="342"/>
                  </a:lnTo>
                  <a:lnTo>
                    <a:pt x="237" y="143"/>
                  </a:lnTo>
                  <a:lnTo>
                    <a:pt x="158" y="86"/>
                  </a:lnTo>
                  <a:lnTo>
                    <a:pt x="0" y="58"/>
                  </a:lnTo>
                  <a:lnTo>
                    <a:pt x="0" y="1"/>
                  </a:lnTo>
                  <a:lnTo>
                    <a:pt x="1344" y="229"/>
                  </a:lnTo>
                  <a:lnTo>
                    <a:pt x="2689" y="485"/>
                  </a:lnTo>
                  <a:lnTo>
                    <a:pt x="3954" y="713"/>
                  </a:lnTo>
                  <a:lnTo>
                    <a:pt x="5259" y="969"/>
                  </a:lnTo>
                  <a:lnTo>
                    <a:pt x="6484" y="1197"/>
                  </a:lnTo>
                  <a:lnTo>
                    <a:pt x="7750" y="1425"/>
                  </a:lnTo>
                  <a:lnTo>
                    <a:pt x="8975" y="1681"/>
                  </a:lnTo>
                  <a:lnTo>
                    <a:pt x="10280" y="1995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Shape 655"/>
            <p:cNvSpPr/>
            <p:nvPr/>
          </p:nvSpPr>
          <p:spPr>
            <a:xfrm>
              <a:off x="6735960" y="3660120"/>
              <a:ext cx="771840" cy="51732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9224" h="18943">
                  <a:moveTo>
                    <a:pt x="20759" y="1454"/>
                  </a:moveTo>
                  <a:lnTo>
                    <a:pt x="20719" y="1596"/>
                  </a:lnTo>
                  <a:lnTo>
                    <a:pt x="20838" y="1710"/>
                  </a:lnTo>
                  <a:lnTo>
                    <a:pt x="20996" y="1767"/>
                  </a:lnTo>
                  <a:lnTo>
                    <a:pt x="21233" y="1852"/>
                  </a:lnTo>
                  <a:lnTo>
                    <a:pt x="21431" y="1881"/>
                  </a:lnTo>
                  <a:lnTo>
                    <a:pt x="21668" y="1938"/>
                  </a:lnTo>
                  <a:lnTo>
                    <a:pt x="21866" y="1995"/>
                  </a:lnTo>
                  <a:lnTo>
                    <a:pt x="22103" y="2166"/>
                  </a:lnTo>
                  <a:lnTo>
                    <a:pt x="22736" y="2507"/>
                  </a:lnTo>
                  <a:lnTo>
                    <a:pt x="23447" y="2878"/>
                  </a:lnTo>
                  <a:lnTo>
                    <a:pt x="24159" y="3248"/>
                  </a:lnTo>
                  <a:lnTo>
                    <a:pt x="24910" y="3675"/>
                  </a:lnTo>
                  <a:lnTo>
                    <a:pt x="25543" y="4046"/>
                  </a:lnTo>
                  <a:lnTo>
                    <a:pt x="26215" y="4473"/>
                  </a:lnTo>
                  <a:lnTo>
                    <a:pt x="26808" y="4900"/>
                  </a:lnTo>
                  <a:lnTo>
                    <a:pt x="27401" y="5384"/>
                  </a:lnTo>
                  <a:lnTo>
                    <a:pt x="27994" y="5755"/>
                  </a:lnTo>
                  <a:lnTo>
                    <a:pt x="28587" y="6210"/>
                  </a:lnTo>
                  <a:lnTo>
                    <a:pt x="29180" y="6694"/>
                  </a:lnTo>
                  <a:lnTo>
                    <a:pt x="29773" y="7207"/>
                  </a:lnTo>
                  <a:lnTo>
                    <a:pt x="30327" y="7720"/>
                  </a:lnTo>
                  <a:lnTo>
                    <a:pt x="30920" y="8233"/>
                  </a:lnTo>
                  <a:lnTo>
                    <a:pt x="31513" y="8717"/>
                  </a:lnTo>
                  <a:lnTo>
                    <a:pt x="32106" y="9201"/>
                  </a:lnTo>
                  <a:lnTo>
                    <a:pt x="32067" y="9372"/>
                  </a:lnTo>
                  <a:lnTo>
                    <a:pt x="32185" y="9571"/>
                  </a:lnTo>
                  <a:lnTo>
                    <a:pt x="32304" y="9771"/>
                  </a:lnTo>
                  <a:lnTo>
                    <a:pt x="32541" y="9999"/>
                  </a:lnTo>
                  <a:lnTo>
                    <a:pt x="32699" y="10169"/>
                  </a:lnTo>
                  <a:lnTo>
                    <a:pt x="-32679" y="10397"/>
                  </a:lnTo>
                  <a:lnTo>
                    <a:pt x="-32600" y="10597"/>
                  </a:lnTo>
                  <a:lnTo>
                    <a:pt x="-32560" y="10853"/>
                  </a:lnTo>
                  <a:lnTo>
                    <a:pt x="-32086" y="11024"/>
                  </a:lnTo>
                  <a:lnTo>
                    <a:pt x="-31572" y="11052"/>
                  </a:lnTo>
                  <a:lnTo>
                    <a:pt x="-31097" y="10910"/>
                  </a:lnTo>
                  <a:lnTo>
                    <a:pt x="-30543" y="10711"/>
                  </a:lnTo>
                  <a:lnTo>
                    <a:pt x="-30029" y="10454"/>
                  </a:lnTo>
                  <a:lnTo>
                    <a:pt x="-29476" y="10226"/>
                  </a:lnTo>
                  <a:lnTo>
                    <a:pt x="-28922" y="10084"/>
                  </a:lnTo>
                  <a:lnTo>
                    <a:pt x="-28369" y="10084"/>
                  </a:lnTo>
                  <a:lnTo>
                    <a:pt x="-28171" y="10027"/>
                  </a:lnTo>
                  <a:lnTo>
                    <a:pt x="-27934" y="9942"/>
                  </a:lnTo>
                  <a:lnTo>
                    <a:pt x="-27697" y="9828"/>
                  </a:lnTo>
                  <a:lnTo>
                    <a:pt x="-27459" y="9742"/>
                  </a:lnTo>
                  <a:lnTo>
                    <a:pt x="-27222" y="9600"/>
                  </a:lnTo>
                  <a:lnTo>
                    <a:pt x="-26945" y="9514"/>
                  </a:lnTo>
                  <a:lnTo>
                    <a:pt x="-26669" y="9457"/>
                  </a:lnTo>
                  <a:lnTo>
                    <a:pt x="-26313" y="9486"/>
                  </a:lnTo>
                  <a:lnTo>
                    <a:pt x="-27143" y="9742"/>
                  </a:lnTo>
                  <a:lnTo>
                    <a:pt x="-27934" y="10056"/>
                  </a:lnTo>
                  <a:lnTo>
                    <a:pt x="-28725" y="10369"/>
                  </a:lnTo>
                  <a:lnTo>
                    <a:pt x="-29515" y="10739"/>
                  </a:lnTo>
                  <a:lnTo>
                    <a:pt x="-30346" y="11081"/>
                  </a:lnTo>
                  <a:lnTo>
                    <a:pt x="-31097" y="11451"/>
                  </a:lnTo>
                  <a:lnTo>
                    <a:pt x="-31848" y="11850"/>
                  </a:lnTo>
                  <a:lnTo>
                    <a:pt x="-32560" y="12249"/>
                  </a:lnTo>
                  <a:lnTo>
                    <a:pt x="-32718" y="12932"/>
                  </a:lnTo>
                  <a:lnTo>
                    <a:pt x="-32718" y="13701"/>
                  </a:lnTo>
                  <a:lnTo>
                    <a:pt x="-32639" y="14442"/>
                  </a:lnTo>
                  <a:lnTo>
                    <a:pt x="-32402" y="15239"/>
                  </a:lnTo>
                  <a:lnTo>
                    <a:pt x="-32204" y="16009"/>
                  </a:lnTo>
                  <a:lnTo>
                    <a:pt x="-31927" y="16806"/>
                  </a:lnTo>
                  <a:lnTo>
                    <a:pt x="-31730" y="17604"/>
                  </a:lnTo>
                  <a:lnTo>
                    <a:pt x="-31492" y="18430"/>
                  </a:lnTo>
                  <a:lnTo>
                    <a:pt x="-31018" y="18942"/>
                  </a:lnTo>
                  <a:lnTo>
                    <a:pt x="-31848" y="18515"/>
                  </a:lnTo>
                  <a:lnTo>
                    <a:pt x="-32165" y="18458"/>
                  </a:lnTo>
                  <a:lnTo>
                    <a:pt x="-32441" y="18430"/>
                  </a:lnTo>
                  <a:lnTo>
                    <a:pt x="-32758" y="18401"/>
                  </a:lnTo>
                  <a:lnTo>
                    <a:pt x="32502" y="18401"/>
                  </a:lnTo>
                  <a:lnTo>
                    <a:pt x="32146" y="18344"/>
                  </a:lnTo>
                  <a:lnTo>
                    <a:pt x="31829" y="18287"/>
                  </a:lnTo>
                  <a:lnTo>
                    <a:pt x="31474" y="18230"/>
                  </a:lnTo>
                  <a:lnTo>
                    <a:pt x="31157" y="18173"/>
                  </a:lnTo>
                  <a:lnTo>
                    <a:pt x="31157" y="18088"/>
                  </a:lnTo>
                  <a:lnTo>
                    <a:pt x="29497" y="17632"/>
                  </a:lnTo>
                  <a:lnTo>
                    <a:pt x="27836" y="17290"/>
                  </a:lnTo>
                  <a:lnTo>
                    <a:pt x="26136" y="16948"/>
                  </a:lnTo>
                  <a:lnTo>
                    <a:pt x="24436" y="16664"/>
                  </a:lnTo>
                  <a:lnTo>
                    <a:pt x="22696" y="16322"/>
                  </a:lnTo>
                  <a:lnTo>
                    <a:pt x="20996" y="15980"/>
                  </a:lnTo>
                  <a:lnTo>
                    <a:pt x="19335" y="15581"/>
                  </a:lnTo>
                  <a:lnTo>
                    <a:pt x="17754" y="15126"/>
                  </a:lnTo>
                  <a:lnTo>
                    <a:pt x="16884" y="15126"/>
                  </a:lnTo>
                  <a:lnTo>
                    <a:pt x="16172" y="15040"/>
                  </a:lnTo>
                  <a:lnTo>
                    <a:pt x="15500" y="14955"/>
                  </a:lnTo>
                  <a:lnTo>
                    <a:pt x="14828" y="14841"/>
                  </a:lnTo>
                  <a:lnTo>
                    <a:pt x="14156" y="14755"/>
                  </a:lnTo>
                  <a:lnTo>
                    <a:pt x="13444" y="14584"/>
                  </a:lnTo>
                  <a:lnTo>
                    <a:pt x="12732" y="14442"/>
                  </a:lnTo>
                  <a:lnTo>
                    <a:pt x="12021" y="14271"/>
                  </a:lnTo>
                  <a:lnTo>
                    <a:pt x="11348" y="14072"/>
                  </a:lnTo>
                  <a:lnTo>
                    <a:pt x="11388" y="13445"/>
                  </a:lnTo>
                  <a:lnTo>
                    <a:pt x="11427" y="12847"/>
                  </a:lnTo>
                  <a:lnTo>
                    <a:pt x="11467" y="12220"/>
                  </a:lnTo>
                  <a:lnTo>
                    <a:pt x="11507" y="11622"/>
                  </a:lnTo>
                  <a:lnTo>
                    <a:pt x="11507" y="11024"/>
                  </a:lnTo>
                  <a:lnTo>
                    <a:pt x="11586" y="10454"/>
                  </a:lnTo>
                  <a:lnTo>
                    <a:pt x="11704" y="9942"/>
                  </a:lnTo>
                  <a:lnTo>
                    <a:pt x="11941" y="9486"/>
                  </a:lnTo>
                  <a:lnTo>
                    <a:pt x="11744" y="8774"/>
                  </a:lnTo>
                  <a:lnTo>
                    <a:pt x="11586" y="8033"/>
                  </a:lnTo>
                  <a:lnTo>
                    <a:pt x="11309" y="7293"/>
                  </a:lnTo>
                  <a:lnTo>
                    <a:pt x="11032" y="6581"/>
                  </a:lnTo>
                  <a:lnTo>
                    <a:pt x="10637" y="5868"/>
                  </a:lnTo>
                  <a:lnTo>
                    <a:pt x="10162" y="5270"/>
                  </a:lnTo>
                  <a:lnTo>
                    <a:pt x="9530" y="4758"/>
                  </a:lnTo>
                  <a:lnTo>
                    <a:pt x="8818" y="4416"/>
                  </a:lnTo>
                  <a:lnTo>
                    <a:pt x="8620" y="4245"/>
                  </a:lnTo>
                  <a:lnTo>
                    <a:pt x="8462" y="4159"/>
                  </a:lnTo>
                  <a:lnTo>
                    <a:pt x="8225" y="4074"/>
                  </a:lnTo>
                  <a:lnTo>
                    <a:pt x="7988" y="4046"/>
                  </a:lnTo>
                  <a:lnTo>
                    <a:pt x="7711" y="3989"/>
                  </a:lnTo>
                  <a:lnTo>
                    <a:pt x="7434" y="3932"/>
                  </a:lnTo>
                  <a:lnTo>
                    <a:pt x="7157" y="3875"/>
                  </a:lnTo>
                  <a:lnTo>
                    <a:pt x="6880" y="3818"/>
                  </a:lnTo>
                  <a:lnTo>
                    <a:pt x="5615" y="4046"/>
                  </a:lnTo>
                  <a:lnTo>
                    <a:pt x="4627" y="4473"/>
                  </a:lnTo>
                  <a:lnTo>
                    <a:pt x="3757" y="5042"/>
                  </a:lnTo>
                  <a:lnTo>
                    <a:pt x="3085" y="5726"/>
                  </a:lnTo>
                  <a:lnTo>
                    <a:pt x="2452" y="6467"/>
                  </a:lnTo>
                  <a:lnTo>
                    <a:pt x="1938" y="7293"/>
                  </a:lnTo>
                  <a:lnTo>
                    <a:pt x="1424" y="8147"/>
                  </a:lnTo>
                  <a:lnTo>
                    <a:pt x="950" y="9030"/>
                  </a:lnTo>
                  <a:lnTo>
                    <a:pt x="831" y="8859"/>
                  </a:lnTo>
                  <a:lnTo>
                    <a:pt x="752" y="8745"/>
                  </a:lnTo>
                  <a:lnTo>
                    <a:pt x="633" y="8660"/>
                  </a:lnTo>
                  <a:lnTo>
                    <a:pt x="554" y="8631"/>
                  </a:lnTo>
                  <a:lnTo>
                    <a:pt x="238" y="8517"/>
                  </a:lnTo>
                  <a:lnTo>
                    <a:pt x="1" y="8432"/>
                  </a:lnTo>
                  <a:lnTo>
                    <a:pt x="1226" y="6808"/>
                  </a:lnTo>
                  <a:lnTo>
                    <a:pt x="2650" y="5299"/>
                  </a:lnTo>
                  <a:lnTo>
                    <a:pt x="4271" y="3875"/>
                  </a:lnTo>
                  <a:lnTo>
                    <a:pt x="6090" y="2621"/>
                  </a:lnTo>
                  <a:lnTo>
                    <a:pt x="8067" y="1568"/>
                  </a:lnTo>
                  <a:lnTo>
                    <a:pt x="10281" y="770"/>
                  </a:lnTo>
                  <a:lnTo>
                    <a:pt x="12693" y="286"/>
                  </a:lnTo>
                  <a:lnTo>
                    <a:pt x="15342" y="172"/>
                  </a:lnTo>
                  <a:lnTo>
                    <a:pt x="15777" y="1"/>
                  </a:lnTo>
                  <a:lnTo>
                    <a:pt x="16251" y="1"/>
                  </a:lnTo>
                  <a:lnTo>
                    <a:pt x="16726" y="58"/>
                  </a:lnTo>
                  <a:lnTo>
                    <a:pt x="17200" y="229"/>
                  </a:lnTo>
                  <a:lnTo>
                    <a:pt x="17635" y="400"/>
                  </a:lnTo>
                  <a:lnTo>
                    <a:pt x="18070" y="571"/>
                  </a:lnTo>
                  <a:lnTo>
                    <a:pt x="18544" y="741"/>
                  </a:lnTo>
                  <a:lnTo>
                    <a:pt x="19058" y="855"/>
                  </a:lnTo>
                  <a:lnTo>
                    <a:pt x="19177" y="998"/>
                  </a:lnTo>
                  <a:lnTo>
                    <a:pt x="19375" y="1112"/>
                  </a:lnTo>
                  <a:lnTo>
                    <a:pt x="19572" y="1169"/>
                  </a:lnTo>
                  <a:lnTo>
                    <a:pt x="19810" y="1226"/>
                  </a:lnTo>
                  <a:lnTo>
                    <a:pt x="20047" y="1254"/>
                  </a:lnTo>
                  <a:lnTo>
                    <a:pt x="20284" y="1283"/>
                  </a:lnTo>
                  <a:lnTo>
                    <a:pt x="20521" y="1340"/>
                  </a:lnTo>
                  <a:lnTo>
                    <a:pt x="20759" y="1454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Shape 656"/>
            <p:cNvSpPr/>
            <p:nvPr/>
          </p:nvSpPr>
          <p:spPr>
            <a:xfrm>
              <a:off x="5808600" y="3678840"/>
              <a:ext cx="204480" cy="2566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0400" h="9400">
                  <a:moveTo>
                    <a:pt x="10399" y="3988"/>
                  </a:moveTo>
                  <a:lnTo>
                    <a:pt x="10162" y="3988"/>
                  </a:lnTo>
                  <a:lnTo>
                    <a:pt x="9727" y="4415"/>
                  </a:lnTo>
                  <a:lnTo>
                    <a:pt x="9371" y="4900"/>
                  </a:lnTo>
                  <a:lnTo>
                    <a:pt x="9015" y="5384"/>
                  </a:lnTo>
                  <a:lnTo>
                    <a:pt x="8699" y="5897"/>
                  </a:lnTo>
                  <a:lnTo>
                    <a:pt x="8383" y="6352"/>
                  </a:lnTo>
                  <a:lnTo>
                    <a:pt x="8106" y="6837"/>
                  </a:lnTo>
                  <a:lnTo>
                    <a:pt x="7790" y="7292"/>
                  </a:lnTo>
                  <a:lnTo>
                    <a:pt x="7513" y="7748"/>
                  </a:lnTo>
                  <a:lnTo>
                    <a:pt x="7236" y="7776"/>
                  </a:lnTo>
                  <a:lnTo>
                    <a:pt x="7038" y="7890"/>
                  </a:lnTo>
                  <a:lnTo>
                    <a:pt x="6920" y="8033"/>
                  </a:lnTo>
                  <a:lnTo>
                    <a:pt x="6801" y="8261"/>
                  </a:lnTo>
                  <a:lnTo>
                    <a:pt x="6643" y="8460"/>
                  </a:lnTo>
                  <a:lnTo>
                    <a:pt x="6524" y="8688"/>
                  </a:lnTo>
                  <a:lnTo>
                    <a:pt x="6366" y="8859"/>
                  </a:lnTo>
                  <a:lnTo>
                    <a:pt x="6169" y="9058"/>
                  </a:lnTo>
                  <a:lnTo>
                    <a:pt x="6050" y="8973"/>
                  </a:lnTo>
                  <a:lnTo>
                    <a:pt x="5773" y="9144"/>
                  </a:lnTo>
                  <a:lnTo>
                    <a:pt x="5615" y="9315"/>
                  </a:lnTo>
                  <a:lnTo>
                    <a:pt x="5496" y="9372"/>
                  </a:lnTo>
                  <a:lnTo>
                    <a:pt x="5417" y="9400"/>
                  </a:lnTo>
                  <a:lnTo>
                    <a:pt x="5220" y="9400"/>
                  </a:lnTo>
                  <a:lnTo>
                    <a:pt x="4982" y="9315"/>
                  </a:lnTo>
                  <a:lnTo>
                    <a:pt x="4271" y="8859"/>
                  </a:lnTo>
                  <a:lnTo>
                    <a:pt x="3599" y="8375"/>
                  </a:lnTo>
                  <a:lnTo>
                    <a:pt x="2926" y="7862"/>
                  </a:lnTo>
                  <a:lnTo>
                    <a:pt x="2294" y="7349"/>
                  </a:lnTo>
                  <a:lnTo>
                    <a:pt x="1661" y="6780"/>
                  </a:lnTo>
                  <a:lnTo>
                    <a:pt x="1068" y="6238"/>
                  </a:lnTo>
                  <a:lnTo>
                    <a:pt x="475" y="5669"/>
                  </a:lnTo>
                  <a:lnTo>
                    <a:pt x="1" y="5128"/>
                  </a:lnTo>
                  <a:lnTo>
                    <a:pt x="356" y="4444"/>
                  </a:lnTo>
                  <a:lnTo>
                    <a:pt x="712" y="3846"/>
                  </a:lnTo>
                  <a:lnTo>
                    <a:pt x="1068" y="3248"/>
                  </a:lnTo>
                  <a:lnTo>
                    <a:pt x="1424" y="2649"/>
                  </a:lnTo>
                  <a:lnTo>
                    <a:pt x="1740" y="2023"/>
                  </a:lnTo>
                  <a:lnTo>
                    <a:pt x="2057" y="1396"/>
                  </a:lnTo>
                  <a:lnTo>
                    <a:pt x="2373" y="770"/>
                  </a:lnTo>
                  <a:lnTo>
                    <a:pt x="2689" y="171"/>
                  </a:lnTo>
                  <a:lnTo>
                    <a:pt x="3045" y="200"/>
                  </a:lnTo>
                  <a:lnTo>
                    <a:pt x="3480" y="285"/>
                  </a:lnTo>
                  <a:lnTo>
                    <a:pt x="3954" y="399"/>
                  </a:lnTo>
                  <a:lnTo>
                    <a:pt x="4468" y="513"/>
                  </a:lnTo>
                  <a:lnTo>
                    <a:pt x="4982" y="570"/>
                  </a:lnTo>
                  <a:lnTo>
                    <a:pt x="5496" y="570"/>
                  </a:lnTo>
                  <a:lnTo>
                    <a:pt x="5931" y="485"/>
                  </a:lnTo>
                  <a:lnTo>
                    <a:pt x="6406" y="342"/>
                  </a:lnTo>
                  <a:lnTo>
                    <a:pt x="6643" y="257"/>
                  </a:lnTo>
                  <a:lnTo>
                    <a:pt x="6959" y="285"/>
                  </a:lnTo>
                  <a:lnTo>
                    <a:pt x="7078" y="257"/>
                  </a:lnTo>
                  <a:lnTo>
                    <a:pt x="7197" y="228"/>
                  </a:lnTo>
                  <a:lnTo>
                    <a:pt x="7236" y="143"/>
                  </a:lnTo>
                  <a:lnTo>
                    <a:pt x="7276" y="1"/>
                  </a:lnTo>
                  <a:lnTo>
                    <a:pt x="7394" y="513"/>
                  </a:lnTo>
                  <a:lnTo>
                    <a:pt x="7632" y="1083"/>
                  </a:lnTo>
                  <a:lnTo>
                    <a:pt x="7869" y="1653"/>
                  </a:lnTo>
                  <a:lnTo>
                    <a:pt x="8264" y="2222"/>
                  </a:lnTo>
                  <a:lnTo>
                    <a:pt x="8660" y="2706"/>
                  </a:lnTo>
                  <a:lnTo>
                    <a:pt x="9174" y="3219"/>
                  </a:lnTo>
                  <a:lnTo>
                    <a:pt x="9727" y="3618"/>
                  </a:lnTo>
                  <a:lnTo>
                    <a:pt x="10399" y="3988"/>
                  </a:lnTo>
                  <a:close/>
                </a:path>
              </a:pathLst>
            </a:custGeom>
            <a:solidFill>
              <a:srgbClr val="d4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Shape 657"/>
            <p:cNvSpPr/>
            <p:nvPr/>
          </p:nvSpPr>
          <p:spPr>
            <a:xfrm>
              <a:off x="6946200" y="3749760"/>
              <a:ext cx="97920" cy="171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4983" h="6267">
                  <a:moveTo>
                    <a:pt x="4270" y="1140"/>
                  </a:moveTo>
                  <a:lnTo>
                    <a:pt x="4468" y="1681"/>
                  </a:lnTo>
                  <a:lnTo>
                    <a:pt x="4705" y="2279"/>
                  </a:lnTo>
                  <a:lnTo>
                    <a:pt x="4863" y="2877"/>
                  </a:lnTo>
                  <a:lnTo>
                    <a:pt x="4982" y="3475"/>
                  </a:lnTo>
                  <a:lnTo>
                    <a:pt x="4943" y="4045"/>
                  </a:lnTo>
                  <a:lnTo>
                    <a:pt x="4784" y="4615"/>
                  </a:lnTo>
                  <a:lnTo>
                    <a:pt x="4508" y="5099"/>
                  </a:lnTo>
                  <a:lnTo>
                    <a:pt x="4033" y="5583"/>
                  </a:lnTo>
                  <a:lnTo>
                    <a:pt x="3756" y="5612"/>
                  </a:lnTo>
                  <a:lnTo>
                    <a:pt x="3598" y="5726"/>
                  </a:lnTo>
                  <a:lnTo>
                    <a:pt x="3440" y="5868"/>
                  </a:lnTo>
                  <a:lnTo>
                    <a:pt x="3321" y="6039"/>
                  </a:lnTo>
                  <a:lnTo>
                    <a:pt x="3163" y="6181"/>
                  </a:lnTo>
                  <a:lnTo>
                    <a:pt x="3005" y="6267"/>
                  </a:lnTo>
                  <a:lnTo>
                    <a:pt x="2768" y="6267"/>
                  </a:lnTo>
                  <a:lnTo>
                    <a:pt x="2491" y="6210"/>
                  </a:lnTo>
                  <a:lnTo>
                    <a:pt x="2254" y="6010"/>
                  </a:lnTo>
                  <a:lnTo>
                    <a:pt x="2135" y="5811"/>
                  </a:lnTo>
                  <a:lnTo>
                    <a:pt x="2096" y="5583"/>
                  </a:lnTo>
                  <a:lnTo>
                    <a:pt x="2096" y="5355"/>
                  </a:lnTo>
                  <a:lnTo>
                    <a:pt x="2096" y="5099"/>
                  </a:lnTo>
                  <a:lnTo>
                    <a:pt x="2096" y="4900"/>
                  </a:lnTo>
                  <a:lnTo>
                    <a:pt x="2017" y="4700"/>
                  </a:lnTo>
                  <a:lnTo>
                    <a:pt x="1859" y="4529"/>
                  </a:lnTo>
                  <a:lnTo>
                    <a:pt x="1779" y="4074"/>
                  </a:lnTo>
                  <a:lnTo>
                    <a:pt x="1700" y="3618"/>
                  </a:lnTo>
                  <a:lnTo>
                    <a:pt x="1542" y="3162"/>
                  </a:lnTo>
                  <a:lnTo>
                    <a:pt x="1424" y="2706"/>
                  </a:lnTo>
                  <a:lnTo>
                    <a:pt x="1226" y="2222"/>
                  </a:lnTo>
                  <a:lnTo>
                    <a:pt x="1028" y="1795"/>
                  </a:lnTo>
                  <a:lnTo>
                    <a:pt x="751" y="1368"/>
                  </a:lnTo>
                  <a:lnTo>
                    <a:pt x="435" y="969"/>
                  </a:lnTo>
                  <a:lnTo>
                    <a:pt x="317" y="1140"/>
                  </a:lnTo>
                  <a:lnTo>
                    <a:pt x="79" y="912"/>
                  </a:lnTo>
                  <a:lnTo>
                    <a:pt x="0" y="713"/>
                  </a:lnTo>
                  <a:lnTo>
                    <a:pt x="79" y="456"/>
                  </a:lnTo>
                  <a:lnTo>
                    <a:pt x="317" y="285"/>
                  </a:lnTo>
                  <a:lnTo>
                    <a:pt x="870" y="86"/>
                  </a:lnTo>
                  <a:lnTo>
                    <a:pt x="1424" y="0"/>
                  </a:lnTo>
                  <a:lnTo>
                    <a:pt x="1938" y="0"/>
                  </a:lnTo>
                  <a:lnTo>
                    <a:pt x="2491" y="86"/>
                  </a:lnTo>
                  <a:lnTo>
                    <a:pt x="2966" y="200"/>
                  </a:lnTo>
                  <a:lnTo>
                    <a:pt x="3440" y="428"/>
                  </a:lnTo>
                  <a:lnTo>
                    <a:pt x="3875" y="741"/>
                  </a:lnTo>
                  <a:lnTo>
                    <a:pt x="427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0280" bIns="80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Shape 658"/>
            <p:cNvSpPr/>
            <p:nvPr/>
          </p:nvSpPr>
          <p:spPr>
            <a:xfrm>
              <a:off x="6978240" y="3776040"/>
              <a:ext cx="38880" cy="1072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978" h="3932">
                  <a:moveTo>
                    <a:pt x="1938" y="1909"/>
                  </a:moveTo>
                  <a:lnTo>
                    <a:pt x="1898" y="2137"/>
                  </a:lnTo>
                  <a:lnTo>
                    <a:pt x="1898" y="2394"/>
                  </a:lnTo>
                  <a:lnTo>
                    <a:pt x="1898" y="2650"/>
                  </a:lnTo>
                  <a:lnTo>
                    <a:pt x="1977" y="2935"/>
                  </a:lnTo>
                  <a:lnTo>
                    <a:pt x="1938" y="3191"/>
                  </a:lnTo>
                  <a:lnTo>
                    <a:pt x="1898" y="3447"/>
                  </a:lnTo>
                  <a:lnTo>
                    <a:pt x="1780" y="3675"/>
                  </a:lnTo>
                  <a:lnTo>
                    <a:pt x="1582" y="3932"/>
                  </a:lnTo>
                  <a:lnTo>
                    <a:pt x="1424" y="3390"/>
                  </a:lnTo>
                  <a:lnTo>
                    <a:pt x="1305" y="2878"/>
                  </a:lnTo>
                  <a:lnTo>
                    <a:pt x="1147" y="2365"/>
                  </a:lnTo>
                  <a:lnTo>
                    <a:pt x="1028" y="1881"/>
                  </a:lnTo>
                  <a:lnTo>
                    <a:pt x="791" y="1368"/>
                  </a:lnTo>
                  <a:lnTo>
                    <a:pt x="593" y="912"/>
                  </a:lnTo>
                  <a:lnTo>
                    <a:pt x="317" y="428"/>
                  </a:lnTo>
                  <a:lnTo>
                    <a:pt x="0" y="1"/>
                  </a:lnTo>
                  <a:lnTo>
                    <a:pt x="317" y="143"/>
                  </a:lnTo>
                  <a:lnTo>
                    <a:pt x="633" y="343"/>
                  </a:lnTo>
                  <a:lnTo>
                    <a:pt x="910" y="514"/>
                  </a:lnTo>
                  <a:lnTo>
                    <a:pt x="1226" y="770"/>
                  </a:lnTo>
                  <a:lnTo>
                    <a:pt x="1424" y="1026"/>
                  </a:lnTo>
                  <a:lnTo>
                    <a:pt x="1661" y="1283"/>
                  </a:lnTo>
                  <a:lnTo>
                    <a:pt x="1819" y="1568"/>
                  </a:lnTo>
                  <a:lnTo>
                    <a:pt x="1938" y="1909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Shape 659"/>
            <p:cNvSpPr/>
            <p:nvPr/>
          </p:nvSpPr>
          <p:spPr>
            <a:xfrm>
              <a:off x="6757920" y="3800160"/>
              <a:ext cx="174960" cy="4730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8898" h="17319">
                  <a:moveTo>
                    <a:pt x="8897" y="4444"/>
                  </a:moveTo>
                  <a:lnTo>
                    <a:pt x="8660" y="6011"/>
                  </a:lnTo>
                  <a:lnTo>
                    <a:pt x="8423" y="7606"/>
                  </a:lnTo>
                  <a:lnTo>
                    <a:pt x="8146" y="9201"/>
                  </a:lnTo>
                  <a:lnTo>
                    <a:pt x="7790" y="10768"/>
                  </a:lnTo>
                  <a:lnTo>
                    <a:pt x="7236" y="12277"/>
                  </a:lnTo>
                  <a:lnTo>
                    <a:pt x="6604" y="13787"/>
                  </a:lnTo>
                  <a:lnTo>
                    <a:pt x="5734" y="15211"/>
                  </a:lnTo>
                  <a:lnTo>
                    <a:pt x="4666" y="16607"/>
                  </a:lnTo>
                  <a:lnTo>
                    <a:pt x="4390" y="16749"/>
                  </a:lnTo>
                  <a:lnTo>
                    <a:pt x="4152" y="16891"/>
                  </a:lnTo>
                  <a:lnTo>
                    <a:pt x="3915" y="16977"/>
                  </a:lnTo>
                  <a:lnTo>
                    <a:pt x="3678" y="17091"/>
                  </a:lnTo>
                  <a:lnTo>
                    <a:pt x="3441" y="17119"/>
                  </a:lnTo>
                  <a:lnTo>
                    <a:pt x="3203" y="17205"/>
                  </a:lnTo>
                  <a:lnTo>
                    <a:pt x="2966" y="17233"/>
                  </a:lnTo>
                  <a:lnTo>
                    <a:pt x="2729" y="17319"/>
                  </a:lnTo>
                  <a:lnTo>
                    <a:pt x="2650" y="17148"/>
                  </a:lnTo>
                  <a:lnTo>
                    <a:pt x="2452" y="17148"/>
                  </a:lnTo>
                  <a:lnTo>
                    <a:pt x="2255" y="17176"/>
                  </a:lnTo>
                  <a:lnTo>
                    <a:pt x="2136" y="17148"/>
                  </a:lnTo>
                  <a:lnTo>
                    <a:pt x="1029" y="16009"/>
                  </a:lnTo>
                  <a:lnTo>
                    <a:pt x="396" y="14841"/>
                  </a:lnTo>
                  <a:lnTo>
                    <a:pt x="40" y="13616"/>
                  </a:lnTo>
                  <a:lnTo>
                    <a:pt x="1" y="12420"/>
                  </a:lnTo>
                  <a:lnTo>
                    <a:pt x="80" y="11138"/>
                  </a:lnTo>
                  <a:lnTo>
                    <a:pt x="278" y="9885"/>
                  </a:lnTo>
                  <a:lnTo>
                    <a:pt x="475" y="8574"/>
                  </a:lnTo>
                  <a:lnTo>
                    <a:pt x="673" y="7293"/>
                  </a:lnTo>
                  <a:lnTo>
                    <a:pt x="633" y="6751"/>
                  </a:lnTo>
                  <a:lnTo>
                    <a:pt x="713" y="6296"/>
                  </a:lnTo>
                  <a:lnTo>
                    <a:pt x="871" y="5840"/>
                  </a:lnTo>
                  <a:lnTo>
                    <a:pt x="1108" y="5413"/>
                  </a:lnTo>
                  <a:lnTo>
                    <a:pt x="1306" y="4985"/>
                  </a:lnTo>
                  <a:lnTo>
                    <a:pt x="1543" y="4558"/>
                  </a:lnTo>
                  <a:lnTo>
                    <a:pt x="1741" y="4103"/>
                  </a:lnTo>
                  <a:lnTo>
                    <a:pt x="1899" y="3647"/>
                  </a:lnTo>
                  <a:lnTo>
                    <a:pt x="2255" y="3476"/>
                  </a:lnTo>
                  <a:lnTo>
                    <a:pt x="2136" y="3390"/>
                  </a:lnTo>
                  <a:lnTo>
                    <a:pt x="2294" y="3049"/>
                  </a:lnTo>
                  <a:lnTo>
                    <a:pt x="2531" y="2735"/>
                  </a:lnTo>
                  <a:lnTo>
                    <a:pt x="2769" y="2422"/>
                  </a:lnTo>
                  <a:lnTo>
                    <a:pt x="3045" y="2166"/>
                  </a:lnTo>
                  <a:lnTo>
                    <a:pt x="3283" y="1881"/>
                  </a:lnTo>
                  <a:lnTo>
                    <a:pt x="3520" y="1596"/>
                  </a:lnTo>
                  <a:lnTo>
                    <a:pt x="3717" y="1311"/>
                  </a:lnTo>
                  <a:lnTo>
                    <a:pt x="3955" y="1026"/>
                  </a:lnTo>
                  <a:lnTo>
                    <a:pt x="4271" y="941"/>
                  </a:lnTo>
                  <a:lnTo>
                    <a:pt x="4469" y="770"/>
                  </a:lnTo>
                  <a:lnTo>
                    <a:pt x="4627" y="571"/>
                  </a:lnTo>
                  <a:lnTo>
                    <a:pt x="4904" y="428"/>
                  </a:lnTo>
                  <a:lnTo>
                    <a:pt x="5180" y="428"/>
                  </a:lnTo>
                  <a:lnTo>
                    <a:pt x="5457" y="343"/>
                  </a:lnTo>
                  <a:lnTo>
                    <a:pt x="5734" y="143"/>
                  </a:lnTo>
                  <a:lnTo>
                    <a:pt x="6011" y="1"/>
                  </a:lnTo>
                  <a:lnTo>
                    <a:pt x="6841" y="314"/>
                  </a:lnTo>
                  <a:lnTo>
                    <a:pt x="7474" y="770"/>
                  </a:lnTo>
                  <a:lnTo>
                    <a:pt x="7909" y="1283"/>
                  </a:lnTo>
                  <a:lnTo>
                    <a:pt x="8225" y="1881"/>
                  </a:lnTo>
                  <a:lnTo>
                    <a:pt x="8383" y="2479"/>
                  </a:lnTo>
                  <a:lnTo>
                    <a:pt x="8541" y="3134"/>
                  </a:lnTo>
                  <a:lnTo>
                    <a:pt x="8660" y="3789"/>
                  </a:lnTo>
                  <a:lnTo>
                    <a:pt x="8897" y="4444"/>
                  </a:lnTo>
                  <a:close/>
                </a:path>
              </a:pathLst>
            </a:custGeom>
            <a:solidFill>
              <a:srgbClr val="cc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Shape 660"/>
            <p:cNvSpPr/>
            <p:nvPr/>
          </p:nvSpPr>
          <p:spPr>
            <a:xfrm>
              <a:off x="5803920" y="3826080"/>
              <a:ext cx="285480" cy="1907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4512" h="69814">
                  <a:moveTo>
                    <a:pt x="10636" y="15838"/>
                  </a:moveTo>
                  <a:lnTo>
                    <a:pt x="10557" y="18401"/>
                  </a:lnTo>
                  <a:lnTo>
                    <a:pt x="10557" y="20965"/>
                  </a:lnTo>
                  <a:lnTo>
                    <a:pt x="10557" y="23500"/>
                  </a:lnTo>
                  <a:lnTo>
                    <a:pt x="10636" y="26063"/>
                  </a:lnTo>
                  <a:lnTo>
                    <a:pt x="10715" y="28570"/>
                  </a:lnTo>
                  <a:lnTo>
                    <a:pt x="10913" y="31105"/>
                  </a:lnTo>
                  <a:lnTo>
                    <a:pt x="11190" y="33611"/>
                  </a:lnTo>
                  <a:lnTo>
                    <a:pt x="11585" y="36118"/>
                  </a:lnTo>
                  <a:lnTo>
                    <a:pt x="11862" y="36118"/>
                  </a:lnTo>
                  <a:lnTo>
                    <a:pt x="11664" y="36602"/>
                  </a:lnTo>
                  <a:lnTo>
                    <a:pt x="11625" y="37086"/>
                  </a:lnTo>
                  <a:lnTo>
                    <a:pt x="11625" y="37542"/>
                  </a:lnTo>
                  <a:lnTo>
                    <a:pt x="11783" y="38026"/>
                  </a:lnTo>
                  <a:lnTo>
                    <a:pt x="11902" y="38482"/>
                  </a:lnTo>
                  <a:lnTo>
                    <a:pt x="12178" y="38937"/>
                  </a:lnTo>
                  <a:lnTo>
                    <a:pt x="12455" y="39336"/>
                  </a:lnTo>
                  <a:lnTo>
                    <a:pt x="12811" y="39764"/>
                  </a:lnTo>
                  <a:lnTo>
                    <a:pt x="12692" y="40077"/>
                  </a:lnTo>
                  <a:lnTo>
                    <a:pt x="12692" y="40390"/>
                  </a:lnTo>
                  <a:lnTo>
                    <a:pt x="12692" y="40703"/>
                  </a:lnTo>
                  <a:lnTo>
                    <a:pt x="12771" y="41017"/>
                  </a:lnTo>
                  <a:lnTo>
                    <a:pt x="12771" y="41330"/>
                  </a:lnTo>
                  <a:lnTo>
                    <a:pt x="12850" y="41672"/>
                  </a:lnTo>
                  <a:lnTo>
                    <a:pt x="12890" y="42014"/>
                  </a:lnTo>
                  <a:lnTo>
                    <a:pt x="12930" y="42384"/>
                  </a:lnTo>
                  <a:lnTo>
                    <a:pt x="13048" y="45745"/>
                  </a:lnTo>
                  <a:lnTo>
                    <a:pt x="13206" y="49106"/>
                  </a:lnTo>
                  <a:lnTo>
                    <a:pt x="13404" y="52439"/>
                  </a:lnTo>
                  <a:lnTo>
                    <a:pt x="13641" y="55771"/>
                  </a:lnTo>
                  <a:lnTo>
                    <a:pt x="13839" y="59075"/>
                  </a:lnTo>
                  <a:lnTo>
                    <a:pt x="14076" y="62379"/>
                  </a:lnTo>
                  <a:lnTo>
                    <a:pt x="14274" y="65712"/>
                  </a:lnTo>
                  <a:lnTo>
                    <a:pt x="14511" y="69101"/>
                  </a:lnTo>
                  <a:lnTo>
                    <a:pt x="13918" y="69272"/>
                  </a:lnTo>
                  <a:lnTo>
                    <a:pt x="13404" y="69443"/>
                  </a:lnTo>
                  <a:lnTo>
                    <a:pt x="12890" y="69585"/>
                  </a:lnTo>
                  <a:lnTo>
                    <a:pt x="12416" y="69728"/>
                  </a:lnTo>
                  <a:lnTo>
                    <a:pt x="11902" y="69785"/>
                  </a:lnTo>
                  <a:lnTo>
                    <a:pt x="11388" y="69813"/>
                  </a:lnTo>
                  <a:lnTo>
                    <a:pt x="10834" y="69728"/>
                  </a:lnTo>
                  <a:lnTo>
                    <a:pt x="10280" y="69614"/>
                  </a:lnTo>
                  <a:lnTo>
                    <a:pt x="9925" y="69671"/>
                  </a:lnTo>
                  <a:lnTo>
                    <a:pt x="9569" y="69699"/>
                  </a:lnTo>
                  <a:lnTo>
                    <a:pt x="9450" y="67848"/>
                  </a:lnTo>
                  <a:lnTo>
                    <a:pt x="9371" y="65997"/>
                  </a:lnTo>
                  <a:lnTo>
                    <a:pt x="9213" y="64117"/>
                  </a:lnTo>
                  <a:lnTo>
                    <a:pt x="9094" y="62237"/>
                  </a:lnTo>
                  <a:lnTo>
                    <a:pt x="8857" y="60328"/>
                  </a:lnTo>
                  <a:lnTo>
                    <a:pt x="8620" y="58477"/>
                  </a:lnTo>
                  <a:lnTo>
                    <a:pt x="8303" y="56654"/>
                  </a:lnTo>
                  <a:lnTo>
                    <a:pt x="7987" y="54917"/>
                  </a:lnTo>
                  <a:lnTo>
                    <a:pt x="7750" y="54746"/>
                  </a:lnTo>
                  <a:lnTo>
                    <a:pt x="7275" y="55144"/>
                  </a:lnTo>
                  <a:lnTo>
                    <a:pt x="7038" y="55600"/>
                  </a:lnTo>
                  <a:lnTo>
                    <a:pt x="6999" y="56084"/>
                  </a:lnTo>
                  <a:lnTo>
                    <a:pt x="7078" y="56597"/>
                  </a:lnTo>
                  <a:lnTo>
                    <a:pt x="7196" y="57081"/>
                  </a:lnTo>
                  <a:lnTo>
                    <a:pt x="7355" y="57623"/>
                  </a:lnTo>
                  <a:lnTo>
                    <a:pt x="7434" y="58164"/>
                  </a:lnTo>
                  <a:lnTo>
                    <a:pt x="7394" y="58733"/>
                  </a:lnTo>
                  <a:lnTo>
                    <a:pt x="7513" y="60044"/>
                  </a:lnTo>
                  <a:lnTo>
                    <a:pt x="7671" y="61411"/>
                  </a:lnTo>
                  <a:lnTo>
                    <a:pt x="7869" y="62721"/>
                  </a:lnTo>
                  <a:lnTo>
                    <a:pt x="8066" y="64088"/>
                  </a:lnTo>
                  <a:lnTo>
                    <a:pt x="8224" y="65427"/>
                  </a:lnTo>
                  <a:lnTo>
                    <a:pt x="8383" y="66794"/>
                  </a:lnTo>
                  <a:lnTo>
                    <a:pt x="8462" y="68161"/>
                  </a:lnTo>
                  <a:lnTo>
                    <a:pt x="8580" y="69614"/>
                  </a:lnTo>
                  <a:lnTo>
                    <a:pt x="8343" y="69529"/>
                  </a:lnTo>
                  <a:lnTo>
                    <a:pt x="8145" y="69472"/>
                  </a:lnTo>
                  <a:lnTo>
                    <a:pt x="7948" y="69415"/>
                  </a:lnTo>
                  <a:lnTo>
                    <a:pt x="7750" y="69386"/>
                  </a:lnTo>
                  <a:lnTo>
                    <a:pt x="7355" y="69244"/>
                  </a:lnTo>
                  <a:lnTo>
                    <a:pt x="7117" y="69101"/>
                  </a:lnTo>
                  <a:lnTo>
                    <a:pt x="6841" y="69073"/>
                  </a:lnTo>
                  <a:lnTo>
                    <a:pt x="6564" y="68987"/>
                  </a:lnTo>
                  <a:lnTo>
                    <a:pt x="6287" y="68845"/>
                  </a:lnTo>
                  <a:lnTo>
                    <a:pt x="6050" y="68759"/>
                  </a:lnTo>
                  <a:lnTo>
                    <a:pt x="5852" y="65854"/>
                  </a:lnTo>
                  <a:lnTo>
                    <a:pt x="5694" y="62977"/>
                  </a:lnTo>
                  <a:lnTo>
                    <a:pt x="5457" y="60044"/>
                  </a:lnTo>
                  <a:lnTo>
                    <a:pt x="5219" y="57138"/>
                  </a:lnTo>
                  <a:lnTo>
                    <a:pt x="4903" y="54205"/>
                  </a:lnTo>
                  <a:lnTo>
                    <a:pt x="4626" y="51299"/>
                  </a:lnTo>
                  <a:lnTo>
                    <a:pt x="4310" y="48394"/>
                  </a:lnTo>
                  <a:lnTo>
                    <a:pt x="3994" y="45603"/>
                  </a:lnTo>
                  <a:lnTo>
                    <a:pt x="4231" y="43068"/>
                  </a:lnTo>
                  <a:lnTo>
                    <a:pt x="4745" y="43011"/>
                  </a:lnTo>
                  <a:lnTo>
                    <a:pt x="5338" y="42982"/>
                  </a:lnTo>
                  <a:lnTo>
                    <a:pt x="5931" y="42897"/>
                  </a:lnTo>
                  <a:lnTo>
                    <a:pt x="6524" y="42811"/>
                  </a:lnTo>
                  <a:lnTo>
                    <a:pt x="7078" y="42640"/>
                  </a:lnTo>
                  <a:lnTo>
                    <a:pt x="7631" y="42412"/>
                  </a:lnTo>
                  <a:lnTo>
                    <a:pt x="8106" y="42128"/>
                  </a:lnTo>
                  <a:lnTo>
                    <a:pt x="8580" y="41786"/>
                  </a:lnTo>
                  <a:lnTo>
                    <a:pt x="8699" y="41529"/>
                  </a:lnTo>
                  <a:lnTo>
                    <a:pt x="8817" y="41302"/>
                  </a:lnTo>
                  <a:lnTo>
                    <a:pt x="8897" y="41045"/>
                  </a:lnTo>
                  <a:lnTo>
                    <a:pt x="8976" y="40817"/>
                  </a:lnTo>
                  <a:lnTo>
                    <a:pt x="8936" y="40533"/>
                  </a:lnTo>
                  <a:lnTo>
                    <a:pt x="8936" y="40276"/>
                  </a:lnTo>
                  <a:lnTo>
                    <a:pt x="8817" y="40020"/>
                  </a:lnTo>
                  <a:lnTo>
                    <a:pt x="8699" y="39849"/>
                  </a:lnTo>
                  <a:lnTo>
                    <a:pt x="8620" y="39650"/>
                  </a:lnTo>
                  <a:lnTo>
                    <a:pt x="8541" y="39479"/>
                  </a:lnTo>
                  <a:lnTo>
                    <a:pt x="8422" y="39336"/>
                  </a:lnTo>
                  <a:lnTo>
                    <a:pt x="8343" y="39194"/>
                  </a:lnTo>
                  <a:lnTo>
                    <a:pt x="8066" y="38909"/>
                  </a:lnTo>
                  <a:lnTo>
                    <a:pt x="7750" y="38653"/>
                  </a:lnTo>
                  <a:lnTo>
                    <a:pt x="7987" y="38482"/>
                  </a:lnTo>
                  <a:lnTo>
                    <a:pt x="8264" y="38311"/>
                  </a:lnTo>
                  <a:lnTo>
                    <a:pt x="8501" y="38111"/>
                  </a:lnTo>
                  <a:lnTo>
                    <a:pt x="8738" y="37912"/>
                  </a:lnTo>
                  <a:lnTo>
                    <a:pt x="8897" y="37656"/>
                  </a:lnTo>
                  <a:lnTo>
                    <a:pt x="9055" y="37428"/>
                  </a:lnTo>
                  <a:lnTo>
                    <a:pt x="9173" y="37172"/>
                  </a:lnTo>
                  <a:lnTo>
                    <a:pt x="9292" y="36915"/>
                  </a:lnTo>
                  <a:lnTo>
                    <a:pt x="9094" y="36602"/>
                  </a:lnTo>
                  <a:lnTo>
                    <a:pt x="9055" y="36346"/>
                  </a:lnTo>
                  <a:lnTo>
                    <a:pt x="8976" y="36089"/>
                  </a:lnTo>
                  <a:lnTo>
                    <a:pt x="8699" y="35947"/>
                  </a:lnTo>
                  <a:lnTo>
                    <a:pt x="8580" y="35776"/>
                  </a:lnTo>
                  <a:lnTo>
                    <a:pt x="8462" y="35633"/>
                  </a:lnTo>
                  <a:lnTo>
                    <a:pt x="8303" y="35491"/>
                  </a:lnTo>
                  <a:lnTo>
                    <a:pt x="8185" y="35349"/>
                  </a:lnTo>
                  <a:lnTo>
                    <a:pt x="7829" y="35064"/>
                  </a:lnTo>
                  <a:lnTo>
                    <a:pt x="7513" y="34893"/>
                  </a:lnTo>
                  <a:lnTo>
                    <a:pt x="7078" y="34836"/>
                  </a:lnTo>
                  <a:lnTo>
                    <a:pt x="6643" y="34807"/>
                  </a:lnTo>
                  <a:lnTo>
                    <a:pt x="6208" y="34807"/>
                  </a:lnTo>
                  <a:lnTo>
                    <a:pt x="5813" y="34807"/>
                  </a:lnTo>
                  <a:lnTo>
                    <a:pt x="5338" y="34807"/>
                  </a:lnTo>
                  <a:lnTo>
                    <a:pt x="4943" y="34807"/>
                  </a:lnTo>
                  <a:lnTo>
                    <a:pt x="4508" y="34836"/>
                  </a:lnTo>
                  <a:lnTo>
                    <a:pt x="4112" y="34893"/>
                  </a:lnTo>
                  <a:lnTo>
                    <a:pt x="4073" y="33212"/>
                  </a:lnTo>
                  <a:lnTo>
                    <a:pt x="4033" y="31560"/>
                  </a:lnTo>
                  <a:lnTo>
                    <a:pt x="3915" y="29937"/>
                  </a:lnTo>
                  <a:lnTo>
                    <a:pt x="3796" y="28313"/>
                  </a:lnTo>
                  <a:lnTo>
                    <a:pt x="3559" y="26690"/>
                  </a:lnTo>
                  <a:lnTo>
                    <a:pt x="3322" y="25066"/>
                  </a:lnTo>
                  <a:lnTo>
                    <a:pt x="2966" y="23471"/>
                  </a:lnTo>
                  <a:lnTo>
                    <a:pt x="2531" y="21933"/>
                  </a:lnTo>
                  <a:lnTo>
                    <a:pt x="2531" y="21705"/>
                  </a:lnTo>
                  <a:lnTo>
                    <a:pt x="2531" y="21534"/>
                  </a:lnTo>
                  <a:lnTo>
                    <a:pt x="2452" y="21306"/>
                  </a:lnTo>
                  <a:lnTo>
                    <a:pt x="2412" y="21135"/>
                  </a:lnTo>
                  <a:lnTo>
                    <a:pt x="2294" y="20936"/>
                  </a:lnTo>
                  <a:lnTo>
                    <a:pt x="2254" y="20765"/>
                  </a:lnTo>
                  <a:lnTo>
                    <a:pt x="2215" y="20594"/>
                  </a:lnTo>
                  <a:lnTo>
                    <a:pt x="2294" y="20452"/>
                  </a:lnTo>
                  <a:lnTo>
                    <a:pt x="2056" y="17974"/>
                  </a:lnTo>
                  <a:lnTo>
                    <a:pt x="1859" y="15553"/>
                  </a:lnTo>
                  <a:lnTo>
                    <a:pt x="1582" y="13132"/>
                  </a:lnTo>
                  <a:lnTo>
                    <a:pt x="1305" y="10739"/>
                  </a:lnTo>
                  <a:lnTo>
                    <a:pt x="989" y="8346"/>
                  </a:lnTo>
                  <a:lnTo>
                    <a:pt x="673" y="6011"/>
                  </a:lnTo>
                  <a:lnTo>
                    <a:pt x="317" y="3704"/>
                  </a:lnTo>
                  <a:lnTo>
                    <a:pt x="0" y="1482"/>
                  </a:lnTo>
                  <a:lnTo>
                    <a:pt x="554" y="1995"/>
                  </a:lnTo>
                  <a:lnTo>
                    <a:pt x="1226" y="2536"/>
                  </a:lnTo>
                  <a:lnTo>
                    <a:pt x="1898" y="3020"/>
                  </a:lnTo>
                  <a:lnTo>
                    <a:pt x="2570" y="3533"/>
                  </a:lnTo>
                  <a:lnTo>
                    <a:pt x="3203" y="4045"/>
                  </a:lnTo>
                  <a:lnTo>
                    <a:pt x="3836" y="4587"/>
                  </a:lnTo>
                  <a:lnTo>
                    <a:pt x="4389" y="5128"/>
                  </a:lnTo>
                  <a:lnTo>
                    <a:pt x="4824" y="5754"/>
                  </a:lnTo>
                  <a:lnTo>
                    <a:pt x="5022" y="7862"/>
                  </a:lnTo>
                  <a:lnTo>
                    <a:pt x="5140" y="10141"/>
                  </a:lnTo>
                  <a:lnTo>
                    <a:pt x="5140" y="12420"/>
                  </a:lnTo>
                  <a:lnTo>
                    <a:pt x="5140" y="14784"/>
                  </a:lnTo>
                  <a:lnTo>
                    <a:pt x="5140" y="17062"/>
                  </a:lnTo>
                  <a:lnTo>
                    <a:pt x="5180" y="19341"/>
                  </a:lnTo>
                  <a:lnTo>
                    <a:pt x="5338" y="21534"/>
                  </a:lnTo>
                  <a:lnTo>
                    <a:pt x="5694" y="23585"/>
                  </a:lnTo>
                  <a:lnTo>
                    <a:pt x="6050" y="23841"/>
                  </a:lnTo>
                  <a:lnTo>
                    <a:pt x="6129" y="23528"/>
                  </a:lnTo>
                  <a:lnTo>
                    <a:pt x="6168" y="23215"/>
                  </a:lnTo>
                  <a:lnTo>
                    <a:pt x="6129" y="22901"/>
                  </a:lnTo>
                  <a:lnTo>
                    <a:pt x="6089" y="22617"/>
                  </a:lnTo>
                  <a:lnTo>
                    <a:pt x="5971" y="22303"/>
                  </a:lnTo>
                  <a:lnTo>
                    <a:pt x="5931" y="22018"/>
                  </a:lnTo>
                  <a:lnTo>
                    <a:pt x="5931" y="21762"/>
                  </a:lnTo>
                  <a:lnTo>
                    <a:pt x="6050" y="21506"/>
                  </a:lnTo>
                  <a:lnTo>
                    <a:pt x="6406" y="21335"/>
                  </a:lnTo>
                  <a:lnTo>
                    <a:pt x="6247" y="19199"/>
                  </a:lnTo>
                  <a:lnTo>
                    <a:pt x="6247" y="17148"/>
                  </a:lnTo>
                  <a:lnTo>
                    <a:pt x="6247" y="15125"/>
                  </a:lnTo>
                  <a:lnTo>
                    <a:pt x="6327" y="13160"/>
                  </a:lnTo>
                  <a:lnTo>
                    <a:pt x="6327" y="11166"/>
                  </a:lnTo>
                  <a:lnTo>
                    <a:pt x="6366" y="9172"/>
                  </a:lnTo>
                  <a:lnTo>
                    <a:pt x="6327" y="7122"/>
                  </a:lnTo>
                  <a:lnTo>
                    <a:pt x="6287" y="5071"/>
                  </a:lnTo>
                  <a:lnTo>
                    <a:pt x="6485" y="5128"/>
                  </a:lnTo>
                  <a:lnTo>
                    <a:pt x="6682" y="5014"/>
                  </a:lnTo>
                  <a:lnTo>
                    <a:pt x="6841" y="4871"/>
                  </a:lnTo>
                  <a:lnTo>
                    <a:pt x="7117" y="4871"/>
                  </a:lnTo>
                  <a:lnTo>
                    <a:pt x="7710" y="4330"/>
                  </a:lnTo>
                  <a:lnTo>
                    <a:pt x="8303" y="3789"/>
                  </a:lnTo>
                  <a:lnTo>
                    <a:pt x="8897" y="3219"/>
                  </a:lnTo>
                  <a:lnTo>
                    <a:pt x="9529" y="2650"/>
                  </a:lnTo>
                  <a:lnTo>
                    <a:pt x="10043" y="1995"/>
                  </a:lnTo>
                  <a:lnTo>
                    <a:pt x="10597" y="1368"/>
                  </a:lnTo>
                  <a:lnTo>
                    <a:pt x="11032" y="684"/>
                  </a:lnTo>
                  <a:lnTo>
                    <a:pt x="11467" y="1"/>
                  </a:lnTo>
                  <a:lnTo>
                    <a:pt x="11388" y="1938"/>
                  </a:lnTo>
                  <a:lnTo>
                    <a:pt x="11348" y="3932"/>
                  </a:lnTo>
                  <a:lnTo>
                    <a:pt x="11269" y="5954"/>
                  </a:lnTo>
                  <a:lnTo>
                    <a:pt x="11229" y="7976"/>
                  </a:lnTo>
                  <a:lnTo>
                    <a:pt x="11111" y="9970"/>
                  </a:lnTo>
                  <a:lnTo>
                    <a:pt x="10992" y="11992"/>
                  </a:lnTo>
                  <a:lnTo>
                    <a:pt x="10794" y="13929"/>
                  </a:lnTo>
                  <a:lnTo>
                    <a:pt x="10636" y="15838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Shape 661"/>
            <p:cNvSpPr/>
            <p:nvPr/>
          </p:nvSpPr>
          <p:spPr>
            <a:xfrm>
              <a:off x="6648120" y="3826080"/>
              <a:ext cx="38880" cy="1000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78" h="3676">
                  <a:moveTo>
                    <a:pt x="1424" y="3675"/>
                  </a:moveTo>
                  <a:lnTo>
                    <a:pt x="1068" y="3476"/>
                  </a:lnTo>
                  <a:lnTo>
                    <a:pt x="713" y="3390"/>
                  </a:lnTo>
                  <a:lnTo>
                    <a:pt x="278" y="3305"/>
                  </a:lnTo>
                  <a:lnTo>
                    <a:pt x="1" y="3134"/>
                  </a:lnTo>
                  <a:lnTo>
                    <a:pt x="159" y="2707"/>
                  </a:lnTo>
                  <a:lnTo>
                    <a:pt x="317" y="2280"/>
                  </a:lnTo>
                  <a:lnTo>
                    <a:pt x="436" y="1852"/>
                  </a:lnTo>
                  <a:lnTo>
                    <a:pt x="673" y="1425"/>
                  </a:lnTo>
                  <a:lnTo>
                    <a:pt x="871" y="998"/>
                  </a:lnTo>
                  <a:lnTo>
                    <a:pt x="1147" y="656"/>
                  </a:lnTo>
                  <a:lnTo>
                    <a:pt x="1464" y="286"/>
                  </a:lnTo>
                  <a:lnTo>
                    <a:pt x="1899" y="1"/>
                  </a:lnTo>
                  <a:lnTo>
                    <a:pt x="1938" y="428"/>
                  </a:lnTo>
                  <a:lnTo>
                    <a:pt x="1978" y="884"/>
                  </a:lnTo>
                  <a:lnTo>
                    <a:pt x="1978" y="1368"/>
                  </a:lnTo>
                  <a:lnTo>
                    <a:pt x="1978" y="1852"/>
                  </a:lnTo>
                  <a:lnTo>
                    <a:pt x="1859" y="2308"/>
                  </a:lnTo>
                  <a:lnTo>
                    <a:pt x="1780" y="2792"/>
                  </a:lnTo>
                  <a:lnTo>
                    <a:pt x="1622" y="3219"/>
                  </a:lnTo>
                  <a:lnTo>
                    <a:pt x="1424" y="3675"/>
                  </a:lnTo>
                  <a:close/>
                </a:path>
              </a:pathLst>
            </a:custGeom>
            <a:solidFill>
              <a:srgbClr val="cc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360" bIns="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Shape 662"/>
            <p:cNvSpPr/>
            <p:nvPr/>
          </p:nvSpPr>
          <p:spPr>
            <a:xfrm>
              <a:off x="7418520" y="3909240"/>
              <a:ext cx="296280" cy="2782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5065" h="10198">
                  <a:moveTo>
                    <a:pt x="9134" y="884"/>
                  </a:moveTo>
                  <a:lnTo>
                    <a:pt x="9410" y="827"/>
                  </a:lnTo>
                  <a:lnTo>
                    <a:pt x="9687" y="741"/>
                  </a:lnTo>
                  <a:lnTo>
                    <a:pt x="9885" y="713"/>
                  </a:lnTo>
                  <a:lnTo>
                    <a:pt x="10122" y="884"/>
                  </a:lnTo>
                  <a:lnTo>
                    <a:pt x="10359" y="798"/>
                  </a:lnTo>
                  <a:lnTo>
                    <a:pt x="11071" y="1539"/>
                  </a:lnTo>
                  <a:lnTo>
                    <a:pt x="11822" y="2365"/>
                  </a:lnTo>
                  <a:lnTo>
                    <a:pt x="12534" y="3191"/>
                  </a:lnTo>
                  <a:lnTo>
                    <a:pt x="13206" y="4074"/>
                  </a:lnTo>
                  <a:lnTo>
                    <a:pt x="13760" y="4957"/>
                  </a:lnTo>
                  <a:lnTo>
                    <a:pt x="14313" y="5897"/>
                  </a:lnTo>
                  <a:lnTo>
                    <a:pt x="14709" y="6837"/>
                  </a:lnTo>
                  <a:lnTo>
                    <a:pt x="15064" y="7833"/>
                  </a:lnTo>
                  <a:lnTo>
                    <a:pt x="14906" y="8118"/>
                  </a:lnTo>
                  <a:lnTo>
                    <a:pt x="14906" y="8403"/>
                  </a:lnTo>
                  <a:lnTo>
                    <a:pt x="14906" y="8688"/>
                  </a:lnTo>
                  <a:lnTo>
                    <a:pt x="14946" y="9001"/>
                  </a:lnTo>
                  <a:lnTo>
                    <a:pt x="14906" y="9286"/>
                  </a:lnTo>
                  <a:lnTo>
                    <a:pt x="14827" y="9599"/>
                  </a:lnTo>
                  <a:lnTo>
                    <a:pt x="14709" y="9884"/>
                  </a:lnTo>
                  <a:lnTo>
                    <a:pt x="14471" y="10198"/>
                  </a:lnTo>
                  <a:lnTo>
                    <a:pt x="13720" y="9457"/>
                  </a:lnTo>
                  <a:lnTo>
                    <a:pt x="12969" y="8859"/>
                  </a:lnTo>
                  <a:lnTo>
                    <a:pt x="12139" y="8403"/>
                  </a:lnTo>
                  <a:lnTo>
                    <a:pt x="11348" y="8061"/>
                  </a:lnTo>
                  <a:lnTo>
                    <a:pt x="10478" y="7805"/>
                  </a:lnTo>
                  <a:lnTo>
                    <a:pt x="9529" y="7634"/>
                  </a:lnTo>
                  <a:lnTo>
                    <a:pt x="8541" y="7549"/>
                  </a:lnTo>
                  <a:lnTo>
                    <a:pt x="7473" y="7577"/>
                  </a:lnTo>
                  <a:lnTo>
                    <a:pt x="6959" y="7577"/>
                  </a:lnTo>
                  <a:lnTo>
                    <a:pt x="6485" y="7634"/>
                  </a:lnTo>
                  <a:lnTo>
                    <a:pt x="6010" y="7691"/>
                  </a:lnTo>
                  <a:lnTo>
                    <a:pt x="5536" y="7777"/>
                  </a:lnTo>
                  <a:lnTo>
                    <a:pt x="5022" y="7833"/>
                  </a:lnTo>
                  <a:lnTo>
                    <a:pt x="4508" y="7919"/>
                  </a:lnTo>
                  <a:lnTo>
                    <a:pt x="3994" y="8033"/>
                  </a:lnTo>
                  <a:lnTo>
                    <a:pt x="3480" y="8175"/>
                  </a:lnTo>
                  <a:lnTo>
                    <a:pt x="3242" y="8261"/>
                  </a:lnTo>
                  <a:lnTo>
                    <a:pt x="3045" y="8403"/>
                  </a:lnTo>
                  <a:lnTo>
                    <a:pt x="2768" y="8546"/>
                  </a:lnTo>
                  <a:lnTo>
                    <a:pt x="2531" y="8688"/>
                  </a:lnTo>
                  <a:lnTo>
                    <a:pt x="2214" y="8830"/>
                  </a:lnTo>
                  <a:lnTo>
                    <a:pt x="1977" y="8973"/>
                  </a:lnTo>
                  <a:lnTo>
                    <a:pt x="1661" y="9087"/>
                  </a:lnTo>
                  <a:lnTo>
                    <a:pt x="1424" y="9229"/>
                  </a:lnTo>
                  <a:lnTo>
                    <a:pt x="1147" y="8546"/>
                  </a:lnTo>
                  <a:lnTo>
                    <a:pt x="910" y="7947"/>
                  </a:lnTo>
                  <a:lnTo>
                    <a:pt x="633" y="7321"/>
                  </a:lnTo>
                  <a:lnTo>
                    <a:pt x="435" y="6723"/>
                  </a:lnTo>
                  <a:lnTo>
                    <a:pt x="198" y="6068"/>
                  </a:lnTo>
                  <a:lnTo>
                    <a:pt x="79" y="5441"/>
                  </a:lnTo>
                  <a:lnTo>
                    <a:pt x="0" y="4757"/>
                  </a:lnTo>
                  <a:lnTo>
                    <a:pt x="79" y="4102"/>
                  </a:lnTo>
                  <a:lnTo>
                    <a:pt x="356" y="3846"/>
                  </a:lnTo>
                  <a:lnTo>
                    <a:pt x="672" y="3646"/>
                  </a:lnTo>
                  <a:lnTo>
                    <a:pt x="791" y="3532"/>
                  </a:lnTo>
                  <a:lnTo>
                    <a:pt x="989" y="3476"/>
                  </a:lnTo>
                  <a:lnTo>
                    <a:pt x="1186" y="3390"/>
                  </a:lnTo>
                  <a:lnTo>
                    <a:pt x="1424" y="3390"/>
                  </a:lnTo>
                  <a:lnTo>
                    <a:pt x="1186" y="3305"/>
                  </a:lnTo>
                  <a:lnTo>
                    <a:pt x="1819" y="2934"/>
                  </a:lnTo>
                  <a:lnTo>
                    <a:pt x="2610" y="2621"/>
                  </a:lnTo>
                  <a:lnTo>
                    <a:pt x="3440" y="2365"/>
                  </a:lnTo>
                  <a:lnTo>
                    <a:pt x="4310" y="2108"/>
                  </a:lnTo>
                  <a:lnTo>
                    <a:pt x="5101" y="1823"/>
                  </a:lnTo>
                  <a:lnTo>
                    <a:pt x="5931" y="1539"/>
                  </a:lnTo>
                  <a:lnTo>
                    <a:pt x="6682" y="1197"/>
                  </a:lnTo>
                  <a:lnTo>
                    <a:pt x="7354" y="798"/>
                  </a:lnTo>
                  <a:lnTo>
                    <a:pt x="6999" y="86"/>
                  </a:lnTo>
                  <a:lnTo>
                    <a:pt x="7315" y="1"/>
                  </a:lnTo>
                  <a:lnTo>
                    <a:pt x="7592" y="58"/>
                  </a:lnTo>
                  <a:lnTo>
                    <a:pt x="7829" y="171"/>
                  </a:lnTo>
                  <a:lnTo>
                    <a:pt x="8066" y="371"/>
                  </a:lnTo>
                  <a:lnTo>
                    <a:pt x="8224" y="542"/>
                  </a:lnTo>
                  <a:lnTo>
                    <a:pt x="8461" y="713"/>
                  </a:lnTo>
                  <a:lnTo>
                    <a:pt x="8738" y="827"/>
                  </a:lnTo>
                  <a:lnTo>
                    <a:pt x="9134" y="884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Shape 663"/>
            <p:cNvSpPr/>
            <p:nvPr/>
          </p:nvSpPr>
          <p:spPr>
            <a:xfrm>
              <a:off x="6716520" y="3930840"/>
              <a:ext cx="9000" cy="162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75" h="599">
                  <a:moveTo>
                    <a:pt x="0" y="598"/>
                  </a:moveTo>
                  <a:lnTo>
                    <a:pt x="475" y="0"/>
                  </a:lnTo>
                  <a:lnTo>
                    <a:pt x="475" y="598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4520" bIns="-74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Shape 664"/>
            <p:cNvSpPr/>
            <p:nvPr/>
          </p:nvSpPr>
          <p:spPr>
            <a:xfrm>
              <a:off x="6448320" y="3933360"/>
              <a:ext cx="1250640" cy="10908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63540" h="39935">
                  <a:moveTo>
                    <a:pt x="8462" y="1"/>
                  </a:moveTo>
                  <a:lnTo>
                    <a:pt x="8738" y="86"/>
                  </a:lnTo>
                  <a:lnTo>
                    <a:pt x="9094" y="171"/>
                  </a:lnTo>
                  <a:lnTo>
                    <a:pt x="9450" y="200"/>
                  </a:lnTo>
                  <a:lnTo>
                    <a:pt x="9846" y="257"/>
                  </a:lnTo>
                  <a:lnTo>
                    <a:pt x="10201" y="285"/>
                  </a:lnTo>
                  <a:lnTo>
                    <a:pt x="10597" y="371"/>
                  </a:lnTo>
                  <a:lnTo>
                    <a:pt x="10953" y="485"/>
                  </a:lnTo>
                  <a:lnTo>
                    <a:pt x="11348" y="684"/>
                  </a:lnTo>
                  <a:lnTo>
                    <a:pt x="11822" y="855"/>
                  </a:lnTo>
                  <a:lnTo>
                    <a:pt x="12336" y="1083"/>
                  </a:lnTo>
                  <a:lnTo>
                    <a:pt x="12771" y="1311"/>
                  </a:lnTo>
                  <a:lnTo>
                    <a:pt x="13206" y="1624"/>
                  </a:lnTo>
                  <a:lnTo>
                    <a:pt x="13562" y="1909"/>
                  </a:lnTo>
                  <a:lnTo>
                    <a:pt x="13839" y="2279"/>
                  </a:lnTo>
                  <a:lnTo>
                    <a:pt x="14037" y="2621"/>
                  </a:lnTo>
                  <a:lnTo>
                    <a:pt x="14116" y="3048"/>
                  </a:lnTo>
                  <a:lnTo>
                    <a:pt x="14234" y="3191"/>
                  </a:lnTo>
                  <a:lnTo>
                    <a:pt x="14353" y="3362"/>
                  </a:lnTo>
                  <a:lnTo>
                    <a:pt x="14353" y="3561"/>
                  </a:lnTo>
                  <a:lnTo>
                    <a:pt x="14393" y="3789"/>
                  </a:lnTo>
                  <a:lnTo>
                    <a:pt x="14353" y="3988"/>
                  </a:lnTo>
                  <a:lnTo>
                    <a:pt x="14313" y="4216"/>
                  </a:lnTo>
                  <a:lnTo>
                    <a:pt x="14274" y="4444"/>
                  </a:lnTo>
                  <a:lnTo>
                    <a:pt x="14234" y="4700"/>
                  </a:lnTo>
                  <a:lnTo>
                    <a:pt x="14116" y="5811"/>
                  </a:lnTo>
                  <a:lnTo>
                    <a:pt x="14037" y="7036"/>
                  </a:lnTo>
                  <a:lnTo>
                    <a:pt x="13997" y="8232"/>
                  </a:lnTo>
                  <a:lnTo>
                    <a:pt x="14155" y="9457"/>
                  </a:lnTo>
                  <a:lnTo>
                    <a:pt x="14432" y="10596"/>
                  </a:lnTo>
                  <a:lnTo>
                    <a:pt x="15025" y="11679"/>
                  </a:lnTo>
                  <a:lnTo>
                    <a:pt x="15895" y="12676"/>
                  </a:lnTo>
                  <a:lnTo>
                    <a:pt x="17160" y="13559"/>
                  </a:lnTo>
                  <a:lnTo>
                    <a:pt x="17358" y="13559"/>
                  </a:lnTo>
                  <a:lnTo>
                    <a:pt x="17674" y="13616"/>
                  </a:lnTo>
                  <a:lnTo>
                    <a:pt x="17991" y="13673"/>
                  </a:lnTo>
                  <a:lnTo>
                    <a:pt x="18346" y="13729"/>
                  </a:lnTo>
                  <a:lnTo>
                    <a:pt x="18663" y="13729"/>
                  </a:lnTo>
                  <a:lnTo>
                    <a:pt x="19019" y="13758"/>
                  </a:lnTo>
                  <a:lnTo>
                    <a:pt x="19295" y="13729"/>
                  </a:lnTo>
                  <a:lnTo>
                    <a:pt x="19572" y="13644"/>
                  </a:lnTo>
                  <a:lnTo>
                    <a:pt x="19928" y="13473"/>
                  </a:lnTo>
                  <a:lnTo>
                    <a:pt x="20244" y="13331"/>
                  </a:lnTo>
                  <a:lnTo>
                    <a:pt x="20363" y="13245"/>
                  </a:lnTo>
                  <a:lnTo>
                    <a:pt x="20561" y="13188"/>
                  </a:lnTo>
                  <a:lnTo>
                    <a:pt x="20758" y="13188"/>
                  </a:lnTo>
                  <a:lnTo>
                    <a:pt x="21035" y="13217"/>
                  </a:lnTo>
                  <a:lnTo>
                    <a:pt x="21905" y="12391"/>
                  </a:lnTo>
                  <a:lnTo>
                    <a:pt x="22735" y="11508"/>
                  </a:lnTo>
                  <a:lnTo>
                    <a:pt x="23368" y="10568"/>
                  </a:lnTo>
                  <a:lnTo>
                    <a:pt x="23961" y="9571"/>
                  </a:lnTo>
                  <a:lnTo>
                    <a:pt x="24396" y="8517"/>
                  </a:lnTo>
                  <a:lnTo>
                    <a:pt x="24791" y="7492"/>
                  </a:lnTo>
                  <a:lnTo>
                    <a:pt x="25107" y="6466"/>
                  </a:lnTo>
                  <a:lnTo>
                    <a:pt x="25384" y="5469"/>
                  </a:lnTo>
                  <a:lnTo>
                    <a:pt x="25661" y="5498"/>
                  </a:lnTo>
                  <a:lnTo>
                    <a:pt x="25977" y="5555"/>
                  </a:lnTo>
                  <a:lnTo>
                    <a:pt x="26294" y="5612"/>
                  </a:lnTo>
                  <a:lnTo>
                    <a:pt x="26610" y="5669"/>
                  </a:lnTo>
                  <a:lnTo>
                    <a:pt x="26926" y="5697"/>
                  </a:lnTo>
                  <a:lnTo>
                    <a:pt x="27243" y="5726"/>
                  </a:lnTo>
                  <a:lnTo>
                    <a:pt x="27559" y="5754"/>
                  </a:lnTo>
                  <a:lnTo>
                    <a:pt x="27915" y="5811"/>
                  </a:lnTo>
                  <a:lnTo>
                    <a:pt x="28112" y="5897"/>
                  </a:lnTo>
                  <a:lnTo>
                    <a:pt x="28350" y="5982"/>
                  </a:lnTo>
                  <a:lnTo>
                    <a:pt x="28626" y="6039"/>
                  </a:lnTo>
                  <a:lnTo>
                    <a:pt x="28903" y="6124"/>
                  </a:lnTo>
                  <a:lnTo>
                    <a:pt x="29140" y="6153"/>
                  </a:lnTo>
                  <a:lnTo>
                    <a:pt x="29378" y="6210"/>
                  </a:lnTo>
                  <a:lnTo>
                    <a:pt x="29615" y="6267"/>
                  </a:lnTo>
                  <a:lnTo>
                    <a:pt x="29852" y="6352"/>
                  </a:lnTo>
                  <a:lnTo>
                    <a:pt x="30050" y="6409"/>
                  </a:lnTo>
                  <a:lnTo>
                    <a:pt x="30327" y="6466"/>
                  </a:lnTo>
                  <a:lnTo>
                    <a:pt x="30682" y="6523"/>
                  </a:lnTo>
                  <a:lnTo>
                    <a:pt x="31038" y="6609"/>
                  </a:lnTo>
                  <a:lnTo>
                    <a:pt x="31394" y="6666"/>
                  </a:lnTo>
                  <a:lnTo>
                    <a:pt x="31790" y="6723"/>
                  </a:lnTo>
                  <a:lnTo>
                    <a:pt x="32145" y="6751"/>
                  </a:lnTo>
                  <a:lnTo>
                    <a:pt x="32501" y="6780"/>
                  </a:lnTo>
                  <a:lnTo>
                    <a:pt x="32501" y="6950"/>
                  </a:lnTo>
                  <a:lnTo>
                    <a:pt x="-32679" y="6950"/>
                  </a:lnTo>
                  <a:lnTo>
                    <a:pt x="-32323" y="6950"/>
                  </a:lnTo>
                  <a:lnTo>
                    <a:pt x="-31967" y="6950"/>
                  </a:lnTo>
                  <a:lnTo>
                    <a:pt x="-31611" y="6979"/>
                  </a:lnTo>
                  <a:lnTo>
                    <a:pt x="-31295" y="7007"/>
                  </a:lnTo>
                  <a:lnTo>
                    <a:pt x="-30979" y="7093"/>
                  </a:lnTo>
                  <a:lnTo>
                    <a:pt x="-30623" y="7207"/>
                  </a:lnTo>
                  <a:lnTo>
                    <a:pt x="-30267" y="7378"/>
                  </a:lnTo>
                  <a:lnTo>
                    <a:pt x="-29120" y="7492"/>
                  </a:lnTo>
                  <a:lnTo>
                    <a:pt x="-27974" y="7691"/>
                  </a:lnTo>
                  <a:lnTo>
                    <a:pt x="-26906" y="7890"/>
                  </a:lnTo>
                  <a:lnTo>
                    <a:pt x="-25799" y="8175"/>
                  </a:lnTo>
                  <a:lnTo>
                    <a:pt x="-24732" y="8432"/>
                  </a:lnTo>
                  <a:lnTo>
                    <a:pt x="-23664" y="8745"/>
                  </a:lnTo>
                  <a:lnTo>
                    <a:pt x="-22597" y="9087"/>
                  </a:lnTo>
                  <a:lnTo>
                    <a:pt x="-21450" y="9485"/>
                  </a:lnTo>
                  <a:lnTo>
                    <a:pt x="-20857" y="9485"/>
                  </a:lnTo>
                  <a:lnTo>
                    <a:pt x="-20659" y="9514"/>
                  </a:lnTo>
                  <a:lnTo>
                    <a:pt x="-20422" y="9571"/>
                  </a:lnTo>
                  <a:lnTo>
                    <a:pt x="-20145" y="9571"/>
                  </a:lnTo>
                  <a:lnTo>
                    <a:pt x="-19789" y="9599"/>
                  </a:lnTo>
                  <a:lnTo>
                    <a:pt x="-19513" y="9628"/>
                  </a:lnTo>
                  <a:lnTo>
                    <a:pt x="-19236" y="9713"/>
                  </a:lnTo>
                  <a:lnTo>
                    <a:pt x="-19038" y="9856"/>
                  </a:lnTo>
                  <a:lnTo>
                    <a:pt x="-18801" y="10084"/>
                  </a:lnTo>
                  <a:lnTo>
                    <a:pt x="-18919" y="10311"/>
                  </a:lnTo>
                  <a:lnTo>
                    <a:pt x="-19038" y="10568"/>
                  </a:lnTo>
                  <a:lnTo>
                    <a:pt x="-19236" y="10824"/>
                  </a:lnTo>
                  <a:lnTo>
                    <a:pt x="-19354" y="11081"/>
                  </a:lnTo>
                  <a:lnTo>
                    <a:pt x="-19473" y="11308"/>
                  </a:lnTo>
                  <a:lnTo>
                    <a:pt x="-19513" y="11536"/>
                  </a:lnTo>
                  <a:lnTo>
                    <a:pt x="-19433" y="11736"/>
                  </a:lnTo>
                  <a:lnTo>
                    <a:pt x="-19157" y="11907"/>
                  </a:lnTo>
                  <a:lnTo>
                    <a:pt x="-18564" y="11736"/>
                  </a:lnTo>
                  <a:lnTo>
                    <a:pt x="-18050" y="11508"/>
                  </a:lnTo>
                  <a:lnTo>
                    <a:pt x="-17654" y="11166"/>
                  </a:lnTo>
                  <a:lnTo>
                    <a:pt x="-17219" y="10796"/>
                  </a:lnTo>
                  <a:lnTo>
                    <a:pt x="-16863" y="10397"/>
                  </a:lnTo>
                  <a:lnTo>
                    <a:pt x="-16429" y="10055"/>
                  </a:lnTo>
                  <a:lnTo>
                    <a:pt x="-15914" y="9799"/>
                  </a:lnTo>
                  <a:lnTo>
                    <a:pt x="-15282" y="9656"/>
                  </a:lnTo>
                  <a:lnTo>
                    <a:pt x="-15045" y="9485"/>
                  </a:lnTo>
                  <a:lnTo>
                    <a:pt x="-14807" y="9485"/>
                  </a:lnTo>
                  <a:lnTo>
                    <a:pt x="-13977" y="9058"/>
                  </a:lnTo>
                  <a:lnTo>
                    <a:pt x="-13147" y="8688"/>
                  </a:lnTo>
                  <a:lnTo>
                    <a:pt x="-12316" y="8346"/>
                  </a:lnTo>
                  <a:lnTo>
                    <a:pt x="-11407" y="8090"/>
                  </a:lnTo>
                  <a:lnTo>
                    <a:pt x="-10537" y="7862"/>
                  </a:lnTo>
                  <a:lnTo>
                    <a:pt x="-9549" y="7748"/>
                  </a:lnTo>
                  <a:lnTo>
                    <a:pt x="-8560" y="7720"/>
                  </a:lnTo>
                  <a:lnTo>
                    <a:pt x="-7453" y="7833"/>
                  </a:lnTo>
                  <a:lnTo>
                    <a:pt x="-6979" y="7833"/>
                  </a:lnTo>
                  <a:lnTo>
                    <a:pt x="-6504" y="7947"/>
                  </a:lnTo>
                  <a:lnTo>
                    <a:pt x="-6069" y="8061"/>
                  </a:lnTo>
                  <a:lnTo>
                    <a:pt x="-5634" y="8232"/>
                  </a:lnTo>
                  <a:lnTo>
                    <a:pt x="-5279" y="8403"/>
                  </a:lnTo>
                  <a:lnTo>
                    <a:pt x="-4883" y="8602"/>
                  </a:lnTo>
                  <a:lnTo>
                    <a:pt x="-4488" y="8830"/>
                  </a:lnTo>
                  <a:lnTo>
                    <a:pt x="-4053" y="9058"/>
                  </a:lnTo>
                  <a:lnTo>
                    <a:pt x="-3025" y="10625"/>
                  </a:lnTo>
                  <a:lnTo>
                    <a:pt x="-2353" y="12248"/>
                  </a:lnTo>
                  <a:lnTo>
                    <a:pt x="-2036" y="13900"/>
                  </a:lnTo>
                  <a:lnTo>
                    <a:pt x="-1997" y="15609"/>
                  </a:lnTo>
                  <a:lnTo>
                    <a:pt x="-2353" y="17261"/>
                  </a:lnTo>
                  <a:lnTo>
                    <a:pt x="-2946" y="18942"/>
                  </a:lnTo>
                  <a:lnTo>
                    <a:pt x="-3855" y="20565"/>
                  </a:lnTo>
                  <a:lnTo>
                    <a:pt x="-4923" y="22189"/>
                  </a:lnTo>
                  <a:lnTo>
                    <a:pt x="-5634" y="22730"/>
                  </a:lnTo>
                  <a:lnTo>
                    <a:pt x="-6267" y="23328"/>
                  </a:lnTo>
                  <a:lnTo>
                    <a:pt x="-6900" y="23898"/>
                  </a:lnTo>
                  <a:lnTo>
                    <a:pt x="-7572" y="24468"/>
                  </a:lnTo>
                  <a:lnTo>
                    <a:pt x="-8323" y="24952"/>
                  </a:lnTo>
                  <a:lnTo>
                    <a:pt x="-9114" y="25408"/>
                  </a:lnTo>
                  <a:lnTo>
                    <a:pt x="-9984" y="25778"/>
                  </a:lnTo>
                  <a:lnTo>
                    <a:pt x="-10933" y="26091"/>
                  </a:lnTo>
                  <a:lnTo>
                    <a:pt x="-11012" y="25920"/>
                  </a:lnTo>
                  <a:lnTo>
                    <a:pt x="-11170" y="25806"/>
                  </a:lnTo>
                  <a:lnTo>
                    <a:pt x="-11447" y="25778"/>
                  </a:lnTo>
                  <a:lnTo>
                    <a:pt x="-11684" y="25920"/>
                  </a:lnTo>
                  <a:lnTo>
                    <a:pt x="-11921" y="26091"/>
                  </a:lnTo>
                  <a:lnTo>
                    <a:pt x="-12000" y="26348"/>
                  </a:lnTo>
                  <a:lnTo>
                    <a:pt x="-12079" y="26433"/>
                  </a:lnTo>
                  <a:lnTo>
                    <a:pt x="-12158" y="26518"/>
                  </a:lnTo>
                  <a:lnTo>
                    <a:pt x="-12316" y="26547"/>
                  </a:lnTo>
                  <a:lnTo>
                    <a:pt x="-12514" y="26547"/>
                  </a:lnTo>
                  <a:lnTo>
                    <a:pt x="-12751" y="26376"/>
                  </a:lnTo>
                  <a:lnTo>
                    <a:pt x="-12989" y="26376"/>
                  </a:lnTo>
                  <a:lnTo>
                    <a:pt x="-13147" y="26405"/>
                  </a:lnTo>
                  <a:lnTo>
                    <a:pt x="-13265" y="26518"/>
                  </a:lnTo>
                  <a:lnTo>
                    <a:pt x="-13384" y="26632"/>
                  </a:lnTo>
                  <a:lnTo>
                    <a:pt x="-13463" y="26803"/>
                  </a:lnTo>
                  <a:lnTo>
                    <a:pt x="-14847" y="26832"/>
                  </a:lnTo>
                  <a:lnTo>
                    <a:pt x="-16033" y="26547"/>
                  </a:lnTo>
                  <a:lnTo>
                    <a:pt x="-17140" y="25977"/>
                  </a:lnTo>
                  <a:lnTo>
                    <a:pt x="-18089" y="25265"/>
                  </a:lnTo>
                  <a:lnTo>
                    <a:pt x="-18999" y="24411"/>
                  </a:lnTo>
                  <a:lnTo>
                    <a:pt x="-19868" y="23585"/>
                  </a:lnTo>
                  <a:lnTo>
                    <a:pt x="-20738" y="22787"/>
                  </a:lnTo>
                  <a:lnTo>
                    <a:pt x="-21569" y="22189"/>
                  </a:lnTo>
                  <a:lnTo>
                    <a:pt x="-21766" y="22132"/>
                  </a:lnTo>
                  <a:lnTo>
                    <a:pt x="-21924" y="22189"/>
                  </a:lnTo>
                  <a:lnTo>
                    <a:pt x="-22083" y="22331"/>
                  </a:lnTo>
                  <a:lnTo>
                    <a:pt x="-22003" y="22531"/>
                  </a:lnTo>
                  <a:lnTo>
                    <a:pt x="-21885" y="22702"/>
                  </a:lnTo>
                  <a:lnTo>
                    <a:pt x="-21806" y="22873"/>
                  </a:lnTo>
                  <a:lnTo>
                    <a:pt x="-22083" y="22787"/>
                  </a:lnTo>
                  <a:lnTo>
                    <a:pt x="-22320" y="22958"/>
                  </a:lnTo>
                  <a:lnTo>
                    <a:pt x="-22557" y="23186"/>
                  </a:lnTo>
                  <a:lnTo>
                    <a:pt x="-22794" y="23414"/>
                  </a:lnTo>
                  <a:lnTo>
                    <a:pt x="-22715" y="23670"/>
                  </a:lnTo>
                  <a:lnTo>
                    <a:pt x="-22478" y="23955"/>
                  </a:lnTo>
                  <a:lnTo>
                    <a:pt x="-22241" y="24211"/>
                  </a:lnTo>
                  <a:lnTo>
                    <a:pt x="-21924" y="24496"/>
                  </a:lnTo>
                  <a:lnTo>
                    <a:pt x="-21687" y="24753"/>
                  </a:lnTo>
                  <a:lnTo>
                    <a:pt x="-21450" y="25066"/>
                  </a:lnTo>
                  <a:lnTo>
                    <a:pt x="-21292" y="25379"/>
                  </a:lnTo>
                  <a:lnTo>
                    <a:pt x="-21213" y="25749"/>
                  </a:lnTo>
                  <a:lnTo>
                    <a:pt x="-20896" y="26177"/>
                  </a:lnTo>
                  <a:lnTo>
                    <a:pt x="-20580" y="26661"/>
                  </a:lnTo>
                  <a:lnTo>
                    <a:pt x="-20303" y="27117"/>
                  </a:lnTo>
                  <a:lnTo>
                    <a:pt x="-19987" y="27572"/>
                  </a:lnTo>
                  <a:lnTo>
                    <a:pt x="-19710" y="27971"/>
                  </a:lnTo>
                  <a:lnTo>
                    <a:pt x="-19315" y="28341"/>
                  </a:lnTo>
                  <a:lnTo>
                    <a:pt x="-18880" y="28626"/>
                  </a:lnTo>
                  <a:lnTo>
                    <a:pt x="-18326" y="28883"/>
                  </a:lnTo>
                  <a:lnTo>
                    <a:pt x="-18287" y="29053"/>
                  </a:lnTo>
                  <a:lnTo>
                    <a:pt x="-18089" y="29224"/>
                  </a:lnTo>
                  <a:lnTo>
                    <a:pt x="-17891" y="29338"/>
                  </a:lnTo>
                  <a:lnTo>
                    <a:pt x="-17615" y="29452"/>
                  </a:lnTo>
                  <a:lnTo>
                    <a:pt x="-17377" y="29509"/>
                  </a:lnTo>
                  <a:lnTo>
                    <a:pt x="-17101" y="29595"/>
                  </a:lnTo>
                  <a:lnTo>
                    <a:pt x="-16863" y="29680"/>
                  </a:lnTo>
                  <a:lnTo>
                    <a:pt x="-16626" y="29766"/>
                  </a:lnTo>
                  <a:lnTo>
                    <a:pt x="-15638" y="29566"/>
                  </a:lnTo>
                  <a:lnTo>
                    <a:pt x="-16705" y="30677"/>
                  </a:lnTo>
                  <a:lnTo>
                    <a:pt x="-17852" y="31788"/>
                  </a:lnTo>
                  <a:lnTo>
                    <a:pt x="-19038" y="-32751"/>
                  </a:lnTo>
                  <a:lnTo>
                    <a:pt x="-20303" y="-31783"/>
                  </a:lnTo>
                  <a:lnTo>
                    <a:pt x="-21648" y="-30900"/>
                  </a:lnTo>
                  <a:lnTo>
                    <a:pt x="-23031" y="-30045"/>
                  </a:lnTo>
                  <a:lnTo>
                    <a:pt x="-24494" y="-29248"/>
                  </a:lnTo>
                  <a:lnTo>
                    <a:pt x="-25918" y="-28479"/>
                  </a:lnTo>
                  <a:lnTo>
                    <a:pt x="-26788" y="-28194"/>
                  </a:lnTo>
                  <a:lnTo>
                    <a:pt x="-27618" y="-27909"/>
                  </a:lnTo>
                  <a:lnTo>
                    <a:pt x="-28488" y="-27624"/>
                  </a:lnTo>
                  <a:lnTo>
                    <a:pt x="-29318" y="-27339"/>
                  </a:lnTo>
                  <a:lnTo>
                    <a:pt x="-30188" y="-27083"/>
                  </a:lnTo>
                  <a:lnTo>
                    <a:pt x="-31058" y="-26770"/>
                  </a:lnTo>
                  <a:lnTo>
                    <a:pt x="-31888" y="-26485"/>
                  </a:lnTo>
                  <a:lnTo>
                    <a:pt x="-32679" y="-26115"/>
                  </a:lnTo>
                  <a:lnTo>
                    <a:pt x="31236" y="-25773"/>
                  </a:lnTo>
                  <a:lnTo>
                    <a:pt x="29575" y="-25602"/>
                  </a:lnTo>
                  <a:lnTo>
                    <a:pt x="27875" y="-25602"/>
                  </a:lnTo>
                  <a:lnTo>
                    <a:pt x="26215" y="-25744"/>
                  </a:lnTo>
                  <a:lnTo>
                    <a:pt x="24514" y="-26086"/>
                  </a:lnTo>
                  <a:lnTo>
                    <a:pt x="22972" y="-26542"/>
                  </a:lnTo>
                  <a:lnTo>
                    <a:pt x="21549" y="-27112"/>
                  </a:lnTo>
                  <a:lnTo>
                    <a:pt x="20284" y="-27767"/>
                  </a:lnTo>
                  <a:lnTo>
                    <a:pt x="20007" y="-27966"/>
                  </a:lnTo>
                  <a:lnTo>
                    <a:pt x="19770" y="-28137"/>
                  </a:lnTo>
                  <a:lnTo>
                    <a:pt x="19612" y="-28308"/>
                  </a:lnTo>
                  <a:lnTo>
                    <a:pt x="19572" y="-28564"/>
                  </a:lnTo>
                  <a:lnTo>
                    <a:pt x="19888" y="-28678"/>
                  </a:lnTo>
                  <a:lnTo>
                    <a:pt x="20165" y="-28821"/>
                  </a:lnTo>
                  <a:lnTo>
                    <a:pt x="20363" y="-28991"/>
                  </a:lnTo>
                  <a:lnTo>
                    <a:pt x="20521" y="-29162"/>
                  </a:lnTo>
                  <a:lnTo>
                    <a:pt x="20481" y="-29390"/>
                  </a:lnTo>
                  <a:lnTo>
                    <a:pt x="20481" y="-29561"/>
                  </a:lnTo>
                  <a:lnTo>
                    <a:pt x="20442" y="-29732"/>
                  </a:lnTo>
                  <a:lnTo>
                    <a:pt x="20363" y="-29846"/>
                  </a:lnTo>
                  <a:lnTo>
                    <a:pt x="20126" y="-30131"/>
                  </a:lnTo>
                  <a:lnTo>
                    <a:pt x="19809" y="-30302"/>
                  </a:lnTo>
                  <a:lnTo>
                    <a:pt x="19256" y="-30359"/>
                  </a:lnTo>
                  <a:lnTo>
                    <a:pt x="18900" y="-30216"/>
                  </a:lnTo>
                  <a:lnTo>
                    <a:pt x="18584" y="-30017"/>
                  </a:lnTo>
                  <a:lnTo>
                    <a:pt x="18346" y="-29703"/>
                  </a:lnTo>
                  <a:lnTo>
                    <a:pt x="18109" y="-29419"/>
                  </a:lnTo>
                  <a:lnTo>
                    <a:pt x="17872" y="-29105"/>
                  </a:lnTo>
                  <a:lnTo>
                    <a:pt x="17556" y="-28877"/>
                  </a:lnTo>
                  <a:lnTo>
                    <a:pt x="17160" y="-28735"/>
                  </a:lnTo>
                  <a:lnTo>
                    <a:pt x="16765" y="-28678"/>
                  </a:lnTo>
                  <a:lnTo>
                    <a:pt x="16409" y="-28564"/>
                  </a:lnTo>
                  <a:lnTo>
                    <a:pt x="15974" y="-28450"/>
                  </a:lnTo>
                  <a:lnTo>
                    <a:pt x="15579" y="-28308"/>
                  </a:lnTo>
                  <a:lnTo>
                    <a:pt x="15144" y="-28251"/>
                  </a:lnTo>
                  <a:lnTo>
                    <a:pt x="14709" y="-28194"/>
                  </a:lnTo>
                  <a:lnTo>
                    <a:pt x="14274" y="-28222"/>
                  </a:lnTo>
                  <a:lnTo>
                    <a:pt x="13879" y="-28308"/>
                  </a:lnTo>
                  <a:lnTo>
                    <a:pt x="13285" y="-28507"/>
                  </a:lnTo>
                  <a:lnTo>
                    <a:pt x="12732" y="-28735"/>
                  </a:lnTo>
                  <a:lnTo>
                    <a:pt x="12178" y="-29077"/>
                  </a:lnTo>
                  <a:lnTo>
                    <a:pt x="11743" y="-29390"/>
                  </a:lnTo>
                  <a:lnTo>
                    <a:pt x="11308" y="-29789"/>
                  </a:lnTo>
                  <a:lnTo>
                    <a:pt x="10992" y="-30188"/>
                  </a:lnTo>
                  <a:lnTo>
                    <a:pt x="10755" y="-30615"/>
                  </a:lnTo>
                  <a:lnTo>
                    <a:pt x="10636" y="-30985"/>
                  </a:lnTo>
                  <a:lnTo>
                    <a:pt x="10636" y="32699"/>
                  </a:lnTo>
                  <a:lnTo>
                    <a:pt x="11902" y="32671"/>
                  </a:lnTo>
                  <a:lnTo>
                    <a:pt x="13206" y="32671"/>
                  </a:lnTo>
                  <a:lnTo>
                    <a:pt x="14511" y="32585"/>
                  </a:lnTo>
                  <a:lnTo>
                    <a:pt x="15816" y="32500"/>
                  </a:lnTo>
                  <a:lnTo>
                    <a:pt x="17042" y="32358"/>
                  </a:lnTo>
                  <a:lnTo>
                    <a:pt x="18307" y="32187"/>
                  </a:lnTo>
                  <a:lnTo>
                    <a:pt x="19533" y="31987"/>
                  </a:lnTo>
                  <a:lnTo>
                    <a:pt x="20758" y="31759"/>
                  </a:lnTo>
                  <a:lnTo>
                    <a:pt x="21391" y="31475"/>
                  </a:lnTo>
                  <a:lnTo>
                    <a:pt x="22063" y="31218"/>
                  </a:lnTo>
                  <a:lnTo>
                    <a:pt x="22735" y="30933"/>
                  </a:lnTo>
                  <a:lnTo>
                    <a:pt x="23407" y="30677"/>
                  </a:lnTo>
                  <a:lnTo>
                    <a:pt x="23961" y="30335"/>
                  </a:lnTo>
                  <a:lnTo>
                    <a:pt x="24475" y="29993"/>
                  </a:lnTo>
                  <a:lnTo>
                    <a:pt x="24910" y="29538"/>
                  </a:lnTo>
                  <a:lnTo>
                    <a:pt x="25226" y="29053"/>
                  </a:lnTo>
                  <a:lnTo>
                    <a:pt x="25701" y="29025"/>
                  </a:lnTo>
                  <a:lnTo>
                    <a:pt x="26215" y="28968"/>
                  </a:lnTo>
                  <a:lnTo>
                    <a:pt x="26689" y="28883"/>
                  </a:lnTo>
                  <a:lnTo>
                    <a:pt x="27203" y="28826"/>
                  </a:lnTo>
                  <a:lnTo>
                    <a:pt x="27638" y="28655"/>
                  </a:lnTo>
                  <a:lnTo>
                    <a:pt x="28112" y="28484"/>
                  </a:lnTo>
                  <a:lnTo>
                    <a:pt x="28468" y="28256"/>
                  </a:lnTo>
                  <a:lnTo>
                    <a:pt x="28864" y="28000"/>
                  </a:lnTo>
                  <a:lnTo>
                    <a:pt x="28745" y="27800"/>
                  </a:lnTo>
                  <a:lnTo>
                    <a:pt x="28626" y="27686"/>
                  </a:lnTo>
                  <a:lnTo>
                    <a:pt x="28468" y="27572"/>
                  </a:lnTo>
                  <a:lnTo>
                    <a:pt x="28271" y="27572"/>
                  </a:lnTo>
                  <a:lnTo>
                    <a:pt x="27757" y="27629"/>
                  </a:lnTo>
                  <a:lnTo>
                    <a:pt x="27282" y="27715"/>
                  </a:lnTo>
                  <a:lnTo>
                    <a:pt x="26808" y="27800"/>
                  </a:lnTo>
                  <a:lnTo>
                    <a:pt x="26333" y="27886"/>
                  </a:lnTo>
                  <a:lnTo>
                    <a:pt x="25859" y="27886"/>
                  </a:lnTo>
                  <a:lnTo>
                    <a:pt x="25424" y="27857"/>
                  </a:lnTo>
                  <a:lnTo>
                    <a:pt x="24989" y="27715"/>
                  </a:lnTo>
                  <a:lnTo>
                    <a:pt x="24633" y="27487"/>
                  </a:lnTo>
                  <a:lnTo>
                    <a:pt x="24356" y="27487"/>
                  </a:lnTo>
                  <a:lnTo>
                    <a:pt x="24079" y="27515"/>
                  </a:lnTo>
                  <a:lnTo>
                    <a:pt x="23842" y="27544"/>
                  </a:lnTo>
                  <a:lnTo>
                    <a:pt x="23605" y="27601"/>
                  </a:lnTo>
                  <a:lnTo>
                    <a:pt x="23368" y="27658"/>
                  </a:lnTo>
                  <a:lnTo>
                    <a:pt x="23249" y="27772"/>
                  </a:lnTo>
                  <a:lnTo>
                    <a:pt x="23091" y="27886"/>
                  </a:lnTo>
                  <a:lnTo>
                    <a:pt x="23051" y="28085"/>
                  </a:lnTo>
                  <a:lnTo>
                    <a:pt x="23051" y="28256"/>
                  </a:lnTo>
                  <a:lnTo>
                    <a:pt x="23131" y="28427"/>
                  </a:lnTo>
                  <a:lnTo>
                    <a:pt x="23210" y="28598"/>
                  </a:lnTo>
                  <a:lnTo>
                    <a:pt x="23328" y="28769"/>
                  </a:lnTo>
                  <a:lnTo>
                    <a:pt x="23368" y="28940"/>
                  </a:lnTo>
                  <a:lnTo>
                    <a:pt x="23407" y="29110"/>
                  </a:lnTo>
                  <a:lnTo>
                    <a:pt x="23328" y="29281"/>
                  </a:lnTo>
                  <a:lnTo>
                    <a:pt x="23210" y="29481"/>
                  </a:lnTo>
                  <a:lnTo>
                    <a:pt x="21351" y="30278"/>
                  </a:lnTo>
                  <a:lnTo>
                    <a:pt x="19374" y="30876"/>
                  </a:lnTo>
                  <a:lnTo>
                    <a:pt x="17239" y="31275"/>
                  </a:lnTo>
                  <a:lnTo>
                    <a:pt x="15104" y="31532"/>
                  </a:lnTo>
                  <a:lnTo>
                    <a:pt x="12890" y="31617"/>
                  </a:lnTo>
                  <a:lnTo>
                    <a:pt x="10676" y="31588"/>
                  </a:lnTo>
                  <a:lnTo>
                    <a:pt x="8541" y="31475"/>
                  </a:lnTo>
                  <a:lnTo>
                    <a:pt x="6524" y="31332"/>
                  </a:lnTo>
                  <a:lnTo>
                    <a:pt x="6168" y="31133"/>
                  </a:lnTo>
                  <a:lnTo>
                    <a:pt x="5813" y="31133"/>
                  </a:lnTo>
                  <a:lnTo>
                    <a:pt x="5575" y="31076"/>
                  </a:lnTo>
                  <a:lnTo>
                    <a:pt x="5378" y="31019"/>
                  </a:lnTo>
                  <a:lnTo>
                    <a:pt x="5220" y="30905"/>
                  </a:lnTo>
                  <a:lnTo>
                    <a:pt x="5101" y="30791"/>
                  </a:lnTo>
                  <a:lnTo>
                    <a:pt x="4943" y="30677"/>
                  </a:lnTo>
                  <a:lnTo>
                    <a:pt x="4785" y="30620"/>
                  </a:lnTo>
                  <a:lnTo>
                    <a:pt x="4547" y="30563"/>
                  </a:lnTo>
                  <a:lnTo>
                    <a:pt x="4350" y="30620"/>
                  </a:lnTo>
                  <a:lnTo>
                    <a:pt x="3717" y="28484"/>
                  </a:lnTo>
                  <a:lnTo>
                    <a:pt x="3361" y="26376"/>
                  </a:lnTo>
                  <a:lnTo>
                    <a:pt x="3164" y="24211"/>
                  </a:lnTo>
                  <a:lnTo>
                    <a:pt x="3203" y="22047"/>
                  </a:lnTo>
                  <a:lnTo>
                    <a:pt x="3401" y="19853"/>
                  </a:lnTo>
                  <a:lnTo>
                    <a:pt x="3836" y="17660"/>
                  </a:lnTo>
                  <a:lnTo>
                    <a:pt x="4508" y="15495"/>
                  </a:lnTo>
                  <a:lnTo>
                    <a:pt x="5417" y="13388"/>
                  </a:lnTo>
                  <a:lnTo>
                    <a:pt x="5496" y="13245"/>
                  </a:lnTo>
                  <a:lnTo>
                    <a:pt x="5654" y="13103"/>
                  </a:lnTo>
                  <a:lnTo>
                    <a:pt x="5773" y="12932"/>
                  </a:lnTo>
                  <a:lnTo>
                    <a:pt x="5971" y="12790"/>
                  </a:lnTo>
                  <a:lnTo>
                    <a:pt x="6050" y="12619"/>
                  </a:lnTo>
                  <a:lnTo>
                    <a:pt x="6168" y="12448"/>
                  </a:lnTo>
                  <a:lnTo>
                    <a:pt x="6168" y="12248"/>
                  </a:lnTo>
                  <a:lnTo>
                    <a:pt x="6168" y="12077"/>
                  </a:lnTo>
                  <a:lnTo>
                    <a:pt x="8580" y="11992"/>
                  </a:lnTo>
                  <a:lnTo>
                    <a:pt x="8699" y="12220"/>
                  </a:lnTo>
                  <a:lnTo>
                    <a:pt x="8857" y="12476"/>
                  </a:lnTo>
                  <a:lnTo>
                    <a:pt x="8976" y="12733"/>
                  </a:lnTo>
                  <a:lnTo>
                    <a:pt x="9094" y="13017"/>
                  </a:lnTo>
                  <a:lnTo>
                    <a:pt x="9213" y="13245"/>
                  </a:lnTo>
                  <a:lnTo>
                    <a:pt x="9371" y="13445"/>
                  </a:lnTo>
                  <a:lnTo>
                    <a:pt x="9608" y="13616"/>
                  </a:lnTo>
                  <a:lnTo>
                    <a:pt x="9925" y="13729"/>
                  </a:lnTo>
                  <a:lnTo>
                    <a:pt x="9925" y="13758"/>
                  </a:lnTo>
                  <a:lnTo>
                    <a:pt x="9846" y="13701"/>
                  </a:lnTo>
                  <a:lnTo>
                    <a:pt x="9727" y="13559"/>
                  </a:lnTo>
                  <a:lnTo>
                    <a:pt x="9648" y="13473"/>
                  </a:lnTo>
                  <a:lnTo>
                    <a:pt x="9529" y="13616"/>
                  </a:lnTo>
                  <a:lnTo>
                    <a:pt x="9529" y="13758"/>
                  </a:lnTo>
                  <a:lnTo>
                    <a:pt x="9529" y="13900"/>
                  </a:lnTo>
                  <a:lnTo>
                    <a:pt x="9648" y="14043"/>
                  </a:lnTo>
                  <a:lnTo>
                    <a:pt x="9846" y="14271"/>
                  </a:lnTo>
                  <a:lnTo>
                    <a:pt x="10043" y="14527"/>
                  </a:lnTo>
                  <a:lnTo>
                    <a:pt x="10043" y="14100"/>
                  </a:lnTo>
                  <a:lnTo>
                    <a:pt x="11111" y="15723"/>
                  </a:lnTo>
                  <a:lnTo>
                    <a:pt x="12416" y="17375"/>
                  </a:lnTo>
                  <a:lnTo>
                    <a:pt x="13918" y="18999"/>
                  </a:lnTo>
                  <a:lnTo>
                    <a:pt x="15658" y="20565"/>
                  </a:lnTo>
                  <a:lnTo>
                    <a:pt x="17516" y="21990"/>
                  </a:lnTo>
                  <a:lnTo>
                    <a:pt x="19533" y="23328"/>
                  </a:lnTo>
                  <a:lnTo>
                    <a:pt x="21589" y="24496"/>
                  </a:lnTo>
                  <a:lnTo>
                    <a:pt x="23803" y="25493"/>
                  </a:lnTo>
                  <a:lnTo>
                    <a:pt x="23565" y="25151"/>
                  </a:lnTo>
                  <a:lnTo>
                    <a:pt x="23249" y="24895"/>
                  </a:lnTo>
                  <a:lnTo>
                    <a:pt x="22893" y="24639"/>
                  </a:lnTo>
                  <a:lnTo>
                    <a:pt x="22537" y="24439"/>
                  </a:lnTo>
                  <a:lnTo>
                    <a:pt x="22142" y="24183"/>
                  </a:lnTo>
                  <a:lnTo>
                    <a:pt x="21786" y="23955"/>
                  </a:lnTo>
                  <a:lnTo>
                    <a:pt x="21470" y="23670"/>
                  </a:lnTo>
                  <a:lnTo>
                    <a:pt x="21272" y="23414"/>
                  </a:lnTo>
                  <a:lnTo>
                    <a:pt x="19295" y="22047"/>
                  </a:lnTo>
                  <a:lnTo>
                    <a:pt x="17477" y="20679"/>
                  </a:lnTo>
                  <a:lnTo>
                    <a:pt x="15776" y="19255"/>
                  </a:lnTo>
                  <a:lnTo>
                    <a:pt x="14234" y="17831"/>
                  </a:lnTo>
                  <a:lnTo>
                    <a:pt x="12811" y="16293"/>
                  </a:lnTo>
                  <a:lnTo>
                    <a:pt x="11585" y="14726"/>
                  </a:lnTo>
                  <a:lnTo>
                    <a:pt x="10557" y="13046"/>
                  </a:lnTo>
                  <a:lnTo>
                    <a:pt x="9766" y="11308"/>
                  </a:lnTo>
                  <a:lnTo>
                    <a:pt x="9529" y="11138"/>
                  </a:lnTo>
                  <a:lnTo>
                    <a:pt x="8620" y="11081"/>
                  </a:lnTo>
                  <a:lnTo>
                    <a:pt x="7750" y="11052"/>
                  </a:lnTo>
                  <a:lnTo>
                    <a:pt x="6801" y="10967"/>
                  </a:lnTo>
                  <a:lnTo>
                    <a:pt x="5892" y="10910"/>
                  </a:lnTo>
                  <a:lnTo>
                    <a:pt x="4943" y="10739"/>
                  </a:lnTo>
                  <a:lnTo>
                    <a:pt x="4073" y="10511"/>
                  </a:lnTo>
                  <a:lnTo>
                    <a:pt x="3243" y="10198"/>
                  </a:lnTo>
                  <a:lnTo>
                    <a:pt x="2531" y="9827"/>
                  </a:lnTo>
                  <a:lnTo>
                    <a:pt x="1701" y="9172"/>
                  </a:lnTo>
                  <a:lnTo>
                    <a:pt x="1068" y="8460"/>
                  </a:lnTo>
                  <a:lnTo>
                    <a:pt x="593" y="7663"/>
                  </a:lnTo>
                  <a:lnTo>
                    <a:pt x="238" y="6837"/>
                  </a:lnTo>
                  <a:lnTo>
                    <a:pt x="0" y="5925"/>
                  </a:lnTo>
                  <a:lnTo>
                    <a:pt x="0" y="5014"/>
                  </a:lnTo>
                  <a:lnTo>
                    <a:pt x="79" y="4102"/>
                  </a:lnTo>
                  <a:lnTo>
                    <a:pt x="356" y="3219"/>
                  </a:lnTo>
                  <a:lnTo>
                    <a:pt x="633" y="3020"/>
                  </a:lnTo>
                  <a:lnTo>
                    <a:pt x="752" y="2763"/>
                  </a:lnTo>
                  <a:lnTo>
                    <a:pt x="831" y="2507"/>
                  </a:lnTo>
                  <a:lnTo>
                    <a:pt x="1107" y="2336"/>
                  </a:lnTo>
                  <a:lnTo>
                    <a:pt x="1661" y="1767"/>
                  </a:lnTo>
                  <a:lnTo>
                    <a:pt x="2333" y="1311"/>
                  </a:lnTo>
                  <a:lnTo>
                    <a:pt x="3084" y="912"/>
                  </a:lnTo>
                  <a:lnTo>
                    <a:pt x="3954" y="627"/>
                  </a:lnTo>
                  <a:lnTo>
                    <a:pt x="4785" y="371"/>
                  </a:lnTo>
                  <a:lnTo>
                    <a:pt x="5694" y="200"/>
                  </a:lnTo>
                  <a:lnTo>
                    <a:pt x="6564" y="58"/>
                  </a:lnTo>
                  <a:lnTo>
                    <a:pt x="7473" y="1"/>
                  </a:lnTo>
                  <a:lnTo>
                    <a:pt x="7671" y="86"/>
                  </a:lnTo>
                  <a:lnTo>
                    <a:pt x="7948" y="86"/>
                  </a:lnTo>
                  <a:lnTo>
                    <a:pt x="8224" y="29"/>
                  </a:lnTo>
                  <a:lnTo>
                    <a:pt x="8462" y="1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Shape 665"/>
            <p:cNvSpPr/>
            <p:nvPr/>
          </p:nvSpPr>
          <p:spPr>
            <a:xfrm>
              <a:off x="7385040" y="4234680"/>
              <a:ext cx="237960" cy="272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2099" h="9970">
                  <a:moveTo>
                    <a:pt x="10992" y="1596"/>
                  </a:moveTo>
                  <a:lnTo>
                    <a:pt x="11269" y="2194"/>
                  </a:lnTo>
                  <a:lnTo>
                    <a:pt x="11545" y="2820"/>
                  </a:lnTo>
                  <a:lnTo>
                    <a:pt x="11743" y="3419"/>
                  </a:lnTo>
                  <a:lnTo>
                    <a:pt x="11980" y="4017"/>
                  </a:lnTo>
                  <a:lnTo>
                    <a:pt x="12059" y="4615"/>
                  </a:lnTo>
                  <a:lnTo>
                    <a:pt x="12099" y="5241"/>
                  </a:lnTo>
                  <a:lnTo>
                    <a:pt x="11980" y="5868"/>
                  </a:lnTo>
                  <a:lnTo>
                    <a:pt x="11822" y="6552"/>
                  </a:lnTo>
                  <a:lnTo>
                    <a:pt x="11743" y="7121"/>
                  </a:lnTo>
                  <a:lnTo>
                    <a:pt x="11545" y="7663"/>
                  </a:lnTo>
                  <a:lnTo>
                    <a:pt x="11229" y="8090"/>
                  </a:lnTo>
                  <a:lnTo>
                    <a:pt x="10834" y="8517"/>
                  </a:lnTo>
                  <a:lnTo>
                    <a:pt x="10280" y="8830"/>
                  </a:lnTo>
                  <a:lnTo>
                    <a:pt x="9727" y="9172"/>
                  </a:lnTo>
                  <a:lnTo>
                    <a:pt x="9054" y="9514"/>
                  </a:lnTo>
                  <a:lnTo>
                    <a:pt x="8422" y="9856"/>
                  </a:lnTo>
                  <a:lnTo>
                    <a:pt x="8145" y="9856"/>
                  </a:lnTo>
                  <a:lnTo>
                    <a:pt x="7829" y="9884"/>
                  </a:lnTo>
                  <a:lnTo>
                    <a:pt x="7512" y="9913"/>
                  </a:lnTo>
                  <a:lnTo>
                    <a:pt x="7196" y="9970"/>
                  </a:lnTo>
                  <a:lnTo>
                    <a:pt x="6840" y="9941"/>
                  </a:lnTo>
                  <a:lnTo>
                    <a:pt x="6524" y="9856"/>
                  </a:lnTo>
                  <a:lnTo>
                    <a:pt x="6287" y="9713"/>
                  </a:lnTo>
                  <a:lnTo>
                    <a:pt x="6129" y="9514"/>
                  </a:lnTo>
                  <a:lnTo>
                    <a:pt x="6563" y="9372"/>
                  </a:lnTo>
                  <a:lnTo>
                    <a:pt x="7077" y="9258"/>
                  </a:lnTo>
                  <a:lnTo>
                    <a:pt x="7552" y="9087"/>
                  </a:lnTo>
                  <a:lnTo>
                    <a:pt x="8066" y="8944"/>
                  </a:lnTo>
                  <a:lnTo>
                    <a:pt x="8461" y="8688"/>
                  </a:lnTo>
                  <a:lnTo>
                    <a:pt x="8896" y="8460"/>
                  </a:lnTo>
                  <a:lnTo>
                    <a:pt x="9213" y="8175"/>
                  </a:lnTo>
                  <a:lnTo>
                    <a:pt x="9529" y="7862"/>
                  </a:lnTo>
                  <a:lnTo>
                    <a:pt x="9845" y="7093"/>
                  </a:lnTo>
                  <a:lnTo>
                    <a:pt x="10082" y="6324"/>
                  </a:lnTo>
                  <a:lnTo>
                    <a:pt x="10241" y="5526"/>
                  </a:lnTo>
                  <a:lnTo>
                    <a:pt x="10320" y="4757"/>
                  </a:lnTo>
                  <a:lnTo>
                    <a:pt x="10241" y="3988"/>
                  </a:lnTo>
                  <a:lnTo>
                    <a:pt x="10043" y="3219"/>
                  </a:lnTo>
                  <a:lnTo>
                    <a:pt x="9647" y="2507"/>
                  </a:lnTo>
                  <a:lnTo>
                    <a:pt x="9173" y="1852"/>
                  </a:lnTo>
                  <a:lnTo>
                    <a:pt x="8896" y="1681"/>
                  </a:lnTo>
                  <a:lnTo>
                    <a:pt x="8659" y="1510"/>
                  </a:lnTo>
                  <a:lnTo>
                    <a:pt x="8382" y="1339"/>
                  </a:lnTo>
                  <a:lnTo>
                    <a:pt x="8145" y="1197"/>
                  </a:lnTo>
                  <a:lnTo>
                    <a:pt x="7829" y="1054"/>
                  </a:lnTo>
                  <a:lnTo>
                    <a:pt x="7512" y="997"/>
                  </a:lnTo>
                  <a:lnTo>
                    <a:pt x="7196" y="997"/>
                  </a:lnTo>
                  <a:lnTo>
                    <a:pt x="6880" y="1140"/>
                  </a:lnTo>
                  <a:lnTo>
                    <a:pt x="6643" y="1339"/>
                  </a:lnTo>
                  <a:lnTo>
                    <a:pt x="6366" y="1140"/>
                  </a:lnTo>
                  <a:lnTo>
                    <a:pt x="6129" y="1254"/>
                  </a:lnTo>
                  <a:lnTo>
                    <a:pt x="6049" y="1453"/>
                  </a:lnTo>
                  <a:lnTo>
                    <a:pt x="5891" y="1596"/>
                  </a:lnTo>
                  <a:lnTo>
                    <a:pt x="5654" y="1596"/>
                  </a:lnTo>
                  <a:lnTo>
                    <a:pt x="5417" y="1767"/>
                  </a:lnTo>
                  <a:lnTo>
                    <a:pt x="5219" y="1966"/>
                  </a:lnTo>
                  <a:lnTo>
                    <a:pt x="4942" y="2137"/>
                  </a:lnTo>
                  <a:lnTo>
                    <a:pt x="4705" y="2336"/>
                  </a:lnTo>
                  <a:lnTo>
                    <a:pt x="4468" y="2536"/>
                  </a:lnTo>
                  <a:lnTo>
                    <a:pt x="4389" y="2792"/>
                  </a:lnTo>
                  <a:lnTo>
                    <a:pt x="4428" y="3020"/>
                  </a:lnTo>
                  <a:lnTo>
                    <a:pt x="4705" y="3333"/>
                  </a:lnTo>
                  <a:lnTo>
                    <a:pt x="4942" y="3846"/>
                  </a:lnTo>
                  <a:lnTo>
                    <a:pt x="5180" y="4359"/>
                  </a:lnTo>
                  <a:lnTo>
                    <a:pt x="5377" y="4871"/>
                  </a:lnTo>
                  <a:lnTo>
                    <a:pt x="5535" y="5412"/>
                  </a:lnTo>
                  <a:lnTo>
                    <a:pt x="5575" y="5925"/>
                  </a:lnTo>
                  <a:lnTo>
                    <a:pt x="5575" y="6495"/>
                  </a:lnTo>
                  <a:lnTo>
                    <a:pt x="5417" y="7036"/>
                  </a:lnTo>
                  <a:lnTo>
                    <a:pt x="5180" y="7606"/>
                  </a:lnTo>
                  <a:lnTo>
                    <a:pt x="4982" y="7777"/>
                  </a:lnTo>
                  <a:lnTo>
                    <a:pt x="4784" y="7976"/>
                  </a:lnTo>
                  <a:lnTo>
                    <a:pt x="4587" y="8147"/>
                  </a:lnTo>
                  <a:lnTo>
                    <a:pt x="4389" y="8346"/>
                  </a:lnTo>
                  <a:lnTo>
                    <a:pt x="4152" y="8489"/>
                  </a:lnTo>
                  <a:lnTo>
                    <a:pt x="3954" y="8659"/>
                  </a:lnTo>
                  <a:lnTo>
                    <a:pt x="3717" y="8802"/>
                  </a:lnTo>
                  <a:lnTo>
                    <a:pt x="3479" y="8973"/>
                  </a:lnTo>
                  <a:lnTo>
                    <a:pt x="3084" y="9030"/>
                  </a:lnTo>
                  <a:lnTo>
                    <a:pt x="2728" y="9115"/>
                  </a:lnTo>
                  <a:lnTo>
                    <a:pt x="2372" y="9144"/>
                  </a:lnTo>
                  <a:lnTo>
                    <a:pt x="2017" y="9172"/>
                  </a:lnTo>
                  <a:lnTo>
                    <a:pt x="1621" y="9144"/>
                  </a:lnTo>
                  <a:lnTo>
                    <a:pt x="1226" y="9115"/>
                  </a:lnTo>
                  <a:lnTo>
                    <a:pt x="830" y="9030"/>
                  </a:lnTo>
                  <a:lnTo>
                    <a:pt x="474" y="8973"/>
                  </a:lnTo>
                  <a:lnTo>
                    <a:pt x="356" y="8830"/>
                  </a:lnTo>
                  <a:lnTo>
                    <a:pt x="316" y="8716"/>
                  </a:lnTo>
                  <a:lnTo>
                    <a:pt x="158" y="8574"/>
                  </a:lnTo>
                  <a:lnTo>
                    <a:pt x="0" y="8460"/>
                  </a:lnTo>
                  <a:lnTo>
                    <a:pt x="316" y="8204"/>
                  </a:lnTo>
                  <a:lnTo>
                    <a:pt x="712" y="8147"/>
                  </a:lnTo>
                  <a:lnTo>
                    <a:pt x="1186" y="8175"/>
                  </a:lnTo>
                  <a:lnTo>
                    <a:pt x="1661" y="8261"/>
                  </a:lnTo>
                  <a:lnTo>
                    <a:pt x="2135" y="8318"/>
                  </a:lnTo>
                  <a:lnTo>
                    <a:pt x="2610" y="8318"/>
                  </a:lnTo>
                  <a:lnTo>
                    <a:pt x="3045" y="8204"/>
                  </a:lnTo>
                  <a:lnTo>
                    <a:pt x="3479" y="7947"/>
                  </a:lnTo>
                  <a:lnTo>
                    <a:pt x="3875" y="7663"/>
                  </a:lnTo>
                  <a:lnTo>
                    <a:pt x="4191" y="7321"/>
                  </a:lnTo>
                  <a:lnTo>
                    <a:pt x="4310" y="6865"/>
                  </a:lnTo>
                  <a:lnTo>
                    <a:pt x="4428" y="6438"/>
                  </a:lnTo>
                  <a:lnTo>
                    <a:pt x="4428" y="5954"/>
                  </a:lnTo>
                  <a:lnTo>
                    <a:pt x="4428" y="5498"/>
                  </a:lnTo>
                  <a:lnTo>
                    <a:pt x="4349" y="5071"/>
                  </a:lnTo>
                  <a:lnTo>
                    <a:pt x="4349" y="4729"/>
                  </a:lnTo>
                  <a:lnTo>
                    <a:pt x="4073" y="4387"/>
                  </a:lnTo>
                  <a:lnTo>
                    <a:pt x="3835" y="4074"/>
                  </a:lnTo>
                  <a:lnTo>
                    <a:pt x="3559" y="3732"/>
                  </a:lnTo>
                  <a:lnTo>
                    <a:pt x="3361" y="3447"/>
                  </a:lnTo>
                  <a:lnTo>
                    <a:pt x="3163" y="3105"/>
                  </a:lnTo>
                  <a:lnTo>
                    <a:pt x="3124" y="2792"/>
                  </a:lnTo>
                  <a:lnTo>
                    <a:pt x="3163" y="2422"/>
                  </a:lnTo>
                  <a:lnTo>
                    <a:pt x="3361" y="2023"/>
                  </a:lnTo>
                  <a:lnTo>
                    <a:pt x="3638" y="1710"/>
                  </a:lnTo>
                  <a:lnTo>
                    <a:pt x="3954" y="1396"/>
                  </a:lnTo>
                  <a:lnTo>
                    <a:pt x="4310" y="1083"/>
                  </a:lnTo>
                  <a:lnTo>
                    <a:pt x="4666" y="770"/>
                  </a:lnTo>
                  <a:lnTo>
                    <a:pt x="5021" y="456"/>
                  </a:lnTo>
                  <a:lnTo>
                    <a:pt x="5417" y="228"/>
                  </a:lnTo>
                  <a:lnTo>
                    <a:pt x="5852" y="58"/>
                  </a:lnTo>
                  <a:lnTo>
                    <a:pt x="6366" y="29"/>
                  </a:lnTo>
                  <a:lnTo>
                    <a:pt x="7077" y="1"/>
                  </a:lnTo>
                  <a:lnTo>
                    <a:pt x="7789" y="58"/>
                  </a:lnTo>
                  <a:lnTo>
                    <a:pt x="8382" y="143"/>
                  </a:lnTo>
                  <a:lnTo>
                    <a:pt x="9015" y="342"/>
                  </a:lnTo>
                  <a:lnTo>
                    <a:pt x="9529" y="542"/>
                  </a:lnTo>
                  <a:lnTo>
                    <a:pt x="10043" y="827"/>
                  </a:lnTo>
                  <a:lnTo>
                    <a:pt x="10517" y="1168"/>
                  </a:lnTo>
                  <a:lnTo>
                    <a:pt x="10992" y="1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Shape 666"/>
            <p:cNvSpPr/>
            <p:nvPr/>
          </p:nvSpPr>
          <p:spPr>
            <a:xfrm>
              <a:off x="6926040" y="4681800"/>
              <a:ext cx="1018440" cy="830880"/>
            </a:xfrm>
            <a:custGeom>
              <a:avLst/>
              <a:gdLst>
                <a:gd name="textAreaLeft" fmla="*/ 0 w 1018440"/>
                <a:gd name="textAreaRight" fmla="*/ 1018800 w 1018440"/>
                <a:gd name="textAreaTop" fmla="*/ 0 h 830880"/>
                <a:gd name="textAreaBottom" fmla="*/ 831240 h 830880"/>
              </a:gdLst>
              <a:ahLst/>
              <a:rect l="textAreaLeft" t="textAreaTop" r="textAreaRight" b="textAreaBottom"/>
              <a:pathLst>
                <a:path w="51757" h="30421">
                  <a:moveTo>
                    <a:pt x="-27855" y="4444"/>
                  </a:moveTo>
                  <a:lnTo>
                    <a:pt x="-27262" y="5298"/>
                  </a:lnTo>
                  <a:lnTo>
                    <a:pt x="-26669" y="6210"/>
                  </a:lnTo>
                  <a:lnTo>
                    <a:pt x="-26155" y="7121"/>
                  </a:lnTo>
                  <a:lnTo>
                    <a:pt x="-25602" y="8033"/>
                  </a:lnTo>
                  <a:lnTo>
                    <a:pt x="-25048" y="8887"/>
                  </a:lnTo>
                  <a:lnTo>
                    <a:pt x="-24376" y="9742"/>
                  </a:lnTo>
                  <a:lnTo>
                    <a:pt x="-23625" y="10539"/>
                  </a:lnTo>
                  <a:lnTo>
                    <a:pt x="-22676" y="11308"/>
                  </a:lnTo>
                  <a:lnTo>
                    <a:pt x="-22557" y="11223"/>
                  </a:lnTo>
                  <a:lnTo>
                    <a:pt x="-21213" y="12248"/>
                  </a:lnTo>
                  <a:lnTo>
                    <a:pt x="-19631" y="13217"/>
                  </a:lnTo>
                  <a:lnTo>
                    <a:pt x="-17971" y="14157"/>
                  </a:lnTo>
                  <a:lnTo>
                    <a:pt x="-16389" y="15125"/>
                  </a:lnTo>
                  <a:lnTo>
                    <a:pt x="-15084" y="16150"/>
                  </a:lnTo>
                  <a:lnTo>
                    <a:pt x="-14135" y="17318"/>
                  </a:lnTo>
                  <a:lnTo>
                    <a:pt x="-13780" y="18657"/>
                  </a:lnTo>
                  <a:lnTo>
                    <a:pt x="-14096" y="20281"/>
                  </a:lnTo>
                  <a:lnTo>
                    <a:pt x="-14768" y="21477"/>
                  </a:lnTo>
                  <a:lnTo>
                    <a:pt x="-15559" y="22673"/>
                  </a:lnTo>
                  <a:lnTo>
                    <a:pt x="-16587" y="23784"/>
                  </a:lnTo>
                  <a:lnTo>
                    <a:pt x="-17734" y="24809"/>
                  </a:lnTo>
                  <a:lnTo>
                    <a:pt x="-19078" y="25664"/>
                  </a:lnTo>
                  <a:lnTo>
                    <a:pt x="-20580" y="26404"/>
                  </a:lnTo>
                  <a:lnTo>
                    <a:pt x="-22241" y="26946"/>
                  </a:lnTo>
                  <a:lnTo>
                    <a:pt x="-23981" y="27316"/>
                  </a:lnTo>
                  <a:lnTo>
                    <a:pt x="-24574" y="26632"/>
                  </a:lnTo>
                  <a:lnTo>
                    <a:pt x="-25127" y="25977"/>
                  </a:lnTo>
                  <a:lnTo>
                    <a:pt x="-25681" y="25294"/>
                  </a:lnTo>
                  <a:lnTo>
                    <a:pt x="-26195" y="24667"/>
                  </a:lnTo>
                  <a:lnTo>
                    <a:pt x="-26748" y="23983"/>
                  </a:lnTo>
                  <a:lnTo>
                    <a:pt x="-27223" y="23300"/>
                  </a:lnTo>
                  <a:lnTo>
                    <a:pt x="-27697" y="22588"/>
                  </a:lnTo>
                  <a:lnTo>
                    <a:pt x="-28093" y="21847"/>
                  </a:lnTo>
                  <a:lnTo>
                    <a:pt x="-28290" y="21733"/>
                  </a:lnTo>
                  <a:lnTo>
                    <a:pt x="-28369" y="21648"/>
                  </a:lnTo>
                  <a:lnTo>
                    <a:pt x="-28448" y="21477"/>
                  </a:lnTo>
                  <a:lnTo>
                    <a:pt x="-28448" y="21306"/>
                  </a:lnTo>
                  <a:lnTo>
                    <a:pt x="-28093" y="21477"/>
                  </a:lnTo>
                  <a:lnTo>
                    <a:pt x="-27737" y="21733"/>
                  </a:lnTo>
                  <a:lnTo>
                    <a:pt x="-27579" y="21819"/>
                  </a:lnTo>
                  <a:lnTo>
                    <a:pt x="-27381" y="21904"/>
                  </a:lnTo>
                  <a:lnTo>
                    <a:pt x="-27144" y="21961"/>
                  </a:lnTo>
                  <a:lnTo>
                    <a:pt x="-26867" y="22018"/>
                  </a:lnTo>
                  <a:lnTo>
                    <a:pt x="-26511" y="22103"/>
                  </a:lnTo>
                  <a:lnTo>
                    <a:pt x="-26155" y="22217"/>
                  </a:lnTo>
                  <a:lnTo>
                    <a:pt x="-25799" y="22274"/>
                  </a:lnTo>
                  <a:lnTo>
                    <a:pt x="-25404" y="22331"/>
                  </a:lnTo>
                  <a:lnTo>
                    <a:pt x="-25048" y="22331"/>
                  </a:lnTo>
                  <a:lnTo>
                    <a:pt x="-24653" y="22360"/>
                  </a:lnTo>
                  <a:lnTo>
                    <a:pt x="-24257" y="22360"/>
                  </a:lnTo>
                  <a:lnTo>
                    <a:pt x="-23862" y="22360"/>
                  </a:lnTo>
                  <a:lnTo>
                    <a:pt x="-23822" y="22445"/>
                  </a:lnTo>
                  <a:lnTo>
                    <a:pt x="-23743" y="22531"/>
                  </a:lnTo>
                  <a:lnTo>
                    <a:pt x="-23704" y="22360"/>
                  </a:lnTo>
                  <a:lnTo>
                    <a:pt x="-23625" y="22217"/>
                  </a:lnTo>
                  <a:lnTo>
                    <a:pt x="-23625" y="22047"/>
                  </a:lnTo>
                  <a:lnTo>
                    <a:pt x="-23585" y="21904"/>
                  </a:lnTo>
                  <a:lnTo>
                    <a:pt x="-23664" y="21733"/>
                  </a:lnTo>
                  <a:lnTo>
                    <a:pt x="-23783" y="21619"/>
                  </a:lnTo>
                  <a:lnTo>
                    <a:pt x="-23981" y="21534"/>
                  </a:lnTo>
                  <a:lnTo>
                    <a:pt x="-24218" y="21505"/>
                  </a:lnTo>
                  <a:lnTo>
                    <a:pt x="-24890" y="21391"/>
                  </a:lnTo>
                  <a:lnTo>
                    <a:pt x="-25523" y="21277"/>
                  </a:lnTo>
                  <a:lnTo>
                    <a:pt x="-26116" y="21135"/>
                  </a:lnTo>
                  <a:lnTo>
                    <a:pt x="-26669" y="20964"/>
                  </a:lnTo>
                  <a:lnTo>
                    <a:pt x="-27223" y="20708"/>
                  </a:lnTo>
                  <a:lnTo>
                    <a:pt x="-27658" y="20451"/>
                  </a:lnTo>
                  <a:lnTo>
                    <a:pt x="-28053" y="20110"/>
                  </a:lnTo>
                  <a:lnTo>
                    <a:pt x="-28330" y="19739"/>
                  </a:lnTo>
                  <a:lnTo>
                    <a:pt x="-27855" y="19967"/>
                  </a:lnTo>
                  <a:lnTo>
                    <a:pt x="-27341" y="20167"/>
                  </a:lnTo>
                  <a:lnTo>
                    <a:pt x="-26827" y="20338"/>
                  </a:lnTo>
                  <a:lnTo>
                    <a:pt x="-26234" y="20480"/>
                  </a:lnTo>
                  <a:lnTo>
                    <a:pt x="-25641" y="20537"/>
                  </a:lnTo>
                  <a:lnTo>
                    <a:pt x="-25048" y="20622"/>
                  </a:lnTo>
                  <a:lnTo>
                    <a:pt x="-24455" y="20679"/>
                  </a:lnTo>
                  <a:lnTo>
                    <a:pt x="-23862" y="20708"/>
                  </a:lnTo>
                  <a:lnTo>
                    <a:pt x="-23704" y="20651"/>
                  </a:lnTo>
                  <a:lnTo>
                    <a:pt x="-23506" y="20594"/>
                  </a:lnTo>
                  <a:lnTo>
                    <a:pt x="-23388" y="20480"/>
                  </a:lnTo>
                  <a:lnTo>
                    <a:pt x="-23150" y="20366"/>
                  </a:lnTo>
                  <a:lnTo>
                    <a:pt x="-23704" y="20053"/>
                  </a:lnTo>
                  <a:lnTo>
                    <a:pt x="-24257" y="19825"/>
                  </a:lnTo>
                  <a:lnTo>
                    <a:pt x="-24850" y="19654"/>
                  </a:lnTo>
                  <a:lnTo>
                    <a:pt x="-25404" y="19511"/>
                  </a:lnTo>
                  <a:lnTo>
                    <a:pt x="-26037" y="19312"/>
                  </a:lnTo>
                  <a:lnTo>
                    <a:pt x="-26669" y="19141"/>
                  </a:lnTo>
                  <a:lnTo>
                    <a:pt x="-27262" y="18913"/>
                  </a:lnTo>
                  <a:lnTo>
                    <a:pt x="-27855" y="18629"/>
                  </a:lnTo>
                  <a:lnTo>
                    <a:pt x="-28646" y="18173"/>
                  </a:lnTo>
                  <a:lnTo>
                    <a:pt x="-29239" y="17689"/>
                  </a:lnTo>
                  <a:lnTo>
                    <a:pt x="-29753" y="17147"/>
                  </a:lnTo>
                  <a:lnTo>
                    <a:pt x="-30149" y="16635"/>
                  </a:lnTo>
                  <a:lnTo>
                    <a:pt x="-30505" y="16037"/>
                  </a:lnTo>
                  <a:lnTo>
                    <a:pt x="-30821" y="15467"/>
                  </a:lnTo>
                  <a:lnTo>
                    <a:pt x="-31137" y="14869"/>
                  </a:lnTo>
                  <a:lnTo>
                    <a:pt x="-31493" y="14271"/>
                  </a:lnTo>
                  <a:lnTo>
                    <a:pt x="-31730" y="14242"/>
                  </a:lnTo>
                  <a:lnTo>
                    <a:pt x="-31849" y="14299"/>
                  </a:lnTo>
                  <a:lnTo>
                    <a:pt x="-31888" y="14385"/>
                  </a:lnTo>
                  <a:lnTo>
                    <a:pt x="-31888" y="14498"/>
                  </a:lnTo>
                  <a:lnTo>
                    <a:pt x="-31888" y="14755"/>
                  </a:lnTo>
                  <a:lnTo>
                    <a:pt x="-31967" y="14954"/>
                  </a:lnTo>
                  <a:lnTo>
                    <a:pt x="-31730" y="16806"/>
                  </a:lnTo>
                  <a:lnTo>
                    <a:pt x="-31256" y="18600"/>
                  </a:lnTo>
                  <a:lnTo>
                    <a:pt x="-30584" y="20338"/>
                  </a:lnTo>
                  <a:lnTo>
                    <a:pt x="-29714" y="22075"/>
                  </a:lnTo>
                  <a:lnTo>
                    <a:pt x="-28725" y="23727"/>
                  </a:lnTo>
                  <a:lnTo>
                    <a:pt x="-27579" y="25379"/>
                  </a:lnTo>
                  <a:lnTo>
                    <a:pt x="-26313" y="27003"/>
                  </a:lnTo>
                  <a:lnTo>
                    <a:pt x="-24969" y="28626"/>
                  </a:lnTo>
                  <a:lnTo>
                    <a:pt x="-25720" y="28712"/>
                  </a:lnTo>
                  <a:lnTo>
                    <a:pt x="-26432" y="28740"/>
                  </a:lnTo>
                  <a:lnTo>
                    <a:pt x="-27065" y="28683"/>
                  </a:lnTo>
                  <a:lnTo>
                    <a:pt x="-27658" y="28626"/>
                  </a:lnTo>
                  <a:lnTo>
                    <a:pt x="-28290" y="28569"/>
                  </a:lnTo>
                  <a:lnTo>
                    <a:pt x="-28883" y="28598"/>
                  </a:lnTo>
                  <a:lnTo>
                    <a:pt x="-29516" y="28740"/>
                  </a:lnTo>
                  <a:lnTo>
                    <a:pt x="-30149" y="29053"/>
                  </a:lnTo>
                  <a:lnTo>
                    <a:pt x="32580" y="29737"/>
                  </a:lnTo>
                  <a:lnTo>
                    <a:pt x="29812" y="30193"/>
                  </a:lnTo>
                  <a:lnTo>
                    <a:pt x="26966" y="30392"/>
                  </a:lnTo>
                  <a:lnTo>
                    <a:pt x="24119" y="30421"/>
                  </a:lnTo>
                  <a:lnTo>
                    <a:pt x="21193" y="30278"/>
                  </a:lnTo>
                  <a:lnTo>
                    <a:pt x="18267" y="30050"/>
                  </a:lnTo>
                  <a:lnTo>
                    <a:pt x="15302" y="29737"/>
                  </a:lnTo>
                  <a:lnTo>
                    <a:pt x="12336" y="29424"/>
                  </a:lnTo>
                  <a:lnTo>
                    <a:pt x="10873" y="29281"/>
                  </a:lnTo>
                  <a:lnTo>
                    <a:pt x="9450" y="29139"/>
                  </a:lnTo>
                  <a:lnTo>
                    <a:pt x="8027" y="28968"/>
                  </a:lnTo>
                  <a:lnTo>
                    <a:pt x="6603" y="28826"/>
                  </a:lnTo>
                  <a:lnTo>
                    <a:pt x="5140" y="28655"/>
                  </a:lnTo>
                  <a:lnTo>
                    <a:pt x="3717" y="28512"/>
                  </a:lnTo>
                  <a:lnTo>
                    <a:pt x="2254" y="28370"/>
                  </a:lnTo>
                  <a:lnTo>
                    <a:pt x="830" y="28284"/>
                  </a:lnTo>
                  <a:lnTo>
                    <a:pt x="751" y="28056"/>
                  </a:lnTo>
                  <a:lnTo>
                    <a:pt x="672" y="27914"/>
                  </a:lnTo>
                  <a:lnTo>
                    <a:pt x="554" y="27829"/>
                  </a:lnTo>
                  <a:lnTo>
                    <a:pt x="435" y="27743"/>
                  </a:lnTo>
                  <a:lnTo>
                    <a:pt x="277" y="27658"/>
                  </a:lnTo>
                  <a:lnTo>
                    <a:pt x="158" y="27572"/>
                  </a:lnTo>
                  <a:lnTo>
                    <a:pt x="40" y="27458"/>
                  </a:lnTo>
                  <a:lnTo>
                    <a:pt x="0" y="27316"/>
                  </a:lnTo>
                  <a:lnTo>
                    <a:pt x="0" y="26518"/>
                  </a:lnTo>
                  <a:lnTo>
                    <a:pt x="119" y="25778"/>
                  </a:lnTo>
                  <a:lnTo>
                    <a:pt x="356" y="25037"/>
                  </a:lnTo>
                  <a:lnTo>
                    <a:pt x="712" y="24354"/>
                  </a:lnTo>
                  <a:lnTo>
                    <a:pt x="1068" y="23642"/>
                  </a:lnTo>
                  <a:lnTo>
                    <a:pt x="1503" y="22958"/>
                  </a:lnTo>
                  <a:lnTo>
                    <a:pt x="1938" y="22274"/>
                  </a:lnTo>
                  <a:lnTo>
                    <a:pt x="2412" y="21591"/>
                  </a:lnTo>
                  <a:lnTo>
                    <a:pt x="2135" y="21021"/>
                  </a:lnTo>
                  <a:lnTo>
                    <a:pt x="2056" y="20480"/>
                  </a:lnTo>
                  <a:lnTo>
                    <a:pt x="2096" y="19967"/>
                  </a:lnTo>
                  <a:lnTo>
                    <a:pt x="2214" y="19455"/>
                  </a:lnTo>
                  <a:lnTo>
                    <a:pt x="2333" y="18942"/>
                  </a:lnTo>
                  <a:lnTo>
                    <a:pt x="2491" y="18458"/>
                  </a:lnTo>
                  <a:lnTo>
                    <a:pt x="2570" y="17973"/>
                  </a:lnTo>
                  <a:lnTo>
                    <a:pt x="2649" y="17489"/>
                  </a:lnTo>
                  <a:lnTo>
                    <a:pt x="2768" y="17261"/>
                  </a:lnTo>
                  <a:lnTo>
                    <a:pt x="3045" y="17147"/>
                  </a:lnTo>
                  <a:lnTo>
                    <a:pt x="3242" y="17005"/>
                  </a:lnTo>
                  <a:lnTo>
                    <a:pt x="3242" y="16806"/>
                  </a:lnTo>
                  <a:lnTo>
                    <a:pt x="3638" y="16920"/>
                  </a:lnTo>
                  <a:lnTo>
                    <a:pt x="4112" y="17005"/>
                  </a:lnTo>
                  <a:lnTo>
                    <a:pt x="4547" y="16976"/>
                  </a:lnTo>
                  <a:lnTo>
                    <a:pt x="4982" y="16948"/>
                  </a:lnTo>
                  <a:lnTo>
                    <a:pt x="5338" y="16863"/>
                  </a:lnTo>
                  <a:lnTo>
                    <a:pt x="5733" y="16777"/>
                  </a:lnTo>
                  <a:lnTo>
                    <a:pt x="6050" y="16720"/>
                  </a:lnTo>
                  <a:lnTo>
                    <a:pt x="6287" y="16720"/>
                  </a:lnTo>
                  <a:lnTo>
                    <a:pt x="7394" y="17347"/>
                  </a:lnTo>
                  <a:lnTo>
                    <a:pt x="8461" y="18030"/>
                  </a:lnTo>
                  <a:lnTo>
                    <a:pt x="9410" y="18714"/>
                  </a:lnTo>
                  <a:lnTo>
                    <a:pt x="10399" y="19398"/>
                  </a:lnTo>
                  <a:lnTo>
                    <a:pt x="11348" y="20024"/>
                  </a:lnTo>
                  <a:lnTo>
                    <a:pt x="12336" y="20651"/>
                  </a:lnTo>
                  <a:lnTo>
                    <a:pt x="13364" y="21220"/>
                  </a:lnTo>
                  <a:lnTo>
                    <a:pt x="14511" y="21762"/>
                  </a:lnTo>
                  <a:lnTo>
                    <a:pt x="14748" y="21819"/>
                  </a:lnTo>
                  <a:lnTo>
                    <a:pt x="15025" y="21705"/>
                  </a:lnTo>
                  <a:lnTo>
                    <a:pt x="15302" y="21505"/>
                  </a:lnTo>
                  <a:lnTo>
                    <a:pt x="15578" y="21420"/>
                  </a:lnTo>
                  <a:lnTo>
                    <a:pt x="15737" y="21021"/>
                  </a:lnTo>
                  <a:lnTo>
                    <a:pt x="15855" y="20622"/>
                  </a:lnTo>
                  <a:lnTo>
                    <a:pt x="15895" y="20195"/>
                  </a:lnTo>
                  <a:lnTo>
                    <a:pt x="15934" y="19796"/>
                  </a:lnTo>
                  <a:lnTo>
                    <a:pt x="15895" y="19369"/>
                  </a:lnTo>
                  <a:lnTo>
                    <a:pt x="15895" y="18942"/>
                  </a:lnTo>
                  <a:lnTo>
                    <a:pt x="15895" y="18515"/>
                  </a:lnTo>
                  <a:lnTo>
                    <a:pt x="16053" y="18087"/>
                  </a:lnTo>
                  <a:lnTo>
                    <a:pt x="16132" y="18287"/>
                  </a:lnTo>
                  <a:lnTo>
                    <a:pt x="16330" y="18486"/>
                  </a:lnTo>
                  <a:lnTo>
                    <a:pt x="16527" y="18657"/>
                  </a:lnTo>
                  <a:lnTo>
                    <a:pt x="16765" y="18856"/>
                  </a:lnTo>
                  <a:lnTo>
                    <a:pt x="17002" y="18999"/>
                  </a:lnTo>
                  <a:lnTo>
                    <a:pt x="17239" y="19141"/>
                  </a:lnTo>
                  <a:lnTo>
                    <a:pt x="17476" y="19312"/>
                  </a:lnTo>
                  <a:lnTo>
                    <a:pt x="17753" y="19483"/>
                  </a:lnTo>
                  <a:lnTo>
                    <a:pt x="18188" y="19511"/>
                  </a:lnTo>
                  <a:lnTo>
                    <a:pt x="18544" y="19483"/>
                  </a:lnTo>
                  <a:lnTo>
                    <a:pt x="18821" y="19312"/>
                  </a:lnTo>
                  <a:lnTo>
                    <a:pt x="19097" y="19113"/>
                  </a:lnTo>
                  <a:lnTo>
                    <a:pt x="19256" y="18828"/>
                  </a:lnTo>
                  <a:lnTo>
                    <a:pt x="19453" y="18572"/>
                  </a:lnTo>
                  <a:lnTo>
                    <a:pt x="19611" y="18287"/>
                  </a:lnTo>
                  <a:lnTo>
                    <a:pt x="19809" y="18087"/>
                  </a:lnTo>
                  <a:lnTo>
                    <a:pt x="20600" y="16720"/>
                  </a:lnTo>
                  <a:lnTo>
                    <a:pt x="21509" y="15438"/>
                  </a:lnTo>
                  <a:lnTo>
                    <a:pt x="22537" y="14185"/>
                  </a:lnTo>
                  <a:lnTo>
                    <a:pt x="23605" y="12960"/>
                  </a:lnTo>
                  <a:lnTo>
                    <a:pt x="24633" y="11707"/>
                  </a:lnTo>
                  <a:lnTo>
                    <a:pt x="25661" y="10482"/>
                  </a:lnTo>
                  <a:lnTo>
                    <a:pt x="26570" y="9201"/>
                  </a:lnTo>
                  <a:lnTo>
                    <a:pt x="27401" y="7919"/>
                  </a:lnTo>
                  <a:lnTo>
                    <a:pt x="27796" y="7748"/>
                  </a:lnTo>
                  <a:lnTo>
                    <a:pt x="27875" y="7634"/>
                  </a:lnTo>
                  <a:lnTo>
                    <a:pt x="27954" y="7520"/>
                  </a:lnTo>
                  <a:lnTo>
                    <a:pt x="27994" y="7349"/>
                  </a:lnTo>
                  <a:lnTo>
                    <a:pt x="28073" y="7207"/>
                  </a:lnTo>
                  <a:lnTo>
                    <a:pt x="28112" y="7007"/>
                  </a:lnTo>
                  <a:lnTo>
                    <a:pt x="28152" y="6836"/>
                  </a:lnTo>
                  <a:lnTo>
                    <a:pt x="28152" y="6666"/>
                  </a:lnTo>
                  <a:lnTo>
                    <a:pt x="28152" y="6523"/>
                  </a:lnTo>
                  <a:lnTo>
                    <a:pt x="28429" y="6153"/>
                  </a:lnTo>
                  <a:lnTo>
                    <a:pt x="28705" y="5811"/>
                  </a:lnTo>
                  <a:lnTo>
                    <a:pt x="28943" y="5469"/>
                  </a:lnTo>
                  <a:lnTo>
                    <a:pt x="29219" y="5127"/>
                  </a:lnTo>
                  <a:lnTo>
                    <a:pt x="29417" y="4757"/>
                  </a:lnTo>
                  <a:lnTo>
                    <a:pt x="29615" y="4387"/>
                  </a:lnTo>
                  <a:lnTo>
                    <a:pt x="29733" y="4017"/>
                  </a:lnTo>
                  <a:lnTo>
                    <a:pt x="29852" y="3646"/>
                  </a:lnTo>
                  <a:lnTo>
                    <a:pt x="30208" y="3134"/>
                  </a:lnTo>
                  <a:lnTo>
                    <a:pt x="30445" y="2649"/>
                  </a:lnTo>
                  <a:lnTo>
                    <a:pt x="30603" y="2165"/>
                  </a:lnTo>
                  <a:lnTo>
                    <a:pt x="30761" y="1681"/>
                  </a:lnTo>
                  <a:lnTo>
                    <a:pt x="30880" y="1197"/>
                  </a:lnTo>
                  <a:lnTo>
                    <a:pt x="31157" y="770"/>
                  </a:lnTo>
                  <a:lnTo>
                    <a:pt x="31513" y="342"/>
                  </a:lnTo>
                  <a:lnTo>
                    <a:pt x="32027" y="0"/>
                  </a:lnTo>
                  <a:lnTo>
                    <a:pt x="-32442" y="257"/>
                  </a:lnTo>
                  <a:lnTo>
                    <a:pt x="-31533" y="684"/>
                  </a:lnTo>
                  <a:lnTo>
                    <a:pt x="-30781" y="1197"/>
                  </a:lnTo>
                  <a:lnTo>
                    <a:pt x="-30149" y="1823"/>
                  </a:lnTo>
                  <a:lnTo>
                    <a:pt x="-29635" y="2478"/>
                  </a:lnTo>
                  <a:lnTo>
                    <a:pt x="-29081" y="3134"/>
                  </a:lnTo>
                  <a:lnTo>
                    <a:pt x="-28528" y="3789"/>
                  </a:lnTo>
                  <a:lnTo>
                    <a:pt x="-27855" y="4444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Shape 667"/>
            <p:cNvSpPr/>
            <p:nvPr/>
          </p:nvSpPr>
          <p:spPr>
            <a:xfrm>
              <a:off x="7234920" y="4691160"/>
              <a:ext cx="261360" cy="48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3286" h="17660">
                  <a:moveTo>
                    <a:pt x="12099" y="3675"/>
                  </a:moveTo>
                  <a:lnTo>
                    <a:pt x="11624" y="4501"/>
                  </a:lnTo>
                  <a:lnTo>
                    <a:pt x="11190" y="5355"/>
                  </a:lnTo>
                  <a:lnTo>
                    <a:pt x="10676" y="6210"/>
                  </a:lnTo>
                  <a:lnTo>
                    <a:pt x="10201" y="7093"/>
                  </a:lnTo>
                  <a:lnTo>
                    <a:pt x="9648" y="7947"/>
                  </a:lnTo>
                  <a:lnTo>
                    <a:pt x="9094" y="8802"/>
                  </a:lnTo>
                  <a:lnTo>
                    <a:pt x="8461" y="9656"/>
                  </a:lnTo>
                  <a:lnTo>
                    <a:pt x="7868" y="10539"/>
                  </a:lnTo>
                  <a:lnTo>
                    <a:pt x="7236" y="11223"/>
                  </a:lnTo>
                  <a:lnTo>
                    <a:pt x="6643" y="11935"/>
                  </a:lnTo>
                  <a:lnTo>
                    <a:pt x="5970" y="12675"/>
                  </a:lnTo>
                  <a:lnTo>
                    <a:pt x="5338" y="13444"/>
                  </a:lnTo>
                  <a:lnTo>
                    <a:pt x="4705" y="14213"/>
                  </a:lnTo>
                  <a:lnTo>
                    <a:pt x="4112" y="14982"/>
                  </a:lnTo>
                  <a:lnTo>
                    <a:pt x="3559" y="15780"/>
                  </a:lnTo>
                  <a:lnTo>
                    <a:pt x="3163" y="16634"/>
                  </a:lnTo>
                  <a:lnTo>
                    <a:pt x="2886" y="16862"/>
                  </a:lnTo>
                  <a:lnTo>
                    <a:pt x="2649" y="17090"/>
                  </a:lnTo>
                  <a:lnTo>
                    <a:pt x="2531" y="17204"/>
                  </a:lnTo>
                  <a:lnTo>
                    <a:pt x="2451" y="17347"/>
                  </a:lnTo>
                  <a:lnTo>
                    <a:pt x="2372" y="17489"/>
                  </a:lnTo>
                  <a:lnTo>
                    <a:pt x="2293" y="17660"/>
                  </a:lnTo>
                  <a:lnTo>
                    <a:pt x="1977" y="17404"/>
                  </a:lnTo>
                  <a:lnTo>
                    <a:pt x="1740" y="17204"/>
                  </a:lnTo>
                  <a:lnTo>
                    <a:pt x="1503" y="17005"/>
                  </a:lnTo>
                  <a:lnTo>
                    <a:pt x="1305" y="16834"/>
                  </a:lnTo>
                  <a:lnTo>
                    <a:pt x="1068" y="16634"/>
                  </a:lnTo>
                  <a:lnTo>
                    <a:pt x="870" y="16464"/>
                  </a:lnTo>
                  <a:lnTo>
                    <a:pt x="633" y="16236"/>
                  </a:lnTo>
                  <a:lnTo>
                    <a:pt x="356" y="16008"/>
                  </a:lnTo>
                  <a:lnTo>
                    <a:pt x="316" y="15267"/>
                  </a:lnTo>
                  <a:lnTo>
                    <a:pt x="395" y="14555"/>
                  </a:lnTo>
                  <a:lnTo>
                    <a:pt x="475" y="13872"/>
                  </a:lnTo>
                  <a:lnTo>
                    <a:pt x="593" y="13188"/>
                  </a:lnTo>
                  <a:lnTo>
                    <a:pt x="593" y="12504"/>
                  </a:lnTo>
                  <a:lnTo>
                    <a:pt x="514" y="11821"/>
                  </a:lnTo>
                  <a:lnTo>
                    <a:pt x="316" y="11166"/>
                  </a:lnTo>
                  <a:lnTo>
                    <a:pt x="0" y="10539"/>
                  </a:lnTo>
                  <a:lnTo>
                    <a:pt x="237" y="10511"/>
                  </a:lnTo>
                  <a:lnTo>
                    <a:pt x="475" y="10454"/>
                  </a:lnTo>
                  <a:lnTo>
                    <a:pt x="672" y="10368"/>
                  </a:lnTo>
                  <a:lnTo>
                    <a:pt x="909" y="10283"/>
                  </a:lnTo>
                  <a:lnTo>
                    <a:pt x="1107" y="10140"/>
                  </a:lnTo>
                  <a:lnTo>
                    <a:pt x="1305" y="10055"/>
                  </a:lnTo>
                  <a:lnTo>
                    <a:pt x="1542" y="9912"/>
                  </a:lnTo>
                  <a:lnTo>
                    <a:pt x="1819" y="9827"/>
                  </a:lnTo>
                  <a:lnTo>
                    <a:pt x="2451" y="9400"/>
                  </a:lnTo>
                  <a:lnTo>
                    <a:pt x="3203" y="9001"/>
                  </a:lnTo>
                  <a:lnTo>
                    <a:pt x="3954" y="8631"/>
                  </a:lnTo>
                  <a:lnTo>
                    <a:pt x="4745" y="8260"/>
                  </a:lnTo>
                  <a:lnTo>
                    <a:pt x="5456" y="7805"/>
                  </a:lnTo>
                  <a:lnTo>
                    <a:pt x="6208" y="7377"/>
                  </a:lnTo>
                  <a:lnTo>
                    <a:pt x="6801" y="6865"/>
                  </a:lnTo>
                  <a:lnTo>
                    <a:pt x="7354" y="6352"/>
                  </a:lnTo>
                  <a:lnTo>
                    <a:pt x="7512" y="6437"/>
                  </a:lnTo>
                  <a:lnTo>
                    <a:pt x="8145" y="5982"/>
                  </a:lnTo>
                  <a:lnTo>
                    <a:pt x="8778" y="5498"/>
                  </a:lnTo>
                  <a:lnTo>
                    <a:pt x="9331" y="4985"/>
                  </a:lnTo>
                  <a:lnTo>
                    <a:pt x="9924" y="4501"/>
                  </a:lnTo>
                  <a:lnTo>
                    <a:pt x="10438" y="3931"/>
                  </a:lnTo>
                  <a:lnTo>
                    <a:pt x="10992" y="3418"/>
                  </a:lnTo>
                  <a:lnTo>
                    <a:pt x="11466" y="2877"/>
                  </a:lnTo>
                  <a:lnTo>
                    <a:pt x="11980" y="2364"/>
                  </a:lnTo>
                  <a:lnTo>
                    <a:pt x="12099" y="2450"/>
                  </a:lnTo>
                  <a:lnTo>
                    <a:pt x="12178" y="2279"/>
                  </a:lnTo>
                  <a:lnTo>
                    <a:pt x="12178" y="2080"/>
                  </a:lnTo>
                  <a:lnTo>
                    <a:pt x="12138" y="1880"/>
                  </a:lnTo>
                  <a:lnTo>
                    <a:pt x="12218" y="1738"/>
                  </a:lnTo>
                  <a:lnTo>
                    <a:pt x="12376" y="1652"/>
                  </a:lnTo>
                  <a:lnTo>
                    <a:pt x="12573" y="1567"/>
                  </a:lnTo>
                  <a:lnTo>
                    <a:pt x="12494" y="1367"/>
                  </a:lnTo>
                  <a:lnTo>
                    <a:pt x="12534" y="1197"/>
                  </a:lnTo>
                  <a:lnTo>
                    <a:pt x="12613" y="997"/>
                  </a:lnTo>
                  <a:lnTo>
                    <a:pt x="12771" y="826"/>
                  </a:lnTo>
                  <a:lnTo>
                    <a:pt x="12890" y="598"/>
                  </a:lnTo>
                  <a:lnTo>
                    <a:pt x="13048" y="399"/>
                  </a:lnTo>
                  <a:lnTo>
                    <a:pt x="13166" y="171"/>
                  </a:lnTo>
                  <a:lnTo>
                    <a:pt x="13285" y="0"/>
                  </a:lnTo>
                  <a:lnTo>
                    <a:pt x="13285" y="342"/>
                  </a:lnTo>
                  <a:lnTo>
                    <a:pt x="13285" y="769"/>
                  </a:lnTo>
                  <a:lnTo>
                    <a:pt x="13166" y="1225"/>
                  </a:lnTo>
                  <a:lnTo>
                    <a:pt x="13048" y="1738"/>
                  </a:lnTo>
                  <a:lnTo>
                    <a:pt x="12811" y="2222"/>
                  </a:lnTo>
                  <a:lnTo>
                    <a:pt x="12613" y="2735"/>
                  </a:lnTo>
                  <a:lnTo>
                    <a:pt x="12336" y="3190"/>
                  </a:lnTo>
                  <a:lnTo>
                    <a:pt x="12099" y="3675"/>
                  </a:lnTo>
                  <a:close/>
                </a:path>
              </a:pathLst>
            </a:custGeom>
            <a:solidFill>
              <a:srgbClr val="2e6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Shape 668"/>
            <p:cNvSpPr/>
            <p:nvPr/>
          </p:nvSpPr>
          <p:spPr>
            <a:xfrm>
              <a:off x="6058080" y="4762080"/>
              <a:ext cx="219240" cy="4161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11151" h="15239">
                  <a:moveTo>
                    <a:pt x="3519" y="627"/>
                  </a:moveTo>
                  <a:lnTo>
                    <a:pt x="3361" y="1253"/>
                  </a:lnTo>
                  <a:lnTo>
                    <a:pt x="3401" y="1909"/>
                  </a:lnTo>
                  <a:lnTo>
                    <a:pt x="3559" y="2564"/>
                  </a:lnTo>
                  <a:lnTo>
                    <a:pt x="3915" y="3190"/>
                  </a:lnTo>
                  <a:lnTo>
                    <a:pt x="4310" y="3760"/>
                  </a:lnTo>
                  <a:lnTo>
                    <a:pt x="4864" y="4273"/>
                  </a:lnTo>
                  <a:lnTo>
                    <a:pt x="5457" y="4728"/>
                  </a:lnTo>
                  <a:lnTo>
                    <a:pt x="6169" y="5156"/>
                  </a:lnTo>
                  <a:lnTo>
                    <a:pt x="6603" y="5213"/>
                  </a:lnTo>
                  <a:lnTo>
                    <a:pt x="7117" y="5298"/>
                  </a:lnTo>
                  <a:lnTo>
                    <a:pt x="7631" y="5384"/>
                  </a:lnTo>
                  <a:lnTo>
                    <a:pt x="8185" y="5554"/>
                  </a:lnTo>
                  <a:lnTo>
                    <a:pt x="8620" y="5754"/>
                  </a:lnTo>
                  <a:lnTo>
                    <a:pt x="9055" y="6039"/>
                  </a:lnTo>
                  <a:lnTo>
                    <a:pt x="9332" y="6380"/>
                  </a:lnTo>
                  <a:lnTo>
                    <a:pt x="9529" y="6893"/>
                  </a:lnTo>
                  <a:lnTo>
                    <a:pt x="9688" y="7377"/>
                  </a:lnTo>
                  <a:lnTo>
                    <a:pt x="9846" y="7890"/>
                  </a:lnTo>
                  <a:lnTo>
                    <a:pt x="9964" y="8403"/>
                  </a:lnTo>
                  <a:lnTo>
                    <a:pt x="10122" y="8944"/>
                  </a:lnTo>
                  <a:lnTo>
                    <a:pt x="10241" y="9457"/>
                  </a:lnTo>
                  <a:lnTo>
                    <a:pt x="10360" y="9969"/>
                  </a:lnTo>
                  <a:lnTo>
                    <a:pt x="10478" y="10482"/>
                  </a:lnTo>
                  <a:lnTo>
                    <a:pt x="10636" y="10995"/>
                  </a:lnTo>
                  <a:lnTo>
                    <a:pt x="11111" y="10995"/>
                  </a:lnTo>
                  <a:lnTo>
                    <a:pt x="11150" y="11536"/>
                  </a:lnTo>
                  <a:lnTo>
                    <a:pt x="11150" y="12106"/>
                  </a:lnTo>
                  <a:lnTo>
                    <a:pt x="11032" y="12647"/>
                  </a:lnTo>
                  <a:lnTo>
                    <a:pt x="10913" y="13216"/>
                  </a:lnTo>
                  <a:lnTo>
                    <a:pt x="10676" y="13729"/>
                  </a:lnTo>
                  <a:lnTo>
                    <a:pt x="10439" y="14242"/>
                  </a:lnTo>
                  <a:lnTo>
                    <a:pt x="10162" y="14726"/>
                  </a:lnTo>
                  <a:lnTo>
                    <a:pt x="9925" y="15239"/>
                  </a:lnTo>
                  <a:lnTo>
                    <a:pt x="9529" y="15039"/>
                  </a:lnTo>
                  <a:lnTo>
                    <a:pt x="9213" y="14840"/>
                  </a:lnTo>
                  <a:lnTo>
                    <a:pt x="8897" y="14612"/>
                  </a:lnTo>
                  <a:lnTo>
                    <a:pt x="8620" y="14384"/>
                  </a:lnTo>
                  <a:lnTo>
                    <a:pt x="8304" y="14099"/>
                  </a:lnTo>
                  <a:lnTo>
                    <a:pt x="7987" y="13843"/>
                  </a:lnTo>
                  <a:lnTo>
                    <a:pt x="7671" y="13587"/>
                  </a:lnTo>
                  <a:lnTo>
                    <a:pt x="7355" y="13330"/>
                  </a:lnTo>
                  <a:lnTo>
                    <a:pt x="6564" y="13416"/>
                  </a:lnTo>
                  <a:lnTo>
                    <a:pt x="5852" y="13473"/>
                  </a:lnTo>
                  <a:lnTo>
                    <a:pt x="5141" y="13473"/>
                  </a:lnTo>
                  <a:lnTo>
                    <a:pt x="4508" y="13416"/>
                  </a:lnTo>
                  <a:lnTo>
                    <a:pt x="3836" y="13245"/>
                  </a:lnTo>
                  <a:lnTo>
                    <a:pt x="3243" y="13046"/>
                  </a:lnTo>
                  <a:lnTo>
                    <a:pt x="2650" y="12732"/>
                  </a:lnTo>
                  <a:lnTo>
                    <a:pt x="2057" y="12390"/>
                  </a:lnTo>
                  <a:lnTo>
                    <a:pt x="1938" y="11821"/>
                  </a:lnTo>
                  <a:lnTo>
                    <a:pt x="1938" y="11280"/>
                  </a:lnTo>
                  <a:lnTo>
                    <a:pt x="1938" y="10767"/>
                  </a:lnTo>
                  <a:lnTo>
                    <a:pt x="1938" y="10254"/>
                  </a:lnTo>
                  <a:lnTo>
                    <a:pt x="1898" y="9742"/>
                  </a:lnTo>
                  <a:lnTo>
                    <a:pt x="1898" y="9257"/>
                  </a:lnTo>
                  <a:lnTo>
                    <a:pt x="1859" y="8773"/>
                  </a:lnTo>
                  <a:lnTo>
                    <a:pt x="1819" y="8289"/>
                  </a:lnTo>
                  <a:lnTo>
                    <a:pt x="2017" y="8460"/>
                  </a:lnTo>
                  <a:lnTo>
                    <a:pt x="2333" y="8631"/>
                  </a:lnTo>
                  <a:lnTo>
                    <a:pt x="2650" y="8745"/>
                  </a:lnTo>
                  <a:lnTo>
                    <a:pt x="3005" y="8887"/>
                  </a:lnTo>
                  <a:lnTo>
                    <a:pt x="3361" y="8944"/>
                  </a:lnTo>
                  <a:lnTo>
                    <a:pt x="3717" y="8972"/>
                  </a:lnTo>
                  <a:lnTo>
                    <a:pt x="4073" y="8944"/>
                  </a:lnTo>
                  <a:lnTo>
                    <a:pt x="4468" y="8887"/>
                  </a:lnTo>
                  <a:lnTo>
                    <a:pt x="4706" y="8745"/>
                  </a:lnTo>
                  <a:lnTo>
                    <a:pt x="5061" y="8716"/>
                  </a:lnTo>
                  <a:lnTo>
                    <a:pt x="5180" y="8659"/>
                  </a:lnTo>
                  <a:lnTo>
                    <a:pt x="5338" y="8631"/>
                  </a:lnTo>
                  <a:lnTo>
                    <a:pt x="5417" y="8517"/>
                  </a:lnTo>
                  <a:lnTo>
                    <a:pt x="5457" y="8374"/>
                  </a:lnTo>
                  <a:lnTo>
                    <a:pt x="5061" y="8175"/>
                  </a:lnTo>
                  <a:lnTo>
                    <a:pt x="4706" y="8061"/>
                  </a:lnTo>
                  <a:lnTo>
                    <a:pt x="4310" y="8004"/>
                  </a:lnTo>
                  <a:lnTo>
                    <a:pt x="3954" y="7976"/>
                  </a:lnTo>
                  <a:lnTo>
                    <a:pt x="3599" y="7890"/>
                  </a:lnTo>
                  <a:lnTo>
                    <a:pt x="3243" y="7805"/>
                  </a:lnTo>
                  <a:lnTo>
                    <a:pt x="2966" y="7605"/>
                  </a:lnTo>
                  <a:lnTo>
                    <a:pt x="2768" y="7349"/>
                  </a:lnTo>
                  <a:lnTo>
                    <a:pt x="2689" y="6950"/>
                  </a:lnTo>
                  <a:lnTo>
                    <a:pt x="2768" y="6580"/>
                  </a:lnTo>
                  <a:lnTo>
                    <a:pt x="2887" y="6210"/>
                  </a:lnTo>
                  <a:lnTo>
                    <a:pt x="3045" y="5896"/>
                  </a:lnTo>
                  <a:lnTo>
                    <a:pt x="3085" y="5583"/>
                  </a:lnTo>
                  <a:lnTo>
                    <a:pt x="2966" y="5384"/>
                  </a:lnTo>
                  <a:lnTo>
                    <a:pt x="2610" y="5241"/>
                  </a:lnTo>
                  <a:lnTo>
                    <a:pt x="1938" y="5241"/>
                  </a:lnTo>
                  <a:lnTo>
                    <a:pt x="1701" y="5355"/>
                  </a:lnTo>
                  <a:lnTo>
                    <a:pt x="1384" y="5327"/>
                  </a:lnTo>
                  <a:lnTo>
                    <a:pt x="989" y="5156"/>
                  </a:lnTo>
                  <a:lnTo>
                    <a:pt x="831" y="4985"/>
                  </a:lnTo>
                  <a:lnTo>
                    <a:pt x="475" y="4643"/>
                  </a:lnTo>
                  <a:lnTo>
                    <a:pt x="277" y="4301"/>
                  </a:lnTo>
                  <a:lnTo>
                    <a:pt x="119" y="3931"/>
                  </a:lnTo>
                  <a:lnTo>
                    <a:pt x="40" y="3561"/>
                  </a:lnTo>
                  <a:lnTo>
                    <a:pt x="1" y="3133"/>
                  </a:lnTo>
                  <a:lnTo>
                    <a:pt x="1" y="2735"/>
                  </a:lnTo>
                  <a:lnTo>
                    <a:pt x="40" y="2307"/>
                  </a:lnTo>
                  <a:lnTo>
                    <a:pt x="119" y="1937"/>
                  </a:lnTo>
                  <a:lnTo>
                    <a:pt x="356" y="1624"/>
                  </a:lnTo>
                  <a:lnTo>
                    <a:pt x="633" y="1310"/>
                  </a:lnTo>
                  <a:lnTo>
                    <a:pt x="910" y="969"/>
                  </a:lnTo>
                  <a:lnTo>
                    <a:pt x="1266" y="655"/>
                  </a:lnTo>
                  <a:lnTo>
                    <a:pt x="1582" y="342"/>
                  </a:lnTo>
                  <a:lnTo>
                    <a:pt x="2017" y="143"/>
                  </a:lnTo>
                  <a:lnTo>
                    <a:pt x="2491" y="0"/>
                  </a:lnTo>
                  <a:lnTo>
                    <a:pt x="3124" y="29"/>
                  </a:lnTo>
                  <a:lnTo>
                    <a:pt x="3519" y="627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Shape 669"/>
            <p:cNvSpPr/>
            <p:nvPr/>
          </p:nvSpPr>
          <p:spPr>
            <a:xfrm>
              <a:off x="5820840" y="4801680"/>
              <a:ext cx="128880" cy="69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564" h="2565">
                  <a:moveTo>
                    <a:pt x="1424" y="58"/>
                  </a:moveTo>
                  <a:lnTo>
                    <a:pt x="1621" y="143"/>
                  </a:lnTo>
                  <a:lnTo>
                    <a:pt x="1859" y="200"/>
                  </a:lnTo>
                  <a:lnTo>
                    <a:pt x="2096" y="172"/>
                  </a:lnTo>
                  <a:lnTo>
                    <a:pt x="2412" y="143"/>
                  </a:lnTo>
                  <a:lnTo>
                    <a:pt x="2649" y="58"/>
                  </a:lnTo>
                  <a:lnTo>
                    <a:pt x="2926" y="29"/>
                  </a:lnTo>
                  <a:lnTo>
                    <a:pt x="3163" y="1"/>
                  </a:lnTo>
                  <a:lnTo>
                    <a:pt x="3361" y="58"/>
                  </a:lnTo>
                  <a:lnTo>
                    <a:pt x="3717" y="143"/>
                  </a:lnTo>
                  <a:lnTo>
                    <a:pt x="4152" y="172"/>
                  </a:lnTo>
                  <a:lnTo>
                    <a:pt x="4626" y="172"/>
                  </a:lnTo>
                  <a:lnTo>
                    <a:pt x="5101" y="200"/>
                  </a:lnTo>
                  <a:lnTo>
                    <a:pt x="5496" y="229"/>
                  </a:lnTo>
                  <a:lnTo>
                    <a:pt x="5931" y="343"/>
                  </a:lnTo>
                  <a:lnTo>
                    <a:pt x="6247" y="514"/>
                  </a:lnTo>
                  <a:lnTo>
                    <a:pt x="6524" y="827"/>
                  </a:lnTo>
                  <a:lnTo>
                    <a:pt x="6564" y="1083"/>
                  </a:lnTo>
                  <a:lnTo>
                    <a:pt x="6524" y="1311"/>
                  </a:lnTo>
                  <a:lnTo>
                    <a:pt x="6405" y="1482"/>
                  </a:lnTo>
                  <a:lnTo>
                    <a:pt x="6247" y="1681"/>
                  </a:lnTo>
                  <a:lnTo>
                    <a:pt x="5971" y="1795"/>
                  </a:lnTo>
                  <a:lnTo>
                    <a:pt x="5694" y="1938"/>
                  </a:lnTo>
                  <a:lnTo>
                    <a:pt x="5417" y="2080"/>
                  </a:lnTo>
                  <a:lnTo>
                    <a:pt x="5180" y="2223"/>
                  </a:lnTo>
                  <a:lnTo>
                    <a:pt x="4666" y="2308"/>
                  </a:lnTo>
                  <a:lnTo>
                    <a:pt x="4191" y="2393"/>
                  </a:lnTo>
                  <a:lnTo>
                    <a:pt x="3677" y="2479"/>
                  </a:lnTo>
                  <a:lnTo>
                    <a:pt x="3203" y="2564"/>
                  </a:lnTo>
                  <a:lnTo>
                    <a:pt x="2689" y="2564"/>
                  </a:lnTo>
                  <a:lnTo>
                    <a:pt x="2175" y="2564"/>
                  </a:lnTo>
                  <a:lnTo>
                    <a:pt x="1661" y="2507"/>
                  </a:lnTo>
                  <a:lnTo>
                    <a:pt x="1186" y="2393"/>
                  </a:lnTo>
                  <a:lnTo>
                    <a:pt x="1147" y="2223"/>
                  </a:lnTo>
                  <a:lnTo>
                    <a:pt x="1107" y="2166"/>
                  </a:lnTo>
                  <a:lnTo>
                    <a:pt x="989" y="2137"/>
                  </a:lnTo>
                  <a:lnTo>
                    <a:pt x="910" y="2137"/>
                  </a:lnTo>
                  <a:lnTo>
                    <a:pt x="712" y="2166"/>
                  </a:lnTo>
                  <a:lnTo>
                    <a:pt x="593" y="2052"/>
                  </a:lnTo>
                  <a:lnTo>
                    <a:pt x="317" y="1938"/>
                  </a:lnTo>
                  <a:lnTo>
                    <a:pt x="198" y="1824"/>
                  </a:lnTo>
                  <a:lnTo>
                    <a:pt x="40" y="1653"/>
                  </a:lnTo>
                  <a:lnTo>
                    <a:pt x="40" y="1482"/>
                  </a:lnTo>
                  <a:lnTo>
                    <a:pt x="0" y="1254"/>
                  </a:lnTo>
                  <a:lnTo>
                    <a:pt x="0" y="1055"/>
                  </a:lnTo>
                  <a:lnTo>
                    <a:pt x="40" y="827"/>
                  </a:lnTo>
                  <a:lnTo>
                    <a:pt x="119" y="656"/>
                  </a:lnTo>
                  <a:lnTo>
                    <a:pt x="435" y="457"/>
                  </a:lnTo>
                  <a:lnTo>
                    <a:pt x="712" y="229"/>
                  </a:lnTo>
                  <a:lnTo>
                    <a:pt x="831" y="86"/>
                  </a:lnTo>
                  <a:lnTo>
                    <a:pt x="989" y="29"/>
                  </a:lnTo>
                  <a:lnTo>
                    <a:pt x="1147" y="1"/>
                  </a:lnTo>
                  <a:lnTo>
                    <a:pt x="1424" y="58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Shape 670"/>
            <p:cNvSpPr/>
            <p:nvPr/>
          </p:nvSpPr>
          <p:spPr>
            <a:xfrm>
              <a:off x="5808600" y="4894560"/>
              <a:ext cx="137520" cy="846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999" h="3106">
                  <a:moveTo>
                    <a:pt x="6762" y="656"/>
                  </a:moveTo>
                  <a:lnTo>
                    <a:pt x="6841" y="826"/>
                  </a:lnTo>
                  <a:lnTo>
                    <a:pt x="6920" y="997"/>
                  </a:lnTo>
                  <a:lnTo>
                    <a:pt x="6959" y="1197"/>
                  </a:lnTo>
                  <a:lnTo>
                    <a:pt x="6999" y="1396"/>
                  </a:lnTo>
                  <a:lnTo>
                    <a:pt x="6920" y="1567"/>
                  </a:lnTo>
                  <a:lnTo>
                    <a:pt x="6880" y="1766"/>
                  </a:lnTo>
                  <a:lnTo>
                    <a:pt x="6801" y="1937"/>
                  </a:lnTo>
                  <a:lnTo>
                    <a:pt x="6762" y="2137"/>
                  </a:lnTo>
                  <a:lnTo>
                    <a:pt x="6287" y="2393"/>
                  </a:lnTo>
                  <a:lnTo>
                    <a:pt x="5813" y="2621"/>
                  </a:lnTo>
                  <a:lnTo>
                    <a:pt x="5299" y="2763"/>
                  </a:lnTo>
                  <a:lnTo>
                    <a:pt x="4785" y="2877"/>
                  </a:lnTo>
                  <a:lnTo>
                    <a:pt x="4231" y="2934"/>
                  </a:lnTo>
                  <a:lnTo>
                    <a:pt x="3717" y="2991"/>
                  </a:lnTo>
                  <a:lnTo>
                    <a:pt x="3203" y="3020"/>
                  </a:lnTo>
                  <a:lnTo>
                    <a:pt x="2689" y="3105"/>
                  </a:lnTo>
                  <a:lnTo>
                    <a:pt x="2215" y="2934"/>
                  </a:lnTo>
                  <a:lnTo>
                    <a:pt x="1780" y="2849"/>
                  </a:lnTo>
                  <a:lnTo>
                    <a:pt x="1305" y="2763"/>
                  </a:lnTo>
                  <a:lnTo>
                    <a:pt x="910" y="2706"/>
                  </a:lnTo>
                  <a:lnTo>
                    <a:pt x="515" y="2564"/>
                  </a:lnTo>
                  <a:lnTo>
                    <a:pt x="238" y="2393"/>
                  </a:lnTo>
                  <a:lnTo>
                    <a:pt x="40" y="2137"/>
                  </a:lnTo>
                  <a:lnTo>
                    <a:pt x="1" y="1795"/>
                  </a:lnTo>
                  <a:lnTo>
                    <a:pt x="198" y="1482"/>
                  </a:lnTo>
                  <a:lnTo>
                    <a:pt x="475" y="1225"/>
                  </a:lnTo>
                  <a:lnTo>
                    <a:pt x="791" y="1026"/>
                  </a:lnTo>
                  <a:lnTo>
                    <a:pt x="1147" y="855"/>
                  </a:lnTo>
                  <a:lnTo>
                    <a:pt x="1503" y="684"/>
                  </a:lnTo>
                  <a:lnTo>
                    <a:pt x="1898" y="542"/>
                  </a:lnTo>
                  <a:lnTo>
                    <a:pt x="2254" y="428"/>
                  </a:lnTo>
                  <a:lnTo>
                    <a:pt x="2689" y="314"/>
                  </a:lnTo>
                  <a:lnTo>
                    <a:pt x="2887" y="285"/>
                  </a:lnTo>
                  <a:lnTo>
                    <a:pt x="3164" y="285"/>
                  </a:lnTo>
                  <a:lnTo>
                    <a:pt x="3401" y="285"/>
                  </a:lnTo>
                  <a:lnTo>
                    <a:pt x="3717" y="342"/>
                  </a:lnTo>
                  <a:lnTo>
                    <a:pt x="3954" y="314"/>
                  </a:lnTo>
                  <a:lnTo>
                    <a:pt x="4192" y="314"/>
                  </a:lnTo>
                  <a:lnTo>
                    <a:pt x="4389" y="228"/>
                  </a:lnTo>
                  <a:lnTo>
                    <a:pt x="4587" y="143"/>
                  </a:lnTo>
                  <a:lnTo>
                    <a:pt x="4824" y="86"/>
                  </a:lnTo>
                  <a:lnTo>
                    <a:pt x="5180" y="29"/>
                  </a:lnTo>
                  <a:lnTo>
                    <a:pt x="5496" y="0"/>
                  </a:lnTo>
                  <a:lnTo>
                    <a:pt x="5813" y="29"/>
                  </a:lnTo>
                  <a:lnTo>
                    <a:pt x="6050" y="57"/>
                  </a:lnTo>
                  <a:lnTo>
                    <a:pt x="6327" y="171"/>
                  </a:lnTo>
                  <a:lnTo>
                    <a:pt x="6564" y="371"/>
                  </a:lnTo>
                  <a:lnTo>
                    <a:pt x="6762" y="656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Shape 671"/>
            <p:cNvSpPr/>
            <p:nvPr/>
          </p:nvSpPr>
          <p:spPr>
            <a:xfrm>
              <a:off x="6790680" y="4972320"/>
              <a:ext cx="47160" cy="104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413" h="3818">
                  <a:moveTo>
                    <a:pt x="356" y="257"/>
                  </a:moveTo>
                  <a:lnTo>
                    <a:pt x="554" y="257"/>
                  </a:lnTo>
                  <a:lnTo>
                    <a:pt x="831" y="314"/>
                  </a:lnTo>
                  <a:lnTo>
                    <a:pt x="1108" y="371"/>
                  </a:lnTo>
                  <a:lnTo>
                    <a:pt x="1424" y="513"/>
                  </a:lnTo>
                  <a:lnTo>
                    <a:pt x="1661" y="627"/>
                  </a:lnTo>
                  <a:lnTo>
                    <a:pt x="1938" y="770"/>
                  </a:lnTo>
                  <a:lnTo>
                    <a:pt x="2136" y="941"/>
                  </a:lnTo>
                  <a:lnTo>
                    <a:pt x="2294" y="1112"/>
                  </a:lnTo>
                  <a:lnTo>
                    <a:pt x="2412" y="1197"/>
                  </a:lnTo>
                  <a:lnTo>
                    <a:pt x="2294" y="1254"/>
                  </a:lnTo>
                  <a:lnTo>
                    <a:pt x="2096" y="1339"/>
                  </a:lnTo>
                  <a:lnTo>
                    <a:pt x="2056" y="1482"/>
                  </a:lnTo>
                  <a:lnTo>
                    <a:pt x="2175" y="3817"/>
                  </a:lnTo>
                  <a:lnTo>
                    <a:pt x="1701" y="3504"/>
                  </a:lnTo>
                  <a:lnTo>
                    <a:pt x="1345" y="3134"/>
                  </a:lnTo>
                  <a:lnTo>
                    <a:pt x="1028" y="2707"/>
                  </a:lnTo>
                  <a:lnTo>
                    <a:pt x="831" y="2279"/>
                  </a:lnTo>
                  <a:lnTo>
                    <a:pt x="594" y="1795"/>
                  </a:lnTo>
                  <a:lnTo>
                    <a:pt x="435" y="1311"/>
                  </a:lnTo>
                  <a:lnTo>
                    <a:pt x="198" y="855"/>
                  </a:lnTo>
                  <a:lnTo>
                    <a:pt x="0" y="428"/>
                  </a:lnTo>
                  <a:lnTo>
                    <a:pt x="0" y="1"/>
                  </a:lnTo>
                  <a:lnTo>
                    <a:pt x="356" y="257"/>
                  </a:lnTo>
                  <a:close/>
                </a:path>
              </a:pathLst>
            </a:custGeom>
            <a:solidFill>
              <a:srgbClr val="2e6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Shape 672"/>
            <p:cNvSpPr/>
            <p:nvPr/>
          </p:nvSpPr>
          <p:spPr>
            <a:xfrm>
              <a:off x="6248160" y="4974480"/>
              <a:ext cx="706680" cy="49644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35903" h="18173">
                  <a:moveTo>
                    <a:pt x="26097" y="171"/>
                  </a:moveTo>
                  <a:lnTo>
                    <a:pt x="26452" y="855"/>
                  </a:lnTo>
                  <a:lnTo>
                    <a:pt x="26769" y="1567"/>
                  </a:lnTo>
                  <a:lnTo>
                    <a:pt x="27085" y="2279"/>
                  </a:lnTo>
                  <a:lnTo>
                    <a:pt x="27441" y="3019"/>
                  </a:lnTo>
                  <a:lnTo>
                    <a:pt x="27836" y="3675"/>
                  </a:lnTo>
                  <a:lnTo>
                    <a:pt x="28350" y="4330"/>
                  </a:lnTo>
                  <a:lnTo>
                    <a:pt x="28943" y="4899"/>
                  </a:lnTo>
                  <a:lnTo>
                    <a:pt x="29734" y="5383"/>
                  </a:lnTo>
                  <a:lnTo>
                    <a:pt x="29774" y="5811"/>
                  </a:lnTo>
                  <a:lnTo>
                    <a:pt x="29813" y="6266"/>
                  </a:lnTo>
                  <a:lnTo>
                    <a:pt x="29853" y="6694"/>
                  </a:lnTo>
                  <a:lnTo>
                    <a:pt x="29932" y="7149"/>
                  </a:lnTo>
                  <a:lnTo>
                    <a:pt x="29971" y="7548"/>
                  </a:lnTo>
                  <a:lnTo>
                    <a:pt x="30129" y="7919"/>
                  </a:lnTo>
                  <a:lnTo>
                    <a:pt x="30327" y="8260"/>
                  </a:lnTo>
                  <a:lnTo>
                    <a:pt x="30683" y="8602"/>
                  </a:lnTo>
                  <a:lnTo>
                    <a:pt x="31197" y="8431"/>
                  </a:lnTo>
                  <a:lnTo>
                    <a:pt x="31197" y="8517"/>
                  </a:lnTo>
                  <a:lnTo>
                    <a:pt x="31592" y="8460"/>
                  </a:lnTo>
                  <a:lnTo>
                    <a:pt x="31988" y="8317"/>
                  </a:lnTo>
                  <a:lnTo>
                    <a:pt x="32344" y="8118"/>
                  </a:lnTo>
                  <a:lnTo>
                    <a:pt x="32739" y="7890"/>
                  </a:lnTo>
                  <a:lnTo>
                    <a:pt x="-32441" y="7634"/>
                  </a:lnTo>
                  <a:lnTo>
                    <a:pt x="-32006" y="7406"/>
                  </a:lnTo>
                  <a:lnTo>
                    <a:pt x="-31532" y="7263"/>
                  </a:lnTo>
                  <a:lnTo>
                    <a:pt x="-30978" y="7206"/>
                  </a:lnTo>
                  <a:lnTo>
                    <a:pt x="-30701" y="6979"/>
                  </a:lnTo>
                  <a:lnTo>
                    <a:pt x="-30306" y="6865"/>
                  </a:lnTo>
                  <a:lnTo>
                    <a:pt x="-29911" y="6722"/>
                  </a:lnTo>
                  <a:lnTo>
                    <a:pt x="-29634" y="6608"/>
                  </a:lnTo>
                  <a:lnTo>
                    <a:pt x="-29832" y="7349"/>
                  </a:lnTo>
                  <a:lnTo>
                    <a:pt x="-29990" y="8203"/>
                  </a:lnTo>
                  <a:lnTo>
                    <a:pt x="-30148" y="9058"/>
                  </a:lnTo>
                  <a:lnTo>
                    <a:pt x="-30267" y="9941"/>
                  </a:lnTo>
                  <a:lnTo>
                    <a:pt x="-30504" y="10824"/>
                  </a:lnTo>
                  <a:lnTo>
                    <a:pt x="-30741" y="11707"/>
                  </a:lnTo>
                  <a:lnTo>
                    <a:pt x="-31136" y="12533"/>
                  </a:lnTo>
                  <a:lnTo>
                    <a:pt x="-31571" y="13387"/>
                  </a:lnTo>
                  <a:lnTo>
                    <a:pt x="-31848" y="13843"/>
                  </a:lnTo>
                  <a:lnTo>
                    <a:pt x="-32046" y="14327"/>
                  </a:lnTo>
                  <a:lnTo>
                    <a:pt x="-32204" y="14840"/>
                  </a:lnTo>
                  <a:lnTo>
                    <a:pt x="-32283" y="15381"/>
                  </a:lnTo>
                  <a:lnTo>
                    <a:pt x="-32362" y="15894"/>
                  </a:lnTo>
                  <a:lnTo>
                    <a:pt x="-32323" y="16435"/>
                  </a:lnTo>
                  <a:lnTo>
                    <a:pt x="-32243" y="16948"/>
                  </a:lnTo>
                  <a:lnTo>
                    <a:pt x="-32046" y="17489"/>
                  </a:lnTo>
                  <a:lnTo>
                    <a:pt x="-32323" y="17517"/>
                  </a:lnTo>
                  <a:lnTo>
                    <a:pt x="-32599" y="17546"/>
                  </a:lnTo>
                  <a:lnTo>
                    <a:pt x="32660" y="17546"/>
                  </a:lnTo>
                  <a:lnTo>
                    <a:pt x="32383" y="17546"/>
                  </a:lnTo>
                  <a:lnTo>
                    <a:pt x="32106" y="17517"/>
                  </a:lnTo>
                  <a:lnTo>
                    <a:pt x="31830" y="17517"/>
                  </a:lnTo>
                  <a:lnTo>
                    <a:pt x="31592" y="17517"/>
                  </a:lnTo>
                  <a:lnTo>
                    <a:pt x="31434" y="17574"/>
                  </a:lnTo>
                  <a:lnTo>
                    <a:pt x="30169" y="17517"/>
                  </a:lnTo>
                  <a:lnTo>
                    <a:pt x="28943" y="17489"/>
                  </a:lnTo>
                  <a:lnTo>
                    <a:pt x="27757" y="17460"/>
                  </a:lnTo>
                  <a:lnTo>
                    <a:pt x="26611" y="17489"/>
                  </a:lnTo>
                  <a:lnTo>
                    <a:pt x="25424" y="17489"/>
                  </a:lnTo>
                  <a:lnTo>
                    <a:pt x="24238" y="17574"/>
                  </a:lnTo>
                  <a:lnTo>
                    <a:pt x="23012" y="17688"/>
                  </a:lnTo>
                  <a:lnTo>
                    <a:pt x="21747" y="17916"/>
                  </a:lnTo>
                  <a:lnTo>
                    <a:pt x="19928" y="18087"/>
                  </a:lnTo>
                  <a:lnTo>
                    <a:pt x="20680" y="16634"/>
                  </a:lnTo>
                  <a:lnTo>
                    <a:pt x="21470" y="15182"/>
                  </a:lnTo>
                  <a:lnTo>
                    <a:pt x="22222" y="13701"/>
                  </a:lnTo>
                  <a:lnTo>
                    <a:pt x="22973" y="12219"/>
                  </a:lnTo>
                  <a:lnTo>
                    <a:pt x="23645" y="10710"/>
                  </a:lnTo>
                  <a:lnTo>
                    <a:pt x="24278" y="9200"/>
                  </a:lnTo>
                  <a:lnTo>
                    <a:pt x="24792" y="7719"/>
                  </a:lnTo>
                  <a:lnTo>
                    <a:pt x="25266" y="6266"/>
                  </a:lnTo>
                  <a:lnTo>
                    <a:pt x="25345" y="6124"/>
                  </a:lnTo>
                  <a:lnTo>
                    <a:pt x="25543" y="5982"/>
                  </a:lnTo>
                  <a:lnTo>
                    <a:pt x="25741" y="5811"/>
                  </a:lnTo>
                  <a:lnTo>
                    <a:pt x="25938" y="5640"/>
                  </a:lnTo>
                  <a:lnTo>
                    <a:pt x="26057" y="5440"/>
                  </a:lnTo>
                  <a:lnTo>
                    <a:pt x="26097" y="5241"/>
                  </a:lnTo>
                  <a:lnTo>
                    <a:pt x="25978" y="5042"/>
                  </a:lnTo>
                  <a:lnTo>
                    <a:pt x="25741" y="4871"/>
                  </a:lnTo>
                  <a:lnTo>
                    <a:pt x="25148" y="4614"/>
                  </a:lnTo>
                  <a:lnTo>
                    <a:pt x="24792" y="4842"/>
                  </a:lnTo>
                  <a:lnTo>
                    <a:pt x="24594" y="5127"/>
                  </a:lnTo>
                  <a:lnTo>
                    <a:pt x="24436" y="5412"/>
                  </a:lnTo>
                  <a:lnTo>
                    <a:pt x="24436" y="5725"/>
                  </a:lnTo>
                  <a:lnTo>
                    <a:pt x="24396" y="6039"/>
                  </a:lnTo>
                  <a:lnTo>
                    <a:pt x="24357" y="6352"/>
                  </a:lnTo>
                  <a:lnTo>
                    <a:pt x="24199" y="6665"/>
                  </a:lnTo>
                  <a:lnTo>
                    <a:pt x="24041" y="6950"/>
                  </a:lnTo>
                  <a:lnTo>
                    <a:pt x="23961" y="7292"/>
                  </a:lnTo>
                  <a:lnTo>
                    <a:pt x="23882" y="7634"/>
                  </a:lnTo>
                  <a:lnTo>
                    <a:pt x="23764" y="7947"/>
                  </a:lnTo>
                  <a:lnTo>
                    <a:pt x="23685" y="8289"/>
                  </a:lnTo>
                  <a:lnTo>
                    <a:pt x="23487" y="8602"/>
                  </a:lnTo>
                  <a:lnTo>
                    <a:pt x="23329" y="8944"/>
                  </a:lnTo>
                  <a:lnTo>
                    <a:pt x="23131" y="9286"/>
                  </a:lnTo>
                  <a:lnTo>
                    <a:pt x="22973" y="9656"/>
                  </a:lnTo>
                  <a:lnTo>
                    <a:pt x="22617" y="10681"/>
                  </a:lnTo>
                  <a:lnTo>
                    <a:pt x="22182" y="11707"/>
                  </a:lnTo>
                  <a:lnTo>
                    <a:pt x="21708" y="12704"/>
                  </a:lnTo>
                  <a:lnTo>
                    <a:pt x="21194" y="13729"/>
                  </a:lnTo>
                  <a:lnTo>
                    <a:pt x="20561" y="14698"/>
                  </a:lnTo>
                  <a:lnTo>
                    <a:pt x="19968" y="15694"/>
                  </a:lnTo>
                  <a:lnTo>
                    <a:pt x="19335" y="16634"/>
                  </a:lnTo>
                  <a:lnTo>
                    <a:pt x="18742" y="17574"/>
                  </a:lnTo>
                  <a:lnTo>
                    <a:pt x="18505" y="18172"/>
                  </a:lnTo>
                  <a:lnTo>
                    <a:pt x="16528" y="17831"/>
                  </a:lnTo>
                  <a:lnTo>
                    <a:pt x="14670" y="17375"/>
                  </a:lnTo>
                  <a:lnTo>
                    <a:pt x="12851" y="16720"/>
                  </a:lnTo>
                  <a:lnTo>
                    <a:pt x="11151" y="15979"/>
                  </a:lnTo>
                  <a:lnTo>
                    <a:pt x="9530" y="15068"/>
                  </a:lnTo>
                  <a:lnTo>
                    <a:pt x="8106" y="14099"/>
                  </a:lnTo>
                  <a:lnTo>
                    <a:pt x="6802" y="13017"/>
                  </a:lnTo>
                  <a:lnTo>
                    <a:pt x="5695" y="11906"/>
                  </a:lnTo>
                  <a:lnTo>
                    <a:pt x="5576" y="11992"/>
                  </a:lnTo>
                  <a:lnTo>
                    <a:pt x="5299" y="11735"/>
                  </a:lnTo>
                  <a:lnTo>
                    <a:pt x="5220" y="11479"/>
                  </a:lnTo>
                  <a:lnTo>
                    <a:pt x="5101" y="11223"/>
                  </a:lnTo>
                  <a:lnTo>
                    <a:pt x="4864" y="11052"/>
                  </a:lnTo>
                  <a:lnTo>
                    <a:pt x="5813" y="10169"/>
                  </a:lnTo>
                  <a:lnTo>
                    <a:pt x="6169" y="9713"/>
                  </a:lnTo>
                  <a:lnTo>
                    <a:pt x="6525" y="9229"/>
                  </a:lnTo>
                  <a:lnTo>
                    <a:pt x="6841" y="8716"/>
                  </a:lnTo>
                  <a:lnTo>
                    <a:pt x="7157" y="8203"/>
                  </a:lnTo>
                  <a:lnTo>
                    <a:pt x="7395" y="7662"/>
                  </a:lnTo>
                  <a:lnTo>
                    <a:pt x="7632" y="7149"/>
                  </a:lnTo>
                  <a:lnTo>
                    <a:pt x="7790" y="6637"/>
                  </a:lnTo>
                  <a:lnTo>
                    <a:pt x="7988" y="6181"/>
                  </a:lnTo>
                  <a:lnTo>
                    <a:pt x="7790" y="5896"/>
                  </a:lnTo>
                  <a:lnTo>
                    <a:pt x="7671" y="5640"/>
                  </a:lnTo>
                  <a:lnTo>
                    <a:pt x="7474" y="5440"/>
                  </a:lnTo>
                  <a:lnTo>
                    <a:pt x="7276" y="5298"/>
                  </a:lnTo>
                  <a:lnTo>
                    <a:pt x="7078" y="5298"/>
                  </a:lnTo>
                  <a:lnTo>
                    <a:pt x="6881" y="5298"/>
                  </a:lnTo>
                  <a:lnTo>
                    <a:pt x="6683" y="5298"/>
                  </a:lnTo>
                  <a:lnTo>
                    <a:pt x="6485" y="5327"/>
                  </a:lnTo>
                  <a:lnTo>
                    <a:pt x="6248" y="5355"/>
                  </a:lnTo>
                  <a:lnTo>
                    <a:pt x="6011" y="5440"/>
                  </a:lnTo>
                  <a:lnTo>
                    <a:pt x="5813" y="5497"/>
                  </a:lnTo>
                  <a:lnTo>
                    <a:pt x="5695" y="5640"/>
                  </a:lnTo>
                  <a:lnTo>
                    <a:pt x="5892" y="5811"/>
                  </a:lnTo>
                  <a:lnTo>
                    <a:pt x="6090" y="5982"/>
                  </a:lnTo>
                  <a:lnTo>
                    <a:pt x="6288" y="6153"/>
                  </a:lnTo>
                  <a:lnTo>
                    <a:pt x="6446" y="6380"/>
                  </a:lnTo>
                  <a:lnTo>
                    <a:pt x="6525" y="6580"/>
                  </a:lnTo>
                  <a:lnTo>
                    <a:pt x="6564" y="6836"/>
                  </a:lnTo>
                  <a:lnTo>
                    <a:pt x="6525" y="7064"/>
                  </a:lnTo>
                  <a:lnTo>
                    <a:pt x="6406" y="7377"/>
                  </a:lnTo>
                  <a:lnTo>
                    <a:pt x="6129" y="7748"/>
                  </a:lnTo>
                  <a:lnTo>
                    <a:pt x="5892" y="8146"/>
                  </a:lnTo>
                  <a:lnTo>
                    <a:pt x="5615" y="8574"/>
                  </a:lnTo>
                  <a:lnTo>
                    <a:pt x="5339" y="9029"/>
                  </a:lnTo>
                  <a:lnTo>
                    <a:pt x="4983" y="9400"/>
                  </a:lnTo>
                  <a:lnTo>
                    <a:pt x="4667" y="9770"/>
                  </a:lnTo>
                  <a:lnTo>
                    <a:pt x="4311" y="10083"/>
                  </a:lnTo>
                  <a:lnTo>
                    <a:pt x="3994" y="10340"/>
                  </a:lnTo>
                  <a:lnTo>
                    <a:pt x="3559" y="10140"/>
                  </a:lnTo>
                  <a:lnTo>
                    <a:pt x="3085" y="10055"/>
                  </a:lnTo>
                  <a:lnTo>
                    <a:pt x="2492" y="10026"/>
                  </a:lnTo>
                  <a:lnTo>
                    <a:pt x="1938" y="10055"/>
                  </a:lnTo>
                  <a:lnTo>
                    <a:pt x="1345" y="10055"/>
                  </a:lnTo>
                  <a:lnTo>
                    <a:pt x="831" y="10026"/>
                  </a:lnTo>
                  <a:lnTo>
                    <a:pt x="357" y="9912"/>
                  </a:lnTo>
                  <a:lnTo>
                    <a:pt x="1" y="9741"/>
                  </a:lnTo>
                  <a:lnTo>
                    <a:pt x="475" y="9229"/>
                  </a:lnTo>
                  <a:lnTo>
                    <a:pt x="989" y="8745"/>
                  </a:lnTo>
                  <a:lnTo>
                    <a:pt x="1464" y="8232"/>
                  </a:lnTo>
                  <a:lnTo>
                    <a:pt x="1938" y="7719"/>
                  </a:lnTo>
                  <a:lnTo>
                    <a:pt x="2294" y="7149"/>
                  </a:lnTo>
                  <a:lnTo>
                    <a:pt x="2650" y="6580"/>
                  </a:lnTo>
                  <a:lnTo>
                    <a:pt x="2887" y="5982"/>
                  </a:lnTo>
                  <a:lnTo>
                    <a:pt x="3045" y="5383"/>
                  </a:lnTo>
                  <a:lnTo>
                    <a:pt x="3085" y="5127"/>
                  </a:lnTo>
                  <a:lnTo>
                    <a:pt x="3164" y="4928"/>
                  </a:lnTo>
                  <a:lnTo>
                    <a:pt x="3283" y="4700"/>
                  </a:lnTo>
                  <a:lnTo>
                    <a:pt x="3401" y="4501"/>
                  </a:lnTo>
                  <a:lnTo>
                    <a:pt x="3441" y="4301"/>
                  </a:lnTo>
                  <a:lnTo>
                    <a:pt x="3480" y="4102"/>
                  </a:lnTo>
                  <a:lnTo>
                    <a:pt x="3441" y="3902"/>
                  </a:lnTo>
                  <a:lnTo>
                    <a:pt x="3401" y="3731"/>
                  </a:lnTo>
                  <a:lnTo>
                    <a:pt x="3520" y="3646"/>
                  </a:lnTo>
                  <a:lnTo>
                    <a:pt x="4469" y="4045"/>
                  </a:lnTo>
                  <a:lnTo>
                    <a:pt x="5457" y="4472"/>
                  </a:lnTo>
                  <a:lnTo>
                    <a:pt x="6406" y="4871"/>
                  </a:lnTo>
                  <a:lnTo>
                    <a:pt x="7395" y="5298"/>
                  </a:lnTo>
                  <a:lnTo>
                    <a:pt x="8344" y="5725"/>
                  </a:lnTo>
                  <a:lnTo>
                    <a:pt x="9332" y="6153"/>
                  </a:lnTo>
                  <a:lnTo>
                    <a:pt x="10321" y="6608"/>
                  </a:lnTo>
                  <a:lnTo>
                    <a:pt x="11388" y="7121"/>
                  </a:lnTo>
                  <a:lnTo>
                    <a:pt x="11704" y="6922"/>
                  </a:lnTo>
                  <a:lnTo>
                    <a:pt x="11981" y="6893"/>
                  </a:lnTo>
                  <a:lnTo>
                    <a:pt x="12179" y="6979"/>
                  </a:lnTo>
                  <a:lnTo>
                    <a:pt x="12416" y="7178"/>
                  </a:lnTo>
                  <a:lnTo>
                    <a:pt x="12574" y="7406"/>
                  </a:lnTo>
                  <a:lnTo>
                    <a:pt x="12732" y="7662"/>
                  </a:lnTo>
                  <a:lnTo>
                    <a:pt x="12891" y="7890"/>
                  </a:lnTo>
                  <a:lnTo>
                    <a:pt x="13049" y="8089"/>
                  </a:lnTo>
                  <a:lnTo>
                    <a:pt x="13444" y="8631"/>
                  </a:lnTo>
                  <a:lnTo>
                    <a:pt x="13760" y="9257"/>
                  </a:lnTo>
                  <a:lnTo>
                    <a:pt x="13998" y="9912"/>
                  </a:lnTo>
                  <a:lnTo>
                    <a:pt x="14156" y="10596"/>
                  </a:lnTo>
                  <a:lnTo>
                    <a:pt x="14116" y="11251"/>
                  </a:lnTo>
                  <a:lnTo>
                    <a:pt x="13998" y="11906"/>
                  </a:lnTo>
                  <a:lnTo>
                    <a:pt x="13721" y="12476"/>
                  </a:lnTo>
                  <a:lnTo>
                    <a:pt x="13286" y="13045"/>
                  </a:lnTo>
                  <a:lnTo>
                    <a:pt x="13049" y="13131"/>
                  </a:lnTo>
                  <a:lnTo>
                    <a:pt x="13049" y="13302"/>
                  </a:lnTo>
                  <a:lnTo>
                    <a:pt x="13128" y="13473"/>
                  </a:lnTo>
                  <a:lnTo>
                    <a:pt x="13286" y="13644"/>
                  </a:lnTo>
                  <a:lnTo>
                    <a:pt x="13523" y="13729"/>
                  </a:lnTo>
                  <a:lnTo>
                    <a:pt x="13800" y="13758"/>
                  </a:lnTo>
                  <a:lnTo>
                    <a:pt x="14077" y="13758"/>
                  </a:lnTo>
                  <a:lnTo>
                    <a:pt x="14354" y="13729"/>
                  </a:lnTo>
                  <a:lnTo>
                    <a:pt x="14591" y="13615"/>
                  </a:lnTo>
                  <a:lnTo>
                    <a:pt x="14828" y="13530"/>
                  </a:lnTo>
                  <a:lnTo>
                    <a:pt x="15065" y="13416"/>
                  </a:lnTo>
                  <a:lnTo>
                    <a:pt x="15342" y="13302"/>
                  </a:lnTo>
                  <a:lnTo>
                    <a:pt x="15856" y="12362"/>
                  </a:lnTo>
                  <a:lnTo>
                    <a:pt x="16093" y="11507"/>
                  </a:lnTo>
                  <a:lnTo>
                    <a:pt x="16014" y="10653"/>
                  </a:lnTo>
                  <a:lnTo>
                    <a:pt x="15816" y="9827"/>
                  </a:lnTo>
                  <a:lnTo>
                    <a:pt x="15382" y="8972"/>
                  </a:lnTo>
                  <a:lnTo>
                    <a:pt x="14947" y="8146"/>
                  </a:lnTo>
                  <a:lnTo>
                    <a:pt x="14433" y="7292"/>
                  </a:lnTo>
                  <a:lnTo>
                    <a:pt x="14037" y="6437"/>
                  </a:lnTo>
                  <a:lnTo>
                    <a:pt x="14591" y="6808"/>
                  </a:lnTo>
                  <a:lnTo>
                    <a:pt x="15105" y="7149"/>
                  </a:lnTo>
                  <a:lnTo>
                    <a:pt x="15540" y="7463"/>
                  </a:lnTo>
                  <a:lnTo>
                    <a:pt x="15975" y="7805"/>
                  </a:lnTo>
                  <a:lnTo>
                    <a:pt x="16330" y="8118"/>
                  </a:lnTo>
                  <a:lnTo>
                    <a:pt x="16686" y="8488"/>
                  </a:lnTo>
                  <a:lnTo>
                    <a:pt x="17042" y="8887"/>
                  </a:lnTo>
                  <a:lnTo>
                    <a:pt x="17398" y="9400"/>
                  </a:lnTo>
                  <a:lnTo>
                    <a:pt x="17596" y="9628"/>
                  </a:lnTo>
                  <a:lnTo>
                    <a:pt x="17793" y="9884"/>
                  </a:lnTo>
                  <a:lnTo>
                    <a:pt x="17952" y="10169"/>
                  </a:lnTo>
                  <a:lnTo>
                    <a:pt x="18110" y="10482"/>
                  </a:lnTo>
                  <a:lnTo>
                    <a:pt x="18149" y="10795"/>
                  </a:lnTo>
                  <a:lnTo>
                    <a:pt x="18149" y="11109"/>
                  </a:lnTo>
                  <a:lnTo>
                    <a:pt x="18031" y="11422"/>
                  </a:lnTo>
                  <a:lnTo>
                    <a:pt x="17912" y="11735"/>
                  </a:lnTo>
                  <a:lnTo>
                    <a:pt x="17517" y="11792"/>
                  </a:lnTo>
                  <a:lnTo>
                    <a:pt x="17161" y="11821"/>
                  </a:lnTo>
                  <a:lnTo>
                    <a:pt x="17121" y="11992"/>
                  </a:lnTo>
                  <a:lnTo>
                    <a:pt x="17082" y="12219"/>
                  </a:lnTo>
                  <a:lnTo>
                    <a:pt x="17042" y="12305"/>
                  </a:lnTo>
                  <a:lnTo>
                    <a:pt x="17082" y="12419"/>
                  </a:lnTo>
                  <a:lnTo>
                    <a:pt x="17161" y="12476"/>
                  </a:lnTo>
                  <a:lnTo>
                    <a:pt x="17398" y="12533"/>
                  </a:lnTo>
                  <a:lnTo>
                    <a:pt x="17675" y="12561"/>
                  </a:lnTo>
                  <a:lnTo>
                    <a:pt x="17952" y="12561"/>
                  </a:lnTo>
                  <a:lnTo>
                    <a:pt x="18189" y="12476"/>
                  </a:lnTo>
                  <a:lnTo>
                    <a:pt x="18426" y="12390"/>
                  </a:lnTo>
                  <a:lnTo>
                    <a:pt x="18624" y="12248"/>
                  </a:lnTo>
                  <a:lnTo>
                    <a:pt x="18821" y="12106"/>
                  </a:lnTo>
                  <a:lnTo>
                    <a:pt x="19019" y="11935"/>
                  </a:lnTo>
                  <a:lnTo>
                    <a:pt x="19217" y="11821"/>
                  </a:lnTo>
                  <a:lnTo>
                    <a:pt x="19335" y="11280"/>
                  </a:lnTo>
                  <a:lnTo>
                    <a:pt x="19414" y="10767"/>
                  </a:lnTo>
                  <a:lnTo>
                    <a:pt x="19375" y="10283"/>
                  </a:lnTo>
                  <a:lnTo>
                    <a:pt x="19256" y="9855"/>
                  </a:lnTo>
                  <a:lnTo>
                    <a:pt x="19019" y="9400"/>
                  </a:lnTo>
                  <a:lnTo>
                    <a:pt x="18703" y="8972"/>
                  </a:lnTo>
                  <a:lnTo>
                    <a:pt x="18347" y="8517"/>
                  </a:lnTo>
                  <a:lnTo>
                    <a:pt x="17912" y="8089"/>
                  </a:lnTo>
                  <a:lnTo>
                    <a:pt x="17596" y="7776"/>
                  </a:lnTo>
                  <a:lnTo>
                    <a:pt x="17279" y="7520"/>
                  </a:lnTo>
                  <a:lnTo>
                    <a:pt x="16963" y="7263"/>
                  </a:lnTo>
                  <a:lnTo>
                    <a:pt x="16686" y="7036"/>
                  </a:lnTo>
                  <a:lnTo>
                    <a:pt x="16370" y="6779"/>
                  </a:lnTo>
                  <a:lnTo>
                    <a:pt x="16093" y="6551"/>
                  </a:lnTo>
                  <a:lnTo>
                    <a:pt x="15816" y="6323"/>
                  </a:lnTo>
                  <a:lnTo>
                    <a:pt x="15579" y="6096"/>
                  </a:lnTo>
                  <a:lnTo>
                    <a:pt x="15935" y="5754"/>
                  </a:lnTo>
                  <a:lnTo>
                    <a:pt x="16370" y="5440"/>
                  </a:lnTo>
                  <a:lnTo>
                    <a:pt x="16805" y="5099"/>
                  </a:lnTo>
                  <a:lnTo>
                    <a:pt x="17240" y="4814"/>
                  </a:lnTo>
                  <a:lnTo>
                    <a:pt x="17635" y="4472"/>
                  </a:lnTo>
                  <a:lnTo>
                    <a:pt x="18070" y="4159"/>
                  </a:lnTo>
                  <a:lnTo>
                    <a:pt x="18386" y="3817"/>
                  </a:lnTo>
                  <a:lnTo>
                    <a:pt x="18742" y="3475"/>
                  </a:lnTo>
                  <a:lnTo>
                    <a:pt x="18900" y="3304"/>
                  </a:lnTo>
                  <a:lnTo>
                    <a:pt x="19138" y="3133"/>
                  </a:lnTo>
                  <a:lnTo>
                    <a:pt x="19414" y="2905"/>
                  </a:lnTo>
                  <a:lnTo>
                    <a:pt x="19691" y="2706"/>
                  </a:lnTo>
                  <a:lnTo>
                    <a:pt x="19928" y="2450"/>
                  </a:lnTo>
                  <a:lnTo>
                    <a:pt x="20205" y="2222"/>
                  </a:lnTo>
                  <a:lnTo>
                    <a:pt x="20442" y="1994"/>
                  </a:lnTo>
                  <a:lnTo>
                    <a:pt x="20680" y="1823"/>
                  </a:lnTo>
                  <a:lnTo>
                    <a:pt x="20917" y="1595"/>
                  </a:lnTo>
                  <a:lnTo>
                    <a:pt x="21194" y="1396"/>
                  </a:lnTo>
                  <a:lnTo>
                    <a:pt x="21431" y="1139"/>
                  </a:lnTo>
                  <a:lnTo>
                    <a:pt x="21668" y="969"/>
                  </a:lnTo>
                  <a:lnTo>
                    <a:pt x="21905" y="769"/>
                  </a:lnTo>
                  <a:lnTo>
                    <a:pt x="22261" y="655"/>
                  </a:lnTo>
                  <a:lnTo>
                    <a:pt x="22617" y="570"/>
                  </a:lnTo>
                  <a:lnTo>
                    <a:pt x="23092" y="598"/>
                  </a:lnTo>
                  <a:lnTo>
                    <a:pt x="23250" y="427"/>
                  </a:lnTo>
                  <a:lnTo>
                    <a:pt x="23368" y="285"/>
                  </a:lnTo>
                  <a:lnTo>
                    <a:pt x="23329" y="114"/>
                  </a:lnTo>
                  <a:lnTo>
                    <a:pt x="23210" y="0"/>
                  </a:lnTo>
                  <a:lnTo>
                    <a:pt x="23566" y="57"/>
                  </a:lnTo>
                  <a:lnTo>
                    <a:pt x="23922" y="114"/>
                  </a:lnTo>
                  <a:lnTo>
                    <a:pt x="24278" y="143"/>
                  </a:lnTo>
                  <a:lnTo>
                    <a:pt x="24673" y="171"/>
                  </a:lnTo>
                  <a:lnTo>
                    <a:pt x="25029" y="171"/>
                  </a:lnTo>
                  <a:lnTo>
                    <a:pt x="25385" y="171"/>
                  </a:lnTo>
                  <a:lnTo>
                    <a:pt x="25741" y="171"/>
                  </a:lnTo>
                  <a:lnTo>
                    <a:pt x="26097" y="171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Shape 673"/>
            <p:cNvSpPr/>
            <p:nvPr/>
          </p:nvSpPr>
          <p:spPr>
            <a:xfrm>
              <a:off x="5682240" y="4998600"/>
              <a:ext cx="173520" cy="824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818" h="3020">
                  <a:moveTo>
                    <a:pt x="8817" y="2336"/>
                  </a:moveTo>
                  <a:lnTo>
                    <a:pt x="7789" y="2564"/>
                  </a:lnTo>
                  <a:lnTo>
                    <a:pt x="6841" y="2763"/>
                  </a:lnTo>
                  <a:lnTo>
                    <a:pt x="5892" y="2934"/>
                  </a:lnTo>
                  <a:lnTo>
                    <a:pt x="4943" y="3019"/>
                  </a:lnTo>
                  <a:lnTo>
                    <a:pt x="3994" y="3019"/>
                  </a:lnTo>
                  <a:lnTo>
                    <a:pt x="3084" y="2962"/>
                  </a:lnTo>
                  <a:lnTo>
                    <a:pt x="2135" y="2763"/>
                  </a:lnTo>
                  <a:lnTo>
                    <a:pt x="1226" y="2507"/>
                  </a:lnTo>
                  <a:lnTo>
                    <a:pt x="949" y="2307"/>
                  </a:lnTo>
                  <a:lnTo>
                    <a:pt x="712" y="2108"/>
                  </a:lnTo>
                  <a:lnTo>
                    <a:pt x="475" y="1852"/>
                  </a:lnTo>
                  <a:lnTo>
                    <a:pt x="317" y="1624"/>
                  </a:lnTo>
                  <a:lnTo>
                    <a:pt x="158" y="1367"/>
                  </a:lnTo>
                  <a:lnTo>
                    <a:pt x="79" y="1111"/>
                  </a:lnTo>
                  <a:lnTo>
                    <a:pt x="0" y="855"/>
                  </a:lnTo>
                  <a:lnTo>
                    <a:pt x="0" y="598"/>
                  </a:lnTo>
                  <a:lnTo>
                    <a:pt x="317" y="427"/>
                  </a:lnTo>
                  <a:lnTo>
                    <a:pt x="752" y="342"/>
                  </a:lnTo>
                  <a:lnTo>
                    <a:pt x="1186" y="313"/>
                  </a:lnTo>
                  <a:lnTo>
                    <a:pt x="1661" y="399"/>
                  </a:lnTo>
                  <a:lnTo>
                    <a:pt x="2096" y="456"/>
                  </a:lnTo>
                  <a:lnTo>
                    <a:pt x="2570" y="541"/>
                  </a:lnTo>
                  <a:lnTo>
                    <a:pt x="3005" y="598"/>
                  </a:lnTo>
                  <a:lnTo>
                    <a:pt x="3401" y="684"/>
                  </a:lnTo>
                  <a:lnTo>
                    <a:pt x="3915" y="655"/>
                  </a:lnTo>
                  <a:lnTo>
                    <a:pt x="4508" y="684"/>
                  </a:lnTo>
                  <a:lnTo>
                    <a:pt x="5101" y="712"/>
                  </a:lnTo>
                  <a:lnTo>
                    <a:pt x="5694" y="741"/>
                  </a:lnTo>
                  <a:lnTo>
                    <a:pt x="6247" y="712"/>
                  </a:lnTo>
                  <a:lnTo>
                    <a:pt x="6722" y="598"/>
                  </a:lnTo>
                  <a:lnTo>
                    <a:pt x="7117" y="399"/>
                  </a:lnTo>
                  <a:lnTo>
                    <a:pt x="7394" y="57"/>
                  </a:lnTo>
                  <a:lnTo>
                    <a:pt x="8027" y="0"/>
                  </a:lnTo>
                  <a:lnTo>
                    <a:pt x="8422" y="114"/>
                  </a:lnTo>
                  <a:lnTo>
                    <a:pt x="8620" y="370"/>
                  </a:lnTo>
                  <a:lnTo>
                    <a:pt x="8738" y="712"/>
                  </a:lnTo>
                  <a:lnTo>
                    <a:pt x="8699" y="1111"/>
                  </a:lnTo>
                  <a:lnTo>
                    <a:pt x="8699" y="1538"/>
                  </a:lnTo>
                  <a:lnTo>
                    <a:pt x="8699" y="1937"/>
                  </a:lnTo>
                  <a:lnTo>
                    <a:pt x="8817" y="2336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8280" bIns="-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Shape 674"/>
            <p:cNvSpPr/>
            <p:nvPr/>
          </p:nvSpPr>
          <p:spPr>
            <a:xfrm>
              <a:off x="7070760" y="5002560"/>
              <a:ext cx="140760" cy="2379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157" h="8717">
                  <a:moveTo>
                    <a:pt x="7038" y="200"/>
                  </a:moveTo>
                  <a:lnTo>
                    <a:pt x="7157" y="713"/>
                  </a:lnTo>
                  <a:lnTo>
                    <a:pt x="6880" y="8716"/>
                  </a:lnTo>
                  <a:lnTo>
                    <a:pt x="5931" y="8175"/>
                  </a:lnTo>
                  <a:lnTo>
                    <a:pt x="5061" y="7634"/>
                  </a:lnTo>
                  <a:lnTo>
                    <a:pt x="4191" y="7036"/>
                  </a:lnTo>
                  <a:lnTo>
                    <a:pt x="3361" y="6466"/>
                  </a:lnTo>
                  <a:lnTo>
                    <a:pt x="2491" y="5868"/>
                  </a:lnTo>
                  <a:lnTo>
                    <a:pt x="1661" y="5270"/>
                  </a:lnTo>
                  <a:lnTo>
                    <a:pt x="831" y="4700"/>
                  </a:lnTo>
                  <a:lnTo>
                    <a:pt x="0" y="4188"/>
                  </a:lnTo>
                  <a:lnTo>
                    <a:pt x="238" y="3846"/>
                  </a:lnTo>
                  <a:lnTo>
                    <a:pt x="475" y="3561"/>
                  </a:lnTo>
                  <a:lnTo>
                    <a:pt x="673" y="3219"/>
                  </a:lnTo>
                  <a:lnTo>
                    <a:pt x="870" y="2934"/>
                  </a:lnTo>
                  <a:lnTo>
                    <a:pt x="949" y="2593"/>
                  </a:lnTo>
                  <a:lnTo>
                    <a:pt x="1028" y="2279"/>
                  </a:lnTo>
                  <a:lnTo>
                    <a:pt x="989" y="1909"/>
                  </a:lnTo>
                  <a:lnTo>
                    <a:pt x="870" y="1567"/>
                  </a:lnTo>
                  <a:lnTo>
                    <a:pt x="1661" y="1453"/>
                  </a:lnTo>
                  <a:lnTo>
                    <a:pt x="2412" y="1254"/>
                  </a:lnTo>
                  <a:lnTo>
                    <a:pt x="3045" y="997"/>
                  </a:lnTo>
                  <a:lnTo>
                    <a:pt x="3717" y="713"/>
                  </a:lnTo>
                  <a:lnTo>
                    <a:pt x="4310" y="399"/>
                  </a:lnTo>
                  <a:lnTo>
                    <a:pt x="4982" y="171"/>
                  </a:lnTo>
                  <a:lnTo>
                    <a:pt x="5694" y="1"/>
                  </a:lnTo>
                  <a:lnTo>
                    <a:pt x="6524" y="1"/>
                  </a:lnTo>
                  <a:lnTo>
                    <a:pt x="7038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Shape 675"/>
            <p:cNvSpPr/>
            <p:nvPr/>
          </p:nvSpPr>
          <p:spPr>
            <a:xfrm>
              <a:off x="6865200" y="5024520"/>
              <a:ext cx="117360" cy="138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5971" h="5071">
                  <a:moveTo>
                    <a:pt x="5971" y="969"/>
                  </a:moveTo>
                  <a:lnTo>
                    <a:pt x="5694" y="1139"/>
                  </a:lnTo>
                  <a:lnTo>
                    <a:pt x="5496" y="1396"/>
                  </a:lnTo>
                  <a:lnTo>
                    <a:pt x="5377" y="1652"/>
                  </a:lnTo>
                  <a:lnTo>
                    <a:pt x="5298" y="1908"/>
                  </a:lnTo>
                  <a:lnTo>
                    <a:pt x="5219" y="2136"/>
                  </a:lnTo>
                  <a:lnTo>
                    <a:pt x="5259" y="2393"/>
                  </a:lnTo>
                  <a:lnTo>
                    <a:pt x="5259" y="2621"/>
                  </a:lnTo>
                  <a:lnTo>
                    <a:pt x="5377" y="2877"/>
                  </a:lnTo>
                  <a:lnTo>
                    <a:pt x="5022" y="2934"/>
                  </a:lnTo>
                  <a:lnTo>
                    <a:pt x="4705" y="3076"/>
                  </a:lnTo>
                  <a:lnTo>
                    <a:pt x="4389" y="3247"/>
                  </a:lnTo>
                  <a:lnTo>
                    <a:pt x="4073" y="3504"/>
                  </a:lnTo>
                  <a:lnTo>
                    <a:pt x="3677" y="3731"/>
                  </a:lnTo>
                  <a:lnTo>
                    <a:pt x="3321" y="3959"/>
                  </a:lnTo>
                  <a:lnTo>
                    <a:pt x="2966" y="4159"/>
                  </a:lnTo>
                  <a:lnTo>
                    <a:pt x="2610" y="4358"/>
                  </a:lnTo>
                  <a:lnTo>
                    <a:pt x="2293" y="4443"/>
                  </a:lnTo>
                  <a:lnTo>
                    <a:pt x="1977" y="4586"/>
                  </a:lnTo>
                  <a:lnTo>
                    <a:pt x="1661" y="4728"/>
                  </a:lnTo>
                  <a:lnTo>
                    <a:pt x="1384" y="4871"/>
                  </a:lnTo>
                  <a:lnTo>
                    <a:pt x="1028" y="4956"/>
                  </a:lnTo>
                  <a:lnTo>
                    <a:pt x="751" y="5042"/>
                  </a:lnTo>
                  <a:lnTo>
                    <a:pt x="435" y="5070"/>
                  </a:lnTo>
                  <a:lnTo>
                    <a:pt x="198" y="5042"/>
                  </a:lnTo>
                  <a:lnTo>
                    <a:pt x="158" y="4443"/>
                  </a:lnTo>
                  <a:lnTo>
                    <a:pt x="119" y="3845"/>
                  </a:lnTo>
                  <a:lnTo>
                    <a:pt x="79" y="3190"/>
                  </a:lnTo>
                  <a:lnTo>
                    <a:pt x="79" y="2564"/>
                  </a:lnTo>
                  <a:lnTo>
                    <a:pt x="40" y="1908"/>
                  </a:lnTo>
                  <a:lnTo>
                    <a:pt x="0" y="1253"/>
                  </a:lnTo>
                  <a:lnTo>
                    <a:pt x="0" y="598"/>
                  </a:lnTo>
                  <a:lnTo>
                    <a:pt x="79" y="0"/>
                  </a:lnTo>
                  <a:lnTo>
                    <a:pt x="396" y="0"/>
                  </a:lnTo>
                  <a:lnTo>
                    <a:pt x="751" y="57"/>
                  </a:lnTo>
                  <a:lnTo>
                    <a:pt x="1068" y="143"/>
                  </a:lnTo>
                  <a:lnTo>
                    <a:pt x="1384" y="256"/>
                  </a:lnTo>
                  <a:lnTo>
                    <a:pt x="1661" y="342"/>
                  </a:lnTo>
                  <a:lnTo>
                    <a:pt x="2017" y="427"/>
                  </a:lnTo>
                  <a:lnTo>
                    <a:pt x="2372" y="456"/>
                  </a:lnTo>
                  <a:lnTo>
                    <a:pt x="2847" y="513"/>
                  </a:lnTo>
                  <a:lnTo>
                    <a:pt x="3203" y="627"/>
                  </a:lnTo>
                  <a:lnTo>
                    <a:pt x="3559" y="741"/>
                  </a:lnTo>
                  <a:lnTo>
                    <a:pt x="3914" y="769"/>
                  </a:lnTo>
                  <a:lnTo>
                    <a:pt x="4310" y="826"/>
                  </a:lnTo>
                  <a:lnTo>
                    <a:pt x="4666" y="826"/>
                  </a:lnTo>
                  <a:lnTo>
                    <a:pt x="5101" y="855"/>
                  </a:lnTo>
                  <a:lnTo>
                    <a:pt x="5496" y="883"/>
                  </a:lnTo>
                  <a:lnTo>
                    <a:pt x="5971" y="9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7520" bIns="47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Shape 676"/>
            <p:cNvSpPr/>
            <p:nvPr/>
          </p:nvSpPr>
          <p:spPr>
            <a:xfrm>
              <a:off x="6993000" y="5040720"/>
              <a:ext cx="71280" cy="77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39" h="2849">
                  <a:moveTo>
                    <a:pt x="3361" y="1738"/>
                  </a:moveTo>
                  <a:lnTo>
                    <a:pt x="3164" y="1880"/>
                  </a:lnTo>
                  <a:lnTo>
                    <a:pt x="3005" y="2051"/>
                  </a:lnTo>
                  <a:lnTo>
                    <a:pt x="2847" y="2165"/>
                  </a:lnTo>
                  <a:lnTo>
                    <a:pt x="2689" y="2307"/>
                  </a:lnTo>
                  <a:lnTo>
                    <a:pt x="2452" y="2393"/>
                  </a:lnTo>
                  <a:lnTo>
                    <a:pt x="2254" y="2507"/>
                  </a:lnTo>
                  <a:lnTo>
                    <a:pt x="2057" y="2621"/>
                  </a:lnTo>
                  <a:lnTo>
                    <a:pt x="1898" y="2792"/>
                  </a:lnTo>
                  <a:lnTo>
                    <a:pt x="1661" y="2820"/>
                  </a:lnTo>
                  <a:lnTo>
                    <a:pt x="1424" y="2849"/>
                  </a:lnTo>
                  <a:lnTo>
                    <a:pt x="1226" y="2820"/>
                  </a:lnTo>
                  <a:lnTo>
                    <a:pt x="1068" y="2820"/>
                  </a:lnTo>
                  <a:lnTo>
                    <a:pt x="633" y="2678"/>
                  </a:lnTo>
                  <a:lnTo>
                    <a:pt x="238" y="2535"/>
                  </a:lnTo>
                  <a:lnTo>
                    <a:pt x="80" y="2307"/>
                  </a:lnTo>
                  <a:lnTo>
                    <a:pt x="40" y="2136"/>
                  </a:lnTo>
                  <a:lnTo>
                    <a:pt x="1" y="1909"/>
                  </a:lnTo>
                  <a:lnTo>
                    <a:pt x="40" y="1738"/>
                  </a:lnTo>
                  <a:lnTo>
                    <a:pt x="40" y="1510"/>
                  </a:lnTo>
                  <a:lnTo>
                    <a:pt x="159" y="1310"/>
                  </a:lnTo>
                  <a:lnTo>
                    <a:pt x="238" y="1083"/>
                  </a:lnTo>
                  <a:lnTo>
                    <a:pt x="356" y="883"/>
                  </a:lnTo>
                  <a:lnTo>
                    <a:pt x="752" y="712"/>
                  </a:lnTo>
                  <a:lnTo>
                    <a:pt x="1187" y="541"/>
                  </a:lnTo>
                  <a:lnTo>
                    <a:pt x="1345" y="456"/>
                  </a:lnTo>
                  <a:lnTo>
                    <a:pt x="1543" y="427"/>
                  </a:lnTo>
                  <a:lnTo>
                    <a:pt x="1780" y="427"/>
                  </a:lnTo>
                  <a:lnTo>
                    <a:pt x="2017" y="541"/>
                  </a:lnTo>
                  <a:lnTo>
                    <a:pt x="2175" y="684"/>
                  </a:lnTo>
                  <a:lnTo>
                    <a:pt x="2412" y="655"/>
                  </a:lnTo>
                  <a:lnTo>
                    <a:pt x="2650" y="541"/>
                  </a:lnTo>
                  <a:lnTo>
                    <a:pt x="2887" y="456"/>
                  </a:lnTo>
                  <a:lnTo>
                    <a:pt x="2887" y="0"/>
                  </a:lnTo>
                  <a:lnTo>
                    <a:pt x="3243" y="86"/>
                  </a:lnTo>
                  <a:lnTo>
                    <a:pt x="3480" y="257"/>
                  </a:lnTo>
                  <a:lnTo>
                    <a:pt x="3599" y="456"/>
                  </a:lnTo>
                  <a:lnTo>
                    <a:pt x="3638" y="741"/>
                  </a:lnTo>
                  <a:lnTo>
                    <a:pt x="3599" y="997"/>
                  </a:lnTo>
                  <a:lnTo>
                    <a:pt x="3519" y="1254"/>
                  </a:lnTo>
                  <a:lnTo>
                    <a:pt x="3440" y="1481"/>
                  </a:lnTo>
                  <a:lnTo>
                    <a:pt x="3361" y="1738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Shape 677"/>
            <p:cNvSpPr/>
            <p:nvPr/>
          </p:nvSpPr>
          <p:spPr>
            <a:xfrm>
              <a:off x="6309720" y="5143320"/>
              <a:ext cx="31680" cy="302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22" h="1111">
                  <a:moveTo>
                    <a:pt x="1622" y="427"/>
                  </a:moveTo>
                  <a:lnTo>
                    <a:pt x="1582" y="570"/>
                  </a:lnTo>
                  <a:lnTo>
                    <a:pt x="1543" y="684"/>
                  </a:lnTo>
                  <a:lnTo>
                    <a:pt x="1424" y="769"/>
                  </a:lnTo>
                  <a:lnTo>
                    <a:pt x="1345" y="855"/>
                  </a:lnTo>
                  <a:lnTo>
                    <a:pt x="989" y="940"/>
                  </a:lnTo>
                  <a:lnTo>
                    <a:pt x="633" y="1111"/>
                  </a:lnTo>
                  <a:lnTo>
                    <a:pt x="356" y="1082"/>
                  </a:lnTo>
                  <a:lnTo>
                    <a:pt x="198" y="1054"/>
                  </a:lnTo>
                  <a:lnTo>
                    <a:pt x="80" y="940"/>
                  </a:lnTo>
                  <a:lnTo>
                    <a:pt x="40" y="826"/>
                  </a:lnTo>
                  <a:lnTo>
                    <a:pt x="1" y="684"/>
                  </a:lnTo>
                  <a:lnTo>
                    <a:pt x="1" y="541"/>
                  </a:lnTo>
                  <a:lnTo>
                    <a:pt x="40" y="370"/>
                  </a:lnTo>
                  <a:lnTo>
                    <a:pt x="159" y="256"/>
                  </a:lnTo>
                  <a:lnTo>
                    <a:pt x="277" y="85"/>
                  </a:lnTo>
                  <a:lnTo>
                    <a:pt x="475" y="29"/>
                  </a:lnTo>
                  <a:lnTo>
                    <a:pt x="712" y="0"/>
                  </a:lnTo>
                  <a:lnTo>
                    <a:pt x="949" y="29"/>
                  </a:lnTo>
                  <a:lnTo>
                    <a:pt x="1147" y="85"/>
                  </a:lnTo>
                  <a:lnTo>
                    <a:pt x="1345" y="171"/>
                  </a:lnTo>
                  <a:lnTo>
                    <a:pt x="1503" y="285"/>
                  </a:lnTo>
                  <a:lnTo>
                    <a:pt x="1622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0480" bIns="-60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Shape 678"/>
            <p:cNvSpPr/>
            <p:nvPr/>
          </p:nvSpPr>
          <p:spPr>
            <a:xfrm>
              <a:off x="6989040" y="5186160"/>
              <a:ext cx="33480" cy="3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701" h="1197">
                  <a:moveTo>
                    <a:pt x="1503" y="1026"/>
                  </a:moveTo>
                  <a:lnTo>
                    <a:pt x="1266" y="1140"/>
                  </a:lnTo>
                  <a:lnTo>
                    <a:pt x="910" y="1197"/>
                  </a:lnTo>
                  <a:lnTo>
                    <a:pt x="515" y="1111"/>
                  </a:lnTo>
                  <a:lnTo>
                    <a:pt x="317" y="941"/>
                  </a:lnTo>
                  <a:lnTo>
                    <a:pt x="238" y="741"/>
                  </a:lnTo>
                  <a:lnTo>
                    <a:pt x="119" y="570"/>
                  </a:lnTo>
                  <a:lnTo>
                    <a:pt x="1" y="371"/>
                  </a:lnTo>
                  <a:lnTo>
                    <a:pt x="40" y="172"/>
                  </a:lnTo>
                  <a:lnTo>
                    <a:pt x="238" y="29"/>
                  </a:lnTo>
                  <a:lnTo>
                    <a:pt x="594" y="1"/>
                  </a:lnTo>
                  <a:lnTo>
                    <a:pt x="910" y="29"/>
                  </a:lnTo>
                  <a:lnTo>
                    <a:pt x="1266" y="172"/>
                  </a:lnTo>
                  <a:lnTo>
                    <a:pt x="1503" y="314"/>
                  </a:lnTo>
                  <a:lnTo>
                    <a:pt x="1701" y="513"/>
                  </a:lnTo>
                  <a:lnTo>
                    <a:pt x="1661" y="770"/>
                  </a:lnTo>
                  <a:lnTo>
                    <a:pt x="1503" y="10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8320" bIns="-58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Shape 679"/>
            <p:cNvSpPr/>
            <p:nvPr/>
          </p:nvSpPr>
          <p:spPr>
            <a:xfrm>
              <a:off x="6968160" y="5283360"/>
              <a:ext cx="28800" cy="284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64" h="1054">
                  <a:moveTo>
                    <a:pt x="1384" y="342"/>
                  </a:moveTo>
                  <a:lnTo>
                    <a:pt x="1345" y="513"/>
                  </a:lnTo>
                  <a:lnTo>
                    <a:pt x="1424" y="712"/>
                  </a:lnTo>
                  <a:lnTo>
                    <a:pt x="1463" y="883"/>
                  </a:lnTo>
                  <a:lnTo>
                    <a:pt x="1266" y="1054"/>
                  </a:lnTo>
                  <a:lnTo>
                    <a:pt x="949" y="1054"/>
                  </a:lnTo>
                  <a:lnTo>
                    <a:pt x="633" y="997"/>
                  </a:lnTo>
                  <a:lnTo>
                    <a:pt x="356" y="826"/>
                  </a:lnTo>
                  <a:lnTo>
                    <a:pt x="158" y="684"/>
                  </a:lnTo>
                  <a:lnTo>
                    <a:pt x="0" y="484"/>
                  </a:lnTo>
                  <a:lnTo>
                    <a:pt x="0" y="399"/>
                  </a:lnTo>
                  <a:lnTo>
                    <a:pt x="0" y="313"/>
                  </a:lnTo>
                  <a:lnTo>
                    <a:pt x="119" y="256"/>
                  </a:lnTo>
                  <a:lnTo>
                    <a:pt x="396" y="171"/>
                  </a:lnTo>
                  <a:lnTo>
                    <a:pt x="752" y="0"/>
                  </a:lnTo>
                  <a:lnTo>
                    <a:pt x="949" y="57"/>
                  </a:lnTo>
                  <a:lnTo>
                    <a:pt x="1147" y="57"/>
                  </a:lnTo>
                  <a:lnTo>
                    <a:pt x="1186" y="57"/>
                  </a:lnTo>
                  <a:lnTo>
                    <a:pt x="1266" y="114"/>
                  </a:lnTo>
                  <a:lnTo>
                    <a:pt x="1305" y="171"/>
                  </a:lnTo>
                  <a:lnTo>
                    <a:pt x="1384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2280" bIns="-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Shape 680"/>
            <p:cNvSpPr/>
            <p:nvPr/>
          </p:nvSpPr>
          <p:spPr>
            <a:xfrm>
              <a:off x="6945480" y="53715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64" h="1140">
                  <a:moveTo>
                    <a:pt x="1424" y="969"/>
                  </a:moveTo>
                  <a:lnTo>
                    <a:pt x="1187" y="1111"/>
                  </a:lnTo>
                  <a:lnTo>
                    <a:pt x="950" y="1140"/>
                  </a:lnTo>
                  <a:lnTo>
                    <a:pt x="673" y="1111"/>
                  </a:lnTo>
                  <a:lnTo>
                    <a:pt x="357" y="1140"/>
                  </a:lnTo>
                  <a:lnTo>
                    <a:pt x="198" y="969"/>
                  </a:lnTo>
                  <a:lnTo>
                    <a:pt x="80" y="798"/>
                  </a:lnTo>
                  <a:lnTo>
                    <a:pt x="1" y="627"/>
                  </a:lnTo>
                  <a:lnTo>
                    <a:pt x="40" y="485"/>
                  </a:lnTo>
                  <a:lnTo>
                    <a:pt x="40" y="314"/>
                  </a:lnTo>
                  <a:lnTo>
                    <a:pt x="159" y="172"/>
                  </a:lnTo>
                  <a:lnTo>
                    <a:pt x="317" y="58"/>
                  </a:lnTo>
                  <a:lnTo>
                    <a:pt x="594" y="1"/>
                  </a:lnTo>
                  <a:lnTo>
                    <a:pt x="791" y="1"/>
                  </a:lnTo>
                  <a:lnTo>
                    <a:pt x="1029" y="58"/>
                  </a:lnTo>
                  <a:lnTo>
                    <a:pt x="1187" y="143"/>
                  </a:lnTo>
                  <a:lnTo>
                    <a:pt x="1345" y="314"/>
                  </a:lnTo>
                  <a:lnTo>
                    <a:pt x="1424" y="428"/>
                  </a:lnTo>
                  <a:lnTo>
                    <a:pt x="1464" y="599"/>
                  </a:lnTo>
                  <a:lnTo>
                    <a:pt x="1464" y="770"/>
                  </a:lnTo>
                  <a:lnTo>
                    <a:pt x="1424" y="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760" bIns="-59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Shape 681"/>
            <p:cNvSpPr/>
            <p:nvPr/>
          </p:nvSpPr>
          <p:spPr>
            <a:xfrm>
              <a:off x="6609960" y="5485680"/>
              <a:ext cx="1147680" cy="78660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8321" h="28798">
                  <a:moveTo>
                    <a:pt x="13760" y="86"/>
                  </a:moveTo>
                  <a:lnTo>
                    <a:pt x="14037" y="1026"/>
                  </a:lnTo>
                  <a:lnTo>
                    <a:pt x="14274" y="2051"/>
                  </a:lnTo>
                  <a:lnTo>
                    <a:pt x="14432" y="3048"/>
                  </a:lnTo>
                  <a:lnTo>
                    <a:pt x="14669" y="4074"/>
                  </a:lnTo>
                  <a:lnTo>
                    <a:pt x="14946" y="5014"/>
                  </a:lnTo>
                  <a:lnTo>
                    <a:pt x="15341" y="5982"/>
                  </a:lnTo>
                  <a:lnTo>
                    <a:pt x="15855" y="6894"/>
                  </a:lnTo>
                  <a:lnTo>
                    <a:pt x="16646" y="7805"/>
                  </a:lnTo>
                  <a:lnTo>
                    <a:pt x="17002" y="7805"/>
                  </a:lnTo>
                  <a:lnTo>
                    <a:pt x="17358" y="7834"/>
                  </a:lnTo>
                  <a:lnTo>
                    <a:pt x="17477" y="7777"/>
                  </a:lnTo>
                  <a:lnTo>
                    <a:pt x="17635" y="7720"/>
                  </a:lnTo>
                  <a:lnTo>
                    <a:pt x="17714" y="7606"/>
                  </a:lnTo>
                  <a:lnTo>
                    <a:pt x="17753" y="7463"/>
                  </a:lnTo>
                  <a:lnTo>
                    <a:pt x="17081" y="6865"/>
                  </a:lnTo>
                  <a:lnTo>
                    <a:pt x="16686" y="6295"/>
                  </a:lnTo>
                  <a:lnTo>
                    <a:pt x="16409" y="5640"/>
                  </a:lnTo>
                  <a:lnTo>
                    <a:pt x="16251" y="4985"/>
                  </a:lnTo>
                  <a:lnTo>
                    <a:pt x="16132" y="4273"/>
                  </a:lnTo>
                  <a:lnTo>
                    <a:pt x="16053" y="3561"/>
                  </a:lnTo>
                  <a:lnTo>
                    <a:pt x="15935" y="2849"/>
                  </a:lnTo>
                  <a:lnTo>
                    <a:pt x="15816" y="2165"/>
                  </a:lnTo>
                  <a:lnTo>
                    <a:pt x="15776" y="1909"/>
                  </a:lnTo>
                  <a:lnTo>
                    <a:pt x="15737" y="1653"/>
                  </a:lnTo>
                  <a:lnTo>
                    <a:pt x="15658" y="1396"/>
                  </a:lnTo>
                  <a:lnTo>
                    <a:pt x="15618" y="1140"/>
                  </a:lnTo>
                  <a:lnTo>
                    <a:pt x="15539" y="855"/>
                  </a:lnTo>
                  <a:lnTo>
                    <a:pt x="15539" y="599"/>
                  </a:lnTo>
                  <a:lnTo>
                    <a:pt x="15539" y="342"/>
                  </a:lnTo>
                  <a:lnTo>
                    <a:pt x="15579" y="86"/>
                  </a:lnTo>
                  <a:lnTo>
                    <a:pt x="15855" y="115"/>
                  </a:lnTo>
                  <a:lnTo>
                    <a:pt x="16172" y="143"/>
                  </a:lnTo>
                  <a:lnTo>
                    <a:pt x="16488" y="143"/>
                  </a:lnTo>
                  <a:lnTo>
                    <a:pt x="16804" y="172"/>
                  </a:lnTo>
                  <a:lnTo>
                    <a:pt x="17081" y="172"/>
                  </a:lnTo>
                  <a:lnTo>
                    <a:pt x="17398" y="172"/>
                  </a:lnTo>
                  <a:lnTo>
                    <a:pt x="17674" y="172"/>
                  </a:lnTo>
                  <a:lnTo>
                    <a:pt x="17991" y="257"/>
                  </a:lnTo>
                  <a:lnTo>
                    <a:pt x="17556" y="684"/>
                  </a:lnTo>
                  <a:lnTo>
                    <a:pt x="17358" y="1225"/>
                  </a:lnTo>
                  <a:lnTo>
                    <a:pt x="17239" y="1824"/>
                  </a:lnTo>
                  <a:lnTo>
                    <a:pt x="17318" y="2507"/>
                  </a:lnTo>
                  <a:lnTo>
                    <a:pt x="17398" y="3162"/>
                  </a:lnTo>
                  <a:lnTo>
                    <a:pt x="17595" y="3817"/>
                  </a:lnTo>
                  <a:lnTo>
                    <a:pt x="17714" y="4444"/>
                  </a:lnTo>
                  <a:lnTo>
                    <a:pt x="17872" y="5042"/>
                  </a:lnTo>
                  <a:lnTo>
                    <a:pt x="18030" y="5156"/>
                  </a:lnTo>
                  <a:lnTo>
                    <a:pt x="18267" y="5327"/>
                  </a:lnTo>
                  <a:lnTo>
                    <a:pt x="18426" y="5469"/>
                  </a:lnTo>
                  <a:lnTo>
                    <a:pt x="18663" y="5640"/>
                  </a:lnTo>
                  <a:lnTo>
                    <a:pt x="18860" y="5754"/>
                  </a:lnTo>
                  <a:lnTo>
                    <a:pt x="19098" y="5897"/>
                  </a:lnTo>
                  <a:lnTo>
                    <a:pt x="19335" y="5982"/>
                  </a:lnTo>
                  <a:lnTo>
                    <a:pt x="19691" y="6068"/>
                  </a:lnTo>
                  <a:lnTo>
                    <a:pt x="19928" y="5982"/>
                  </a:lnTo>
                  <a:lnTo>
                    <a:pt x="20205" y="5897"/>
                  </a:lnTo>
                  <a:lnTo>
                    <a:pt x="20442" y="5783"/>
                  </a:lnTo>
                  <a:lnTo>
                    <a:pt x="20679" y="5669"/>
                  </a:lnTo>
                  <a:lnTo>
                    <a:pt x="20877" y="5498"/>
                  </a:lnTo>
                  <a:lnTo>
                    <a:pt x="21075" y="5327"/>
                  </a:lnTo>
                  <a:lnTo>
                    <a:pt x="21272" y="5128"/>
                  </a:lnTo>
                  <a:lnTo>
                    <a:pt x="21470" y="4957"/>
                  </a:lnTo>
                  <a:lnTo>
                    <a:pt x="21549" y="4473"/>
                  </a:lnTo>
                  <a:lnTo>
                    <a:pt x="21628" y="4017"/>
                  </a:lnTo>
                  <a:lnTo>
                    <a:pt x="21628" y="3590"/>
                  </a:lnTo>
                  <a:lnTo>
                    <a:pt x="21589" y="3162"/>
                  </a:lnTo>
                  <a:lnTo>
                    <a:pt x="21430" y="2735"/>
                  </a:lnTo>
                  <a:lnTo>
                    <a:pt x="21272" y="2336"/>
                  </a:lnTo>
                  <a:lnTo>
                    <a:pt x="20996" y="1966"/>
                  </a:lnTo>
                  <a:lnTo>
                    <a:pt x="20640" y="1653"/>
                  </a:lnTo>
                  <a:lnTo>
                    <a:pt x="20244" y="1453"/>
                  </a:lnTo>
                  <a:lnTo>
                    <a:pt x="19888" y="1311"/>
                  </a:lnTo>
                  <a:lnTo>
                    <a:pt x="19651" y="1225"/>
                  </a:lnTo>
                  <a:lnTo>
                    <a:pt x="19414" y="1225"/>
                  </a:lnTo>
                  <a:lnTo>
                    <a:pt x="19177" y="1225"/>
                  </a:lnTo>
                  <a:lnTo>
                    <a:pt x="18940" y="1282"/>
                  </a:lnTo>
                  <a:lnTo>
                    <a:pt x="19019" y="1112"/>
                  </a:lnTo>
                  <a:lnTo>
                    <a:pt x="19098" y="969"/>
                  </a:lnTo>
                  <a:lnTo>
                    <a:pt x="19177" y="798"/>
                  </a:lnTo>
                  <a:lnTo>
                    <a:pt x="19295" y="656"/>
                  </a:lnTo>
                  <a:lnTo>
                    <a:pt x="19295" y="485"/>
                  </a:lnTo>
                  <a:lnTo>
                    <a:pt x="19256" y="371"/>
                  </a:lnTo>
                  <a:lnTo>
                    <a:pt x="19137" y="286"/>
                  </a:lnTo>
                  <a:lnTo>
                    <a:pt x="18940" y="257"/>
                  </a:lnTo>
                  <a:lnTo>
                    <a:pt x="18979" y="257"/>
                  </a:lnTo>
                  <a:lnTo>
                    <a:pt x="19137" y="257"/>
                  </a:lnTo>
                  <a:lnTo>
                    <a:pt x="19335" y="257"/>
                  </a:lnTo>
                  <a:lnTo>
                    <a:pt x="19572" y="286"/>
                  </a:lnTo>
                  <a:lnTo>
                    <a:pt x="19770" y="286"/>
                  </a:lnTo>
                  <a:lnTo>
                    <a:pt x="20007" y="342"/>
                  </a:lnTo>
                  <a:lnTo>
                    <a:pt x="20205" y="399"/>
                  </a:lnTo>
                  <a:lnTo>
                    <a:pt x="20402" y="513"/>
                  </a:lnTo>
                  <a:lnTo>
                    <a:pt x="20561" y="456"/>
                  </a:lnTo>
                  <a:lnTo>
                    <a:pt x="20798" y="371"/>
                  </a:lnTo>
                  <a:lnTo>
                    <a:pt x="20996" y="342"/>
                  </a:lnTo>
                  <a:lnTo>
                    <a:pt x="21233" y="513"/>
                  </a:lnTo>
                  <a:lnTo>
                    <a:pt x="23684" y="656"/>
                  </a:lnTo>
                  <a:lnTo>
                    <a:pt x="26254" y="884"/>
                  </a:lnTo>
                  <a:lnTo>
                    <a:pt x="28824" y="1140"/>
                  </a:lnTo>
                  <a:lnTo>
                    <a:pt x="31473" y="1453"/>
                  </a:lnTo>
                  <a:lnTo>
                    <a:pt x="-31453" y="1738"/>
                  </a:lnTo>
                  <a:lnTo>
                    <a:pt x="-28844" y="2023"/>
                  </a:lnTo>
                  <a:lnTo>
                    <a:pt x="-26353" y="2251"/>
                  </a:lnTo>
                  <a:lnTo>
                    <a:pt x="-23862" y="2422"/>
                  </a:lnTo>
                  <a:lnTo>
                    <a:pt x="-23704" y="2308"/>
                  </a:lnTo>
                  <a:lnTo>
                    <a:pt x="-23466" y="2308"/>
                  </a:lnTo>
                  <a:lnTo>
                    <a:pt x="-23229" y="2336"/>
                  </a:lnTo>
                  <a:lnTo>
                    <a:pt x="-22992" y="2393"/>
                  </a:lnTo>
                  <a:lnTo>
                    <a:pt x="-22794" y="2393"/>
                  </a:lnTo>
                  <a:lnTo>
                    <a:pt x="-22557" y="2393"/>
                  </a:lnTo>
                  <a:lnTo>
                    <a:pt x="-22399" y="2336"/>
                  </a:lnTo>
                  <a:lnTo>
                    <a:pt x="-22201" y="2251"/>
                  </a:lnTo>
                  <a:lnTo>
                    <a:pt x="-20857" y="2365"/>
                  </a:lnTo>
                  <a:lnTo>
                    <a:pt x="-19394" y="2279"/>
                  </a:lnTo>
                  <a:lnTo>
                    <a:pt x="-17970" y="1994"/>
                  </a:lnTo>
                  <a:lnTo>
                    <a:pt x="-16468" y="1624"/>
                  </a:lnTo>
                  <a:lnTo>
                    <a:pt x="-15005" y="1168"/>
                  </a:lnTo>
                  <a:lnTo>
                    <a:pt x="-13503" y="798"/>
                  </a:lnTo>
                  <a:lnTo>
                    <a:pt x="-12000" y="513"/>
                  </a:lnTo>
                  <a:lnTo>
                    <a:pt x="-10458" y="428"/>
                  </a:lnTo>
                  <a:lnTo>
                    <a:pt x="-10023" y="399"/>
                  </a:lnTo>
                  <a:lnTo>
                    <a:pt x="-9549" y="371"/>
                  </a:lnTo>
                  <a:lnTo>
                    <a:pt x="-9074" y="342"/>
                  </a:lnTo>
                  <a:lnTo>
                    <a:pt x="-8600" y="342"/>
                  </a:lnTo>
                  <a:lnTo>
                    <a:pt x="-8165" y="342"/>
                  </a:lnTo>
                  <a:lnTo>
                    <a:pt x="-7769" y="399"/>
                  </a:lnTo>
                  <a:lnTo>
                    <a:pt x="-7453" y="485"/>
                  </a:lnTo>
                  <a:lnTo>
                    <a:pt x="-7216" y="684"/>
                  </a:lnTo>
                  <a:lnTo>
                    <a:pt x="-7888" y="3703"/>
                  </a:lnTo>
                  <a:lnTo>
                    <a:pt x="-9391" y="6580"/>
                  </a:lnTo>
                  <a:lnTo>
                    <a:pt x="-11447" y="9286"/>
                  </a:lnTo>
                  <a:lnTo>
                    <a:pt x="-13740" y="11992"/>
                  </a:lnTo>
                  <a:lnTo>
                    <a:pt x="-15994" y="14670"/>
                  </a:lnTo>
                  <a:lnTo>
                    <a:pt x="-17773" y="17461"/>
                  </a:lnTo>
                  <a:lnTo>
                    <a:pt x="-18840" y="20423"/>
                  </a:lnTo>
                  <a:lnTo>
                    <a:pt x="-18801" y="23642"/>
                  </a:lnTo>
                  <a:lnTo>
                    <a:pt x="-18682" y="23756"/>
                  </a:lnTo>
                  <a:lnTo>
                    <a:pt x="-18643" y="23927"/>
                  </a:lnTo>
                  <a:lnTo>
                    <a:pt x="-18682" y="24069"/>
                  </a:lnTo>
                  <a:lnTo>
                    <a:pt x="-18682" y="24268"/>
                  </a:lnTo>
                  <a:lnTo>
                    <a:pt x="-19157" y="24297"/>
                  </a:lnTo>
                  <a:lnTo>
                    <a:pt x="-19512" y="24354"/>
                  </a:lnTo>
                  <a:lnTo>
                    <a:pt x="-19908" y="24382"/>
                  </a:lnTo>
                  <a:lnTo>
                    <a:pt x="-20224" y="24468"/>
                  </a:lnTo>
                  <a:lnTo>
                    <a:pt x="-20580" y="24496"/>
                  </a:lnTo>
                  <a:lnTo>
                    <a:pt x="-20896" y="24582"/>
                  </a:lnTo>
                  <a:lnTo>
                    <a:pt x="-21292" y="24696"/>
                  </a:lnTo>
                  <a:lnTo>
                    <a:pt x="-21687" y="24867"/>
                  </a:lnTo>
                  <a:lnTo>
                    <a:pt x="-21885" y="24098"/>
                  </a:lnTo>
                  <a:lnTo>
                    <a:pt x="-22003" y="23357"/>
                  </a:lnTo>
                  <a:lnTo>
                    <a:pt x="-22122" y="22588"/>
                  </a:lnTo>
                  <a:lnTo>
                    <a:pt x="-22201" y="21847"/>
                  </a:lnTo>
                  <a:lnTo>
                    <a:pt x="-22359" y="21107"/>
                  </a:lnTo>
                  <a:lnTo>
                    <a:pt x="-22517" y="20395"/>
                  </a:lnTo>
                  <a:lnTo>
                    <a:pt x="-22755" y="19711"/>
                  </a:lnTo>
                  <a:lnTo>
                    <a:pt x="-23031" y="19056"/>
                  </a:lnTo>
                  <a:lnTo>
                    <a:pt x="-23269" y="19056"/>
                  </a:lnTo>
                  <a:lnTo>
                    <a:pt x="-23269" y="19141"/>
                  </a:lnTo>
                  <a:lnTo>
                    <a:pt x="-23229" y="19141"/>
                  </a:lnTo>
                  <a:lnTo>
                    <a:pt x="-23269" y="19084"/>
                  </a:lnTo>
                  <a:lnTo>
                    <a:pt x="-23269" y="19056"/>
                  </a:lnTo>
                  <a:lnTo>
                    <a:pt x="-23348" y="19740"/>
                  </a:lnTo>
                  <a:lnTo>
                    <a:pt x="-23348" y="20452"/>
                  </a:lnTo>
                  <a:lnTo>
                    <a:pt x="-23348" y="21192"/>
                  </a:lnTo>
                  <a:lnTo>
                    <a:pt x="-23269" y="21961"/>
                  </a:lnTo>
                  <a:lnTo>
                    <a:pt x="-23269" y="22702"/>
                  </a:lnTo>
                  <a:lnTo>
                    <a:pt x="-23229" y="23442"/>
                  </a:lnTo>
                  <a:lnTo>
                    <a:pt x="-23269" y="24183"/>
                  </a:lnTo>
                  <a:lnTo>
                    <a:pt x="-23269" y="24952"/>
                  </a:lnTo>
                  <a:lnTo>
                    <a:pt x="-24336" y="25465"/>
                  </a:lnTo>
                  <a:lnTo>
                    <a:pt x="-25443" y="25949"/>
                  </a:lnTo>
                  <a:lnTo>
                    <a:pt x="-26590" y="26348"/>
                  </a:lnTo>
                  <a:lnTo>
                    <a:pt x="-27737" y="26775"/>
                  </a:lnTo>
                  <a:lnTo>
                    <a:pt x="-28923" y="27117"/>
                  </a:lnTo>
                  <a:lnTo>
                    <a:pt x="-30109" y="27459"/>
                  </a:lnTo>
                  <a:lnTo>
                    <a:pt x="-31255" y="27829"/>
                  </a:lnTo>
                  <a:lnTo>
                    <a:pt x="-32323" y="28256"/>
                  </a:lnTo>
                  <a:lnTo>
                    <a:pt x="-32718" y="27088"/>
                  </a:lnTo>
                  <a:lnTo>
                    <a:pt x="32422" y="25977"/>
                  </a:lnTo>
                  <a:lnTo>
                    <a:pt x="32027" y="24867"/>
                  </a:lnTo>
                  <a:lnTo>
                    <a:pt x="31671" y="23756"/>
                  </a:lnTo>
                  <a:lnTo>
                    <a:pt x="31236" y="22645"/>
                  </a:lnTo>
                  <a:lnTo>
                    <a:pt x="30841" y="21591"/>
                  </a:lnTo>
                  <a:lnTo>
                    <a:pt x="30366" y="20509"/>
                  </a:lnTo>
                  <a:lnTo>
                    <a:pt x="29931" y="19483"/>
                  </a:lnTo>
                  <a:lnTo>
                    <a:pt x="30287" y="19198"/>
                  </a:lnTo>
                  <a:lnTo>
                    <a:pt x="30762" y="18971"/>
                  </a:lnTo>
                  <a:lnTo>
                    <a:pt x="31276" y="18771"/>
                  </a:lnTo>
                  <a:lnTo>
                    <a:pt x="31829" y="18600"/>
                  </a:lnTo>
                  <a:lnTo>
                    <a:pt x="32343" y="18372"/>
                  </a:lnTo>
                  <a:lnTo>
                    <a:pt x="-32679" y="18173"/>
                  </a:lnTo>
                  <a:lnTo>
                    <a:pt x="-32283" y="17888"/>
                  </a:lnTo>
                  <a:lnTo>
                    <a:pt x="-31967" y="17575"/>
                  </a:lnTo>
                  <a:lnTo>
                    <a:pt x="-31849" y="17347"/>
                  </a:lnTo>
                  <a:lnTo>
                    <a:pt x="-31888" y="17176"/>
                  </a:lnTo>
                  <a:lnTo>
                    <a:pt x="-32046" y="17005"/>
                  </a:lnTo>
                  <a:lnTo>
                    <a:pt x="-32204" y="16948"/>
                  </a:lnTo>
                  <a:lnTo>
                    <a:pt x="-32679" y="17148"/>
                  </a:lnTo>
                  <a:lnTo>
                    <a:pt x="32422" y="17318"/>
                  </a:lnTo>
                  <a:lnTo>
                    <a:pt x="31987" y="17461"/>
                  </a:lnTo>
                  <a:lnTo>
                    <a:pt x="31552" y="17632"/>
                  </a:lnTo>
                  <a:lnTo>
                    <a:pt x="31078" y="17746"/>
                  </a:lnTo>
                  <a:lnTo>
                    <a:pt x="30643" y="17917"/>
                  </a:lnTo>
                  <a:lnTo>
                    <a:pt x="30208" y="18059"/>
                  </a:lnTo>
                  <a:lnTo>
                    <a:pt x="29813" y="18258"/>
                  </a:lnTo>
                  <a:lnTo>
                    <a:pt x="30327" y="17974"/>
                  </a:lnTo>
                  <a:lnTo>
                    <a:pt x="30959" y="17660"/>
                  </a:lnTo>
                  <a:lnTo>
                    <a:pt x="31552" y="17290"/>
                  </a:lnTo>
                  <a:lnTo>
                    <a:pt x="32225" y="16948"/>
                  </a:lnTo>
                  <a:lnTo>
                    <a:pt x="-32718" y="16492"/>
                  </a:lnTo>
                  <a:lnTo>
                    <a:pt x="-32086" y="16065"/>
                  </a:lnTo>
                  <a:lnTo>
                    <a:pt x="-31572" y="15553"/>
                  </a:lnTo>
                  <a:lnTo>
                    <a:pt x="-31137" y="15040"/>
                  </a:lnTo>
                  <a:lnTo>
                    <a:pt x="-31730" y="14783"/>
                  </a:lnTo>
                  <a:lnTo>
                    <a:pt x="-32600" y="15211"/>
                  </a:lnTo>
                  <a:lnTo>
                    <a:pt x="32225" y="15638"/>
                  </a:lnTo>
                  <a:lnTo>
                    <a:pt x="31473" y="16065"/>
                  </a:lnTo>
                  <a:lnTo>
                    <a:pt x="30801" y="16492"/>
                  </a:lnTo>
                  <a:lnTo>
                    <a:pt x="30050" y="16834"/>
                  </a:lnTo>
                  <a:lnTo>
                    <a:pt x="29338" y="17148"/>
                  </a:lnTo>
                  <a:lnTo>
                    <a:pt x="28508" y="17404"/>
                  </a:lnTo>
                  <a:lnTo>
                    <a:pt x="27638" y="17575"/>
                  </a:lnTo>
                  <a:lnTo>
                    <a:pt x="27598" y="17546"/>
                  </a:lnTo>
                  <a:lnTo>
                    <a:pt x="27480" y="17489"/>
                  </a:lnTo>
                  <a:lnTo>
                    <a:pt x="27282" y="17347"/>
                  </a:lnTo>
                  <a:lnTo>
                    <a:pt x="27164" y="17290"/>
                  </a:lnTo>
                  <a:lnTo>
                    <a:pt x="25819" y="17205"/>
                  </a:lnTo>
                  <a:lnTo>
                    <a:pt x="24633" y="16977"/>
                  </a:lnTo>
                  <a:lnTo>
                    <a:pt x="23407" y="16606"/>
                  </a:lnTo>
                  <a:lnTo>
                    <a:pt x="22340" y="16151"/>
                  </a:lnTo>
                  <a:lnTo>
                    <a:pt x="21193" y="15609"/>
                  </a:lnTo>
                  <a:lnTo>
                    <a:pt x="20126" y="15068"/>
                  </a:lnTo>
                  <a:lnTo>
                    <a:pt x="19058" y="14527"/>
                  </a:lnTo>
                  <a:lnTo>
                    <a:pt x="17991" y="14071"/>
                  </a:lnTo>
                  <a:lnTo>
                    <a:pt x="17635" y="14014"/>
                  </a:lnTo>
                  <a:lnTo>
                    <a:pt x="17398" y="14071"/>
                  </a:lnTo>
                  <a:lnTo>
                    <a:pt x="17595" y="14385"/>
                  </a:lnTo>
                  <a:lnTo>
                    <a:pt x="17912" y="14727"/>
                  </a:lnTo>
                  <a:lnTo>
                    <a:pt x="18307" y="15011"/>
                  </a:lnTo>
                  <a:lnTo>
                    <a:pt x="18781" y="15325"/>
                  </a:lnTo>
                  <a:lnTo>
                    <a:pt x="19256" y="15581"/>
                  </a:lnTo>
                  <a:lnTo>
                    <a:pt x="19730" y="15837"/>
                  </a:lnTo>
                  <a:lnTo>
                    <a:pt x="20165" y="16094"/>
                  </a:lnTo>
                  <a:lnTo>
                    <a:pt x="20640" y="16350"/>
                  </a:lnTo>
                  <a:lnTo>
                    <a:pt x="24159" y="18002"/>
                  </a:lnTo>
                  <a:lnTo>
                    <a:pt x="23131" y="17860"/>
                  </a:lnTo>
                  <a:lnTo>
                    <a:pt x="22142" y="17689"/>
                  </a:lnTo>
                  <a:lnTo>
                    <a:pt x="21193" y="17489"/>
                  </a:lnTo>
                  <a:lnTo>
                    <a:pt x="20284" y="17290"/>
                  </a:lnTo>
                  <a:lnTo>
                    <a:pt x="19335" y="17034"/>
                  </a:lnTo>
                  <a:lnTo>
                    <a:pt x="18465" y="16806"/>
                  </a:lnTo>
                  <a:lnTo>
                    <a:pt x="17595" y="16549"/>
                  </a:lnTo>
                  <a:lnTo>
                    <a:pt x="16765" y="16350"/>
                  </a:lnTo>
                  <a:lnTo>
                    <a:pt x="16686" y="16578"/>
                  </a:lnTo>
                  <a:lnTo>
                    <a:pt x="16646" y="16777"/>
                  </a:lnTo>
                  <a:lnTo>
                    <a:pt x="17714" y="17290"/>
                  </a:lnTo>
                  <a:lnTo>
                    <a:pt x="18900" y="17803"/>
                  </a:lnTo>
                  <a:lnTo>
                    <a:pt x="20047" y="18173"/>
                  </a:lnTo>
                  <a:lnTo>
                    <a:pt x="21272" y="18486"/>
                  </a:lnTo>
                  <a:lnTo>
                    <a:pt x="22458" y="18657"/>
                  </a:lnTo>
                  <a:lnTo>
                    <a:pt x="23684" y="18771"/>
                  </a:lnTo>
                  <a:lnTo>
                    <a:pt x="24870" y="18743"/>
                  </a:lnTo>
                  <a:lnTo>
                    <a:pt x="26096" y="18600"/>
                  </a:lnTo>
                  <a:lnTo>
                    <a:pt x="26096" y="18743"/>
                  </a:lnTo>
                  <a:lnTo>
                    <a:pt x="26215" y="18885"/>
                  </a:lnTo>
                  <a:lnTo>
                    <a:pt x="26333" y="18971"/>
                  </a:lnTo>
                  <a:lnTo>
                    <a:pt x="26452" y="19084"/>
                  </a:lnTo>
                  <a:lnTo>
                    <a:pt x="26570" y="19170"/>
                  </a:lnTo>
                  <a:lnTo>
                    <a:pt x="26729" y="19255"/>
                  </a:lnTo>
                  <a:lnTo>
                    <a:pt x="26887" y="19369"/>
                  </a:lnTo>
                  <a:lnTo>
                    <a:pt x="27045" y="19569"/>
                  </a:lnTo>
                  <a:lnTo>
                    <a:pt x="27243" y="20708"/>
                  </a:lnTo>
                  <a:lnTo>
                    <a:pt x="27559" y="21876"/>
                  </a:lnTo>
                  <a:lnTo>
                    <a:pt x="27954" y="23044"/>
                  </a:lnTo>
                  <a:lnTo>
                    <a:pt x="28429" y="24211"/>
                  </a:lnTo>
                  <a:lnTo>
                    <a:pt x="28903" y="25351"/>
                  </a:lnTo>
                  <a:lnTo>
                    <a:pt x="29417" y="26490"/>
                  </a:lnTo>
                  <a:lnTo>
                    <a:pt x="29971" y="27629"/>
                  </a:lnTo>
                  <a:lnTo>
                    <a:pt x="30564" y="28797"/>
                  </a:lnTo>
                  <a:lnTo>
                    <a:pt x="29892" y="28712"/>
                  </a:lnTo>
                  <a:lnTo>
                    <a:pt x="29220" y="28655"/>
                  </a:lnTo>
                  <a:lnTo>
                    <a:pt x="28547" y="28569"/>
                  </a:lnTo>
                  <a:lnTo>
                    <a:pt x="27875" y="28484"/>
                  </a:lnTo>
                  <a:lnTo>
                    <a:pt x="27124" y="28398"/>
                  </a:lnTo>
                  <a:lnTo>
                    <a:pt x="26412" y="28313"/>
                  </a:lnTo>
                  <a:lnTo>
                    <a:pt x="25622" y="28256"/>
                  </a:lnTo>
                  <a:lnTo>
                    <a:pt x="24870" y="28256"/>
                  </a:lnTo>
                  <a:lnTo>
                    <a:pt x="24317" y="28142"/>
                  </a:lnTo>
                  <a:lnTo>
                    <a:pt x="23803" y="28085"/>
                  </a:lnTo>
                  <a:lnTo>
                    <a:pt x="23249" y="28057"/>
                  </a:lnTo>
                  <a:lnTo>
                    <a:pt x="22696" y="28028"/>
                  </a:lnTo>
                  <a:lnTo>
                    <a:pt x="22142" y="27971"/>
                  </a:lnTo>
                  <a:lnTo>
                    <a:pt x="21668" y="27914"/>
                  </a:lnTo>
                  <a:lnTo>
                    <a:pt x="21154" y="27829"/>
                  </a:lnTo>
                  <a:lnTo>
                    <a:pt x="20758" y="27658"/>
                  </a:lnTo>
                  <a:lnTo>
                    <a:pt x="20482" y="26718"/>
                  </a:lnTo>
                  <a:lnTo>
                    <a:pt x="20165" y="25750"/>
                  </a:lnTo>
                  <a:lnTo>
                    <a:pt x="19730" y="24781"/>
                  </a:lnTo>
                  <a:lnTo>
                    <a:pt x="19256" y="23841"/>
                  </a:lnTo>
                  <a:lnTo>
                    <a:pt x="18584" y="22901"/>
                  </a:lnTo>
                  <a:lnTo>
                    <a:pt x="17832" y="22047"/>
                  </a:lnTo>
                  <a:lnTo>
                    <a:pt x="16883" y="21278"/>
                  </a:lnTo>
                  <a:lnTo>
                    <a:pt x="15816" y="20708"/>
                  </a:lnTo>
                  <a:lnTo>
                    <a:pt x="15935" y="21078"/>
                  </a:lnTo>
                  <a:lnTo>
                    <a:pt x="16172" y="21506"/>
                  </a:lnTo>
                  <a:lnTo>
                    <a:pt x="16409" y="21876"/>
                  </a:lnTo>
                  <a:lnTo>
                    <a:pt x="16765" y="22303"/>
                  </a:lnTo>
                  <a:lnTo>
                    <a:pt x="17081" y="22673"/>
                  </a:lnTo>
                  <a:lnTo>
                    <a:pt x="17398" y="23072"/>
                  </a:lnTo>
                  <a:lnTo>
                    <a:pt x="17714" y="23499"/>
                  </a:lnTo>
                  <a:lnTo>
                    <a:pt x="17991" y="23927"/>
                  </a:lnTo>
                  <a:lnTo>
                    <a:pt x="18149" y="24325"/>
                  </a:lnTo>
                  <a:lnTo>
                    <a:pt x="18346" y="24781"/>
                  </a:lnTo>
                  <a:lnTo>
                    <a:pt x="18505" y="25208"/>
                  </a:lnTo>
                  <a:lnTo>
                    <a:pt x="18702" y="25693"/>
                  </a:lnTo>
                  <a:lnTo>
                    <a:pt x="18821" y="26120"/>
                  </a:lnTo>
                  <a:lnTo>
                    <a:pt x="18940" y="26576"/>
                  </a:lnTo>
                  <a:lnTo>
                    <a:pt x="18940" y="27003"/>
                  </a:lnTo>
                  <a:lnTo>
                    <a:pt x="18940" y="27402"/>
                  </a:lnTo>
                  <a:lnTo>
                    <a:pt x="18702" y="27316"/>
                  </a:lnTo>
                  <a:lnTo>
                    <a:pt x="18505" y="27259"/>
                  </a:lnTo>
                  <a:lnTo>
                    <a:pt x="18228" y="27174"/>
                  </a:lnTo>
                  <a:lnTo>
                    <a:pt x="17991" y="27088"/>
                  </a:lnTo>
                  <a:lnTo>
                    <a:pt x="17674" y="27003"/>
                  </a:lnTo>
                  <a:lnTo>
                    <a:pt x="17437" y="26946"/>
                  </a:lnTo>
                  <a:lnTo>
                    <a:pt x="17121" y="26917"/>
                  </a:lnTo>
                  <a:lnTo>
                    <a:pt x="16883" y="26946"/>
                  </a:lnTo>
                  <a:lnTo>
                    <a:pt x="16251" y="26006"/>
                  </a:lnTo>
                  <a:lnTo>
                    <a:pt x="15579" y="25066"/>
                  </a:lnTo>
                  <a:lnTo>
                    <a:pt x="14867" y="24154"/>
                  </a:lnTo>
                  <a:lnTo>
                    <a:pt x="14195" y="23300"/>
                  </a:lnTo>
                  <a:lnTo>
                    <a:pt x="13404" y="22417"/>
                  </a:lnTo>
                  <a:lnTo>
                    <a:pt x="12653" y="21591"/>
                  </a:lnTo>
                  <a:lnTo>
                    <a:pt x="11823" y="20765"/>
                  </a:lnTo>
                  <a:lnTo>
                    <a:pt x="10992" y="19996"/>
                  </a:lnTo>
                  <a:lnTo>
                    <a:pt x="10518" y="19740"/>
                  </a:lnTo>
                  <a:lnTo>
                    <a:pt x="10122" y="19483"/>
                  </a:lnTo>
                  <a:lnTo>
                    <a:pt x="9767" y="19198"/>
                  </a:lnTo>
                  <a:lnTo>
                    <a:pt x="9450" y="18914"/>
                  </a:lnTo>
                  <a:lnTo>
                    <a:pt x="9094" y="18600"/>
                  </a:lnTo>
                  <a:lnTo>
                    <a:pt x="8818" y="18287"/>
                  </a:lnTo>
                  <a:lnTo>
                    <a:pt x="8462" y="17974"/>
                  </a:lnTo>
                  <a:lnTo>
                    <a:pt x="8185" y="17660"/>
                  </a:lnTo>
                  <a:lnTo>
                    <a:pt x="6406" y="15723"/>
                  </a:lnTo>
                  <a:lnTo>
                    <a:pt x="4903" y="13758"/>
                  </a:lnTo>
                  <a:lnTo>
                    <a:pt x="3519" y="11764"/>
                  </a:lnTo>
                  <a:lnTo>
                    <a:pt x="2412" y="9713"/>
                  </a:lnTo>
                  <a:lnTo>
                    <a:pt x="1424" y="7577"/>
                  </a:lnTo>
                  <a:lnTo>
                    <a:pt x="712" y="5412"/>
                  </a:lnTo>
                  <a:lnTo>
                    <a:pt x="238" y="3162"/>
                  </a:lnTo>
                  <a:lnTo>
                    <a:pt x="0" y="855"/>
                  </a:lnTo>
                  <a:lnTo>
                    <a:pt x="396" y="941"/>
                  </a:lnTo>
                  <a:lnTo>
                    <a:pt x="831" y="969"/>
                  </a:lnTo>
                  <a:lnTo>
                    <a:pt x="1226" y="912"/>
                  </a:lnTo>
                  <a:lnTo>
                    <a:pt x="1661" y="855"/>
                  </a:lnTo>
                  <a:lnTo>
                    <a:pt x="2056" y="713"/>
                  </a:lnTo>
                  <a:lnTo>
                    <a:pt x="2491" y="599"/>
                  </a:lnTo>
                  <a:lnTo>
                    <a:pt x="2887" y="485"/>
                  </a:lnTo>
                  <a:lnTo>
                    <a:pt x="3361" y="428"/>
                  </a:lnTo>
                  <a:lnTo>
                    <a:pt x="4626" y="314"/>
                  </a:lnTo>
                  <a:lnTo>
                    <a:pt x="5931" y="200"/>
                  </a:lnTo>
                  <a:lnTo>
                    <a:pt x="7236" y="115"/>
                  </a:lnTo>
                  <a:lnTo>
                    <a:pt x="8580" y="86"/>
                  </a:lnTo>
                  <a:lnTo>
                    <a:pt x="9885" y="1"/>
                  </a:lnTo>
                  <a:lnTo>
                    <a:pt x="11190" y="1"/>
                  </a:lnTo>
                  <a:lnTo>
                    <a:pt x="12455" y="1"/>
                  </a:lnTo>
                  <a:lnTo>
                    <a:pt x="13760" y="86"/>
                  </a:lnTo>
                  <a:close/>
                </a:path>
              </a:pathLst>
            </a:custGeom>
            <a:solidFill>
              <a:srgbClr val="000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Shape 682"/>
            <p:cNvSpPr/>
            <p:nvPr/>
          </p:nvSpPr>
          <p:spPr>
            <a:xfrm>
              <a:off x="6978240" y="5545080"/>
              <a:ext cx="30960" cy="73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82" h="2707">
                  <a:moveTo>
                    <a:pt x="1582" y="1396"/>
                  </a:moveTo>
                  <a:lnTo>
                    <a:pt x="1582" y="1595"/>
                  </a:lnTo>
                  <a:lnTo>
                    <a:pt x="1542" y="1852"/>
                  </a:lnTo>
                  <a:lnTo>
                    <a:pt x="1384" y="2080"/>
                  </a:lnTo>
                  <a:lnTo>
                    <a:pt x="1107" y="2336"/>
                  </a:lnTo>
                  <a:lnTo>
                    <a:pt x="1226" y="2421"/>
                  </a:lnTo>
                  <a:lnTo>
                    <a:pt x="870" y="2706"/>
                  </a:lnTo>
                  <a:lnTo>
                    <a:pt x="554" y="2365"/>
                  </a:lnTo>
                  <a:lnTo>
                    <a:pt x="356" y="2051"/>
                  </a:lnTo>
                  <a:lnTo>
                    <a:pt x="158" y="1709"/>
                  </a:lnTo>
                  <a:lnTo>
                    <a:pt x="79" y="1396"/>
                  </a:lnTo>
                  <a:lnTo>
                    <a:pt x="0" y="1026"/>
                  </a:lnTo>
                  <a:lnTo>
                    <a:pt x="0" y="684"/>
                  </a:lnTo>
                  <a:lnTo>
                    <a:pt x="0" y="342"/>
                  </a:lnTo>
                  <a:lnTo>
                    <a:pt x="0" y="0"/>
                  </a:lnTo>
                  <a:lnTo>
                    <a:pt x="317" y="29"/>
                  </a:lnTo>
                  <a:lnTo>
                    <a:pt x="633" y="143"/>
                  </a:lnTo>
                  <a:lnTo>
                    <a:pt x="870" y="257"/>
                  </a:lnTo>
                  <a:lnTo>
                    <a:pt x="1147" y="456"/>
                  </a:lnTo>
                  <a:lnTo>
                    <a:pt x="1305" y="627"/>
                  </a:lnTo>
                  <a:lnTo>
                    <a:pt x="1463" y="883"/>
                  </a:lnTo>
                  <a:lnTo>
                    <a:pt x="1542" y="1111"/>
                  </a:lnTo>
                  <a:lnTo>
                    <a:pt x="1582" y="1396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Shape 683"/>
            <p:cNvSpPr/>
            <p:nvPr/>
          </p:nvSpPr>
          <p:spPr>
            <a:xfrm>
              <a:off x="5924520" y="5749560"/>
              <a:ext cx="51120" cy="42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11" h="1568">
                  <a:moveTo>
                    <a:pt x="2571" y="1567"/>
                  </a:moveTo>
                  <a:lnTo>
                    <a:pt x="2136" y="1368"/>
                  </a:lnTo>
                  <a:lnTo>
                    <a:pt x="1701" y="1225"/>
                  </a:lnTo>
                  <a:lnTo>
                    <a:pt x="1266" y="1111"/>
                  </a:lnTo>
                  <a:lnTo>
                    <a:pt x="831" y="997"/>
                  </a:lnTo>
                  <a:lnTo>
                    <a:pt x="436" y="798"/>
                  </a:lnTo>
                  <a:lnTo>
                    <a:pt x="199" y="627"/>
                  </a:lnTo>
                  <a:lnTo>
                    <a:pt x="1" y="342"/>
                  </a:lnTo>
                  <a:lnTo>
                    <a:pt x="40" y="0"/>
                  </a:lnTo>
                  <a:lnTo>
                    <a:pt x="357" y="171"/>
                  </a:lnTo>
                  <a:lnTo>
                    <a:pt x="792" y="257"/>
                  </a:lnTo>
                  <a:lnTo>
                    <a:pt x="1266" y="314"/>
                  </a:lnTo>
                  <a:lnTo>
                    <a:pt x="1741" y="371"/>
                  </a:lnTo>
                  <a:lnTo>
                    <a:pt x="2136" y="456"/>
                  </a:lnTo>
                  <a:lnTo>
                    <a:pt x="2452" y="656"/>
                  </a:lnTo>
                  <a:lnTo>
                    <a:pt x="2610" y="997"/>
                  </a:lnTo>
                  <a:lnTo>
                    <a:pt x="2571" y="1567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880" bIns="-47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Shape 684"/>
            <p:cNvSpPr/>
            <p:nvPr/>
          </p:nvSpPr>
          <p:spPr>
            <a:xfrm>
              <a:off x="5979600" y="5754240"/>
              <a:ext cx="118800" cy="48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050" h="1767">
                  <a:moveTo>
                    <a:pt x="6050" y="1396"/>
                  </a:moveTo>
                  <a:lnTo>
                    <a:pt x="5852" y="1254"/>
                  </a:lnTo>
                  <a:lnTo>
                    <a:pt x="5694" y="1311"/>
                  </a:lnTo>
                  <a:lnTo>
                    <a:pt x="5536" y="1396"/>
                  </a:lnTo>
                  <a:lnTo>
                    <a:pt x="5456" y="1482"/>
                  </a:lnTo>
                  <a:lnTo>
                    <a:pt x="4705" y="1624"/>
                  </a:lnTo>
                  <a:lnTo>
                    <a:pt x="4033" y="1738"/>
                  </a:lnTo>
                  <a:lnTo>
                    <a:pt x="3361" y="1766"/>
                  </a:lnTo>
                  <a:lnTo>
                    <a:pt x="2728" y="1766"/>
                  </a:lnTo>
                  <a:lnTo>
                    <a:pt x="2017" y="1709"/>
                  </a:lnTo>
                  <a:lnTo>
                    <a:pt x="1344" y="1624"/>
                  </a:lnTo>
                  <a:lnTo>
                    <a:pt x="672" y="1510"/>
                  </a:lnTo>
                  <a:lnTo>
                    <a:pt x="0" y="1396"/>
                  </a:lnTo>
                  <a:lnTo>
                    <a:pt x="198" y="1254"/>
                  </a:lnTo>
                  <a:lnTo>
                    <a:pt x="435" y="1083"/>
                  </a:lnTo>
                  <a:lnTo>
                    <a:pt x="593" y="826"/>
                  </a:lnTo>
                  <a:lnTo>
                    <a:pt x="633" y="599"/>
                  </a:lnTo>
                  <a:lnTo>
                    <a:pt x="1068" y="513"/>
                  </a:lnTo>
                  <a:lnTo>
                    <a:pt x="1542" y="513"/>
                  </a:lnTo>
                  <a:lnTo>
                    <a:pt x="2056" y="513"/>
                  </a:lnTo>
                  <a:lnTo>
                    <a:pt x="2610" y="570"/>
                  </a:lnTo>
                  <a:lnTo>
                    <a:pt x="3084" y="542"/>
                  </a:lnTo>
                  <a:lnTo>
                    <a:pt x="3598" y="542"/>
                  </a:lnTo>
                  <a:lnTo>
                    <a:pt x="4073" y="428"/>
                  </a:lnTo>
                  <a:lnTo>
                    <a:pt x="4587" y="257"/>
                  </a:lnTo>
                  <a:lnTo>
                    <a:pt x="4863" y="257"/>
                  </a:lnTo>
                  <a:lnTo>
                    <a:pt x="5180" y="257"/>
                  </a:lnTo>
                  <a:lnTo>
                    <a:pt x="5496" y="143"/>
                  </a:lnTo>
                  <a:lnTo>
                    <a:pt x="5812" y="0"/>
                  </a:lnTo>
                  <a:lnTo>
                    <a:pt x="5852" y="143"/>
                  </a:lnTo>
                  <a:lnTo>
                    <a:pt x="5891" y="314"/>
                  </a:lnTo>
                  <a:lnTo>
                    <a:pt x="5891" y="485"/>
                  </a:lnTo>
                  <a:lnTo>
                    <a:pt x="5931" y="684"/>
                  </a:lnTo>
                  <a:lnTo>
                    <a:pt x="5931" y="855"/>
                  </a:lnTo>
                  <a:lnTo>
                    <a:pt x="5931" y="1026"/>
                  </a:lnTo>
                  <a:lnTo>
                    <a:pt x="5931" y="1197"/>
                  </a:lnTo>
                  <a:lnTo>
                    <a:pt x="6050" y="1396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Shape 685"/>
            <p:cNvSpPr/>
            <p:nvPr/>
          </p:nvSpPr>
          <p:spPr>
            <a:xfrm>
              <a:off x="5925240" y="5815800"/>
              <a:ext cx="182880" cy="11124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92" h="4074">
                  <a:moveTo>
                    <a:pt x="2294" y="513"/>
                  </a:moveTo>
                  <a:lnTo>
                    <a:pt x="2412" y="342"/>
                  </a:lnTo>
                  <a:lnTo>
                    <a:pt x="2491" y="456"/>
                  </a:lnTo>
                  <a:lnTo>
                    <a:pt x="2649" y="542"/>
                  </a:lnTo>
                  <a:lnTo>
                    <a:pt x="2808" y="542"/>
                  </a:lnTo>
                  <a:lnTo>
                    <a:pt x="3005" y="570"/>
                  </a:lnTo>
                  <a:lnTo>
                    <a:pt x="3401" y="542"/>
                  </a:lnTo>
                  <a:lnTo>
                    <a:pt x="3757" y="713"/>
                  </a:lnTo>
                  <a:lnTo>
                    <a:pt x="4350" y="770"/>
                  </a:lnTo>
                  <a:lnTo>
                    <a:pt x="4982" y="798"/>
                  </a:lnTo>
                  <a:lnTo>
                    <a:pt x="5536" y="798"/>
                  </a:lnTo>
                  <a:lnTo>
                    <a:pt x="6089" y="827"/>
                  </a:lnTo>
                  <a:lnTo>
                    <a:pt x="6603" y="770"/>
                  </a:lnTo>
                  <a:lnTo>
                    <a:pt x="7157" y="770"/>
                  </a:lnTo>
                  <a:lnTo>
                    <a:pt x="7710" y="713"/>
                  </a:lnTo>
                  <a:lnTo>
                    <a:pt x="8343" y="713"/>
                  </a:lnTo>
                  <a:lnTo>
                    <a:pt x="8462" y="627"/>
                  </a:lnTo>
                  <a:lnTo>
                    <a:pt x="8620" y="542"/>
                  </a:lnTo>
                  <a:lnTo>
                    <a:pt x="8778" y="485"/>
                  </a:lnTo>
                  <a:lnTo>
                    <a:pt x="9055" y="513"/>
                  </a:lnTo>
                  <a:lnTo>
                    <a:pt x="8936" y="798"/>
                  </a:lnTo>
                  <a:lnTo>
                    <a:pt x="8976" y="1111"/>
                  </a:lnTo>
                  <a:lnTo>
                    <a:pt x="9055" y="1425"/>
                  </a:lnTo>
                  <a:lnTo>
                    <a:pt x="9213" y="1767"/>
                  </a:lnTo>
                  <a:lnTo>
                    <a:pt x="9252" y="2080"/>
                  </a:lnTo>
                  <a:lnTo>
                    <a:pt x="9292" y="2422"/>
                  </a:lnTo>
                  <a:lnTo>
                    <a:pt x="9173" y="2735"/>
                  </a:lnTo>
                  <a:lnTo>
                    <a:pt x="8936" y="3048"/>
                  </a:lnTo>
                  <a:lnTo>
                    <a:pt x="8145" y="3248"/>
                  </a:lnTo>
                  <a:lnTo>
                    <a:pt x="7394" y="3476"/>
                  </a:lnTo>
                  <a:lnTo>
                    <a:pt x="6682" y="3703"/>
                  </a:lnTo>
                  <a:lnTo>
                    <a:pt x="5971" y="3903"/>
                  </a:lnTo>
                  <a:lnTo>
                    <a:pt x="5220" y="4017"/>
                  </a:lnTo>
                  <a:lnTo>
                    <a:pt x="4468" y="4074"/>
                  </a:lnTo>
                  <a:lnTo>
                    <a:pt x="3717" y="4045"/>
                  </a:lnTo>
                  <a:lnTo>
                    <a:pt x="3005" y="3931"/>
                  </a:lnTo>
                  <a:lnTo>
                    <a:pt x="2768" y="3931"/>
                  </a:lnTo>
                  <a:lnTo>
                    <a:pt x="2570" y="3931"/>
                  </a:lnTo>
                  <a:lnTo>
                    <a:pt x="2333" y="3931"/>
                  </a:lnTo>
                  <a:lnTo>
                    <a:pt x="2096" y="3960"/>
                  </a:lnTo>
                  <a:lnTo>
                    <a:pt x="1859" y="3903"/>
                  </a:lnTo>
                  <a:lnTo>
                    <a:pt x="1661" y="3874"/>
                  </a:lnTo>
                  <a:lnTo>
                    <a:pt x="1463" y="3760"/>
                  </a:lnTo>
                  <a:lnTo>
                    <a:pt x="1345" y="3646"/>
                  </a:lnTo>
                  <a:lnTo>
                    <a:pt x="1068" y="3846"/>
                  </a:lnTo>
                  <a:lnTo>
                    <a:pt x="633" y="3589"/>
                  </a:lnTo>
                  <a:lnTo>
                    <a:pt x="356" y="3276"/>
                  </a:lnTo>
                  <a:lnTo>
                    <a:pt x="159" y="2849"/>
                  </a:lnTo>
                  <a:lnTo>
                    <a:pt x="119" y="2422"/>
                  </a:lnTo>
                  <a:lnTo>
                    <a:pt x="79" y="1937"/>
                  </a:lnTo>
                  <a:lnTo>
                    <a:pt x="119" y="1482"/>
                  </a:lnTo>
                  <a:lnTo>
                    <a:pt x="119" y="1054"/>
                  </a:lnTo>
                  <a:lnTo>
                    <a:pt x="119" y="713"/>
                  </a:lnTo>
                  <a:lnTo>
                    <a:pt x="0" y="1"/>
                  </a:lnTo>
                  <a:lnTo>
                    <a:pt x="277" y="1"/>
                  </a:lnTo>
                  <a:lnTo>
                    <a:pt x="593" y="1"/>
                  </a:lnTo>
                  <a:lnTo>
                    <a:pt x="870" y="29"/>
                  </a:lnTo>
                  <a:lnTo>
                    <a:pt x="1187" y="115"/>
                  </a:lnTo>
                  <a:lnTo>
                    <a:pt x="1424" y="171"/>
                  </a:lnTo>
                  <a:lnTo>
                    <a:pt x="1740" y="257"/>
                  </a:lnTo>
                  <a:lnTo>
                    <a:pt x="1977" y="371"/>
                  </a:lnTo>
                  <a:lnTo>
                    <a:pt x="2294" y="51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0520" bIns="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Shape 686"/>
            <p:cNvSpPr/>
            <p:nvPr/>
          </p:nvSpPr>
          <p:spPr>
            <a:xfrm>
              <a:off x="5941440" y="5851440"/>
              <a:ext cx="83160" cy="442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232" h="1625">
                  <a:moveTo>
                    <a:pt x="2175" y="599"/>
                  </a:moveTo>
                  <a:lnTo>
                    <a:pt x="2333" y="371"/>
                  </a:lnTo>
                  <a:lnTo>
                    <a:pt x="2531" y="257"/>
                  </a:lnTo>
                  <a:lnTo>
                    <a:pt x="2768" y="172"/>
                  </a:lnTo>
                  <a:lnTo>
                    <a:pt x="3006" y="172"/>
                  </a:lnTo>
                  <a:lnTo>
                    <a:pt x="3203" y="143"/>
                  </a:lnTo>
                  <a:lnTo>
                    <a:pt x="3441" y="172"/>
                  </a:lnTo>
                  <a:lnTo>
                    <a:pt x="3717" y="200"/>
                  </a:lnTo>
                  <a:lnTo>
                    <a:pt x="3994" y="257"/>
                  </a:lnTo>
                  <a:lnTo>
                    <a:pt x="4192" y="457"/>
                  </a:lnTo>
                  <a:lnTo>
                    <a:pt x="4231" y="684"/>
                  </a:lnTo>
                  <a:lnTo>
                    <a:pt x="4192" y="884"/>
                  </a:lnTo>
                  <a:lnTo>
                    <a:pt x="4231" y="1055"/>
                  </a:lnTo>
                  <a:lnTo>
                    <a:pt x="4152" y="1396"/>
                  </a:lnTo>
                  <a:lnTo>
                    <a:pt x="3994" y="1596"/>
                  </a:lnTo>
                  <a:lnTo>
                    <a:pt x="3757" y="1624"/>
                  </a:lnTo>
                  <a:lnTo>
                    <a:pt x="3520" y="1567"/>
                  </a:lnTo>
                  <a:lnTo>
                    <a:pt x="3203" y="1396"/>
                  </a:lnTo>
                  <a:lnTo>
                    <a:pt x="2887" y="1226"/>
                  </a:lnTo>
                  <a:lnTo>
                    <a:pt x="2531" y="1026"/>
                  </a:lnTo>
                  <a:lnTo>
                    <a:pt x="2294" y="884"/>
                  </a:lnTo>
                  <a:lnTo>
                    <a:pt x="2294" y="770"/>
                  </a:lnTo>
                  <a:lnTo>
                    <a:pt x="2175" y="684"/>
                  </a:lnTo>
                  <a:lnTo>
                    <a:pt x="1938" y="1055"/>
                  </a:lnTo>
                  <a:lnTo>
                    <a:pt x="1701" y="1055"/>
                  </a:lnTo>
                  <a:lnTo>
                    <a:pt x="1622" y="1083"/>
                  </a:lnTo>
                  <a:lnTo>
                    <a:pt x="1701" y="1226"/>
                  </a:lnTo>
                  <a:lnTo>
                    <a:pt x="1464" y="1254"/>
                  </a:lnTo>
                  <a:lnTo>
                    <a:pt x="1226" y="1311"/>
                  </a:lnTo>
                  <a:lnTo>
                    <a:pt x="989" y="1311"/>
                  </a:lnTo>
                  <a:lnTo>
                    <a:pt x="752" y="1311"/>
                  </a:lnTo>
                  <a:lnTo>
                    <a:pt x="515" y="1226"/>
                  </a:lnTo>
                  <a:lnTo>
                    <a:pt x="317" y="1169"/>
                  </a:lnTo>
                  <a:lnTo>
                    <a:pt x="119" y="1026"/>
                  </a:lnTo>
                  <a:lnTo>
                    <a:pt x="1" y="884"/>
                  </a:lnTo>
                  <a:lnTo>
                    <a:pt x="40" y="599"/>
                  </a:lnTo>
                  <a:lnTo>
                    <a:pt x="238" y="428"/>
                  </a:lnTo>
                  <a:lnTo>
                    <a:pt x="436" y="200"/>
                  </a:lnTo>
                  <a:lnTo>
                    <a:pt x="633" y="1"/>
                  </a:lnTo>
                  <a:lnTo>
                    <a:pt x="871" y="29"/>
                  </a:lnTo>
                  <a:lnTo>
                    <a:pt x="1108" y="86"/>
                  </a:lnTo>
                  <a:lnTo>
                    <a:pt x="1266" y="115"/>
                  </a:lnTo>
                  <a:lnTo>
                    <a:pt x="1464" y="200"/>
                  </a:lnTo>
                  <a:lnTo>
                    <a:pt x="1622" y="229"/>
                  </a:lnTo>
                  <a:lnTo>
                    <a:pt x="1780" y="314"/>
                  </a:lnTo>
                  <a:lnTo>
                    <a:pt x="1938" y="428"/>
                  </a:lnTo>
                  <a:lnTo>
                    <a:pt x="2175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Shape 687"/>
            <p:cNvSpPr/>
            <p:nvPr/>
          </p:nvSpPr>
          <p:spPr>
            <a:xfrm>
              <a:off x="6037200" y="5853240"/>
              <a:ext cx="38160" cy="30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939" h="1141">
                  <a:moveTo>
                    <a:pt x="1899" y="827"/>
                  </a:moveTo>
                  <a:lnTo>
                    <a:pt x="1662" y="969"/>
                  </a:lnTo>
                  <a:lnTo>
                    <a:pt x="1464" y="1083"/>
                  </a:lnTo>
                  <a:lnTo>
                    <a:pt x="1227" y="1112"/>
                  </a:lnTo>
                  <a:lnTo>
                    <a:pt x="989" y="1140"/>
                  </a:lnTo>
                  <a:lnTo>
                    <a:pt x="713" y="1083"/>
                  </a:lnTo>
                  <a:lnTo>
                    <a:pt x="436" y="1026"/>
                  </a:lnTo>
                  <a:lnTo>
                    <a:pt x="199" y="912"/>
                  </a:lnTo>
                  <a:lnTo>
                    <a:pt x="1" y="827"/>
                  </a:lnTo>
                  <a:lnTo>
                    <a:pt x="1" y="599"/>
                  </a:lnTo>
                  <a:lnTo>
                    <a:pt x="41" y="428"/>
                  </a:lnTo>
                  <a:lnTo>
                    <a:pt x="120" y="229"/>
                  </a:lnTo>
                  <a:lnTo>
                    <a:pt x="357" y="115"/>
                  </a:lnTo>
                  <a:lnTo>
                    <a:pt x="555" y="58"/>
                  </a:lnTo>
                  <a:lnTo>
                    <a:pt x="831" y="29"/>
                  </a:lnTo>
                  <a:lnTo>
                    <a:pt x="1148" y="1"/>
                  </a:lnTo>
                  <a:lnTo>
                    <a:pt x="1464" y="29"/>
                  </a:lnTo>
                  <a:lnTo>
                    <a:pt x="1701" y="86"/>
                  </a:lnTo>
                  <a:lnTo>
                    <a:pt x="1899" y="229"/>
                  </a:lnTo>
                  <a:lnTo>
                    <a:pt x="1938" y="457"/>
                  </a:lnTo>
                  <a:lnTo>
                    <a:pt x="1899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760" bIns="-59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Shape 688"/>
            <p:cNvSpPr/>
            <p:nvPr/>
          </p:nvSpPr>
          <p:spPr>
            <a:xfrm>
              <a:off x="5932080" y="5937120"/>
              <a:ext cx="182880" cy="5436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92" h="1995">
                  <a:moveTo>
                    <a:pt x="9055" y="1226"/>
                  </a:moveTo>
                  <a:lnTo>
                    <a:pt x="8620" y="1283"/>
                  </a:lnTo>
                  <a:lnTo>
                    <a:pt x="8303" y="1397"/>
                  </a:lnTo>
                  <a:lnTo>
                    <a:pt x="7987" y="1482"/>
                  </a:lnTo>
                  <a:lnTo>
                    <a:pt x="7710" y="1596"/>
                  </a:lnTo>
                  <a:lnTo>
                    <a:pt x="7394" y="1681"/>
                  </a:lnTo>
                  <a:lnTo>
                    <a:pt x="7117" y="1767"/>
                  </a:lnTo>
                  <a:lnTo>
                    <a:pt x="6722" y="1795"/>
                  </a:lnTo>
                  <a:lnTo>
                    <a:pt x="6287" y="1824"/>
                  </a:lnTo>
                  <a:lnTo>
                    <a:pt x="5971" y="1852"/>
                  </a:lnTo>
                  <a:lnTo>
                    <a:pt x="5733" y="1909"/>
                  </a:lnTo>
                  <a:lnTo>
                    <a:pt x="5417" y="1938"/>
                  </a:lnTo>
                  <a:lnTo>
                    <a:pt x="5180" y="1966"/>
                  </a:lnTo>
                  <a:lnTo>
                    <a:pt x="4864" y="1966"/>
                  </a:lnTo>
                  <a:lnTo>
                    <a:pt x="4587" y="1966"/>
                  </a:lnTo>
                  <a:lnTo>
                    <a:pt x="4270" y="1966"/>
                  </a:lnTo>
                  <a:lnTo>
                    <a:pt x="3994" y="1995"/>
                  </a:lnTo>
                  <a:lnTo>
                    <a:pt x="3994" y="1909"/>
                  </a:lnTo>
                  <a:lnTo>
                    <a:pt x="3519" y="1852"/>
                  </a:lnTo>
                  <a:lnTo>
                    <a:pt x="3084" y="1795"/>
                  </a:lnTo>
                  <a:lnTo>
                    <a:pt x="2610" y="1710"/>
                  </a:lnTo>
                  <a:lnTo>
                    <a:pt x="2175" y="1653"/>
                  </a:lnTo>
                  <a:lnTo>
                    <a:pt x="1700" y="1539"/>
                  </a:lnTo>
                  <a:lnTo>
                    <a:pt x="1226" y="1454"/>
                  </a:lnTo>
                  <a:lnTo>
                    <a:pt x="712" y="1340"/>
                  </a:lnTo>
                  <a:lnTo>
                    <a:pt x="237" y="1226"/>
                  </a:lnTo>
                  <a:lnTo>
                    <a:pt x="0" y="428"/>
                  </a:lnTo>
                  <a:lnTo>
                    <a:pt x="198" y="485"/>
                  </a:lnTo>
                  <a:lnTo>
                    <a:pt x="475" y="542"/>
                  </a:lnTo>
                  <a:lnTo>
                    <a:pt x="791" y="599"/>
                  </a:lnTo>
                  <a:lnTo>
                    <a:pt x="1107" y="656"/>
                  </a:lnTo>
                  <a:lnTo>
                    <a:pt x="1345" y="656"/>
                  </a:lnTo>
                  <a:lnTo>
                    <a:pt x="1621" y="685"/>
                  </a:lnTo>
                  <a:lnTo>
                    <a:pt x="1859" y="713"/>
                  </a:lnTo>
                  <a:lnTo>
                    <a:pt x="2056" y="770"/>
                  </a:lnTo>
                  <a:lnTo>
                    <a:pt x="2649" y="742"/>
                  </a:lnTo>
                  <a:lnTo>
                    <a:pt x="3321" y="798"/>
                  </a:lnTo>
                  <a:lnTo>
                    <a:pt x="3994" y="855"/>
                  </a:lnTo>
                  <a:lnTo>
                    <a:pt x="4705" y="912"/>
                  </a:lnTo>
                  <a:lnTo>
                    <a:pt x="5338" y="912"/>
                  </a:lnTo>
                  <a:lnTo>
                    <a:pt x="6010" y="855"/>
                  </a:lnTo>
                  <a:lnTo>
                    <a:pt x="6643" y="685"/>
                  </a:lnTo>
                  <a:lnTo>
                    <a:pt x="7236" y="428"/>
                  </a:lnTo>
                  <a:lnTo>
                    <a:pt x="7552" y="343"/>
                  </a:lnTo>
                  <a:lnTo>
                    <a:pt x="7908" y="200"/>
                  </a:lnTo>
                  <a:lnTo>
                    <a:pt x="8303" y="86"/>
                  </a:lnTo>
                  <a:lnTo>
                    <a:pt x="8699" y="86"/>
                  </a:lnTo>
                  <a:lnTo>
                    <a:pt x="9055" y="1"/>
                  </a:lnTo>
                  <a:lnTo>
                    <a:pt x="9055" y="115"/>
                  </a:lnTo>
                  <a:lnTo>
                    <a:pt x="9134" y="257"/>
                  </a:lnTo>
                  <a:lnTo>
                    <a:pt x="9213" y="428"/>
                  </a:lnTo>
                  <a:lnTo>
                    <a:pt x="9292" y="599"/>
                  </a:lnTo>
                  <a:lnTo>
                    <a:pt x="9292" y="742"/>
                  </a:lnTo>
                  <a:lnTo>
                    <a:pt x="9292" y="912"/>
                  </a:lnTo>
                  <a:lnTo>
                    <a:pt x="9213" y="1055"/>
                  </a:lnTo>
                  <a:lnTo>
                    <a:pt x="9055" y="1226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360" bIns="-36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Shape 689"/>
            <p:cNvSpPr/>
            <p:nvPr/>
          </p:nvSpPr>
          <p:spPr>
            <a:xfrm>
              <a:off x="5939280" y="6006600"/>
              <a:ext cx="191160" cy="291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27" h="10683">
                  <a:moveTo>
                    <a:pt x="4112" y="855"/>
                  </a:moveTo>
                  <a:lnTo>
                    <a:pt x="4587" y="827"/>
                  </a:lnTo>
                  <a:lnTo>
                    <a:pt x="5180" y="827"/>
                  </a:lnTo>
                  <a:lnTo>
                    <a:pt x="5812" y="799"/>
                  </a:lnTo>
                  <a:lnTo>
                    <a:pt x="6524" y="742"/>
                  </a:lnTo>
                  <a:lnTo>
                    <a:pt x="7196" y="599"/>
                  </a:lnTo>
                  <a:lnTo>
                    <a:pt x="7868" y="457"/>
                  </a:lnTo>
                  <a:lnTo>
                    <a:pt x="8540" y="229"/>
                  </a:lnTo>
                  <a:lnTo>
                    <a:pt x="9173" y="1"/>
                  </a:lnTo>
                  <a:lnTo>
                    <a:pt x="9292" y="1169"/>
                  </a:lnTo>
                  <a:lnTo>
                    <a:pt x="9450" y="2365"/>
                  </a:lnTo>
                  <a:lnTo>
                    <a:pt x="9568" y="3590"/>
                  </a:lnTo>
                  <a:lnTo>
                    <a:pt x="9687" y="4843"/>
                  </a:lnTo>
                  <a:lnTo>
                    <a:pt x="9727" y="6068"/>
                  </a:lnTo>
                  <a:lnTo>
                    <a:pt x="9727" y="7321"/>
                  </a:lnTo>
                  <a:lnTo>
                    <a:pt x="9687" y="8517"/>
                  </a:lnTo>
                  <a:lnTo>
                    <a:pt x="9568" y="9742"/>
                  </a:lnTo>
                  <a:lnTo>
                    <a:pt x="9134" y="9913"/>
                  </a:lnTo>
                  <a:lnTo>
                    <a:pt x="8738" y="10141"/>
                  </a:lnTo>
                  <a:lnTo>
                    <a:pt x="8343" y="10312"/>
                  </a:lnTo>
                  <a:lnTo>
                    <a:pt x="7947" y="10511"/>
                  </a:lnTo>
                  <a:lnTo>
                    <a:pt x="7473" y="10625"/>
                  </a:lnTo>
                  <a:lnTo>
                    <a:pt x="7038" y="10682"/>
                  </a:lnTo>
                  <a:lnTo>
                    <a:pt x="6603" y="10682"/>
                  </a:lnTo>
                  <a:lnTo>
                    <a:pt x="6168" y="10597"/>
                  </a:lnTo>
                  <a:lnTo>
                    <a:pt x="5615" y="10625"/>
                  </a:lnTo>
                  <a:lnTo>
                    <a:pt x="5022" y="10654"/>
                  </a:lnTo>
                  <a:lnTo>
                    <a:pt x="4349" y="10597"/>
                  </a:lnTo>
                  <a:lnTo>
                    <a:pt x="3677" y="10511"/>
                  </a:lnTo>
                  <a:lnTo>
                    <a:pt x="2965" y="10340"/>
                  </a:lnTo>
                  <a:lnTo>
                    <a:pt x="2333" y="10141"/>
                  </a:lnTo>
                  <a:lnTo>
                    <a:pt x="1819" y="9856"/>
                  </a:lnTo>
                  <a:lnTo>
                    <a:pt x="1463" y="9571"/>
                  </a:lnTo>
                  <a:lnTo>
                    <a:pt x="1226" y="9372"/>
                  </a:lnTo>
                  <a:lnTo>
                    <a:pt x="1147" y="9201"/>
                  </a:lnTo>
                  <a:lnTo>
                    <a:pt x="1068" y="9002"/>
                  </a:lnTo>
                  <a:lnTo>
                    <a:pt x="1028" y="8831"/>
                  </a:lnTo>
                  <a:lnTo>
                    <a:pt x="949" y="8603"/>
                  </a:lnTo>
                  <a:lnTo>
                    <a:pt x="870" y="8432"/>
                  </a:lnTo>
                  <a:lnTo>
                    <a:pt x="712" y="8261"/>
                  </a:lnTo>
                  <a:lnTo>
                    <a:pt x="514" y="8176"/>
                  </a:lnTo>
                  <a:lnTo>
                    <a:pt x="356" y="7150"/>
                  </a:lnTo>
                  <a:lnTo>
                    <a:pt x="237" y="6153"/>
                  </a:lnTo>
                  <a:lnTo>
                    <a:pt x="158" y="5128"/>
                  </a:lnTo>
                  <a:lnTo>
                    <a:pt x="119" y="4131"/>
                  </a:lnTo>
                  <a:lnTo>
                    <a:pt x="79" y="3077"/>
                  </a:lnTo>
                  <a:lnTo>
                    <a:pt x="40" y="2052"/>
                  </a:lnTo>
                  <a:lnTo>
                    <a:pt x="0" y="1026"/>
                  </a:lnTo>
                  <a:lnTo>
                    <a:pt x="0" y="1"/>
                  </a:lnTo>
                  <a:lnTo>
                    <a:pt x="435" y="143"/>
                  </a:lnTo>
                  <a:lnTo>
                    <a:pt x="909" y="286"/>
                  </a:lnTo>
                  <a:lnTo>
                    <a:pt x="1423" y="428"/>
                  </a:lnTo>
                  <a:lnTo>
                    <a:pt x="2017" y="571"/>
                  </a:lnTo>
                  <a:lnTo>
                    <a:pt x="2570" y="656"/>
                  </a:lnTo>
                  <a:lnTo>
                    <a:pt x="3124" y="770"/>
                  </a:lnTo>
                  <a:lnTo>
                    <a:pt x="3598" y="827"/>
                  </a:lnTo>
                  <a:lnTo>
                    <a:pt x="4112" y="855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Shape 690"/>
            <p:cNvSpPr/>
            <p:nvPr/>
          </p:nvSpPr>
          <p:spPr>
            <a:xfrm>
              <a:off x="7178040" y="6030000"/>
              <a:ext cx="2160" cy="11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0" h="428">
                  <a:moveTo>
                    <a:pt x="1" y="0"/>
                  </a:moveTo>
                  <a:lnTo>
                    <a:pt x="119" y="4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0" bIns="-79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Shape 691"/>
            <p:cNvSpPr/>
            <p:nvPr/>
          </p:nvSpPr>
          <p:spPr>
            <a:xfrm>
              <a:off x="7268400" y="6180120"/>
              <a:ext cx="299520" cy="1875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223" h="6866">
                  <a:moveTo>
                    <a:pt x="15223" y="1738"/>
                  </a:moveTo>
                  <a:lnTo>
                    <a:pt x="15183" y="1966"/>
                  </a:lnTo>
                  <a:lnTo>
                    <a:pt x="15104" y="2194"/>
                  </a:lnTo>
                  <a:lnTo>
                    <a:pt x="14946" y="2365"/>
                  </a:lnTo>
                  <a:lnTo>
                    <a:pt x="14748" y="2536"/>
                  </a:lnTo>
                  <a:lnTo>
                    <a:pt x="14511" y="2650"/>
                  </a:lnTo>
                  <a:lnTo>
                    <a:pt x="14274" y="2792"/>
                  </a:lnTo>
                  <a:lnTo>
                    <a:pt x="14036" y="2935"/>
                  </a:lnTo>
                  <a:lnTo>
                    <a:pt x="13878" y="3105"/>
                  </a:lnTo>
                  <a:lnTo>
                    <a:pt x="9885" y="4957"/>
                  </a:lnTo>
                  <a:lnTo>
                    <a:pt x="9410" y="4985"/>
                  </a:lnTo>
                  <a:lnTo>
                    <a:pt x="8976" y="5071"/>
                  </a:lnTo>
                  <a:lnTo>
                    <a:pt x="8501" y="5099"/>
                  </a:lnTo>
                  <a:lnTo>
                    <a:pt x="8066" y="5185"/>
                  </a:lnTo>
                  <a:lnTo>
                    <a:pt x="7552" y="5242"/>
                  </a:lnTo>
                  <a:lnTo>
                    <a:pt x="7078" y="5327"/>
                  </a:lnTo>
                  <a:lnTo>
                    <a:pt x="6603" y="5413"/>
                  </a:lnTo>
                  <a:lnTo>
                    <a:pt x="6168" y="5555"/>
                  </a:lnTo>
                  <a:lnTo>
                    <a:pt x="5536" y="5583"/>
                  </a:lnTo>
                  <a:lnTo>
                    <a:pt x="4863" y="5726"/>
                  </a:lnTo>
                  <a:lnTo>
                    <a:pt x="4152" y="5897"/>
                  </a:lnTo>
                  <a:lnTo>
                    <a:pt x="3440" y="6125"/>
                  </a:lnTo>
                  <a:lnTo>
                    <a:pt x="2689" y="6324"/>
                  </a:lnTo>
                  <a:lnTo>
                    <a:pt x="1977" y="6523"/>
                  </a:lnTo>
                  <a:lnTo>
                    <a:pt x="1265" y="6694"/>
                  </a:lnTo>
                  <a:lnTo>
                    <a:pt x="593" y="6865"/>
                  </a:lnTo>
                  <a:lnTo>
                    <a:pt x="672" y="6466"/>
                  </a:lnTo>
                  <a:lnTo>
                    <a:pt x="712" y="6125"/>
                  </a:lnTo>
                  <a:lnTo>
                    <a:pt x="593" y="5726"/>
                  </a:lnTo>
                  <a:lnTo>
                    <a:pt x="514" y="5384"/>
                  </a:lnTo>
                  <a:lnTo>
                    <a:pt x="317" y="4985"/>
                  </a:lnTo>
                  <a:lnTo>
                    <a:pt x="198" y="4615"/>
                  </a:lnTo>
                  <a:lnTo>
                    <a:pt x="40" y="4245"/>
                  </a:lnTo>
                  <a:lnTo>
                    <a:pt x="0" y="3903"/>
                  </a:lnTo>
                  <a:lnTo>
                    <a:pt x="910" y="3618"/>
                  </a:lnTo>
                  <a:lnTo>
                    <a:pt x="1859" y="3333"/>
                  </a:lnTo>
                  <a:lnTo>
                    <a:pt x="2807" y="3048"/>
                  </a:lnTo>
                  <a:lnTo>
                    <a:pt x="3756" y="2764"/>
                  </a:lnTo>
                  <a:lnTo>
                    <a:pt x="4666" y="2422"/>
                  </a:lnTo>
                  <a:lnTo>
                    <a:pt x="5615" y="2137"/>
                  </a:lnTo>
                  <a:lnTo>
                    <a:pt x="6524" y="1824"/>
                  </a:lnTo>
                  <a:lnTo>
                    <a:pt x="7473" y="1539"/>
                  </a:lnTo>
                  <a:lnTo>
                    <a:pt x="7631" y="1482"/>
                  </a:lnTo>
                  <a:lnTo>
                    <a:pt x="7829" y="1425"/>
                  </a:lnTo>
                  <a:lnTo>
                    <a:pt x="8066" y="1368"/>
                  </a:lnTo>
                  <a:lnTo>
                    <a:pt x="8303" y="1339"/>
                  </a:lnTo>
                  <a:lnTo>
                    <a:pt x="8699" y="1282"/>
                  </a:lnTo>
                  <a:lnTo>
                    <a:pt x="9055" y="1368"/>
                  </a:lnTo>
                  <a:lnTo>
                    <a:pt x="9015" y="1596"/>
                  </a:lnTo>
                  <a:lnTo>
                    <a:pt x="8976" y="1824"/>
                  </a:lnTo>
                  <a:lnTo>
                    <a:pt x="8936" y="2080"/>
                  </a:lnTo>
                  <a:lnTo>
                    <a:pt x="8936" y="2336"/>
                  </a:lnTo>
                  <a:lnTo>
                    <a:pt x="8936" y="2564"/>
                  </a:lnTo>
                  <a:lnTo>
                    <a:pt x="8976" y="2821"/>
                  </a:lnTo>
                  <a:lnTo>
                    <a:pt x="9055" y="3048"/>
                  </a:lnTo>
                  <a:lnTo>
                    <a:pt x="9292" y="3305"/>
                  </a:lnTo>
                  <a:lnTo>
                    <a:pt x="9687" y="3248"/>
                  </a:lnTo>
                  <a:lnTo>
                    <a:pt x="10083" y="3305"/>
                  </a:lnTo>
                  <a:lnTo>
                    <a:pt x="10241" y="3276"/>
                  </a:lnTo>
                  <a:lnTo>
                    <a:pt x="10399" y="3276"/>
                  </a:lnTo>
                  <a:lnTo>
                    <a:pt x="10518" y="3191"/>
                  </a:lnTo>
                  <a:lnTo>
                    <a:pt x="10636" y="3020"/>
                  </a:lnTo>
                  <a:lnTo>
                    <a:pt x="10518" y="941"/>
                  </a:lnTo>
                  <a:lnTo>
                    <a:pt x="10834" y="770"/>
                  </a:lnTo>
                  <a:lnTo>
                    <a:pt x="11190" y="713"/>
                  </a:lnTo>
                  <a:lnTo>
                    <a:pt x="11585" y="627"/>
                  </a:lnTo>
                  <a:lnTo>
                    <a:pt x="12020" y="599"/>
                  </a:lnTo>
                  <a:lnTo>
                    <a:pt x="12376" y="485"/>
                  </a:lnTo>
                  <a:lnTo>
                    <a:pt x="12771" y="400"/>
                  </a:lnTo>
                  <a:lnTo>
                    <a:pt x="13127" y="229"/>
                  </a:lnTo>
                  <a:lnTo>
                    <a:pt x="13522" y="1"/>
                  </a:lnTo>
                  <a:lnTo>
                    <a:pt x="13760" y="86"/>
                  </a:lnTo>
                  <a:lnTo>
                    <a:pt x="14036" y="286"/>
                  </a:lnTo>
                  <a:lnTo>
                    <a:pt x="14274" y="485"/>
                  </a:lnTo>
                  <a:lnTo>
                    <a:pt x="14550" y="741"/>
                  </a:lnTo>
                  <a:lnTo>
                    <a:pt x="14748" y="998"/>
                  </a:lnTo>
                  <a:lnTo>
                    <a:pt x="14946" y="1254"/>
                  </a:lnTo>
                  <a:lnTo>
                    <a:pt x="15064" y="1482"/>
                  </a:lnTo>
                  <a:lnTo>
                    <a:pt x="15223" y="1738"/>
                  </a:lnTo>
                  <a:close/>
                </a:path>
              </a:pathLst>
            </a:custGeom>
            <a:solidFill>
              <a:srgbClr val="26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Shape 692"/>
            <p:cNvSpPr/>
            <p:nvPr/>
          </p:nvSpPr>
          <p:spPr>
            <a:xfrm>
              <a:off x="6926040" y="6248520"/>
              <a:ext cx="299520" cy="1267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5223" h="4644">
                  <a:moveTo>
                    <a:pt x="2887" y="428"/>
                  </a:moveTo>
                  <a:lnTo>
                    <a:pt x="2887" y="598"/>
                  </a:lnTo>
                  <a:lnTo>
                    <a:pt x="2926" y="826"/>
                  </a:lnTo>
                  <a:lnTo>
                    <a:pt x="2966" y="1054"/>
                  </a:lnTo>
                  <a:lnTo>
                    <a:pt x="3005" y="1282"/>
                  </a:lnTo>
                  <a:lnTo>
                    <a:pt x="3084" y="1481"/>
                  </a:lnTo>
                  <a:lnTo>
                    <a:pt x="3242" y="1681"/>
                  </a:lnTo>
                  <a:lnTo>
                    <a:pt x="3519" y="1823"/>
                  </a:lnTo>
                  <a:lnTo>
                    <a:pt x="3994" y="1909"/>
                  </a:lnTo>
                  <a:lnTo>
                    <a:pt x="4152" y="1795"/>
                  </a:lnTo>
                  <a:lnTo>
                    <a:pt x="4389" y="1709"/>
                  </a:lnTo>
                  <a:lnTo>
                    <a:pt x="4587" y="1595"/>
                  </a:lnTo>
                  <a:lnTo>
                    <a:pt x="4784" y="1481"/>
                  </a:lnTo>
                  <a:lnTo>
                    <a:pt x="4903" y="1311"/>
                  </a:lnTo>
                  <a:lnTo>
                    <a:pt x="4982" y="1140"/>
                  </a:lnTo>
                  <a:lnTo>
                    <a:pt x="4943" y="969"/>
                  </a:lnTo>
                  <a:lnTo>
                    <a:pt x="4824" y="798"/>
                  </a:lnTo>
                  <a:lnTo>
                    <a:pt x="5654" y="855"/>
                  </a:lnTo>
                  <a:lnTo>
                    <a:pt x="6445" y="912"/>
                  </a:lnTo>
                  <a:lnTo>
                    <a:pt x="7196" y="997"/>
                  </a:lnTo>
                  <a:lnTo>
                    <a:pt x="7987" y="1111"/>
                  </a:lnTo>
                  <a:lnTo>
                    <a:pt x="8699" y="1197"/>
                  </a:lnTo>
                  <a:lnTo>
                    <a:pt x="9489" y="1339"/>
                  </a:lnTo>
                  <a:lnTo>
                    <a:pt x="10241" y="1481"/>
                  </a:lnTo>
                  <a:lnTo>
                    <a:pt x="11111" y="1652"/>
                  </a:lnTo>
                  <a:lnTo>
                    <a:pt x="11466" y="1823"/>
                  </a:lnTo>
                  <a:lnTo>
                    <a:pt x="11822" y="1994"/>
                  </a:lnTo>
                  <a:lnTo>
                    <a:pt x="11980" y="2023"/>
                  </a:lnTo>
                  <a:lnTo>
                    <a:pt x="12178" y="2080"/>
                  </a:lnTo>
                  <a:lnTo>
                    <a:pt x="12415" y="2080"/>
                  </a:lnTo>
                  <a:lnTo>
                    <a:pt x="12692" y="2080"/>
                  </a:lnTo>
                  <a:lnTo>
                    <a:pt x="12890" y="1966"/>
                  </a:lnTo>
                  <a:lnTo>
                    <a:pt x="13127" y="1937"/>
                  </a:lnTo>
                  <a:lnTo>
                    <a:pt x="13364" y="1909"/>
                  </a:lnTo>
                  <a:lnTo>
                    <a:pt x="13602" y="1909"/>
                  </a:lnTo>
                  <a:lnTo>
                    <a:pt x="13839" y="1909"/>
                  </a:lnTo>
                  <a:lnTo>
                    <a:pt x="14116" y="1909"/>
                  </a:lnTo>
                  <a:lnTo>
                    <a:pt x="14392" y="1909"/>
                  </a:lnTo>
                  <a:lnTo>
                    <a:pt x="14748" y="1909"/>
                  </a:lnTo>
                  <a:lnTo>
                    <a:pt x="14827" y="2165"/>
                  </a:lnTo>
                  <a:lnTo>
                    <a:pt x="14906" y="2421"/>
                  </a:lnTo>
                  <a:lnTo>
                    <a:pt x="14985" y="2649"/>
                  </a:lnTo>
                  <a:lnTo>
                    <a:pt x="15064" y="2906"/>
                  </a:lnTo>
                  <a:lnTo>
                    <a:pt x="15104" y="3133"/>
                  </a:lnTo>
                  <a:lnTo>
                    <a:pt x="15144" y="3361"/>
                  </a:lnTo>
                  <a:lnTo>
                    <a:pt x="15183" y="3618"/>
                  </a:lnTo>
                  <a:lnTo>
                    <a:pt x="15223" y="3931"/>
                  </a:lnTo>
                  <a:lnTo>
                    <a:pt x="14985" y="4016"/>
                  </a:lnTo>
                  <a:lnTo>
                    <a:pt x="14748" y="4130"/>
                  </a:lnTo>
                  <a:lnTo>
                    <a:pt x="14511" y="4187"/>
                  </a:lnTo>
                  <a:lnTo>
                    <a:pt x="14274" y="4273"/>
                  </a:lnTo>
                  <a:lnTo>
                    <a:pt x="13997" y="4301"/>
                  </a:lnTo>
                  <a:lnTo>
                    <a:pt x="13760" y="4358"/>
                  </a:lnTo>
                  <a:lnTo>
                    <a:pt x="13522" y="4387"/>
                  </a:lnTo>
                  <a:lnTo>
                    <a:pt x="13285" y="4444"/>
                  </a:lnTo>
                  <a:lnTo>
                    <a:pt x="13285" y="4358"/>
                  </a:lnTo>
                  <a:lnTo>
                    <a:pt x="11545" y="4615"/>
                  </a:lnTo>
                  <a:lnTo>
                    <a:pt x="9845" y="4643"/>
                  </a:lnTo>
                  <a:lnTo>
                    <a:pt x="8145" y="4415"/>
                  </a:lnTo>
                  <a:lnTo>
                    <a:pt x="6485" y="4073"/>
                  </a:lnTo>
                  <a:lnTo>
                    <a:pt x="4824" y="3589"/>
                  </a:lnTo>
                  <a:lnTo>
                    <a:pt x="3163" y="3076"/>
                  </a:lnTo>
                  <a:lnTo>
                    <a:pt x="1542" y="2535"/>
                  </a:lnTo>
                  <a:lnTo>
                    <a:pt x="0" y="2080"/>
                  </a:lnTo>
                  <a:lnTo>
                    <a:pt x="198" y="1795"/>
                  </a:lnTo>
                  <a:lnTo>
                    <a:pt x="435" y="1538"/>
                  </a:lnTo>
                  <a:lnTo>
                    <a:pt x="672" y="1311"/>
                  </a:lnTo>
                  <a:lnTo>
                    <a:pt x="910" y="1111"/>
                  </a:lnTo>
                  <a:lnTo>
                    <a:pt x="1068" y="855"/>
                  </a:lnTo>
                  <a:lnTo>
                    <a:pt x="1186" y="598"/>
                  </a:lnTo>
                  <a:lnTo>
                    <a:pt x="1226" y="314"/>
                  </a:lnTo>
                  <a:lnTo>
                    <a:pt x="1226" y="0"/>
                  </a:lnTo>
                  <a:lnTo>
                    <a:pt x="2887" y="428"/>
                  </a:lnTo>
                  <a:close/>
                </a:path>
              </a:pathLst>
            </a:custGeom>
            <a:solidFill>
              <a:srgbClr val="26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Shape 693"/>
            <p:cNvSpPr/>
            <p:nvPr/>
          </p:nvSpPr>
          <p:spPr>
            <a:xfrm>
              <a:off x="7336800" y="6293520"/>
              <a:ext cx="414000" cy="25740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036" h="9429">
                  <a:moveTo>
                    <a:pt x="12099" y="513"/>
                  </a:moveTo>
                  <a:lnTo>
                    <a:pt x="11625" y="684"/>
                  </a:lnTo>
                  <a:lnTo>
                    <a:pt x="11151" y="883"/>
                  </a:lnTo>
                  <a:lnTo>
                    <a:pt x="10676" y="1026"/>
                  </a:lnTo>
                  <a:lnTo>
                    <a:pt x="10241" y="1197"/>
                  </a:lnTo>
                  <a:lnTo>
                    <a:pt x="9806" y="1367"/>
                  </a:lnTo>
                  <a:lnTo>
                    <a:pt x="9490" y="1595"/>
                  </a:lnTo>
                  <a:lnTo>
                    <a:pt x="9213" y="1880"/>
                  </a:lnTo>
                  <a:lnTo>
                    <a:pt x="9095" y="2279"/>
                  </a:lnTo>
                  <a:lnTo>
                    <a:pt x="9332" y="2421"/>
                  </a:lnTo>
                  <a:lnTo>
                    <a:pt x="9688" y="2564"/>
                  </a:lnTo>
                  <a:lnTo>
                    <a:pt x="10043" y="2592"/>
                  </a:lnTo>
                  <a:lnTo>
                    <a:pt x="10399" y="2535"/>
                  </a:lnTo>
                  <a:lnTo>
                    <a:pt x="10676" y="2307"/>
                  </a:lnTo>
                  <a:lnTo>
                    <a:pt x="11071" y="2108"/>
                  </a:lnTo>
                  <a:lnTo>
                    <a:pt x="11506" y="1880"/>
                  </a:lnTo>
                  <a:lnTo>
                    <a:pt x="12020" y="1681"/>
                  </a:lnTo>
                  <a:lnTo>
                    <a:pt x="12495" y="1510"/>
                  </a:lnTo>
                  <a:lnTo>
                    <a:pt x="12969" y="1424"/>
                  </a:lnTo>
                  <a:lnTo>
                    <a:pt x="13444" y="1424"/>
                  </a:lnTo>
                  <a:lnTo>
                    <a:pt x="13918" y="1567"/>
                  </a:lnTo>
                  <a:lnTo>
                    <a:pt x="14037" y="1652"/>
                  </a:lnTo>
                  <a:lnTo>
                    <a:pt x="13404" y="1709"/>
                  </a:lnTo>
                  <a:lnTo>
                    <a:pt x="12890" y="1852"/>
                  </a:lnTo>
                  <a:lnTo>
                    <a:pt x="12416" y="2023"/>
                  </a:lnTo>
                  <a:lnTo>
                    <a:pt x="12020" y="2222"/>
                  </a:lnTo>
                  <a:lnTo>
                    <a:pt x="11546" y="2421"/>
                  </a:lnTo>
                  <a:lnTo>
                    <a:pt x="11111" y="2621"/>
                  </a:lnTo>
                  <a:lnTo>
                    <a:pt x="10597" y="2792"/>
                  </a:lnTo>
                  <a:lnTo>
                    <a:pt x="10043" y="2963"/>
                  </a:lnTo>
                  <a:lnTo>
                    <a:pt x="9806" y="3162"/>
                  </a:lnTo>
                  <a:lnTo>
                    <a:pt x="9529" y="3390"/>
                  </a:lnTo>
                  <a:lnTo>
                    <a:pt x="9253" y="3561"/>
                  </a:lnTo>
                  <a:lnTo>
                    <a:pt x="9213" y="3846"/>
                  </a:lnTo>
                  <a:lnTo>
                    <a:pt x="9490" y="4102"/>
                  </a:lnTo>
                  <a:lnTo>
                    <a:pt x="9806" y="4216"/>
                  </a:lnTo>
                  <a:lnTo>
                    <a:pt x="10123" y="4187"/>
                  </a:lnTo>
                  <a:lnTo>
                    <a:pt x="10478" y="4102"/>
                  </a:lnTo>
                  <a:lnTo>
                    <a:pt x="10795" y="3903"/>
                  </a:lnTo>
                  <a:lnTo>
                    <a:pt x="11111" y="3732"/>
                  </a:lnTo>
                  <a:lnTo>
                    <a:pt x="11427" y="3561"/>
                  </a:lnTo>
                  <a:lnTo>
                    <a:pt x="11744" y="3475"/>
                  </a:lnTo>
                  <a:lnTo>
                    <a:pt x="12258" y="3333"/>
                  </a:lnTo>
                  <a:lnTo>
                    <a:pt x="12851" y="3105"/>
                  </a:lnTo>
                  <a:lnTo>
                    <a:pt x="13444" y="2820"/>
                  </a:lnTo>
                  <a:lnTo>
                    <a:pt x="14037" y="2621"/>
                  </a:lnTo>
                  <a:lnTo>
                    <a:pt x="14630" y="2450"/>
                  </a:lnTo>
                  <a:lnTo>
                    <a:pt x="15223" y="2478"/>
                  </a:lnTo>
                  <a:lnTo>
                    <a:pt x="15777" y="2706"/>
                  </a:lnTo>
                  <a:lnTo>
                    <a:pt x="16330" y="3219"/>
                  </a:lnTo>
                  <a:lnTo>
                    <a:pt x="17081" y="3874"/>
                  </a:lnTo>
                  <a:lnTo>
                    <a:pt x="17872" y="4558"/>
                  </a:lnTo>
                  <a:lnTo>
                    <a:pt x="18544" y="5241"/>
                  </a:lnTo>
                  <a:lnTo>
                    <a:pt x="19256" y="5925"/>
                  </a:lnTo>
                  <a:lnTo>
                    <a:pt x="19810" y="6608"/>
                  </a:lnTo>
                  <a:lnTo>
                    <a:pt x="20324" y="7349"/>
                  </a:lnTo>
                  <a:lnTo>
                    <a:pt x="20719" y="8147"/>
                  </a:lnTo>
                  <a:lnTo>
                    <a:pt x="21035" y="9058"/>
                  </a:lnTo>
                  <a:lnTo>
                    <a:pt x="19730" y="9314"/>
                  </a:lnTo>
                  <a:lnTo>
                    <a:pt x="18465" y="9428"/>
                  </a:lnTo>
                  <a:lnTo>
                    <a:pt x="17121" y="9371"/>
                  </a:lnTo>
                  <a:lnTo>
                    <a:pt x="15777" y="9257"/>
                  </a:lnTo>
                  <a:lnTo>
                    <a:pt x="14432" y="9001"/>
                  </a:lnTo>
                  <a:lnTo>
                    <a:pt x="13127" y="8716"/>
                  </a:lnTo>
                  <a:lnTo>
                    <a:pt x="11823" y="8374"/>
                  </a:lnTo>
                  <a:lnTo>
                    <a:pt x="10637" y="8090"/>
                  </a:lnTo>
                  <a:lnTo>
                    <a:pt x="9332" y="7634"/>
                  </a:lnTo>
                  <a:lnTo>
                    <a:pt x="8027" y="7207"/>
                  </a:lnTo>
                  <a:lnTo>
                    <a:pt x="6643" y="6779"/>
                  </a:lnTo>
                  <a:lnTo>
                    <a:pt x="5338" y="6352"/>
                  </a:lnTo>
                  <a:lnTo>
                    <a:pt x="3994" y="5839"/>
                  </a:lnTo>
                  <a:lnTo>
                    <a:pt x="2808" y="5270"/>
                  </a:lnTo>
                  <a:lnTo>
                    <a:pt x="1740" y="4586"/>
                  </a:lnTo>
                  <a:lnTo>
                    <a:pt x="870" y="3846"/>
                  </a:lnTo>
                  <a:lnTo>
                    <a:pt x="594" y="3675"/>
                  </a:lnTo>
                  <a:lnTo>
                    <a:pt x="356" y="3561"/>
                  </a:lnTo>
                  <a:lnTo>
                    <a:pt x="119" y="3418"/>
                  </a:lnTo>
                  <a:lnTo>
                    <a:pt x="1" y="3304"/>
                  </a:lnTo>
                  <a:lnTo>
                    <a:pt x="554" y="3133"/>
                  </a:lnTo>
                  <a:lnTo>
                    <a:pt x="1147" y="2963"/>
                  </a:lnTo>
                  <a:lnTo>
                    <a:pt x="1701" y="2763"/>
                  </a:lnTo>
                  <a:lnTo>
                    <a:pt x="2294" y="2592"/>
                  </a:lnTo>
                  <a:lnTo>
                    <a:pt x="2887" y="2421"/>
                  </a:lnTo>
                  <a:lnTo>
                    <a:pt x="3480" y="2336"/>
                  </a:lnTo>
                  <a:lnTo>
                    <a:pt x="4073" y="2279"/>
                  </a:lnTo>
                  <a:lnTo>
                    <a:pt x="4745" y="2364"/>
                  </a:lnTo>
                  <a:lnTo>
                    <a:pt x="5497" y="2165"/>
                  </a:lnTo>
                  <a:lnTo>
                    <a:pt x="6327" y="1994"/>
                  </a:lnTo>
                  <a:lnTo>
                    <a:pt x="7118" y="1795"/>
                  </a:lnTo>
                  <a:lnTo>
                    <a:pt x="7948" y="1567"/>
                  </a:lnTo>
                  <a:lnTo>
                    <a:pt x="8739" y="1254"/>
                  </a:lnTo>
                  <a:lnTo>
                    <a:pt x="9529" y="912"/>
                  </a:lnTo>
                  <a:lnTo>
                    <a:pt x="10241" y="485"/>
                  </a:lnTo>
                  <a:lnTo>
                    <a:pt x="10992" y="0"/>
                  </a:lnTo>
                  <a:lnTo>
                    <a:pt x="11309" y="114"/>
                  </a:lnTo>
                  <a:lnTo>
                    <a:pt x="11585" y="257"/>
                  </a:lnTo>
                  <a:lnTo>
                    <a:pt x="11823" y="371"/>
                  </a:lnTo>
                  <a:lnTo>
                    <a:pt x="12099" y="513"/>
                  </a:lnTo>
                  <a:close/>
                </a:path>
              </a:pathLst>
            </a:custGeom>
            <a:solidFill>
              <a:srgbClr val="b8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Shape 694"/>
            <p:cNvSpPr/>
            <p:nvPr/>
          </p:nvSpPr>
          <p:spPr>
            <a:xfrm>
              <a:off x="6695640" y="6336360"/>
              <a:ext cx="477720" cy="1728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4278" h="6325">
                  <a:moveTo>
                    <a:pt x="20284" y="2166"/>
                  </a:moveTo>
                  <a:lnTo>
                    <a:pt x="20403" y="2280"/>
                  </a:lnTo>
                  <a:lnTo>
                    <a:pt x="20600" y="2337"/>
                  </a:lnTo>
                  <a:lnTo>
                    <a:pt x="20838" y="2337"/>
                  </a:lnTo>
                  <a:lnTo>
                    <a:pt x="21114" y="2365"/>
                  </a:lnTo>
                  <a:lnTo>
                    <a:pt x="21352" y="2337"/>
                  </a:lnTo>
                  <a:lnTo>
                    <a:pt x="21628" y="2365"/>
                  </a:lnTo>
                  <a:lnTo>
                    <a:pt x="21866" y="2393"/>
                  </a:lnTo>
                  <a:lnTo>
                    <a:pt x="22103" y="2536"/>
                  </a:lnTo>
                  <a:lnTo>
                    <a:pt x="22301" y="2536"/>
                  </a:lnTo>
                  <a:lnTo>
                    <a:pt x="22538" y="2536"/>
                  </a:lnTo>
                  <a:lnTo>
                    <a:pt x="22815" y="2536"/>
                  </a:lnTo>
                  <a:lnTo>
                    <a:pt x="23131" y="2536"/>
                  </a:lnTo>
                  <a:lnTo>
                    <a:pt x="23368" y="2507"/>
                  </a:lnTo>
                  <a:lnTo>
                    <a:pt x="23684" y="2479"/>
                  </a:lnTo>
                  <a:lnTo>
                    <a:pt x="23961" y="2422"/>
                  </a:lnTo>
                  <a:lnTo>
                    <a:pt x="24277" y="2365"/>
                  </a:lnTo>
                  <a:lnTo>
                    <a:pt x="23447" y="2849"/>
                  </a:lnTo>
                  <a:lnTo>
                    <a:pt x="22656" y="3276"/>
                  </a:lnTo>
                  <a:lnTo>
                    <a:pt x="21747" y="3618"/>
                  </a:lnTo>
                  <a:lnTo>
                    <a:pt x="20838" y="3960"/>
                  </a:lnTo>
                  <a:lnTo>
                    <a:pt x="19810" y="4245"/>
                  </a:lnTo>
                  <a:lnTo>
                    <a:pt x="18821" y="4530"/>
                  </a:lnTo>
                  <a:lnTo>
                    <a:pt x="17793" y="4786"/>
                  </a:lnTo>
                  <a:lnTo>
                    <a:pt x="16765" y="5128"/>
                  </a:lnTo>
                  <a:lnTo>
                    <a:pt x="14630" y="5441"/>
                  </a:lnTo>
                  <a:lnTo>
                    <a:pt x="12495" y="5754"/>
                  </a:lnTo>
                  <a:lnTo>
                    <a:pt x="10320" y="6011"/>
                  </a:lnTo>
                  <a:lnTo>
                    <a:pt x="8185" y="6239"/>
                  </a:lnTo>
                  <a:lnTo>
                    <a:pt x="6050" y="6324"/>
                  </a:lnTo>
                  <a:lnTo>
                    <a:pt x="3955" y="6324"/>
                  </a:lnTo>
                  <a:lnTo>
                    <a:pt x="1899" y="6125"/>
                  </a:lnTo>
                  <a:lnTo>
                    <a:pt x="1" y="5754"/>
                  </a:lnTo>
                  <a:lnTo>
                    <a:pt x="80" y="5270"/>
                  </a:lnTo>
                  <a:lnTo>
                    <a:pt x="396" y="4815"/>
                  </a:lnTo>
                  <a:lnTo>
                    <a:pt x="831" y="4387"/>
                  </a:lnTo>
                  <a:lnTo>
                    <a:pt x="1424" y="3960"/>
                  </a:lnTo>
                  <a:lnTo>
                    <a:pt x="2017" y="3533"/>
                  </a:lnTo>
                  <a:lnTo>
                    <a:pt x="2650" y="3134"/>
                  </a:lnTo>
                  <a:lnTo>
                    <a:pt x="3243" y="2764"/>
                  </a:lnTo>
                  <a:lnTo>
                    <a:pt x="3836" y="2450"/>
                  </a:lnTo>
                  <a:lnTo>
                    <a:pt x="5892" y="1653"/>
                  </a:lnTo>
                  <a:lnTo>
                    <a:pt x="6129" y="1824"/>
                  </a:lnTo>
                  <a:lnTo>
                    <a:pt x="6485" y="1966"/>
                  </a:lnTo>
                  <a:lnTo>
                    <a:pt x="6880" y="2052"/>
                  </a:lnTo>
                  <a:lnTo>
                    <a:pt x="7315" y="2137"/>
                  </a:lnTo>
                  <a:lnTo>
                    <a:pt x="7671" y="2223"/>
                  </a:lnTo>
                  <a:lnTo>
                    <a:pt x="8067" y="2365"/>
                  </a:lnTo>
                  <a:lnTo>
                    <a:pt x="8343" y="2593"/>
                  </a:lnTo>
                  <a:lnTo>
                    <a:pt x="8581" y="2963"/>
                  </a:lnTo>
                  <a:lnTo>
                    <a:pt x="8857" y="3163"/>
                  </a:lnTo>
                  <a:lnTo>
                    <a:pt x="9213" y="3276"/>
                  </a:lnTo>
                  <a:lnTo>
                    <a:pt x="9530" y="3362"/>
                  </a:lnTo>
                  <a:lnTo>
                    <a:pt x="9885" y="3476"/>
                  </a:lnTo>
                  <a:lnTo>
                    <a:pt x="10044" y="3305"/>
                  </a:lnTo>
                  <a:lnTo>
                    <a:pt x="10162" y="3163"/>
                  </a:lnTo>
                  <a:lnTo>
                    <a:pt x="10202" y="2963"/>
                  </a:lnTo>
                  <a:lnTo>
                    <a:pt x="10241" y="2792"/>
                  </a:lnTo>
                  <a:lnTo>
                    <a:pt x="10004" y="2422"/>
                  </a:lnTo>
                  <a:lnTo>
                    <a:pt x="9727" y="2166"/>
                  </a:lnTo>
                  <a:lnTo>
                    <a:pt x="9371" y="1938"/>
                  </a:lnTo>
                  <a:lnTo>
                    <a:pt x="9016" y="1795"/>
                  </a:lnTo>
                  <a:lnTo>
                    <a:pt x="8541" y="1624"/>
                  </a:lnTo>
                  <a:lnTo>
                    <a:pt x="8106" y="1482"/>
                  </a:lnTo>
                  <a:lnTo>
                    <a:pt x="7671" y="1311"/>
                  </a:lnTo>
                  <a:lnTo>
                    <a:pt x="7236" y="1140"/>
                  </a:lnTo>
                  <a:lnTo>
                    <a:pt x="7671" y="884"/>
                  </a:lnTo>
                  <a:lnTo>
                    <a:pt x="8106" y="741"/>
                  </a:lnTo>
                  <a:lnTo>
                    <a:pt x="8502" y="713"/>
                  </a:lnTo>
                  <a:lnTo>
                    <a:pt x="8936" y="770"/>
                  </a:lnTo>
                  <a:lnTo>
                    <a:pt x="9292" y="855"/>
                  </a:lnTo>
                  <a:lnTo>
                    <a:pt x="9648" y="1026"/>
                  </a:lnTo>
                  <a:lnTo>
                    <a:pt x="10004" y="1226"/>
                  </a:lnTo>
                  <a:lnTo>
                    <a:pt x="10360" y="1482"/>
                  </a:lnTo>
                  <a:lnTo>
                    <a:pt x="10676" y="1624"/>
                  </a:lnTo>
                  <a:lnTo>
                    <a:pt x="10992" y="1795"/>
                  </a:lnTo>
                  <a:lnTo>
                    <a:pt x="11348" y="1938"/>
                  </a:lnTo>
                  <a:lnTo>
                    <a:pt x="11704" y="2109"/>
                  </a:lnTo>
                  <a:lnTo>
                    <a:pt x="12060" y="2194"/>
                  </a:lnTo>
                  <a:lnTo>
                    <a:pt x="12416" y="2251"/>
                  </a:lnTo>
                  <a:lnTo>
                    <a:pt x="12772" y="2251"/>
                  </a:lnTo>
                  <a:lnTo>
                    <a:pt x="13167" y="2166"/>
                  </a:lnTo>
                  <a:lnTo>
                    <a:pt x="13167" y="1938"/>
                  </a:lnTo>
                  <a:lnTo>
                    <a:pt x="13088" y="1824"/>
                  </a:lnTo>
                  <a:lnTo>
                    <a:pt x="12930" y="1738"/>
                  </a:lnTo>
                  <a:lnTo>
                    <a:pt x="12772" y="1710"/>
                  </a:lnTo>
                  <a:lnTo>
                    <a:pt x="12534" y="1653"/>
                  </a:lnTo>
                  <a:lnTo>
                    <a:pt x="12337" y="1596"/>
                  </a:lnTo>
                  <a:lnTo>
                    <a:pt x="12139" y="1482"/>
                  </a:lnTo>
                  <a:lnTo>
                    <a:pt x="12060" y="1397"/>
                  </a:lnTo>
                  <a:lnTo>
                    <a:pt x="11744" y="1197"/>
                  </a:lnTo>
                  <a:lnTo>
                    <a:pt x="11467" y="1055"/>
                  </a:lnTo>
                  <a:lnTo>
                    <a:pt x="11151" y="884"/>
                  </a:lnTo>
                  <a:lnTo>
                    <a:pt x="10874" y="770"/>
                  </a:lnTo>
                  <a:lnTo>
                    <a:pt x="10597" y="599"/>
                  </a:lnTo>
                  <a:lnTo>
                    <a:pt x="10360" y="457"/>
                  </a:lnTo>
                  <a:lnTo>
                    <a:pt x="10123" y="286"/>
                  </a:lnTo>
                  <a:lnTo>
                    <a:pt x="10004" y="86"/>
                  </a:lnTo>
                  <a:lnTo>
                    <a:pt x="10518" y="1"/>
                  </a:lnTo>
                  <a:lnTo>
                    <a:pt x="11032" y="29"/>
                  </a:lnTo>
                  <a:lnTo>
                    <a:pt x="11546" y="115"/>
                  </a:lnTo>
                  <a:lnTo>
                    <a:pt x="12100" y="257"/>
                  </a:lnTo>
                  <a:lnTo>
                    <a:pt x="12574" y="400"/>
                  </a:lnTo>
                  <a:lnTo>
                    <a:pt x="13088" y="571"/>
                  </a:lnTo>
                  <a:lnTo>
                    <a:pt x="13602" y="684"/>
                  </a:lnTo>
                  <a:lnTo>
                    <a:pt x="14116" y="798"/>
                  </a:lnTo>
                  <a:lnTo>
                    <a:pt x="14867" y="998"/>
                  </a:lnTo>
                  <a:lnTo>
                    <a:pt x="15619" y="1226"/>
                  </a:lnTo>
                  <a:lnTo>
                    <a:pt x="16370" y="1425"/>
                  </a:lnTo>
                  <a:lnTo>
                    <a:pt x="17121" y="1624"/>
                  </a:lnTo>
                  <a:lnTo>
                    <a:pt x="17872" y="1767"/>
                  </a:lnTo>
                  <a:lnTo>
                    <a:pt x="18663" y="1938"/>
                  </a:lnTo>
                  <a:lnTo>
                    <a:pt x="19454" y="2052"/>
                  </a:lnTo>
                  <a:lnTo>
                    <a:pt x="20284" y="2166"/>
                  </a:lnTo>
                  <a:close/>
                </a:path>
              </a:pathLst>
            </a:custGeom>
            <a:solidFill>
              <a:srgbClr val="b8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2080" bIns="82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-108000" y="1536840"/>
            <a:ext cx="889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7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По какому признаку можно определить нить основ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492360" y="487692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по кром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Shape 570"/>
          <p:cNvSpPr/>
          <p:nvPr/>
        </p:nvSpPr>
        <p:spPr>
          <a:xfrm>
            <a:off x="5148360" y="2886120"/>
            <a:ext cx="2411280" cy="371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-36360" y="343440"/>
            <a:ext cx="896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2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 нужно разрезать циферблат часов на 6 частей так, чтобы во всех частях сумма чисел была одинаков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2735280" y="2652840"/>
            <a:ext cx="3646440" cy="3646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4140360" y="2641680"/>
            <a:ext cx="1584000" cy="1420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3"/>
          <a:stretch/>
        </p:blipFill>
        <p:spPr>
          <a:xfrm>
            <a:off x="3419640" y="3003480"/>
            <a:ext cx="2749320" cy="1444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4"/>
          <a:stretch/>
        </p:blipFill>
        <p:spPr>
          <a:xfrm>
            <a:off x="2938320" y="4738680"/>
            <a:ext cx="2786040" cy="1116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5"/>
          <a:stretch/>
        </p:blipFill>
        <p:spPr>
          <a:xfrm>
            <a:off x="3114720" y="3489480"/>
            <a:ext cx="3267000" cy="1311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6"/>
          <a:stretch/>
        </p:blipFill>
        <p:spPr>
          <a:xfrm>
            <a:off x="3386160" y="4981680"/>
            <a:ext cx="149364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9" descr=""/>
          <p:cNvPicPr/>
          <p:nvPr/>
        </p:nvPicPr>
        <p:blipFill>
          <a:blip r:embed="rId1"/>
          <a:stretch/>
        </p:blipFill>
        <p:spPr>
          <a:xfrm>
            <a:off x="1305000" y="3957480"/>
            <a:ext cx="6219720" cy="28562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318960" y="3960"/>
            <a:ext cx="81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9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2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8" descr=""/>
          <p:cNvPicPr/>
          <p:nvPr/>
        </p:nvPicPr>
        <p:blipFill>
          <a:blip r:embed="rId2"/>
          <a:stretch/>
        </p:blipFill>
        <p:spPr>
          <a:xfrm>
            <a:off x="1305000" y="1019160"/>
            <a:ext cx="616572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826920" y="18885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2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Подарок от Ирины Алексеевны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681720" y="4197240"/>
            <a:ext cx="17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6" descr="32"/>
          <p:cNvPicPr/>
          <p:nvPr/>
        </p:nvPicPr>
        <p:blipFill>
          <a:blip r:embed="rId1"/>
          <a:stretch/>
        </p:blipFill>
        <p:spPr>
          <a:xfrm>
            <a:off x="3564000" y="4910040"/>
            <a:ext cx="2016000" cy="168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38862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а иг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842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ждая команда представляет правление банка. Игроки каждой команды выбирают президента бан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езидент имеет право принимать окончательное решение по данному заданию иг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андам представляется право по очереди выбирать себе задание различной степени стоимости( от 50 игрексов до 200 игрексов) в зависимости от слож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ртовый капитал каждой команды – 500игрекс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команда дает правильный ответ, то ее капитал увеличивается на стоимость задания. Если ответ неправильный, то: капитал уменьшается на 100% стоимости задания ,если другая команда дает правильный ответ и уменьшается на 50% стоимости, если другая команда не сможет ответить правиль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анда может продать свое задание сопернику или купить его задание  по взаимному соглас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бедителем является тот, в чьем банке будет больше «денег» по окончанию иг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413000"/>
          <a:ext cx="7962840" cy="4317840"/>
        </p:xfrm>
        <a:graphic>
          <a:graphicData uri="http://schemas.openxmlformats.org/drawingml/2006/table">
            <a:tbl>
              <a:tblPr/>
              <a:tblGrid>
                <a:gridCol w="1600200"/>
                <a:gridCol w="1640160"/>
                <a:gridCol w="1522080"/>
                <a:gridCol w="1600200"/>
                <a:gridCol w="16002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№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№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№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№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№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№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№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№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№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200 иг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№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6" action="ppaction://hlinksldjump"/>
                        </a:rPr>
                        <a:t>150 игр</a:t>
                      </a: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7" action="ppaction://hlinksldjump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8" action="ppaction://hlinksldjump"/>
                        </a:rPr>
                        <a:t>№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9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0" action="ppaction://hlinksldjump"/>
                        </a:rPr>
                        <a:t>№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1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2" action="ppaction://hlinksldjump"/>
                        </a:rPr>
                        <a:t>№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3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4" action="ppaction://hlinksldjump"/>
                        </a:rPr>
                        <a:t>№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5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6" action="ppaction://hlinksldjump"/>
                        </a:rPr>
                        <a:t>№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7" action="ppaction://hlinksldjump"/>
                        </a:rPr>
                        <a:t>200 иг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8" action="ppaction://hlinksldjump"/>
                        </a:rPr>
                        <a:t>№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9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0"/>
          <p:cNvSpPr/>
          <p:nvPr/>
        </p:nvSpPr>
        <p:spPr>
          <a:xfrm>
            <a:off x="714240" y="1857240"/>
            <a:ext cx="642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рямоугольник 22"/>
          <p:cNvSpPr/>
          <p:nvPr/>
        </p:nvSpPr>
        <p:spPr>
          <a:xfrm>
            <a:off x="395280" y="5493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Задание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Три телёнка – сколько ног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1143000" y="4076640"/>
            <a:ext cx="731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сколько теленка не тр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ноги  у него всё равно 4</a:t>
            </a: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Управляющая кнопка: назад 24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785880" y="71424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У арфы их четыре, у гитары шесть и у домбры тоже шесть.         О чём идёт реч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2987640" y="3895560"/>
            <a:ext cx="3151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речь идёт о количестве букв в названиях инстр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3.</a:t>
            </a: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Нарисуйте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 лошадь  и  тигра,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используя цифры  от 0 до 9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27080" y="4365360"/>
            <a:ext cx="6688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7960" y="206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4</a:t>
            </a:r>
            <a:br>
              <a:rPr sz="4000"/>
            </a:b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Переход хода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В одной дюжине 12 коллекционных марок . Сколько  почтовых марок  в дюж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4101840"/>
            <a:ext cx="7696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12 марок,  дюжина – она и есть дюж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9240" y="102600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За  две минуты нарисуйте    девочку и мальчика,  используя следующие геометрические фигуры в неограниченном количестве:  круг, треугольник, квадрат, прямоугольни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1835280" y="4221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9:15Z</dcterms:created>
  <dc:creator>АСЕР</dc:creator>
  <dc:description/>
  <dc:language>en-US</dc:language>
  <cp:lastModifiedBy>User</cp:lastModifiedBy>
  <dcterms:modified xsi:type="dcterms:W3CDTF">2014-01-25T16:32:34Z</dcterms:modified>
  <cp:revision>48</cp:revision>
  <dc:subject/>
  <dc:title>Слайд 1</dc:title>
</cp:coreProperties>
</file>