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635F1-EC21-4AC5-BB94-B2FF71334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6D577-1820-4EDB-8CBC-69FC4B38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FB169-3393-4378-9B78-C7253C259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96330-22BA-4BC7-8506-E461635AA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3676-4398-4742-8B29-46C3B7A0F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140B-7F4B-4688-923B-8E3FE5BF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6EE3-EF14-4B59-959A-947F719B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8E57-7619-476E-9CF3-490D6E9A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D04D-6BBF-48BA-A864-2F474FA0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D75F6-E9E3-455A-999C-656BB32E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6CD0-6AE5-4BC5-B988-525683AF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35E4C-81C7-423A-9FF0-4A69F375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D228-A03A-4174-8D06-77DA558F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850BB-ADE6-4921-9B2C-C34A4B93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B54D-F9D8-4803-B883-E56A3853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1964-5813-4581-9021-8D0573AA9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6B49C-FA67-47B5-8309-BE74EC2C5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2A8B8-0A49-4003-BA92-9A91296A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9DBF1-8C89-4B16-B121-39A8A819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AFCF3-12D0-470C-866A-744196A5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0C50C-1967-406D-89F7-4EF1D246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738FD-A431-4AA9-A6D0-B0A0DA3F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B7519-FC3F-46EC-842C-8F872194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A2B61-FC3A-4015-BD44-C59F5C83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B663-D9C6-4F7D-B7A0-124514CC3A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3791-1133-4981-B430-E2CE4DDFBC7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7640" y="1557000"/>
            <a:ext cx="554364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e5ff"/>
                </a:solidFill>
                <a:latin typeface="Monotype Corsiva"/>
              </a:rPr>
              <a:t>Математика </a:t>
            </a:r>
            <a:br>
              <a:rPr sz="6000"/>
            </a:br>
            <a:r>
              <a:rPr b="1" lang="ru-RU" sz="6000" spc="-1" strike="noStrike">
                <a:solidFill>
                  <a:srgbClr val="e5e5ff"/>
                </a:solidFill>
                <a:latin typeface="Monotype Corsiva"/>
              </a:rPr>
              <a:t>на службе </a:t>
            </a:r>
            <a:br>
              <a:rPr sz="6000"/>
            </a:br>
            <a:r>
              <a:rPr b="1" lang="ru-RU" sz="6000" spc="-1" strike="noStrike">
                <a:solidFill>
                  <a:srgbClr val="e5e5ff"/>
                </a:solidFill>
                <a:latin typeface="Monotype Corsiva"/>
              </a:rPr>
              <a:t>Армии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Picture 9" descr="21a0eb1710ed6538ae3dc750413"/>
          <p:cNvPicPr/>
          <p:nvPr/>
        </p:nvPicPr>
        <p:blipFill>
          <a:blip r:embed="rId1"/>
          <a:stretch/>
        </p:blipFill>
        <p:spPr>
          <a:xfrm>
            <a:off x="0" y="4724280"/>
            <a:ext cx="6804000" cy="2133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mig-29_2"/>
          <p:cNvPicPr/>
          <p:nvPr/>
        </p:nvPicPr>
        <p:blipFill>
          <a:blip r:embed="rId2"/>
          <a:stretch/>
        </p:blipFill>
        <p:spPr>
          <a:xfrm>
            <a:off x="0" y="0"/>
            <a:ext cx="9144000" cy="2187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vladik-2011"/>
          <p:cNvPicPr/>
          <p:nvPr/>
        </p:nvPicPr>
        <p:blipFill>
          <a:blip r:embed="rId3"/>
          <a:stretch/>
        </p:blipFill>
        <p:spPr>
          <a:xfrm>
            <a:off x="0" y="2133720"/>
            <a:ext cx="2700360" cy="2590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5dddcbb02ca2"/>
          <p:cNvPicPr/>
          <p:nvPr/>
        </p:nvPicPr>
        <p:blipFill>
          <a:blip r:embed="rId4"/>
          <a:stretch/>
        </p:blipFill>
        <p:spPr>
          <a:xfrm>
            <a:off x="6732720" y="2133720"/>
            <a:ext cx="2411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сканирование002"/>
          <p:cNvPicPr/>
          <p:nvPr/>
        </p:nvPicPr>
        <p:blipFill>
          <a:blip r:embed="rId1"/>
          <a:stretch/>
        </p:blipFill>
        <p:spPr>
          <a:xfrm>
            <a:off x="684360" y="0"/>
            <a:ext cx="790416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78598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ffffcc"/>
                </a:solidFill>
                <a:latin typeface="Georgia"/>
              </a:rPr>
              <a:t>1941-1945</a:t>
            </a:r>
            <a:br>
              <a:rPr sz="8000"/>
            </a:b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1241255100_8056-10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3448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0290081108"/>
          <p:cNvPicPr/>
          <p:nvPr/>
        </p:nvPicPr>
        <p:blipFill>
          <a:blip r:embed="rId2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050"/>
          <p:cNvPicPr/>
          <p:nvPr/>
        </p:nvPicPr>
        <p:blipFill>
          <a:blip r:embed="rId3"/>
          <a:stretch/>
        </p:blipFill>
        <p:spPr>
          <a:xfrm>
            <a:off x="0" y="0"/>
            <a:ext cx="3657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«Где нет знаний, там нет победы»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1" name="Picture 4" descr="сканирование002"/>
          <p:cNvPicPr/>
          <p:nvPr/>
        </p:nvPicPr>
        <p:blipFill>
          <a:blip r:embed="rId1"/>
          <a:stretch/>
        </p:blipFill>
        <p:spPr>
          <a:xfrm>
            <a:off x="395280" y="1700280"/>
            <a:ext cx="8299440" cy="3816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05:58:43Z</dcterms:created>
  <dc:creator>123</dc:creator>
  <dc:description/>
  <dc:language>en-US</dc:language>
  <cp:lastModifiedBy>дима</cp:lastModifiedBy>
  <dcterms:modified xsi:type="dcterms:W3CDTF">2013-01-06T13:00:55Z</dcterms:modified>
  <cp:revision>4</cp:revision>
  <dc:subject/>
  <dc:title>Математика  на службе  Армии</dc:title>
</cp:coreProperties>
</file>