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E4DCE-4BE9-4A23-8740-004D3A830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6471E-D5AE-40AD-B41F-ADFFE02F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E3BBF-21BA-4CC7-B086-EECB39C77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04F29-9846-4386-AF87-E1B364C32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0CBC-0AE8-49DC-9E1E-C2FF47B09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BF243-DCA8-450B-8900-1E1F1F24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13BB-129A-49C0-9DB3-C498405D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523BB-DC98-4901-9A7E-EEECE41E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07B6-2809-4126-A4F8-31386BE4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1E2F-DE43-4CA2-A232-EDAC6B3A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D6F88-1FA8-4AF1-9D6C-103586E2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36FA2-89A5-41D8-9F82-5001FB28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D768E-257B-417A-87F8-479F5A4E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9C5E-4744-4657-9C27-3B896EE0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508A7-861A-4613-9549-F49BBF55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46BC8-CFEA-4588-B0F3-B8B40D163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9B15-9686-41A8-BEA0-7B9026938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918CC-7F60-479F-8DB3-30CAFFC7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9AB2D-8FC8-48B3-AE66-C977B433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6BA91-C9FF-4D2C-8646-B240D432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CA793-8046-4554-AB88-57495687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F8389-BDAD-4A31-A644-B87958BA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72380-2F69-4200-B1F3-2EF0E6F2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1EFE7-3E8E-4FA3-BFB4-15AA76F0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0C8D-F46F-4C1F-868B-6BF2584BE0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B19D-B66C-4E5A-B65F-AC20CE5C711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7640" y="1557000"/>
            <a:ext cx="554364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e5ff"/>
                </a:solidFill>
                <a:latin typeface="Monotype Corsiva"/>
              </a:rPr>
              <a:t>Математика </a:t>
            </a:r>
            <a:br>
              <a:rPr sz="6000"/>
            </a:br>
            <a:r>
              <a:rPr b="1" lang="ru-RU" sz="6000" spc="-1" strike="noStrike">
                <a:solidFill>
                  <a:srgbClr val="e5e5ff"/>
                </a:solidFill>
                <a:latin typeface="Monotype Corsiva"/>
              </a:rPr>
              <a:t>на службе </a:t>
            </a:r>
            <a:br>
              <a:rPr sz="6000"/>
            </a:br>
            <a:r>
              <a:rPr b="1" lang="ru-RU" sz="6000" spc="-1" strike="noStrike">
                <a:solidFill>
                  <a:srgbClr val="e5e5ff"/>
                </a:solidFill>
                <a:latin typeface="Monotype Corsiva"/>
              </a:rPr>
              <a:t>Армии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Picture 9" descr="21a0eb1710ed6538ae3dc750413"/>
          <p:cNvPicPr/>
          <p:nvPr/>
        </p:nvPicPr>
        <p:blipFill>
          <a:blip r:embed="rId1"/>
          <a:stretch/>
        </p:blipFill>
        <p:spPr>
          <a:xfrm>
            <a:off x="0" y="4724280"/>
            <a:ext cx="6804000" cy="2133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mig-29_2"/>
          <p:cNvPicPr/>
          <p:nvPr/>
        </p:nvPicPr>
        <p:blipFill>
          <a:blip r:embed="rId2"/>
          <a:stretch/>
        </p:blipFill>
        <p:spPr>
          <a:xfrm>
            <a:off x="0" y="0"/>
            <a:ext cx="9144000" cy="2187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vladik-2011"/>
          <p:cNvPicPr/>
          <p:nvPr/>
        </p:nvPicPr>
        <p:blipFill>
          <a:blip r:embed="rId3"/>
          <a:stretch/>
        </p:blipFill>
        <p:spPr>
          <a:xfrm>
            <a:off x="0" y="2133720"/>
            <a:ext cx="2700360" cy="2590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5dddcbb02ca2"/>
          <p:cNvPicPr/>
          <p:nvPr/>
        </p:nvPicPr>
        <p:blipFill>
          <a:blip r:embed="rId4"/>
          <a:stretch/>
        </p:blipFill>
        <p:spPr>
          <a:xfrm>
            <a:off x="6732720" y="2133720"/>
            <a:ext cx="2411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сканирование002"/>
          <p:cNvPicPr/>
          <p:nvPr/>
        </p:nvPicPr>
        <p:blipFill>
          <a:blip r:embed="rId1"/>
          <a:stretch/>
        </p:blipFill>
        <p:spPr>
          <a:xfrm>
            <a:off x="684360" y="0"/>
            <a:ext cx="790416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78598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ffffcc"/>
                </a:solidFill>
                <a:latin typeface="Georgia"/>
              </a:rPr>
              <a:t>1941-1945</a:t>
            </a:r>
            <a:br>
              <a:rPr sz="8000"/>
            </a:b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1241255100_8056-10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3448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0290081108"/>
          <p:cNvPicPr/>
          <p:nvPr/>
        </p:nvPicPr>
        <p:blipFill>
          <a:blip r:embed="rId2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050"/>
          <p:cNvPicPr/>
          <p:nvPr/>
        </p:nvPicPr>
        <p:blipFill>
          <a:blip r:embed="rId3"/>
          <a:stretch/>
        </p:blipFill>
        <p:spPr>
          <a:xfrm>
            <a:off x="0" y="0"/>
            <a:ext cx="3657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«Где нет знаний, там нет победы»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1" name="Picture 4" descr="сканирование002"/>
          <p:cNvPicPr/>
          <p:nvPr/>
        </p:nvPicPr>
        <p:blipFill>
          <a:blip r:embed="rId1"/>
          <a:stretch/>
        </p:blipFill>
        <p:spPr>
          <a:xfrm>
            <a:off x="395280" y="1700280"/>
            <a:ext cx="8299440" cy="3816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05:58:43Z</dcterms:created>
  <dc:creator>123</dc:creator>
  <dc:description/>
  <dc:language>en-US</dc:language>
  <cp:lastModifiedBy>дима</cp:lastModifiedBy>
  <dcterms:modified xsi:type="dcterms:W3CDTF">2013-01-06T13:00:55Z</dcterms:modified>
  <cp:revision>4</cp:revision>
  <dc:subject/>
  <dc:title>Математика  на службе  Армии</dc:title>
</cp:coreProperties>
</file>