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B2F-C71B-4887-A790-32ADCFB9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201-28DB-4DD3-8D08-13368C5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766-DB9E-41B8-B73F-A3737F37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B40-7EC3-4E78-BF30-E160DBCA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261-B2C6-4D5E-A25E-2292BC03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B17-B2CE-4D29-B682-DA4D4EE1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2BF-8FC2-4DB0-9153-8FD2618C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F21-742A-4986-BB1C-B23A5EB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F4D-9AE0-4FD7-B68C-97D9BCCA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C59-ED21-46BB-8EBB-33CA7C6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623-F0D3-4952-9A5E-3333D6D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540-EA49-4205-9E89-FF8D474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0F4B-85BA-454A-9D26-1460E217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Блок-схема: документ 7"/>
          <p:cNvSpPr/>
          <p:nvPr/>
        </p:nvSpPr>
        <p:spPr>
          <a:xfrm>
            <a:off x="179280" y="189000"/>
            <a:ext cx="8785440" cy="6669000"/>
          </a:xfrm>
          <a:prstGeom prst="flowChartDocumen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8" descr="10-1.png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talpiti.ru/files/99604/10-1.png" TargetMode="External"/><Relationship Id="rId3" Type="http://schemas.openxmlformats.org/officeDocument/2006/relationships/hyperlink" Target="http://linda6035.ucoz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5076720" y="422100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БОУ г.Омска «Гимназия 2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Васильев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5148360" y="1916280"/>
            <a:ext cx="3609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ъем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жинка-цвет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2205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рлянда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antalpiti.ru/files/99604/10-1.p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843280" y="1557360"/>
            <a:ext cx="381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-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4"/>
          <p:cNvGrpSpPr/>
          <p:nvPr/>
        </p:nvGrpSpPr>
        <p:grpSpPr>
          <a:xfrm>
            <a:off x="539640" y="2708280"/>
            <a:ext cx="7993080" cy="3858120"/>
            <a:chOff x="539640" y="2708280"/>
            <a:chExt cx="7993080" cy="3858120"/>
          </a:xfrm>
        </p:grpSpPr>
        <p:grpSp>
          <p:nvGrpSpPr>
            <p:cNvPr id="76" name="Группа 1"/>
            <p:cNvGrpSpPr/>
            <p:nvPr/>
          </p:nvGrpSpPr>
          <p:grpSpPr>
            <a:xfrm>
              <a:off x="539640" y="2708280"/>
              <a:ext cx="7993080" cy="3858120"/>
              <a:chOff x="539640" y="2708280"/>
              <a:chExt cx="7993080" cy="3858120"/>
            </a:xfrm>
          </p:grpSpPr>
          <p:sp>
            <p:nvSpPr>
              <p:cNvPr id="77" name="Прямоугольник 7"/>
              <p:cNvSpPr/>
              <p:nvPr/>
            </p:nvSpPr>
            <p:spPr>
              <a:xfrm>
                <a:off x="539640" y="2708280"/>
                <a:ext cx="7993080" cy="29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Вы можете использоват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данное оформлени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для создания своих презентаций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но в своей презентации вы должны указат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источник шаблон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Фокина Лидия Петров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учитель начальных класс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МКОУ «СОШ ст. Евсино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Искитимского райо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70c0"/>
                    </a:solidFill>
                    <a:latin typeface="Monotype Corsiva"/>
                  </a:rPr>
                  <a:t>Новосибирской обла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Прямоугольник 3"/>
              <p:cNvSpPr/>
              <p:nvPr/>
            </p:nvSpPr>
            <p:spPr>
              <a:xfrm>
                <a:off x="2699640" y="5820120"/>
                <a:ext cx="362844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Monotype Corsiva"/>
                  </a:rPr>
                  <a:t>Сайт </a:t>
                </a:r>
                <a:r>
                  <a:rPr b="0" lang="en-US" sz="2000" spc="-1" strike="noStrike" u="sng">
                    <a:solidFill>
                      <a:srgbClr val="0000ff"/>
                    </a:solidFill>
                    <a:uFillTx/>
                    <a:latin typeface="Monotype Corsiva"/>
                    <a:hlinkClick r:id="rId3"/>
                  </a:rPr>
                  <a:t>http://linda6035.ucoz.ru/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Monotype Corsiva"/>
                  </a:rPr>
                  <a:t>   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Monotype Corsiva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6"/>
            <p:cNvSpPr/>
            <p:nvPr/>
          </p:nvSpPr>
          <p:spPr>
            <a:xfrm>
              <a:off x="2416320" y="6182280"/>
              <a:ext cx="50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ПАСИБО АВТОРАМ ФОНОВ И КАРТИН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Сначала сгибаем листы как на рисун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Оставляем только базовую форму «квадра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Сложить базовую    форму  как на рисун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Вырезаем галочку у получившегося треуголь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Делаем надрезы на оставшейся галочке, но не прорезаем до конца, иначе снежинка разорв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Каждый средний луч на всех четырех лепестках снежинки загибаем внутрь и приклеиваем в цент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6280" y="1628640"/>
            <a:ext cx="3951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Повторяем все операции  со вторым листом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Затем подкладываем его под первую половину снежинки, так чтобы нижние лучи находились между верхн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Затем загибаем, но приклеиваем лучи не в центре, а в местах расхождения лучей у верхней снежин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Сделанная по этой схеме снежинка получается восьмиконечной и объем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4:53:15Z</dcterms:created>
  <dc:creator>Компас</dc:creator>
  <dc:description/>
  <dc:language>en-US</dc:language>
  <cp:lastModifiedBy>Елена</cp:lastModifiedBy>
  <dcterms:modified xsi:type="dcterms:W3CDTF">2014-01-25T13:44:31Z</dcterms:modified>
  <cp:revision>8</cp:revision>
  <dc:subject/>
  <dc:title>Слайд 1</dc:title>
</cp:coreProperties>
</file>