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EB273-E8F4-43BF-9508-3A8097C0D13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EDD68-99D5-4EDC-B206-E686243E5EC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та выполнена учителем биологии  Тюриной М.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B496B-9FAC-40F0-BDC0-6C50E59A54A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46CA1-5297-446E-81F6-76DFFF0F83E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9B04D-57ED-4247-8A71-5FA61FACF5F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A4923-FF92-4509-BD46-6F2254A37E7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3622A-60EA-481F-BC45-2914D8C1766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  удивле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E6D09-0CAB-44A4-A580-FA1FE09A26A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70050-C09C-4B40-B154-C6FCCB8DF4F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744DA-DC26-4774-8EC6-8D5F450661C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5E4BD-1A8F-455C-B389-E1E643EE5E8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F015A-8D0C-449D-9D0E-C6E9BC5D8D4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ло вытянутое, цилиндрическое, круглое  в цилиндрическом сечении. Насчитывает 20000 вид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D1F0C-682A-4664-98B5-C6E2477D7E8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AECF5-C5B3-4A5E-850B-42EFD82AA7C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48D6F-C12E-4FA0-B0C3-C9B7242E94A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F92E-44EF-42AA-BB53-03CF813C5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3B92-F98C-4076-8463-D718187F4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66C3-6A6D-4A90-BC92-1E5ECBB6C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0142-3707-407A-A6C7-77215F862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AF60-EEB3-4B46-B39B-2EE1E2F96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A5DB-4B94-48E5-9EEF-F4DCD504B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2F45-EA06-4413-B392-DB34692D2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9F0C-162C-4A35-853E-3D5D0067B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42FB-A1A4-4573-8A0B-ECAB3A81A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A505-2BB3-41DC-8CDE-97303D7BD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A1B9-0376-4C5C-A987-55E412A5A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1582-293B-4E30-9B65-D07711A3C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1A460-E5F7-45AC-A9D8-79FD3A8E722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рок –игра Обобщение по теме «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ИПЫ: Плоские, круглые, кольчатые черв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0" y="1828800"/>
            <a:ext cx="2743200" cy="24843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2514600" y="3124080"/>
            <a:ext cx="2438280" cy="2590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5181480" y="2743200"/>
            <a:ext cx="396252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Конкурс «СЭС предупреждает!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Острица (5,7)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Печеночный сосальщик (2,4)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Бычий цепень (1)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Человеческая аскарида (3,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онкурс « Решение творческих биологических задач»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"/>
          <p:cNvPicPr/>
          <p:nvPr/>
        </p:nvPicPr>
        <p:blipFill>
          <a:blip r:embed="rId1"/>
          <a:stretch/>
        </p:blipFill>
        <p:spPr>
          <a:xfrm>
            <a:off x="1447920" y="3733920"/>
            <a:ext cx="541008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Конкурс тестирование  «Строение и жизнедеятельность червей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тветы:1Б,2Б,3Б,4Г,5А,6А,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7А,8В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ыразите свое мн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" descr="J0079099"/>
          <p:cNvPicPr/>
          <p:nvPr/>
        </p:nvPicPr>
        <p:blipFill>
          <a:blip r:embed="rId1"/>
          <a:stretch/>
        </p:blipFill>
        <p:spPr>
          <a:xfrm>
            <a:off x="762120" y="1523880"/>
            <a:ext cx="1496880" cy="16891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J0079100"/>
          <p:cNvPicPr/>
          <p:nvPr/>
        </p:nvPicPr>
        <p:blipFill>
          <a:blip r:embed="rId2"/>
          <a:stretch/>
        </p:blipFill>
        <p:spPr>
          <a:xfrm>
            <a:off x="2971800" y="1600200"/>
            <a:ext cx="1495440" cy="16858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J0079103"/>
          <p:cNvPicPr/>
          <p:nvPr/>
        </p:nvPicPr>
        <p:blipFill>
          <a:blip r:embed="rId3"/>
          <a:stretch/>
        </p:blipFill>
        <p:spPr>
          <a:xfrm>
            <a:off x="5486400" y="1600200"/>
            <a:ext cx="1495440" cy="168588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7"/>
          <p:cNvSpPr/>
          <p:nvPr/>
        </p:nvSpPr>
        <p:spPr>
          <a:xfrm>
            <a:off x="457200" y="327672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не грустно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не обидно, что не         Я злюсь на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 не все поня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росили                             себ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" descr="J0079104"/>
          <p:cNvPicPr/>
          <p:nvPr/>
        </p:nvPicPr>
        <p:blipFill>
          <a:blip r:embed="rId4"/>
          <a:stretch/>
        </p:blipFill>
        <p:spPr>
          <a:xfrm>
            <a:off x="609480" y="4038480"/>
            <a:ext cx="1495440" cy="16858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4" descr="J0079102"/>
          <p:cNvPicPr/>
          <p:nvPr/>
        </p:nvPicPr>
        <p:blipFill>
          <a:blip r:embed="rId5"/>
          <a:stretch/>
        </p:blipFill>
        <p:spPr>
          <a:xfrm>
            <a:off x="3200400" y="4114800"/>
            <a:ext cx="1498680" cy="16891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4" descr="J0079102"/>
          <p:cNvPicPr/>
          <p:nvPr/>
        </p:nvPicPr>
        <p:blipFill>
          <a:blip r:embed="rId6"/>
          <a:stretch/>
        </p:blipFill>
        <p:spPr>
          <a:xfrm>
            <a:off x="5715000" y="3962520"/>
            <a:ext cx="1498680" cy="168912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16"/>
          <p:cNvSpPr/>
          <p:nvPr/>
        </p:nvSpPr>
        <p:spPr>
          <a:xfrm>
            <a:off x="152280" y="594360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 все поня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7"/>
          <p:cNvSpPr/>
          <p:nvPr/>
        </p:nvSpPr>
        <p:spPr>
          <a:xfrm>
            <a:off x="2819520" y="6019920"/>
            <a:ext cx="267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 в восторге, все поня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8"/>
          <p:cNvSpPr/>
          <p:nvPr/>
        </p:nvSpPr>
        <p:spPr>
          <a:xfrm flipH="1">
            <a:off x="579060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  удивлен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Цель урока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бобщить и проверить знания по темам «Плоские черви», «Круглые черви», «Кольчатые черви» 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дачи: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- Обучающие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бобщить, расширить, закрепить и проверить знания учащихся об особенностях организации, многообразии, особенностях строения и жизнедеятельности плоских, круглых, кольчатых червей, их значении в природе и жизни человека, проверить умение выделять признаки приспособленности червей к условиям обитания;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Развивающие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развивать интерес к природе, ее изучению, умение приобретать знания самостоятельно, работать в коллективе, совершенствовать умения учащихся оценивать свой учебный труд; 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- Воспитательные: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особствовать санитарно- гигиеническому и экологическому воспитанию учащихся.</a:t>
            </a:r>
            <a:br>
              <a:rPr sz="12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Конкурс «Аукцион терминов»</a:t>
            </a:r>
            <a:br>
              <a:rPr sz="60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533520" y="2437920"/>
            <a:ext cx="822960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аренхи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езодер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Фасциоле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рематод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егенерац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000000"/>
                </a:solidFill>
                <a:latin typeface="Arial"/>
              </a:rPr>
              <a:t>Конкурс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000000"/>
                </a:solidFill>
                <a:latin typeface="Arial"/>
              </a:rPr>
              <a:t>« Викторина»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Конкурс «А ну-ка ,отгадай!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) Третий лишни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ычий цепень, острица, аскари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) Дано несколько слов .Из букв, входящих в эти слова, нужно составить новые слова  - названия животны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АР, ДА ,ИАК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ЖИЛ, КО ,ПЕ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Р,ПЛА,Я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Конкурс «Немой рисунок»</a:t>
            </a:r>
            <a:br>
              <a:rPr sz="40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3" descr=""/>
          <p:cNvPicPr/>
          <p:nvPr/>
        </p:nvPicPr>
        <p:blipFill>
          <a:blip r:embed="rId1"/>
          <a:stretch/>
        </p:blipFill>
        <p:spPr>
          <a:xfrm>
            <a:off x="1371600" y="1219320"/>
            <a:ext cx="6705720" cy="45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Рекламная пауз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Физминутк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Конкур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« Составьте пары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пилляр                                                                     кровеносная система                                  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елудок                                                          пищеварительная система                                                      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льцевые мышцы                                        кожно-мускульный мешок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Яичник                                              половая система                                                        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рюшная нервная цепочка                                            нервная сис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4-01-22T13:39:42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