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67C6-2EDF-41A2-B675-1C7290E21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5B5F-0956-426D-95B7-17327FF50C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выполнена учителем биологии  Тюриной М.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BBEF-C251-4FB7-B73B-F5DE407ADC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6E2E-63CF-4526-A15F-666BBA404F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2FFF-972C-426B-8EEC-1F88861B50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9964-43E1-4938-A0DD-AAF31C419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B180-4502-46EC-AECA-156ED842A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 удивл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1136-6B7F-462B-B319-D190EBDBCC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804A-1564-4EB6-BEA6-2AE26D6403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C009-5497-4D96-9A80-417741F54B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6109-F587-4F0A-8BFA-A18F5748A6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AD4F-6D02-4B83-991F-4C089153AD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о вытянутое, цилиндрическое, круглое  в цилиндрическом сечении. Насчитывает 20000 ви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D8EA-6B66-4771-AC23-A15D8232D0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BD21-5501-4992-8C83-6BC6C6DE8F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8976-61F0-4D9C-ACCC-323E3FE5D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76C-4F88-4A04-8A7F-C6DAF4AB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D0C-73F4-4226-BF0B-7781D7F6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C44-953D-4242-8AB3-88BE54B8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323-A734-4488-8C65-F9BB7465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EE7-F07E-493B-A44F-4FCBF833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816-54AB-4635-AE6B-393E91BD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D1D-7F08-4A75-A21D-6F587CC3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AB3-B3F8-4973-A763-DD9022D4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7E8-1D95-4860-8B38-6D59D405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AE1-A1C5-4409-A634-9439B216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A53-A77F-48A6-8142-2D7B51E0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F77-C94B-4228-AB3C-2B14C1FA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3D3E-AD14-4C52-8D28-72ACCFE23F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–игра Обобщение по теме «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Ы: Плоские, круглые, кольчатые че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828800"/>
            <a:ext cx="2743200" cy="248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2514600" y="3124080"/>
            <a:ext cx="243828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5181480" y="2743200"/>
            <a:ext cx="3962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онкурс «СЭС предупреждает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Острица (5,7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еченочный сосальщик (2,4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Бычий цепень (1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Человеческая аскарида (3,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курс « Решение творческих биологических задач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5410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онкурс тестирование  «Строение и жизнедеятельность черв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веты:1Б,2Б,3Б,4Г,5А,6А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А,8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разите сво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J0079099"/>
          <p:cNvPicPr/>
          <p:nvPr/>
        </p:nvPicPr>
        <p:blipFill>
          <a:blip r:embed="rId1"/>
          <a:stretch/>
        </p:blipFill>
        <p:spPr>
          <a:xfrm>
            <a:off x="762120" y="1523880"/>
            <a:ext cx="1496880" cy="1689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0079100"/>
          <p:cNvPicPr/>
          <p:nvPr/>
        </p:nvPicPr>
        <p:blipFill>
          <a:blip r:embed="rId2"/>
          <a:stretch/>
        </p:blipFill>
        <p:spPr>
          <a:xfrm>
            <a:off x="2971800" y="1600200"/>
            <a:ext cx="1495440" cy="1685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J0079103"/>
          <p:cNvPicPr/>
          <p:nvPr/>
        </p:nvPicPr>
        <p:blipFill>
          <a:blip r:embed="rId3"/>
          <a:stretch/>
        </p:blipFill>
        <p:spPr>
          <a:xfrm>
            <a:off x="5486400" y="1600200"/>
            <a:ext cx="1495440" cy="1685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457200" y="32767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грустно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обидно, что не         Я злюсь на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не все поня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осили                            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J0079104"/>
          <p:cNvPicPr/>
          <p:nvPr/>
        </p:nvPicPr>
        <p:blipFill>
          <a:blip r:embed="rId4"/>
          <a:stretch/>
        </p:blipFill>
        <p:spPr>
          <a:xfrm>
            <a:off x="609480" y="4038480"/>
            <a:ext cx="1495440" cy="1685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J0079102"/>
          <p:cNvPicPr/>
          <p:nvPr/>
        </p:nvPicPr>
        <p:blipFill>
          <a:blip r:embed="rId5"/>
          <a:stretch/>
        </p:blipFill>
        <p:spPr>
          <a:xfrm>
            <a:off x="3200400" y="4114800"/>
            <a:ext cx="1498680" cy="168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J0079102"/>
          <p:cNvPicPr/>
          <p:nvPr/>
        </p:nvPicPr>
        <p:blipFill>
          <a:blip r:embed="rId6"/>
          <a:stretch/>
        </p:blipFill>
        <p:spPr>
          <a:xfrm>
            <a:off x="5715000" y="3962520"/>
            <a:ext cx="1498680" cy="1689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6"/>
          <p:cNvSpPr/>
          <p:nvPr/>
        </p:nvSpPr>
        <p:spPr>
          <a:xfrm>
            <a:off x="152280" y="59436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все поня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2819520" y="6019920"/>
            <a:ext cx="26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в восторге, все поня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 flipH="1">
            <a:off x="579060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 удивлен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бщить и проверить знания по темам «Плоские черви», «Круглые черви», «Кольчатые черви» 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Обучающ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бщить, расширить, закрепить и проверить знания учащихся об особенностях организации, многообразии, особенностях строения и жизнедеятельности плоских, круглых, кольчатых червей, их значении в природе и жизни человека, проверить умение выделять признаки приспособленности червей к условиям обитания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Развивающ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вивать интерес к природе, ее изучению, умение приобретать знания самостоятельно, работать в коллективе, совершенствовать умения учащихся оценивать свой учебный труд;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Воспитательные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ствовать санитарно- гигиеническому и экологическому воспитанию учащихся.</a:t>
            </a: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онкурс «Аукцион терминов»</a:t>
            </a: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24379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ренх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зоде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сциол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мато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ене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Конкурс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« Викторин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онкурс «А ну-ка ,отгадай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Третий лиш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чий цепень, острица, аскари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Дано несколько слов .Из букв, входящих в эти слова, нужно составить новые слова  - названия живо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, ДА ,ИАК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Л, КО ,П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,ПЛА,Я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онкурс «Немой рисунок»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70572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екламн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онку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 Составьте пар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пилляр                                                                     кровеносная система                                  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удок                                                          пищеварительная система                  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ьцевые мышцы                                        кожно-мускульный мешок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Яичник                                              половая система                                                        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юшная нервная цепочка                                            нерв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22T13:39:4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