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85F9-8031-4986-B03E-2B646301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B2A-23AB-4D39-B1E5-C5931EB3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3397-1B0D-4962-ADF3-41595BBB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D13A-1AF7-4542-9BFA-913EC896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D8C-B10E-42C4-BD2D-121B9EF2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E389-926D-42FF-A37B-CD0CFC1D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30F1-DC8E-4D12-A8E4-6346B366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C395-293F-475C-B3D2-60AE3641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5007-0432-43A7-82DC-EDC79D9E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84E4-9A26-494C-A351-29CEC542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224A-F3C3-43B8-84B7-A0B89ADC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7D18-80C8-4403-ADDA-076DAF47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9FE8-63E6-4826-AF5C-F7C2175D2F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10804680" cy="27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-обобщение по теме: «Орфография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 клас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37720" y="1825200"/>
            <a:ext cx="108046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готовила учитель начальных класс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олы № 320 г. Санкт-Петербуга Соловьева Е.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83600"/>
            <a:ext cx="10515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810720"/>
            <a:ext cx="518184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ро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лё_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ё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тро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а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га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у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у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руг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и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4" descr=""/>
          <p:cNvPicPr/>
          <p:nvPr/>
        </p:nvPicPr>
        <p:blipFill>
          <a:blip r:embed="rId1"/>
          <a:stretch/>
        </p:blipFill>
        <p:spPr>
          <a:xfrm>
            <a:off x="7496280" y="1755720"/>
            <a:ext cx="2490840" cy="449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10779120" y="5816520"/>
            <a:ext cx="887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96200"/>
            <a:ext cx="10515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38080" y="888480"/>
            <a:ext cx="518184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ан_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рож_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б_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с_сажи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л_е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ам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ус_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_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с_ка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Content Placeholder 4" descr=""/>
          <p:cNvPicPr/>
          <p:nvPr/>
        </p:nvPicPr>
        <p:blipFill>
          <a:blip r:embed="rId1"/>
          <a:stretch/>
        </p:blipFill>
        <p:spPr>
          <a:xfrm>
            <a:off x="7095960" y="2097000"/>
            <a:ext cx="3333960" cy="3810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10779120" y="5816520"/>
            <a:ext cx="887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44720"/>
            <a:ext cx="10515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38080" y="1196640"/>
            <a:ext cx="518184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нас_ная по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кус_ный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лас_ный цар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крас_ная по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с_ная реч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вес_ный актё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бес_ный покров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упус_ный пир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4" descr=""/>
          <p:cNvPicPr/>
          <p:nvPr/>
        </p:nvPicPr>
        <p:blipFill>
          <a:blip r:embed="rId1"/>
          <a:stretch/>
        </p:blipFill>
        <p:spPr>
          <a:xfrm>
            <a:off x="7121520" y="1819440"/>
            <a:ext cx="3219480" cy="3794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0779120" y="5816520"/>
            <a:ext cx="887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207720"/>
            <a:ext cx="10515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171840" y="1274400"/>
            <a:ext cx="518148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_двед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_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_ту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вт_м_би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_ди_надц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с_м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_ртр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Content Placeholder 4" descr=""/>
          <p:cNvPicPr/>
          <p:nvPr/>
        </p:nvPicPr>
        <p:blipFill>
          <a:blip r:embed="rId1"/>
          <a:stretch/>
        </p:blipFill>
        <p:spPr>
          <a:xfrm>
            <a:off x="838080" y="1895400"/>
            <a:ext cx="5181840" cy="4211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10779120" y="5816520"/>
            <a:ext cx="887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519200"/>
            <a:ext cx="105156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ери слова из слог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ЛЕЗО   ЗЕТ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ФОН    ТЕЛЕ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ГА    Ж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1427040" y="2357280"/>
            <a:ext cx="354492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519200"/>
            <a:ext cx="105156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ери слова из слог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ЛЕЗО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ФОН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ЗЕТ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1427040" y="2357280"/>
            <a:ext cx="3544920" cy="3489480"/>
          </a:xfrm>
          <a:prstGeom prst="rect">
            <a:avLst/>
          </a:prstGeom>
          <a:ln w="0">
            <a:noFill/>
          </a:ln>
        </p:spPr>
      </p:pic>
      <p:sp>
        <p:nvSpPr>
          <p:cNvPr id="49" name="Straight Connector 7"/>
          <p:cNvSpPr/>
          <p:nvPr/>
        </p:nvSpPr>
        <p:spPr>
          <a:xfrm flipV="1">
            <a:off x="9064800" y="2941200"/>
            <a:ext cx="171360" cy="3049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traight Connector 9"/>
          <p:cNvSpPr/>
          <p:nvPr/>
        </p:nvSpPr>
        <p:spPr>
          <a:xfrm flipV="1">
            <a:off x="7580160" y="4107960"/>
            <a:ext cx="252720" cy="2509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11"/>
          <p:cNvSpPr/>
          <p:nvPr/>
        </p:nvSpPr>
        <p:spPr>
          <a:xfrm flipH="1">
            <a:off x="8056440" y="1895400"/>
            <a:ext cx="200160" cy="2383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азочный лес «Орфография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Content Placeholder 5" descr=""/>
          <p:cNvPicPr/>
          <p:nvPr/>
        </p:nvPicPr>
        <p:blipFill>
          <a:blip r:embed="rId1"/>
          <a:stretch/>
        </p:blipFill>
        <p:spPr>
          <a:xfrm>
            <a:off x="3300480" y="1357200"/>
            <a:ext cx="5384880" cy="5281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300480" y="4108320"/>
            <a:ext cx="1708200" cy="1698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300480" y="2371680"/>
            <a:ext cx="1708200" cy="136368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>
            <a:hlinkClick r:id="rId6" action="ppaction://hlinksldjump"/>
          </p:cNvPr>
          <p:cNvSpPr/>
          <p:nvPr/>
        </p:nvSpPr>
        <p:spPr>
          <a:xfrm>
            <a:off x="5808600" y="1690560"/>
            <a:ext cx="40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7">
            <a:hlinkClick r:id="rId7" action="ppaction://hlinksldjump"/>
          </p:cNvPr>
          <p:cNvSpPr/>
          <p:nvPr/>
        </p:nvSpPr>
        <p:spPr>
          <a:xfrm>
            <a:off x="5808600" y="2187720"/>
            <a:ext cx="40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8">
            <a:hlinkClick r:id="rId8" action="ppaction://hlinksldjump"/>
          </p:cNvPr>
          <p:cNvSpPr/>
          <p:nvPr/>
        </p:nvSpPr>
        <p:spPr>
          <a:xfrm>
            <a:off x="5808600" y="2962440"/>
            <a:ext cx="40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9">
            <a:hlinkClick r:id="rId9" action="ppaction://hlinksldjump"/>
          </p:cNvPr>
          <p:cNvSpPr/>
          <p:nvPr/>
        </p:nvSpPr>
        <p:spPr>
          <a:xfrm>
            <a:off x="6810480" y="3722760"/>
            <a:ext cx="40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0">
            <a:hlinkClick r:id="rId10" action="ppaction://hlinksldjump"/>
          </p:cNvPr>
          <p:cNvSpPr/>
          <p:nvPr/>
        </p:nvSpPr>
        <p:spPr>
          <a:xfrm>
            <a:off x="6551640" y="4313160"/>
            <a:ext cx="40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1">
            <a:hlinkClick r:id="rId11" action="ppaction://hlinksldjump"/>
          </p:cNvPr>
          <p:cNvSpPr/>
          <p:nvPr/>
        </p:nvSpPr>
        <p:spPr>
          <a:xfrm>
            <a:off x="3591000" y="2057400"/>
            <a:ext cx="22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2">
            <a:hlinkClick r:id="rId12" action="ppaction://hlinksldjump"/>
          </p:cNvPr>
          <p:cNvSpPr/>
          <p:nvPr/>
        </p:nvSpPr>
        <p:spPr>
          <a:xfrm>
            <a:off x="3468600" y="2868480"/>
            <a:ext cx="221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3">
            <a:hlinkClick r:id="rId13" action="ppaction://hlinksldjump"/>
          </p:cNvPr>
          <p:cNvSpPr/>
          <p:nvPr/>
        </p:nvSpPr>
        <p:spPr>
          <a:xfrm>
            <a:off x="3425760" y="3475080"/>
            <a:ext cx="22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6760"/>
            <a:ext cx="10515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Ж_молость, пассаж_р, хиж_на, ерш_, ж_раф, пр_чал, пищ_, встреч_, щ_вель, щ_риться, ч_чело, ч_ткий, девоч_ка,  ёлоч_ка, птич_ка, веч_на, яблоч_ны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0779120" y="5816520"/>
            <a:ext cx="887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67680"/>
            <a:ext cx="10515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863280"/>
            <a:ext cx="1051560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громное количество разнообразных природных ископаемых находится в Сиби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ральские горы между Европой и Ази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зеро Байкал – самое глубокое озеро на планете Зем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ка Волга –самая длинная река в Евро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6095880" y="3497400"/>
            <a:ext cx="3973680" cy="2651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10779120" y="5816520"/>
            <a:ext cx="887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111960"/>
            <a:ext cx="10515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2" name="Content Placeholder 4" descr=""/>
          <p:cNvPicPr/>
          <p:nvPr/>
        </p:nvPicPr>
        <p:blipFill>
          <a:blip r:embed="rId1"/>
          <a:stretch/>
        </p:blipFill>
        <p:spPr>
          <a:xfrm>
            <a:off x="941400" y="1130400"/>
            <a:ext cx="4896000" cy="4620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6171840" y="1130400"/>
            <a:ext cx="5181480" cy="50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л-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и-хонь-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е – гонь-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-лу-ша-ла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-ре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-нес-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а-се-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ла-ден-ц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10779120" y="5816520"/>
            <a:ext cx="887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111960"/>
            <a:ext cx="10515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6" name="Content Placeholder 4" descr=""/>
          <p:cNvPicPr/>
          <p:nvPr/>
        </p:nvPicPr>
        <p:blipFill>
          <a:blip r:embed="rId1"/>
          <a:stretch/>
        </p:blipFill>
        <p:spPr>
          <a:xfrm>
            <a:off x="1274760" y="2092320"/>
            <a:ext cx="3611520" cy="3611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5652720" y="657360"/>
            <a:ext cx="5700600" cy="55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л_т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_сне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_р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_кар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_ч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_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_льц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_сёл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_г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_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10779120" y="5816520"/>
            <a:ext cx="887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66960"/>
            <a:ext cx="10515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0" name="Content Placeholder 4" descr=""/>
          <p:cNvPicPr/>
          <p:nvPr/>
        </p:nvPicPr>
        <p:blipFill>
          <a:blip r:embed="rId1"/>
          <a:stretch/>
        </p:blipFill>
        <p:spPr>
          <a:xfrm>
            <a:off x="1687680" y="1822320"/>
            <a:ext cx="3355920" cy="4197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6171840" y="760320"/>
            <a:ext cx="518148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_ех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_ю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ист_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_ез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_еш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веч_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_ём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_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_единя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0779120" y="5816520"/>
            <a:ext cx="887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9T13:04:07Z</dcterms:created>
  <dc:creator>Иван Соловьев</dc:creator>
  <dc:description/>
  <dc:language>en-US</dc:language>
  <cp:lastModifiedBy>ivans</cp:lastModifiedBy>
  <dcterms:modified xsi:type="dcterms:W3CDTF">2014-01-24T20:05:28Z</dcterms:modified>
  <cp:revision>20</cp:revision>
  <dc:subject/>
  <dc:title>PowerPoint Presentation</dc:title>
</cp:coreProperties>
</file>