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67C-45DB-45D9-9620-B726B350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9BA-E07F-4BAE-B921-F6B8DD4B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A0B-0928-483D-931A-FE8169A5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295-3B58-424D-89D4-5366CF05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73D-627E-42DC-A65E-06624305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2BC-7474-4359-8B00-B14407A3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9ED-FE8A-478F-B372-6B3345FD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412-3904-4405-B9AD-31C027E9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1A3-79BF-4450-A220-B63F11E9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2B7-EA3C-439D-A34F-76825DE8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6F4-BAC7-4C18-9BCA-FB4F9CB2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FE4-CBB0-4AFB-8A50-C42E9D2D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7DD1-2EAA-4D9B-AF25-323371D00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10804680" cy="27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-обобщение по теме: «Орфография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клас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7720" y="1825200"/>
            <a:ext cx="10804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ила 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ы № 320 г. Санкт-Петербуга Соловьева Е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36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810720"/>
            <a:ext cx="51818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ро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ё_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ё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тро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га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у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уг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и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4" descr=""/>
          <p:cNvPicPr/>
          <p:nvPr/>
        </p:nvPicPr>
        <p:blipFill>
          <a:blip r:embed="rId1"/>
          <a:stretch/>
        </p:blipFill>
        <p:spPr>
          <a:xfrm>
            <a:off x="7496280" y="1755720"/>
            <a:ext cx="2490840" cy="449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962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888480"/>
            <a:ext cx="51818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н_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ож_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б_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с_саж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_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м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с_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_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_к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4" descr=""/>
          <p:cNvPicPr/>
          <p:nvPr/>
        </p:nvPicPr>
        <p:blipFill>
          <a:blip r:embed="rId1"/>
          <a:stretch/>
        </p:blipFill>
        <p:spPr>
          <a:xfrm>
            <a:off x="7095960" y="2097000"/>
            <a:ext cx="3333960" cy="381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4472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196640"/>
            <a:ext cx="518184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нас_ная по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кус_ны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лас_ный цар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крас_ная по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_ная реч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вес_ный актё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бес_ный покр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упус_ный пир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4" descr=""/>
          <p:cNvPicPr/>
          <p:nvPr/>
        </p:nvPicPr>
        <p:blipFill>
          <a:blip r:embed="rId1"/>
          <a:stretch/>
        </p:blipFill>
        <p:spPr>
          <a:xfrm>
            <a:off x="7121520" y="1819440"/>
            <a:ext cx="3219480" cy="3794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07720"/>
            <a:ext cx="10515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71840" y="1274400"/>
            <a:ext cx="51814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_две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_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_т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вт_м_б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_ди_надц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_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_ртр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4" descr=""/>
          <p:cNvPicPr/>
          <p:nvPr/>
        </p:nvPicPr>
        <p:blipFill>
          <a:blip r:embed="rId1"/>
          <a:stretch/>
        </p:blipFill>
        <p:spPr>
          <a:xfrm>
            <a:off x="838080" y="1895400"/>
            <a:ext cx="5181840" cy="421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519200"/>
            <a:ext cx="10515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ери слова из слог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ЕЗО   ЗЕТ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ФОН    ТЕЛЕ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А    Ж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1427040" y="2357280"/>
            <a:ext cx="35449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519200"/>
            <a:ext cx="10515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ери слова из слог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ЕЗО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ФОН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ЕТ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427040" y="2357280"/>
            <a:ext cx="3544920" cy="348948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7"/>
          <p:cNvSpPr/>
          <p:nvPr/>
        </p:nvSpPr>
        <p:spPr>
          <a:xfrm flipV="1">
            <a:off x="9064800" y="2941200"/>
            <a:ext cx="171360" cy="304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9"/>
          <p:cNvSpPr/>
          <p:nvPr/>
        </p:nvSpPr>
        <p:spPr>
          <a:xfrm flipV="1">
            <a:off x="7580160" y="4107960"/>
            <a:ext cx="252720" cy="2509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1"/>
          <p:cNvSpPr/>
          <p:nvPr/>
        </p:nvSpPr>
        <p:spPr>
          <a:xfrm flipH="1">
            <a:off x="8056440" y="1895400"/>
            <a:ext cx="200160" cy="2383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азочный лес «Орфография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Content Placeholder 5" descr=""/>
          <p:cNvPicPr/>
          <p:nvPr/>
        </p:nvPicPr>
        <p:blipFill>
          <a:blip r:embed="rId1"/>
          <a:stretch/>
        </p:blipFill>
        <p:spPr>
          <a:xfrm>
            <a:off x="3300480" y="1357200"/>
            <a:ext cx="5384880" cy="5281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300480" y="4108320"/>
            <a:ext cx="1708200" cy="169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00480" y="2371680"/>
            <a:ext cx="1708200" cy="1363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>
            <a:hlinkClick r:id="rId6" action="ppaction://hlinksldjump"/>
          </p:cNvPr>
          <p:cNvSpPr/>
          <p:nvPr/>
        </p:nvSpPr>
        <p:spPr>
          <a:xfrm>
            <a:off x="5808600" y="169056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7">
            <a:hlinkClick r:id="rId7" action="ppaction://hlinksldjump"/>
          </p:cNvPr>
          <p:cNvSpPr/>
          <p:nvPr/>
        </p:nvSpPr>
        <p:spPr>
          <a:xfrm>
            <a:off x="5808600" y="218772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>
            <a:hlinkClick r:id="rId8" action="ppaction://hlinksldjump"/>
          </p:cNvPr>
          <p:cNvSpPr/>
          <p:nvPr/>
        </p:nvSpPr>
        <p:spPr>
          <a:xfrm>
            <a:off x="5808600" y="296244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9">
            <a:hlinkClick r:id="rId9" action="ppaction://hlinksldjump"/>
          </p:cNvPr>
          <p:cNvSpPr/>
          <p:nvPr/>
        </p:nvSpPr>
        <p:spPr>
          <a:xfrm>
            <a:off x="6810480" y="3722760"/>
            <a:ext cx="40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0">
            <a:hlinkClick r:id="rId10" action="ppaction://hlinksldjump"/>
          </p:cNvPr>
          <p:cNvSpPr/>
          <p:nvPr/>
        </p:nvSpPr>
        <p:spPr>
          <a:xfrm>
            <a:off x="6551640" y="4313160"/>
            <a:ext cx="40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1">
            <a:hlinkClick r:id="rId11" action="ppaction://hlinksldjump"/>
          </p:cNvPr>
          <p:cNvSpPr/>
          <p:nvPr/>
        </p:nvSpPr>
        <p:spPr>
          <a:xfrm>
            <a:off x="3591000" y="2057400"/>
            <a:ext cx="22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2">
            <a:hlinkClick r:id="rId12" action="ppaction://hlinksldjump"/>
          </p:cNvPr>
          <p:cNvSpPr/>
          <p:nvPr/>
        </p:nvSpPr>
        <p:spPr>
          <a:xfrm>
            <a:off x="3468600" y="2868480"/>
            <a:ext cx="22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3">
            <a:hlinkClick r:id="rId13" action="ppaction://hlinksldjump"/>
          </p:cNvPr>
          <p:cNvSpPr/>
          <p:nvPr/>
        </p:nvSpPr>
        <p:spPr>
          <a:xfrm>
            <a:off x="3425760" y="3475080"/>
            <a:ext cx="22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67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Ж_молость, пассаж_р, хиж_на, ерш_, ж_раф, пр_чал, пищ_, встреч_, щ_вель, щ_риться, ч_чело, ч_ткий, девоч_ка,  ёлоч_ка, птич_ка, веч_на, яблоч_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6768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863280"/>
            <a:ext cx="105156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громное количество разнообразных природных ископаемых находится в Сиби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ральские горы между Европой и Аз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зеро Байкал – самое глубокое озеро на планете Зем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ка Волга –самая длинная река в Евро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095880" y="3497400"/>
            <a:ext cx="3973680" cy="265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119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Content Placeholder 4" descr=""/>
          <p:cNvPicPr/>
          <p:nvPr/>
        </p:nvPicPr>
        <p:blipFill>
          <a:blip r:embed="rId1"/>
          <a:stretch/>
        </p:blipFill>
        <p:spPr>
          <a:xfrm>
            <a:off x="941400" y="1130400"/>
            <a:ext cx="4896000" cy="4620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171840" y="1130400"/>
            <a:ext cx="518148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л-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-хонь-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 – гонь-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-лу-ша-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-р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-нес-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-се-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ла-ден-ц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119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Content Placeholder 4" descr=""/>
          <p:cNvPicPr/>
          <p:nvPr/>
        </p:nvPicPr>
        <p:blipFill>
          <a:blip r:embed="rId1"/>
          <a:stretch/>
        </p:blipFill>
        <p:spPr>
          <a:xfrm>
            <a:off x="1274760" y="2092320"/>
            <a:ext cx="3611520" cy="361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652720" y="657360"/>
            <a:ext cx="57006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л_т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_сне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_р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_кар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_ч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_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_льц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_сё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_г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_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669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Content Placeholder 4" descr=""/>
          <p:cNvPicPr/>
          <p:nvPr/>
        </p:nvPicPr>
        <p:blipFill>
          <a:blip r:embed="rId1"/>
          <a:stretch/>
        </p:blipFill>
        <p:spPr>
          <a:xfrm>
            <a:off x="1687680" y="1822320"/>
            <a:ext cx="3355920" cy="419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171840" y="760320"/>
            <a:ext cx="518148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_ех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_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ст_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_ез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_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веч_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_ём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_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_единя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0779120" y="5816520"/>
            <a:ext cx="887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3:04:07Z</dcterms:created>
  <dc:creator>Иван Соловьев</dc:creator>
  <dc:description/>
  <dc:language>en-US</dc:language>
  <cp:lastModifiedBy>ivans</cp:lastModifiedBy>
  <dcterms:modified xsi:type="dcterms:W3CDTF">2014-01-24T20:05:28Z</dcterms:modified>
  <cp:revision>20</cp:revision>
  <dc:subject/>
  <dc:title>PowerPoint Presentation</dc:title>
</cp:coreProperties>
</file>