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7D2-21AB-4ED6-A021-810F768B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247-CC98-464B-AE29-41F75DC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478-7FC6-4EAC-AE26-19EC622D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257-A232-468C-BC9B-B1DB118A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772-0627-429C-8C76-144F69A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295-3026-4D82-BD72-7169314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E0B-3C7A-425A-BAEC-7BB48399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FC8-A5B9-4389-95C2-34726BA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603-E639-4171-AE3C-05148FC2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C26-EDF7-4FD7-A223-59D65F2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138-2C9D-4D6A-8C16-4F0A6367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9E0-53C9-4A6B-9E43-75DBAED5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011-C952-4BA5-A781-72CC2A28D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91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2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2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ди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цикл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ен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2:44:32Z</dcterms:modified>
  <cp:revision>17</cp:revision>
  <dc:subject/>
  <dc:title>Слайд 1</dc:title>
</cp:coreProperties>
</file>