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978-990F-4CC7-882C-94AFA7C0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97E-79FD-4917-B943-939D4127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114-CEF1-4B04-92DA-5D24F411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0D9-C957-4D73-892F-A8B2E0B6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12C-E715-4585-885C-CE1244A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022-327E-48FE-8399-AFC1C04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176-C1D9-4B07-B5E9-5DBE9D1E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B9D-3BFD-4BD1-8EB4-1689F12C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BD2-E3FE-42A2-8184-7587A018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CAC-BE0A-4918-9B01-DFCF6B1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FD4-7F9E-4757-BB14-50013265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325-422F-491C-9AB1-9BCDB15C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0853-B78D-4B09-B8F1-4BB3F940E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8000" y="1197000"/>
          <a:ext cx="8928000" cy="537372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24000"/>
                <a:gridCol w="1295280"/>
              </a:tblGrid>
              <a:tr h="791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форму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-клату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8000" y="1197000"/>
          <a:ext cx="8928000" cy="537372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24000"/>
                <a:gridCol w="1295280"/>
              </a:tblGrid>
              <a:tr h="727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форму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-клату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8000" y="1197000"/>
          <a:ext cx="8928000" cy="5373720"/>
        </p:xfrm>
        <a:graphic>
          <a:graphicData uri="http://schemas.openxmlformats.org/drawingml/2006/table">
            <a:tbl>
              <a:tblPr/>
              <a:tblGrid>
                <a:gridCol w="1292040"/>
                <a:gridCol w="1227240"/>
                <a:gridCol w="1297080"/>
                <a:gridCol w="1295280"/>
                <a:gridCol w="1297080"/>
                <a:gridCol w="1224000"/>
                <a:gridCol w="1295280"/>
              </a:tblGrid>
              <a:tr h="727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а-ди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икло-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форму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n – </a:t>
                      </a:r>
                      <a:r>
                        <a:rPr b="1" lang="ru-RU" sz="2400" spc="-1" strike="noStrike" baseline="-25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≥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-клату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ди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цикл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 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енз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ибриди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20:45Z</dcterms:created>
  <dc:creator>User</dc:creator>
  <dc:description/>
  <dc:language>en-US</dc:language>
  <cp:lastModifiedBy>USER</cp:lastModifiedBy>
  <dcterms:modified xsi:type="dcterms:W3CDTF">2014-01-25T12:44:32Z</dcterms:modified>
  <cp:revision>17</cp:revision>
  <dc:subject/>
  <dc:title>Слайд 1</dc:title>
</cp:coreProperties>
</file>