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C63-4B5E-4D96-AA5C-2B910333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BA4-CF37-4A73-8DA7-762A4B8C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838-2B45-4665-AEBE-F6C4ADC3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9DA-A305-4C27-8B11-F2ED90F7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ADB7-D191-4932-8B12-C8A6FF25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8356-ED62-4779-99BC-E6D3FF28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E785-0802-42E4-AF33-7592248A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049-C5FD-41AA-8E74-9B156DC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1EBD-9115-4E9D-8B25-D9C8CA3C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F8F8-8B7D-4E9C-8630-AF6E74AA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5DD7-1FB3-4FD4-BC2B-AE3C7EF4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C53-40EF-4B45-879F-6BD7AE10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580-7EEC-445C-B12A-F1B75D62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1FB2-EC22-438C-812F-3295A64F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520F-5E5C-4925-A0ED-1E580FB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A60F-5598-4E91-8E82-DA9B4288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9CD8-5418-4C01-B3B4-FF92CF47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C37-01D5-4EC4-AEFF-8EC54AD6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20E-0FCE-4219-A434-9FD9556D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E42-518A-477C-B1EE-8FF01B43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277-D2AF-40A3-A47E-05705B70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BED-36F5-48B3-940D-3F3AF65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EF3-0BB2-478A-A71A-8DF457AE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DA2-D474-45CF-8138-07ADF34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8C3E-41E4-486C-8176-57F9BB846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D:\фоны и шаблоны\93e9c2ceda63.jpg"/>
          <p:cNvPicPr/>
          <p:nvPr/>
        </p:nvPicPr>
        <p:blipFill>
          <a:blip r:embed="rId2"/>
          <a:srcRect l="0" t="0" r="85939" b="0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D:\фоны и шаблоны\93e9c2ceda63.jpg"/>
          <p:cNvPicPr/>
          <p:nvPr/>
        </p:nvPicPr>
        <p:blipFill>
          <a:blip r:embed="rId2"/>
          <a:srcRect l="0" t="0" r="85939" b="0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фоны и шаблоны\93e9c2ceda6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142-29A9-46EB-BA13-B9FF1514F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Педсове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анорама деятельности классного руково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ема само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071720"/>
                <a:gridCol w="7072200"/>
                <a:gridCol w="1000080"/>
              </a:tblGrid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оровьесберегающие подходы к организации УВ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ЗОЖ и профилактика вредных привы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ание сознательной дисциплины   на уроках и во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у учащихся чувства коллективизма, дружбы, доб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заимосотрудничество: семья-родители-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творческих способностей учащихся во внеклассной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5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индивидуальности ребенка как предмет воспитатель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ховно-нравственное воспитание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лочение классного коллектива, организация его жизнедеятельности, создание комфортных условий пребывания учащихся в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ректировка индивидуального пути развития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е воспитание – основа духовного развития человека, профориентация старшекласс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85920" y="428400"/>
            <a:ext cx="7858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Игра как средство воспитания, обучения и развития личност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Повышение духовно-нравственного воспитания учащихся как результат использования краеведческого материала во внеурочной деятельности» «Привлечение родителей к совместной активной деятельности по воспитанию и развитию детей для развития культурной педагогической сред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Формирования у учащихся здорового образа жизн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Самостоятельная работа учащихся как средство развитие познавательных интересов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рганизация совместной деятельности родителей и детей как средство расширения поля позитивного общения в семье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Экологическое воспитание учащихся как путь к возрождению национального самосознания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рганизация совместной деятельности между родителями и классным руководителем для воспитания нравственной личности подрост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Использование этических бесед и диалогов как средство повышения духовно-нравственного воспитания учащихся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рганизация совместной деятельности педколлектива, родителей и учащихся по достижению максимальных результатов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лияние духовно-нравственного воспитания на формирование дружеских отношений в коллектив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рганизация совместной деятельности педколлектива, родителей и учащихся по достижению максимальных результатов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Формы и методы работы с родителями с целью усиления педагогического воздействия на ребенк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заимоотношение детей и родителей для развития личности школьника» «Успешное учение как средство соцреабилитации и профилактики дивиантного поведения детей состоящих на ВШ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ПРАКТИКУ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85920" y="1599840"/>
            <a:ext cx="7858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овать классным руководителям использовать в своей работе эффективные методы воспит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ческую тему увязывать с текущей воспитательной рабо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ьную работу проводить в сис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ие отчеты, доклады, презентации о своей деятельности подготовить для публичного отчета на школьный сай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АМООБРАЗ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бразование – это система умственного и мировоззренческого самовоспитания, влекущая за собой волевое и нравственное само-усовершенствование, но не ставящая их своей целью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Г.М.Коджаспир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лан самообразования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85920" y="1599840"/>
            <a:ext cx="7858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чень литературы, которую планируется изучи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самообразова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ок завершения работ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агаемые результаты (подготовка доклада, выступление на заседании МО, описание опыта работы, оформление результатов в виде творческого отчета и т.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этап – установочный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усматривает создание определенного настроя на самостоятельную работ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ор цели работы, исходя из анализа деятельности классного руководителя и психолого-педагогической характеристики классного коллектива, также из анализа деятельности классного коллектива за прошедший учебный го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улирование личной индивидуальной темы, согласно проблемам классного коллектива, осмысление последовательности свои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28840" y="2428920"/>
            <a:ext cx="74721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ПРАКТИКУ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этап – обучающ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 котором педагог знакомится с психолого-педагогической и методической литературой по выбранной проблеме воспитания классного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этап – практичес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о время которого происходит накопление педагогических фактов, их отбор и анализ, проверка новых методов работы, постановка экспериментов. Практическая работа продолжает сопровождаться изучением литера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этап – теоретическое осмысление, анализ и обобщение накопленных педагогических фак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анном этапе целесообразно организовать коллективное обсуждение прочитанной педагогической литературы; творческие отчеты о ходе самообразования на заседаниях МО или кафедры, на районных МО; посещение с обсуждением открытых классных часов и КТД, внеклассных мероприятий по теме самообразования и другие коллективные формы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этап – итогово-контроль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котором классный руководитель должен подвести итоги своей самостоятельной работы, обобщить наблюдения, оформить результаты. При этом главным является описание проведенной с классным коллективом работы, установленных фактов, достижений классного коллектива, их анализ, теоретическое обоснование результатов, формулирование общих выводов и определение перспектив в дальнейшей работе с классным коллектив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дом</cp:lastModifiedBy>
  <dcterms:modified xsi:type="dcterms:W3CDTF">2013-12-20T19:18:48Z</dcterms:modified>
  <cp:revision>5</cp:revision>
  <dc:subject/>
  <dc:title>Слайд 1</dc:title>
</cp:coreProperties>
</file>