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86B7-A1EF-4F76-B901-19A55BA9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4161-84BD-48F3-90D1-AE039E3D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5762-855E-425C-A27E-C419FC3C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AABB-012B-43F0-BE39-5E207EE7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1F3E-F9B4-41C0-B39A-A9B871A7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589D-3DBB-40A4-A1D4-B8F61FB5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B8A5-16DA-4362-AB03-24C040B5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D96E-FADB-49BD-9A14-67FD6F37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424D-545F-40E2-85F3-4D95FF34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121E-0272-4F53-9701-8A01C7DF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A4F4-FF4C-4C27-B501-8B4951F2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C467-13BA-4B24-885B-DEF01919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587E-89EB-42FB-B04E-FEF3FA24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8DFB-B8B6-4F0E-907C-98A3D882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5AA5-67D0-4273-A158-267679EC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AFFD-6513-4CA4-9A59-DF94F192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E353-DF4F-49A7-B024-5DA7F873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3772-0F37-49F3-99B5-949D64EC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145C-EA13-4C93-8FA9-B2676D34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D65F-FE68-46B8-87B7-78A1A5D1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52D7-1BBB-43EF-ABEF-1230941B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BA46-714C-41DD-AA7A-BCB554F6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19F6-ABC6-46C3-84F9-0F4C4B37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3C61-C84E-4007-BE13-A4190D24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FF0A-F2D9-4F31-BCB6-F0FDD3F4B6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" descr="D:\фоны и шаблоны\93e9c2ceda63.jpg"/>
          <p:cNvPicPr/>
          <p:nvPr/>
        </p:nvPicPr>
        <p:blipFill>
          <a:blip r:embed="rId2"/>
          <a:srcRect l="0" t="0" r="85939" b="0"/>
          <a:stretch/>
        </p:blipFill>
        <p:spPr>
          <a:xfrm>
            <a:off x="0" y="0"/>
            <a:ext cx="12859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D:\фоны и шаблоны\93e9c2ceda63.jpg"/>
          <p:cNvPicPr/>
          <p:nvPr/>
        </p:nvPicPr>
        <p:blipFill>
          <a:blip r:embed="rId2"/>
          <a:srcRect l="0" t="0" r="85939" b="0"/>
          <a:stretch/>
        </p:blipFill>
        <p:spPr>
          <a:xfrm>
            <a:off x="0" y="0"/>
            <a:ext cx="12859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D:\фоны и шаблоны\93e9c2ceda6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CFDA-E7AA-4AB6-8E93-355D3749C9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Calibri"/>
              </a:rPr>
              <a:t>Педсовет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анорама деятельности классного руковод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ема самообра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071720"/>
                <a:gridCol w="7072200"/>
                <a:gridCol w="1000080"/>
              </a:tblGrid>
              <a:tr h="460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04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доровьесберегающие подходы к организации УВ проце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0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ирование ЗОЖ и профилактика вредных привыч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38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спитание сознательной дисциплины   на уроках и во внеуроч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04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витие у учащихся чувства коллективизма, дружбы, доб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04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заимосотрудничество: семья-родители-шко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8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витие творческих способностей учащихся во внеклассной рабо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56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витие индивидуальности ребенка как предмет воспитатель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0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уховно-нравственное воспитание уча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38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лочение классного коллектива, организация его жизнедеятельности, создание комфортных условий пребывания учащихся в клас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04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рректировка индивидуального пути развития реб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38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равственное воспитание – основа духовного развития человека, профориентация старшекласс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285920" y="428400"/>
            <a:ext cx="78580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Игра как средство воспитания, обучения и развития личност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Повышение духовно-нравственного воспитания учащихся как результат использования краеведческого материала во внеурочной деятельности» «Привлечение родителей к совместной активной деятельности по воспитанию и развитию детей для развития культурной педагогической среды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Формирования у учащихся здорового образа жизн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Самостоятельная работа учащихся как средство развитие познавательных интересов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Организация совместной деятельности родителей и детей как средство расширения поля позитивного общения в семье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Экологическое воспитание учащихся как путь к возрождению национального самосознания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Организация совместной деятельности между родителями и классным руководителем для воспитания нравственной личности подростк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Использование этических бесед и диалогов как средство повышения духовно-нравственного воспитания учащихся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Организация совместной деятельности педколлектива, родителей и учащихся по достижению максимальных результатов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Влияние духовно-нравственного воспитания на формирование дружеских отношений в коллективе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Организация совместной деятельности педколлектива, родителей и учащихся по достижению максимальных результатов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Формы и методы работы с родителями с целью усиления педагогического воздействия на ребенка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«Взаимоотношение детей и родителей для развития личности школьника» «Успешное учение как средство соцреабилитации и профилактики дивиантного поведения детей состоящих на ВШ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Calibri"/>
              </a:rPr>
              <a:t>ПРАКТИКУМ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85920" y="1599840"/>
            <a:ext cx="7858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омендовать классным руководителям использовать в своей работе эффективные методы воспит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одическую тему увязывать с текущей воспитательной работ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итательную работу проводить в систе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рческие отчеты, доклады, презентации о своей деятельности подготовить для публичного отчета на школьный сай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САМООБРАЗ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образование – это система умственного и мировоззренческого самовоспитания, влекущая за собой волевое и нравственное само-усовершенствование, но не ставящая их своей целью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Г.М.Коджаспиров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972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лан самообразования учите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85920" y="1599840"/>
            <a:ext cx="7858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чень литературы, которую планируется изучить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ы самообразования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ок завершения работы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полагаемые результаты (подготовка доклада, выступление на заседании МО, описание опыта работы, оформление результатов в виде творческого отчета и т.д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Этапы самообраз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3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этап – установочный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усматривает создание определенного настроя на самостоятельную работу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бор цели работы, исходя из анализа деятельности классного руководителя и психолого-педагогической характеристики классного коллектива, также из анализа деятельности классного коллектива за прошедший учебный год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улирование личной индивидуальной темы, согласно проблемам классного коллектива, осмысление последовательности своих действ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Этапы самообраз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428840" y="2428920"/>
            <a:ext cx="747216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Calibri"/>
              </a:rPr>
              <a:t>ПРАКТИКУМ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Этапы самообраз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357200" y="1600200"/>
            <a:ext cx="73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 этап – обучающ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 котором педагог знакомится с психолого-педагогической и методической литературой по выбранной проблеме воспитания классного коллекти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Этапы самообраз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57200" y="1600200"/>
            <a:ext cx="73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 этап – практическ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во время которого происходит накопление педагогических фактов, их отбор и анализ, проверка новых методов работы, постановка экспериментов. Практическая работа продолжает сопровождаться изучением литерату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Этапы самообраз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57200" y="1600200"/>
            <a:ext cx="73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 этап – теоретическое осмысление, анализ и обобщение накопленных педагогических факт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данном этапе целесообразно организовать коллективное обсуждение прочитанной педагогической литературы; творческие отчеты о ходе самообразования на заседаниях МО или кафедры, на районных МО; посещение с обсуждением открытых классных часов и КТД, внеклассных мероприятий по теме самообразования и другие коллективные формы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Этапы самообраз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 этап – итогово-контрольн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котором классный руководитель должен подвести итоги своей самостоятельной работы, обобщить наблюдения, оформить результаты. При этом главным является описание проведенной с классным коллективом работы, установленных фактов, достижений классного коллектива, их анализ, теоретическое обоснование результатов, формулирование общих выводов и определение перспектив в дальнейшей работе с классным коллектив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7:33:40Z</dcterms:created>
  <dc:creator>Helen</dc:creator>
  <dc:description/>
  <dc:language>en-US</dc:language>
  <cp:lastModifiedBy>дом</cp:lastModifiedBy>
  <dcterms:modified xsi:type="dcterms:W3CDTF">2013-12-20T19:18:48Z</dcterms:modified>
  <cp:revision>5</cp:revision>
  <dc:subject/>
  <dc:title>Слайд 1</dc:title>
</cp:coreProperties>
</file>