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C20-267C-44DE-9036-26C1E6E8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9A7-29FB-4ACC-80B7-DB44A6E8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DD9-E1BD-478B-91DB-90232C1B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70D-B5FC-45BA-86B7-AC187CDE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5E269-82BE-435F-96A1-D8647D52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5CA89-55E5-485E-B550-33EE77C4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80855-D5A0-466C-8DDD-7546F1C5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DFFD2-E8CA-4A45-932E-D93EACC3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DB677-1EE3-4FDD-B3EC-06335832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BA365-F1D3-4B0B-878E-7347E860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A7654-9290-4873-9063-1E087C3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58B-C27D-4A16-B09E-12EB0535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E906B-87D5-45E6-95A9-F48DF84C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B3111-FD0E-4620-9F73-B5885EA3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C2128-3C20-4A5A-AACA-652EE149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0DAE8-78AE-42C2-BB06-C9780B52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54BC7-0A65-40E7-8822-4FBA8CE2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3E7-53F0-4CDD-9416-A79C7184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1CD-C95A-4C3F-B57B-85F775B4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4B4-4157-439B-8DE1-33C422DB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C8A-63D3-4C2E-80BC-7828242B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A67-0642-4063-8433-963868BC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1E4-BF1A-4795-85D8-7542A5F2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B99-1328-4FEC-B2C6-7D6FDA7F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A176-72E0-4841-B62D-93E7A2076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7FF7-7E71-4135-AE20-66CD0E678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ahoma"/>
              </a:rPr>
              <a:t>Переходные и непереходные</a:t>
            </a:r>
            <a:br>
              <a:rPr sz="5400"/>
            </a:br>
            <a:r>
              <a:rPr b="0" lang="en-US" sz="5400" spc="-1" strike="noStrike">
                <a:solidFill>
                  <a:srgbClr val="ff33cc"/>
                </a:solidFill>
                <a:latin typeface="Tahoma"/>
              </a:rPr>
              <a:t>глагол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55640" y="981000"/>
            <a:ext cx="72025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Благодарю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cc"/>
                </a:solidFill>
                <a:uFillTx/>
                <a:latin typeface="Tahoma"/>
              </a:rPr>
              <a:t>План характеристики части реч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7200" y="2127240"/>
            <a:ext cx="792972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ее значение. Вопро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льная фор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рфологические призна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тоянны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постоян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интаксическая р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пробуем рассказать о глагол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Много раз случалось ей на гону 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ahoma"/>
              </a:rPr>
              <a:t>поймать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зайца. Часто вовсе голодная, она не позволяла себе 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ahoma"/>
              </a:rPr>
              <a:t>есть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 его. Она 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ahoma"/>
              </a:rPr>
              <a:t>брала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 зайца в зубы и тащила домой. Хозяин 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ahoma"/>
              </a:rPr>
              <a:t>любил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 ее, кормил и берег от вол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ишите подчеркнут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лаголы вме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теми словами, которые 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ясняют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4033800" cy="3168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Пойма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 кого?)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зайц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 сущ. Вин.пад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Е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кого?)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ег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местоим. Вин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Бра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кого?)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зайц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сущ. Вин.пад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Люби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кого?)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ег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местоим. Вин.пад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4000" spc="-1" strike="noStrike">
                <a:solidFill>
                  <a:srgbClr val="ff33cc"/>
                </a:solidFill>
                <a:latin typeface="Tahoma"/>
              </a:rPr>
              <a:t>п</a:t>
            </a:r>
            <a:r>
              <a:rPr b="0" i="1" lang="ru-RU" sz="4000" spc="-1" strike="noStrike" u="sng">
                <a:solidFill>
                  <a:srgbClr val="ff33cc"/>
                </a:solidFill>
                <a:uFillTx/>
                <a:latin typeface="Tahoma"/>
              </a:rPr>
              <a:t>ереходн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лагол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306864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cc"/>
                </a:solidFill>
                <a:uFillTx/>
                <a:latin typeface="Tahoma"/>
              </a:rPr>
              <a:t>Переходные глаголы –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то такие глаголы, которые сочетаются или могут сочетаться с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существительными, местоимениям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числительным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винительном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адеже без предлог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1.Спишите, расставляя пропущенные знаки препинания и буквы.</a:t>
            </a:r>
            <a:br>
              <a:rPr sz="3200"/>
            </a:b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2.Определите, переходные или непереходные глаго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ша выучился у от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ать деревя …ую посу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ч…нки шайки лох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бывает на всех собрания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рает ся понять общест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 …ые заботы и ,наверн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-то смекает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987640" cy="3816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13000" y="25066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н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3019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06360" y="45561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н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ahoma"/>
              </a:rPr>
              <a:t>Переходные или непереходные глаголы в этих предложениях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тя вст..вала далеко д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 …ца, в предрассветный ча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хворостинкой в руке выг..ня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а свое любимое стадо и к..ти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сь обратно в избу. Она ра..топ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яла печь, чистила к..ртошку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 хл..потала до но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959440" y="1773360"/>
            <a:ext cx="3184560" cy="424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14640" y="2284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496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л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0440" y="3317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30840" y="3832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4842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44880" y="43354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01680" y="5359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ahoma"/>
              </a:rPr>
              <a:t>Проверим себ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глаголы называются переходны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определить, переходный или непереходный глаго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ведите примеры переходных и непереходных глаго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99"/>
                </a:solidFill>
                <a:latin typeface="Tahoma"/>
              </a:rPr>
              <a:t>М о л о д ц ы 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ahoma"/>
              </a:rPr>
              <a:t>Автор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Катае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Еле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Леонид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0:29:08Z</dcterms:created>
  <dc:creator>Computer-6</dc:creator>
  <dc:description/>
  <dc:language>en-US</dc:language>
  <cp:lastModifiedBy>User</cp:lastModifiedBy>
  <dcterms:modified xsi:type="dcterms:W3CDTF">2014-01-25T08:50:25Z</dcterms:modified>
  <cp:revision>13</cp:revision>
  <dc:subject/>
  <dc:title>Переходные и непереходные глаголы</dc:title>
</cp:coreProperties>
</file>