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06D7-ABEB-40B6-BB33-D233AAB01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8AAA-E9B8-49EB-9D3D-03A3A5D80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030D-0274-4BF9-95AC-96F6D3A34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43D4-48CE-4F40-897F-7ED01555A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E6E127-F8A1-4391-9A8E-F7398B88C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F3CD74-76FB-4C5A-9E4F-8545AA321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B6FCAC-F8C6-4081-8FF4-E3177D567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7ED908-CFE2-467F-A977-01E8F6076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AFE8F9-1785-4056-8D41-CB90316AC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7E5442-5143-47A9-B90E-E60BE3384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8D9CAB-D6A7-4532-898F-50C5DF2DF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9565-5957-4860-B4B0-785E12C59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0FF0E4-D533-48DA-9474-A1AD5569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CC7B13-2676-4636-AB53-17963D96A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CAB3D3-DC6F-49E3-ACC5-147B1ABF9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132E4F-120F-4E10-A485-AB0696BF7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D733DC-FB9D-40BA-85D7-608D8E52D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E2DD-BBBA-4CE2-8158-1E3F09D9A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F141-93DF-4AD5-B0DD-F34610ED0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940F-5260-4153-86AF-C763D7B9E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A193-EC11-4B41-A33A-B1313781B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2264-FA27-4317-AE82-73191736F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B5C7-4E2B-42FD-9F1E-A334B26FB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F8A3-368E-4015-8762-BCD5382E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1A719-5547-4992-9068-710EDDD46A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CDD6C-0BAD-4D58-864E-B16F32E35A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cc"/>
                </a:solidFill>
                <a:latin typeface="Tahoma"/>
              </a:rPr>
              <a:t>Переходные и непереходные</a:t>
            </a:r>
            <a:br>
              <a:rPr sz="5400"/>
            </a:br>
            <a:r>
              <a:rPr b="0" lang="en-US" sz="5400" spc="-1" strike="noStrike">
                <a:solidFill>
                  <a:srgbClr val="ff33cc"/>
                </a:solidFill>
                <a:latin typeface="Tahoma"/>
              </a:rPr>
              <a:t>глаголы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755640" y="981000"/>
            <a:ext cx="7202520" cy="453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21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Arial"/>
              </a:rPr>
              <a:t>Благодарю за внимани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Arial"/>
              <a:ea typeface="Arial"/>
            </a:endParaRPr>
          </a:p>
        </p:txBody>
      </p:sp>
    </p:spTree>
  </p:cSld>
  <p:transition>
    <p:circle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33cc"/>
                </a:solidFill>
                <a:uFillTx/>
                <a:latin typeface="Tahoma"/>
              </a:rPr>
              <a:t>План характеристики части реч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47200" y="2127240"/>
            <a:ext cx="7929720" cy="38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бщее значение. Вопро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чальная форм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Морфологические признак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остоянные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епостоянны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интаксическая рол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пробуем рассказать о глагол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ircl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3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3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3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3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3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3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300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250920" y="404640"/>
            <a:ext cx="842472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2800" spc="-1" strike="noStrike">
                <a:solidFill>
                  <a:srgbClr val="00cc99"/>
                </a:solidFill>
                <a:latin typeface="Tahoma"/>
              </a:rPr>
              <a:t>Много раз случалось ей на гону </a:t>
            </a:r>
            <a:r>
              <a:rPr b="0" lang="en-US" sz="2800" spc="-1" strike="noStrike" u="sng">
                <a:solidFill>
                  <a:srgbClr val="00cc99"/>
                </a:solidFill>
                <a:uFillTx/>
                <a:latin typeface="Tahoma"/>
              </a:rPr>
              <a:t>поймать </a:t>
            </a:r>
            <a:r>
              <a:rPr b="0" lang="en-US" sz="2800" spc="-1" strike="noStrike">
                <a:solidFill>
                  <a:srgbClr val="00cc99"/>
                </a:solidFill>
                <a:latin typeface="Tahoma"/>
              </a:rPr>
              <a:t>зайца. Часто вовсе голодная, она не позволяла себе </a:t>
            </a:r>
            <a:r>
              <a:rPr b="0" lang="en-US" sz="2800" spc="-1" strike="noStrike" u="sng">
                <a:solidFill>
                  <a:srgbClr val="00cc99"/>
                </a:solidFill>
                <a:uFillTx/>
                <a:latin typeface="Tahoma"/>
              </a:rPr>
              <a:t>есть</a:t>
            </a:r>
            <a:r>
              <a:rPr b="0" lang="en-US" sz="2800" spc="-1" strike="noStrike">
                <a:solidFill>
                  <a:srgbClr val="00cc99"/>
                </a:solidFill>
                <a:latin typeface="Tahoma"/>
              </a:rPr>
              <a:t> его. Она </a:t>
            </a:r>
            <a:r>
              <a:rPr b="0" lang="en-US" sz="2800" spc="-1" strike="noStrike" u="sng">
                <a:solidFill>
                  <a:srgbClr val="00cc99"/>
                </a:solidFill>
                <a:uFillTx/>
                <a:latin typeface="Tahoma"/>
              </a:rPr>
              <a:t>брала</a:t>
            </a:r>
            <a:r>
              <a:rPr b="0" lang="en-US" sz="2800" spc="-1" strike="noStrike">
                <a:solidFill>
                  <a:srgbClr val="00cc99"/>
                </a:solidFill>
                <a:latin typeface="Tahoma"/>
              </a:rPr>
              <a:t> зайца в зубы и тащила домой. Хозяин </a:t>
            </a:r>
            <a:r>
              <a:rPr b="0" lang="en-US" sz="2800" spc="-1" strike="noStrike" u="sng">
                <a:solidFill>
                  <a:srgbClr val="00cc99"/>
                </a:solidFill>
                <a:uFillTx/>
                <a:latin typeface="Tahoma"/>
              </a:rPr>
              <a:t>любил</a:t>
            </a:r>
            <a:r>
              <a:rPr b="0" lang="en-US" sz="2800" spc="-1" strike="noStrike">
                <a:solidFill>
                  <a:srgbClr val="00cc99"/>
                </a:solidFill>
                <a:latin typeface="Tahoma"/>
              </a:rPr>
              <a:t> ее, кормил и берег от волк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ыпишите подчеркнуты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глаголы вмест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 теми словами, которые и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оясняют.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859280" y="3213000"/>
            <a:ext cx="4033800" cy="31687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00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2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0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2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8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2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20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40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20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6000"/>
                            </p:stCondLst>
                            <p:childTnLst>
                              <p:par>
                                <p:cTn id="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2000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0"/>
                            </p:stCondLst>
                            <p:childTnLst>
                              <p:par>
                                <p:cTn id="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2000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ccc"/>
                </a:solidFill>
                <a:latin typeface="Tahoma"/>
              </a:rPr>
              <a:t>Поймать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( кого?) 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зайца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 сущ. Вин.пад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ccc"/>
                </a:solidFill>
                <a:latin typeface="Tahoma"/>
              </a:rPr>
              <a:t>Есть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(кого?) 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его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(местоим. Вин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ccc"/>
                </a:solidFill>
                <a:latin typeface="Tahoma"/>
              </a:rPr>
              <a:t>Брал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(кого?) 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зайц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(сущ. Вин.пад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ccc"/>
                </a:solidFill>
                <a:latin typeface="Tahoma"/>
              </a:rPr>
              <a:t>Любил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(кого?) 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его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(местоим. Вин.пад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ru-RU" sz="4000" spc="-1" strike="noStrike">
                <a:solidFill>
                  <a:srgbClr val="ff33cc"/>
                </a:solidFill>
                <a:latin typeface="Tahoma"/>
              </a:rPr>
              <a:t>п</a:t>
            </a:r>
            <a:r>
              <a:rPr b="0" i="1" lang="ru-RU" sz="4000" spc="-1" strike="noStrike" u="sng">
                <a:solidFill>
                  <a:srgbClr val="ff33cc"/>
                </a:solidFill>
                <a:uFillTx/>
                <a:latin typeface="Tahoma"/>
              </a:rPr>
              <a:t>ереходны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глагол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1619280" y="3068640"/>
            <a:ext cx="287280" cy="647640"/>
          </a:xfrm>
          <a:prstGeom prst="downArrow">
            <a:avLst>
              <a:gd name="adj1" fmla="val 50000"/>
              <a:gd name="adj2" fmla="val 5636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10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33cc"/>
                </a:solidFill>
                <a:uFillTx/>
                <a:latin typeface="Tahoma"/>
              </a:rPr>
              <a:t>Переходные глаголы –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это такие глаголы, которые сочетаются или могут сочетаться с </a:t>
            </a: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существительными, местоимениями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числительными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винительном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падеже без предлога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ircl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1.Спишите, расставляя пропущенные знаки препинания и буквы.</a:t>
            </a:r>
            <a:br>
              <a:rPr sz="3200"/>
            </a:b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2.Определите, переходные или непереходные глагол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итраша выучился у отц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лать деревя …ую посуд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оч…нки шайки лохан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н бывает на всех собраниях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арает ся понять общест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е …ые заботы и ,наверно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то-то смекает.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940360" y="2421000"/>
            <a:ext cx="2987640" cy="38163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213000" y="25066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н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76360" y="30193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06360" y="455616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н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Tahoma"/>
              </a:rPr>
              <a:t>Переходные или непереходные глаголы в этих предложениях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8920" y="227664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стя вст..вала далеко д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 …ца, в предрассветный час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 хворостинкой в руке выг..нял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на свое любимое стадо и к..ти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ась обратно в избу. Она ра..топ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яла печь, чистила к..ртошку 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ак хл..потала до ноч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5959440" y="1773360"/>
            <a:ext cx="3184560" cy="42494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114640" y="22845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4960" y="2781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л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00440" y="331776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830840" y="38322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35280" y="48420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44880" y="433548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01680" y="53593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ahoma"/>
              </a:rPr>
              <a:t>Проверим себя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кие глаголы называются переходным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к определить, переходный или непереходный глагол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иведите примеры переходных и непереходных глагол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3399"/>
                </a:solidFill>
                <a:latin typeface="Tahoma"/>
              </a:rPr>
              <a:t>М о л о д ц ы 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ircl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50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30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50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ahoma"/>
              </a:rPr>
              <a:t>Автор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Катаев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Елена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Леонидовн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ircle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30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5T10:29:08Z</dcterms:created>
  <dc:creator>Computer-6</dc:creator>
  <dc:description/>
  <dc:language>en-US</dc:language>
  <cp:lastModifiedBy>User</cp:lastModifiedBy>
  <dcterms:modified xsi:type="dcterms:W3CDTF">2014-01-25T08:50:25Z</dcterms:modified>
  <cp:revision>13</cp:revision>
  <dc:subject/>
  <dc:title>Переходные и непереходные глаголы</dc:title>
</cp:coreProperties>
</file>