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3043D-0BE0-4793-9113-108272AE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58ED6-C9A4-423F-8B83-BDFFED69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0EB7E-415E-460F-ADB2-5B6E2075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B60D6-9DA9-4C0C-B73A-EF8D316F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8A7B-1771-488B-AAD8-11727CD0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F536-CE07-4907-88E8-414D7C35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0D21-940C-4200-B87C-DA00B050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5C2E-FCA3-4A88-8182-956EE59E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F912-67E2-489C-9CC9-9F88D3D7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8080-A730-43F1-B4E2-13D44F4E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8A15-2966-43FE-9233-8D4DCACC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32F87-35FD-44BE-9C7D-38D18093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5943-597E-47C0-AB69-E29200D3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4DC3-B25D-417C-B8C3-A664FAEB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1118-08D7-47D7-ACD4-1F6A8E24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BD3F-5A2C-4964-8CCE-800BEF18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ED9F-D2F4-450B-BB05-98191B1F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96D46-3104-47AB-9C77-B01B7C93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F2450-870A-42AD-90E9-B3F4600A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4AB18-A385-47B7-A9F9-6434768E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BD80B-F803-46DF-A1BC-AB0A254E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8A563-9098-4909-B730-8D5639A4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19D06-D873-4682-82DD-5C4DC8D7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DA1EF-2C73-4BA9-86EB-DD6973E7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576E-0B0D-4BAD-B819-7855B39FAA2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272E-A601-4422-9281-23DE78467E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340000" y="2492280"/>
            <a:ext cx="6480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6699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пендикулярные</a:t>
            </a:r>
            <a:endParaRPr b="0" lang="en-US" sz="2400" spc="1" strike="noStrike">
              <a:ln w="0">
                <a:noFill/>
              </a:ln>
              <a:solidFill>
                <a:srgbClr val="6699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6699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ямые</a:t>
            </a:r>
            <a:endParaRPr b="0" lang="en-US" sz="2400" spc="1" strike="noStrike">
              <a:ln w="0">
                <a:noFill/>
              </a:ln>
              <a:solidFill>
                <a:srgbClr val="6699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WordArt 5"/>
          <p:cNvSpPr txBox="1"/>
          <p:nvPr/>
        </p:nvSpPr>
        <p:spPr>
          <a:xfrm>
            <a:off x="4572000" y="765000"/>
            <a:ext cx="2685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99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еометрия 7</a:t>
            </a:r>
            <a:endParaRPr b="0" lang="en-US" sz="2400" spc="1" strike="noStrike">
              <a:ln w="0">
                <a:noFill/>
              </a:ln>
              <a:solidFill>
                <a:srgbClr val="9999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3548520" y="4508640"/>
            <a:ext cx="357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Elephant"/>
              </a:rPr>
              <a:t>Автор: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Elephant"/>
              </a:rPr>
              <a:t>Сидорова А.В.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Elephant"/>
              </a:rPr>
              <a:t>Учитель математики 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Elephant"/>
              </a:rPr>
              <a:t>МБОУ СОШ № 31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Elephant"/>
              </a:rPr>
              <a:t>г. Мурманска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я», 7-9 классы, Атанасян Л.С., Бутузов В.Ф., Кадомцев С.Б., Позняк Э.Г., Юдина И.И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-е изд., М.:"Просвещение"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4"/>
          <p:cNvSpPr/>
          <p:nvPr/>
        </p:nvSpPr>
        <p:spPr>
          <a:xfrm>
            <a:off x="1042920" y="4149720"/>
            <a:ext cx="1944720" cy="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10" name="Line 5"/>
          <p:cNvSpPr/>
          <p:nvPr/>
        </p:nvSpPr>
        <p:spPr>
          <a:xfrm flipV="1">
            <a:off x="2987640" y="2997000"/>
            <a:ext cx="1655640" cy="115236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76680" y="4029120"/>
            <a:ext cx="4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Elephant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824200" y="407664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Elephant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492440" y="401796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Elephant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268160" y="2505240"/>
            <a:ext cx="4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Elephant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15" name="Line 10"/>
          <p:cNvSpPr/>
          <p:nvPr/>
        </p:nvSpPr>
        <p:spPr>
          <a:xfrm>
            <a:off x="2987640" y="4149720"/>
            <a:ext cx="1728720" cy="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932360" y="1989000"/>
            <a:ext cx="42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ff"/>
                </a:solidFill>
                <a:latin typeface="Elephant"/>
              </a:rPr>
              <a:t>            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Два угла,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932360" y="2421000"/>
            <a:ext cx="386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у которых одна сторона</a:t>
            </a:r>
            <a:r>
              <a:rPr b="0" lang="ru-RU" sz="1800" spc="-1" strike="noStrike">
                <a:solidFill>
                  <a:srgbClr val="000000"/>
                </a:solidFill>
                <a:latin typeface="Elepha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5682960" y="2770200"/>
            <a:ext cx="14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общая,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4643280" y="321300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Elephant"/>
              </a:rPr>
              <a:t>        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а две другие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  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являются продолжениями 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  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одна другой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4987800" y="4076640"/>
            <a:ext cx="404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Elephant"/>
              </a:rPr>
              <a:t>                 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называются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ff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Elephant"/>
              </a:rPr>
              <a:t>смежными</a:t>
            </a:r>
            <a:r>
              <a:rPr b="0" lang="ru-RU" sz="2800" spc="-1" strike="noStrike">
                <a:solidFill>
                  <a:srgbClr val="9999ff"/>
                </a:solidFill>
                <a:latin typeface="Elephan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808200" y="5405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7"/>
              <p:cNvSpPr txBox="1"/>
              <p:nvPr/>
            </p:nvSpPr>
            <p:spPr>
              <a:xfrm>
                <a:off x="1258920" y="5084640"/>
                <a:ext cx="58291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OC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AO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Text Box 19"/>
          <p:cNvSpPr/>
          <p:nvPr/>
        </p:nvSpPr>
        <p:spPr>
          <a:xfrm>
            <a:off x="879480" y="5937120"/>
            <a:ext cx="7148520" cy="1068840"/>
          </a:xfrm>
          <a:prstGeom prst="rect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Elephant"/>
              </a:rPr>
              <a:t>Сумма смежных углов равна 180˚.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24" name="WordArt 20"/>
          <p:cNvSpPr txBox="1"/>
          <p:nvPr/>
        </p:nvSpPr>
        <p:spPr>
          <a:xfrm>
            <a:off x="826920" y="765000"/>
            <a:ext cx="7777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ежные угл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8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Группа 20"/>
          <p:cNvGrpSpPr/>
          <p:nvPr/>
        </p:nvGrpSpPr>
        <p:grpSpPr>
          <a:xfrm>
            <a:off x="410040" y="1407960"/>
            <a:ext cx="4449240" cy="2370600"/>
            <a:chOff x="410040" y="1407960"/>
            <a:chExt cx="4449240" cy="2370600"/>
          </a:xfrm>
        </p:grpSpPr>
        <p:sp>
          <p:nvSpPr>
            <p:cNvPr id="126" name="Прямая соединительная линия 4"/>
            <p:cNvSpPr/>
            <p:nvPr/>
          </p:nvSpPr>
          <p:spPr>
            <a:xfrm>
              <a:off x="468000" y="3068640"/>
              <a:ext cx="43912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27" name="Прямая соединительная линия 6"/>
            <p:cNvSpPr/>
            <p:nvPr/>
          </p:nvSpPr>
          <p:spPr>
            <a:xfrm flipV="1">
              <a:off x="2556000" y="1699920"/>
              <a:ext cx="1366920" cy="1368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28" name="TextBox 7"/>
            <p:cNvSpPr/>
            <p:nvPr/>
          </p:nvSpPr>
          <p:spPr>
            <a:xfrm>
              <a:off x="410040" y="3089160"/>
              <a:ext cx="46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Elephant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29" name="TextBox 8"/>
            <p:cNvSpPr/>
            <p:nvPr/>
          </p:nvSpPr>
          <p:spPr>
            <a:xfrm>
              <a:off x="4381200" y="30999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30" name="TextBox 9"/>
            <p:cNvSpPr/>
            <p:nvPr/>
          </p:nvSpPr>
          <p:spPr>
            <a:xfrm>
              <a:off x="3279960" y="1407960"/>
              <a:ext cx="43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Elephant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31" name="TextBox 10"/>
            <p:cNvSpPr/>
            <p:nvPr/>
          </p:nvSpPr>
          <p:spPr>
            <a:xfrm>
              <a:off x="2428560" y="3092400"/>
              <a:ext cx="44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Elephant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32" name="Дуга 11"/>
            <p:cNvSpPr/>
            <p:nvPr/>
          </p:nvSpPr>
          <p:spPr>
            <a:xfrm rot="18820200">
              <a:off x="1952640" y="2842560"/>
              <a:ext cx="939960" cy="704880"/>
            </a:xfrm>
            <a:custGeom>
              <a:avLst/>
              <a:gdLst/>
              <a:ahLst/>
              <a:rect l="l" t="t" r="r" b="b"/>
              <a:pathLst>
                <a:path stroke="0" w="939923" h="705023">
                  <a:moveTo>
                    <a:pt x="354280" y="10846"/>
                  </a:moveTo>
                  <a:cubicBezTo>
                    <a:pt x="468290" y="-10872"/>
                    <a:pt x="589014" y="269"/>
                    <a:pt x="692606" y="42069"/>
                  </a:cubicBezTo>
                  <a:cubicBezTo>
                    <a:pt x="844923" y="103530"/>
                    <a:pt x="939923" y="222779"/>
                    <a:pt x="939923" y="352512"/>
                  </a:cubicBezTo>
                  <a:lnTo>
                    <a:pt x="469962" y="352512"/>
                  </a:lnTo>
                  <a:lnTo>
                    <a:pt x="354280" y="10846"/>
                  </a:lnTo>
                  <a:close/>
                </a:path>
                <a:path fill="none" w="939923" h="705023">
                  <a:moveTo>
                    <a:pt x="354280" y="10846"/>
                  </a:moveTo>
                  <a:cubicBezTo>
                    <a:pt x="468290" y="-10872"/>
                    <a:pt x="589014" y="269"/>
                    <a:pt x="692606" y="42069"/>
                  </a:cubicBezTo>
                  <a:cubicBezTo>
                    <a:pt x="844923" y="103530"/>
                    <a:pt x="939923" y="222779"/>
                    <a:pt x="939923" y="35251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33" name="TextBox 12"/>
            <p:cNvSpPr/>
            <p:nvPr/>
          </p:nvSpPr>
          <p:spPr>
            <a:xfrm>
              <a:off x="1663920" y="2319120"/>
              <a:ext cx="99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11⁰</a:t>
              </a:r>
              <a:endParaRPr b="0" lang="en-US" sz="32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34" name="Дуга 13"/>
            <p:cNvSpPr/>
            <p:nvPr/>
          </p:nvSpPr>
          <p:spPr>
            <a:xfrm>
              <a:off x="2574720" y="2874960"/>
              <a:ext cx="358560" cy="360360"/>
            </a:xfrm>
            <a:custGeom>
              <a:avLst/>
              <a:gdLst/>
              <a:ahLst/>
              <a:rect l="l" t="t" r="r" b="b"/>
              <a:pathLst>
                <a:path stroke="0" w="358863" h="360409">
                  <a:moveTo>
                    <a:pt x="179431" y="0"/>
                  </a:moveTo>
                  <a:cubicBezTo>
                    <a:pt x="278529" y="0"/>
                    <a:pt x="358863" y="80681"/>
                    <a:pt x="358863" y="180205"/>
                  </a:cubicBezTo>
                  <a:lnTo>
                    <a:pt x="179432" y="180205"/>
                  </a:lnTo>
                  <a:cubicBezTo>
                    <a:pt x="179432" y="120137"/>
                    <a:pt x="179431" y="60068"/>
                    <a:pt x="179431" y="0"/>
                  </a:cubicBezTo>
                  <a:close/>
                </a:path>
                <a:path fill="none" w="358863" h="360409">
                  <a:moveTo>
                    <a:pt x="179431" y="0"/>
                  </a:moveTo>
                  <a:cubicBezTo>
                    <a:pt x="278529" y="0"/>
                    <a:pt x="358863" y="80681"/>
                    <a:pt x="358863" y="180205"/>
                  </a:cubicBez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35" name="Дуга 14"/>
            <p:cNvSpPr/>
            <p:nvPr/>
          </p:nvSpPr>
          <p:spPr>
            <a:xfrm rot="795000">
              <a:off x="2399760" y="2766600"/>
              <a:ext cx="766800" cy="719280"/>
            </a:xfrm>
            <a:custGeom>
              <a:avLst/>
              <a:gdLst/>
              <a:ahLst/>
              <a:rect l="l" t="t" r="r" b="b"/>
              <a:pathLst>
                <a:path stroke="0" w="766951" h="719231">
                  <a:moveTo>
                    <a:pt x="383475" y="0"/>
                  </a:moveTo>
                  <a:cubicBezTo>
                    <a:pt x="552588" y="0"/>
                    <a:pt x="701737" y="103888"/>
                    <a:pt x="750597" y="255716"/>
                  </a:cubicBezTo>
                  <a:lnTo>
                    <a:pt x="383476" y="359616"/>
                  </a:lnTo>
                  <a:cubicBezTo>
                    <a:pt x="383476" y="239744"/>
                    <a:pt x="383475" y="119872"/>
                    <a:pt x="383475" y="0"/>
                  </a:cubicBezTo>
                  <a:close/>
                </a:path>
                <a:path fill="none" w="766951" h="719231">
                  <a:moveTo>
                    <a:pt x="383475" y="0"/>
                  </a:moveTo>
                  <a:cubicBezTo>
                    <a:pt x="552588" y="0"/>
                    <a:pt x="701737" y="103888"/>
                    <a:pt x="750597" y="255716"/>
                  </a:cubicBez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</p:grpSp>
      <p:sp>
        <p:nvSpPr>
          <p:cNvPr id="136" name="TextBox 15"/>
          <p:cNvSpPr/>
          <p:nvPr/>
        </p:nvSpPr>
        <p:spPr>
          <a:xfrm>
            <a:off x="3125880" y="2508120"/>
            <a:ext cx="3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37" name="WordArt 20"/>
          <p:cNvSpPr txBox="1"/>
          <p:nvPr/>
        </p:nvSpPr>
        <p:spPr>
          <a:xfrm>
            <a:off x="1979640" y="620640"/>
            <a:ext cx="3313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тн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TextBox 18"/>
          <p:cNvSpPr/>
          <p:nvPr/>
        </p:nvSpPr>
        <p:spPr>
          <a:xfrm>
            <a:off x="3040560" y="244620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9⁰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grpSp>
        <p:nvGrpSpPr>
          <p:cNvPr id="139" name="Группа 33"/>
          <p:cNvGrpSpPr/>
          <p:nvPr/>
        </p:nvGrpSpPr>
        <p:grpSpPr>
          <a:xfrm>
            <a:off x="430560" y="4010040"/>
            <a:ext cx="4451040" cy="2370600"/>
            <a:chOff x="430560" y="4010040"/>
            <a:chExt cx="4451040" cy="2370600"/>
          </a:xfrm>
        </p:grpSpPr>
        <p:sp>
          <p:nvSpPr>
            <p:cNvPr id="140" name="Прямая соединительная линия 22"/>
            <p:cNvSpPr/>
            <p:nvPr/>
          </p:nvSpPr>
          <p:spPr>
            <a:xfrm>
              <a:off x="488520" y="5670720"/>
              <a:ext cx="4393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41" name="Прямая соединительная линия 23"/>
            <p:cNvSpPr/>
            <p:nvPr/>
          </p:nvSpPr>
          <p:spPr>
            <a:xfrm flipV="1">
              <a:off x="2576520" y="4302000"/>
              <a:ext cx="1368360" cy="1368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42" name="TextBox 24"/>
            <p:cNvSpPr/>
            <p:nvPr/>
          </p:nvSpPr>
          <p:spPr>
            <a:xfrm>
              <a:off x="430560" y="5691240"/>
              <a:ext cx="46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Elephant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43" name="TextBox 25"/>
            <p:cNvSpPr/>
            <p:nvPr/>
          </p:nvSpPr>
          <p:spPr>
            <a:xfrm>
              <a:off x="4403520" y="57020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44" name="TextBox 26"/>
            <p:cNvSpPr/>
            <p:nvPr/>
          </p:nvSpPr>
          <p:spPr>
            <a:xfrm>
              <a:off x="3301920" y="4010040"/>
              <a:ext cx="43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Elephant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45" name="TextBox 27"/>
            <p:cNvSpPr/>
            <p:nvPr/>
          </p:nvSpPr>
          <p:spPr>
            <a:xfrm>
              <a:off x="2449800" y="5694480"/>
              <a:ext cx="44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Elephant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46" name="Дуга 28"/>
            <p:cNvSpPr/>
            <p:nvPr/>
          </p:nvSpPr>
          <p:spPr>
            <a:xfrm rot="18820200">
              <a:off x="1974960" y="5444640"/>
              <a:ext cx="939960" cy="704880"/>
            </a:xfrm>
            <a:custGeom>
              <a:avLst/>
              <a:gdLst/>
              <a:ahLst/>
              <a:rect l="l" t="t" r="r" b="b"/>
              <a:pathLst>
                <a:path stroke="0" w="939923" h="704772">
                  <a:moveTo>
                    <a:pt x="354319" y="10835"/>
                  </a:moveTo>
                  <a:cubicBezTo>
                    <a:pt x="468295" y="-10861"/>
                    <a:pt x="588978" y="269"/>
                    <a:pt x="692544" y="42029"/>
                  </a:cubicBezTo>
                  <a:cubicBezTo>
                    <a:pt x="844895" y="103460"/>
                    <a:pt x="939923" y="222680"/>
                    <a:pt x="939923" y="352386"/>
                  </a:cubicBezTo>
                  <a:lnTo>
                    <a:pt x="469962" y="352386"/>
                  </a:lnTo>
                  <a:lnTo>
                    <a:pt x="354319" y="10835"/>
                  </a:lnTo>
                  <a:close/>
                </a:path>
                <a:path fill="none" w="939923" h="704772">
                  <a:moveTo>
                    <a:pt x="354319" y="10835"/>
                  </a:moveTo>
                  <a:cubicBezTo>
                    <a:pt x="468295" y="-10861"/>
                    <a:pt x="588978" y="269"/>
                    <a:pt x="692544" y="42029"/>
                  </a:cubicBezTo>
                  <a:cubicBezTo>
                    <a:pt x="844895" y="103460"/>
                    <a:pt x="939923" y="222680"/>
                    <a:pt x="939923" y="35238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47" name="TextBox 29"/>
            <p:cNvSpPr/>
            <p:nvPr/>
          </p:nvSpPr>
          <p:spPr>
            <a:xfrm>
              <a:off x="3076920" y="5148360"/>
              <a:ext cx="77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⁰</a:t>
              </a:r>
              <a:endParaRPr b="0" lang="en-US" sz="32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48" name="Дуга 30"/>
            <p:cNvSpPr/>
            <p:nvPr/>
          </p:nvSpPr>
          <p:spPr>
            <a:xfrm>
              <a:off x="2597040" y="5477040"/>
              <a:ext cx="357120" cy="360360"/>
            </a:xfrm>
            <a:custGeom>
              <a:avLst/>
              <a:gdLst/>
              <a:ahLst/>
              <a:rect l="l" t="t" r="r" b="b"/>
              <a:pathLst>
                <a:path stroke="0" w="357148" h="360410">
                  <a:moveTo>
                    <a:pt x="178574" y="0"/>
                  </a:moveTo>
                  <a:cubicBezTo>
                    <a:pt x="277198" y="0"/>
                    <a:pt x="357148" y="80681"/>
                    <a:pt x="357148" y="180205"/>
                  </a:cubicBezTo>
                  <a:lnTo>
                    <a:pt x="178574" y="180205"/>
                  </a:lnTo>
                  <a:lnTo>
                    <a:pt x="178574" y="0"/>
                  </a:lnTo>
                  <a:close/>
                </a:path>
                <a:path fill="none" w="357148" h="360410">
                  <a:moveTo>
                    <a:pt x="178574" y="0"/>
                  </a:moveTo>
                  <a:cubicBezTo>
                    <a:pt x="277198" y="0"/>
                    <a:pt x="357148" y="80681"/>
                    <a:pt x="357148" y="180205"/>
                  </a:cubicBez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49" name="Дуга 31"/>
            <p:cNvSpPr/>
            <p:nvPr/>
          </p:nvSpPr>
          <p:spPr>
            <a:xfrm rot="795000">
              <a:off x="2420640" y="5368680"/>
              <a:ext cx="768240" cy="719280"/>
            </a:xfrm>
            <a:custGeom>
              <a:avLst/>
              <a:gdLst/>
              <a:ahLst/>
              <a:rect l="l" t="t" r="r" b="b"/>
              <a:pathLst>
                <a:path stroke="0" w="768265" h="719232">
                  <a:moveTo>
                    <a:pt x="384132" y="0"/>
                  </a:moveTo>
                  <a:cubicBezTo>
                    <a:pt x="553468" y="0"/>
                    <a:pt x="702829" y="103807"/>
                    <a:pt x="751830" y="255553"/>
                  </a:cubicBezTo>
                  <a:lnTo>
                    <a:pt x="384133" y="359616"/>
                  </a:lnTo>
                  <a:cubicBezTo>
                    <a:pt x="384133" y="239744"/>
                    <a:pt x="384132" y="119872"/>
                    <a:pt x="384132" y="0"/>
                  </a:cubicBezTo>
                  <a:close/>
                </a:path>
                <a:path fill="none" w="768265" h="719232">
                  <a:moveTo>
                    <a:pt x="384132" y="0"/>
                  </a:moveTo>
                  <a:cubicBezTo>
                    <a:pt x="553468" y="0"/>
                    <a:pt x="702829" y="103807"/>
                    <a:pt x="751830" y="255553"/>
                  </a:cubicBez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</p:grpSp>
      <p:sp>
        <p:nvSpPr>
          <p:cNvPr id="150" name="TextBox 32"/>
          <p:cNvSpPr/>
          <p:nvPr/>
        </p:nvSpPr>
        <p:spPr>
          <a:xfrm>
            <a:off x="2070000" y="4986360"/>
            <a:ext cx="3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51" name="TextBox 34"/>
          <p:cNvSpPr/>
          <p:nvPr/>
        </p:nvSpPr>
        <p:spPr>
          <a:xfrm>
            <a:off x="1635480" y="4849920"/>
            <a:ext cx="99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⁰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611280" y="549360"/>
            <a:ext cx="80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ртикальные угл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395280" y="1844640"/>
            <a:ext cx="1584360" cy="9367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395280" y="2781360"/>
            <a:ext cx="1584360" cy="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1979640" y="2781360"/>
            <a:ext cx="1295280" cy="7081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1979640" y="2781360"/>
            <a:ext cx="1512720" cy="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5580000" y="1557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Два угла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3635280" y="4005360"/>
            <a:ext cx="434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ff"/>
                </a:solidFill>
                <a:latin typeface="Elephant"/>
              </a:rPr>
              <a:t>      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называются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Elephant"/>
              </a:rPr>
              <a:t>       </a:t>
            </a:r>
            <a:r>
              <a:rPr b="0" lang="ru-RU" sz="2800" spc="-1" strike="noStrike">
                <a:solidFill>
                  <a:srgbClr val="ff00ff"/>
                </a:solidFill>
                <a:latin typeface="Elephant"/>
              </a:rPr>
              <a:t>вертикальными</a:t>
            </a:r>
            <a:r>
              <a:rPr b="0" lang="ru-RU" sz="2800" spc="-1" strike="noStrike">
                <a:solidFill>
                  <a:srgbClr val="9999ff"/>
                </a:solidFill>
                <a:latin typeface="Elephant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1619280" y="479736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если стороны одного угла являются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продолжениями сторон другого.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971640" y="2276640"/>
            <a:ext cx="2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Elephant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1827000" y="2225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Elephan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2547720" y="2708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Elephant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1684080" y="2800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Elephant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21"/>
              <p:cNvSpPr txBox="1"/>
              <p:nvPr/>
            </p:nvSpPr>
            <p:spPr>
              <a:xfrm>
                <a:off x="5435640" y="2060640"/>
                <a:ext cx="2305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и</m:t>
                    </m:r>
                    <m:r>
                      <m:t xml:space="preserve">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3"/>
              <p:cNvSpPr txBox="1"/>
              <p:nvPr/>
            </p:nvSpPr>
            <p:spPr>
              <a:xfrm>
                <a:off x="5435640" y="3141720"/>
                <a:ext cx="23050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и</m:t>
                    </m:r>
                    <m:r>
                      <m:t xml:space="preserve">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Text Box 26"/>
          <p:cNvSpPr/>
          <p:nvPr/>
        </p:nvSpPr>
        <p:spPr>
          <a:xfrm>
            <a:off x="6227640" y="2708280"/>
            <a:ext cx="74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77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77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7" dur="77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9" dur="77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5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9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3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539640" y="404640"/>
            <a:ext cx="8136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ежные и вертикальны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гл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468360" y="2781360"/>
            <a:ext cx="1008000" cy="71424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468360" y="2205000"/>
            <a:ext cx="1008000" cy="57636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747360" y="2441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Elephant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1250640" y="215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Elephan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1827000" y="2441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Elephant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1250640" y="2800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Elephant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74" name="Line 13"/>
          <p:cNvSpPr/>
          <p:nvPr/>
        </p:nvSpPr>
        <p:spPr>
          <a:xfrm>
            <a:off x="1476360" y="2781360"/>
            <a:ext cx="1438200" cy="81288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75" name="Line 15"/>
          <p:cNvSpPr/>
          <p:nvPr/>
        </p:nvSpPr>
        <p:spPr>
          <a:xfrm flipV="1">
            <a:off x="1476360" y="1915920"/>
            <a:ext cx="1222560" cy="86508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6"/>
              <p:cNvSpPr txBox="1"/>
              <p:nvPr/>
            </p:nvSpPr>
            <p:spPr>
              <a:xfrm>
                <a:off x="4211640" y="1989000"/>
                <a:ext cx="720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9"/>
              <p:cNvSpPr txBox="1"/>
              <p:nvPr/>
            </p:nvSpPr>
            <p:spPr>
              <a:xfrm>
                <a:off x="5219640" y="2637000"/>
                <a:ext cx="720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2"/>
              <p:cNvSpPr txBox="1"/>
              <p:nvPr/>
            </p:nvSpPr>
            <p:spPr>
              <a:xfrm>
                <a:off x="7596360" y="2637000"/>
                <a:ext cx="647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Text Box 18"/>
          <p:cNvSpPr/>
          <p:nvPr/>
        </p:nvSpPr>
        <p:spPr>
          <a:xfrm>
            <a:off x="4932360" y="191628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является смежным 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5940360" y="2565360"/>
            <a:ext cx="147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,</a:t>
            </a:r>
            <a:r>
              <a:rPr b="0" lang="ru-RU" sz="2800" spc="-1" strike="noStrike">
                <a:solidFill>
                  <a:srgbClr val="6699ff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так и с 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4064760" y="256536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как с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27"/>
              <p:cNvSpPr txBox="1"/>
              <p:nvPr/>
            </p:nvSpPr>
            <p:spPr>
              <a:xfrm>
                <a:off x="2771640" y="3789360"/>
                <a:ext cx="3095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0"/>
              <p:cNvSpPr txBox="1"/>
              <p:nvPr/>
            </p:nvSpPr>
            <p:spPr>
              <a:xfrm>
                <a:off x="6227640" y="3789360"/>
                <a:ext cx="2916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31"/>
              <p:cNvSpPr txBox="1"/>
              <p:nvPr/>
            </p:nvSpPr>
            <p:spPr>
              <a:xfrm>
                <a:off x="1763640" y="4437000"/>
                <a:ext cx="33130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32"/>
              <p:cNvSpPr txBox="1"/>
              <p:nvPr/>
            </p:nvSpPr>
            <p:spPr>
              <a:xfrm>
                <a:off x="1763640" y="5300640"/>
                <a:ext cx="3240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3"/>
              <p:cNvSpPr txBox="1"/>
              <p:nvPr/>
            </p:nvSpPr>
            <p:spPr>
              <a:xfrm>
                <a:off x="6012000" y="4869000"/>
                <a:ext cx="2016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Text Box 34"/>
          <p:cNvSpPr/>
          <p:nvPr/>
        </p:nvSpPr>
        <p:spPr>
          <a:xfrm>
            <a:off x="3445200" y="3129120"/>
            <a:ext cx="52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По свойству смежных углов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88" name="Text Box 35"/>
          <p:cNvSpPr/>
          <p:nvPr/>
        </p:nvSpPr>
        <p:spPr>
          <a:xfrm>
            <a:off x="5915520" y="367344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89" name="Text Box 36"/>
          <p:cNvSpPr/>
          <p:nvPr/>
        </p:nvSpPr>
        <p:spPr>
          <a:xfrm>
            <a:off x="8230680" y="255276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ff"/>
                </a:solidFill>
                <a:latin typeface="Elephan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90" name="Text Box 37"/>
          <p:cNvSpPr/>
          <p:nvPr/>
        </p:nvSpPr>
        <p:spPr>
          <a:xfrm>
            <a:off x="8373600" y="370512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ff"/>
                </a:solidFill>
                <a:latin typeface="Elephan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91" name="Text Box 38"/>
          <p:cNvSpPr/>
          <p:nvPr/>
        </p:nvSpPr>
        <p:spPr>
          <a:xfrm>
            <a:off x="0" y="4653000"/>
            <a:ext cx="20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Получаем: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92" name="Line 40"/>
          <p:cNvSpPr/>
          <p:nvPr/>
        </p:nvSpPr>
        <p:spPr>
          <a:xfrm>
            <a:off x="5292720" y="4437000"/>
            <a:ext cx="0" cy="144000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93" name="AutoShape 41"/>
          <p:cNvSpPr/>
          <p:nvPr/>
        </p:nvSpPr>
        <p:spPr>
          <a:xfrm>
            <a:off x="5435640" y="494172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94" name="Text Box 43"/>
          <p:cNvSpPr/>
          <p:nvPr/>
        </p:nvSpPr>
        <p:spPr>
          <a:xfrm>
            <a:off x="826920" y="6021360"/>
            <a:ext cx="6264360" cy="1191240"/>
          </a:xfrm>
          <a:prstGeom prst="rect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Elephant"/>
              </a:rPr>
              <a:t>Вертикальные углы равны.</a:t>
            </a:r>
            <a:endParaRPr b="0" lang="en-US" sz="36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0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2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4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0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2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4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0"/>
          <p:cNvSpPr txBox="1"/>
          <p:nvPr/>
        </p:nvSpPr>
        <p:spPr>
          <a:xfrm>
            <a:off x="2556000" y="666720"/>
            <a:ext cx="3313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тн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2122560" y="2622600"/>
            <a:ext cx="2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Elephan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1871640" y="314172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Elephant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1395360" y="277344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Elephant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grpSp>
        <p:nvGrpSpPr>
          <p:cNvPr id="199" name="Группа 20"/>
          <p:cNvGrpSpPr/>
          <p:nvPr/>
        </p:nvGrpSpPr>
        <p:grpSpPr>
          <a:xfrm>
            <a:off x="347040" y="1628640"/>
            <a:ext cx="3145320" cy="3170160"/>
            <a:chOff x="347040" y="1628640"/>
            <a:chExt cx="3145320" cy="3170160"/>
          </a:xfrm>
        </p:grpSpPr>
        <p:grpSp>
          <p:nvGrpSpPr>
            <p:cNvPr id="200" name="Группа 17"/>
            <p:cNvGrpSpPr/>
            <p:nvPr/>
          </p:nvGrpSpPr>
          <p:grpSpPr>
            <a:xfrm>
              <a:off x="347040" y="1628640"/>
              <a:ext cx="3145320" cy="3170160"/>
              <a:chOff x="347040" y="1628640"/>
              <a:chExt cx="3145320" cy="3170160"/>
            </a:xfrm>
          </p:grpSpPr>
          <p:sp>
            <p:nvSpPr>
              <p:cNvPr id="201" name="Прямая соединительная линия 9"/>
              <p:cNvSpPr/>
              <p:nvPr/>
            </p:nvSpPr>
            <p:spPr>
              <a:xfrm>
                <a:off x="755640" y="1773000"/>
                <a:ext cx="2736720" cy="27370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202" name="Прямая соединительная линия 11"/>
              <p:cNvSpPr/>
              <p:nvPr/>
            </p:nvSpPr>
            <p:spPr>
              <a:xfrm flipH="1">
                <a:off x="1332000" y="1628640"/>
                <a:ext cx="1079280" cy="30258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203" name="TextBox 15"/>
              <p:cNvSpPr/>
              <p:nvPr/>
            </p:nvSpPr>
            <p:spPr>
              <a:xfrm>
                <a:off x="347040" y="16286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</a:t>
                </a:r>
                <a:endParaRPr b="0" lang="en-US" sz="32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204" name="TextBox 16"/>
              <p:cNvSpPr/>
              <p:nvPr/>
            </p:nvSpPr>
            <p:spPr>
              <a:xfrm>
                <a:off x="889200" y="42174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</p:grpSp>
        <p:sp>
          <p:nvSpPr>
            <p:cNvPr id="205" name="Дуга 18"/>
            <p:cNvSpPr/>
            <p:nvPr/>
          </p:nvSpPr>
          <p:spPr>
            <a:xfrm rot="19298400">
              <a:off x="1439280" y="2590200"/>
              <a:ext cx="720720" cy="366480"/>
            </a:xfrm>
            <a:custGeom>
              <a:avLst/>
              <a:gdLst/>
              <a:ahLst/>
              <a:rect l="l" t="t" r="r" b="b"/>
              <a:pathLst>
                <a:path stroke="0" w="720551" h="366631">
                  <a:moveTo>
                    <a:pt x="275649" y="5129"/>
                  </a:moveTo>
                  <a:cubicBezTo>
                    <a:pt x="340056" y="-2791"/>
                    <a:pt x="407509" y="-1519"/>
                    <a:pt x="470588" y="8804"/>
                  </a:cubicBezTo>
                  <a:cubicBezTo>
                    <a:pt x="619549" y="33182"/>
                    <a:pt x="720552" y="103697"/>
                    <a:pt x="720552" y="183316"/>
                  </a:cubicBezTo>
                  <a:lnTo>
                    <a:pt x="360276" y="183316"/>
                  </a:lnTo>
                  <a:lnTo>
                    <a:pt x="275649" y="5129"/>
                  </a:lnTo>
                  <a:close/>
                </a:path>
                <a:path fill="none" w="720551" h="366631">
                  <a:moveTo>
                    <a:pt x="275649" y="5129"/>
                  </a:moveTo>
                  <a:cubicBezTo>
                    <a:pt x="340056" y="-2791"/>
                    <a:pt x="407509" y="-1519"/>
                    <a:pt x="470588" y="8804"/>
                  </a:cubicBezTo>
                  <a:cubicBezTo>
                    <a:pt x="619549" y="33182"/>
                    <a:pt x="720552" y="103697"/>
                    <a:pt x="720552" y="183316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206" name="TextBox 19"/>
            <p:cNvSpPr/>
            <p:nvPr/>
          </p:nvSpPr>
          <p:spPr>
            <a:xfrm>
              <a:off x="1500840" y="1982520"/>
              <a:ext cx="64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Elephant"/>
                </a:rPr>
                <a:t>36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⁰</a:t>
              </a:r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</p:grpSp>
      <p:sp>
        <p:nvSpPr>
          <p:cNvPr id="207" name="TextBox 21"/>
          <p:cNvSpPr/>
          <p:nvPr/>
        </p:nvSpPr>
        <p:spPr>
          <a:xfrm>
            <a:off x="1766880" y="321624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⁰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08" name="TextBox 22"/>
          <p:cNvSpPr/>
          <p:nvPr/>
        </p:nvSpPr>
        <p:spPr>
          <a:xfrm>
            <a:off x="2062080" y="2692440"/>
            <a:ext cx="8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14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⁰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09" name="TextBox 23"/>
          <p:cNvSpPr/>
          <p:nvPr/>
        </p:nvSpPr>
        <p:spPr>
          <a:xfrm>
            <a:off x="998280" y="2852640"/>
            <a:ext cx="8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14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⁰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Объект 24"/>
              <p:cNvSpPr txBox="1"/>
              <p:nvPr/>
            </p:nvSpPr>
            <p:spPr>
              <a:xfrm>
                <a:off x="4083120" y="1962000"/>
                <a:ext cx="14176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Text Box 16"/>
          <p:cNvSpPr/>
          <p:nvPr/>
        </p:nvSpPr>
        <p:spPr>
          <a:xfrm>
            <a:off x="1751040" y="2212920"/>
            <a:ext cx="2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Elephant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12" name="TextBox 27"/>
          <p:cNvSpPr/>
          <p:nvPr/>
        </p:nvSpPr>
        <p:spPr>
          <a:xfrm>
            <a:off x="5244840" y="1949400"/>
            <a:ext cx="30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Elephant"/>
              </a:rPr>
              <a:t>- вертикальные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Объект 28"/>
              <p:cNvSpPr txBox="1"/>
              <p:nvPr/>
            </p:nvSpPr>
            <p:spPr>
              <a:xfrm>
                <a:off x="3995640" y="2801880"/>
                <a:ext cx="25066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TextBox 29"/>
          <p:cNvSpPr/>
          <p:nvPr/>
        </p:nvSpPr>
        <p:spPr>
          <a:xfrm>
            <a:off x="6340320" y="2781360"/>
            <a:ext cx="20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Elephant"/>
              </a:rPr>
              <a:t>- смежные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Объект 30"/>
              <p:cNvSpPr txBox="1"/>
              <p:nvPr/>
            </p:nvSpPr>
            <p:spPr>
              <a:xfrm>
                <a:off x="4060800" y="3416400"/>
                <a:ext cx="151596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TextBox 31"/>
          <p:cNvSpPr/>
          <p:nvPr/>
        </p:nvSpPr>
        <p:spPr>
          <a:xfrm>
            <a:off x="5493240" y="3392640"/>
            <a:ext cx="30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Elephant"/>
              </a:rPr>
              <a:t>- вертикальные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3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5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7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4"/>
          <p:cNvSpPr txBox="1"/>
          <p:nvPr/>
        </p:nvSpPr>
        <p:spPr>
          <a:xfrm>
            <a:off x="395280" y="404640"/>
            <a:ext cx="8424720" cy="13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пендикулярны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ямы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979640" y="2060640"/>
            <a:ext cx="0" cy="143964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1979640" y="3500280"/>
            <a:ext cx="1800360" cy="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20" name="Line 7"/>
          <p:cNvSpPr/>
          <p:nvPr/>
        </p:nvSpPr>
        <p:spPr>
          <a:xfrm flipH="1">
            <a:off x="323640" y="3500280"/>
            <a:ext cx="1655640" cy="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97964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22" name="Line 9"/>
          <p:cNvSpPr/>
          <p:nvPr/>
        </p:nvSpPr>
        <p:spPr>
          <a:xfrm>
            <a:off x="1979640" y="3500280"/>
            <a:ext cx="0" cy="13687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36880" y="2935440"/>
            <a:ext cx="4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Elephant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1983600" y="1722600"/>
            <a:ext cx="4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Elephant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3288960" y="287352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Elephant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2032560" y="43750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Elephan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1835280" y="3357720"/>
            <a:ext cx="144360" cy="144360"/>
          </a:xfrm>
          <a:prstGeom prst="rect">
            <a:avLst/>
          </a:prstGeom>
          <a:solidFill>
            <a:srgbClr val="ffffff"/>
          </a:solidFill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1540440" y="29955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Elephan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043720" y="29955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Elephan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2043720" y="3500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Elephan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1540440" y="3500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Elephan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3809160" y="1762200"/>
            <a:ext cx="56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ff"/>
                </a:solidFill>
                <a:latin typeface="Elephant"/>
              </a:rPr>
              <a:t>            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Рассмотрим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две пересекающиеся прямые: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Elephant"/>
              </a:rPr>
              <a:t>AC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и </a:t>
            </a:r>
            <a:r>
              <a:rPr b="0" lang="en-US" sz="2400" spc="-1" strike="noStrike">
                <a:solidFill>
                  <a:srgbClr val="00007d"/>
                </a:solidFill>
                <a:latin typeface="Elephant"/>
              </a:rPr>
              <a:t>B</a:t>
            </a:r>
            <a:r>
              <a:rPr b="0" lang="en-US" sz="2800" spc="-1" strike="noStrike">
                <a:solidFill>
                  <a:srgbClr val="00007d"/>
                </a:solidFill>
                <a:latin typeface="Arial Rounded MT Bold"/>
              </a:rPr>
              <a:t>D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21"/>
              <p:cNvSpPr txBox="1"/>
              <p:nvPr/>
            </p:nvSpPr>
            <p:spPr>
              <a:xfrm>
                <a:off x="5508720" y="3213000"/>
                <a:ext cx="792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28"/>
              <p:cNvSpPr txBox="1"/>
              <p:nvPr/>
            </p:nvSpPr>
            <p:spPr>
              <a:xfrm>
                <a:off x="2771640" y="4208400"/>
                <a:ext cx="10796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31"/>
              <p:cNvSpPr txBox="1"/>
              <p:nvPr/>
            </p:nvSpPr>
            <p:spPr>
              <a:xfrm>
                <a:off x="4140360" y="4221000"/>
                <a:ext cx="10080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Text Box 23"/>
          <p:cNvSpPr/>
          <p:nvPr/>
        </p:nvSpPr>
        <p:spPr>
          <a:xfrm>
            <a:off x="6372360" y="3141720"/>
            <a:ext cx="165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- прямой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4716360" y="3789360"/>
            <a:ext cx="338472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38" name="AutoShape 27"/>
          <p:cNvSpPr/>
          <p:nvPr/>
        </p:nvSpPr>
        <p:spPr>
          <a:xfrm>
            <a:off x="6156360" y="3860640"/>
            <a:ext cx="48564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34"/>
              <p:cNvSpPr txBox="1"/>
              <p:nvPr/>
            </p:nvSpPr>
            <p:spPr>
              <a:xfrm>
                <a:off x="5435640" y="4221000"/>
                <a:ext cx="1008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Text Box 37"/>
          <p:cNvSpPr/>
          <p:nvPr/>
        </p:nvSpPr>
        <p:spPr>
          <a:xfrm>
            <a:off x="3926160" y="443700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41" name="Text Box 38"/>
          <p:cNvSpPr/>
          <p:nvPr/>
        </p:nvSpPr>
        <p:spPr>
          <a:xfrm>
            <a:off x="5051880" y="436572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42" name="Text Box 39"/>
          <p:cNvSpPr/>
          <p:nvPr/>
        </p:nvSpPr>
        <p:spPr>
          <a:xfrm>
            <a:off x="6060240" y="436572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- также прямые.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43" name="Text Box 41"/>
          <p:cNvSpPr/>
          <p:nvPr/>
        </p:nvSpPr>
        <p:spPr>
          <a:xfrm>
            <a:off x="-92160" y="4869000"/>
            <a:ext cx="9236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Elephant"/>
              </a:rPr>
              <a:t>                </a:t>
            </a:r>
            <a:r>
              <a:rPr b="0" lang="ru-RU" sz="2800" spc="-1" strike="noStrike">
                <a:solidFill>
                  <a:srgbClr val="ff0000"/>
                </a:solidFill>
                <a:latin typeface="Elephant"/>
              </a:rPr>
              <a:t>Две пересекающиеся прямые называются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99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Elephant"/>
              </a:rPr>
              <a:t>перпендикулярными</a:t>
            </a:r>
            <a:r>
              <a:rPr b="0" lang="ru-RU" sz="2800" spc="-1" strike="noStrike">
                <a:solidFill>
                  <a:srgbClr val="ff6699"/>
                </a:solidFill>
                <a:latin typeface="Elephant"/>
              </a:rPr>
              <a:t> ( </a:t>
            </a:r>
            <a:r>
              <a:rPr b="0" lang="ru-RU" sz="2800" spc="-1" strike="noStrike">
                <a:solidFill>
                  <a:srgbClr val="ff0000"/>
                </a:solidFill>
                <a:latin typeface="Elephant"/>
              </a:rPr>
              <a:t>или взаимно перпендикулярными),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Elephant"/>
              </a:rPr>
              <a:t>          </a:t>
            </a:r>
            <a:r>
              <a:rPr b="0" lang="ru-RU" sz="2800" spc="-1" strike="noStrike">
                <a:solidFill>
                  <a:srgbClr val="ff0000"/>
                </a:solidFill>
                <a:latin typeface="Elephant"/>
              </a:rPr>
              <a:t>если они образуют четыре прямых угла.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44" name="Text Box 42"/>
          <p:cNvSpPr/>
          <p:nvPr/>
        </p:nvSpPr>
        <p:spPr>
          <a:xfrm>
            <a:off x="118728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43"/>
              <p:cNvSpPr txBox="1"/>
              <p:nvPr/>
            </p:nvSpPr>
            <p:spPr>
              <a:xfrm>
                <a:off x="3851280" y="6165720"/>
                <a:ext cx="237636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Text Box 44"/>
          <p:cNvSpPr/>
          <p:nvPr/>
        </p:nvSpPr>
        <p:spPr>
          <a:xfrm>
            <a:off x="1692360" y="6237360"/>
            <a:ext cx="204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Обозначают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77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0" dur="770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2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4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77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4" dur="770" fill="hold"/>
                                        <p:tgtEl>
                                          <p:spTgt spid="2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6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8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7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77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5" dur="770" fill="hold"/>
                                        <p:tgtEl>
                                          <p:spTgt spid="2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7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9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4"/>
          <p:cNvSpPr txBox="1"/>
          <p:nvPr/>
        </p:nvSpPr>
        <p:spPr>
          <a:xfrm>
            <a:off x="250920" y="549360"/>
            <a:ext cx="856908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пендикулярны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ямы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684360" y="3213000"/>
            <a:ext cx="2447640" cy="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49" name="Line 6"/>
          <p:cNvSpPr/>
          <p:nvPr/>
        </p:nvSpPr>
        <p:spPr>
          <a:xfrm flipV="1">
            <a:off x="1332000" y="1989000"/>
            <a:ext cx="0" cy="122400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1332000" y="3213000"/>
            <a:ext cx="0" cy="122400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2124000" y="3213000"/>
            <a:ext cx="0" cy="122400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52" name="Line 9"/>
          <p:cNvSpPr/>
          <p:nvPr/>
        </p:nvSpPr>
        <p:spPr>
          <a:xfrm flipV="1">
            <a:off x="2124000" y="1989000"/>
            <a:ext cx="0" cy="122400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1979640" y="3068640"/>
            <a:ext cx="144360" cy="144360"/>
          </a:xfrm>
          <a:prstGeom prst="rect">
            <a:avLst/>
          </a:prstGeom>
          <a:solidFill>
            <a:srgbClr val="ffffff"/>
          </a:solidFill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1332000" y="3068640"/>
            <a:ext cx="144360" cy="144360"/>
          </a:xfrm>
          <a:prstGeom prst="rect">
            <a:avLst/>
          </a:prstGeom>
          <a:solidFill>
            <a:srgbClr val="ffffff"/>
          </a:solidFill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2849760" y="1773360"/>
            <a:ext cx="6500880" cy="1556280"/>
          </a:xfrm>
          <a:prstGeom prst="rect">
            <a:avLst/>
          </a:prstGeom>
          <a:noFill/>
          <a:ln w="0">
            <a:solidFill>
              <a:srgbClr val="990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Elephant"/>
              </a:rPr>
              <a:t>              </a:t>
            </a:r>
            <a:r>
              <a:rPr b="0" i="1" lang="ru-RU" sz="3200" spc="-1" strike="noStrike">
                <a:solidFill>
                  <a:srgbClr val="ff00ff"/>
                </a:solidFill>
                <a:latin typeface="Elephant"/>
              </a:rPr>
              <a:t>Две прямые,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Elephant"/>
              </a:rPr>
              <a:t> </a:t>
            </a:r>
            <a:r>
              <a:rPr b="0" i="1" lang="ru-RU" sz="3200" spc="-1" strike="noStrike">
                <a:solidFill>
                  <a:srgbClr val="ff00ff"/>
                </a:solidFill>
                <a:latin typeface="Elephant"/>
              </a:rPr>
              <a:t>перпендикулярные к третьей,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Elephant"/>
              </a:rPr>
              <a:t>         </a:t>
            </a:r>
            <a:r>
              <a:rPr b="0" i="1" lang="ru-RU" sz="3200" spc="-1" strike="noStrike">
                <a:solidFill>
                  <a:srgbClr val="ff0000"/>
                </a:solidFill>
                <a:latin typeface="Elephant"/>
              </a:rPr>
              <a:t>не пересекаются.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3059280" y="3573360"/>
            <a:ext cx="5688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Рассмотрим прямые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AA</a:t>
            </a:r>
            <a:r>
              <a:rPr b="0" lang="ru-RU" sz="2800" spc="-1" strike="noStrike" baseline="-25000">
                <a:solidFill>
                  <a:srgbClr val="00007d"/>
                </a:solidFill>
                <a:latin typeface="Elephant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и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BB</a:t>
            </a:r>
            <a:r>
              <a:rPr b="0" lang="ru-RU" sz="2800" spc="-1" strike="noStrike" baseline="-25000">
                <a:solidFill>
                  <a:srgbClr val="00007d"/>
                </a:solidFill>
                <a:latin typeface="Elephant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перпендикулярные к прямой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PQ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1029240" y="1422360"/>
            <a:ext cx="4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Elephant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2035800" y="1425600"/>
            <a:ext cx="4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Elephant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957240" y="4159080"/>
            <a:ext cx="5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Elephant"/>
              </a:rPr>
              <a:t>A</a:t>
            </a:r>
            <a:r>
              <a:rPr b="0" lang="ru-RU" sz="3200" spc="-1" strike="noStrike" baseline="-25000">
                <a:solidFill>
                  <a:srgbClr val="6699ff"/>
                </a:solidFill>
                <a:latin typeface="Elephan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2129040" y="4170240"/>
            <a:ext cx="578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Elephant"/>
              </a:rPr>
              <a:t>B</a:t>
            </a:r>
            <a:r>
              <a:rPr b="0" lang="ru-RU" sz="3200" spc="-1" strike="noStrike" baseline="-25000">
                <a:solidFill>
                  <a:srgbClr val="6699ff"/>
                </a:solidFill>
                <a:latin typeface="Elephan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891720" y="26575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Elephant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2193480" y="265752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Elephant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1332000" y="263700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Elephan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64" name="Text Box 21"/>
          <p:cNvSpPr/>
          <p:nvPr/>
        </p:nvSpPr>
        <p:spPr>
          <a:xfrm>
            <a:off x="1324800" y="32115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Elephan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2223360" y="4386240"/>
            <a:ext cx="797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Перегнём рисунок по прямой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PQ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так,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чтобы верхняя часть рисунка наложилась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на нижнюю.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66" name="Text Box 23"/>
          <p:cNvSpPr/>
          <p:nvPr/>
        </p:nvSpPr>
        <p:spPr>
          <a:xfrm>
            <a:off x="46800" y="551664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Т.к. прямые углы 1 и 2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2195640" y="5484960"/>
            <a:ext cx="6480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Elephant"/>
              </a:rPr>
              <a:t>                               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равны,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то луч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PA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наложится на луч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PA</a:t>
            </a:r>
            <a:r>
              <a:rPr b="0" lang="ru-RU" sz="2800" spc="-1" strike="noStrike" baseline="-25000">
                <a:solidFill>
                  <a:srgbClr val="00007d"/>
                </a:solidFill>
                <a:latin typeface="Elephant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,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а луч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PB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на луч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PB</a:t>
            </a:r>
            <a:r>
              <a:rPr b="0" lang="ru-RU" sz="2800" spc="-1" strike="noStrike" baseline="-25000">
                <a:solidFill>
                  <a:srgbClr val="00007d"/>
                </a:solidFill>
                <a:latin typeface="Elephant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77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1" dur="770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3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5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77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8" dur="77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0" dur="77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2" dur="77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7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23625E-006 L 2.77778E-007 0.17823 E">
                                      <p:cBhvr>
                                        <p:cTn id="1222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7.76699E-007 L -1.66667E-006 0.17314 E">
                                      <p:cBhvr>
                                        <p:cTn id="1224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71059E-007 L -0.00781 0.46139 E">
                                      <p:cBhvr>
                                        <p:cTn id="1226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97596E-006 L 0.00295 0.45677 E">
                                      <p:cBhvr>
                                        <p:cTn id="1228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4"/>
          <p:cNvSpPr txBox="1"/>
          <p:nvPr/>
        </p:nvSpPr>
        <p:spPr>
          <a:xfrm>
            <a:off x="539640" y="620640"/>
            <a:ext cx="8209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пендикулярны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ямы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3059280" y="1989000"/>
            <a:ext cx="59403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Если</a:t>
            </a:r>
            <a:r>
              <a:rPr b="0" lang="ru-RU" sz="2400" spc="-1" strike="noStrike">
                <a:solidFill>
                  <a:srgbClr val="6699ff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Elephant"/>
              </a:rPr>
              <a:t>предположить</a:t>
            </a:r>
            <a:r>
              <a:rPr b="0" lang="ru-RU" sz="2800" spc="-1" strike="noStrike">
                <a:solidFill>
                  <a:srgbClr val="6699ff"/>
                </a:solidFill>
                <a:latin typeface="Elephant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что прямые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AA</a:t>
            </a:r>
            <a:r>
              <a:rPr b="0" lang="ru-RU" sz="2800" spc="-1" strike="noStrike" baseline="-25000">
                <a:solidFill>
                  <a:srgbClr val="00007d"/>
                </a:solidFill>
                <a:latin typeface="Elephant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и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BB</a:t>
            </a:r>
            <a:r>
              <a:rPr b="0" lang="ru-RU" sz="2800" spc="-1" strike="noStrike" baseline="-25000">
                <a:solidFill>
                  <a:srgbClr val="00007d"/>
                </a:solidFill>
                <a:latin typeface="Elephant"/>
              </a:rPr>
              <a:t>1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пересекаются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в точке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 M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70" name="Line 6"/>
          <p:cNvSpPr/>
          <p:nvPr/>
        </p:nvSpPr>
        <p:spPr>
          <a:xfrm>
            <a:off x="539640" y="3645000"/>
            <a:ext cx="259236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71" name="Line 7"/>
          <p:cNvSpPr/>
          <p:nvPr/>
        </p:nvSpPr>
        <p:spPr>
          <a:xfrm flipV="1">
            <a:off x="1187280" y="2205000"/>
            <a:ext cx="0" cy="144000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72" name="Line 8"/>
          <p:cNvSpPr/>
          <p:nvPr/>
        </p:nvSpPr>
        <p:spPr>
          <a:xfrm>
            <a:off x="1187280" y="3645000"/>
            <a:ext cx="0" cy="12967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73" name="Line 9"/>
          <p:cNvSpPr/>
          <p:nvPr/>
        </p:nvSpPr>
        <p:spPr>
          <a:xfrm>
            <a:off x="2195640" y="2205000"/>
            <a:ext cx="0" cy="144000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74" name="Line 10"/>
          <p:cNvSpPr/>
          <p:nvPr/>
        </p:nvSpPr>
        <p:spPr>
          <a:xfrm>
            <a:off x="2195640" y="3645000"/>
            <a:ext cx="0" cy="12967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75" name="Arc 11"/>
          <p:cNvSpPr/>
          <p:nvPr/>
        </p:nvSpPr>
        <p:spPr>
          <a:xfrm>
            <a:off x="1547640" y="1413000"/>
            <a:ext cx="648000" cy="792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6699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76" name="Arc 12"/>
          <p:cNvSpPr/>
          <p:nvPr/>
        </p:nvSpPr>
        <p:spPr>
          <a:xfrm flipH="1">
            <a:off x="1186560" y="1413000"/>
            <a:ext cx="792360" cy="792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6699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77" name="Arc 13"/>
          <p:cNvSpPr/>
          <p:nvPr/>
        </p:nvSpPr>
        <p:spPr>
          <a:xfrm flipH="1" flipV="1">
            <a:off x="1186560" y="4941720"/>
            <a:ext cx="792360" cy="720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6699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78" name="Arc 14"/>
          <p:cNvSpPr/>
          <p:nvPr/>
        </p:nvSpPr>
        <p:spPr>
          <a:xfrm flipV="1">
            <a:off x="1547640" y="4869000"/>
            <a:ext cx="648000" cy="792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6699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79" name="Text Box 15"/>
          <p:cNvSpPr/>
          <p:nvPr/>
        </p:nvSpPr>
        <p:spPr>
          <a:xfrm>
            <a:off x="760680" y="1817640"/>
            <a:ext cx="4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Elephant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80" name="Text Box 16"/>
          <p:cNvSpPr/>
          <p:nvPr/>
        </p:nvSpPr>
        <p:spPr>
          <a:xfrm>
            <a:off x="690480" y="4653000"/>
            <a:ext cx="5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Elephant"/>
              </a:rPr>
              <a:t>A</a:t>
            </a:r>
            <a:r>
              <a:rPr b="0" lang="ru-RU" sz="3200" spc="-1" strike="noStrike" baseline="-25000">
                <a:solidFill>
                  <a:srgbClr val="0000ff"/>
                </a:solidFill>
                <a:latin typeface="Elephan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2251800" y="1854360"/>
            <a:ext cx="4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Elephant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2181600" y="4662360"/>
            <a:ext cx="578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Elephant"/>
              </a:rPr>
              <a:t>B</a:t>
            </a:r>
            <a:r>
              <a:rPr b="0" lang="ru-RU" sz="3200" spc="-1" strike="noStrike" baseline="-25000">
                <a:solidFill>
                  <a:srgbClr val="0000ff"/>
                </a:solidFill>
                <a:latin typeface="Elephan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83" name="Text Box 19"/>
          <p:cNvSpPr/>
          <p:nvPr/>
        </p:nvSpPr>
        <p:spPr>
          <a:xfrm>
            <a:off x="747360" y="31147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Elephant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2266200" y="311472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Elephant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2024280" y="1135080"/>
            <a:ext cx="5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Elephant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86" name="Text Box 22"/>
          <p:cNvSpPr/>
          <p:nvPr/>
        </p:nvSpPr>
        <p:spPr>
          <a:xfrm>
            <a:off x="2117520" y="5516640"/>
            <a:ext cx="692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Elephant"/>
              </a:rPr>
              <a:t>M</a:t>
            </a:r>
            <a:r>
              <a:rPr b="0" lang="ru-RU" sz="3200" spc="-1" strike="noStrike" baseline="-25000">
                <a:solidFill>
                  <a:srgbClr val="0000ff"/>
                </a:solidFill>
                <a:latin typeface="Elephan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3132000" y="3162240"/>
            <a:ext cx="6102360" cy="46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то эта точка наложится на некоторую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           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точку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Elephant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также лежащую на этих прямых.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Следовательно, через точки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M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и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Elephant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проходят две прямые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AA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Elephant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и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 BB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Elephant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564000" y="5157720"/>
            <a:ext cx="50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ff"/>
                </a:solidFill>
                <a:latin typeface="Elephant"/>
              </a:rPr>
              <a:t>Но это невозможно!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ff"/>
                </a:solidFill>
                <a:latin typeface="Elephant"/>
              </a:rPr>
              <a:t>Наше предположение неверно.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179280" y="6165720"/>
            <a:ext cx="86695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ff"/>
                </a:solidFill>
                <a:latin typeface="Elephant"/>
              </a:rPr>
              <a:t>    </a:t>
            </a:r>
            <a:r>
              <a:rPr b="0" lang="ru-RU" sz="3200" spc="-1" strike="noStrike">
                <a:solidFill>
                  <a:srgbClr val="00007d"/>
                </a:solidFill>
                <a:latin typeface="Elephant"/>
              </a:rPr>
              <a:t>Значит,</a:t>
            </a:r>
            <a:r>
              <a:rPr b="0" lang="ru-RU" sz="3200" spc="-1" strike="noStrike">
                <a:solidFill>
                  <a:srgbClr val="6699ff"/>
                </a:solidFill>
                <a:latin typeface="Elephant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Elephant"/>
              </a:rPr>
              <a:t>прямые </a:t>
            </a:r>
            <a:r>
              <a:rPr b="0" lang="en-US" sz="3200" spc="-1" strike="noStrike">
                <a:solidFill>
                  <a:srgbClr val="ff0000"/>
                </a:solidFill>
                <a:latin typeface="Elephant"/>
              </a:rPr>
              <a:t>A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Elephant"/>
              </a:rPr>
              <a:t>1</a:t>
            </a:r>
            <a:r>
              <a:rPr b="0" lang="ru-RU" sz="3200" spc="-1" strike="noStrike">
                <a:solidFill>
                  <a:srgbClr val="ff0000"/>
                </a:solidFill>
                <a:latin typeface="Elephant"/>
              </a:rPr>
              <a:t> и</a:t>
            </a:r>
            <a:r>
              <a:rPr b="0" lang="en-US" sz="3200" spc="-1" strike="noStrike">
                <a:solidFill>
                  <a:srgbClr val="ff0000"/>
                </a:solidFill>
                <a:latin typeface="Elephant"/>
              </a:rPr>
              <a:t> BB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Elephant"/>
              </a:rPr>
              <a:t>1</a:t>
            </a:r>
            <a:r>
              <a:rPr b="0" lang="ru-RU" sz="3200" spc="-1" strike="noStrike">
                <a:solidFill>
                  <a:srgbClr val="ff0000"/>
                </a:solidFill>
                <a:latin typeface="Elephant"/>
              </a:rPr>
              <a:t> не пересекаются.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90" name="Oval 27"/>
          <p:cNvSpPr/>
          <p:nvPr/>
        </p:nvSpPr>
        <p:spPr>
          <a:xfrm>
            <a:off x="1692360" y="5589720"/>
            <a:ext cx="71280" cy="71280"/>
          </a:xfrm>
          <a:prstGeom prst="ellipse">
            <a:avLst/>
          </a:prstGeom>
          <a:solidFill>
            <a:srgbClr val="9999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91" name="Oval 28"/>
          <p:cNvSpPr/>
          <p:nvPr/>
        </p:nvSpPr>
        <p:spPr>
          <a:xfrm>
            <a:off x="1692360" y="1413000"/>
            <a:ext cx="71280" cy="71280"/>
          </a:xfrm>
          <a:prstGeom prst="ellipse">
            <a:avLst/>
          </a:prstGeom>
          <a:solidFill>
            <a:srgbClr val="9999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4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1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77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4" dur="77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6" dur="77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8" dur="77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6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14:23:15Z</dcterms:created>
  <dc:creator>Anna</dc:creator>
  <dc:description/>
  <dc:language>en-US</dc:language>
  <cp:lastModifiedBy>Анна</cp:lastModifiedBy>
  <dcterms:modified xsi:type="dcterms:W3CDTF">2014-01-25T19:34:22Z</dcterms:modified>
  <cp:revision>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