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5737-F266-4CAA-BCE2-DC574684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B2F8-F22C-4075-9251-625C3D85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1640-CF2D-4156-B7EA-2EBD0AAA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D232-53EA-4731-970F-2A21E4E4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ADCC-6D05-45FE-A786-733A5C39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C807-467A-4CD1-94F3-B67A6C7C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23A4-90B7-4610-9EE2-8D4D344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03C9-3C53-49B4-863A-2E868519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F4DB-EBB8-4EA1-98B9-EFF89168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DE93-082B-44B9-B1B9-FAEDE8A6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9A76-A8EB-42C6-9AAD-1D60826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F797-43D7-428A-8994-E79FFCAB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D78A-1034-4E0C-BF90-6256AB3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900C-1339-4093-AE79-4D5DD025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50F7-7C05-4E6C-B196-1289B8EA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A0EB-FE81-405B-AC52-AB784F48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0CBC-8765-429A-92A4-7275136D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251D-59C7-41A6-99E4-EC2C9F80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D386-73DB-4E12-A7CA-C79E3F40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6E02-990E-4CFE-877F-BB7B564C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AD10-A7AA-452F-A0F6-F974EF43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F60D-8C46-4676-AF36-86F7739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5066-0D30-4B80-AAF8-038FA10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776A-9D42-424E-B10F-4BEA9E73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4A82-D261-4407-8AF0-B57CE1803A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8137-676B-4F89-8160-9CBC95B9E4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340000" y="2492280"/>
            <a:ext cx="6480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99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пендикулярные</a:t>
            </a:r>
            <a:endParaRPr b="0" lang="en-US" sz="2400" spc="1" strike="noStrike">
              <a:ln w="0">
                <a:noFill/>
              </a:ln>
              <a:solidFill>
                <a:srgbClr val="6699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99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ямые</a:t>
            </a:r>
            <a:endParaRPr b="0" lang="en-US" sz="2400" spc="1" strike="noStrike">
              <a:ln w="0">
                <a:noFill/>
              </a:ln>
              <a:solidFill>
                <a:srgbClr val="6699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4572000" y="765000"/>
            <a:ext cx="2685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99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ометрия 7</a:t>
            </a:r>
            <a:endParaRPr b="0" lang="en-US" sz="2400" spc="1" strike="noStrike">
              <a:ln w="0">
                <a:noFill/>
              </a:ln>
              <a:solidFill>
                <a:srgbClr val="9999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3548520" y="4508640"/>
            <a:ext cx="357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Сидорова А.В.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МБОУ СОШ № 31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Elephant"/>
              </a:rPr>
              <a:t>г. Мурманск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», 7-9 классы, Атанасян Л.С., Бутузов В.Ф., Кадомцев С.Б., Позняк Э.Г., Юдина И.И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-е изд., М.:"Просвещение"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4"/>
          <p:cNvSpPr/>
          <p:nvPr/>
        </p:nvSpPr>
        <p:spPr>
          <a:xfrm>
            <a:off x="1042920" y="4149720"/>
            <a:ext cx="194472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0" name="Line 5"/>
          <p:cNvSpPr/>
          <p:nvPr/>
        </p:nvSpPr>
        <p:spPr>
          <a:xfrm flipV="1">
            <a:off x="2987640" y="2997000"/>
            <a:ext cx="1655640" cy="11523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76680" y="402912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lephan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824200" y="4076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lephant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492440" y="40179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lephant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268160" y="250524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Elephant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2987640" y="4149720"/>
            <a:ext cx="172872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932360" y="1989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Два угла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932360" y="2421000"/>
            <a:ext cx="386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у которых одна сторона</a:t>
            </a:r>
            <a:r>
              <a:rPr b="0" lang="ru-RU" sz="18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682960" y="27702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общая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643280" y="321300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Elephant"/>
              </a:rPr>
              <a:t>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а две другие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являются продолжениями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одна другой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987800" y="4076640"/>
            <a:ext cx="404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Elephant"/>
              </a:rPr>
              <a:t>     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называ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смежными</a:t>
            </a: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808200" y="540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7"/>
              <p:cNvSpPr txBox="1"/>
              <p:nvPr/>
            </p:nvSpPr>
            <p:spPr>
              <a:xfrm>
                <a:off x="1258920" y="5084640"/>
                <a:ext cx="5829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9"/>
          <p:cNvSpPr/>
          <p:nvPr/>
        </p:nvSpPr>
        <p:spPr>
          <a:xfrm>
            <a:off x="879480" y="5937120"/>
            <a:ext cx="7148520" cy="106884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Elephant"/>
              </a:rPr>
              <a:t>Сумма смежных углов равна 180˚.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24" name="WordArt 20"/>
          <p:cNvSpPr txBox="1"/>
          <p:nvPr/>
        </p:nvSpPr>
        <p:spPr>
          <a:xfrm>
            <a:off x="826920" y="765000"/>
            <a:ext cx="777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угл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Группа 20"/>
          <p:cNvGrpSpPr/>
          <p:nvPr/>
        </p:nvGrpSpPr>
        <p:grpSpPr>
          <a:xfrm>
            <a:off x="410040" y="1407960"/>
            <a:ext cx="4449240" cy="2370600"/>
            <a:chOff x="410040" y="1407960"/>
            <a:chExt cx="4449240" cy="2370600"/>
          </a:xfrm>
        </p:grpSpPr>
        <p:sp>
          <p:nvSpPr>
            <p:cNvPr id="126" name="Прямая соединительная линия 4"/>
            <p:cNvSpPr/>
            <p:nvPr/>
          </p:nvSpPr>
          <p:spPr>
            <a:xfrm>
              <a:off x="468000" y="3068640"/>
              <a:ext cx="43912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27" name="Прямая соединительная линия 6"/>
            <p:cNvSpPr/>
            <p:nvPr/>
          </p:nvSpPr>
          <p:spPr>
            <a:xfrm flipV="1">
              <a:off x="2556000" y="1699920"/>
              <a:ext cx="1366920" cy="1368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28" name="TextBox 7"/>
            <p:cNvSpPr/>
            <p:nvPr/>
          </p:nvSpPr>
          <p:spPr>
            <a:xfrm>
              <a:off x="410040" y="3089160"/>
              <a:ext cx="4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29" name="TextBox 8"/>
            <p:cNvSpPr/>
            <p:nvPr/>
          </p:nvSpPr>
          <p:spPr>
            <a:xfrm>
              <a:off x="4381200" y="3099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0" name="TextBox 9"/>
            <p:cNvSpPr/>
            <p:nvPr/>
          </p:nvSpPr>
          <p:spPr>
            <a:xfrm>
              <a:off x="3279960" y="140796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1" name="TextBox 10"/>
            <p:cNvSpPr/>
            <p:nvPr/>
          </p:nvSpPr>
          <p:spPr>
            <a:xfrm>
              <a:off x="2428560" y="3092400"/>
              <a:ext cx="44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2" name="Дуга 11"/>
            <p:cNvSpPr/>
            <p:nvPr/>
          </p:nvSpPr>
          <p:spPr>
            <a:xfrm rot="18820200">
              <a:off x="1952640" y="2842560"/>
              <a:ext cx="939960" cy="704880"/>
            </a:xfrm>
            <a:custGeom>
              <a:avLst/>
              <a:gdLst/>
              <a:ahLst/>
              <a:rect l="l" t="t" r="r" b="b"/>
              <a:pathLst>
                <a:path stroke="0" w="939923" h="705023">
                  <a:moveTo>
                    <a:pt x="354280" y="10846"/>
                  </a:moveTo>
                  <a:cubicBezTo>
                    <a:pt x="468290" y="-10872"/>
                    <a:pt x="589014" y="269"/>
                    <a:pt x="692606" y="42069"/>
                  </a:cubicBezTo>
                  <a:cubicBezTo>
                    <a:pt x="844923" y="103530"/>
                    <a:pt x="939923" y="222779"/>
                    <a:pt x="939923" y="352512"/>
                  </a:cubicBezTo>
                  <a:lnTo>
                    <a:pt x="469962" y="352512"/>
                  </a:lnTo>
                  <a:lnTo>
                    <a:pt x="354280" y="10846"/>
                  </a:lnTo>
                  <a:close/>
                </a:path>
                <a:path fill="none" w="939923" h="705023">
                  <a:moveTo>
                    <a:pt x="354280" y="10846"/>
                  </a:moveTo>
                  <a:cubicBezTo>
                    <a:pt x="468290" y="-10872"/>
                    <a:pt x="589014" y="269"/>
                    <a:pt x="692606" y="42069"/>
                  </a:cubicBezTo>
                  <a:cubicBezTo>
                    <a:pt x="844923" y="103530"/>
                    <a:pt x="939923" y="222779"/>
                    <a:pt x="939923" y="35251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3" name="TextBox 12"/>
            <p:cNvSpPr/>
            <p:nvPr/>
          </p:nvSpPr>
          <p:spPr>
            <a:xfrm>
              <a:off x="1663920" y="2319120"/>
              <a:ext cx="99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1⁰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4" name="Дуга 13"/>
            <p:cNvSpPr/>
            <p:nvPr/>
          </p:nvSpPr>
          <p:spPr>
            <a:xfrm>
              <a:off x="2574720" y="2874960"/>
              <a:ext cx="358560" cy="360360"/>
            </a:xfrm>
            <a:custGeom>
              <a:avLst/>
              <a:gdLst/>
              <a:ahLst/>
              <a:rect l="l" t="t" r="r" b="b"/>
              <a:pathLst>
                <a:path stroke="0" w="358863" h="360409">
                  <a:moveTo>
                    <a:pt x="179431" y="0"/>
                  </a:moveTo>
                  <a:cubicBezTo>
                    <a:pt x="278529" y="0"/>
                    <a:pt x="358863" y="80681"/>
                    <a:pt x="358863" y="180205"/>
                  </a:cubicBezTo>
                  <a:lnTo>
                    <a:pt x="179432" y="180205"/>
                  </a:lnTo>
                  <a:cubicBezTo>
                    <a:pt x="179432" y="120137"/>
                    <a:pt x="179431" y="60068"/>
                    <a:pt x="179431" y="0"/>
                  </a:cubicBezTo>
                  <a:close/>
                </a:path>
                <a:path fill="none" w="358863" h="360409">
                  <a:moveTo>
                    <a:pt x="179431" y="0"/>
                  </a:moveTo>
                  <a:cubicBezTo>
                    <a:pt x="278529" y="0"/>
                    <a:pt x="358863" y="80681"/>
                    <a:pt x="358863" y="180205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35" name="Дуга 14"/>
            <p:cNvSpPr/>
            <p:nvPr/>
          </p:nvSpPr>
          <p:spPr>
            <a:xfrm rot="795000">
              <a:off x="2399760" y="2766600"/>
              <a:ext cx="766800" cy="719280"/>
            </a:xfrm>
            <a:custGeom>
              <a:avLst/>
              <a:gdLst/>
              <a:ahLst/>
              <a:rect l="l" t="t" r="r" b="b"/>
              <a:pathLst>
                <a:path stroke="0" w="766951" h="719231">
                  <a:moveTo>
                    <a:pt x="383475" y="0"/>
                  </a:moveTo>
                  <a:cubicBezTo>
                    <a:pt x="552588" y="0"/>
                    <a:pt x="701737" y="103888"/>
                    <a:pt x="750597" y="255716"/>
                  </a:cubicBezTo>
                  <a:lnTo>
                    <a:pt x="383476" y="359616"/>
                  </a:lnTo>
                  <a:cubicBezTo>
                    <a:pt x="383476" y="239744"/>
                    <a:pt x="383475" y="119872"/>
                    <a:pt x="383475" y="0"/>
                  </a:cubicBezTo>
                  <a:close/>
                </a:path>
                <a:path fill="none" w="766951" h="719231">
                  <a:moveTo>
                    <a:pt x="383475" y="0"/>
                  </a:moveTo>
                  <a:cubicBezTo>
                    <a:pt x="552588" y="0"/>
                    <a:pt x="701737" y="103888"/>
                    <a:pt x="750597" y="255716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sp>
        <p:nvSpPr>
          <p:cNvPr id="136" name="TextBox 15"/>
          <p:cNvSpPr/>
          <p:nvPr/>
        </p:nvSpPr>
        <p:spPr>
          <a:xfrm>
            <a:off x="3125880" y="250812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37" name="WordArt 20"/>
          <p:cNvSpPr txBox="1"/>
          <p:nvPr/>
        </p:nvSpPr>
        <p:spPr>
          <a:xfrm>
            <a:off x="1979640" y="620640"/>
            <a:ext cx="331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TextBox 18"/>
          <p:cNvSpPr/>
          <p:nvPr/>
        </p:nvSpPr>
        <p:spPr>
          <a:xfrm>
            <a:off x="3040560" y="24462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9⁰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grpSp>
        <p:nvGrpSpPr>
          <p:cNvPr id="139" name="Группа 33"/>
          <p:cNvGrpSpPr/>
          <p:nvPr/>
        </p:nvGrpSpPr>
        <p:grpSpPr>
          <a:xfrm>
            <a:off x="430560" y="4010040"/>
            <a:ext cx="4451040" cy="2370600"/>
            <a:chOff x="430560" y="4010040"/>
            <a:chExt cx="4451040" cy="2370600"/>
          </a:xfrm>
        </p:grpSpPr>
        <p:sp>
          <p:nvSpPr>
            <p:cNvPr id="140" name="Прямая соединительная линия 22"/>
            <p:cNvSpPr/>
            <p:nvPr/>
          </p:nvSpPr>
          <p:spPr>
            <a:xfrm>
              <a:off x="488520" y="5670720"/>
              <a:ext cx="439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1" name="Прямая соединительная линия 23"/>
            <p:cNvSpPr/>
            <p:nvPr/>
          </p:nvSpPr>
          <p:spPr>
            <a:xfrm flipV="1">
              <a:off x="2576520" y="4302000"/>
              <a:ext cx="1368360" cy="1368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2" name="TextBox 24"/>
            <p:cNvSpPr/>
            <p:nvPr/>
          </p:nvSpPr>
          <p:spPr>
            <a:xfrm>
              <a:off x="430560" y="5691240"/>
              <a:ext cx="4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3" name="TextBox 25"/>
            <p:cNvSpPr/>
            <p:nvPr/>
          </p:nvSpPr>
          <p:spPr>
            <a:xfrm>
              <a:off x="4403520" y="5702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4" name="TextBox 26"/>
            <p:cNvSpPr/>
            <p:nvPr/>
          </p:nvSpPr>
          <p:spPr>
            <a:xfrm>
              <a:off x="3301920" y="401004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5" name="TextBox 27"/>
            <p:cNvSpPr/>
            <p:nvPr/>
          </p:nvSpPr>
          <p:spPr>
            <a:xfrm>
              <a:off x="2449800" y="5694480"/>
              <a:ext cx="44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Elephant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6" name="Дуга 28"/>
            <p:cNvSpPr/>
            <p:nvPr/>
          </p:nvSpPr>
          <p:spPr>
            <a:xfrm rot="18820200">
              <a:off x="1974960" y="5444640"/>
              <a:ext cx="939960" cy="704880"/>
            </a:xfrm>
            <a:custGeom>
              <a:avLst/>
              <a:gdLst/>
              <a:ahLst/>
              <a:rect l="l" t="t" r="r" b="b"/>
              <a:pathLst>
                <a:path stroke="0" w="939923" h="704772">
                  <a:moveTo>
                    <a:pt x="354319" y="10835"/>
                  </a:moveTo>
                  <a:cubicBezTo>
                    <a:pt x="468295" y="-10861"/>
                    <a:pt x="588978" y="269"/>
                    <a:pt x="692544" y="42029"/>
                  </a:cubicBezTo>
                  <a:cubicBezTo>
                    <a:pt x="844895" y="103460"/>
                    <a:pt x="939923" y="222680"/>
                    <a:pt x="939923" y="352386"/>
                  </a:cubicBezTo>
                  <a:lnTo>
                    <a:pt x="469962" y="352386"/>
                  </a:lnTo>
                  <a:lnTo>
                    <a:pt x="354319" y="10835"/>
                  </a:lnTo>
                  <a:close/>
                </a:path>
                <a:path fill="none" w="939923" h="704772">
                  <a:moveTo>
                    <a:pt x="354319" y="10835"/>
                  </a:moveTo>
                  <a:cubicBezTo>
                    <a:pt x="468295" y="-10861"/>
                    <a:pt x="588978" y="269"/>
                    <a:pt x="692544" y="42029"/>
                  </a:cubicBezTo>
                  <a:cubicBezTo>
                    <a:pt x="844895" y="103460"/>
                    <a:pt x="939923" y="222680"/>
                    <a:pt x="939923" y="35238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7" name="TextBox 29"/>
            <p:cNvSpPr/>
            <p:nvPr/>
          </p:nvSpPr>
          <p:spPr>
            <a:xfrm>
              <a:off x="3076920" y="5148360"/>
              <a:ext cx="7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⁰</a:t>
              </a:r>
              <a:endParaRPr b="0" lang="en-US" sz="32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8" name="Дуга 30"/>
            <p:cNvSpPr/>
            <p:nvPr/>
          </p:nvSpPr>
          <p:spPr>
            <a:xfrm>
              <a:off x="2597040" y="5477040"/>
              <a:ext cx="357120" cy="360360"/>
            </a:xfrm>
            <a:custGeom>
              <a:avLst/>
              <a:gdLst/>
              <a:ahLst/>
              <a:rect l="l" t="t" r="r" b="b"/>
              <a:pathLst>
                <a:path stroke="0" w="357148" h="360410">
                  <a:moveTo>
                    <a:pt x="178574" y="0"/>
                  </a:moveTo>
                  <a:cubicBezTo>
                    <a:pt x="277198" y="0"/>
                    <a:pt x="357148" y="80681"/>
                    <a:pt x="357148" y="180205"/>
                  </a:cubicBezTo>
                  <a:lnTo>
                    <a:pt x="178574" y="180205"/>
                  </a:lnTo>
                  <a:lnTo>
                    <a:pt x="178574" y="0"/>
                  </a:lnTo>
                  <a:close/>
                </a:path>
                <a:path fill="none" w="357148" h="360410">
                  <a:moveTo>
                    <a:pt x="178574" y="0"/>
                  </a:moveTo>
                  <a:cubicBezTo>
                    <a:pt x="277198" y="0"/>
                    <a:pt x="357148" y="80681"/>
                    <a:pt x="357148" y="180205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149" name="Дуга 31"/>
            <p:cNvSpPr/>
            <p:nvPr/>
          </p:nvSpPr>
          <p:spPr>
            <a:xfrm rot="795000">
              <a:off x="2420640" y="5368680"/>
              <a:ext cx="768240" cy="719280"/>
            </a:xfrm>
            <a:custGeom>
              <a:avLst/>
              <a:gdLst/>
              <a:ahLst/>
              <a:rect l="l" t="t" r="r" b="b"/>
              <a:pathLst>
                <a:path stroke="0" w="768265" h="719232">
                  <a:moveTo>
                    <a:pt x="384132" y="0"/>
                  </a:moveTo>
                  <a:cubicBezTo>
                    <a:pt x="553468" y="0"/>
                    <a:pt x="702829" y="103807"/>
                    <a:pt x="751830" y="255553"/>
                  </a:cubicBezTo>
                  <a:lnTo>
                    <a:pt x="384133" y="359616"/>
                  </a:lnTo>
                  <a:cubicBezTo>
                    <a:pt x="384133" y="239744"/>
                    <a:pt x="384132" y="119872"/>
                    <a:pt x="384132" y="0"/>
                  </a:cubicBezTo>
                  <a:close/>
                </a:path>
                <a:path fill="none" w="768265" h="719232">
                  <a:moveTo>
                    <a:pt x="384132" y="0"/>
                  </a:moveTo>
                  <a:cubicBezTo>
                    <a:pt x="553468" y="0"/>
                    <a:pt x="702829" y="103807"/>
                    <a:pt x="751830" y="255553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sp>
        <p:nvSpPr>
          <p:cNvPr id="150" name="TextBox 32"/>
          <p:cNvSpPr/>
          <p:nvPr/>
        </p:nvSpPr>
        <p:spPr>
          <a:xfrm>
            <a:off x="2070000" y="498636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1635480" y="4849920"/>
            <a:ext cx="9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⁰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611280" y="54936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тикальные угл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95280" y="1844640"/>
            <a:ext cx="1584360" cy="936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395280" y="2781360"/>
            <a:ext cx="158436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1979640" y="2781360"/>
            <a:ext cx="1295280" cy="7081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979640" y="2781360"/>
            <a:ext cx="151272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5580000" y="155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Два угла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3635280" y="4005360"/>
            <a:ext cx="43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называ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       </a:t>
            </a: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вертикальными</a:t>
            </a:r>
            <a:r>
              <a:rPr b="0" lang="ru-RU" sz="2800" spc="-1" strike="noStrike">
                <a:solidFill>
                  <a:srgbClr val="9999ff"/>
                </a:solidFill>
                <a:latin typeface="Elephan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1619280" y="4797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если стороны одного угла явля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родолжениями сторон другого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971640" y="227664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1827000" y="2225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254772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1684080" y="2800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1"/>
              <p:cNvSpPr txBox="1"/>
              <p:nvPr/>
            </p:nvSpPr>
            <p:spPr>
              <a:xfrm>
                <a:off x="5435640" y="2060640"/>
                <a:ext cx="2305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3"/>
              <p:cNvSpPr txBox="1"/>
              <p:nvPr/>
            </p:nvSpPr>
            <p:spPr>
              <a:xfrm>
                <a:off x="5435640" y="3141720"/>
                <a:ext cx="2305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и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Text Box 26"/>
          <p:cNvSpPr/>
          <p:nvPr/>
        </p:nvSpPr>
        <p:spPr>
          <a:xfrm>
            <a:off x="6227640" y="2708280"/>
            <a:ext cx="74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5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539640" y="404640"/>
            <a:ext cx="8136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и вертикальн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л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468360" y="2781360"/>
            <a:ext cx="1008000" cy="714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68360" y="2205000"/>
            <a:ext cx="1008000" cy="5763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47360" y="244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250640" y="215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827000" y="244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250640" y="2800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1476360" y="2781360"/>
            <a:ext cx="1438200" cy="8128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1476360" y="1915920"/>
            <a:ext cx="1222560" cy="8650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6"/>
              <p:cNvSpPr txBox="1"/>
              <p:nvPr/>
            </p:nvSpPr>
            <p:spPr>
              <a:xfrm>
                <a:off x="4211640" y="1989000"/>
                <a:ext cx="720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9"/>
              <p:cNvSpPr txBox="1"/>
              <p:nvPr/>
            </p:nvSpPr>
            <p:spPr>
              <a:xfrm>
                <a:off x="5219640" y="2637000"/>
                <a:ext cx="720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2"/>
              <p:cNvSpPr txBox="1"/>
              <p:nvPr/>
            </p:nvSpPr>
            <p:spPr>
              <a:xfrm>
                <a:off x="7596360" y="2637000"/>
                <a:ext cx="647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18"/>
          <p:cNvSpPr/>
          <p:nvPr/>
        </p:nvSpPr>
        <p:spPr>
          <a:xfrm>
            <a:off x="4932360" y="191628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является смежным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5940360" y="2565360"/>
            <a:ext cx="147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</a:t>
            </a: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ак и с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4064760" y="25653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как с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7"/>
              <p:cNvSpPr txBox="1"/>
              <p:nvPr/>
            </p:nvSpPr>
            <p:spPr>
              <a:xfrm>
                <a:off x="2771640" y="3789360"/>
                <a:ext cx="309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6227640" y="3789360"/>
                <a:ext cx="291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1"/>
              <p:cNvSpPr txBox="1"/>
              <p:nvPr/>
            </p:nvSpPr>
            <p:spPr>
              <a:xfrm>
                <a:off x="1763640" y="4437000"/>
                <a:ext cx="3313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1763640" y="5300640"/>
                <a:ext cx="324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6012000" y="4869000"/>
                <a:ext cx="201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 Box 34"/>
          <p:cNvSpPr/>
          <p:nvPr/>
        </p:nvSpPr>
        <p:spPr>
          <a:xfrm>
            <a:off x="3445200" y="3129120"/>
            <a:ext cx="52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о свойству смежных углов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5915520" y="367344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8230680" y="255276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8373600" y="37051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0" y="465300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олучаем: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5292720" y="4437000"/>
            <a:ext cx="0" cy="1440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3" name="AutoShape 41"/>
          <p:cNvSpPr/>
          <p:nvPr/>
        </p:nvSpPr>
        <p:spPr>
          <a:xfrm>
            <a:off x="5435640" y="494172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4" name="Text Box 43"/>
          <p:cNvSpPr/>
          <p:nvPr/>
        </p:nvSpPr>
        <p:spPr>
          <a:xfrm>
            <a:off x="826920" y="6021360"/>
            <a:ext cx="6264360" cy="119124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Elephant"/>
              </a:rPr>
              <a:t>Вертикальные углы равны.</a:t>
            </a:r>
            <a:endParaRPr b="0" lang="en-US" sz="36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0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0"/>
          <p:cNvSpPr txBox="1"/>
          <p:nvPr/>
        </p:nvSpPr>
        <p:spPr>
          <a:xfrm>
            <a:off x="2556000" y="666720"/>
            <a:ext cx="331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2122560" y="262260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Elephan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871640" y="3141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Elephan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1395360" y="277344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Elephan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grpSp>
        <p:nvGrpSpPr>
          <p:cNvPr id="199" name="Группа 20"/>
          <p:cNvGrpSpPr/>
          <p:nvPr/>
        </p:nvGrpSpPr>
        <p:grpSpPr>
          <a:xfrm>
            <a:off x="347040" y="1628640"/>
            <a:ext cx="3145320" cy="3170160"/>
            <a:chOff x="347040" y="1628640"/>
            <a:chExt cx="3145320" cy="3170160"/>
          </a:xfrm>
        </p:grpSpPr>
        <p:grpSp>
          <p:nvGrpSpPr>
            <p:cNvPr id="200" name="Группа 17"/>
            <p:cNvGrpSpPr/>
            <p:nvPr/>
          </p:nvGrpSpPr>
          <p:grpSpPr>
            <a:xfrm>
              <a:off x="347040" y="1628640"/>
              <a:ext cx="3145320" cy="3170160"/>
              <a:chOff x="347040" y="1628640"/>
              <a:chExt cx="3145320" cy="3170160"/>
            </a:xfrm>
          </p:grpSpPr>
          <p:sp>
            <p:nvSpPr>
              <p:cNvPr id="201" name="Прямая соединительная линия 9"/>
              <p:cNvSpPr/>
              <p:nvPr/>
            </p:nvSpPr>
            <p:spPr>
              <a:xfrm>
                <a:off x="755640" y="1773000"/>
                <a:ext cx="2736720" cy="2737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202" name="Прямая соединительная линия 11"/>
              <p:cNvSpPr/>
              <p:nvPr/>
            </p:nvSpPr>
            <p:spPr>
              <a:xfrm flipH="1">
                <a:off x="1332000" y="1628640"/>
                <a:ext cx="1079280" cy="302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203" name="TextBox 15"/>
              <p:cNvSpPr/>
              <p:nvPr/>
            </p:nvSpPr>
            <p:spPr>
              <a:xfrm>
                <a:off x="347040" y="1628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</a:t>
                </a:r>
                <a:endParaRPr b="0" lang="en-US" sz="32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  <p:sp>
            <p:nvSpPr>
              <p:cNvPr id="204" name="TextBox 16"/>
              <p:cNvSpPr/>
              <p:nvPr/>
            </p:nvSpPr>
            <p:spPr>
              <a:xfrm>
                <a:off x="889200" y="421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Elephant"/>
                </a:endParaRPr>
              </a:p>
            </p:txBody>
          </p:sp>
        </p:grpSp>
        <p:sp>
          <p:nvSpPr>
            <p:cNvPr id="205" name="Дуга 18"/>
            <p:cNvSpPr/>
            <p:nvPr/>
          </p:nvSpPr>
          <p:spPr>
            <a:xfrm rot="19298400">
              <a:off x="1439280" y="2590200"/>
              <a:ext cx="720720" cy="366480"/>
            </a:xfrm>
            <a:custGeom>
              <a:avLst/>
              <a:gdLst/>
              <a:ahLst/>
              <a:rect l="l" t="t" r="r" b="b"/>
              <a:pathLst>
                <a:path stroke="0" w="720551" h="366631">
                  <a:moveTo>
                    <a:pt x="275649" y="5129"/>
                  </a:moveTo>
                  <a:cubicBezTo>
                    <a:pt x="340056" y="-2791"/>
                    <a:pt x="407509" y="-1519"/>
                    <a:pt x="470588" y="8804"/>
                  </a:cubicBezTo>
                  <a:cubicBezTo>
                    <a:pt x="619549" y="33182"/>
                    <a:pt x="720552" y="103697"/>
                    <a:pt x="720552" y="183316"/>
                  </a:cubicBezTo>
                  <a:lnTo>
                    <a:pt x="360276" y="183316"/>
                  </a:lnTo>
                  <a:lnTo>
                    <a:pt x="275649" y="5129"/>
                  </a:lnTo>
                  <a:close/>
                </a:path>
                <a:path fill="none" w="720551" h="366631">
                  <a:moveTo>
                    <a:pt x="275649" y="5129"/>
                  </a:moveTo>
                  <a:cubicBezTo>
                    <a:pt x="340056" y="-2791"/>
                    <a:pt x="407509" y="-1519"/>
                    <a:pt x="470588" y="8804"/>
                  </a:cubicBezTo>
                  <a:cubicBezTo>
                    <a:pt x="619549" y="33182"/>
                    <a:pt x="720552" y="103697"/>
                    <a:pt x="720552" y="183316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1500840" y="1982520"/>
              <a:ext cx="6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lephant"/>
                </a:rPr>
                <a:t>3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⁰</a:t>
              </a:r>
              <a:endParaRPr b="0" lang="en-US" sz="2400" spc="-1" strike="noStrike">
                <a:solidFill>
                  <a:srgbClr val="000000"/>
                </a:solidFill>
                <a:latin typeface="Elephant"/>
              </a:endParaRPr>
            </a:p>
          </p:txBody>
        </p:sp>
      </p:grpSp>
      <p:sp>
        <p:nvSpPr>
          <p:cNvPr id="207" name="TextBox 21"/>
          <p:cNvSpPr/>
          <p:nvPr/>
        </p:nvSpPr>
        <p:spPr>
          <a:xfrm>
            <a:off x="1766880" y="321624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08" name="TextBox 22"/>
          <p:cNvSpPr/>
          <p:nvPr/>
        </p:nvSpPr>
        <p:spPr>
          <a:xfrm>
            <a:off x="2062080" y="269244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14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998280" y="285264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14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Объект 24"/>
              <p:cNvSpPr txBox="1"/>
              <p:nvPr/>
            </p:nvSpPr>
            <p:spPr>
              <a:xfrm>
                <a:off x="4083120" y="1962000"/>
                <a:ext cx="14176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16"/>
          <p:cNvSpPr/>
          <p:nvPr/>
        </p:nvSpPr>
        <p:spPr>
          <a:xfrm>
            <a:off x="1751040" y="221292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ff"/>
                </a:solidFill>
                <a:latin typeface="Elephan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5244840" y="194940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Elephant"/>
              </a:rPr>
              <a:t>- вертикальные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Объект 28"/>
              <p:cNvSpPr txBox="1"/>
              <p:nvPr/>
            </p:nvSpPr>
            <p:spPr>
              <a:xfrm>
                <a:off x="3995640" y="2801880"/>
                <a:ext cx="2506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Box 29"/>
          <p:cNvSpPr/>
          <p:nvPr/>
        </p:nvSpPr>
        <p:spPr>
          <a:xfrm>
            <a:off x="6340320" y="2781360"/>
            <a:ext cx="20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Elephant"/>
              </a:rPr>
              <a:t>- смежные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30"/>
              <p:cNvSpPr txBox="1"/>
              <p:nvPr/>
            </p:nvSpPr>
            <p:spPr>
              <a:xfrm>
                <a:off x="4060800" y="3416400"/>
                <a:ext cx="15159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Box 31"/>
          <p:cNvSpPr/>
          <p:nvPr/>
        </p:nvSpPr>
        <p:spPr>
          <a:xfrm>
            <a:off x="5493240" y="339264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Elephant"/>
              </a:rPr>
              <a:t>- вертикальные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395280" y="404640"/>
            <a:ext cx="842472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пендикулярн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979640" y="2060640"/>
            <a:ext cx="0" cy="14396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1979640" y="3500280"/>
            <a:ext cx="180036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0" name="Line 7"/>
          <p:cNvSpPr/>
          <p:nvPr/>
        </p:nvSpPr>
        <p:spPr>
          <a:xfrm flipH="1">
            <a:off x="323640" y="3500280"/>
            <a:ext cx="165564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97964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1979640" y="3500280"/>
            <a:ext cx="0" cy="1368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36880" y="293544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1983600" y="17226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288960" y="28735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032560" y="43750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1835280" y="3357720"/>
            <a:ext cx="144360" cy="14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1540440" y="2995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Elephan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043720" y="2995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Elephan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04372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Elephan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1540440" y="3500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Elephan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3809160" y="1762200"/>
            <a:ext cx="56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Рассмотрим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две пересекающиеся прямые: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Elephant"/>
              </a:rPr>
              <a:t>AC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 </a:t>
            </a:r>
            <a:r>
              <a:rPr b="0" lang="en-US" sz="2400" spc="-1" strike="noStrike">
                <a:solidFill>
                  <a:srgbClr val="00007d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7d"/>
                </a:solidFill>
                <a:latin typeface="Arial Rounded MT Bold"/>
              </a:rPr>
              <a:t>D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1"/>
              <p:cNvSpPr txBox="1"/>
              <p:nvPr/>
            </p:nvSpPr>
            <p:spPr>
              <a:xfrm>
                <a:off x="5508720" y="3213000"/>
                <a:ext cx="792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8"/>
              <p:cNvSpPr txBox="1"/>
              <p:nvPr/>
            </p:nvSpPr>
            <p:spPr>
              <a:xfrm>
                <a:off x="2771640" y="4208400"/>
                <a:ext cx="1079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1"/>
              <p:cNvSpPr txBox="1"/>
              <p:nvPr/>
            </p:nvSpPr>
            <p:spPr>
              <a:xfrm>
                <a:off x="4140360" y="4221000"/>
                <a:ext cx="1008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Text Box 23"/>
          <p:cNvSpPr/>
          <p:nvPr/>
        </p:nvSpPr>
        <p:spPr>
          <a:xfrm>
            <a:off x="6372360" y="3141720"/>
            <a:ext cx="165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- прямой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4716360" y="3789360"/>
            <a:ext cx="338472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38" name="AutoShape 27"/>
          <p:cNvSpPr/>
          <p:nvPr/>
        </p:nvSpPr>
        <p:spPr>
          <a:xfrm>
            <a:off x="6156360" y="3860640"/>
            <a:ext cx="485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4"/>
              <p:cNvSpPr txBox="1"/>
              <p:nvPr/>
            </p:nvSpPr>
            <p:spPr>
              <a:xfrm>
                <a:off x="5435640" y="4221000"/>
                <a:ext cx="100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 Box 37"/>
          <p:cNvSpPr/>
          <p:nvPr/>
        </p:nvSpPr>
        <p:spPr>
          <a:xfrm>
            <a:off x="3926160" y="4437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5051880" y="436572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6060240" y="436572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- также прямые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-92160" y="4869000"/>
            <a:ext cx="923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lephant"/>
              </a:rPr>
              <a:t>                </a:t>
            </a:r>
            <a:r>
              <a:rPr b="0" lang="ru-RU" sz="2800" spc="-1" strike="noStrike">
                <a:solidFill>
                  <a:srgbClr val="ff0000"/>
                </a:solidFill>
                <a:latin typeface="Elephant"/>
              </a:rPr>
              <a:t>Две пересекающиеся прямые называ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99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перпендикулярными</a:t>
            </a:r>
            <a:r>
              <a:rPr b="0" lang="ru-RU" sz="2800" spc="-1" strike="noStrike">
                <a:solidFill>
                  <a:srgbClr val="ff6699"/>
                </a:solidFill>
                <a:latin typeface="Elephant"/>
              </a:rPr>
              <a:t> ( </a:t>
            </a:r>
            <a:r>
              <a:rPr b="0" lang="ru-RU" sz="2800" spc="-1" strike="noStrike">
                <a:solidFill>
                  <a:srgbClr val="ff0000"/>
                </a:solidFill>
                <a:latin typeface="Elephant"/>
              </a:rPr>
              <a:t>или взаимно перпендикулярными)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Elephant"/>
              </a:rPr>
              <a:t>          </a:t>
            </a:r>
            <a:r>
              <a:rPr b="0" lang="ru-RU" sz="2800" spc="-1" strike="noStrike">
                <a:solidFill>
                  <a:srgbClr val="ff0000"/>
                </a:solidFill>
                <a:latin typeface="Elephant"/>
              </a:rPr>
              <a:t>если они образуют четыре прямых угла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4" name="Text Box 42"/>
          <p:cNvSpPr/>
          <p:nvPr/>
        </p:nvSpPr>
        <p:spPr>
          <a:xfrm>
            <a:off x="118728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3"/>
              <p:cNvSpPr txBox="1"/>
              <p:nvPr/>
            </p:nvSpPr>
            <p:spPr>
              <a:xfrm>
                <a:off x="3851280" y="6165720"/>
                <a:ext cx="23763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Text Box 44"/>
          <p:cNvSpPr/>
          <p:nvPr/>
        </p:nvSpPr>
        <p:spPr>
          <a:xfrm>
            <a:off x="1692360" y="6237360"/>
            <a:ext cx="204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Обозначают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4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6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8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250920" y="549360"/>
            <a:ext cx="856908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пендикулярн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684360" y="3213000"/>
            <a:ext cx="244764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49" name="Line 6"/>
          <p:cNvSpPr/>
          <p:nvPr/>
        </p:nvSpPr>
        <p:spPr>
          <a:xfrm flipV="1">
            <a:off x="1332000" y="1989000"/>
            <a:ext cx="0" cy="1224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332000" y="3213000"/>
            <a:ext cx="0" cy="1224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2124000" y="3213000"/>
            <a:ext cx="0" cy="1224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2" name="Line 9"/>
          <p:cNvSpPr/>
          <p:nvPr/>
        </p:nvSpPr>
        <p:spPr>
          <a:xfrm flipV="1">
            <a:off x="2124000" y="1989000"/>
            <a:ext cx="0" cy="1224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1979640" y="3068640"/>
            <a:ext cx="144360" cy="14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32000" y="3068640"/>
            <a:ext cx="144360" cy="14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2849760" y="1773360"/>
            <a:ext cx="6500880" cy="1556280"/>
          </a:xfrm>
          <a:prstGeom prst="rect">
            <a:avLst/>
          </a:prstGeom>
          <a:noFill/>
          <a:ln w="0">
            <a:solidFill>
              <a:srgbClr val="990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              </a:t>
            </a: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Две прямые,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 </a:t>
            </a: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перпендикулярные к третьей,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Elephant"/>
              </a:rPr>
              <a:t>         </a:t>
            </a:r>
            <a:r>
              <a:rPr b="0" i="1" lang="ru-RU" sz="3200" spc="-1" strike="noStrike">
                <a:solidFill>
                  <a:srgbClr val="ff0000"/>
                </a:solidFill>
                <a:latin typeface="Elephant"/>
              </a:rPr>
              <a:t>не пересекаются.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059280" y="3573360"/>
            <a:ext cx="5688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Рассмотрим прямые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AA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BB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ерпендикулярные к прямой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Q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1029240" y="142236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2035800" y="14256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957240" y="4159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A</a:t>
            </a:r>
            <a:r>
              <a:rPr b="0" lang="ru-RU" sz="3200" spc="-1" strike="noStrike" baseline="-25000">
                <a:solidFill>
                  <a:srgbClr val="6699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129040" y="4170240"/>
            <a:ext cx="57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B</a:t>
            </a:r>
            <a:r>
              <a:rPr b="0" lang="ru-RU" sz="3200" spc="-1" strike="noStrike" baseline="-25000">
                <a:solidFill>
                  <a:srgbClr val="6699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891720" y="26575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2193480" y="265752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Elephant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1332000" y="2637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Elephan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1324800" y="32115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Elephan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2223360" y="4386240"/>
            <a:ext cx="797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ерегнём рисунок по прямой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Q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так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чтобы верхняя часть рисунка наложилась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на нижнюю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46800" y="551664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.к. прямые углы 1 и 2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195640" y="5484960"/>
            <a:ext cx="6480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Elephant"/>
              </a:rPr>
              <a:t>                   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равны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о луч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A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наложится на луч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A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а луч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B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на луч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PB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0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77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4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6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3625E-006 L 2.77778E-007 0.17823 E">
                                      <p:cBhvr>
                                        <p:cTn id="1214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76699E-007 L -1.66667E-006 0.17314 E">
                                      <p:cBhvr>
                                        <p:cTn id="1216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71059E-007 L -0.00781 0.46139 E">
                                      <p:cBhvr>
                                        <p:cTn id="121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97596E-006 L 0.00295 0.45677 E">
                                      <p:cBhvr>
                                        <p:cTn id="1220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4"/>
          <p:cNvSpPr txBox="1"/>
          <p:nvPr/>
        </p:nvSpPr>
        <p:spPr>
          <a:xfrm>
            <a:off x="539640" y="620640"/>
            <a:ext cx="8209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пендикулярн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ы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3059280" y="1989000"/>
            <a:ext cx="59403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Если</a:t>
            </a:r>
            <a:r>
              <a:rPr b="0" lang="ru-RU" sz="2400" spc="-1" strike="noStrike">
                <a:solidFill>
                  <a:srgbClr val="6699ff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Elephant"/>
              </a:rPr>
              <a:t>предположить</a:t>
            </a:r>
            <a:r>
              <a:rPr b="0" lang="ru-RU" sz="2800" spc="-1" strike="noStrike">
                <a:solidFill>
                  <a:srgbClr val="6699ff"/>
                </a:solidFill>
                <a:latin typeface="Elephant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что прямые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AA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BB</a:t>
            </a:r>
            <a:r>
              <a:rPr b="0" lang="ru-RU" sz="2800" spc="-1" strike="noStrike" baseline="-25000">
                <a:solidFill>
                  <a:srgbClr val="00007d"/>
                </a:solidFill>
                <a:latin typeface="Elephant"/>
              </a:rPr>
              <a:t>1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ересекаются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в точке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M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39640" y="3645000"/>
            <a:ext cx="25923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1" name="Line 7"/>
          <p:cNvSpPr/>
          <p:nvPr/>
        </p:nvSpPr>
        <p:spPr>
          <a:xfrm flipV="1">
            <a:off x="1187280" y="2205000"/>
            <a:ext cx="0" cy="1440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1187280" y="3645000"/>
            <a:ext cx="0" cy="1296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2195640" y="2205000"/>
            <a:ext cx="0" cy="14400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4" name="Line 10"/>
          <p:cNvSpPr/>
          <p:nvPr/>
        </p:nvSpPr>
        <p:spPr>
          <a:xfrm>
            <a:off x="2195640" y="3645000"/>
            <a:ext cx="0" cy="1296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5" name="Arc 11"/>
          <p:cNvSpPr/>
          <p:nvPr/>
        </p:nvSpPr>
        <p:spPr>
          <a:xfrm>
            <a:off x="1547640" y="1413000"/>
            <a:ext cx="648000" cy="79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66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6" name="Arc 12"/>
          <p:cNvSpPr/>
          <p:nvPr/>
        </p:nvSpPr>
        <p:spPr>
          <a:xfrm flipH="1">
            <a:off x="1186560" y="1413000"/>
            <a:ext cx="792360" cy="79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66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7" name="Arc 13"/>
          <p:cNvSpPr/>
          <p:nvPr/>
        </p:nvSpPr>
        <p:spPr>
          <a:xfrm flipH="1" flipV="1">
            <a:off x="1186560" y="4941720"/>
            <a:ext cx="792360" cy="72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66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8" name="Arc 14"/>
          <p:cNvSpPr/>
          <p:nvPr/>
        </p:nvSpPr>
        <p:spPr>
          <a:xfrm flipV="1">
            <a:off x="1547640" y="4869000"/>
            <a:ext cx="648000" cy="79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6699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760680" y="1817640"/>
            <a:ext cx="4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690480" y="465300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A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251800" y="185436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2181600" y="4662360"/>
            <a:ext cx="57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B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747360" y="3114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2266200" y="311472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2024280" y="113508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2117520" y="5516640"/>
            <a:ext cx="69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Elephant"/>
              </a:rPr>
              <a:t>M</a:t>
            </a:r>
            <a:r>
              <a:rPr b="0" lang="ru-RU" sz="3200" spc="-1" strike="noStrike" baseline="-25000">
                <a:solidFill>
                  <a:srgbClr val="0000ff"/>
                </a:solidFill>
                <a:latin typeface="Elephan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3132000" y="3162240"/>
            <a:ext cx="610236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о эта точка наложится на некоторую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           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очку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также лежащую на этих прямых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Следовательно, через точки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M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проходят две прямые 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AA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и</a:t>
            </a:r>
            <a:r>
              <a:rPr b="0" lang="en-US" sz="2800" spc="-1" strike="noStrike">
                <a:solidFill>
                  <a:srgbClr val="00007d"/>
                </a:solidFill>
                <a:latin typeface="Elephant"/>
              </a:rPr>
              <a:t> BB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Elephant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Elepha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564000" y="515772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ff"/>
                </a:solidFill>
                <a:latin typeface="Elephant"/>
              </a:rPr>
              <a:t>Но это невозможно!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ff"/>
                </a:solidFill>
                <a:latin typeface="Elephant"/>
              </a:rPr>
              <a:t>Наше предположение неверно.</a:t>
            </a:r>
            <a:endParaRPr b="0" lang="en-US" sz="28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179280" y="6165720"/>
            <a:ext cx="8669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ff"/>
                </a:solidFill>
                <a:latin typeface="Elephant"/>
              </a:rPr>
              <a:t>    </a:t>
            </a:r>
            <a:r>
              <a:rPr b="0" lang="ru-RU" sz="3200" spc="-1" strike="noStrike">
                <a:solidFill>
                  <a:srgbClr val="00007d"/>
                </a:solidFill>
                <a:latin typeface="Elephant"/>
              </a:rPr>
              <a:t>Значит,</a:t>
            </a:r>
            <a:r>
              <a:rPr b="0" lang="ru-RU" sz="3200" spc="-1" strike="noStrike">
                <a:solidFill>
                  <a:srgbClr val="6699ff"/>
                </a:solidFill>
                <a:latin typeface="Elephan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Elephant"/>
              </a:rPr>
              <a:t>прямые </a:t>
            </a:r>
            <a:r>
              <a:rPr b="0" lang="en-US" sz="3200" spc="-1" strike="noStrike">
                <a:solidFill>
                  <a:srgbClr val="ff0000"/>
                </a:solidFill>
                <a:latin typeface="Elephant"/>
              </a:rPr>
              <a:t>A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Elephant"/>
              </a:rPr>
              <a:t>1</a:t>
            </a:r>
            <a:r>
              <a:rPr b="0" lang="ru-RU" sz="3200" spc="-1" strike="noStrike">
                <a:solidFill>
                  <a:srgbClr val="ff0000"/>
                </a:solidFill>
                <a:latin typeface="Elephant"/>
              </a:rPr>
              <a:t> и</a:t>
            </a:r>
            <a:r>
              <a:rPr b="0" lang="en-US" sz="3200" spc="-1" strike="noStrike">
                <a:solidFill>
                  <a:srgbClr val="ff0000"/>
                </a:solidFill>
                <a:latin typeface="Elephant"/>
              </a:rPr>
              <a:t> B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Elephant"/>
              </a:rPr>
              <a:t>1</a:t>
            </a:r>
            <a:r>
              <a:rPr b="0" lang="ru-RU" sz="3200" spc="-1" strike="noStrike">
                <a:solidFill>
                  <a:srgbClr val="ff0000"/>
                </a:solidFill>
                <a:latin typeface="Elephant"/>
              </a:rPr>
              <a:t> не пересекаются.</a:t>
            </a:r>
            <a:endParaRPr b="0" lang="en-US" sz="32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90" name="Oval 27"/>
          <p:cNvSpPr/>
          <p:nvPr/>
        </p:nvSpPr>
        <p:spPr>
          <a:xfrm>
            <a:off x="1692360" y="5589720"/>
            <a:ext cx="71280" cy="71280"/>
          </a:xfrm>
          <a:prstGeom prst="ellipse">
            <a:avLst/>
          </a:prstGeom>
          <a:solidFill>
            <a:srgbClr val="99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  <p:sp>
        <p:nvSpPr>
          <p:cNvPr id="291" name="Oval 28"/>
          <p:cNvSpPr/>
          <p:nvPr/>
        </p:nvSpPr>
        <p:spPr>
          <a:xfrm>
            <a:off x="1692360" y="1413000"/>
            <a:ext cx="71280" cy="71280"/>
          </a:xfrm>
          <a:prstGeom prst="ellipse">
            <a:avLst/>
          </a:prstGeom>
          <a:solidFill>
            <a:srgbClr val="9999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77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6" dur="77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8" dur="77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0" dur="77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5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5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14:23:15Z</dcterms:created>
  <dc:creator>Anna</dc:creator>
  <dc:description/>
  <dc:language>en-US</dc:language>
  <cp:lastModifiedBy>Анна</cp:lastModifiedBy>
  <dcterms:modified xsi:type="dcterms:W3CDTF">2014-01-25T19:34:22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