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3E4-AE1A-4B1B-864D-E82F1939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7F3-2CE5-4EEF-9341-3A765DA2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2F5-0877-4406-9BCF-887A923C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9E5-F48C-4717-9A6F-07AFF167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DF9-36A3-4C6C-B937-5A9A8B47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893-EDCC-49DB-A8B7-E3897339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C54-593C-421F-9901-51826119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176-2AAB-44E7-9640-7525D85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B55-2FC6-48BF-BD57-BFD339A7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4B3-1AB3-4DCA-B1E3-1AD4B154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C84-2649-463C-80FD-F29AB1A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BE6-5E46-4AC6-93CB-C562B353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91A2-D616-4C03-A212-7CD57E7A7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872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268280"/>
            <a:ext cx="9144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: "Права ребён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ждународные документы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551664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А.Калашни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асс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408000">
            <a:off x="610920" y="188640"/>
            <a:ext cx="792144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ЕСЬ МИР ТЕАТР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ЛЮДИ В НЁМ АКТЁ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КАЖДЫЙ В НЁМ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Ю ИГРАЕТ РОЛЬ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.Шекспи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Эпиграф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18760" y="407520"/>
            <a:ext cx="8502120" cy="6046920"/>
            <a:chOff x="518760" y="407520"/>
            <a:chExt cx="8502120" cy="6046920"/>
          </a:xfrm>
        </p:grpSpPr>
        <p:sp>
          <p:nvSpPr>
            <p:cNvPr id="47" name="_s4167"/>
            <p:cNvSpPr/>
            <p:nvPr/>
          </p:nvSpPr>
          <p:spPr>
            <a:xfrm flipH="1">
              <a:off x="2638800" y="3430080"/>
              <a:ext cx="10695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57"/>
            <p:cNvSpPr/>
            <p:nvPr/>
          </p:nvSpPr>
          <p:spPr>
            <a:xfrm>
              <a:off x="518760" y="2676240"/>
              <a:ext cx="2122920" cy="1509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ёт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66"/>
            <p:cNvSpPr/>
            <p:nvPr/>
          </p:nvSpPr>
          <p:spPr>
            <a:xfrm>
              <a:off x="4768560" y="4184280"/>
              <a:ext cx="0" cy="760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53"/>
            <p:cNvSpPr/>
            <p:nvPr/>
          </p:nvSpPr>
          <p:spPr>
            <a:xfrm>
              <a:off x="3708720" y="4944600"/>
              <a:ext cx="2122920" cy="1509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Я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65"/>
            <p:cNvSpPr/>
            <p:nvPr/>
          </p:nvSpPr>
          <p:spPr>
            <a:xfrm>
              <a:off x="5828400" y="3430080"/>
              <a:ext cx="10695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09"/>
            <p:cNvSpPr/>
            <p:nvPr/>
          </p:nvSpPr>
          <p:spPr>
            <a:xfrm>
              <a:off x="6897960" y="2676240"/>
              <a:ext cx="2122920" cy="1509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вен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64"/>
            <p:cNvSpPr/>
            <p:nvPr/>
          </p:nvSpPr>
          <p:spPr>
            <a:xfrm flipV="1">
              <a:off x="4768560" y="1915200"/>
              <a:ext cx="0" cy="76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07"/>
            <p:cNvSpPr/>
            <p:nvPr/>
          </p:nvSpPr>
          <p:spPr>
            <a:xfrm>
              <a:off x="3708720" y="407520"/>
              <a:ext cx="2122920" cy="1509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табиль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05"/>
            <p:cNvSpPr/>
            <p:nvPr/>
          </p:nvSpPr>
          <p:spPr>
            <a:xfrm>
              <a:off x="3708720" y="2676240"/>
              <a:ext cx="2122920" cy="1509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К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83664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ждународные документы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защите прав дете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421000"/>
            <a:ext cx="838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 Декларация о правах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 Принята Генеральной Ассамблеей ООН в 1959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Конвенция о правах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Принята Генеральной Ассамблеей ООН 20 ноября 1989г., ратифицирован в СССР 1990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Группы прав дете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1000" y="2064240"/>
            <a:ext cx="8578800" cy="3511080"/>
            <a:chOff x="171000" y="2064240"/>
            <a:chExt cx="8578800" cy="3511080"/>
          </a:xfrm>
        </p:grpSpPr>
        <p:sp>
          <p:nvSpPr>
            <p:cNvPr id="60" name="_s7190"/>
            <p:cNvSpPr/>
            <p:nvPr/>
          </p:nvSpPr>
          <p:spPr>
            <a:xfrm>
              <a:off x="3302280" y="2688120"/>
              <a:ext cx="2319120" cy="17830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178"/>
            <p:cNvSpPr/>
            <p:nvPr/>
          </p:nvSpPr>
          <p:spPr>
            <a:xfrm>
              <a:off x="3302280" y="2064240"/>
              <a:ext cx="23191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ЗАЩИ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191"/>
            <p:cNvSpPr/>
            <p:nvPr/>
          </p:nvSpPr>
          <p:spPr>
            <a:xfrm>
              <a:off x="4065480" y="3703680"/>
              <a:ext cx="2319120" cy="17830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179"/>
            <p:cNvSpPr/>
            <p:nvPr/>
          </p:nvSpPr>
          <p:spPr>
            <a:xfrm>
              <a:off x="6430680" y="5130720"/>
              <a:ext cx="23191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ВОБ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7192"/>
            <p:cNvSpPr/>
            <p:nvPr/>
          </p:nvSpPr>
          <p:spPr>
            <a:xfrm>
              <a:off x="2538720" y="3703680"/>
              <a:ext cx="2318400" cy="1783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7182"/>
            <p:cNvSpPr/>
            <p:nvPr/>
          </p:nvSpPr>
          <p:spPr>
            <a:xfrm>
              <a:off x="171000" y="5128560"/>
              <a:ext cx="23191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ЕСПЕЧ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0"/>
            <a:ext cx="81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оей школе каждому учащемуся обеспечена  безопасность и личная неприкосно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    В моей школе  воспитательные мероприятия одинаковы для все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    Члены коллектива моей школы обязательно будут  выступать против дискриминации, унизительных действий и высказы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    Когда в моём классе возникают  конфликтные ситуации, мы решаем их сооб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    В вопросах дисциплины  каждому учащемуся моей школы гарантировано справедливое и беспристрастное решение  при определении наказания и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    В моей школе никто не посягает на мое личное имуществ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)    Коллектив моей школы охотно принимает учащихся, преподавателей, персонал разных национальн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)    Членам коллектива моей школы  предоставляется достаточное время для отдыха в течение учебного дня в нормальны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)    Учащиеся моей школы имеют возможность принимать участие в  разработке правил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кала оцен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никогда,  2-редко,  3-часто,  4-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ксимально возможная температура – 36 градусов «прав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557360"/>
            <a:ext cx="896472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овите основные международные документы по правам детей? Чем они отличаются друг 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Кого по Конвенции считают ребён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Назовите группы прав  которые содержатся в Конвен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лавный итог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ы сегодня реализовали своё право – право знать о своих прав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9360"/>
            <a:ext cx="8569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И 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0:32:55Z</dcterms:created>
  <dc:creator>User</dc:creator>
  <dc:description/>
  <dc:language>en-US</dc:language>
  <cp:lastModifiedBy>User</cp:lastModifiedBy>
  <dcterms:modified xsi:type="dcterms:W3CDTF">2008-03-20T03:56:17Z</dcterms:modified>
  <cp:revision>6</cp:revision>
  <dc:subject/>
  <dc:title>Слайд 1</dc:title>
</cp:coreProperties>
</file>