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6A1-4EC6-41E0-90F4-C64282FE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74B-B17B-4FF6-A271-28ED089A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7D5-1264-41CC-B203-FD6A158C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C60-B2EB-4E4D-A4D9-70999200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43B-5E6F-4564-B865-724B70A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F4A-2C44-4AE3-B95F-64F05FC1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D08-F8BA-47D7-9F8C-E3DBB91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B3E-0D77-40B4-AFA5-828D6DE9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7FF-F1F8-4721-BBE1-2BE1DC39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782-4857-4E0A-B2FD-E211C3CC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AD4-A9AB-4753-A94D-A0D3FD0B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624-43BE-4C44-97C7-96604AE1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45C2-221F-4202-8B31-92EFB32EE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872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268280"/>
            <a:ext cx="914400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: "Права ребёнк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ждународные документы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551664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А.Калашни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асс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408000">
            <a:off x="610920" y="188640"/>
            <a:ext cx="792144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ЕСЬ МИР ТЕАТР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ЛЮДИ В НЁМ АКТЁ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КАЖДЫЙ В НЁМ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ОЮ ИГРАЕТ РОЛЬ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.Шекспи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Эпиграф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18760" y="407520"/>
            <a:ext cx="8502120" cy="6046920"/>
            <a:chOff x="518760" y="407520"/>
            <a:chExt cx="8502120" cy="6046920"/>
          </a:xfrm>
        </p:grpSpPr>
        <p:sp>
          <p:nvSpPr>
            <p:cNvPr id="47" name="_s4167"/>
            <p:cNvSpPr/>
            <p:nvPr/>
          </p:nvSpPr>
          <p:spPr>
            <a:xfrm flipH="1">
              <a:off x="2638800" y="3430080"/>
              <a:ext cx="10695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57"/>
            <p:cNvSpPr/>
            <p:nvPr/>
          </p:nvSpPr>
          <p:spPr>
            <a:xfrm>
              <a:off x="518760" y="2676240"/>
              <a:ext cx="2122920" cy="1509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ёт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66"/>
            <p:cNvSpPr/>
            <p:nvPr/>
          </p:nvSpPr>
          <p:spPr>
            <a:xfrm>
              <a:off x="4768560" y="4184280"/>
              <a:ext cx="0" cy="760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53"/>
            <p:cNvSpPr/>
            <p:nvPr/>
          </p:nvSpPr>
          <p:spPr>
            <a:xfrm>
              <a:off x="3708720" y="4944600"/>
              <a:ext cx="2122920" cy="1509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Яс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65"/>
            <p:cNvSpPr/>
            <p:nvPr/>
          </p:nvSpPr>
          <p:spPr>
            <a:xfrm>
              <a:off x="5828400" y="3430080"/>
              <a:ext cx="10695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09"/>
            <p:cNvSpPr/>
            <p:nvPr/>
          </p:nvSpPr>
          <p:spPr>
            <a:xfrm>
              <a:off x="6897960" y="2676240"/>
              <a:ext cx="2122920" cy="1509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вен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64"/>
            <p:cNvSpPr/>
            <p:nvPr/>
          </p:nvSpPr>
          <p:spPr>
            <a:xfrm flipV="1">
              <a:off x="4768560" y="1915200"/>
              <a:ext cx="0" cy="76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07"/>
            <p:cNvSpPr/>
            <p:nvPr/>
          </p:nvSpPr>
          <p:spPr>
            <a:xfrm>
              <a:off x="3708720" y="407520"/>
              <a:ext cx="2122920" cy="1509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табиль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05"/>
            <p:cNvSpPr/>
            <p:nvPr/>
          </p:nvSpPr>
          <p:spPr>
            <a:xfrm>
              <a:off x="3708720" y="2676240"/>
              <a:ext cx="2122920" cy="1509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К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9640" y="83664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ждународные документы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защите прав дете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421000"/>
            <a:ext cx="838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 Декларация о правах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 Принята Генеральной Ассамблеей ООН в 1959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Конвенция о правах ребё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Принята Генеральной Ассамблеей ООН 20 ноября 1989г., ратифицирован в СССР 1990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Группы прав дете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1000" y="2064240"/>
            <a:ext cx="8578800" cy="3511080"/>
            <a:chOff x="171000" y="2064240"/>
            <a:chExt cx="8578800" cy="3511080"/>
          </a:xfrm>
        </p:grpSpPr>
        <p:sp>
          <p:nvSpPr>
            <p:cNvPr id="60" name="_s7190"/>
            <p:cNvSpPr/>
            <p:nvPr/>
          </p:nvSpPr>
          <p:spPr>
            <a:xfrm>
              <a:off x="3302280" y="2688120"/>
              <a:ext cx="2319120" cy="17830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178"/>
            <p:cNvSpPr/>
            <p:nvPr/>
          </p:nvSpPr>
          <p:spPr>
            <a:xfrm>
              <a:off x="3302280" y="2064240"/>
              <a:ext cx="23191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ЗАЩИ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191"/>
            <p:cNvSpPr/>
            <p:nvPr/>
          </p:nvSpPr>
          <p:spPr>
            <a:xfrm>
              <a:off x="4065480" y="3703680"/>
              <a:ext cx="2319120" cy="17830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179"/>
            <p:cNvSpPr/>
            <p:nvPr/>
          </p:nvSpPr>
          <p:spPr>
            <a:xfrm>
              <a:off x="6430680" y="5130720"/>
              <a:ext cx="23191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ВОБ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7192"/>
            <p:cNvSpPr/>
            <p:nvPr/>
          </p:nvSpPr>
          <p:spPr>
            <a:xfrm>
              <a:off x="2538720" y="3703680"/>
              <a:ext cx="2318400" cy="1783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7182"/>
            <p:cNvSpPr/>
            <p:nvPr/>
          </p:nvSpPr>
          <p:spPr>
            <a:xfrm>
              <a:off x="171000" y="5128560"/>
              <a:ext cx="23191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ЕСПЕЧ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0"/>
            <a:ext cx="81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оей школе каждому учащемуся обеспечена  безопасность и личная неприкосно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    В моей школе  воспитательные мероприятия одинаковы для все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    Члены коллектива моей школы обязательно будут  выступать против дискриминации, унизительных действий и высказы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    Когда в моём классе возникают  конфликтные ситуации, мы решаем их сооб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    В вопросах дисциплины  каждому учащемуся моей школы гарантировано справедливое и беспристрастное решение  при определении наказания и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)    В моей школе никто не посягает на мое личное имуществ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)    Коллектив моей школы охотно принимает учащихся, преподавателей, персонал разных национальн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)    Членам коллектива моей школы  предоставляется достаточное время для отдыха в течение учебного дня в нормальны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)    Учащиеся моей школы имеют возможность принимать участие в  разработке правил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кала оцен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никогда,  2-редко,  3-часто,  4-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ксимально возможная температура – 36 градусов «прав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557360"/>
            <a:ext cx="896472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овите основные международные документы по правам детей? Чем они отличаются друг от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Кого по Конвенции считают ребён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Назовите группы прав  которые содержатся в Конвен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лавный итог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ы сегодня реализовали своё право – право знать о своих прав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9360"/>
            <a:ext cx="8569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И 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0:32:55Z</dcterms:created>
  <dc:creator>User</dc:creator>
  <dc:description/>
  <dc:language>en-US</dc:language>
  <cp:lastModifiedBy>User</cp:lastModifiedBy>
  <dcterms:modified xsi:type="dcterms:W3CDTF">2008-03-20T03:56:17Z</dcterms:modified>
  <cp:revision>6</cp:revision>
  <dc:subject/>
  <dc:title>Слайд 1</dc:title>
</cp:coreProperties>
</file>