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C7C-38D7-40BC-A266-B8DD7131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F5FC-0C83-411D-9CC3-4C73EF76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7D1-4EF8-4B32-AC90-4CF766AD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D62A-2F6A-4BAB-893B-AB70D076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14E-8DB9-42B3-A421-3DA8114E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540-7BD2-4EDB-9A27-1D710E8B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0D1-9883-414F-B395-D670FDCC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7C2-0052-49D2-BA54-18DCD7AE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197-9AB6-4EB0-8B8A-546FDEAC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1E8-ACDB-4160-93F9-70CE77DA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4AE-BAB0-4606-8F9C-0C52DA5E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65C-AC95-41BA-97DA-9DBAE500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B57B-185B-4F8E-B220-457E09DBB06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0112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Работа с одаренными детьми в 5 классе на уроках русского языка и во внеурочной деятельности</a:t>
            </a: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                                       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3512880" cy="374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D:\Хозяин\Desktop\ФОТО 13 год\1 сент.13 год\P1040801.JPG"/>
          <p:cNvPicPr/>
          <p:nvPr/>
        </p:nvPicPr>
        <p:blipFill>
          <a:blip r:embed="rId2"/>
          <a:stretch/>
        </p:blipFill>
        <p:spPr>
          <a:xfrm>
            <a:off x="4211640" y="1797120"/>
            <a:ext cx="4530600" cy="419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ами одаренности детей занимались зарубежные психолог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ы крупные исследования в области психологии творческой одаренности американцев Дж. Гилфорда, П. Торренса, Ф. Баррона, К. Тейлора. На основе идей психологов Дж. Кэррола и Б. Блума их последователями была разработана методика обучения одаренных детей. Изучением особо одаренных детей занимался Ж. Брюно. (“Одаренные дети: психолого-педагогические исследования и практика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блемы одаренности изучали отечественные психолог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юшкин А.М. в работе “Концепция творческой одаренности” и др., Шумакова Н.Б. в ряде своих работ, Чистякова Г.Д. в статье “Творческая одаренность в развитии познавательных структур”, Юркевич В.С. в “Проблемах диагноза и прогноза одаренности в работе практического психолог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Принципы моей педагогической деятельности в работе с одарёнными и способными детьми.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ип максимального разнообразия предоставленных возможностей для развития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ип возрастания роли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ип индивидуализации и дифференциации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ип создания условий для совместной работы учащихся при минимальном участии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Направления, формы и методы работы с одарёнными детьми.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преемственных связей среды и методов развития детей при переходе в школу из начальных кла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условий для индивидуализации обучения одаренных детей в средне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3056040" y="721440"/>
            <a:ext cx="30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900000" y="134028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1. Выявление   одаренных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-й этап работы – диагностически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полагает открытие, констатацию в развитии ребенка его интересов, одаренности. Информация может поступить от родителей, учителя начальной школы, имеющих контакт с ребенком. При этом педагоги с родителями определяют индивидуальные особенности каждого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-ой этап – уточнение выявленных способностей ребенк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этом этапе учителя осуществляют сбор дополнительной информации от  педагогов, родителей, изучают специальную литературу для уточнения выявленной одаренности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826920" y="1920960"/>
            <a:ext cx="73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3-ий этап - создание условий для развития одаренных дете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: проведение развивающей работы с ребенком в кружке, факультативных занятиях, во внеурочной деятельности. На этом этапе, на основании анализа выявленной одаренности ребенка, заявки родителей о развитии одаренности их ребенка, администрация школы создает  условия для развития одаренных детей: открывает кружки, проводит предметные олимпиады. При этом использует внутренние ресурсы, преподавателей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4-й этап - анализ промежуточных результатов сопровождения развития одаренного ребен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. На этом этапе провожу  диагностику успешности развития одаренности ребенка и корректировку его индивидуальных програм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900000" y="47628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оздание мотивации и  условий для их оптимального развития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611280" y="2053440"/>
            <a:ext cx="727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Это внеурочная деятельность, индивидуальные консультации с учителем, самостоятельная раб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Это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 Олимпиадные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 Создание про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Творческие дикта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Комплексный анализ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онкурсные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ши дости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2010 учебном году  в региональном этапе Всероссийского конкурса  “Зеленая планета” Лапкин Никита  (ученик 7 кл.) занял III место., призерами   окружного тура окружного этапа Всероссийской олимпиады школьников по русскому языку (2011-2012 ,2012-2013 уч.год)стали Малкин Никита (выпускник школы) Осипова Евгения (ученица 9 кл.).По литературе (2011-2012 уч.год) победителем окружного тура окружного этапа Всероссийской олимпиады школьников стал Малкин Никита,(2012-2013 уч.г)призером стала Трифонова Светлана (выпускники школы 2013 г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D:\Хозяин\Desktop\осипова 001.jpg"/>
          <p:cNvPicPr/>
          <p:nvPr/>
        </p:nvPicPr>
        <p:blipFill>
          <a:blip r:embed="rId2"/>
          <a:stretch/>
        </p:blipFill>
        <p:spPr>
          <a:xfrm>
            <a:off x="3419640" y="2708280"/>
            <a:ext cx="2668320" cy="3673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D:\Хозяин\Desktop\осипова 13.jpg"/>
          <p:cNvPicPr/>
          <p:nvPr/>
        </p:nvPicPr>
        <p:blipFill>
          <a:blip r:embed="rId3"/>
          <a:stretch/>
        </p:blipFill>
        <p:spPr>
          <a:xfrm>
            <a:off x="5796000" y="333360"/>
            <a:ext cx="2560680" cy="3522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:\Хозяин\Desktop\света 001.jpg"/>
          <p:cNvPicPr/>
          <p:nvPr/>
        </p:nvPicPr>
        <p:blipFill>
          <a:blip r:embed="rId4"/>
          <a:stretch/>
        </p:blipFill>
        <p:spPr>
          <a:xfrm>
            <a:off x="900000" y="404640"/>
            <a:ext cx="2719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держание.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55640" y="2059920"/>
            <a:ext cx="64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ведение. Проблема, ее актуальность, цели и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ая ча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теор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практика(используемые приемы и метод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Заключение. Выводы, практическая значим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.Список использованной литера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Хозяин\Desktop\малкин рус 001.jpg"/>
          <p:cNvPicPr/>
          <p:nvPr/>
        </p:nvPicPr>
        <p:blipFill>
          <a:blip r:embed="rId2"/>
          <a:stretch/>
        </p:blipFill>
        <p:spPr>
          <a:xfrm>
            <a:off x="539640" y="1484280"/>
            <a:ext cx="2459160" cy="338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D:\Хозяин\Desktop\малкин лит.jpg"/>
          <p:cNvPicPr/>
          <p:nvPr/>
        </p:nvPicPr>
        <p:blipFill>
          <a:blip r:embed="rId3"/>
          <a:stretch/>
        </p:blipFill>
        <p:spPr>
          <a:xfrm>
            <a:off x="5867280" y="1628640"/>
            <a:ext cx="2765520" cy="3313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D:\Хозяин\Desktop\лапкин 001.jpg"/>
          <p:cNvPicPr/>
          <p:nvPr/>
        </p:nvPicPr>
        <p:blipFill>
          <a:blip r:embed="rId4"/>
          <a:stretch/>
        </p:blipFill>
        <p:spPr>
          <a:xfrm>
            <a:off x="2700360" y="2060640"/>
            <a:ext cx="324000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НАШИ СТОБАЛЬН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D:\Хозяин\Desktop\ФОТО 13 год\Звездопад\100.jpg"/>
          <p:cNvPicPr/>
          <p:nvPr/>
        </p:nvPicPr>
        <p:blipFill>
          <a:blip r:embed="rId2"/>
          <a:stretch/>
        </p:blipFill>
        <p:spPr>
          <a:xfrm>
            <a:off x="684360" y="1484280"/>
            <a:ext cx="7991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9200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330033"/>
                </a:solidFill>
                <a:latin typeface="Times New Roman"/>
              </a:rPr>
              <a:t>В душе каждого ребенка есть невидимые струны. </a:t>
            </a:r>
            <a:br>
              <a:rPr sz="4000"/>
            </a:br>
            <a:r>
              <a:rPr b="0" i="1" lang="ru-RU" sz="4000" spc="-1" strike="noStrike">
                <a:solidFill>
                  <a:srgbClr val="330033"/>
                </a:solidFill>
                <a:latin typeface="Times New Roman"/>
              </a:rPr>
              <a:t>        Если тронуть их умелой рукой, они красиво зазвучат. </a:t>
            </a:r>
            <a:br>
              <a:rPr sz="4000"/>
            </a:br>
            <a:r>
              <a:rPr b="0" i="1" lang="ru-RU" sz="4000" spc="-1" strike="noStrike">
                <a:solidFill>
                  <a:srgbClr val="330033"/>
                </a:solidFill>
                <a:latin typeface="Times New Roman"/>
              </a:rPr>
              <a:t>                В.А.Сухомлинский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119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600" spc="-1" strike="noStrike">
              <a:solidFill>
                <a:srgbClr val="74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71280" y="189000"/>
            <a:ext cx="67690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:создание условий для выявления, поддержки, обучения, воспитания и развития индивидуальных задатков одарённых детей в средне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 flipH="1" flipV="1">
            <a:off x="4936320" y="720"/>
            <a:ext cx="282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D:\Хозяин\Desktop\ФОТО 13 год\Звездопад\20130623-vypusk2.JPG"/>
          <p:cNvPicPr/>
          <p:nvPr/>
        </p:nvPicPr>
        <p:blipFill>
          <a:blip r:embed="rId1"/>
          <a:stretch/>
        </p:blipFill>
        <p:spPr>
          <a:xfrm>
            <a:off x="1619280" y="1844640"/>
            <a:ext cx="63374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з этой цели вытекают следующие </a:t>
            </a:r>
            <a:r>
              <a:rPr b="0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задач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научно-методической и  психолого-педагогической  литературы по данной пробл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системы целенаправленного выявления одарённых и способных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пособностей талантливых детей в урочной и внеуроч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а работы с одаренными учащими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резвычайно актуаль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современного российского обществ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моей работ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обмен опытом с педагогами по работе с одарёнными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:изучить опыт методистов и проанализировать формы и методы, используемые мною для работы с одаренными деть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40000"/>
                </a:solidFill>
                <a:latin typeface="Times New Roman"/>
              </a:rPr>
              <a:t>Одаренный ребенок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0328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одаренными детьми нами понимаются дети, которые отличаются высокими функциональными или потенциальными возможностями в ряде областей: интеллектуальной, академической, творческой, художественной, психомоторной или соци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ребенок неповторим, но при всем индивидуальном своеобразии реальных проявлений детской одаренности существует много черт, характерных для большинства одаренных 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E03166_"/>
          <p:cNvPicPr/>
          <p:nvPr/>
        </p:nvPicPr>
        <p:blipFill>
          <a:blip r:embed="rId1"/>
          <a:stretch/>
        </p:blipFill>
        <p:spPr>
          <a:xfrm>
            <a:off x="7020000" y="189000"/>
            <a:ext cx="1573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40000"/>
                </a:solidFill>
                <a:latin typeface="Times New Roman"/>
              </a:rPr>
              <a:t>Характерные черты одаренных детей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074160" y="-2393640"/>
            <a:ext cx="6984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Diagram 3"/>
          <p:cNvGrpSpPr/>
          <p:nvPr/>
        </p:nvGrpSpPr>
        <p:grpSpPr>
          <a:xfrm>
            <a:off x="1156680" y="1600200"/>
            <a:ext cx="7561080" cy="4470840"/>
            <a:chOff x="1156680" y="1600200"/>
            <a:chExt cx="7561080" cy="4470840"/>
          </a:xfrm>
        </p:grpSpPr>
        <p:sp>
          <p:nvSpPr>
            <p:cNvPr id="68" name="_s1028"/>
            <p:cNvSpPr/>
            <p:nvPr/>
          </p:nvSpPr>
          <p:spPr>
            <a:xfrm flipH="1" flipV="1">
              <a:off x="3689640" y="2448720"/>
              <a:ext cx="982440" cy="1118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29"/>
            <p:cNvSpPr/>
            <p:nvPr/>
          </p:nvSpPr>
          <p:spPr>
            <a:xfrm>
              <a:off x="2863440" y="1823040"/>
              <a:ext cx="1124280" cy="6685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ригиналь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ыш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0"/>
            <p:cNvSpPr/>
            <p:nvPr/>
          </p:nvSpPr>
          <p:spPr>
            <a:xfrm flipH="1" flipV="1">
              <a:off x="2729160" y="2954880"/>
              <a:ext cx="1742040" cy="718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1"/>
            <p:cNvSpPr/>
            <p:nvPr/>
          </p:nvSpPr>
          <p:spPr>
            <a:xfrm>
              <a:off x="1704600" y="2435400"/>
              <a:ext cx="1124280" cy="668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гибк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ыш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2"/>
            <p:cNvSpPr/>
            <p:nvPr/>
          </p:nvSpPr>
          <p:spPr>
            <a:xfrm flipH="1" flipV="1">
              <a:off x="2273040" y="3669840"/>
              <a:ext cx="2103840" cy="154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3"/>
            <p:cNvSpPr/>
            <p:nvPr/>
          </p:nvSpPr>
          <p:spPr>
            <a:xfrm>
              <a:off x="1156680" y="3299400"/>
              <a:ext cx="1123560" cy="668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родуктивнос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ыш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4"/>
            <p:cNvSpPr/>
            <p:nvPr/>
          </p:nvSpPr>
          <p:spPr>
            <a:xfrm flipH="1">
              <a:off x="2426760" y="3982320"/>
              <a:ext cx="1985040" cy="445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5"/>
            <p:cNvSpPr/>
            <p:nvPr/>
          </p:nvSpPr>
          <p:spPr>
            <a:xfrm>
              <a:off x="1344960" y="4215960"/>
              <a:ext cx="1123560" cy="668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легк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ассоциир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6"/>
            <p:cNvSpPr/>
            <p:nvPr/>
          </p:nvSpPr>
          <p:spPr>
            <a:xfrm flipH="1">
              <a:off x="3156120" y="4114080"/>
              <a:ext cx="1409400" cy="943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7"/>
            <p:cNvSpPr/>
            <p:nvPr/>
          </p:nvSpPr>
          <p:spPr>
            <a:xfrm>
              <a:off x="2228760" y="4974840"/>
              <a:ext cx="1123560" cy="668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пособнос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 прогнозировани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8"/>
            <p:cNvSpPr/>
            <p:nvPr/>
          </p:nvSpPr>
          <p:spPr>
            <a:xfrm flipH="1">
              <a:off x="4293000" y="4187880"/>
              <a:ext cx="511200" cy="1225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9"/>
            <p:cNvSpPr/>
            <p:nvPr/>
          </p:nvSpPr>
          <p:spPr>
            <a:xfrm>
              <a:off x="3603600" y="5402880"/>
              <a:ext cx="1123560" cy="668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пособнос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амооцен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0"/>
            <p:cNvSpPr/>
            <p:nvPr/>
          </p:nvSpPr>
          <p:spPr>
            <a:xfrm>
              <a:off x="5072400" y="4186440"/>
              <a:ext cx="506160" cy="1226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1"/>
            <p:cNvSpPr/>
            <p:nvPr/>
          </p:nvSpPr>
          <p:spPr>
            <a:xfrm>
              <a:off x="5154480" y="5401080"/>
              <a:ext cx="1123560" cy="6685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пецифическ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интересы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клон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2"/>
            <p:cNvSpPr/>
            <p:nvPr/>
          </p:nvSpPr>
          <p:spPr>
            <a:xfrm>
              <a:off x="5308200" y="4111200"/>
              <a:ext cx="1406880" cy="946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43"/>
            <p:cNvSpPr/>
            <p:nvPr/>
          </p:nvSpPr>
          <p:spPr>
            <a:xfrm>
              <a:off x="6526440" y="4971600"/>
              <a:ext cx="1124280" cy="6685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больш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ловарны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апа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44"/>
            <p:cNvSpPr/>
            <p:nvPr/>
          </p:nvSpPr>
          <p:spPr>
            <a:xfrm>
              <a:off x="5459400" y="3979800"/>
              <a:ext cx="1985040" cy="448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45"/>
            <p:cNvSpPr/>
            <p:nvPr/>
          </p:nvSpPr>
          <p:spPr>
            <a:xfrm>
              <a:off x="7407720" y="4211640"/>
              <a:ext cx="1123560" cy="6685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тлич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ам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46"/>
            <p:cNvSpPr/>
            <p:nvPr/>
          </p:nvSpPr>
          <p:spPr>
            <a:xfrm flipV="1">
              <a:off x="5491440" y="3669840"/>
              <a:ext cx="2106720" cy="151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47"/>
            <p:cNvSpPr/>
            <p:nvPr/>
          </p:nvSpPr>
          <p:spPr>
            <a:xfrm>
              <a:off x="7593480" y="3295080"/>
              <a:ext cx="1124280" cy="6681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высок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онцентр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вним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48"/>
            <p:cNvSpPr/>
            <p:nvPr/>
          </p:nvSpPr>
          <p:spPr>
            <a:xfrm flipV="1">
              <a:off x="5394600" y="2955240"/>
              <a:ext cx="1747080" cy="717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49"/>
            <p:cNvSpPr/>
            <p:nvPr/>
          </p:nvSpPr>
          <p:spPr>
            <a:xfrm>
              <a:off x="7042320" y="2431080"/>
              <a:ext cx="1124280" cy="6681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клон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 задача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дивергентного тип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ип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50"/>
            <p:cNvSpPr/>
            <p:nvPr/>
          </p:nvSpPr>
          <p:spPr>
            <a:xfrm flipV="1">
              <a:off x="5193720" y="2448720"/>
              <a:ext cx="985320" cy="1118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51"/>
            <p:cNvSpPr/>
            <p:nvPr/>
          </p:nvSpPr>
          <p:spPr>
            <a:xfrm>
              <a:off x="5878800" y="1819800"/>
              <a:ext cx="1124280" cy="6685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верх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чувствитель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 проблема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52"/>
            <p:cNvSpPr/>
            <p:nvPr/>
          </p:nvSpPr>
          <p:spPr>
            <a:xfrm flipV="1">
              <a:off x="4933080" y="2267280"/>
              <a:ext cx="0" cy="1263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53"/>
            <p:cNvSpPr/>
            <p:nvPr/>
          </p:nvSpPr>
          <p:spPr>
            <a:xfrm>
              <a:off x="4372560" y="1600200"/>
              <a:ext cx="1123560" cy="6685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любопытство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любознательность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ознаватель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отре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54"/>
            <p:cNvSpPr/>
            <p:nvPr/>
          </p:nvSpPr>
          <p:spPr>
            <a:xfrm>
              <a:off x="4372560" y="3530880"/>
              <a:ext cx="1123560" cy="66852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920" rIns="5292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Характерные чер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одаренных дете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40000"/>
                </a:solidFill>
                <a:latin typeface="Times New Roman"/>
              </a:rPr>
              <a:t>Модель одаренности Ж. Рензулл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гласно теории Дж.Рензулли, одаренность есть сочетание трех основных характеристик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ллектуальных способностей (превышающих средний уровен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еативность или творческость (уровень развития творческого воображения, его оригинальность и продуктивность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стойчивости (мотивация, ориентированная на задачу, познавательная и исследовательская активность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ечение всех трех компонентов при достаточно высоком уровне их развития дает нам качественное своеобразие ярко выраженных способностей, которым и отличается одаренный реб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одаренные дети,   детская одаренность"/>
          <p:cNvPicPr/>
          <p:nvPr/>
        </p:nvPicPr>
        <p:blipFill>
          <a:blip r:embed="rId1"/>
          <a:stretch/>
        </p:blipFill>
        <p:spPr>
          <a:xfrm>
            <a:off x="1152360" y="2260440"/>
            <a:ext cx="333396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5:47:19Z</dcterms:created>
  <dc:creator>user</dc:creator>
  <dc:description/>
  <dc:language>en-US</dc:language>
  <cp:lastModifiedBy>Хозяин</cp:lastModifiedBy>
  <dcterms:modified xsi:type="dcterms:W3CDTF">2013-09-19T14:33:35Z</dcterms:modified>
  <cp:revision>516</cp:revision>
  <dc:subject/>
  <dc:title>Управление качеством образования</dc:title>
</cp:coreProperties>
</file>