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432-E6FF-40CF-8A20-00184EB5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055-057A-42E7-9E40-9EF4E85C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942-FCF7-447D-B329-277A67F4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7BE-227A-4E63-B4C7-B3E6B4B5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D472-80F3-40F9-AE24-706F1695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BD78-EC2F-42E9-A4C5-C47AD5F4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867E-D1F5-484C-BFE7-D932F7BE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5D39-8F6A-4EBF-9E3A-BEC87F28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BB58-5435-4EA8-AB4F-CD0D0D0B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B7F6-4890-4A91-9279-6B880BFC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CC49-8859-4BC0-9B80-A127AAE5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6C9-D505-4B22-9632-491C8353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78C7-4FA9-4E8A-B0F0-3AAA49D0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6136-60BF-41BC-9032-B39B5B34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032D-4179-478A-8504-921CDA19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2A2B-F257-4089-8C58-6734BA94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F206-3B30-447D-8B47-132FE4AE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E8C05-9515-4758-BACE-E347CE35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1B38B-CB76-4114-AECC-67D44180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65D84-5998-4A43-8699-839BFB96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B541D-67A4-4463-A40C-5D07801D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F4C64-C3DC-4383-9FCF-CB0A4740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05E-120C-4ABA-89EC-0470ACEB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36EC1-4310-4F39-A8A9-305A5EEA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473FF-1AC6-47DB-A78B-66241FCE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B469E-D1CC-45A4-9174-95E89C85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FE26E-85B7-4AC0-B0A1-A6B70044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A267A-FEC1-4771-BEAE-617F2D99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5BFC6-2B98-4B83-A8FC-9DFA1E9B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208CF-03E5-4797-B105-D9535A15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8FCA9-7701-4FA6-9D58-CCE68A8C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DE033-C07D-4560-B519-85201591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83E01-E481-4B8D-AA30-F5B84437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54AF-ADF2-4BA3-A735-93B3AC82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2B430-F545-4E83-A232-CF9E7B9F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1EE4C-1D2F-4C27-927F-2D44B086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2CF49-59C6-4D8A-8D31-C2C50E3D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EA060-BBD0-4211-AF91-F98A70B4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242E1-FD16-4B6B-BB7E-8DD50243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D64D7-3B3F-4B41-BB08-EB1EEE76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D8156-3B62-4C48-821C-132686C9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15DB0-F872-4A23-911C-D71D3BC7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2891E-E8B8-413C-B34D-301206B7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B974-9F71-40EC-96BB-2075836B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2EC-7884-4A2A-8EAC-2BCA0DA4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11B-DC3A-4DA4-95A1-FD800BC1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723-4FD7-4A90-8556-33C2B23A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CBE-4D4A-4E16-AC4C-178BF791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EA71-E00E-413C-A1AC-13F8E2CEB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5538-F604-4D00-8F2B-106EC47F785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9C89-72E1-4788-8005-E62015C785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6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29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9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0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0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99BA-C900-431D-80E7-5EF8C65AC2B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4" descr="samerfon"/>
          <p:cNvPicPr/>
          <p:nvPr/>
        </p:nvPicPr>
        <p:blipFill>
          <a:blip r:embed="rId1"/>
          <a:stretch/>
        </p:blipFill>
        <p:spPr>
          <a:xfrm>
            <a:off x="0" y="0"/>
            <a:ext cx="9720360" cy="7094520"/>
          </a:xfrm>
          <a:prstGeom prst="rect">
            <a:avLst/>
          </a:prstGeom>
          <a:ln w="0">
            <a:noFill/>
          </a:ln>
        </p:spPr>
      </p:pic>
      <p:sp>
        <p:nvSpPr>
          <p:cNvPr id="374" name="WordArt 4"/>
          <p:cNvSpPr txBox="1"/>
          <p:nvPr/>
        </p:nvSpPr>
        <p:spPr>
          <a:xfrm>
            <a:off x="1547640" y="1413000"/>
            <a:ext cx="7056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Наше здоровье - 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в наших руках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995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3059280" y="5084640"/>
            <a:ext cx="381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Презентацию подготовил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Карпова Т.Н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классный руководител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6бкласс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4136040" y="404640"/>
            <a:ext cx="30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МКОУ Кудринская ООШ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7" descr="samerfon"/>
          <p:cNvPicPr/>
          <p:nvPr/>
        </p:nvPicPr>
        <p:blipFill>
          <a:blip r:embed="rId1"/>
          <a:stretch/>
        </p:blipFill>
        <p:spPr>
          <a:xfrm>
            <a:off x="-324000" y="0"/>
            <a:ext cx="9720360" cy="709452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1"/>
          <p:cNvSpPr/>
          <p:nvPr/>
        </p:nvSpPr>
        <p:spPr>
          <a:xfrm>
            <a:off x="684360" y="731880"/>
            <a:ext cx="817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Verdana"/>
              </a:rPr>
              <a:t>Когда большие тети, дяд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Verdana"/>
              </a:rPr>
              <a:t>Наклеят на рекламный щи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Verdana"/>
              </a:rPr>
              <a:t>То, что не только денег ради,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Verdana"/>
              </a:rPr>
              <a:t>То, что здоровье защитит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Verdana"/>
              </a:rPr>
              <a:t>Пусть не страдают больше люд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Verdana"/>
              </a:rPr>
              <a:t>В дыму чадящих сигарет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Verdana"/>
              </a:rPr>
              <a:t>Науку эту не забудем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Verdana"/>
              </a:rPr>
              <a:t>И никотину скажем «Нет!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0" y="6922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лкоголь разрушает жизненн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важные органы челове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ечень, сердце, мозг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1476360" y="3933720"/>
            <a:ext cx="50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0% всех преступле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овершаются в состояни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опьянени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9" name="Picture 7" descr="alcohol_62691"/>
          <p:cNvPicPr/>
          <p:nvPr/>
        </p:nvPicPr>
        <p:blipFill>
          <a:blip r:embed="rId1"/>
          <a:stretch/>
        </p:blipFill>
        <p:spPr>
          <a:xfrm>
            <a:off x="4500720" y="260280"/>
            <a:ext cx="41544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2" descr="222"/>
          <p:cNvPicPr/>
          <p:nvPr/>
        </p:nvPicPr>
        <p:blipFill>
          <a:blip r:embed="rId1"/>
          <a:stretch/>
        </p:blipFill>
        <p:spPr>
          <a:xfrm>
            <a:off x="4973760" y="1700280"/>
            <a:ext cx="3921120" cy="48974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1" descr="13"/>
          <p:cNvPicPr/>
          <p:nvPr/>
        </p:nvPicPr>
        <p:blipFill>
          <a:blip r:embed="rId2"/>
          <a:stretch/>
        </p:blipFill>
        <p:spPr>
          <a:xfrm>
            <a:off x="250920" y="1700280"/>
            <a:ext cx="3889440" cy="4897440"/>
          </a:xfrm>
          <a:prstGeom prst="rect">
            <a:avLst/>
          </a:prstGeom>
          <a:ln w="0">
            <a:noFill/>
          </a:ln>
        </p:spPr>
      </p:pic>
      <p:grpSp>
        <p:nvGrpSpPr>
          <p:cNvPr id="412" name="Group 16"/>
          <p:cNvGrpSpPr/>
          <p:nvPr/>
        </p:nvGrpSpPr>
        <p:grpSpPr>
          <a:xfrm>
            <a:off x="1547640" y="1989000"/>
            <a:ext cx="7200720" cy="4502880"/>
            <a:chOff x="1547640" y="1989000"/>
            <a:chExt cx="7200720" cy="4502880"/>
          </a:xfrm>
        </p:grpSpPr>
        <p:sp>
          <p:nvSpPr>
            <p:cNvPr id="413" name="Oval 5"/>
            <p:cNvSpPr/>
            <p:nvPr/>
          </p:nvSpPr>
          <p:spPr>
            <a:xfrm>
              <a:off x="1547640" y="1989000"/>
              <a:ext cx="7200720" cy="4464360"/>
            </a:xfrm>
            <a:prstGeom prst="ellipse">
              <a:avLst/>
            </a:prstGeom>
            <a:solidFill>
              <a:srgbClr val="afe1ff">
                <a:alpha val="77000"/>
              </a:srgbClr>
            </a:soli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" name="Text Box 6"/>
            <p:cNvSpPr/>
            <p:nvPr/>
          </p:nvSpPr>
          <p:spPr>
            <a:xfrm>
              <a:off x="2125800" y="2435400"/>
              <a:ext cx="5774760" cy="40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Наркомания</a:t>
              </a:r>
              <a:r>
                <a:rPr b="1" lang="ru-RU" sz="2400" spc="-1" strike="noStrike">
                  <a:solidFill>
                    <a:srgbClr val="754e27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3399"/>
                  </a:solidFill>
                  <a:latin typeface="Arial"/>
                </a:rPr>
                <a:t>- патологическое                                         влечение к приему наркотических средств. </a:t>
              </a:r>
              <a:br>
                <a:rPr sz="2400"/>
              </a:br>
              <a:r>
                <a:rPr b="1" lang="ru-RU" sz="2400" spc="-1" strike="noStrike">
                  <a:solidFill>
                    <a:srgbClr val="003399"/>
                  </a:solidFill>
                  <a:latin typeface="Arial"/>
                </a:rPr>
                <a:t>Термин "наркотик" происходит от греческого глагола "narkе", что означает неподвижное, беспамятное, оглушенное состояние сознания, в которое человек впадает после приема психоактивных веществ.</a:t>
              </a: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15" name="WordArt 7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99ff99"/>
                  </a:solidFill>
                  <a:miter/>
                </a:ln>
                <a:gradFill rotWithShape="0">
                  <a:gsLst>
                    <a:gs pos="0">
                      <a:srgbClr val="99ff99"/>
                    </a:gs>
                    <a:gs pos="100000">
                      <a:srgbClr val="767647"/>
                    </a:gs>
                  </a:gsLst>
                  <a:lin ang="5400000"/>
                </a:gradFill>
                <a:latin typeface="Arial"/>
              </a:rPr>
              <a:t>НАРКОМАНИЯ - ЧТО ЭТО?</a:t>
            </a:r>
            <a:endParaRPr b="1" lang="en-US" sz="2000" spc="1" strike="noStrike">
              <a:ln w="9360">
                <a:solidFill>
                  <a:srgbClr val="99ff99"/>
                </a:solidFill>
                <a:miter/>
              </a:ln>
              <a:gradFill rotWithShape="0">
                <a:gsLst>
                  <a:gs pos="0">
                    <a:srgbClr val="99ff99"/>
                  </a:gs>
                  <a:gs pos="100000">
                    <a:srgbClr val="767647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6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4643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afe1ff"/>
                </a:solidFill>
                <a:latin typeface="Arial"/>
              </a:rPr>
              <a:t>Проблема наркомании затрагивает  около30 млн. человек, то есть практически каждого пятого  жителя страны.</a:t>
            </a:r>
            <a:r>
              <a:rPr b="1" lang="en-US" sz="2000" spc="-1" strike="noStrike">
                <a:solidFill>
                  <a:srgbClr val="afe1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fe1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afe1ff"/>
                </a:solidFill>
                <a:latin typeface="Arial"/>
              </a:rPr>
              <a:t>Сегодня в России не   осталось ни одного  региона,  где ни были бы зафиксированы  случаи употребления наркотиков или их  распростран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fe1ff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fe1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12" descr="НАРКОТИКИ1"/>
          <p:cNvPicPr/>
          <p:nvPr/>
        </p:nvPicPr>
        <p:blipFill>
          <a:blip r:embed="rId1"/>
          <a:stretch/>
        </p:blipFill>
        <p:spPr>
          <a:xfrm>
            <a:off x="4788000" y="1628640"/>
            <a:ext cx="4157640" cy="4176720"/>
          </a:xfrm>
          <a:prstGeom prst="rect">
            <a:avLst/>
          </a:prstGeom>
          <a:ln w="0">
            <a:noFill/>
          </a:ln>
        </p:spPr>
      </p:pic>
      <p:sp>
        <p:nvSpPr>
          <p:cNvPr id="418" name="WordArt 4"/>
          <p:cNvSpPr txBox="1"/>
          <p:nvPr/>
        </p:nvSpPr>
        <p:spPr>
          <a:xfrm>
            <a:off x="1619280" y="404640"/>
            <a:ext cx="6265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99ff99"/>
                  </a:solidFill>
                  <a:miter/>
                </a:ln>
                <a:gradFill rotWithShape="0">
                  <a:gsLst>
                    <a:gs pos="0">
                      <a:srgbClr val="99ff99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НАРКОМАНИЯ   В   РОССИИ</a:t>
            </a:r>
            <a:endParaRPr b="1" lang="en-US" sz="2000" spc="1" strike="noStrike">
              <a:ln w="9360">
                <a:solidFill>
                  <a:srgbClr val="99ff99"/>
                </a:solidFill>
                <a:miter/>
              </a:ln>
              <a:gradFill rotWithShape="0">
                <a:gsLst>
                  <a:gs pos="0">
                    <a:srgbClr val="99ff99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1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1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1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fe1ff"/>
                </a:solidFill>
                <a:latin typeface="Arial"/>
              </a:rPr>
              <a:t>По данным международной организации «Врачи без границ», уже сегодня в России от 3 до 4 млн. наркоманов, а некоторыми  специалистами их число оценивается даже выше 9 млн. человек</a:t>
            </a:r>
            <a:r>
              <a:rPr b="1" lang="en-US" sz="3200" spc="-1" strike="noStrike">
                <a:solidFill>
                  <a:srgbClr val="afe1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14" descr="i5"/>
          <p:cNvPicPr/>
          <p:nvPr/>
        </p:nvPicPr>
        <p:blipFill>
          <a:blip r:embed="rId1"/>
          <a:stretch/>
        </p:blipFill>
        <p:spPr>
          <a:xfrm>
            <a:off x="3492360" y="134136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422" name="WordArt 4"/>
          <p:cNvSpPr txBox="1"/>
          <p:nvPr/>
        </p:nvSpPr>
        <p:spPr>
          <a:xfrm>
            <a:off x="1979640" y="333360"/>
            <a:ext cx="532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99ff99"/>
                  </a:solidFill>
                  <a:miter/>
                </a:ln>
                <a:gradFill rotWithShape="0">
                  <a:gsLst>
                    <a:gs pos="0">
                      <a:srgbClr val="99ff99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ПОСЛЕДСТВИЯ</a:t>
            </a:r>
            <a:endParaRPr b="1" lang="en-US" sz="2000" spc="1" strike="noStrike">
              <a:ln w="9360">
                <a:solidFill>
                  <a:srgbClr val="99ff99"/>
                </a:solidFill>
                <a:miter/>
              </a:ln>
              <a:gradFill rotWithShape="0">
                <a:gsLst>
                  <a:gs pos="0">
                    <a:srgbClr val="99ff99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3" name="Rectangle 19"/>
          <p:cNvSpPr/>
          <p:nvPr/>
        </p:nvSpPr>
        <p:spPr>
          <a:xfrm>
            <a:off x="539640" y="486900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fe1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afe1ff"/>
                </a:solidFill>
                <a:latin typeface="Arial"/>
              </a:rPr>
              <a:t>В первую очередь наркотики влияют на психику, </a:t>
            </a:r>
            <a:r>
              <a:rPr b="1" lang="en-US" sz="2800" spc="-1" strike="noStrike">
                <a:solidFill>
                  <a:srgbClr val="afe1ff"/>
                </a:solidFill>
                <a:latin typeface="Arial"/>
              </a:rPr>
              <a:t>они приводят к духовной деградации, полному физическому истощению организма и к смерт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Rectangle 20"/>
          <p:cNvSpPr/>
          <p:nvPr/>
        </p:nvSpPr>
        <p:spPr>
          <a:xfrm>
            <a:off x="4500720" y="2637000"/>
            <a:ext cx="45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1"/>
          <p:cNvSpPr/>
          <p:nvPr/>
        </p:nvSpPr>
        <p:spPr>
          <a:xfrm>
            <a:off x="3995640" y="465300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e1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6" name="Picture 22" descr="21"/>
          <p:cNvPicPr/>
          <p:nvPr/>
        </p:nvPicPr>
        <p:blipFill>
          <a:blip r:embed="rId2"/>
          <a:stretch/>
        </p:blipFill>
        <p:spPr>
          <a:xfrm>
            <a:off x="3564000" y="2997360"/>
            <a:ext cx="1800000" cy="1527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5" descr="16"/>
          <p:cNvPicPr/>
          <p:nvPr/>
        </p:nvPicPr>
        <p:blipFill>
          <a:blip r:embed="rId3"/>
          <a:stretch/>
        </p:blipFill>
        <p:spPr>
          <a:xfrm>
            <a:off x="1332000" y="1341360"/>
            <a:ext cx="1636560" cy="3240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7" descr="19"/>
          <p:cNvPicPr/>
          <p:nvPr/>
        </p:nvPicPr>
        <p:blipFill>
          <a:blip r:embed="rId4"/>
          <a:stretch/>
        </p:blipFill>
        <p:spPr>
          <a:xfrm>
            <a:off x="5891040" y="1341360"/>
            <a:ext cx="2171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2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" descr="mozg"/>
          <p:cNvPicPr/>
          <p:nvPr/>
        </p:nvPicPr>
        <p:blipFill>
          <a:blip r:embed="rId1"/>
          <a:stretch/>
        </p:blipFill>
        <p:spPr>
          <a:xfrm>
            <a:off x="2268360" y="620640"/>
            <a:ext cx="5040360" cy="390708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5"/>
          <p:cNvSpPr/>
          <p:nvPr/>
        </p:nvSpPr>
        <p:spPr>
          <a:xfrm>
            <a:off x="539640" y="4653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e1ff"/>
                </a:solidFill>
                <a:latin typeface="Arial"/>
              </a:rPr>
              <a:t>При употреблении наркотиков </a:t>
            </a:r>
            <a:r>
              <a:rPr b="1" lang="en-US" sz="2400" spc="-1" strike="noStrike">
                <a:solidFill>
                  <a:srgbClr val="afe1ff"/>
                </a:solidFill>
                <a:latin typeface="Arial"/>
              </a:rPr>
              <a:t>начинает разлагаться печень, изменяют свою работу почки и вслед за ними начинают разрушаться все органы в организме, </a:t>
            </a:r>
            <a:r>
              <a:rPr b="1" lang="en-US" sz="2400" spc="-1" strike="noStrike">
                <a:solidFill>
                  <a:srgbClr val="afe1ff"/>
                </a:solidFill>
                <a:latin typeface="Arial"/>
              </a:rPr>
              <a:t>делая употребляющего наркотики инвалидом на всю жизнь.</a:t>
            </a:r>
            <a:r>
              <a:rPr b="0" lang="en-US" sz="2400" spc="-1" strike="noStrike">
                <a:solidFill>
                  <a:srgbClr val="afe1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5337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6"/>
          <p:cNvSpPr/>
          <p:nvPr/>
        </p:nvSpPr>
        <p:spPr>
          <a:xfrm>
            <a:off x="5508720" y="476280"/>
            <a:ext cx="331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e1ff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6" dur="3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7" descr="samerfon"/>
          <p:cNvPicPr/>
          <p:nvPr/>
        </p:nvPicPr>
        <p:blipFill>
          <a:blip r:embed="rId1">
            <a:alphaModFix amt="94000"/>
          </a:blip>
          <a:stretch/>
        </p:blipFill>
        <p:spPr>
          <a:xfrm>
            <a:off x="0" y="0"/>
            <a:ext cx="9720360" cy="709452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436" name="AutoShape 6"/>
          <p:cNvSpPr/>
          <p:nvPr/>
        </p:nvSpPr>
        <p:spPr>
          <a:xfrm>
            <a:off x="2195640" y="0"/>
            <a:ext cx="4500360" cy="2521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3400560" y="1341360"/>
            <a:ext cx="21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ЗДОРОВЬ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3492360" y="2492280"/>
            <a:ext cx="1800360" cy="165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Verdana"/>
              </a:rPr>
              <a:t>Спор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1763640" y="2492280"/>
            <a:ext cx="1800360" cy="165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Verdana"/>
              </a:rPr>
              <a:t>Заряд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Rectangle 10"/>
          <p:cNvSpPr/>
          <p:nvPr/>
        </p:nvSpPr>
        <p:spPr>
          <a:xfrm>
            <a:off x="5076720" y="2492280"/>
            <a:ext cx="2016360" cy="165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Verdana"/>
              </a:rPr>
              <a:t>Подвижны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cc00"/>
                </a:solidFill>
                <a:latin typeface="Verdana"/>
              </a:rPr>
              <a:t>игр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1763640" y="4221000"/>
            <a:ext cx="1800360" cy="1440000"/>
          </a:xfrm>
          <a:prstGeom prst="rect">
            <a:avLst/>
          </a:prstGeom>
          <a:solidFill>
            <a:srgbClr val="00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Соблюдени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режим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дн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3419640" y="4221000"/>
            <a:ext cx="1800000" cy="1440000"/>
          </a:xfrm>
          <a:prstGeom prst="rect">
            <a:avLst/>
          </a:prstGeom>
          <a:solidFill>
            <a:srgbClr val="00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Соблюдени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лично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гигие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5219640" y="4221000"/>
            <a:ext cx="1873440" cy="1440000"/>
          </a:xfrm>
          <a:prstGeom prst="rect">
            <a:avLst/>
          </a:prstGeom>
          <a:solidFill>
            <a:srgbClr val="00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Правильное</a:t>
            </a:r>
            <a:r>
              <a:rPr b="1" i="1" lang="en-US" sz="2400" spc="-1" strike="noStrike">
                <a:solidFill>
                  <a:srgbClr val="00cc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пита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4" descr="Sky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Sky_3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Sky_38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7" descr="046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8" descr="508dby62w5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9" descr="5091r7u3s7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0" descr="271070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1" descr="486042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2" descr="COVE2"/>
          <p:cNvPicPr/>
          <p:nvPr/>
        </p:nvPicPr>
        <p:blipFill>
          <a:blip r:embed="rId9"/>
          <a:stretch/>
        </p:blipFill>
        <p:spPr>
          <a:xfrm>
            <a:off x="0" y="-5724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3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3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3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3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commenda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 rot="20705400">
            <a:off x="128520" y="1163520"/>
            <a:ext cx="7678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ривычка, образ действия, состояние, поведение или склонность, усвоенные кем - нибудь за определенный период жизни, вошедшие в обыкновение, ставшие обычными, постоянными для кого-нибудь» ( Д.Ушак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Group 4"/>
          <p:cNvGrpSpPr/>
          <p:nvPr/>
        </p:nvGrpSpPr>
        <p:grpSpPr>
          <a:xfrm>
            <a:off x="611280" y="399960"/>
            <a:ext cx="7993080" cy="5977080"/>
            <a:chOff x="611280" y="399960"/>
            <a:chExt cx="7993080" cy="5977080"/>
          </a:xfrm>
        </p:grpSpPr>
        <p:pic>
          <p:nvPicPr>
            <p:cNvPr id="454" name="Picture 2" descr="emblema[1]"/>
            <p:cNvPicPr/>
            <p:nvPr/>
          </p:nvPicPr>
          <p:blipFill>
            <a:blip r:embed="rId1">
              <a:lum contrast="26000"/>
            </a:blip>
            <a:stretch/>
          </p:blipFill>
          <p:spPr>
            <a:xfrm>
              <a:off x="611280" y="399960"/>
              <a:ext cx="7993080" cy="5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Text Box 3"/>
            <p:cNvSpPr/>
            <p:nvPr/>
          </p:nvSpPr>
          <p:spPr>
            <a:xfrm>
              <a:off x="5435640" y="5589720"/>
              <a:ext cx="2449440" cy="3362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456" name="Neposedy-Podari-ulybku-miru(muzofon.com).mp3" descr=""/>
          <p:cNvPicPr/>
          <p:nvPr/>
        </p:nvPicPr>
        <p:blipFill>
          <a:blip r:embed="rId2"/>
          <a:stretch/>
        </p:blipFill>
        <p:spPr>
          <a:xfrm>
            <a:off x="179280" y="6453360"/>
            <a:ext cx="223920" cy="22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236845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5"/>
          <p:cNvSpPr/>
          <p:nvPr/>
        </p:nvSpPr>
        <p:spPr>
          <a:xfrm>
            <a:off x="2124000" y="620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«Сорняки и розы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1" name="Picture 6" descr="129957812771726677_509769770_b462402574_o"/>
          <p:cNvPicPr/>
          <p:nvPr/>
        </p:nvPicPr>
        <p:blipFill>
          <a:blip r:embed="rId1"/>
          <a:stretch/>
        </p:blipFill>
        <p:spPr>
          <a:xfrm>
            <a:off x="324000" y="2276640"/>
            <a:ext cx="3786120" cy="38178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http://supersadovod.ru/wp-content/uploads/2013/06/Ogorodnyie-opasnosti.jpg"/>
          <p:cNvPicPr/>
          <p:nvPr/>
        </p:nvPicPr>
        <p:blipFill>
          <a:blip r:embed="rId2"/>
          <a:stretch/>
        </p:blipFill>
        <p:spPr>
          <a:xfrm>
            <a:off x="4392720" y="2708280"/>
            <a:ext cx="475128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ae8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5"/>
          <p:cNvSpPr txBox="1"/>
          <p:nvPr/>
        </p:nvSpPr>
        <p:spPr>
          <a:xfrm>
            <a:off x="2273400" y="1197000"/>
            <a:ext cx="52909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РЕДНЫЕ 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ВЫЧКИ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4" name="Line 6"/>
          <p:cNvSpPr/>
          <p:nvPr/>
        </p:nvSpPr>
        <p:spPr>
          <a:xfrm flipH="1">
            <a:off x="1806480" y="2498760"/>
            <a:ext cx="9352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Line 7"/>
          <p:cNvSpPr/>
          <p:nvPr/>
        </p:nvSpPr>
        <p:spPr>
          <a:xfrm>
            <a:off x="4716360" y="29289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Line 8"/>
          <p:cNvSpPr/>
          <p:nvPr/>
        </p:nvSpPr>
        <p:spPr>
          <a:xfrm>
            <a:off x="6505560" y="2498760"/>
            <a:ext cx="8636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386640" y="378936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ТАБАКОКУРЕН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6334920" y="3784680"/>
            <a:ext cx="27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3362400" y="4941720"/>
            <a:ext cx="29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НАРКОТИК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5" descr="q_Nicotiana_tabacum"/>
          <p:cNvPicPr/>
          <p:nvPr/>
        </p:nvPicPr>
        <p:blipFill>
          <a:blip r:embed="rId1"/>
          <a:stretch/>
        </p:blipFill>
        <p:spPr>
          <a:xfrm>
            <a:off x="2322360" y="260280"/>
            <a:ext cx="4375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000" y="5661000"/>
            <a:ext cx="8218440" cy="4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Христофор Колумб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4" name="Picture 5" descr="a71983c59ec88946198588035ef_prev"/>
          <p:cNvPicPr/>
          <p:nvPr/>
        </p:nvPicPr>
        <p:blipFill>
          <a:blip r:embed="rId1"/>
          <a:stretch/>
        </p:blipFill>
        <p:spPr>
          <a:xfrm>
            <a:off x="755640" y="260280"/>
            <a:ext cx="770580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0" y="90792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Выкуривая 1 пачку сигарет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курильщик забивает свои легкие в год 1 литром никотиновой смолы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0" y="40766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Каждая сигарета укорачивает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жизнь на 8 минут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0" y="456876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8" name="Picture 11" descr="2866291_large"/>
          <p:cNvPicPr/>
          <p:nvPr/>
        </p:nvPicPr>
        <p:blipFill>
          <a:blip r:embed="rId1"/>
          <a:stretch/>
        </p:blipFill>
        <p:spPr>
          <a:xfrm>
            <a:off x="4411800" y="260280"/>
            <a:ext cx="47322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-181440" y="333000"/>
            <a:ext cx="565308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Курение не только сокращ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жизнь, но и снижает ее каче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икотин вызыв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больш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количество заболеваний, так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как инсуль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инфаркт  миокар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болезни крови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ртерий ног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оражает органы чувст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ищеварения и дыха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оражает нервную систему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7" descr="kurit"/>
          <p:cNvPicPr/>
          <p:nvPr/>
        </p:nvPicPr>
        <p:blipFill>
          <a:blip r:embed="rId1"/>
          <a:stretch/>
        </p:blipFill>
        <p:spPr>
          <a:xfrm>
            <a:off x="4788000" y="981000"/>
            <a:ext cx="42116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12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36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92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8119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3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3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3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samerfon"/>
          <p:cNvPicPr/>
          <p:nvPr/>
        </p:nvPicPr>
        <p:blipFill>
          <a:blip r:embed="rId1"/>
          <a:stretch/>
        </p:blipFill>
        <p:spPr>
          <a:xfrm>
            <a:off x="0" y="0"/>
            <a:ext cx="9720360" cy="70945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74448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Спасенье в нас самих, ребята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Скажите никотину: «Нет!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Вернется чистота и свежес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Мы станем лучшей из плане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И будут родники искриться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И люди будут все стремиться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Чтоб наступил такой рубеж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17:54:03Z</dcterms:created>
  <dc:creator>Оля</dc:creator>
  <dc:description/>
  <dc:language>en-US</dc:language>
  <cp:lastModifiedBy>семья</cp:lastModifiedBy>
  <dcterms:modified xsi:type="dcterms:W3CDTF">2014-01-25T16:11:16Z</dcterms:modified>
  <cp:revision>80</cp:revision>
  <dc:subject/>
  <dc:title>Слайд 1</dc:title>
</cp:coreProperties>
</file>