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20D-E03B-4E86-9937-F7BCFBF5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624-7A97-4B84-B474-BFFA7A65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150-6A07-4390-B782-A065153E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634-E187-43D7-B5C6-E057A88B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25B-5692-43E6-9B52-F7241AEA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B86-B43A-4982-AFA4-781A5868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A82-8671-4098-9AEF-6992670A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D7E-2CD4-4F98-B3D7-21F61082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674-2B42-432E-B40A-DAF538F9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D5E-5585-41B2-9E07-6D1BA842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83D-1D42-4A6B-B086-9B37EA3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438-C173-415D-8BC0-D38E89E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EC9-E81B-4501-8782-D67BD254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«Цветная» разм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сыном или доч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братом или сестр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вну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друг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учени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росто хорошим челове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cc"/>
                </a:solidFill>
                <a:latin typeface="Arial"/>
              </a:rPr>
              <a:t>Помните  - улыбаясь, мы улучшаем свое здоровье и окружающую нас жиз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гра «Паут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43185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Arial"/>
              </a:rPr>
              <a:t>Игра «Паути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5" descr="1191179443_2.jpg"/>
          <p:cNvPicPr/>
          <p:nvPr/>
        </p:nvPicPr>
        <p:blipFill>
          <a:blip r:embed="rId1"/>
          <a:stretch/>
        </p:blipFill>
        <p:spPr>
          <a:xfrm>
            <a:off x="1214280" y="3143160"/>
            <a:ext cx="3500640" cy="3029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3880" y="286920"/>
            <a:ext cx="7427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0"/>
            <a:ext cx="9144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Удачи вс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поисках добрых де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66i.jpeg"/>
          <p:cNvPicPr/>
          <p:nvPr/>
        </p:nvPicPr>
        <p:blipFill>
          <a:blip r:embed="rId2"/>
          <a:stretch/>
        </p:blipFill>
        <p:spPr>
          <a:xfrm>
            <a:off x="7380360" y="5157720"/>
            <a:ext cx="1357200" cy="1368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Анима(104).gif"/>
          <p:cNvPicPr/>
          <p:nvPr/>
        </p:nvPicPr>
        <p:blipFill>
          <a:blip r:embed="rId3"/>
          <a:stretch/>
        </p:blipFill>
        <p:spPr>
          <a:xfrm flipH="1">
            <a:off x="8100720" y="1125360"/>
            <a:ext cx="1042920" cy="1171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Анима (29).gif"/>
          <p:cNvPicPr/>
          <p:nvPr/>
        </p:nvPicPr>
        <p:blipFill>
          <a:blip r:embed="rId4"/>
          <a:stretch/>
        </p:blipFill>
        <p:spPr>
          <a:xfrm flipH="1">
            <a:off x="6156000" y="4221000"/>
            <a:ext cx="121428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Анима (19).gif"/>
          <p:cNvPicPr/>
          <p:nvPr/>
        </p:nvPicPr>
        <p:blipFill>
          <a:blip r:embed="rId5"/>
          <a:stretch/>
        </p:blipFill>
        <p:spPr>
          <a:xfrm>
            <a:off x="468360" y="476280"/>
            <a:ext cx="107928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Поговорим о доброте и отзывчив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2232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99"/>
                </a:solidFill>
                <a:latin typeface="Arial"/>
              </a:rPr>
              <a:t>«Улыбнись миру и мир улыбнется теб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3937320" cy="39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словицы о добро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Жизнь дана на добрые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а желаешь, добро и дел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ый человек добру и уч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Шапочка бакалавра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6648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558720"/>
            <a:ext cx="9144000" cy="77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46080"/>
            <a:ext cx="6048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2:53:12Z</dcterms:created>
  <dc:creator>Тихон</dc:creator>
  <dc:description/>
  <dc:language>en-US</dc:language>
  <cp:lastModifiedBy>Тихон</cp:lastModifiedBy>
  <dcterms:modified xsi:type="dcterms:W3CDTF">2013-12-02T14:51:19Z</dcterms:modified>
  <cp:revision>3</cp:revision>
  <dc:subject/>
  <dc:title>Поговорим о доброте и отзывчивости</dc:title>
</cp:coreProperties>
</file>