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EA2-3B61-414C-8DEC-ED3350D1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FC8-405C-4DE2-84F7-BB98C93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D18-E3C5-4421-8E1F-B4C00A95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F04-0182-42D5-A18E-17924F5B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6F9-E0BC-41AD-B99C-EA63F40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B67-1ECC-45DD-A742-D381E210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A15-2A6B-4C5E-A928-9425AC3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04C-D0B8-48B7-BCAF-62E72665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D67-8C77-4DFE-9467-C2A4851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3D3-FB14-4762-97A9-8881E16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D4D-03D0-41B4-9DFD-AD0A893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452-6491-43D5-AC6B-99093B69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3E38-44C4-46BA-B2F2-D7D8FDBAE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«Цветная» разм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сыном или доч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братом или сестр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вну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друг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учени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росто хорошим челове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cc"/>
                </a:solidFill>
                <a:latin typeface="Arial"/>
              </a:rPr>
              <a:t>Помните  - улыбаясь, мы улучшаем свое здоровье и окружающую нас жиз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гра «Паут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43185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Arial"/>
              </a:rPr>
              <a:t>Игра «Паути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5" descr="1191179443_2.jpg"/>
          <p:cNvPicPr/>
          <p:nvPr/>
        </p:nvPicPr>
        <p:blipFill>
          <a:blip r:embed="rId1"/>
          <a:stretch/>
        </p:blipFill>
        <p:spPr>
          <a:xfrm>
            <a:off x="1214280" y="3143160"/>
            <a:ext cx="3500640" cy="3029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3880" y="286920"/>
            <a:ext cx="7427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0"/>
            <a:ext cx="9144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Удачи вс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поисках добрых де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66i.jpeg"/>
          <p:cNvPicPr/>
          <p:nvPr/>
        </p:nvPicPr>
        <p:blipFill>
          <a:blip r:embed="rId2"/>
          <a:stretch/>
        </p:blipFill>
        <p:spPr>
          <a:xfrm>
            <a:off x="7380360" y="5157720"/>
            <a:ext cx="1357200" cy="1368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Анима(104).gif"/>
          <p:cNvPicPr/>
          <p:nvPr/>
        </p:nvPicPr>
        <p:blipFill>
          <a:blip r:embed="rId3"/>
          <a:stretch/>
        </p:blipFill>
        <p:spPr>
          <a:xfrm flipH="1">
            <a:off x="8100720" y="1125360"/>
            <a:ext cx="1042920" cy="1171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Анима (29).gif"/>
          <p:cNvPicPr/>
          <p:nvPr/>
        </p:nvPicPr>
        <p:blipFill>
          <a:blip r:embed="rId4"/>
          <a:stretch/>
        </p:blipFill>
        <p:spPr>
          <a:xfrm flipH="1">
            <a:off x="6156000" y="4221000"/>
            <a:ext cx="121428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Анима (19).gif"/>
          <p:cNvPicPr/>
          <p:nvPr/>
        </p:nvPicPr>
        <p:blipFill>
          <a:blip r:embed="rId5"/>
          <a:stretch/>
        </p:blipFill>
        <p:spPr>
          <a:xfrm>
            <a:off x="468360" y="476280"/>
            <a:ext cx="107928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Поговорим о доброте и отзывчив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2232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99"/>
                </a:solidFill>
                <a:latin typeface="Arial"/>
              </a:rPr>
              <a:t>«Улыбнись миру и мир улыбнется теб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3937320" cy="39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словицы о добро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Жизнь дана на добрые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а желаешь, добро и дел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ый человек добру и уч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Шапочка бакалавра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6648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558720"/>
            <a:ext cx="9144000" cy="77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46080"/>
            <a:ext cx="6048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2:53:12Z</dcterms:created>
  <dc:creator>Тихон</dc:creator>
  <dc:description/>
  <dc:language>en-US</dc:language>
  <cp:lastModifiedBy>Тихон</cp:lastModifiedBy>
  <dcterms:modified xsi:type="dcterms:W3CDTF">2013-12-02T14:51:19Z</dcterms:modified>
  <cp:revision>3</cp:revision>
  <dc:subject/>
  <dc:title>Поговорим о доброте и отзывчивости</dc:title>
</cp:coreProperties>
</file>