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B169-63E8-4940-8AB9-51DD6B9BA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E442-2561-411F-B5E7-2824D0E9D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328-BE98-40E4-9C82-DB937C38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8A5-F0A2-4A63-A564-BE3ACDB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B0A-44AA-49EF-928D-2129364E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454-1699-4FE3-A65A-53A496CA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8C3-850B-41AC-9FF3-6D1D00D6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9D4-FD93-403B-8C7B-969D51A3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8CF-73E4-4A31-8ADB-D0EB8EE8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6F4-2595-430B-954A-642058DA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A521-20E6-472F-B2B5-F7DFE5F6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C6F-AD4B-4CB3-84FE-A9B6562F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A16-1226-4F94-B0EC-822E06BF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FC2-5FF6-43F4-956A-26B22CDF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5A2A-0298-408D-B581-601D8F8FBA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290080" cy="17622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3822840" y="4803840"/>
            <a:ext cx="485748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3" descr=""/>
          <p:cNvPicPr/>
          <p:nvPr/>
        </p:nvPicPr>
        <p:blipFill>
          <a:blip r:embed="rId3"/>
          <a:stretch/>
        </p:blipFill>
        <p:spPr>
          <a:xfrm>
            <a:off x="420840" y="304920"/>
            <a:ext cx="80946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1238400"/>
            <a:ext cx="2193840" cy="6089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1676520" y="55440"/>
            <a:ext cx="568800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3"/>
          <a:stretch/>
        </p:blipFill>
        <p:spPr>
          <a:xfrm>
            <a:off x="3687840" y="1163520"/>
            <a:ext cx="2158920" cy="6091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4" descr=""/>
          <p:cNvPicPr/>
          <p:nvPr/>
        </p:nvPicPr>
        <p:blipFill>
          <a:blip r:embed="rId4"/>
          <a:stretch/>
        </p:blipFill>
        <p:spPr>
          <a:xfrm>
            <a:off x="6546960" y="1238400"/>
            <a:ext cx="21096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1255680" y="878040"/>
            <a:ext cx="7211880" cy="536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2715120" y="42120"/>
            <a:ext cx="37134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гений Бочкарёв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84360" y="172008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БТМПВЧФКНШЛЖЗЦ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ВМСПЛБШГРДБЛ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ЛГНТВСЧЦФБХН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МРГКТБДЗЩЗБЧВ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ФЩМЖДШХЧМКПБРВ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ТКЗРМВДГБФКЗР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2" descr=""/>
          <p:cNvPicPr/>
          <p:nvPr/>
        </p:nvPicPr>
        <p:blipFill>
          <a:blip r:embed="rId1"/>
          <a:stretch/>
        </p:blipFill>
        <p:spPr>
          <a:xfrm>
            <a:off x="341280" y="219240"/>
            <a:ext cx="8558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24000" y="626400"/>
            <a:ext cx="8532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56"/>
                </a:solidFill>
                <a:latin typeface="Arial"/>
                <a:ea typeface="Times New Roman"/>
              </a:rPr>
              <a:t>Набор деформированных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1. стоящего мимо осторожно автомобиля прох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2. дали каши Маше манной наш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3. летом одним и зимой цве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4. рыбу на ловят рыбаки рыбал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5. ко мне друзья пришли мои на празд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6. у деда, Мороза красивые легкие сани бы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7. любимое дерево мое белая бере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8. в саду в нашем расцвела клуб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9. мы электричке на доехали до ста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6"/>
                </a:solidFill>
                <a:latin typeface="Arial"/>
                <a:ea typeface="Times New Roman"/>
              </a:rPr>
              <a:t>10. ледяная , крутая и длинная горка бы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60800" y="18900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ы Шул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692280"/>
          <a:ext cx="6337440" cy="6249960"/>
        </p:xfrm>
        <a:graphic>
          <a:graphicData uri="http://schemas.openxmlformats.org/drawingml/2006/table">
            <a:tbl>
              <a:tblPr/>
              <a:tblGrid>
                <a:gridCol w="1266840"/>
                <a:gridCol w="1268640"/>
                <a:gridCol w="1266480"/>
                <a:gridCol w="1266840"/>
                <a:gridCol w="1268640"/>
              </a:tblGrid>
              <a:tr h="10411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1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1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9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1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148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226476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-------4-------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0--------5---------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4------------6-------------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5---------------8----------------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6-------------------9------------------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7----------------------19----------------------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2" descr=""/>
          <p:cNvPicPr/>
          <p:nvPr/>
        </p:nvPicPr>
        <p:blipFill>
          <a:blip r:embed="rId1"/>
          <a:stretch/>
        </p:blipFill>
        <p:spPr>
          <a:xfrm>
            <a:off x="2103480" y="774720"/>
            <a:ext cx="493056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-55440" y="950760"/>
            <a:ext cx="8997840" cy="4426200"/>
          </a:xfrm>
          <a:prstGeom prst="rect">
            <a:avLst/>
          </a:prstGeom>
          <a:ln w="0">
            <a:noFill/>
          </a:ln>
        </p:spPr>
      </p:pic>
      <p:sp>
        <p:nvSpPr>
          <p:cNvPr id="65" name="Блок-схема: узел 2"/>
          <p:cNvSpPr/>
          <p:nvPr/>
        </p:nvSpPr>
        <p:spPr>
          <a:xfrm>
            <a:off x="4284720" y="1557360"/>
            <a:ext cx="216000" cy="2872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3"/>
          <p:cNvSpPr/>
          <p:nvPr/>
        </p:nvSpPr>
        <p:spPr>
          <a:xfrm>
            <a:off x="4284720" y="2349360"/>
            <a:ext cx="216000" cy="2876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узел 4"/>
          <p:cNvSpPr/>
          <p:nvPr/>
        </p:nvSpPr>
        <p:spPr>
          <a:xfrm>
            <a:off x="4284720" y="3141720"/>
            <a:ext cx="216000" cy="2872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узел 5"/>
          <p:cNvSpPr/>
          <p:nvPr/>
        </p:nvSpPr>
        <p:spPr>
          <a:xfrm>
            <a:off x="4284720" y="4005360"/>
            <a:ext cx="216000" cy="2872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узел 6"/>
          <p:cNvSpPr/>
          <p:nvPr/>
        </p:nvSpPr>
        <p:spPr>
          <a:xfrm>
            <a:off x="4284720" y="4869000"/>
            <a:ext cx="216000" cy="2887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roup 38" descr=""/>
          <p:cNvPicPr/>
          <p:nvPr/>
        </p:nvPicPr>
        <p:blipFill>
          <a:blip r:embed="rId1"/>
          <a:stretch/>
        </p:blipFill>
        <p:spPr>
          <a:xfrm>
            <a:off x="822240" y="255600"/>
            <a:ext cx="1019160" cy="944640"/>
          </a:xfrm>
          <a:prstGeom prst="rect">
            <a:avLst/>
          </a:prstGeom>
          <a:ln w="0">
            <a:noFill/>
          </a:ln>
        </p:spPr>
      </p:pic>
      <p:pic>
        <p:nvPicPr>
          <p:cNvPr id="71" name="Group 42" descr=""/>
          <p:cNvPicPr/>
          <p:nvPr/>
        </p:nvPicPr>
        <p:blipFill>
          <a:blip r:embed="rId2"/>
          <a:stretch/>
        </p:blipFill>
        <p:spPr>
          <a:xfrm>
            <a:off x="7156440" y="3565440"/>
            <a:ext cx="102384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Group 48" descr=""/>
          <p:cNvPicPr/>
          <p:nvPr/>
        </p:nvPicPr>
        <p:blipFill>
          <a:blip r:embed="rId3"/>
          <a:stretch/>
        </p:blipFill>
        <p:spPr>
          <a:xfrm>
            <a:off x="4853160" y="306072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73" name="Group 51" descr=""/>
          <p:cNvPicPr/>
          <p:nvPr/>
        </p:nvPicPr>
        <p:blipFill>
          <a:blip r:embed="rId4"/>
          <a:stretch/>
        </p:blipFill>
        <p:spPr>
          <a:xfrm>
            <a:off x="2041560" y="2487600"/>
            <a:ext cx="1025640" cy="950760"/>
          </a:xfrm>
          <a:prstGeom prst="rect">
            <a:avLst/>
          </a:prstGeom>
          <a:ln w="0">
            <a:noFill/>
          </a:ln>
        </p:spPr>
      </p:pic>
      <p:pic>
        <p:nvPicPr>
          <p:cNvPr id="74" name="Group 57" descr=""/>
          <p:cNvPicPr/>
          <p:nvPr/>
        </p:nvPicPr>
        <p:blipFill>
          <a:blip r:embed="rId5"/>
          <a:stretch/>
        </p:blipFill>
        <p:spPr>
          <a:xfrm>
            <a:off x="853920" y="5425920"/>
            <a:ext cx="1017720" cy="944640"/>
          </a:xfrm>
          <a:prstGeom prst="rect">
            <a:avLst/>
          </a:prstGeom>
          <a:ln w="0">
            <a:noFill/>
          </a:ln>
        </p:spPr>
      </p:pic>
      <p:pic>
        <p:nvPicPr>
          <p:cNvPr id="75" name="Group 60" descr=""/>
          <p:cNvPicPr/>
          <p:nvPr/>
        </p:nvPicPr>
        <p:blipFill>
          <a:blip r:embed="rId6"/>
          <a:stretch/>
        </p:blipFill>
        <p:spPr>
          <a:xfrm>
            <a:off x="4352760" y="4863960"/>
            <a:ext cx="1017720" cy="946440"/>
          </a:xfrm>
          <a:prstGeom prst="rect">
            <a:avLst/>
          </a:prstGeom>
          <a:ln w="0">
            <a:noFill/>
          </a:ln>
        </p:spPr>
      </p:pic>
      <p:pic>
        <p:nvPicPr>
          <p:cNvPr id="76" name="Group 63" descr=""/>
          <p:cNvPicPr/>
          <p:nvPr/>
        </p:nvPicPr>
        <p:blipFill>
          <a:blip r:embed="rId7"/>
          <a:stretch/>
        </p:blipFill>
        <p:spPr>
          <a:xfrm>
            <a:off x="5284800" y="133524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77" name="Group 66" descr=""/>
          <p:cNvPicPr/>
          <p:nvPr/>
        </p:nvPicPr>
        <p:blipFill>
          <a:blip r:embed="rId8"/>
          <a:stretch/>
        </p:blipFill>
        <p:spPr>
          <a:xfrm>
            <a:off x="3919680" y="255600"/>
            <a:ext cx="1017360" cy="944640"/>
          </a:xfrm>
          <a:prstGeom prst="rect">
            <a:avLst/>
          </a:prstGeom>
          <a:ln w="0">
            <a:noFill/>
          </a:ln>
        </p:spPr>
      </p:pic>
      <p:pic>
        <p:nvPicPr>
          <p:cNvPr id="78" name="Group 72" descr=""/>
          <p:cNvPicPr/>
          <p:nvPr/>
        </p:nvPicPr>
        <p:blipFill>
          <a:blip r:embed="rId9"/>
          <a:stretch/>
        </p:blipFill>
        <p:spPr>
          <a:xfrm>
            <a:off x="7443720" y="255600"/>
            <a:ext cx="1023840" cy="944640"/>
          </a:xfrm>
          <a:prstGeom prst="rect">
            <a:avLst/>
          </a:prstGeom>
          <a:ln w="0">
            <a:noFill/>
          </a:ln>
        </p:spPr>
      </p:pic>
      <p:pic>
        <p:nvPicPr>
          <p:cNvPr id="79" name="Group 75" descr=""/>
          <p:cNvPicPr/>
          <p:nvPr/>
        </p:nvPicPr>
        <p:blipFill>
          <a:blip r:embed="rId10"/>
          <a:stretch/>
        </p:blipFill>
        <p:spPr>
          <a:xfrm>
            <a:off x="3919680" y="2414520"/>
            <a:ext cx="1017360" cy="9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162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5 C 0.15434 -0.28865 0.27414 -0.14745 0.27414 0.02593 C 0.27414 0.19954 0.15434 0.34051 0.00764 0.34051 C -0.13888 0.34051 -0.25763 0.19954 -0.25763 0.02593 C -0.25763 -0.14745 -0.13888 -0.28865 0.00764 -0.28865 Z">
                                      <p:cBhvr>
                                        <p:cTn id="16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022E-016 L 0.33073 -0.64815 E">
                                      <p:cBhvr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37 -0.72963 L 0.71667 -0.00533 E">
                                      <p:cBhvr>
                                        <p:cTn id="17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7 -0.00533 L 0.00781 0.00509 E">
                                      <p:cBhvr>
                                        <p:cTn id="17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9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-0.40174 -4.07407E-006 E">
                                      <p:cBhvr>
                                        <p:cTn id="19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500"/>
                            </p:stCondLst>
                            <p:childTnLst>
                              <p:par>
                                <p:cTn id="1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1 0.02639 L -0.39375 0.80324 E">
                                      <p:cBhvr>
                                        <p:cTn id="19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76 0.80324 L 0.42535 0.80324 E">
                                      <p:cBhvr>
                                        <p:cTn id="20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9500"/>
                            </p:stCondLst>
                            <p:childTnLst>
                              <p:par>
                                <p:cTn id="20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35 0.80324 L 0.42535 -0.00532 E">
                                      <p:cBhvr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35 -0.00532 L -0.39375 -0.00532 E">
                                      <p:cBhvr>
                                        <p:cTn id="20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3500"/>
                            </p:stCondLst>
                            <p:childTnLst>
                              <p:par>
                                <p:cTn id="2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3:00:58Z</dcterms:created>
  <dc:creator>Усольцева</dc:creator>
  <dc:description/>
  <dc:language>en-US</dc:language>
  <cp:lastModifiedBy>Усольцева</cp:lastModifiedBy>
  <dcterms:modified xsi:type="dcterms:W3CDTF">2014-01-25T06:19:19Z</dcterms:modified>
  <cp:revision>41</cp:revision>
  <dc:subject/>
  <dc:title>Слайд 1</dc:title>
</cp:coreProperties>
</file>