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0AFA-98A4-4F0D-88E3-19895BA2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766E-6219-4BBE-891F-12C8AFE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CDDF-1D75-4D3A-9CEB-11D35E52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AA59-84A7-4C49-862D-C5280CB1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A8E3-E26C-43B8-B7BA-7765063C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D732-0FEF-4863-87EA-E774824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F60D-8983-4C6C-A7EC-EFDC6A9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4CD5-6F23-4D2F-94DD-F940262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458-1C45-4F42-976C-AA17C30E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D5C1-BA33-47DE-A1B3-3A310749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F085-9E08-44CE-A2B8-D367C85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7037-F4C7-4EA0-AF4B-0568B189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ACC-2BC3-4059-9341-AF4FA95D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635C-F72A-4868-BD13-331C7B2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046E-34EF-493D-959D-CA69B2FE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D357-92B7-4233-B45A-5EC0A280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39CB-B989-4790-893C-81C2FF11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B8B2-4E0F-4E6E-9FEF-2C334A21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A487-C7E9-440D-A5D8-DDB4C26F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4EC6-C8DF-4A5F-8FFC-71C8614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FA42-8174-4137-97FF-5BA225FD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AD5D-A64F-42F1-B97E-D4415EA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0603-0C02-4A5D-A1AC-5A6E843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6574-1808-4FF2-8456-F23B3D3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AE6B-2757-4D40-B26F-A18B516AAB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C486-C257-4409-AD97-970C25EF9D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Реакции замещен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сегодня продолжим изучение темы «Химические реакции». Закрепим умение записывать уравнения  химических реакций. Познакомимся с новым типом химических реакций – реакциями замещения. Научимся предсказывать продукты реакций замещения. Проведем лабораторную раб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Первое правило ряда напряжений 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металл стоит в этом ряду до водорода, он способен вытеснять его из растворов кислот, если после водорода, то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пишите в рабочих тетрадях первое правило ряда напряжений металлов      (стр. 105, №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ыполните задание  № 3 на странице 106 в рабочих тетрад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Второе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 правило ряда напряжений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Если металл стоит в ряду напряжений до металла соли, то он способен вытеснить этот металл из раствора его со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Решите задачу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Жилец из квартиры №26 решил помочь освободиться жильцу из квартиры №29 из его сульфата, но сам попал в западню.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ы ответить на этот вопрос, проведем лабораторный опыт «Взаимодействие сульфата (II) железом». Соблюдаем правила техники безопасности при работе в химической лаборато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нструкция по технике безопасно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началом работы приготовьте рабочее мес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ступайте к выполнению эксперимента только с разрешения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имательно выслушайте инструктаж учителя и строго соблюдайте инструкцию и следуйте указаниям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ыполнении лабораторной работы неукоснительно соблюдайте правила техники безопасности, следите, чтобы вещества не попадали на кожу лица и рук, так как многие из них вызывают раздражение кожи и слизистых оболочек. Старайтесь не пролить растворы веществ, а если все-таки пролили сразу сообщите об этом учите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воры веществ из пипетки отжимайте до последней капли о стенку проби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забывайте о правилах обращения со стеклянной посу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зырьки с растворами не оставляйте открытыми (закрывайте сразу после того как набрали раствор в пробирку). Крышки от пузырьков не путай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жде, чем приступить к выполнению эксперимента, по инструктивной карточке изучите порядок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Лабораторный опы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формляем результаты лабораторного опыта в виде табл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ывод 1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о в ряду напряжений металлов стоит левее меди, поэтому железо вытесняет медь из его со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 2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ь в ряду напряжений металлов стоит левее серебра, поэтому медь вытесняет серебро из раствора его со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Лабораторный опы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 А1 + 3 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1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2 А1С1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3 С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 + 2 Ag 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= 2 Ag +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 (NO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200" spc="-1" strike="noStrike">
                <a:solidFill>
                  <a:srgbClr val="dfdef6"/>
                </a:solidFill>
                <a:latin typeface="Arial"/>
              </a:rPr>
              <a:t>Выполните задания:</a:t>
            </a:r>
            <a:endParaRPr b="0" lang="en-US" sz="6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ставьте вместо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?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соответствующие химические формулы, расставьте коэффициенты и определите тип химических реакц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Запишите уравнения химических реакций, расставьте коэффициенты и укажите типы химических реакций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1) Магний взаимодействует при нагревании с оксидом кремния (IV) с образованием оксида магния и крем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2) Вода взаимодействует с хлором, с образованием хлороводородной кислоты и кислоро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3887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Ответьте на следующие вопросы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мы изучали сегодня на уро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замещ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чего следует начинать расстановку коэффициентов, если в химической реа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вует со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два правила ряда активности метал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и когда открыл водород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§ 27 Реакции замещени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бочая тетрадь, страница 106, № 4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перечисленных явлений выберите только химическ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плавление параф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образование ине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ржавление гвозд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) разложение воды электрическим током на водород и кисл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) горение древес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ажите признаки и условия для явле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) и  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называются реакции при которых выделяется тепло и св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реакции называются экзо- и эндотермическим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соедин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разло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формулируйте закон сохранения массы веществ. Кем и когда он был открыт? В чем его сущн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жно ли условно записать химическую реакцию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химическое уравн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коэффициен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ретий лишн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166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Выполните задания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асставьте коэффициенты и укажите тип реак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O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пишите уравнения реакций по схема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гольная кислота→ вода + оксид углерод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Железо + хлор → хлорид желез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О каких веществах идет речь в отрывке из стихотворения С. Щипачева «Читая Менделеева»?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Ты знаешь газ легчайший -  вод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соединенье с кислородом –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юньский дождь от всех своих щедро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ентябрьские туманы на рассвете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ишите формулы данных веществ. Составьте уравнения реакций разложения и соединения с участием эти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= 2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– реакция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азложения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=  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акция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орода и кислорода с образованием 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Выполните зада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абочая тетрадь, стр. 105, №1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Zn + HCl = ZnCl</a:t>
            </a:r>
            <a:r>
              <a:rPr b="0" lang="en-US" sz="39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39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900" spc="-1" strike="noStrike">
                <a:solidFill>
                  <a:srgbClr val="ffffff"/>
                </a:solidFill>
                <a:latin typeface="Arial"/>
              </a:rPr>
              <a:t>Запишите аналогичную реакцию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ля алюминия и серной кислот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Реакции замещения – это реакции, при осуществлении которых атомы простого вещества замещают атомы одного из элементов в сложном веще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5:07:31Z</dcterms:created>
  <dc:creator>-</dc:creator>
  <dc:description/>
  <dc:language>en-US</dc:language>
  <cp:lastModifiedBy>Admin</cp:lastModifiedBy>
  <dcterms:modified xsi:type="dcterms:W3CDTF">2009-03-17T14:39:32Z</dcterms:modified>
  <cp:revision>18</cp:revision>
  <dc:subject/>
  <dc:title>Реакции замещения</dc:title>
</cp:coreProperties>
</file>