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3B9B-4387-43DC-860F-0FEF22E6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F843-3DC3-4CC2-9A99-83B5FB55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87CB-CF92-4182-BC08-416B73D5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A4EE-EA9E-4513-9194-4D389C71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B122-6608-42D2-AF2A-744A1E06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0C54-0B71-45D9-AA33-3357D2E5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43FC-52EF-48E7-8D69-DEC6EDF7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F0BC-6126-476E-90CC-F2EE162F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164D-411C-4C6B-B314-CE926764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0051-F477-4DA6-A780-730236E1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4A0F-CC75-49CE-B10C-06802977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62E2-50C2-4FF1-A333-1D7E0382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E6CE-E16D-46BF-B565-3B5F4072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1CE5-59FF-4A24-8B9B-3155D468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E2CE-5AF6-43E7-A3AA-08F3B81C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C75E-02F8-4885-8DBA-F699D1A7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7BB1-5860-4F89-B78F-499D8649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B612-4C3E-45FA-941A-D229486F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A729-F6E4-439D-9CB8-F87D242C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C685-DE63-4793-8D59-DABFAF2E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FA55-6476-4237-B715-D8E4019D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32BA-8556-4ED0-99B4-F2EB5E63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A565-8A2C-4A29-93C7-6A3F075F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0F95-CE4E-4C26-9F26-83A0D93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08F0-95D8-4838-92C4-BE38DF77E6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EA7B-D87D-4C74-9B95-B9079A85C8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Реакции замещен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39640" y="220464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сегодня продолжим изучение темы «Химические реакции». Закрепим умение записывать уравнения  химических реакций. Познакомимся с новым типом химических реакций – реакциями замещения. Научимся предсказывать продукты реакций замещения. Проведем лабораторную рабо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Первое правило ряда напряжений 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металл стоит в этом ряду до водорода, он способен вытеснять его из растворов кислот, если после водорода, то 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пишите в рабочих тетрадях первое правило ряда напряжений металлов      (стр. 105, №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ыполните задание  № 3 на странице 106 в рабочих тетрад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Второе</a:t>
            </a: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 правило ряда напряжений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Если металл стоит в ряду напряжений до металла соли, то он способен вытеснить этот металл из раствора его со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Решите задачу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Жилец из квартиры №26 решил помочь освободиться жильцу из квартиры №29 из его сульфата, но сам попал в западню. Поче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бы ответить на этот вопрос, проведем лабораторный опыт «Взаимодействие сульфата (II) железом». Соблюдаем правила техники безопасности при работе в химической лаборатор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Инструкция по технике безопасност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 началом работы приготовьте рабочее мест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ступайте к выполнению эксперимента только с разрешения уч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имательно выслушайте инструктаж учителя и строго соблюдайте инструкцию и следуйте указаниям уч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ыполнении лабораторной работы неукоснительно соблюдайте правила техники безопасности, следите, чтобы вещества не попадали на кожу лица и рук, так как многие из них вызывают раздражение кожи и слизистых оболочек. Старайтесь не пролить растворы веществ, а если все-таки пролили сразу сообщите об этом учите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воры веществ из пипетки отжимайте до последней капли о стенку пробир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забывайте о правилах обращения со стеклянной посу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зырьки с растворами не оставляйте открытыми (закрывайте сразу после того как набрали раствор в пробирку). Крышки от пузырьков не путай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жде, чем приступить к выполнению эксперимента, по инструктивной карточке изучите порядок раб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Лабораторный опы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формляем результаты лабораторного опыта в виде табл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ывод 1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езо в ряду напряжений металлов стоит левее меди, поэтому железо вытесняет медь из его со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 2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ь в ряду напряжений металлов стоит левее серебра, поэтому медь вытесняет серебро из раствора его со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Лабораторный опы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 А1 + 3 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1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2 А1С1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+ 3 С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 + 2 Ag N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= 2 Ag +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 (NO 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200" spc="-1" strike="noStrike">
                <a:solidFill>
                  <a:srgbClr val="dfdef6"/>
                </a:solidFill>
                <a:latin typeface="Arial"/>
              </a:rPr>
              <a:t>Выполните задания:</a:t>
            </a:r>
            <a:endParaRPr b="0" lang="en-US" sz="6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ставьте вместо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?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соответствующие химические формулы, расставьте коэффициенты и определите тип химических реакци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Запишите уравнения химических реакций, расставьте коэффициенты и укажите типы химических реакций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1) Магний взаимодействует при нагревании с оксидом кремния (IV) с образованием оксида магния и крем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2) Вода взаимодействует с хлором, с образованием хлороводородной кислоты и кислоро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835280" y="2852640"/>
            <a:ext cx="3887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Ответьте на следующие вопросы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мы изучали сегодня на урок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реакции называются реакциями замещ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чего следует начинать расстановку коэффициентов, если в химической реа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вует сол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овите два правила ряда активности метал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и когда открыл водород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Домашнее задание: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§ 27 Реакции замещени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бочая тетрадь, страница 106, № 4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перечисленных явлений выберите только химическ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плавление парафи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образование ине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ржавление гвозд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) разложение воды электрическим током на водород и кислор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) горение древес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кажите признаки и условия для явле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) и  г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называются реакции при которых выделяется тепло и св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реакции называются экзо- и эндотермическим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реакции называются реакциями соедин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реакции называются реакциями разлож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формулируйте закон сохранения массы веществ. Кем и когда он был открыт? В чем его сущно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жно ли условно записать химическую реакцию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такое химическое уравне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такое коэффициен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ретий лишн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166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Выполните задания: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915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асставьте коэффициенты и укажите тип реак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O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пишите уравнения реакций по схема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Угольная кислота→ вода + оксид углерод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Железо + хлор → хлорид желез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О каких веществах идет речь в отрывке из стихотворения С. Щипачева «Читая Менделеева»?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Ты знаешь газ легчайший -  вод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 соединенье с кислородом – 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юньский дождь от всех своих щедро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ентябрьские туманы на рассвете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ишите формулы данных веществ. Составьте уравнения реакций разложения и соединения с участием этих веще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 = 2H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 + 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– реакция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разложения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=  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акция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дорода и кислорода с образованием в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fdef6"/>
                </a:solidFill>
                <a:latin typeface="Arial"/>
              </a:rPr>
              <a:t>Выполните задание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рабочая тетрадь, стр. 105, №1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Zn + HCl = ZnCl</a:t>
            </a:r>
            <a:r>
              <a:rPr b="0" lang="en-US" sz="39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39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900" spc="-1" strike="noStrike">
                <a:solidFill>
                  <a:srgbClr val="ffffff"/>
                </a:solidFill>
                <a:latin typeface="Arial"/>
              </a:rPr>
              <a:t>Запишите аналогичную реакцию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ля алюминия и серной кислоты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Реакции замещения – это реакции, при осуществлении которых атомы простого вещества замещают атомы одного из элементов в сложном веще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5:07:31Z</dcterms:created>
  <dc:creator>-</dc:creator>
  <dc:description/>
  <dc:language>en-US</dc:language>
  <cp:lastModifiedBy>Admin</cp:lastModifiedBy>
  <dcterms:modified xsi:type="dcterms:W3CDTF">2009-03-17T14:39:32Z</dcterms:modified>
  <cp:revision>18</cp:revision>
  <dc:subject/>
  <dc:title>Реакции замещения</dc:title>
</cp:coreProperties>
</file>