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965-3695-45DA-915F-1CDA310B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58E-925D-421C-AE87-69B43015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83E-62CF-4E07-B821-FA0812F7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A11-EA62-42EA-91E2-8442E7B9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E4B9-10F6-4A4C-91C4-1B244A95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D31A-F714-4799-B12D-1B92F926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8978-EFBC-4C9F-A9A2-8D2D38D7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793D-BF24-41B1-84F7-D9265992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3936-DAA5-42FF-838D-F19886B8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629F-B8B0-4E67-AE7A-A3FE7531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2A6D-3E18-4D3C-AFDB-A119813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67C-390D-4EA9-8747-BBCB9156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0BC3-EC5D-4BED-889A-9765237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1112-4D60-4481-BED9-4F6925D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CE05-2692-4FD5-A108-E460B8C4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5381-E70D-49F8-A5FE-A061A468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6279-4A8D-4992-8A57-2758F0AB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895-F31E-428A-A330-7E4E44D6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304-5A32-498B-B76F-8CD8ADA9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B5A-1649-4712-83DA-3CEF5A53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E9A-5BBB-48FD-B117-4F353914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8D5-E1CA-47EB-B7BA-8352F9F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4EC-94C2-4B88-89F2-E09D2E1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C21-FCDE-43EE-9790-98DDFFF2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F64C-8191-4E87-9741-800D195691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CBF7-DA78-4F66-AAAA-AC54C89487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РМО учителей ОРКСЭ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Тема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«Взаимодействие педагога с родителями и представителями религиозных концессий в рамках преподавания учебного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предмета ОРКСЭ»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стер-класс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Беседа с родителями на темы курса «Основы духовно-нравственного воспитания детей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ОРКС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СОШ р.п. Соколов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ворцова С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87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5280" y="83196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Ребенка можно сравнить с зеркалом. Он отражает любовь, но не начинает любить первым. Если детей одаривают любовью, они возвращают ее. Если им ничего не дается, им нечего возвращать». Росс Кэмпбе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3801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7859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процессе сегодняшнего совместного обучения  я сделал для себя такой вывод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не  понравилось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58323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6435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лавное условие целостности семьи и прочности  духовных основ,  заложенных в детях, является взаимная любовь. Берегите любовное единство семьи, не стесняйтесь проявлять любовь к своим близким и в первую очередь к детям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27640" y="3546360"/>
            <a:ext cx="424800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Без любви все – ничто!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D:\картинки\SBQ1CAZX08PECA88C3J7CAOAL4CSCAJ35Q22CAU1FZAJCA488O5YCASMZL6ACAZLMA8YCA95JJ7GCACUG3BWCAREHP3ECASY81MPCAMV3XKTCAXRPKOICAR0F7TDCA83G68QCAQELCXYCAJ63OSLCAICOH40.jpg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дачи Ва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4465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« Родительская любовь и воспитание. Я и мой ребенок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 Вера, надежда, любовь, бескорыстие, риск и терпение! Терпение! Воспитание – это терпение. Понимать, принимать, терпеть…Где не хватает терпения надо бы постараться понять, где не понимаю – постараться вытерпеть, и всегда я принимаю ребенка, всегда люблю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. Соловей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9760" y="1719360"/>
            <a:ext cx="40370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003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помочь родителям проанализировать свое родительское поведение, заострить внимание на положительных моментах воспитания ребенка, формах проявления любви к ребенку.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131920"/>
            <a:ext cx="7083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Рассмотреть положительные и отрицательные стороны воспитательного воздействия родителей на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Вывести формулу успешности выполнения рол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Убедить родителей в необходимости щедрых проявлений своей безусловной родительской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 основе предложенного практического материала познакомить с особенностями и проявлениями родительской любви к ребенку, определить значимость этого понятия для детей 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«Главная педагогия - родительский дом».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Ф.М.Достоевск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равственность любого ребёнка начинается в семье. Если родители знают, чем живёт их ребёнок, что любит, кого боится, а кого уважает – всё это ляжет в основу воспитания. Нравственность возможна там, где нет лжи, где есть вера, поддержка,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295280"/>
            <a:ext cx="410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ая задача наше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ужения в земной жизни - научиться люби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ие в семье обязательно включает в себя нравственный аспект: явление определяется как  духовное, если оно помогает человеку возвысить свои добрые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15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5233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1523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5097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тоги тес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аши отношения с детьми в основном можно назвать благополучными, если вы набрали более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 10 до 20 балл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Отношения можно оценить как удовлетворительные, но недостаточно многосторонние. Вам следует подумать, как они должны быть улучшены и чем дополне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нее 10 баллов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аши контакты с детьми явно недостаточны. Необходимо принимать срочные меры для их улуч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авила успешной рабо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7920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ждый имеет право высказаться по теме разговора и быть услышанн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нас нет зрителей, работают вс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ы хорошие друзья, воспитанные люди, умеем хранить свои секреты, не сплетнича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верьтесь нам как друзь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92436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шибки в воспитании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4" descr="C:\Users\123\Desktop\image4709.gif"/>
          <p:cNvPicPr/>
          <p:nvPr/>
        </p:nvPicPr>
        <p:blipFill>
          <a:blip r:embed="rId1"/>
          <a:stretch/>
        </p:blipFill>
        <p:spPr>
          <a:xfrm>
            <a:off x="250920" y="2349360"/>
            <a:ext cx="3527280" cy="3311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95280" y="1719360"/>
            <a:ext cx="469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ещание больше не любить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езразлич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ишком много строг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тей надо балова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ишком мало лас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олеоновские пла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ишком ма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ремени для воспитания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Чем я согреваю своего ребенка, как солнышко согревает землю ?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Picture 3" descr="C:\Users\123\Desktop\imagesCAM4O0DZ.jpg"/>
          <p:cNvPicPr/>
          <p:nvPr/>
        </p:nvPicPr>
        <p:blipFill>
          <a:blip r:embed="rId1"/>
          <a:stretch/>
        </p:blipFill>
        <p:spPr>
          <a:xfrm>
            <a:off x="2484360" y="1908000"/>
            <a:ext cx="4103640" cy="410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53446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17:42Z</dcterms:created>
  <dc:creator>Ксения</dc:creator>
  <dc:description/>
  <dc:language>en-US</dc:language>
  <cp:lastModifiedBy>Ксения</cp:lastModifiedBy>
  <dcterms:modified xsi:type="dcterms:W3CDTF">2013-01-31T15:30:35Z</dcterms:modified>
  <cp:revision>7</cp:revision>
  <dc:subject/>
  <dc:title> РМО учителей ОРКСЭ Тема «Взаимодействие педагога с родителями и представителями религиозных концессий в рамках преподавания учебного предмета ОРКСЭ» </dc:title>
</cp:coreProperties>
</file>