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3CF-975A-40BC-9208-5E0F7FF5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C1A-1326-4F0A-9B7E-97789F21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0A6-1225-4F0E-A91B-433332D9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912-62D5-48F0-AB0F-F45352CC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8838-2C1F-4C3B-840D-B9D1B9E1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9785-C027-4FB1-B3F6-7DC466E2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B02B-74B4-4668-B3DE-39CF7EEC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B2F2-EF71-4021-9940-8F536C72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A77D-96C5-425E-A5E9-C363732B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D60D-4EE6-46D0-A900-14C62D9A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FE9B-73D6-47F4-BF41-5636D90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1D1-4E11-4CDA-8EC2-0DD839E0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7E55-9AC0-4E8E-BE73-3F217CBA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5705-8BA9-48B2-A171-1A2E1FC5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9D3C-D0C0-45FD-870B-98CED9CD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1730-A7F7-4CD1-8A00-332BFFBE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013F-A337-4E65-A073-1BA02527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E24-A5C7-4A46-8698-952C438C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CA6-BD5A-4C2C-B992-FD20AA3F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472-8357-41C0-8343-A10D4A9A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C23-6DCB-4763-8E7D-235D7888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4F8-D970-4201-97EA-FC64DB0D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5FA-A53A-4327-8429-A391138A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27A-99F5-4BAC-A327-40A556EE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AEA4-9012-4ED6-8790-3626AD27A1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5D99-A62E-41BB-B097-9268C5F772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РМО учителей ОРКСЭ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Тема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«Взаимодействие педагога с родителями и представителями религиозных концессий в рамках преподавания учебного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предмета ОРКСЭ»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стер-класс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Беседа с родителями на темы курса «Основы духовно-нравственного воспитания детей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ОРКС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СОШ р.п. Соколов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ворцова С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87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5280" y="83196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Ребенка можно сравнить с зеркалом. Он отражает любовь, но не начинает любить первым. Если детей одаривают любовью, они возвращают ее. Если им ничего не дается, им нечего возвращать». Росс Кэмпбе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43801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78598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процессе сегодняшнего совместного обучения  я сделал для себя такой вывод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не  понравилось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58323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88640"/>
            <a:ext cx="76435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лавное условие целостности семьи и прочности  духовных основ,  заложенных в детях, является взаимная любовь. Берегите любовное единство семьи, не стесняйтесь проявлять любовь к своим близким и в первую очередь к детям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  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427640" y="3546360"/>
            <a:ext cx="424800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Без любви все – ничто!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D:\картинки\SBQ1CAZX08PECA88C3J7CAOAL4CSCAJ35Q22CAU1FZAJCA488O5YCASMZL6ACAZLMA8YCA95JJ7GCACUG3BWCAREHP3ECASY81MPCAMV3XKTCAXRPKOICAR0F7TDCA83G68QCAQELCXYCAJ63OSLCAICOH40.jpg"/>
          <p:cNvPicPr/>
          <p:nvPr/>
        </p:nvPicPr>
        <p:blipFill>
          <a:blip r:embed="rId1"/>
          <a:stretch/>
        </p:blipFill>
        <p:spPr>
          <a:xfrm>
            <a:off x="1619280" y="1844640"/>
            <a:ext cx="57592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дачи Ва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4465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« Родительская любовь и воспитание. Я и мой ребенок»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 Вера, надежда, любовь, бескорыстие, риск и терпение! Терпение! Воспитание – это терпение. Понимать, принимать, терпеть…Где не хватает терпения надо бы постараться понять, где не понимаю – постараться вытерпеть, и всегда я принимаю ребенка, всегда люблю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. Соловей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9760" y="1719360"/>
            <a:ext cx="40370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003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помочь родителям проанализировать свое родительское поведение, заострить внимание на положительных моментах воспитания ребенка, формах проявления любви к ребенку.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131920"/>
            <a:ext cx="70833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Рассмотреть положительные и отрицательные стороны воспитательного воздействия родителей на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Вывести формулу успешности выполнения роли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Убедить родителей в необходимости щедрых проявлений своей безусловной родительской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На основе предложенного практического материала познакомить с особенностями и проявлениями родительской любви к ребенку, определить значимость этого понятия для детей и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«Главная педагогия - родительский дом».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Ф.М.Достоевск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равственность любого ребёнка начинается в семье. Если родители знают, чем живёт их ребёнок, что любит, кого боится, а кого уважает – всё это ляжет в основу воспитания. Нравственность возможна там, где нет лжи, где есть вера, поддержка,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295280"/>
            <a:ext cx="410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ая задача нашег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ужения в земной жизни - научиться любить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ние в семье обязательно включает в себя нравственный аспект: явление определяется как  духовное, если оно помогает человеку возвысить свои добрые 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615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5233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15233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5097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тоги тестир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аши отношения с детьми в основном можно назвать благополучными, если вы набрали более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т 10 до 20 балло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Отношения можно оценить как удовлетворительные, но недостаточно многосторонние. Вам следует подумать, как они должны быть улучшены и чем дополне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нее 10 баллов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аши контакты с детьми явно недостаточны. Необходимо принимать срочные меры для их улуч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авила успешной рабо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7920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ждый имеет право высказаться по теме разговора и быть услышанн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 нас нет зрителей, работают вс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ы хорошие друзья, воспитанные люди, умеем хранить свои секреты, не сплетнича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оверьтесь нам как друзья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392436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шибки в воспитании…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4" descr="C:\Users\123\Desktop\image4709.gif"/>
          <p:cNvPicPr/>
          <p:nvPr/>
        </p:nvPicPr>
        <p:blipFill>
          <a:blip r:embed="rId1"/>
          <a:stretch/>
        </p:blipFill>
        <p:spPr>
          <a:xfrm>
            <a:off x="250920" y="2349360"/>
            <a:ext cx="3527280" cy="3311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95280" y="1719360"/>
            <a:ext cx="4691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ещание больше не любить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езразлич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ишком много строг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тей надо балова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ишком мало лас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полеоновские план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ишком ма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ремени для воспитания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Чем я согреваю своего ребенка, как солнышко согревает землю ?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Picture 3" descr="C:\Users\123\Desktop\imagesCAM4O0DZ.jpg"/>
          <p:cNvPicPr/>
          <p:nvPr/>
        </p:nvPicPr>
        <p:blipFill>
          <a:blip r:embed="rId1"/>
          <a:stretch/>
        </p:blipFill>
        <p:spPr>
          <a:xfrm>
            <a:off x="2484360" y="1908000"/>
            <a:ext cx="4103640" cy="4104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53446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5:17:42Z</dcterms:created>
  <dc:creator>Ксения</dc:creator>
  <dc:description/>
  <dc:language>en-US</dc:language>
  <cp:lastModifiedBy>Ксения</cp:lastModifiedBy>
  <dcterms:modified xsi:type="dcterms:W3CDTF">2013-01-31T15:30:35Z</dcterms:modified>
  <cp:revision>7</cp:revision>
  <dc:subject/>
  <dc:title> РМО учителей ОРКСЭ Тема «Взаимодействие педагога с родителями и представителями религиозных концессий в рамках преподавания учебного предмета ОРКСЭ» </dc:title>
</cp:coreProperties>
</file>