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d1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d1"/>
                  </a:gs>
                  <a:gs pos="100000">
                    <a:srgbClr val="7575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d1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d1"/>
                  </a:gs>
                  <a:gs pos="100000">
                    <a:srgbClr val="7575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d1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d1"/>
                  </a:gs>
                  <a:gs pos="100000">
                    <a:srgbClr val="7575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d1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d1"/>
                  </a:gs>
                  <a:gs pos="100000">
                    <a:srgbClr val="7575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Я – часть речи интересная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Широко в мире известная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пишу любой предмет –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      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В этом равных со мной нет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Речь со мною выразительна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И точна, и удивительна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Чтоб красиво говорить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Мною нужно дорожить!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. Головко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16000" y="907920"/>
            <a:ext cx="230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Тё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рас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Люби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Бли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98100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ам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Мор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Ос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981000"/>
            <a:ext cx="2016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От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Вол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а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Баб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Ли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24720" y="5661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948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и мама и папа!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 живу хорошо. У меня есть свой дом. Он ____ . А ещё у нас ______ печка есть. Здоровье-то у меня не очень: то лапы ломит, то хвост отваливается. Потому что, _______ мои мама и папа, у меня была _______ жизнь, полная лишений и выгоняний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 на днях я линять начал. _______ шерсть с меня сыплется – хоть в дом не заходи. Зато ______ шерсть растёт - ______, __________! Просто каракуль!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______ папа и мама, вы меня теперь не узнаете, хвост у меня крючком, уши торчком, нос _______, и лохматость повысилась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о свидания. Ваш сын – дядя Шарик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765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ёп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9440" y="11970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ёп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9240" y="1557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6880" y="1916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сл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5600" y="278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Ста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5600" y="3141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216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5733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шелков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240" y="400536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4160" y="443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62064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и мама и пап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живу хорошо. У меня есть свой дом. Он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ёпл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А ещё у нас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ёпл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чка есть. Здоровье-то у меня не очень: то лапы ломит, то хвост отваливается. Потому что,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орог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ои мама и папа, у меня был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лож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жизнь, полная лишений и выгоня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на днях я линять начал.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тар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рсть с меня сыплется – хоть в дом не заходи. Зат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ов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рсть растёт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ист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шелковист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Просто каракул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орог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па и мама, вы меня теперь не узнаете, хвост у меня крючком, уши торчком, нос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холод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и лохматость повыс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свидания. Ваш сын – дядя Ш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468360" y="62064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Понравился ли вам сегодняшни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Почувствовали ли вы себя увереннее в знаниях и умениях по теме «Имя прилагательно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Сможете ли вы применить свои знания в дальнейш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116000" y="4869000"/>
            <a:ext cx="1224000" cy="108108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780000" y="4941720"/>
            <a:ext cx="1223640" cy="1081080"/>
          </a:xfrm>
          <a:prstGeom prst="smileyFace">
            <a:avLst>
              <a:gd name="adj" fmla="val -98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156360" y="4869000"/>
            <a:ext cx="1224000" cy="1081080"/>
          </a:xfrm>
          <a:prstGeom prst="smileyFace">
            <a:avLst>
              <a:gd name="adj" fmla="val -4652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5640" y="426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6200" y="4498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4437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43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95280" y="404640"/>
            <a:ext cx="82090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- 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ское путешествие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теме 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мя прилагательное".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8360" y="1962000"/>
            <a:ext cx="82090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- 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ское путешествие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теме 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мя прилагательное".</a:t>
            </a:r>
            <a:endParaRPr b="0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907920"/>
            <a:ext cx="619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трос_кий, со_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_питанск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_кие, к_ют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125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112536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349360"/>
            <a:ext cx="4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573360"/>
            <a:ext cx="5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3573360"/>
            <a:ext cx="45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68360" y="4797360"/>
            <a:ext cx="518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50940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В морозн... воздухе, январск ... днем, зимн ... вечером, погож ... утром, рыж... белку, соснов... бором, чист... полем , в темн... лесу, кудряв ... березой, на мохнат ... ели, душист... черемухой, жгуч… моро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В морозн</a:t>
            </a: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о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воздухе, январск</a:t>
            </a: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и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днем, зимн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и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вечером, погож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и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утром, рыж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ую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белку, соснов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ы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бором, чист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ы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полем , в темн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лесу, кудряв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й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березой, на мохнат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й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ели, душист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ой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черемухой, жгуч</a:t>
            </a:r>
            <a:r>
              <a:rPr b="1" i="1" lang="en-US" sz="4000" spc="-1" strike="noStrike">
                <a:solidFill>
                  <a:srgbClr val="3333cc"/>
                </a:solidFill>
                <a:latin typeface="Monotype Corsiva"/>
              </a:rPr>
              <a:t>им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морозом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ахина О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4360" y="549360"/>
          <a:ext cx="7775280" cy="6378480"/>
        </p:xfrm>
        <a:graphic>
          <a:graphicData uri="http://schemas.openxmlformats.org/drawingml/2006/table">
            <a:tbl>
              <a:tblPr/>
              <a:tblGrid>
                <a:gridCol w="1056960"/>
                <a:gridCol w="3983040"/>
                <a:gridCol w="1563840"/>
                <a:gridCol w="1171440"/>
              </a:tblGrid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берите правильное написание прилагательных (Н или НН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едя…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у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рл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тре…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лин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ожа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уравл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ар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Травя…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ломе..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Тума..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87840" y="157644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476280"/>
          <a:ext cx="7777080" cy="611676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  <a:gridCol w="863640"/>
                <a:gridCol w="865080"/>
                <a:gridCol w="863640"/>
                <a:gridCol w="865080"/>
                <a:gridCol w="862200"/>
                <a:gridCol w="865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-22680"/>
            <a:ext cx="813744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Задание по группа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 группа выписывает качественные прилагательные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2 - относительные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3- притяж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менный, морской, осенний, отцов, волчий, темный, близкий, красивый, папин, летний, высокий, любимый,  бабушкин, деревянный, лис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01:56Z</dcterms:created>
  <dc:creator>Рубиш</dc:creator>
  <dc:description/>
  <dc:language>en-US</dc:language>
  <cp:lastModifiedBy>User</cp:lastModifiedBy>
  <dcterms:modified xsi:type="dcterms:W3CDTF">2012-11-02T16:43:56Z</dcterms:modified>
  <cp:revision>41</cp:revision>
  <dc:subject/>
  <dc:title>Слайд 1</dc:title>
</cp:coreProperties>
</file>