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069-04AD-4DFF-9977-C8B285B5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AB9-28AD-49BF-91B7-FB4679BC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70B-692C-4FF3-AC2B-4CA4A286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32C-6E4B-48EB-9537-65C53FD8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B4DA-F9E9-48FE-B3D8-A84E2A60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0CCD-CA73-4C79-B046-4528C2B3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3ED9-83C5-42E7-BE19-1DC3D76F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6A1B-2B00-4B4E-B08F-3916ED59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7707-2D3A-4368-AC92-1D40080A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E347-55DA-4863-AB6E-1301A40D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BE01-3D1B-4454-9542-9D023D93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CFE-660C-4216-B455-A3D44BCD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A620-DEC9-4A65-B3FE-41D11D6A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DD0A-5931-4C1F-9078-070D7468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A4C3-52AB-470F-B7DB-4EF1ACCA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2676-A617-4786-BD21-15FF023B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043B-9910-46FD-AF69-726C4F41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D0B13-CDBF-4049-AD4D-FBD5B2AE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E615-5289-4982-AA98-0C59A563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D0612-3C78-4881-BDCE-BC7FAEAD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3842A-EA5F-46E3-B73F-F44D1A6C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71A70-E04A-4558-A5D1-F433A466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DE5-CDDF-4125-A695-52B25481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A6EFF-138D-4467-AB7B-161F3AE2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B47B5-63F7-4095-9CD8-1733A056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95FB-4420-4F1E-B620-C703E2B2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EC07F-81E9-4A48-B6EC-0851B913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63B5E-30D7-4903-9C48-63DE6461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B68F-6E48-4635-B961-8C3DC22E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E36A6-D7B7-4A0C-B0B1-683DEB14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A12B8-2991-42E2-B6BC-269D347B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F5EC6-83D8-4F8D-8526-A7772DC1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8646F-A2D8-4A11-9D61-4F3AC087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E0C-21C0-449C-9C02-50D876F1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0D8D-EF6B-4F5D-9D7B-5104FE42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FF053-C335-45EE-9623-9DCA73D8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8CD08-8573-4867-851D-DB59B0D6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D5AA2-7F73-4168-8BE1-7698CDF0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46ADC-ADB2-4ADE-A886-2A88313D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8FB84-8D6B-4AE3-A04E-175BA676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DD04D-F8DF-4DBC-8D40-6FA379F4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20075-0731-4AEE-A987-9835D77E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39FA-30C4-4BC1-9152-BEEEDE7C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3B2-28D8-48C8-BC62-098FA08B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310-188D-45D6-B71D-817D43FE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BE7-4A7C-411E-8E00-6520202C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97F-7F75-4DE8-863C-72B5944E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8E6-252A-4509-B103-BE3F39D5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C22E-ABB4-4861-A432-C2AC8BE8508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E52C-C231-42FE-A597-B7B8CCDB827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85D2-5225-42BB-A2F6-3AB9FF47CED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F89F-5A28-4D69-948F-F3D3EA22F37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7724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24000" y="26028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7080">
              <a:lnSpc>
                <a:spcPct val="100000"/>
              </a:lnSpc>
              <a:spcBef>
                <a:spcPts val="16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Валентность,  найденную по разности</a:t>
            </a: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  <a:p>
            <a:pPr marL="37080" algn="ctr">
              <a:lnSpc>
                <a:spcPct val="100000"/>
              </a:lnSpc>
              <a:spcBef>
                <a:spcPts val="22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Monotype Corsiva"/>
              </a:rPr>
              <a:t>8 — N группы</a:t>
            </a:r>
            <a:r>
              <a:rPr b="0" lang="ru-RU" sz="8800" spc="-1" strike="noStrike">
                <a:solidFill>
                  <a:srgbClr val="0070c0"/>
                </a:solidFill>
                <a:latin typeface="Monotype Corsiva"/>
              </a:rPr>
              <a:t> </a:t>
            </a:r>
            <a:endParaRPr b="0" lang="en-US" sz="8800" spc="-1" strike="noStrike">
              <a:solidFill>
                <a:srgbClr val="404040"/>
              </a:solidFill>
              <a:latin typeface="Trebuchet MS"/>
            </a:endParaRPr>
          </a:p>
          <a:p>
            <a:pPr marL="37080">
              <a:lnSpc>
                <a:spcPct val="100000"/>
              </a:lnSpc>
              <a:spcBef>
                <a:spcPts val="28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назовём</a:t>
            </a:r>
            <a:r>
              <a:rPr b="0" lang="ru-RU" sz="6600" spc="-1" strike="noStrike">
                <a:solidFill>
                  <a:srgbClr val="404040"/>
                </a:solidFill>
                <a:latin typeface="Monotype Corsiva"/>
              </a:rPr>
              <a:t> </a:t>
            </a:r>
            <a:r>
              <a:rPr b="1" i="1" lang="ru-RU" sz="11500" spc="-1" strike="noStrike">
                <a:solidFill>
                  <a:srgbClr val="0070c0"/>
                </a:solidFill>
                <a:latin typeface="Monotype Corsiva"/>
              </a:rPr>
              <a:t>низшей</a:t>
            </a:r>
            <a:endParaRPr b="0" lang="en-US" sz="1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Monotype Corsiva"/>
              </a:rPr>
              <a:t>Определите низшую валентность  серы и валентности  элементов с ней связанных, в ряду соединений: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I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     </a:t>
            </a: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II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   </a:t>
            </a: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IV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</a:t>
            </a: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II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    </a:t>
            </a: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 III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  </a:t>
            </a: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II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    </a:t>
            </a: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II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  </a:t>
            </a: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II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</a:t>
            </a:r>
            <a:r>
              <a:rPr b="1" lang="en-US" sz="6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 </a:t>
            </a:r>
            <a:r>
              <a:rPr b="1" lang="en-US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,  C S</a:t>
            </a:r>
            <a:r>
              <a:rPr b="1" lang="en-US" sz="6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1" lang="en-US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 Al</a:t>
            </a:r>
            <a:r>
              <a:rPr b="1" lang="en-US" sz="6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 </a:t>
            </a:r>
            <a:r>
              <a:rPr b="1" lang="en-US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</a:t>
            </a:r>
            <a:r>
              <a:rPr b="1" lang="en-US" sz="6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1" lang="en-US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 Fe S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23640" y="333360"/>
            <a:ext cx="8569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040">
              <a:lnSpc>
                <a:spcPct val="100000"/>
              </a:lnSpc>
              <a:spcBef>
                <a:spcPts val="16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04040"/>
                </a:solidFill>
                <a:latin typeface="Monotype Corsiva"/>
              </a:rPr>
              <a:t>Знак элемента с </a:t>
            </a:r>
            <a:r>
              <a:rPr b="1" lang="ru-RU" sz="8000" spc="-1" strike="noStrike">
                <a:solidFill>
                  <a:srgbClr val="c00000"/>
                </a:solidFill>
                <a:latin typeface="Monotype Corsiva"/>
              </a:rPr>
              <a:t>низшей </a:t>
            </a:r>
            <a:r>
              <a:rPr b="0" lang="ru-RU" sz="6600" spc="-1" strike="noStrike">
                <a:solidFill>
                  <a:srgbClr val="404040"/>
                </a:solidFill>
                <a:latin typeface="Monotype Corsiva"/>
              </a:rPr>
              <a:t>валентностью  ставят на </a:t>
            </a:r>
            <a:r>
              <a:rPr b="1" lang="ru-RU" sz="8000" spc="-1" strike="noStrike">
                <a:solidFill>
                  <a:srgbClr val="c00000"/>
                </a:solidFill>
                <a:latin typeface="Monotype Corsiva"/>
              </a:rPr>
              <a:t>второе место</a:t>
            </a: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. </a:t>
            </a: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VI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1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1" lang="ru-RU" sz="6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</a:t>
            </a:r>
            <a:r>
              <a:rPr b="1" lang="ru-RU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</a:t>
            </a:r>
            <a:r>
              <a:rPr b="1" lang="ru-RU" sz="6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</a:t>
            </a:r>
            <a:r>
              <a:rPr b="1" lang="ru-RU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. 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0560" y="260280"/>
            <a:ext cx="8497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Monotype Corsiva"/>
              </a:rPr>
              <a:t>Домашнее задание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Monotype Corsiva"/>
              </a:rPr>
              <a:t>§ 11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Monotype Corsiva"/>
              </a:rPr>
              <a:t>ТПО с16-17 № 55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817560" y="23760"/>
            <a:ext cx="7174080" cy="64324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2" descr="F:\i.jpg"/>
          <p:cNvPicPr/>
          <p:nvPr/>
        </p:nvPicPr>
        <p:blipFill>
          <a:blip r:embed="rId2"/>
          <a:stretch/>
        </p:blipFill>
        <p:spPr>
          <a:xfrm>
            <a:off x="817560" y="1700280"/>
            <a:ext cx="7715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0560" y="18864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04040"/>
                </a:solidFill>
                <a:latin typeface="Monotype Corsiva"/>
              </a:rPr>
              <a:t>АГАТ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933480" y="1457280"/>
            <a:ext cx="71308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84360" y="476280"/>
            <a:ext cx="820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Monotype Corsiva"/>
              </a:rPr>
              <a:t>ВАЛЕНТНОСТЬ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	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04040"/>
                </a:solidFill>
                <a:latin typeface="Monotype Corsiva"/>
              </a:rPr>
              <a:t>(от латинского </a:t>
            </a:r>
            <a:r>
              <a:rPr b="0" i="1" lang="en-US" sz="4000" spc="-1" strike="noStrike">
                <a:solidFill>
                  <a:srgbClr val="7f7f7f"/>
                </a:solidFill>
                <a:latin typeface="Monotype Corsiva"/>
              </a:rPr>
              <a:t>valentia</a:t>
            </a:r>
            <a:r>
              <a:rPr b="0" i="1" lang="ru-RU" sz="4000" spc="-1" strike="noStrike">
                <a:solidFill>
                  <a:srgbClr val="7f7f7f"/>
                </a:solidFill>
                <a:latin typeface="Monotype Corsiva"/>
              </a:rPr>
              <a:t> – «сила»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)</a:t>
            </a:r>
            <a:r>
              <a:rPr b="0" i="1" lang="ru-RU" sz="4000" spc="-1" strike="noStrike">
                <a:solidFill>
                  <a:srgbClr val="404040"/>
                </a:solidFill>
                <a:latin typeface="Monotype Corsiva"/>
              </a:rPr>
              <a:t>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404040"/>
                </a:solidFill>
                <a:latin typeface="Monotype Corsiva"/>
              </a:rPr>
              <a:t>это способность атомов соединяться друг с другом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70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3260c"/>
                </a:solidFill>
                <a:latin typeface="Monotype Corsiva"/>
              </a:rPr>
              <a:t>Открылась Бездна звезд полна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70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3260c"/>
                </a:solidFill>
                <a:latin typeface="Monotype Corsiva"/>
              </a:rPr>
              <a:t>Звездам числа нет, Бездне дн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7000" algn="r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3260c"/>
                </a:solidFill>
                <a:latin typeface="Monotype Corsiva"/>
              </a:rPr>
              <a:t>М.В. Ломоносов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70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Monotype Corsiva"/>
              </a:rPr>
              <a:t> 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70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Звезды меркнут и гаснут. В огне облак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70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Белый пар по Земле расстилаетс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70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По зеркальной воде, по кудрям лозняк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70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От зари алый свет разливаетс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7000" algn="r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Monotype Corsiva"/>
              </a:rPr>
              <a:t>И. Никитин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50560" y="404640"/>
            <a:ext cx="86914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ru-RU" sz="5400" spc="-1" strike="noStrike">
                <a:solidFill>
                  <a:srgbClr val="404040"/>
                </a:solidFill>
                <a:latin typeface="Trebuchet MS"/>
              </a:rPr>
              <a:t>НС</a:t>
            </a:r>
            <a:r>
              <a:rPr b="1" lang="en-US" sz="5400" spc="-1" strike="noStrike">
                <a:solidFill>
                  <a:srgbClr val="404040"/>
                </a:solidFill>
                <a:latin typeface="Trebuchet MS"/>
              </a:rPr>
              <a:t>l                 </a:t>
            </a:r>
            <a:r>
              <a:rPr b="1" lang="ru-RU" sz="5400" spc="-1" strike="noStrike">
                <a:solidFill>
                  <a:srgbClr val="404040"/>
                </a:solidFill>
                <a:latin typeface="Trebuchet MS"/>
              </a:rPr>
              <a:t>Н</a:t>
            </a:r>
            <a:r>
              <a:rPr b="1" lang="ru-RU" sz="54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1" lang="ru-RU" sz="5400" spc="-1" strike="noStrike">
                <a:solidFill>
                  <a:srgbClr val="404040"/>
                </a:solidFill>
                <a:latin typeface="Trebuchet MS"/>
              </a:rPr>
              <a:t>О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en-US" sz="6000" spc="-1" strike="noStrike">
                <a:solidFill>
                  <a:srgbClr val="404040"/>
                </a:solidFill>
                <a:latin typeface="Trebuchet MS"/>
              </a:rPr>
              <a:t>N</a:t>
            </a:r>
            <a:r>
              <a:rPr b="1" lang="ru-RU" sz="6000" spc="-1" strike="noStrike">
                <a:solidFill>
                  <a:srgbClr val="404040"/>
                </a:solidFill>
                <a:latin typeface="Trebuchet MS"/>
              </a:rPr>
              <a:t>Н</a:t>
            </a:r>
            <a:r>
              <a:rPr b="1" lang="ru-RU" sz="6000" spc="-1" strike="noStrike" baseline="-25000">
                <a:solidFill>
                  <a:srgbClr val="404040"/>
                </a:solidFill>
                <a:latin typeface="Trebuchet MS"/>
              </a:rPr>
              <a:t>3</a:t>
            </a:r>
            <a:r>
              <a:rPr b="1" lang="ru-RU" sz="6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404040"/>
                </a:solidFill>
                <a:latin typeface="Trebuchet MS"/>
              </a:rPr>
              <a:t>          </a:t>
            </a:r>
            <a:r>
              <a:rPr b="1" lang="ru-RU" sz="6000" spc="-1" strike="noStrike">
                <a:solidFill>
                  <a:srgbClr val="404040"/>
                </a:solidFill>
                <a:latin typeface="Trebuchet MS"/>
              </a:rPr>
              <a:t>СН</a:t>
            </a:r>
            <a:r>
              <a:rPr b="1" lang="ru-RU" sz="6000" spc="-1" strike="noStrike" baseline="-25000">
                <a:solidFill>
                  <a:srgbClr val="404040"/>
                </a:solidFill>
                <a:latin typeface="Trebuchet MS"/>
              </a:rPr>
              <a:t>4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Овал 3"/>
          <p:cNvSpPr/>
          <p:nvPr/>
        </p:nvSpPr>
        <p:spPr>
          <a:xfrm>
            <a:off x="684360" y="1706400"/>
            <a:ext cx="841320" cy="8524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Овал 13"/>
          <p:cNvSpPr/>
          <p:nvPr/>
        </p:nvSpPr>
        <p:spPr>
          <a:xfrm>
            <a:off x="6332400" y="1341360"/>
            <a:ext cx="1224000" cy="1150920"/>
          </a:xfrm>
          <a:prstGeom prst="ellipse">
            <a:avLst/>
          </a:prstGeom>
          <a:solidFill>
            <a:srgbClr val="c3260c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Овал 14"/>
          <p:cNvSpPr/>
          <p:nvPr/>
        </p:nvSpPr>
        <p:spPr>
          <a:xfrm>
            <a:off x="1525680" y="4400640"/>
            <a:ext cx="1224000" cy="1152360"/>
          </a:xfrm>
          <a:prstGeom prst="ellipse">
            <a:avLst/>
          </a:prstGeom>
          <a:solidFill>
            <a:srgbClr val="00b05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Овал 15"/>
          <p:cNvSpPr/>
          <p:nvPr/>
        </p:nvSpPr>
        <p:spPr>
          <a:xfrm>
            <a:off x="2268360" y="1427040"/>
            <a:ext cx="1476720" cy="1411560"/>
          </a:xfrm>
          <a:prstGeom prst="ellipse">
            <a:avLst/>
          </a:prstGeom>
          <a:solidFill>
            <a:srgbClr val="00b0f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Овал 16"/>
          <p:cNvSpPr/>
          <p:nvPr/>
        </p:nvSpPr>
        <p:spPr>
          <a:xfrm>
            <a:off x="6494400" y="4551480"/>
            <a:ext cx="1349280" cy="132552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Овал 17"/>
          <p:cNvSpPr/>
          <p:nvPr/>
        </p:nvSpPr>
        <p:spPr>
          <a:xfrm>
            <a:off x="5549760" y="2492280"/>
            <a:ext cx="841680" cy="8542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Овал 18"/>
          <p:cNvSpPr/>
          <p:nvPr/>
        </p:nvSpPr>
        <p:spPr>
          <a:xfrm>
            <a:off x="7451640" y="2514600"/>
            <a:ext cx="843120" cy="85392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Овал 19"/>
          <p:cNvSpPr/>
          <p:nvPr/>
        </p:nvSpPr>
        <p:spPr>
          <a:xfrm>
            <a:off x="262080" y="4551480"/>
            <a:ext cx="842760" cy="8524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20"/>
          <p:cNvSpPr/>
          <p:nvPr/>
        </p:nvSpPr>
        <p:spPr>
          <a:xfrm>
            <a:off x="3132000" y="4551480"/>
            <a:ext cx="841680" cy="8524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21"/>
          <p:cNvSpPr/>
          <p:nvPr/>
        </p:nvSpPr>
        <p:spPr>
          <a:xfrm>
            <a:off x="1711440" y="5886360"/>
            <a:ext cx="842760" cy="8524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22"/>
          <p:cNvSpPr/>
          <p:nvPr/>
        </p:nvSpPr>
        <p:spPr>
          <a:xfrm>
            <a:off x="6751800" y="3573360"/>
            <a:ext cx="738000" cy="6987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Овал 23"/>
          <p:cNvSpPr/>
          <p:nvPr/>
        </p:nvSpPr>
        <p:spPr>
          <a:xfrm>
            <a:off x="5353200" y="4976640"/>
            <a:ext cx="749160" cy="7318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Овал 24"/>
          <p:cNvSpPr/>
          <p:nvPr/>
        </p:nvSpPr>
        <p:spPr>
          <a:xfrm>
            <a:off x="8294760" y="4927680"/>
            <a:ext cx="720720" cy="67932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Овал 25"/>
          <p:cNvSpPr/>
          <p:nvPr/>
        </p:nvSpPr>
        <p:spPr>
          <a:xfrm>
            <a:off x="6827760" y="6111720"/>
            <a:ext cx="728640" cy="6987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ая соединительная линия 27"/>
          <p:cNvSpPr/>
          <p:nvPr/>
        </p:nvSpPr>
        <p:spPr>
          <a:xfrm>
            <a:off x="1525680" y="2133720"/>
            <a:ext cx="742680" cy="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ая соединительная линия 28"/>
          <p:cNvSpPr/>
          <p:nvPr/>
        </p:nvSpPr>
        <p:spPr>
          <a:xfrm flipV="1">
            <a:off x="6267600" y="2273040"/>
            <a:ext cx="201600" cy="34452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ая соединительная линия 30"/>
          <p:cNvSpPr/>
          <p:nvPr/>
        </p:nvSpPr>
        <p:spPr>
          <a:xfrm>
            <a:off x="7515360" y="2154240"/>
            <a:ext cx="225360" cy="40464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ая соединительная линия 32"/>
          <p:cNvSpPr/>
          <p:nvPr/>
        </p:nvSpPr>
        <p:spPr>
          <a:xfrm>
            <a:off x="1104840" y="4976640"/>
            <a:ext cx="420840" cy="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ая соединительная линия 34"/>
          <p:cNvSpPr/>
          <p:nvPr/>
        </p:nvSpPr>
        <p:spPr>
          <a:xfrm>
            <a:off x="2760840" y="4976640"/>
            <a:ext cx="371160" cy="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ая соединительная линия 36"/>
          <p:cNvSpPr/>
          <p:nvPr/>
        </p:nvSpPr>
        <p:spPr>
          <a:xfrm flipH="1">
            <a:off x="2131920" y="5553000"/>
            <a:ext cx="6480" cy="33336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ая соединительная линия 37"/>
          <p:cNvSpPr/>
          <p:nvPr/>
        </p:nvSpPr>
        <p:spPr>
          <a:xfrm>
            <a:off x="7120080" y="4272120"/>
            <a:ext cx="10800" cy="28728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ая соединительная линия 38"/>
          <p:cNvSpPr/>
          <p:nvPr/>
        </p:nvSpPr>
        <p:spPr>
          <a:xfrm>
            <a:off x="7184880" y="5886360"/>
            <a:ext cx="6480" cy="22536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39"/>
          <p:cNvSpPr/>
          <p:nvPr/>
        </p:nvSpPr>
        <p:spPr>
          <a:xfrm flipV="1">
            <a:off x="7873920" y="5265360"/>
            <a:ext cx="490680" cy="972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ая соединительная линия 40"/>
          <p:cNvSpPr/>
          <p:nvPr/>
        </p:nvSpPr>
        <p:spPr>
          <a:xfrm>
            <a:off x="6146640" y="5342040"/>
            <a:ext cx="371520" cy="144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250920" y="731520"/>
            <a:ext cx="8642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8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404040"/>
                </a:solidFill>
                <a:latin typeface="Monotype Corsiva"/>
              </a:rPr>
              <a:t>« в бинарном соединении суммарная валентность одного элемента равна суммарной валентности другого»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V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        О</a:t>
            </a:r>
            <a:r>
              <a:rPr b="1" lang="ru-RU" sz="36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∙1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=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∙2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=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50920" y="33336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 I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 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   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   I        IV   I         II    I       VII  II        I      II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С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5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 Si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  CaO,   Cl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 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7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Ag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,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   I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KCl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260280"/>
            <a:ext cx="8642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Валентность определяемая по номеру группы –</a:t>
            </a:r>
            <a:r>
              <a:rPr b="1" i="1" lang="ru-RU" sz="8800" spc="-1" strike="noStrike">
                <a:solidFill>
                  <a:srgbClr val="0070c0"/>
                </a:solidFill>
                <a:latin typeface="Monotype Corsiva"/>
              </a:rPr>
              <a:t>высшая</a:t>
            </a:r>
            <a:endParaRPr b="0" lang="en-US" sz="88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rebuchet MS"/>
              </a:rPr>
              <a:t>I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гр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.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– валентность </a:t>
            </a:r>
            <a:r>
              <a:rPr b="0" lang="en-US" sz="4000" spc="-1" strike="noStrike">
                <a:solidFill>
                  <a:srgbClr val="0070c0"/>
                </a:solidFill>
                <a:latin typeface="Trebuchet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(Na, K, li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1a08"/>
                </a:solidFill>
                <a:latin typeface="Trebuchet MS"/>
              </a:rPr>
              <a:t>II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группа – валентность </a:t>
            </a:r>
            <a:r>
              <a:rPr b="0" lang="en-US" sz="4400" spc="-1" strike="noStrike">
                <a:solidFill>
                  <a:srgbClr val="821a08"/>
                </a:solidFill>
                <a:latin typeface="Trebuchet MS"/>
              </a:rPr>
              <a:t>II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(Ca, Mg, Ba)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III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группа – валентность </a:t>
            </a:r>
            <a:r>
              <a:rPr b="0" lang="en-US" sz="4400" spc="-1" strike="noStrike">
                <a:solidFill>
                  <a:srgbClr val="00b050"/>
                </a:solidFill>
                <a:latin typeface="Trebuchet MS"/>
              </a:rPr>
              <a:t>III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(Al, B)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SV</dc:creator>
  <dc:description/>
  <dc:language>en-US</dc:language>
  <cp:lastModifiedBy>TSV</cp:lastModifiedBy>
  <dcterms:modified xsi:type="dcterms:W3CDTF">2014-01-25T08:13:20Z</dcterms:modified>
  <cp:revision>27</cp:revision>
  <dc:subject/>
  <dc:title>Валентность. Определение валентности элемента в оксиде.</dc:title>
</cp:coreProperties>
</file>