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95B4-2AD3-4CEA-A1D2-706F92D4F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A81F-7124-4AF4-B659-428A5E11D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D310-CB4E-444C-8714-5F6539050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C7E2-F3CD-48E8-B998-F62E9CF3D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17D8-5E08-4E13-8D26-1D8DAC309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C1EF-B2A2-442C-A4B9-51C459820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7D23-EDEB-44C2-BFB9-8070D5339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0354-45BC-4D0C-8A8D-D2909CB43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5F55-0A28-40B3-A662-69B9259A7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7DEA-9EB9-40D7-B954-D18EADED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B105-2E72-4BA8-AE92-ABD695EA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B4AC-8D86-4797-9451-7EEF7555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6A78C-2BD0-4C9B-9062-E2D57D461ADE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ставил учитель ИКТ МОУ Большечерниговская СОШ №2 "ОЦ" Морозов Д.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C3CA8-3B21-48E1-95FA-C2487CAA13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332000" y="1197000"/>
            <a:ext cx="7416720" cy="44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неклассное 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ероприятие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нформатике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«Компьютерный 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урнир»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Прямоугольник 1"/>
          <p:cNvSpPr/>
          <p:nvPr/>
        </p:nvSpPr>
        <p:spPr>
          <a:xfrm>
            <a:off x="108000" y="189000"/>
            <a:ext cx="88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575d1"/>
                </a:solidFill>
                <a:latin typeface="Arial"/>
              </a:rPr>
              <a:t>ГБОУ  СРЕДНЯЯ   ОБЩЕОБРАЗОВАТЕЛЬНАЯ   ШКОЛА   № 19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575d1"/>
                </a:solidFill>
                <a:latin typeface="Arial"/>
              </a:rPr>
              <a:t>Имени Героя Советского Союза А.К.Новик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5184720" y="6127920"/>
            <a:ext cx="37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информати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кульских Елена Валентин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3 конкурс</a:t>
            </a:r>
            <a:br>
              <a:rPr sz="4000"/>
            </a:b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Разгадывание кроссворд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6920" y="155736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астники обеих команд по очереди выходят к доске и маркером в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werPoint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ишут ответы. Вопросы читает уч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468360" y="333360"/>
          <a:ext cx="8229600" cy="6085080"/>
        </p:xfrm>
        <a:graphic>
          <a:graphicData uri="http://schemas.openxmlformats.org/drawingml/2006/table">
            <a:tbl>
              <a:tblPr/>
              <a:tblGrid>
                <a:gridCol w="549360"/>
                <a:gridCol w="547560"/>
                <a:gridCol w="549360"/>
                <a:gridCol w="547560"/>
                <a:gridCol w="549360"/>
                <a:gridCol w="549360"/>
                <a:gridCol w="547560"/>
                <a:gridCol w="549360"/>
                <a:gridCol w="547560"/>
                <a:gridCol w="549360"/>
                <a:gridCol w="549360"/>
                <a:gridCol w="547560"/>
                <a:gridCol w="549360"/>
                <a:gridCol w="547560"/>
                <a:gridCol w="549360"/>
              </a:tblGrid>
              <a:tr h="574560">
                <a:tc gridSpan="5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144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1280">
                <a:tc gridSpan="7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128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912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1280"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7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3920">
                <a:tc gridSpan="6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 gridSpan="6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592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4 конкурс</a:t>
            </a:r>
            <a:br>
              <a:rPr sz="4000"/>
            </a:b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Зашифрованные слова в приведенном текс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31672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приведенных текстах некоторые идущие подряд буквы нескольких слов образуют термины, связанные с информатикой и компьютерами. Найдите эти термины, и подчеркните 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0" y="4941720"/>
            <a:ext cx="6804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имер: В присутствии начальника Пота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как ребенок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6084720" y="4941720"/>
            <a:ext cx="2880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 робе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8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626920" y="-360"/>
            <a:ext cx="2746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 Коман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836640"/>
            <a:ext cx="860436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Этот процесс орнитологии называют миграцией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2268360" y="2708280"/>
            <a:ext cx="3981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 Коман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216000" y="2131920"/>
            <a:ext cx="4572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0" y="1268280"/>
            <a:ext cx="9144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том они торжествовали и радовались, как дет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0" y="5877000"/>
            <a:ext cx="9144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444600" indent="-44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смотря на это, его феска не раз падала с голо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0" y="3789360"/>
            <a:ext cx="860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371520" indent="-371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)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ека Днепр интересна тем, что на ней имеются несколько гидроэлектростан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8"/>
          <p:cNvSpPr/>
          <p:nvPr/>
        </p:nvSpPr>
        <p:spPr>
          <a:xfrm>
            <a:off x="0" y="4869000"/>
            <a:ext cx="860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536040" indent="-53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2)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 просьбе хозяина квартиры мы шкаф сдвинули в уго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0" y="191628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518040" indent="-51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Этот старинный комод ему достался в наследство от бабуш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5 конкурс</a:t>
            </a:r>
            <a:br>
              <a:rPr sz="4000"/>
            </a:b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Конкурс капитан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31672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питаны по очереди называют составные части компьютера. Проигрывает тот, кто назовет неправильно или не сможет вспомнить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8"/>
          <p:cNvSpPr txBox="1"/>
          <p:nvPr/>
        </p:nvSpPr>
        <p:spPr>
          <a:xfrm>
            <a:off x="539640" y="1413000"/>
            <a:ext cx="777744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ДВЕДЕНИЕ ИТОГО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709ca"/>
                </a:solidFill>
                <a:latin typeface="Arial"/>
              </a:rPr>
              <a:t>Приветстви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ждая команда должна выбрать капитана, сказать свое название, представить и пояснить свою эмблему и свой девиз. Эмблема рисуется на компьютере в графическом редактор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int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1 конкурс</a:t>
            </a:r>
            <a:br>
              <a:rPr sz="4000"/>
            </a:br>
            <a:r>
              <a:rPr b="1" i="1" lang="ru-RU" sz="4800" spc="-1" strike="noStrike">
                <a:solidFill>
                  <a:srgbClr val="0000ff"/>
                </a:solidFill>
                <a:latin typeface="Arial"/>
              </a:rPr>
              <a:t>Цепочка сл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5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ечисленные слова следует расположить, соблюдая следующее правило: очередное слово начинается на букву, которой оканчивается предыдущее слово(без учета мягкого зна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2c0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74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 Коман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181440" y="1599840"/>
            <a:ext cx="4824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Абак, адрес, алфавит, дорожка, дюйм, Евклид, килобайт, монитор, отладка, процессор, радио, разряд, рамка, тире, транслятор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4859280" y="260280"/>
            <a:ext cx="3981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 Коман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4572000" y="1600200"/>
            <a:ext cx="45720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Агат», архиватор, график, команда, Лексикон, линейка, листинг, ноль, Нортон, &lt;пробел&gt;, регистр, робот, таблица, телеграф, фай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7"/>
          <p:cNvSpPr/>
          <p:nvPr/>
        </p:nvSpPr>
        <p:spPr>
          <a:xfrm>
            <a:off x="46432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comp"/>
          <p:cNvPicPr/>
          <p:nvPr/>
        </p:nvPicPr>
        <p:blipFill>
          <a:blip r:embed="rId1"/>
          <a:stretch/>
        </p:blipFill>
        <p:spPr>
          <a:xfrm>
            <a:off x="2484360" y="5280120"/>
            <a:ext cx="216072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2c0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авильный 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-360" y="1052640"/>
            <a:ext cx="442764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оцессор – радио – отладка – абак – килобайт – транслятор – разряд – дюйм – монитор – рамка – алфавит – тире – Евклид – дорожка – адре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468360" y="404640"/>
            <a:ext cx="2746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cc"/>
                </a:solidFill>
                <a:latin typeface="Arial"/>
              </a:rPr>
              <a:t>1 Коман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5508720" y="549360"/>
            <a:ext cx="2746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cc"/>
                </a:solidFill>
                <a:latin typeface="Arial"/>
              </a:rPr>
              <a:t>2 Коман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4175280" y="1052640"/>
            <a:ext cx="496872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&lt;пробел&gt;– Лексикон – Нортон – ноль – линейка – архиватор – регистр – робот – телеграф – файл – листинг – график – команда – «Агат»– таблиц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7"/>
          <p:cNvSpPr/>
          <p:nvPr/>
        </p:nvSpPr>
        <p:spPr>
          <a:xfrm>
            <a:off x="4356000" y="476280"/>
            <a:ext cx="0" cy="638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komp"/>
          <p:cNvPicPr/>
          <p:nvPr/>
        </p:nvPicPr>
        <p:blipFill>
          <a:blip r:embed="rId1"/>
          <a:stretch/>
        </p:blipFill>
        <p:spPr>
          <a:xfrm>
            <a:off x="7426440" y="5410080"/>
            <a:ext cx="171756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2 конкурс</a:t>
            </a:r>
            <a:br>
              <a:rPr sz="4000"/>
            </a:b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«Третий лишний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5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каждого из выделенных курсивом терминов приведены три определения, одно из которых не соответствует термину. Необходимо указать это определ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2c0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74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 Коман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-181440" y="1341360"/>
            <a:ext cx="482436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дрес – э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4859280" y="260280"/>
            <a:ext cx="3981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 Коман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>
            <a:off x="46432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0" y="1916280"/>
            <a:ext cx="4572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216000" y="2131920"/>
            <a:ext cx="4572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0" y="1974960"/>
            <a:ext cx="45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орядковый номер байта оперативной памят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0" y="30672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орядковый номер элемента масси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0" y="4291200"/>
            <a:ext cx="52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часть письма в электронной поч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4319640" y="1341360"/>
            <a:ext cx="48243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инт – эт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3"/>
          <p:cNvSpPr/>
          <p:nvPr/>
        </p:nvSpPr>
        <p:spPr>
          <a:xfrm>
            <a:off x="4643280" y="198792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крепежная деталь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4"/>
          <p:cNvSpPr/>
          <p:nvPr/>
        </p:nvSpPr>
        <p:spPr>
          <a:xfrm>
            <a:off x="4716360" y="3067200"/>
            <a:ext cx="51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один из инструментов в графическом редактор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5"/>
          <p:cNvSpPr/>
          <p:nvPr/>
        </p:nvSpPr>
        <p:spPr>
          <a:xfrm>
            <a:off x="4572000" y="4291200"/>
            <a:ext cx="52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жаргонное название жесткого магнитного дис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1000" autoRev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7" dur="1000" autoRev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8" dur="1000" autoRev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" dur="1000" autoRev="1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3" dur="1000" autoRev="1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" dur="1000" autoRev="1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2c0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74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 Коман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-181440" y="1341360"/>
            <a:ext cx="482436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ирус – э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4859280" y="260280"/>
            <a:ext cx="3981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 Коман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"/>
          <p:cNvSpPr/>
          <p:nvPr/>
        </p:nvSpPr>
        <p:spPr>
          <a:xfrm>
            <a:off x="46432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0" y="1916280"/>
            <a:ext cx="4572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216000" y="2131920"/>
            <a:ext cx="4572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0" y="215784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ошибка в программ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0" y="30672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озбудитель инфекционного заболе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0" y="4108320"/>
            <a:ext cx="47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рограмма, обладающая способностью к самовоспроизведени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4319640" y="1341360"/>
            <a:ext cx="48243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иск – эт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4643280" y="213264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носитель информаци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3"/>
          <p:cNvSpPr/>
          <p:nvPr/>
        </p:nvSpPr>
        <p:spPr>
          <a:xfrm>
            <a:off x="4716360" y="3178800"/>
            <a:ext cx="51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геометрическая фигур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4"/>
          <p:cNvSpPr/>
          <p:nvPr/>
        </p:nvSpPr>
        <p:spPr>
          <a:xfrm>
            <a:off x="4572000" y="4474080"/>
            <a:ext cx="52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портивный снаря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1000" autoRev="1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1" dur="1000" autoRev="1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2" dur="1000" autoRev="1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1000" autoRev="1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7" dur="1000" autoRev="1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8" dur="1000" autoRev="1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2c0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74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 Коман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-181440" y="1341360"/>
            <a:ext cx="482436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еню – э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4859280" y="260280"/>
            <a:ext cx="3981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 Коман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"/>
          <p:cNvSpPr/>
          <p:nvPr/>
        </p:nvSpPr>
        <p:spPr>
          <a:xfrm>
            <a:off x="46432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0" y="1916280"/>
            <a:ext cx="4572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216000" y="2131920"/>
            <a:ext cx="4572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0" y="1974960"/>
            <a:ext cx="45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еречень величин, используемых в программе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0" y="3250080"/>
            <a:ext cx="52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еречень блюд в ресторане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0" y="3925440"/>
            <a:ext cx="471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изображаемый на экране список вариантов, из которых пользователь выбирает необходимый вариан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4319640" y="1341360"/>
            <a:ext cx="48243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ышь – эт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2"/>
          <p:cNvSpPr/>
          <p:nvPr/>
        </p:nvSpPr>
        <p:spPr>
          <a:xfrm>
            <a:off x="4643280" y="1987560"/>
            <a:ext cx="45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рограмма, выполняющая нежелательные действия 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3"/>
          <p:cNvSpPr/>
          <p:nvPr/>
        </p:nvSpPr>
        <p:spPr>
          <a:xfrm>
            <a:off x="4572000" y="3178800"/>
            <a:ext cx="52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грызу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4"/>
          <p:cNvSpPr/>
          <p:nvPr/>
        </p:nvSpPr>
        <p:spPr>
          <a:xfrm>
            <a:off x="4572000" y="4474080"/>
            <a:ext cx="52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манипулятор на компьютер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" dur="1000" autoRev="1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5" dur="1000" autoRev="1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" dur="1000" autoRev="1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" dur="1000" autoRev="1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1" dur="1000" autoRev="1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2" dur="1000" autoRev="1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12:11:33Z</dcterms:created>
  <dc:creator>Дмитрий</dc:creator>
  <dc:description/>
  <dc:language>en-US</dc:language>
  <cp:lastModifiedBy>Пакульских</cp:lastModifiedBy>
  <dcterms:modified xsi:type="dcterms:W3CDTF">2014-01-25T08:31:09Z</dcterms:modified>
  <cp:revision>14</cp:revision>
  <dc:subject/>
  <dc:title>Слайд 1</dc:title>
</cp:coreProperties>
</file>