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1B0-F86E-44E4-ADD4-7FFD40EF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651-1B0E-4E2F-8678-C063A3B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5A3-A61A-4EEE-AC1E-6524BFEE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16D-C96C-4638-9576-7262C0BF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2A7-0D24-4B94-B780-C0152AF2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9E6-9F8F-4664-9ABC-9F9193B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AD0-61D6-4C58-8B18-748C2B8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6E3-B9E9-4199-BB22-FB05158D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CEC-1006-4FC7-AD0D-CA197A25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376-10ED-4631-B99E-BC5988E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097-D597-4E4B-8881-82F426E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D85-DC7C-42B9-90E5-B9752F9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29DA-07E8-4CFF-B923-0425AC49C7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 учитель ИКТ МОУ Большечерниговская СОШ №2 "ОЦ" Морозов Д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A9D-02AD-4C18-9050-9378BBD0F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1197000"/>
            <a:ext cx="7416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еклассное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роприятие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тике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омпьютерный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нир»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108000" y="189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</a:rPr>
              <a:t>ГБОУ  СРЕДНЯЯ   ОБЩЕОБРАЗОВАТЕЛЬНАЯ   ШКОЛА   № 1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</a:rPr>
              <a:t>Имени Героя Советского Союза А.К.Нов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184720" y="612792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кульских Еле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3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Разгадывание кроссвор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обеих команд по очереди выходят к доске и маркером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ут ответы. Вопросы читает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6836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</a:tblGrid>
              <a:tr h="574560"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4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Зашифрованные слова в приведенном тек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3167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иведенных текстах некоторые идущие подряд буквы нескольких слов образуют термины, связанные с информатикой и компьютерами. Найдите эти термины, и подчеркн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941720"/>
            <a:ext cx="680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мер: В присутствии начальника По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ребе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084720" y="4941720"/>
            <a:ext cx="28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 робе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2746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6043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 процесс орнитологии называют миграци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68360" y="2708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1268280"/>
            <a:ext cx="914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том они торжествовали и радовались, как де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5877000"/>
            <a:ext cx="914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смотря на это, его феска не раз падала с гол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3789360"/>
            <a:ext cx="86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а Днепр интересна тем, что на ней имеются несколько гидроэлектростан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0" y="4869000"/>
            <a:ext cx="86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просьбе хозяина квартиры мы шкаф сдвинули в у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19162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18040" indent="-51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 старинный комод ему достался в наследство от баб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5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3167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питаны по очереди называют составные части компьютера. Проигрывает тот, кто назовет неправильно или не сможет вспомни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8"/>
          <p:cNvSpPr txBox="1"/>
          <p:nvPr/>
        </p:nvSpPr>
        <p:spPr>
          <a:xfrm>
            <a:off x="539640" y="1413000"/>
            <a:ext cx="777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9ca"/>
                </a:solidFill>
                <a:latin typeface="Arial"/>
              </a:rPr>
              <a:t>Приветст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ая команда должна выбрать капитана, сказать свое название, представить и пояснить свою эмблему и свой девиз. Эмблема рисуется на компьютере в графическом редактор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1 конкурс</a:t>
            </a:r>
            <a:br>
              <a:rPr sz="4000"/>
            </a:b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Цепочка с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енные слова следует расположить, соблюдая следующее правило: очередное слово начинается на букву, которой оканчивается предыдущее слово(без учета мягкого зна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482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Абак, адрес, алфавит, дорожка, дюйм, Евклид, килобайт, монитор, отладка, процессор, радио, разряд, рамка, тире, транслятор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160020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Агат», архиватор, график, команда, Лексикон, линейка, листинг, ноль, Нортон, &lt;пробел&gt;, регистр, робот, таблица, телеграф, фай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mp"/>
          <p:cNvPicPr/>
          <p:nvPr/>
        </p:nvPicPr>
        <p:blipFill>
          <a:blip r:embed="rId1"/>
          <a:stretch/>
        </p:blipFill>
        <p:spPr>
          <a:xfrm>
            <a:off x="2484360" y="5280120"/>
            <a:ext cx="2160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427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цессор – радио – отладка – абак – килобайт – транслятор – разряд – дюйм – монитор – рамка – алфавит – тире – Евклид – дорожка – адре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8360" y="404640"/>
            <a:ext cx="2746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508720" y="549360"/>
            <a:ext cx="274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175280" y="1052640"/>
            <a:ext cx="496872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lt;пробел&gt;– Лексикон – Нортон – ноль – линейка – архиватор – регистр – робот – телеграф – файл – листинг – график – команда – «Агат»– табл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356000" y="476280"/>
            <a:ext cx="0" cy="638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komp"/>
          <p:cNvPicPr/>
          <p:nvPr/>
        </p:nvPicPr>
        <p:blipFill>
          <a:blip r:embed="rId1"/>
          <a:stretch/>
        </p:blipFill>
        <p:spPr>
          <a:xfrm>
            <a:off x="7426440" y="5410080"/>
            <a:ext cx="171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«Третий лишний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каждого из выделенных курсивом терминов приведены три определения, одно из которых не соответствует термину. Необходимо указать это о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дрес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1916280"/>
            <a:ext cx="457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1974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рядковый номер байта оперативной памя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0" y="3067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рядковый номер элемента масси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0" y="429120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письма в электронной поч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3196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нт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643280" y="19879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епежная дета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716360" y="306720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ин из инструментов в графическом редакто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572000" y="429120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аргонное название жесткого магнитного ди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рус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1916280"/>
            <a:ext cx="457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2157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шибка в программ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3067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збудитель инфекционного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410832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грамма, обладающая способностью к самовоспроизвед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3196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иск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643280" y="2132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оситель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4716360" y="317880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еометрическая фиг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4572000" y="4474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ртивный сн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ню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1916280"/>
            <a:ext cx="457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1974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чень величин, используемых в программе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250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чень блюд в ресторане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925440"/>
            <a:ext cx="47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ображаемый на экране список вариантов, из которых пользователь выбирает необходимый вари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3196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ышь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643280" y="19875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грамма, выполняющая нежелательные действия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572000" y="317880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рызу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4572000" y="4474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нипулятор на компьюте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11:33Z</dcterms:created>
  <dc:creator>Дмитрий</dc:creator>
  <dc:description/>
  <dc:language>en-US</dc:language>
  <cp:lastModifiedBy>Пакульских</cp:lastModifiedBy>
  <dcterms:modified xsi:type="dcterms:W3CDTF">2014-01-25T08:31:09Z</dcterms:modified>
  <cp:revision>14</cp:revision>
  <dc:subject/>
  <dc:title>Слайд 1</dc:title>
</cp:coreProperties>
</file>