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462B-09B8-440C-8CAB-6B54B430DC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6D75-AA87-4101-96F7-8063D8D7CFC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Вооруженные силы Российской Федерации (РФ) предназначены для отражения нападения противника и его разгрома, а также для выполнения задач в соответствии с международными обязательствами. Вооруженные силы РФ состоят из следующих видов: Сухопутные войска, Военно-воздушные силы, Военно-морской флот и родов войск: Ракетные войска стратегического назначения, Воздушно-десантные войска, Космические войска. Кроме того, в составе всех видов Вооруженных сил имеются специальные войс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941-EB2C-45CA-9056-F054FE76035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4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F80-1291-4CFE-B53C-95FD02C6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752-0501-484C-86A6-19928AE3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EF7-656B-4368-B62A-8D326FCE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1E7-DCF4-4EDC-BB6A-F82D2B25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D35A-25AA-49F9-80DF-CD06A1C2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E3C7-CE0B-4A68-810B-83FC8E3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916-3BB9-4BF6-84DF-1B7E3F20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FF3F-A762-47B5-A864-CB294670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C58-4DCD-4C30-AA42-D696315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B7A-6DF3-4ED8-AE76-536F1CF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3A7A-B1CA-4F77-9DB1-03AA522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3C0-E46F-427F-9E2B-202E9C37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CFD-D2C6-4F65-AF7F-8C9A102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D11C-0F4D-48EB-BEAE-117699B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F833-C941-4F45-8F77-0AE720E9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DDC7-1249-42AB-8A41-E297CCD2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C23-3843-45CC-939F-D5CB30E4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BCD-90A5-4F9B-B061-5E0D5886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56F-797E-45EF-9409-24FB59A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E08-99D4-4DF4-9644-58CFD07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B8A-3656-4290-91D7-1D0A5004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DFA-9755-4FE8-BE38-D370E2B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59D-176C-48FE-BAB3-1DE5AAB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1BA-4045-4EDC-840C-C229F6C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>
                <a:gd name="textAreaLeft" fmla="*/ 0 w 5778360"/>
                <a:gd name="textAreaRight" fmla="*/ 5778720 w 577836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>
                <a:gd name="textAreaLeft" fmla="*/ 0 w 5956200"/>
                <a:gd name="textAreaRight" fmla="*/ 5956560 w 595620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>
                <a:gd name="textAreaLeft" fmla="*/ 0 w 4095720"/>
                <a:gd name="textAreaRight" fmla="*/ 4096080 w 40957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>
                <a:gd name="textAreaLeft" fmla="*/ 0 w 2791080"/>
                <a:gd name="textAreaRight" fmla="*/ 2791440 w 27910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3619440"/>
                <a:gd name="textAreaBottom" fmla="*/ 3619800 h 3619440"/>
              </a:gdLst>
              <a:ahLst/>
              <a:rect l="textAreaLeft" t="textAreaTop" r="textAreaRight" b="textAreaBottom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>
                <a:gd name="textAreaLeft" fmla="*/ 0 w 4203720"/>
                <a:gd name="textAreaRight" fmla="*/ 4204080 w 4203720"/>
                <a:gd name="textAreaTop" fmla="*/ 0 h 5387760"/>
                <a:gd name="textAreaBottom" fmla="*/ 5388120 h 5387760"/>
              </a:gdLst>
              <a:ahLst/>
              <a:rect l="textAreaLeft" t="textAreaTop" r="textAreaRight" b="textAreaBottom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645000"/>
                <a:gd name="textAreaBottom" fmla="*/ 3645360 h 3645000"/>
              </a:gdLst>
              <a:ahLst/>
              <a:rect l="textAreaLeft" t="textAreaTop" r="textAreaRight" b="textAreaBottom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3035520"/>
                <a:gd name="textAreaBottom" fmla="*/ 3035880 h 3035520"/>
              </a:gdLst>
              <a:ahLst/>
              <a:rect l="textAreaLeft" t="textAreaTop" r="textAreaRight" b="textAreaBottom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>
                <a:gd name="textAreaLeft" fmla="*/ 0 w 4889520"/>
                <a:gd name="textAreaRight" fmla="*/ 4889880 w 488952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BAF-7899-49D2-84FF-99C6100987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>
                <a:gd name="textAreaLeft" fmla="*/ 0 w 5778360"/>
                <a:gd name="textAreaRight" fmla="*/ 5778720 w 577836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>
                <a:gd name="textAreaLeft" fmla="*/ 0 w 5956200"/>
                <a:gd name="textAreaRight" fmla="*/ 5956560 w 595620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>
                <a:gd name="textAreaLeft" fmla="*/ 0 w 4095720"/>
                <a:gd name="textAreaRight" fmla="*/ 4096080 w 40957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>
                <a:gd name="textAreaLeft" fmla="*/ 0 w 2791080"/>
                <a:gd name="textAreaRight" fmla="*/ 2791440 w 27910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3619440"/>
                <a:gd name="textAreaBottom" fmla="*/ 3619800 h 3619440"/>
              </a:gdLst>
              <a:ahLst/>
              <a:rect l="textAreaLeft" t="textAreaTop" r="textAreaRight" b="textAreaBottom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>
                <a:gd name="textAreaLeft" fmla="*/ 0 w 4203720"/>
                <a:gd name="textAreaRight" fmla="*/ 4204080 w 4203720"/>
                <a:gd name="textAreaTop" fmla="*/ 0 h 5387760"/>
                <a:gd name="textAreaBottom" fmla="*/ 5388120 h 5387760"/>
              </a:gdLst>
              <a:ahLst/>
              <a:rect l="textAreaLeft" t="textAreaTop" r="textAreaRight" b="textAreaBottom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645000"/>
                <a:gd name="textAreaBottom" fmla="*/ 3645360 h 3645000"/>
              </a:gdLst>
              <a:ahLst/>
              <a:rect l="textAreaLeft" t="textAreaTop" r="textAreaRight" b="textAreaBottom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3035520"/>
                <a:gd name="textAreaBottom" fmla="*/ 3035880 h 3035520"/>
              </a:gdLst>
              <a:ahLst/>
              <a:rect l="textAreaLeft" t="textAreaTop" r="textAreaRight" b="textAreaBottom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>
                <a:gd name="textAreaLeft" fmla="*/ 0 w 4889520"/>
                <a:gd name="textAreaRight" fmla="*/ 4889880 w 488952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FE6E-5A0B-4772-B337-AC1DD388EC3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Вооруженные Силы России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7" name="Picture 30" descr="C:\Documents and Settings\Анжелина\Мои документы\Мои рисунки\Оружие России\танки\Т-90С.jpg"/>
          <p:cNvPicPr/>
          <p:nvPr/>
        </p:nvPicPr>
        <p:blipFill>
          <a:blip r:embed="rId1"/>
          <a:stretch/>
        </p:blipFill>
        <p:spPr>
          <a:xfrm>
            <a:off x="914400" y="213372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C:\Documents and Settings\Анжелина\Мои документы\Мои рисунки\Оружие России\МИГ-29.jpg"/>
          <p:cNvPicPr/>
          <p:nvPr/>
        </p:nvPicPr>
        <p:blipFill>
          <a:blip r:embed="rId2"/>
          <a:stretch/>
        </p:blipFill>
        <p:spPr>
          <a:xfrm>
            <a:off x="4572000" y="441972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C:\Documents and Settings\Анжелина\Мои документы\Мои рисунки\Оружие России\051056053050049057.jpg"/>
          <p:cNvPicPr/>
          <p:nvPr/>
        </p:nvPicPr>
        <p:blipFill>
          <a:blip r:embed="rId3"/>
          <a:stretch/>
        </p:blipFill>
        <p:spPr>
          <a:xfrm>
            <a:off x="4952880" y="22096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1" descr="C:\Documents and Settings\Анжелина\Мои документы\Мои рисунки\Оружие России\050055054055056055049.jpg"/>
          <p:cNvPicPr/>
          <p:nvPr/>
        </p:nvPicPr>
        <p:blipFill>
          <a:blip r:embed="rId4"/>
          <a:stretch/>
        </p:blipFill>
        <p:spPr>
          <a:xfrm>
            <a:off x="1270080" y="43434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Бомбардировщик СУ-32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6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0000"/>
                </a:solidFill>
                <a:latin typeface="Times New Roman"/>
              </a:rPr>
              <a:t>Изготовитель – ОАО «Компания Сухой».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0000"/>
                </a:solidFill>
                <a:latin typeface="Times New Roman"/>
              </a:rPr>
              <a:t>Предназначен для мощных и точных ракетно-бомбовых ударов по наземным целям противника в оперативно-тактической глубине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3" name="Picture 15" descr="C:\Documents and Settings\Анжелина\Мои документы\Мои рисунки\Оружие России\049051057051052056049.jpg"/>
          <p:cNvPicPr/>
          <p:nvPr/>
        </p:nvPicPr>
        <p:blipFill>
          <a:blip r:embed="rId3"/>
          <a:stretch/>
        </p:blipFill>
        <p:spPr>
          <a:xfrm>
            <a:off x="2057400" y="1905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Танк Т-90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9" descr="C:\Documents and Settings\Анжелина\Мои документы\Мои рисунки\054051049054055051.jpg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Изготовитель ОАО НПК «Уралвагонзавод»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Танк Т-90С предназначен для комплектования танковых и мотострелковых частей и соединений, а также разведподразделений и частей ВМФ, действующих в приморской полосе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Акула», тяжёлые ракетные подводные крейсеры стратегического назначения проекта 941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0000"/>
                </a:solidFill>
                <a:latin typeface="Arial"/>
              </a:rPr>
              <a:t>З</a:t>
            </a:r>
            <a:r>
              <a:rPr b="1" lang="ru-RU" sz="2000" spc="-1" strike="noStrike">
                <a:solidFill>
                  <a:srgbClr val="f40000"/>
                </a:solidFill>
                <a:latin typeface="Arial"/>
                <a:ea typeface="Arial"/>
              </a:rPr>
              <a:t>аложена на предприятии «Севмаш» в июне 1976 года</a:t>
            </a:r>
            <a:r>
              <a:rPr b="1" lang="ru-RU" sz="2000" spc="-1" strike="noStrike">
                <a:solidFill>
                  <a:srgbClr val="f4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0000"/>
                </a:solidFill>
                <a:latin typeface="Arial"/>
                <a:ea typeface="Arial"/>
              </a:rPr>
              <a:t>Предназначен для поражения стратегических объектов, располагаемых на межконтинентальной дальности.</a:t>
            </a:r>
            <a:r>
              <a:rPr b="1" lang="ru-RU" sz="2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6" descr="C:\Documents and Settings\Анжелина\Мои документы\Мои рисунки\Оружие России\056048048055050054.jpg"/>
          <p:cNvPicPr/>
          <p:nvPr/>
        </p:nvPicPr>
        <p:blipFill>
          <a:blip r:embed="rId4"/>
          <a:stretch/>
        </p:blipFill>
        <p:spPr>
          <a:xfrm>
            <a:off x="2220840" y="1981080"/>
            <a:ext cx="508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Москва», ракетный крейсер проекта 1164 (класс «Атлант»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SzPct val="1547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aeaea"/>
                </a:solidFill>
                <a:latin typeface="Arial"/>
                <a:ea typeface="Arial"/>
              </a:rPr>
              <a:t>Предназначен, в первую очередь, для нанесения ударов по крупным одиночным и группировкам ударных надводных кораблей, обеспечения боевой устойчивости корабельных противолодочных групп (КРУГ) и ведения коллективной противовоздушной обороны (ПВО) соединений кораблей в удаленных районах</a:t>
            </a:r>
            <a:endParaRPr b="0" lang="en-US" sz="17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385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40000"/>
                </a:solidFill>
                <a:latin typeface="Arial"/>
                <a:ea typeface="Arial"/>
              </a:rPr>
              <a:t>разработан ФГУП «Северное ПКБ»</a:t>
            </a:r>
            <a:r>
              <a:rPr b="0" lang="ru-RU" sz="19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2" name="Picture 6" descr="C:\Documents and Settings\Анжелина\Мои документы\Мои рисунки\Оружие России\057054048051050.jpg"/>
          <p:cNvPicPr/>
          <p:nvPr/>
        </p:nvPicPr>
        <p:blipFill>
          <a:blip r:embed="rId3"/>
          <a:stretch/>
        </p:blipFill>
        <p:spPr>
          <a:xfrm>
            <a:off x="1886040" y="1981080"/>
            <a:ext cx="5370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0000"/>
                </a:solidFill>
                <a:latin typeface="Arial"/>
                <a:ea typeface="Arial"/>
              </a:rPr>
              <a:t>"Адмирал флота Советского Союза Кузнецов", тяжелый авианесущий крейсер</a:t>
            </a:r>
            <a:endParaRPr b="0" lang="en-US" sz="27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46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Тяжелый авианесущий крейсер для завоевания господства на море и в воздухе в районах действий сил флота и решения других задач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46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Тяжёлый авианесущий крейсер (ТАВКР) пр.1143.5 разработан Невским проектно-конструкторском бюро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5" name="Picture 6" descr="C:\Documents and Settings\Анжелина\Мои документы\Мои рисунки\Оружие России\051056053050049057.jpg"/>
          <p:cNvPicPr/>
          <p:nvPr/>
        </p:nvPicPr>
        <p:blipFill>
          <a:blip r:embed="rId3"/>
          <a:stretch/>
        </p:blipFill>
        <p:spPr>
          <a:xfrm>
            <a:off x="1755720" y="1981080"/>
            <a:ext cx="5556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Смерч» 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 300-мм реактивная система залпового огня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ГНПП "Сплав" (г. Тул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 генеральный конструктор А.Н.Ганичев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лужит для поражения открыто расположенной и укрытой живой силы, небронированной и бронированной техники, артиллерии, тактических ракет и зенитных комплексов противника, его вертолетов на стоянках, а также для разрушения командных пунктов, узлов связи и объектов военно-промышленной структуры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8" name="Picture 6" descr="C:\Documents and Settings\Анжелина\Мои документы\Мои рисунки\Оружие России\057056050051054.jpg"/>
          <p:cNvPicPr/>
          <p:nvPr/>
        </p:nvPicPr>
        <p:blipFill>
          <a:blip r:embed="rId3"/>
          <a:stretch/>
        </p:blipFill>
        <p:spPr>
          <a:xfrm>
            <a:off x="2035080" y="1295280"/>
            <a:ext cx="552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8:46Z</dcterms:created>
  <dc:creator>Анжелина</dc:creator>
  <dc:description/>
  <dc:language>en-US</dc:language>
  <cp:lastModifiedBy>дима</cp:lastModifiedBy>
  <dcterms:modified xsi:type="dcterms:W3CDTF">2013-01-06T08:36:44Z</dcterms:modified>
  <cp:revision>10</cp:revision>
  <dc:subject/>
  <dc:title>Вооруженные Силы России</dc:title>
</cp:coreProperties>
</file>