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DCD-13DD-4EDE-9EBA-919DA05EDD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A61A-C2B5-4862-8CB7-30ACD510755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Вооруженные силы Российской Федерации (РФ) предназначены для отражения нападения противника и его разгрома, а также для выполнения задач в соответствии с международными обязательствами. Вооруженные силы РФ состоят из следующих видов: Сухопутные войска, Военно-воздушные силы, Военно-морской флот и родов войск: Ракетные войска стратегического назначения, Воздушно-десантные войска, Космические войска. Кроме того, в составе всех видов Вооруженных сил имеются специальные войс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CF22-47D1-49F6-A30C-E76547E7A8B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f4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7C3-5990-4CE1-8407-5985B420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EAC-AEA0-4089-B7C8-1CDDC3C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FC8-0D79-4141-B66D-FFAEAEB1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E96-5B1F-40EC-8A85-C158D461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193E-C8BA-4D92-B6B1-3AE991FA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9742-31FE-4B60-B4E1-80B32193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D19-F77C-4017-89D7-0524439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1081-17C6-4384-958C-250B31B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A718-F85B-46F6-8EF8-DA53AB6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4852-A51C-4668-99C9-9BDFB406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B655-F712-4079-A4B1-F26202D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CB2-D60B-488E-80B0-E3265A95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8FD0-71E9-491A-B9D7-9FCF05F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631-7BC7-44F7-82D5-3C80FEF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A0F-988C-4421-955A-7C1C2E4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FFD1-9483-4461-B17D-8A32846B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BB44-D26D-4F89-9096-89B20F6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468-A6A2-4D56-8EFE-0FEF822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ED7-DC70-427B-94C3-DEC608DA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F44-A481-47C4-9BEC-81065FB3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60A-C0AB-44DC-9B78-878345DB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894-4355-4815-90E2-A99C329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6DC-D291-4E5D-AA75-FB444D1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37F-9A9B-4C59-8DC2-619B9BC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>
                <a:gd name="textAreaLeft" fmla="*/ 0 w 5778360"/>
                <a:gd name="textAreaRight" fmla="*/ 5778720 w 577836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>
                <a:gd name="textAreaLeft" fmla="*/ 0 w 5956200"/>
                <a:gd name="textAreaRight" fmla="*/ 5956560 w 595620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>
                <a:gd name="textAreaLeft" fmla="*/ 0 w 4095720"/>
                <a:gd name="textAreaRight" fmla="*/ 4096080 w 40957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>
                <a:gd name="textAreaLeft" fmla="*/ 0 w 2791080"/>
                <a:gd name="textAreaRight" fmla="*/ 2791440 w 27910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3619440"/>
                <a:gd name="textAreaBottom" fmla="*/ 3619800 h 3619440"/>
              </a:gdLst>
              <a:ahLst/>
              <a:rect l="textAreaLeft" t="textAreaTop" r="textAreaRight" b="textAreaBottom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>
                <a:gd name="textAreaLeft" fmla="*/ 0 w 4203720"/>
                <a:gd name="textAreaRight" fmla="*/ 4204080 w 4203720"/>
                <a:gd name="textAreaTop" fmla="*/ 0 h 5387760"/>
                <a:gd name="textAreaBottom" fmla="*/ 5388120 h 5387760"/>
              </a:gdLst>
              <a:ahLst/>
              <a:rect l="textAreaLeft" t="textAreaTop" r="textAreaRight" b="textAreaBottom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645000"/>
                <a:gd name="textAreaBottom" fmla="*/ 3645360 h 3645000"/>
              </a:gdLst>
              <a:ahLst/>
              <a:rect l="textAreaLeft" t="textAreaTop" r="textAreaRight" b="textAreaBottom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3035520"/>
                <a:gd name="textAreaBottom" fmla="*/ 3035880 h 3035520"/>
              </a:gdLst>
              <a:ahLst/>
              <a:rect l="textAreaLeft" t="textAreaTop" r="textAreaRight" b="textAreaBottom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>
                <a:gd name="textAreaLeft" fmla="*/ 0 w 4889520"/>
                <a:gd name="textAreaRight" fmla="*/ 4889880 w 488952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A0A7-A931-49D4-A5A5-DDB026ADB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>
                <a:gd name="textAreaLeft" fmla="*/ 0 w 5778360"/>
                <a:gd name="textAreaRight" fmla="*/ 5778720 w 577836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>
                <a:gd name="textAreaLeft" fmla="*/ 0 w 3168720"/>
                <a:gd name="textAreaRight" fmla="*/ 3169080 w 3168720"/>
                <a:gd name="textAreaTop" fmla="*/ 0 h 1968480"/>
                <a:gd name="textAreaBottom" fmla="*/ 1968840 h 1968480"/>
              </a:gdLst>
              <a:ahLst/>
              <a:rect l="textAreaLeft" t="textAreaTop" r="textAreaRight" b="textAreaBottom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>
                <a:gd name="textAreaLeft" fmla="*/ 0 w 5956200"/>
                <a:gd name="textAreaRight" fmla="*/ 5956560 w 595620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>
                <a:gd name="textAreaLeft" fmla="*/ 0 w 4095720"/>
                <a:gd name="textAreaRight" fmla="*/ 4096080 w 4095720"/>
                <a:gd name="textAreaTop" fmla="*/ 0 h 1809720"/>
                <a:gd name="textAreaBottom" fmla="*/ 1810080 h 1809720"/>
              </a:gdLst>
              <a:ahLst/>
              <a:rect l="textAreaLeft" t="textAreaTop" r="textAreaRight" b="textAreaBottom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>
                <a:gd name="textAreaLeft" fmla="*/ 0 w 2791080"/>
                <a:gd name="textAreaRight" fmla="*/ 2791440 w 279108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3619440"/>
                <a:gd name="textAreaBottom" fmla="*/ 3619800 h 3619440"/>
              </a:gdLst>
              <a:ahLst/>
              <a:rect l="textAreaLeft" t="textAreaTop" r="textAreaRight" b="textAreaBottom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>
                <a:gd name="textAreaLeft" fmla="*/ 0 w 4203720"/>
                <a:gd name="textAreaRight" fmla="*/ 4204080 w 4203720"/>
                <a:gd name="textAreaTop" fmla="*/ 0 h 5387760"/>
                <a:gd name="textAreaBottom" fmla="*/ 5388120 h 5387760"/>
              </a:gdLst>
              <a:ahLst/>
              <a:rect l="textAreaLeft" t="textAreaTop" r="textAreaRight" b="textAreaBottom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>
                <a:gd name="textAreaLeft" fmla="*/ 0 w 3581280"/>
                <a:gd name="textAreaRight" fmla="*/ 3581640 w 358128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>
                <a:gd name="textAreaLeft" fmla="*/ 0 w 3149640"/>
                <a:gd name="textAreaRight" fmla="*/ 3150000 w 3149640"/>
                <a:gd name="textAreaTop" fmla="*/ 0 h 3645000"/>
                <a:gd name="textAreaBottom" fmla="*/ 3645360 h 3645000"/>
              </a:gdLst>
              <a:ahLst/>
              <a:rect l="textAreaLeft" t="textAreaTop" r="textAreaRight" b="textAreaBottom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3035520"/>
                <a:gd name="textAreaBottom" fmla="*/ 3035880 h 3035520"/>
              </a:gdLst>
              <a:ahLst/>
              <a:rect l="textAreaLeft" t="textAreaTop" r="textAreaRight" b="textAreaBottom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>
                <a:gd name="textAreaLeft" fmla="*/ 0 w 4889520"/>
                <a:gd name="textAreaRight" fmla="*/ 4889880 w 488952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564-DCB9-4133-9224-3CE885DACC6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Вооруженные Силы России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7" name="Picture 30" descr="C:\Documents and Settings\Анжелина\Мои документы\Мои рисунки\Оружие России\танки\Т-90С.jpg"/>
          <p:cNvPicPr/>
          <p:nvPr/>
        </p:nvPicPr>
        <p:blipFill>
          <a:blip r:embed="rId1"/>
          <a:stretch/>
        </p:blipFill>
        <p:spPr>
          <a:xfrm>
            <a:off x="914400" y="213372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C:\Documents and Settings\Анжелина\Мои документы\Мои рисунки\Оружие России\МИГ-29.jpg"/>
          <p:cNvPicPr/>
          <p:nvPr/>
        </p:nvPicPr>
        <p:blipFill>
          <a:blip r:embed="rId2"/>
          <a:stretch/>
        </p:blipFill>
        <p:spPr>
          <a:xfrm>
            <a:off x="4572000" y="441972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C:\Documents and Settings\Анжелина\Мои документы\Мои рисунки\Оружие России\051056053050049057.jpg"/>
          <p:cNvPicPr/>
          <p:nvPr/>
        </p:nvPicPr>
        <p:blipFill>
          <a:blip r:embed="rId3"/>
          <a:stretch/>
        </p:blipFill>
        <p:spPr>
          <a:xfrm>
            <a:off x="4952880" y="220968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1" descr="C:\Documents and Settings\Анжелина\Мои документы\Мои рисунки\Оружие России\050055054055056055049.jpg"/>
          <p:cNvPicPr/>
          <p:nvPr/>
        </p:nvPicPr>
        <p:blipFill>
          <a:blip r:embed="rId4"/>
          <a:stretch/>
        </p:blipFill>
        <p:spPr>
          <a:xfrm>
            <a:off x="1270080" y="43434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Бомбардировщик СУ-32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6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0000"/>
                </a:solidFill>
                <a:latin typeface="Times New Roman"/>
              </a:rPr>
              <a:t>Изготовитель – ОАО «Компания Сухой».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0000"/>
                </a:solidFill>
                <a:latin typeface="Times New Roman"/>
              </a:rPr>
              <a:t>Предназначен для мощных и точных ракетно-бомбовых ударов по наземным целям противника в оперативно-тактической глубине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3" name="Picture 15" descr="C:\Documents and Settings\Анжелина\Мои документы\Мои рисунки\Оружие России\049051057051052056049.jpg"/>
          <p:cNvPicPr/>
          <p:nvPr/>
        </p:nvPicPr>
        <p:blipFill>
          <a:blip r:embed="rId3"/>
          <a:stretch/>
        </p:blipFill>
        <p:spPr>
          <a:xfrm>
            <a:off x="2057400" y="1905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Танк Т-90С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Picture 9" descr="C:\Documents and Settings\Анжелина\Мои документы\Мои рисунки\054051049054055051.jpg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3809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Изготовитель ОАО НПК «Уралвагонзавод»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Танк Т-90С предназначен для комплектования танковых и мотострелковых частей и соединений, а также разведподразделений и частей ВМФ, действующих в приморской полосе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Акула», тяжёлые ракетные подводные крейсеры стратегического назначения проекта 941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0000"/>
                </a:solidFill>
                <a:latin typeface="Arial"/>
              </a:rPr>
              <a:t>З</a:t>
            </a:r>
            <a:r>
              <a:rPr b="1" lang="ru-RU" sz="2000" spc="-1" strike="noStrike">
                <a:solidFill>
                  <a:srgbClr val="f40000"/>
                </a:solidFill>
                <a:latin typeface="Arial"/>
                <a:ea typeface="Arial"/>
              </a:rPr>
              <a:t>аложена на предприятии «Севмаш» в июне 1976 года</a:t>
            </a:r>
            <a:r>
              <a:rPr b="1" lang="ru-RU" sz="2000" spc="-1" strike="noStrike">
                <a:solidFill>
                  <a:srgbClr val="f4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0000"/>
                </a:solidFill>
                <a:latin typeface="Arial"/>
                <a:ea typeface="Arial"/>
              </a:rPr>
              <a:t>Предназначен для поражения стратегических объектов, располагаемых на межконтинентальной дальности.</a:t>
            </a:r>
            <a:r>
              <a:rPr b="1" lang="ru-RU" sz="2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6" descr="C:\Documents and Settings\Анжелина\Мои документы\Мои рисунки\Оружие России\056048048055050054.jpg"/>
          <p:cNvPicPr/>
          <p:nvPr/>
        </p:nvPicPr>
        <p:blipFill>
          <a:blip r:embed="rId4"/>
          <a:stretch/>
        </p:blipFill>
        <p:spPr>
          <a:xfrm>
            <a:off x="2220840" y="1981080"/>
            <a:ext cx="508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Москва», ракетный крейсер проекта 1164 (класс «Атлант»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SzPct val="1547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aeaea"/>
                </a:solidFill>
                <a:latin typeface="Arial"/>
                <a:ea typeface="Arial"/>
              </a:rPr>
              <a:t>Предназначен, в первую очередь, для нанесения ударов по крупным одиночным и группировкам ударных надводных кораблей, обеспечения боевой устойчивости корабельных противолодочных групп (КРУГ) и ведения коллективной противовоздушной обороны (ПВО) соединений кораблей в удаленных районах</a:t>
            </a:r>
            <a:endParaRPr b="0" lang="en-US" sz="17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385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40000"/>
                </a:solidFill>
                <a:latin typeface="Arial"/>
                <a:ea typeface="Arial"/>
              </a:rPr>
              <a:t>разработан ФГУП «Северное ПКБ»</a:t>
            </a:r>
            <a:r>
              <a:rPr b="0" lang="ru-RU" sz="19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2" name="Picture 6" descr="C:\Documents and Settings\Анжелина\Мои документы\Мои рисунки\Оружие России\057054048051050.jpg"/>
          <p:cNvPicPr/>
          <p:nvPr/>
        </p:nvPicPr>
        <p:blipFill>
          <a:blip r:embed="rId3"/>
          <a:stretch/>
        </p:blipFill>
        <p:spPr>
          <a:xfrm>
            <a:off x="1886040" y="1981080"/>
            <a:ext cx="5370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0000"/>
                </a:solidFill>
                <a:latin typeface="Arial"/>
                <a:ea typeface="Arial"/>
              </a:rPr>
              <a:t>"Адмирал флота Советского Союза Кузнецов", тяжелый авианесущий крейсер</a:t>
            </a:r>
            <a:endParaRPr b="0" lang="en-US" sz="27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46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Тяжелый авианесущий крейсер для завоевания господства на море и в воздухе в районах действий сил флота и решения других задач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46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  <a:ea typeface="Arial"/>
              </a:rPr>
              <a:t>Тяжёлый авианесущий крейсер (ТАВКР) пр.1143.5 разработан Невским проектно-конструкторском бюро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5" name="Picture 6" descr="C:\Documents and Settings\Анжелина\Мои документы\Мои рисунки\Оружие России\051056053050049057.jpg"/>
          <p:cNvPicPr/>
          <p:nvPr/>
        </p:nvPicPr>
        <p:blipFill>
          <a:blip r:embed="rId3"/>
          <a:stretch/>
        </p:blipFill>
        <p:spPr>
          <a:xfrm>
            <a:off x="1755720" y="1981080"/>
            <a:ext cx="5556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«Смерч» 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40000"/>
                </a:solidFill>
                <a:latin typeface="Arial"/>
                <a:ea typeface="Arial"/>
              </a:rPr>
              <a:t> 300-мм реактивная система залпового огня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ГНПП "Сплав" (г. Тула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Arial"/>
              </a:rPr>
              <a:t> генеральный конструктор А.Н.Ганичев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646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  <a:ea typeface="Arial"/>
              </a:rPr>
              <a:t>лужит для поражения открыто расположенной и укрытой живой силы, небронированной и бронированной техники, артиллерии, тактических ракет и зенитных комплексов противника, его вертолетов на стоянках, а также для разрушения командных пунктов, узлов связи и объектов военно-промышленной структуры.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8" name="Picture 6" descr="C:\Documents and Settings\Анжелина\Мои документы\Мои рисунки\Оружие России\057056050051054.jpg"/>
          <p:cNvPicPr/>
          <p:nvPr/>
        </p:nvPicPr>
        <p:blipFill>
          <a:blip r:embed="rId3"/>
          <a:stretch/>
        </p:blipFill>
        <p:spPr>
          <a:xfrm>
            <a:off x="2035080" y="1295280"/>
            <a:ext cx="552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8:46Z</dcterms:created>
  <dc:creator>Анжелина</dc:creator>
  <dc:description/>
  <dc:language>en-US</dc:language>
  <cp:lastModifiedBy>дима</cp:lastModifiedBy>
  <dcterms:modified xsi:type="dcterms:W3CDTF">2013-01-06T08:36:44Z</dcterms:modified>
  <cp:revision>10</cp:revision>
  <dc:subject/>
  <dc:title>Вооруженные Силы России</dc:title>
</cp:coreProperties>
</file>