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CBE-F8F0-4417-9144-35D2E822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8E8-E7CA-4691-B228-D779DF7D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7D3-46C3-4735-9C79-F13C810E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DF7-C301-4B41-B2C9-2999719F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B39B-4C0B-483C-96A4-EDF22FA9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771C-7378-40C0-9DD0-092244A0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873E-9011-483B-AAE9-0D8A955D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4241-3577-40D4-929E-4AD17BA1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B6DF-F891-4AFD-BDFD-87CDE576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9E9-410C-4DA0-8AD1-9C2D6DA0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0C51-A28E-4CA7-939B-8104A95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B0A-210B-4104-910E-C129F66A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B24F-41A9-4139-927C-107E982B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D21D-8F14-4081-A157-38EF22E2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68CD-100B-4154-902E-CDA90851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10E1-386D-4C0D-AEF3-6833C585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2936-555B-4C62-A55B-DB2D4DAB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4953D-DE05-4AE9-8BE1-DB0EEC35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10299-48EE-4337-A0DC-A5616E7F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B0B21-C7A1-4EA1-BE68-9465F789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F5DDA-9ACD-46EC-8887-6812DD89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68A19-D29A-4DFB-9653-8C5B8040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C84-9A99-4058-84A3-3DFC886B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02125-35C3-482D-B52B-AB1FD58E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31434-F68C-44C9-B385-EE07FC6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E2DD3-A4B2-4933-88F6-3A00C43A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148F3-E949-4AA0-BFB6-D0C87DE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FA27B-BF6A-49EC-AFC6-99CEF6DE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63C02-14E4-4E18-B03F-54A8B45D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130AF-9D5A-4965-998E-7EA895E8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7EE-C389-41AA-B5FB-7CCB6E50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290-1A98-40B6-9B40-F809FDD6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8A0-2FC8-4AF9-951E-3F520456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1E3-B17B-4315-920B-EE4202F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011-9B70-4ED6-86A4-A287AC2A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8AA-4E44-4BD0-B3F1-454E48E4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727200" y="1062000"/>
            <a:ext cx="4600440" cy="3978360"/>
          </a:xfrm>
          <a:prstGeom prst="rect">
            <a:avLst/>
          </a:prstGeom>
          <a:solidFill>
            <a:srgbClr val="2e231f"/>
          </a:solidFill>
          <a:ln w="0">
            <a:noFill/>
          </a:ln>
          <a:effectLst>
            <a:outerShdw dist="25318" dir="7190755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65547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65547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103422240">
              <a:spcBef>
                <a:spcPts val="700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75f55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94b6d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75f55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94b6d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2B6B-A12F-41E6-8C74-E484A4ECDADE}" type="datetime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5f55"/>
                </a:solidFill>
                <a:latin typeface="Times New Roman"/>
              </a:rPr>
              <a:t>Государственное образовательное учреждение начального профессионального образования Профессиональное училище№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3915-8EEC-4389-A0DF-55561F1EA2E0}" type="slidenum"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9DDF-F92A-4EF5-9B9C-8C75FC85DE3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32A3-D919-4BB1-86EA-B53CA04B9A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D346-4A9F-4C47-9D94-23B14114B8E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3910-6F7B-4C9A-82D3-200DF56B7C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1343160"/>
            <a:ext cx="8363160" cy="2733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5"/>
          <p:cNvSpPr/>
          <p:nvPr/>
        </p:nvSpPr>
        <p:spPr>
          <a:xfrm>
            <a:off x="1704960" y="333360"/>
            <a:ext cx="596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cc"/>
                </a:solidFill>
                <a:latin typeface="Times New Roman"/>
              </a:rPr>
              <a:t>Муниципальное Казенное обще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cc"/>
                </a:solidFill>
                <a:latin typeface="Times New Roman"/>
              </a:rPr>
              <a:t>Центр Образования «Возрождение»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867280" y="4292280"/>
            <a:ext cx="28195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Социальный педаг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.В. Аверк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3"/>
          <p:cNvPicPr/>
          <p:nvPr/>
        </p:nvPicPr>
        <p:blipFill>
          <a:blip r:embed="rId1"/>
          <a:stretch/>
        </p:blipFill>
        <p:spPr>
          <a:xfrm>
            <a:off x="826920" y="3068640"/>
            <a:ext cx="7201080" cy="33336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468360" y="663480"/>
            <a:ext cx="69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ы стал покуривать? А ведь знаешь, что курящие живут меньше и тяжело болеют в конце жизни. Но разве тебя напугаешь, юного и непутёвого, болезнями в старости? Рак лёгкого или инфаркт... Это так далеко. Тебя это пока не волнует. Но ведь болезни старости закладываются в детстве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 мнению медиков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сигарета сокращает жизнь – на 15 мин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пачка сигарет - на 5 ча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т, кто курит 1 год, теряет 3 месяца жиз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курит 4 года, теряет 1 год жиз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курит 20 лет, 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о курит 40 лет, теряет 10 лет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икотин убив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00001 гр. – вороб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004  – 0,005 гр. -  лоша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000001 гр. – лягуш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,01 – 0,08 гр. -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325784_3"/>
          <p:cNvPicPr/>
          <p:nvPr/>
        </p:nvPicPr>
        <p:blipFill>
          <a:blip r:embed="rId1"/>
          <a:stretch/>
        </p:blipFill>
        <p:spPr>
          <a:xfrm>
            <a:off x="250920" y="4365720"/>
            <a:ext cx="31320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214200" y="476280"/>
            <a:ext cx="75978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рение поражает органы дыхания, сердечно-сосудистую систему, желудочно-кишечный тракт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почки, печени)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89" name="Picture 4" descr="nikotin600"/>
          <p:cNvPicPr/>
          <p:nvPr/>
        </p:nvPicPr>
        <p:blipFill>
          <a:blip r:embed="rId1"/>
          <a:stretch/>
        </p:blipFill>
        <p:spPr>
          <a:xfrm>
            <a:off x="6156360" y="4365720"/>
            <a:ext cx="262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179280" y="6206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ме никоти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трицательное воздействие оказывают и другие составные части табачного дыма. При поступлении в организм окиси углерода развивается кислородное голодание, за счет того, что угарный газ легче соединяется с гемоглобином, чем кислород и доставляется с кровью ко всем тканям и органам человек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1" name="Рисунок 2" descr="sigaret_016.jpg"/>
          <p:cNvPicPr/>
          <p:nvPr/>
        </p:nvPicPr>
        <p:blipFill>
          <a:blip r:embed="rId1"/>
          <a:stretch/>
        </p:blipFill>
        <p:spPr>
          <a:xfrm>
            <a:off x="250920" y="2708280"/>
            <a:ext cx="7110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196920" y="557280"/>
            <a:ext cx="878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часто курение ведет к развитию хронического бронхита, сопровождающегося постоянным кашлем и неприятным запахом изо рта. В результате хронического воспаления бронхи расширяются, образуются бронхоэктазы с тяжёлыми последствиями - пневмосклерозом, эмфиземой легких, с так называемым легочным сердцем, ведущему к недостаточности кровообращения. Это и определяет внешний вид заядлого курильщика: хриплый голос, одутловатое лицо, одышка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а роль курения и в возникновении туберкулёза. Так, 95 из 100 человек, страдающих им, к моменту начала заболевания курил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3" name="Рисунок 2" descr="vredkurit.JPG"/>
          <p:cNvPicPr/>
          <p:nvPr/>
        </p:nvPicPr>
        <p:blipFill>
          <a:blip r:embed="rId1"/>
          <a:stretch/>
        </p:blipFill>
        <p:spPr>
          <a:xfrm>
            <a:off x="1258920" y="3419640"/>
            <a:ext cx="64818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33200" y="811080"/>
            <a:ext cx="6310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о курящие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ытывают боли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ердце. Это связано со спазмом коронарных сосудов, питающих мышцу сердца с развитием стенокардии (коронарная недостаточность сердца). Инфаркт миокарда у курящих встречается в 3 раза чаще, чем у некурящих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ение может быть и главной причиной стойкого спазма сосудов нижних конечностей, способствующего развитию облитерирующего эндартериита, поражающего преимущественно мужчин. Это заболевание ведет к нарушению питания, гангрене и в итоге к ампутации нижней конечност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5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877080" y="692280"/>
            <a:ext cx="1690560" cy="252072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0" y="33336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веществ, содержащихся в табачном дыму, страдает так же пищеварительный тракт, в первую очередь зубы и слизистая оболочка рта. Никотин увеличивает выделение желудочного сока, что вызывает ноющие боли под ложечкой, тошноту и рвот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 признаки могут быть проявлением и гастрита, язвенной болезни желудка, которые у курящих возникают гораздо чаще, чем у некурящих. Так, например, среди мужчин, заболевание язвенной болезнью желудка, 96 - 97% курил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7" name="Рисунок 2" descr="040b148997d87488e60b023c66b330b5.jpg"/>
          <p:cNvPicPr/>
          <p:nvPr/>
        </p:nvPicPr>
        <p:blipFill>
          <a:blip r:embed="rId1"/>
          <a:stretch/>
        </p:blipFill>
        <p:spPr>
          <a:xfrm>
            <a:off x="826920" y="3068640"/>
            <a:ext cx="70581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324000" y="1565280"/>
            <a:ext cx="856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20 минут давление и пульс приходят в норму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8 часов уровень оксида углерода и никотина в крови уменьшается вдвое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24 часа организм полностью очищается от окиси углерод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48 часов никотин полностью выходит из организма, улучшаются вкус и обоняние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72 часа дыхание становится ровным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2-12 недель улучшается кровоснабжение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3-9 месяцев проблемы с дыханием пропадают вообще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пять лет вероятность возникновения сердечного приступа в два раза меньше, чем у курильщиков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ерез 10 лет вероятность возникновения рака лёгких в два раза меньше, чем у курильщиков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99" name="Прямоугольник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8113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2"/>
          <p:cNvSpPr/>
          <p:nvPr/>
        </p:nvSpPr>
        <p:spPr>
          <a:xfrm>
            <a:off x="301680" y="112536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ять твердое решение, объявить это людям, которые будут вам помогать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ычистить» квартиру (удалить всё, что напоминает о сигаретах: пепельницы, плакаты, пустые пачки от сигарет)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йте процесс курения неудобным (только в туалете, или только на улице, или только когда никого нет рядом)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жуток времени между выкуриванием сигарет увеличьте (если вы курили каждый час, то увеличьте это время до 1 часа 10 мин)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докуривайте сигарету до конца, а окурки сразу выбрасывайте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ложите сэкономленные на сигаретах деньги и купите себе подарок – вы это заслужили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бегайте» из мест, где курят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ы не выдержали, то не огорчайтесь, продолжайте бороться. Не сдавайтесь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бросайте на всю жизнь, только на один день, потом ещё на один и т.д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те 8 часов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ивайте ежедневно не менее 8 стаканов воды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 algn="just">
              <a:lnSpc>
                <a:spcPct val="100000"/>
              </a:lnSpc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е употребляйте сырые овощи и фрукты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01" name="Прямоугольник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598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e3e3ff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463416"/>
                </a:solidFill>
                <a:latin typeface="Arial"/>
              </a:rPr>
              <a:t>Чтобы не стать рабом вредных привычек, нужно выполнять три правила: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27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кучать, найти себе занятие по душ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знавать мир и интересных люд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 в коем случае не пробовать спиртное и нарко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Попасть в рабскую зависимость, пройти все круги ада и умереть в расцвете лет дряхлым стариком –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от цена излишнего любопытства и ложной романтики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faces1"/>
          <p:cNvPicPr/>
          <p:nvPr/>
        </p:nvPicPr>
        <p:blipFill>
          <a:blip r:embed="rId1"/>
          <a:stretch/>
        </p:blipFill>
        <p:spPr>
          <a:xfrm>
            <a:off x="1332000" y="4581360"/>
            <a:ext cx="2952720" cy="1860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68" name="Picture 8" descr="faces8"/>
          <p:cNvPicPr/>
          <p:nvPr/>
        </p:nvPicPr>
        <p:blipFill>
          <a:blip r:embed="rId2"/>
          <a:stretch/>
        </p:blipFill>
        <p:spPr>
          <a:xfrm>
            <a:off x="5219640" y="4149720"/>
            <a:ext cx="2879640" cy="1814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http://festival.1september.ru/articles/509298/img3.gif"/>
          <p:cNvPicPr/>
          <p:nvPr/>
        </p:nvPicPr>
        <p:blipFill>
          <a:blip r:embed="rId1"/>
          <a:stretch/>
        </p:blipFill>
        <p:spPr>
          <a:xfrm>
            <a:off x="1258920" y="836640"/>
            <a:ext cx="5483160" cy="56516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2"/>
          <p:cNvSpPr/>
          <p:nvPr/>
        </p:nvSpPr>
        <p:spPr>
          <a:xfrm>
            <a:off x="188640" y="189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ое занятие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Мотив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7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684360" y="1258920"/>
            <a:ext cx="80643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E:\Откажись от курения\001336_220752_3.jpg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e3e3ff"/>
                </a:solidFill>
                <a:latin typeface="Arial"/>
              </a:rPr>
              <a:t>АНКЕТА</a:t>
            </a:r>
            <a:br>
              <a:rPr sz="1800"/>
            </a:br>
            <a:r>
              <a:rPr b="0" lang="ru-RU" sz="1200" spc="-1" strike="noStrike" u="sng">
                <a:solidFill>
                  <a:srgbClr val="e3e3ff"/>
                </a:solidFill>
                <a:uFillTx/>
                <a:latin typeface="Arial"/>
              </a:rPr>
              <a:t>Инструкция: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прочитайте вопросы анкеты и выберите тот вариант ответа, который Вам кажется наиболее точным. Обратите внимание – на некоторые вопросы Вы можете дать несколько вариантов ответа.</a:t>
            </a:r>
            <a:br>
              <a:rPr sz="1200"/>
            </a:br>
            <a:endParaRPr b="0" lang="en-US" sz="1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Нравиться ли Вам учить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орее да, чем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орее нет, чем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трудняюсь отве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ем Вам нравиться заниматься в свободное время? (можно выбрать несколько вариантов ответ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отреть телевиз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т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ушать музы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тречаться с друзья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дить в театр, муз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грать в компьютерные иг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С какими высказываниями Вы согласны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ение опасно только в том случае, если человек выкуривает в день больше одной сигаре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считают, что это не причина вреда их здоров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гаретный дым причиняет вред не только курящему, но и тем, кто находиться с ним в одной комна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стоит даже пробывать кур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 Как Вы считаете, почему современные подростки  начинают кур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считают, что это не причина вреда их здоров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аются влиянию друзей, не знают, как отказать предлагающ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принято в их компании, не хотят выделятьс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читают, что это престиж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3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трудняюсь ответи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5. Откуда Вы получаете информацию о влиянии к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урения на здоровье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6. Как  Вы оцениваете следующие действия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7. Курите ли Вы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8.  Если Вы курите , как часто это происходит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Это было всего несколько раз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Это происходит реже одного раза в недел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Это происходит 1-2 раза в недел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Это происходит чаще двух раз в неделю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9. Укажите, пожалуйста свой возраст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4-15 ле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6-17 ле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0. Укажите, пожалуйста свой по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жско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Женски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 конце занятия подводятся итого по анкетирова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932360" y="333360"/>
          <a:ext cx="3672000" cy="1881360"/>
        </p:xfrm>
        <a:graphic>
          <a:graphicData uri="http://schemas.openxmlformats.org/drawingml/2006/table">
            <a:tbl>
              <a:tblPr/>
              <a:tblGrid>
                <a:gridCol w="1655640"/>
                <a:gridCol w="654120"/>
                <a:gridCol w="681120"/>
                <a:gridCol w="681120"/>
              </a:tblGrid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случая к случа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род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руз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уч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передач 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газет, журналов, кни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500720" y="3284640"/>
          <a:ext cx="4176720" cy="1697040"/>
        </p:xfrm>
        <a:graphic>
          <a:graphicData uri="http://schemas.openxmlformats.org/drawingml/2006/table">
            <a:tbl>
              <a:tblPr/>
              <a:tblGrid>
                <a:gridCol w="1341360"/>
                <a:gridCol w="961920"/>
                <a:gridCol w="865080"/>
                <a:gridCol w="100836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о совершенно недопусти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некоторых случаях это возмож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о обычное дело, нет ничего особен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ьзование сигарет юнош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ьзование сигарет девушк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700360" y="404640"/>
            <a:ext cx="215892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1341360"/>
            <a:ext cx="2879640" cy="179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395280" y="1197000"/>
            <a:ext cx="8353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96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годня вам, ребя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тим мы рассказа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речь здоровье над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значит – не курить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дь тот, кто с детства кур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 школою дым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т сам себя лишь ду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губит сам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5435640" y="1916280"/>
          <a:ext cx="33130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916280"/>
                    <a:ext cx="33130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2"/>
          <p:cNvSpPr/>
          <p:nvPr/>
        </p:nvSpPr>
        <p:spPr>
          <a:xfrm>
            <a:off x="179280" y="260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ьшинство людей начинают употреблять табак еще до того, как заканчивают школу. Это значит, что если ты не закуришь в школе, то есть вероятность, что ты не закуришь никогда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ьшинство курящих подростков зависимы от никотина. Они хотят бросить курить, но не могут. Когда они пытаются бросить, они испытывают, так же как и взрослые, неприятные симптомы отмены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чиная курить, дети в большинстве случаев снижают успеваемость в школе. Они предпочитают общаться с теми детьми, которые тоже курят. Обычно у них низкая самооценка и они не знают, как сказать «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Т ТАБАКУ!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Прямоугольник 2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462560" cy="5760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324000" y="90792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окурение считается типичным рискованным фактором: оно приносит краткосрочное расслабление, но в долгосрочном воздействии вредит сердцу, системе кровообращения, вызывая прежде всего инфаркт миокарда и атеросклероз. Оно во много раз увеличивает риск различных раковых заболеваний, в частности гортани и легких, может вызвать язву двенадцатиперстной кишки и хронический бронхит. Самое страшное в этих тяжелых заболеваниях то, что они, как правило, развиваются в течение долгого времени и лишь постепенно становится ясным их истинный масштаб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3e3ff"/>
                </a:solidFill>
                <a:latin typeface="Arial"/>
              </a:rPr>
              <a:t>Наглядный пример различия между легкими курильщика и легкими человека, который не курит: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6" name="Picture 2" descr="post-19-1143712483[1]"/>
          <p:cNvPicPr/>
          <p:nvPr/>
        </p:nvPicPr>
        <p:blipFill>
          <a:blip r:embed="rId1"/>
          <a:stretch/>
        </p:blipFill>
        <p:spPr>
          <a:xfrm>
            <a:off x="900000" y="2023920"/>
            <a:ext cx="7488360" cy="406908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539640" y="1413000"/>
            <a:ext cx="792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курении табака европейцам стало известно посл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тия Америк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офором Колумбом. Когда путешественники пристали к одному из островов, то их встретили туземцы, державшие тоненькие свитки из высушенных листьев (сигаро) во рту и пускавшие дым изо рта и из нос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и экспедиции с удивлением смотрели, как островитяне вдыхают вонючий дьявольский дым, образующийся при сгорании листьев. Кроме того, туземцы втягивали в себя дым через длинные трубки, свитые из коры. Один конец трубки находился в сосуде с дымящимися листьями, а другой, раздвоенный на конце, вставлялся в нос. Эти трубки назывались «табако». Также эти листья жевали и принимали внутрь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 век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 получил распространение во Франции, где ему приписывали целебное действие. Французский посол в Португалии Жан Нико в 1560 г. привез листья табака из Лиссабона для Екатерины Медичи. Французская королева нюхала его, считая, что он помогает при головных болях. От имени этого дипломата «никотин» приобрёл своё имя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78" name="Прямоугольник 3" descr=""/>
          <p:cNvPicPr/>
          <p:nvPr/>
        </p:nvPicPr>
        <p:blipFill>
          <a:blip r:embed="rId1"/>
          <a:stretch/>
        </p:blipFill>
        <p:spPr>
          <a:xfrm>
            <a:off x="1865160" y="469800"/>
            <a:ext cx="4846680" cy="865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236000" y="115920"/>
            <a:ext cx="1728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"/>
          <p:cNvSpPr/>
          <p:nvPr/>
        </p:nvSpPr>
        <p:spPr>
          <a:xfrm>
            <a:off x="250920" y="1197000"/>
            <a:ext cx="8497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нгли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585 г. за курение табака подвергали тяжелым телесным наказаниям, курильщиков водили по улицам с петлёй на шее, а «злостных» даже приговаривали к смертной казни. Их отрубленные головы с трубкой во рту выставляли на площади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урци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 вредная привычка приняла столь грозное распространение, что курильщиков сажали на кол. О появлении табака в России мнение ученых-историков расходятся. Одни считают, что курение табака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ус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о ещё до открытия Америки, другие полагают, что табак завезли английские купцы во времена Ивана Грозного. Называли его «чертово зелье»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ил Романов запретил курение из-за частых пожаров. Тем курильщикам, которые попадались первый раз, давали 60 ударов палками по стопам, а во второй раз отрезали уши и нос (1634г.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давно люди поняли, что табак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ьный яд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Его стали с успехом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ять для уничтожения клопов, блох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Его раствором опрыскивали деревь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уничтожения вредителе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81" name="Прямоугольник 3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4846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HOME\Pictures\Безымянный.jpg"/>
          <p:cNvPicPr/>
          <p:nvPr/>
        </p:nvPicPr>
        <p:blipFill>
          <a:blip r:embed="rId1"/>
          <a:stretch/>
        </p:blipFill>
        <p:spPr>
          <a:xfrm>
            <a:off x="250920" y="596880"/>
            <a:ext cx="84247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1:57:59Z</dcterms:created>
  <dc:creator>LIANA</dc:creator>
  <dc:description/>
  <dc:language>en-US</dc:language>
  <cp:lastModifiedBy>User</cp:lastModifiedBy>
  <dcterms:modified xsi:type="dcterms:W3CDTF">2014-01-25T01:30:38Z</dcterms:modified>
  <cp:revision>28</cp:revision>
  <dc:subject/>
  <dc:title>Слайд 1</dc:title>
</cp:coreProperties>
</file>