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5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8.png" ContentType="image/png"/>
  <Override PartName="/ppt/media/image2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C910-AEBD-46A8-9C1F-84B46347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BD1A-8956-4F48-8E00-8EF3B262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F450-6311-414B-AE7B-C41C89EE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6780-B0AF-48FC-AD23-32E528CE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0AAA-CF87-42C0-9255-8F342BC3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E4D2-98B3-4094-9923-6BBE58E6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A5A5-FE88-459B-9050-7FACC737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FBE2-79EF-4842-A610-DFE3105C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6D16-753F-4DD6-B8A2-3513846A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0C3E-8BC8-479C-A3D9-7474DB83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C374-A9CE-408C-B1A5-5743DE68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F1FA-1214-4FB6-8536-D0BAC9A7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E176-4DAB-4B77-A362-9526BB02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77A7-9B68-4A79-9481-D5FDA39D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7057-7E60-4E76-97A9-EC8921ED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4494-A61A-4AB1-A81C-CFFB42F7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9A8D-5B0F-40E7-9BC8-24E008F0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634052-5A88-4492-9EC1-38FA281F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2368A-494E-457C-A55E-1D62ED8F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CB7EDD-4430-4E87-91B7-FCE23370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AC22C-CA70-4C55-9AC3-A36AFC0D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87187-99A2-47A8-ADA4-463EE5DF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A553-6B6F-4D70-88CC-29AED0B1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0958B-FCFD-4585-9775-2A0F216D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6CF66-F64E-4E03-85A0-FF480DAE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E143C4-B108-44F5-933E-6EEC89A1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0580AD-2879-42C1-9EFB-EABE8B5B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BE6B30-1742-4970-95B7-F166A5CF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20558-0FFA-4784-9D90-A41121F7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62FE6-EC9B-4C75-BD25-279A5AC3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72D-8CE0-406A-B2BA-58D2E91F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109F-6A51-402C-AEF4-4A026ABE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BCAE-1626-47ED-B6C3-D5149C38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5EA3-D3A1-4B99-B61C-1117C43D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16BB-2E96-4347-8BED-9932F428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1DC1-3EE8-4F8F-82D0-562255C2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727200" y="1062000"/>
            <a:ext cx="4600440" cy="3978360"/>
          </a:xfrm>
          <a:prstGeom prst="rect">
            <a:avLst/>
          </a:prstGeom>
          <a:solidFill>
            <a:srgbClr val="2e231f"/>
          </a:solidFill>
          <a:ln w="0">
            <a:noFill/>
          </a:ln>
          <a:effectLst>
            <a:outerShdw dist="25318" dir="7190755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65547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765547"/>
              </a:solidFill>
              <a:latin typeface="Canda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343080" indent="103422240">
              <a:spcBef>
                <a:spcPts val="700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spcBef>
                <a:spcPts val="700"/>
              </a:spcBef>
              <a:buClr>
                <a:srgbClr val="775f55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2" marL="812880" indent="-228600">
              <a:spcBef>
                <a:spcPts val="700"/>
              </a:spcBef>
              <a:buClr>
                <a:srgbClr val="94b6d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3" marL="1068480" indent="-228600">
              <a:spcBef>
                <a:spcPts val="700"/>
              </a:spcBef>
              <a:buClr>
                <a:srgbClr val="775f55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4" marL="1316160" indent="-228600">
              <a:spcBef>
                <a:spcPts val="700"/>
              </a:spcBef>
              <a:buClr>
                <a:srgbClr val="94b6d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5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6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7281-73FD-42F2-BD03-C1F353A4ECDC}" type="datetime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5f55"/>
                </a:solidFill>
                <a:latin typeface="Times New Roman"/>
              </a:rPr>
              <a:t>Государственное образовательное учреждение начального профессионального образования Профессиональное училище№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FAB0-57A9-44D0-91B1-40691AAD8C5E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6438-CA9D-48F8-844E-553716F683EE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C7CE-153C-4140-9DAB-293281EAA7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1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6B73-CD24-4100-89BF-D863F8531B2F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DE97-4BA5-4A14-84DB-E54A7EEF4E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Прямоугольник 4" descr=""/>
          <p:cNvPicPr/>
          <p:nvPr/>
        </p:nvPicPr>
        <p:blipFill>
          <a:blip r:embed="rId1"/>
          <a:stretch/>
        </p:blipFill>
        <p:spPr>
          <a:xfrm>
            <a:off x="396720" y="1343160"/>
            <a:ext cx="8363160" cy="27334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5"/>
          <p:cNvSpPr/>
          <p:nvPr/>
        </p:nvSpPr>
        <p:spPr>
          <a:xfrm>
            <a:off x="1704960" y="333360"/>
            <a:ext cx="596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cc"/>
                </a:solidFill>
                <a:latin typeface="Times New Roman"/>
              </a:rPr>
              <a:t>Муниципальное Казенное обще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cc"/>
                </a:solidFill>
                <a:latin typeface="Times New Roman"/>
              </a:rPr>
              <a:t>Центр Образования «Возрождение»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867280" y="4292280"/>
            <a:ext cx="281952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Социальный педаго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Н.В. Аверк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3"/>
          <p:cNvPicPr/>
          <p:nvPr/>
        </p:nvPicPr>
        <p:blipFill>
          <a:blip r:embed="rId1"/>
          <a:stretch/>
        </p:blipFill>
        <p:spPr>
          <a:xfrm>
            <a:off x="826920" y="3068640"/>
            <a:ext cx="7201080" cy="333360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3"/>
          <p:cNvSpPr/>
          <p:nvPr/>
        </p:nvSpPr>
        <p:spPr>
          <a:xfrm>
            <a:off x="468360" y="663480"/>
            <a:ext cx="698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ы стал покуривать? А ведь знаешь, что курящие живут меньше и тяжело болеют в конце жизни. Но разве тебя напугаешь, юного и непутёвого, болезнями в старости? Рак лёгкого или инфаркт... Это так далеко. Тебя это пока не волнует. Но ведь болезни старости закладываются в детстве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По мнению медиков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сигарета сокращает жизнь – на 15 мину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пачка сигарет - на 5 час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т, кто курит 1 год, теряет 3 месяца жизн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то курит 4 года, теряет 1 год жизн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то курит 20 лет, 5 л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то курит 40 лет, теряет 10 лет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икотин убива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0,00001 гр. – вороб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0,004  – 0,005 гр. -  лошад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0,000001 гр. – лягуш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0,01 – 0,08 гр. - челове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325784_3"/>
          <p:cNvPicPr/>
          <p:nvPr/>
        </p:nvPicPr>
        <p:blipFill>
          <a:blip r:embed="rId1"/>
          <a:stretch/>
        </p:blipFill>
        <p:spPr>
          <a:xfrm>
            <a:off x="250920" y="4365720"/>
            <a:ext cx="31320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"/>
          <p:cNvSpPr/>
          <p:nvPr/>
        </p:nvSpPr>
        <p:spPr>
          <a:xfrm>
            <a:off x="214200" y="476280"/>
            <a:ext cx="75978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урение поражает органы дыхания, сердечно-сосудистую систему, желудочно-кишечный тракт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урильщики болеют раком лёгких в несколько раз чаще, чем некурящие и составляют 96-100% всех больных раком лёгких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урение увеличивает вероятность других видов злокачественных опухолей (полости рта, пищевода, гортани, поджелудочной железы, желудка, толстой кишки, почки, печени)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89" name="Picture 4" descr="nikotin600"/>
          <p:cNvPicPr/>
          <p:nvPr/>
        </p:nvPicPr>
        <p:blipFill>
          <a:blip r:embed="rId1"/>
          <a:stretch/>
        </p:blipFill>
        <p:spPr>
          <a:xfrm>
            <a:off x="6156360" y="4365720"/>
            <a:ext cx="262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1"/>
          <p:cNvSpPr/>
          <p:nvPr/>
        </p:nvSpPr>
        <p:spPr>
          <a:xfrm>
            <a:off x="179280" y="62064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оме никотин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отрицательное воздействие оказывают и другие составные части табачного дыма. При поступлении в организм окиси углерода развивается кислородное голодание, за счет того, что угарный газ легче соединяется с гемоглобином, чем кислород и доставляется с кровью ко всем тканям и органам человека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91" name="Рисунок 2" descr="sigaret_016.jpg"/>
          <p:cNvPicPr/>
          <p:nvPr/>
        </p:nvPicPr>
        <p:blipFill>
          <a:blip r:embed="rId1"/>
          <a:stretch/>
        </p:blipFill>
        <p:spPr>
          <a:xfrm>
            <a:off x="250920" y="2708280"/>
            <a:ext cx="7110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"/>
          <p:cNvSpPr/>
          <p:nvPr/>
        </p:nvSpPr>
        <p:spPr>
          <a:xfrm>
            <a:off x="196920" y="557280"/>
            <a:ext cx="8785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ень часто курение ведет к развитию хронического бронхита, сопровождающегося постоянным кашлем и неприятным запахом изо рта. В результате хронического воспаления бронхи расширяются, образуются бронхоэктазы с тяжёлыми последствиями - пневмосклерозом, эмфиземой легких, с так называемым легочным сердцем, ведущему к недостаточности кровообращения. Это и определяет внешний вид заядлого курильщика: хриплый голос, одутловатое лицо, одышка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а роль курения и в возникновении туберкулёза. Так, 95 из 100 человек, страдающих им, к моменту начала заболевания курили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93" name="Рисунок 2" descr="vredkurit.JPG"/>
          <p:cNvPicPr/>
          <p:nvPr/>
        </p:nvPicPr>
        <p:blipFill>
          <a:blip r:embed="rId1"/>
          <a:stretch/>
        </p:blipFill>
        <p:spPr>
          <a:xfrm>
            <a:off x="1258920" y="3419640"/>
            <a:ext cx="648180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1"/>
          <p:cNvSpPr/>
          <p:nvPr/>
        </p:nvSpPr>
        <p:spPr>
          <a:xfrm>
            <a:off x="133200" y="811080"/>
            <a:ext cx="6310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курящие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ытывают боли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ердце. Это связано со спазмом коронарных сосудов, питающих мышцу сердца с развитием стенокардии (коронарная недостаточность сердца). Инфаркт миокарда у курящих встречается в 3 раза чаще, чем у некурящих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ение может быть и главной причиной стойкого спазма сосудов нижних конечностей, способствующего развитию облитерирующего эндартериита, поражающего преимущественно мужчин. Это заболевание ведет к нарушению питания, гангрене и в итоге к ампутации нижней конечности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95" name="Picture 2" descr="db3c0276-6e20-4c86-9bcf-39a6921ef004"/>
          <p:cNvPicPr/>
          <p:nvPr/>
        </p:nvPicPr>
        <p:blipFill>
          <a:blip r:embed="rId1"/>
          <a:stretch/>
        </p:blipFill>
        <p:spPr>
          <a:xfrm>
            <a:off x="6877080" y="692280"/>
            <a:ext cx="1690560" cy="252072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0" y="33336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веществ, содержащихся в табачном дыму, страдает так же пищеварительный тракт, в первую очередь зубы и слизистая оболочка рта. Никотин увеличивает выделение желудочного сока, что вызывает ноющие боли под ложечкой, тошноту и рвоту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 признаки могут быть проявлением и гастрита, язвенной болезни желудка, которые у курящих возникают гораздо чаще, чем у некурящих. Так, например, среди мужчин, заболевание язвенной болезнью желудка, 96 - 97% курили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97" name="Рисунок 2" descr="040b148997d87488e60b023c66b330b5.jpg"/>
          <p:cNvPicPr/>
          <p:nvPr/>
        </p:nvPicPr>
        <p:blipFill>
          <a:blip r:embed="rId1"/>
          <a:stretch/>
        </p:blipFill>
        <p:spPr>
          <a:xfrm>
            <a:off x="826920" y="3068640"/>
            <a:ext cx="70581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324000" y="1565280"/>
            <a:ext cx="8569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ерез 20 минут давление и пульс приходят в норму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ерез 8 часов уровень оксида углерода и никотина в крови уменьшается вдвое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ерез 24 часа организм полностью очищается от окиси углерода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ерез 48 часов никотин полностью выходит из организма, улучшаются вкус и обоняние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ерез 72 часа дыхание становится ровным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ерез 2-12 недель улучшается кровоснабжение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ерез 3-9 месяцев проблемы с дыханием пропадают вообще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ерез пять лет вероятность возникновения сердечного приступа в два раза меньше, чем у курильщиков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ерез 10 лет вероятность возникновения рака лёгких в два раза меньше, чем у курильщиков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99" name="Прямоугольник 4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811368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2"/>
          <p:cNvSpPr/>
          <p:nvPr/>
        </p:nvSpPr>
        <p:spPr>
          <a:xfrm>
            <a:off x="301680" y="112536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8120" indent="-318960" algn="just">
              <a:lnSpc>
                <a:spcPct val="100000"/>
              </a:lnSpc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ять твердое решение, объявить это людям, которые будут вам помогать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8120" indent="-318960" algn="just">
              <a:lnSpc>
                <a:spcPct val="100000"/>
              </a:lnSpc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Вычистить» квартиру (удалить всё, что напоминает о сигаретах: пепельницы, плакаты, пустые пачки от сигарет)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8120" indent="-318960" algn="just">
              <a:lnSpc>
                <a:spcPct val="100000"/>
              </a:lnSpc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делайте процесс курения неудобным (только в туалете, или только на улице, или только когда никого нет рядом)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8120" indent="-318960" algn="just">
              <a:lnSpc>
                <a:spcPct val="100000"/>
              </a:lnSpc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жуток времени между выкуриванием сигарет увеличьте (если вы курили каждый час, то увеличьте это время до 1 часа 10 мин)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8120" indent="-318960" algn="just">
              <a:lnSpc>
                <a:spcPct val="100000"/>
              </a:lnSpc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докуривайте сигарету до конца, а окурки сразу выбрасывайте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8120" indent="-318960" algn="just">
              <a:lnSpc>
                <a:spcPct val="100000"/>
              </a:lnSpc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ложите сэкономленные на сигаретах деньги и купите себе подарок – вы это заслужили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8120" indent="-318960" algn="just">
              <a:lnSpc>
                <a:spcPct val="100000"/>
              </a:lnSpc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бегайте» из мест, где курят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8120" indent="-318960" algn="just">
              <a:lnSpc>
                <a:spcPct val="100000"/>
              </a:lnSpc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вы не выдержали, то не огорчайтесь, продолжайте бороться. Не сдавайтесь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8120" indent="-318960" algn="just">
              <a:lnSpc>
                <a:spcPct val="100000"/>
              </a:lnSpc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бросайте на всю жизнь, только на один день, потом ещё на один и т.д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8120" indent="-318960" algn="just">
              <a:lnSpc>
                <a:spcPct val="100000"/>
              </a:lnSpc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ите 8 часов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8120" indent="-318960" algn="just">
              <a:lnSpc>
                <a:spcPct val="100000"/>
              </a:lnSpc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ивайте ежедневно не менее 8 стаканов воды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8120" indent="-318960" algn="just">
              <a:lnSpc>
                <a:spcPct val="100000"/>
              </a:lnSpc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е употребляйте сырые овощи и фрукты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01" name="Прямоугольник 3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598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solidFill>
            <a:srgbClr val="e3e3ff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463416"/>
                </a:solidFill>
                <a:latin typeface="Arial"/>
              </a:rPr>
              <a:t>Чтобы не стать рабом вредных привычек, нужно выполнять три правила:</a:t>
            </a: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9276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скучать, найти себе занятие по душ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знавать мир и интересных люд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и в коем случае не пробовать спиртное и наркот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у, а если вы все же попали в плен какой-то вредной привычке, старайтесь избавиться от нее изо всех сил. И если вам это удастся, вы - настоящий герой. Как сказал древний китайский мудрец Лао-То: «Тот, кто может победить другого, - силен, тот, кто побеждает самого себя, - воистину могуществен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Попасть в рабскую зависимость, пройти все круги ада и умереть в расцвете лет дряхлым стариком –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от цена излишнего любопытства и ложной романтики…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5" descr="faces1"/>
          <p:cNvPicPr/>
          <p:nvPr/>
        </p:nvPicPr>
        <p:blipFill>
          <a:blip r:embed="rId1"/>
          <a:stretch/>
        </p:blipFill>
        <p:spPr>
          <a:xfrm>
            <a:off x="1332000" y="4581360"/>
            <a:ext cx="2952720" cy="18608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68" name="Picture 8" descr="faces8"/>
          <p:cNvPicPr/>
          <p:nvPr/>
        </p:nvPicPr>
        <p:blipFill>
          <a:blip r:embed="rId2"/>
          <a:stretch/>
        </p:blipFill>
        <p:spPr>
          <a:xfrm>
            <a:off x="5219640" y="4149720"/>
            <a:ext cx="2879640" cy="18144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1" descr="http://festival.1september.ru/articles/509298/img3.gif"/>
          <p:cNvPicPr/>
          <p:nvPr/>
        </p:nvPicPr>
        <p:blipFill>
          <a:blip r:embed="rId1"/>
          <a:stretch/>
        </p:blipFill>
        <p:spPr>
          <a:xfrm>
            <a:off x="1258920" y="836640"/>
            <a:ext cx="5483160" cy="565164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2"/>
          <p:cNvSpPr/>
          <p:nvPr/>
        </p:nvSpPr>
        <p:spPr>
          <a:xfrm>
            <a:off x="188640" y="189000"/>
            <a:ext cx="26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ческое занятие: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Мотив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7" name="Содержимое 3" descr="12_мотивы.JPG"/>
          <p:cNvPicPr/>
          <p:nvPr/>
        </p:nvPicPr>
        <p:blipFill>
          <a:blip r:embed="rId1"/>
          <a:stretch/>
        </p:blipFill>
        <p:spPr>
          <a:xfrm>
            <a:off x="684360" y="1258920"/>
            <a:ext cx="806436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77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770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E:\Откажись от курения\001336_220752_3.jpg"/>
          <p:cNvPicPr/>
          <p:nvPr/>
        </p:nvPicPr>
        <p:blipFill>
          <a:blip r:embed="rId1"/>
          <a:stretch/>
        </p:blipFill>
        <p:spPr>
          <a:xfrm>
            <a:off x="755640" y="260280"/>
            <a:ext cx="79200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АНКЕТА</a:t>
            </a:r>
            <a:br>
              <a:rPr sz="1800"/>
            </a:br>
            <a:r>
              <a:rPr b="0" lang="ru-RU" sz="1200" spc="-1" strike="noStrike" u="sng">
                <a:solidFill>
                  <a:srgbClr val="e3e3ff"/>
                </a:solidFill>
                <a:uFillTx/>
                <a:latin typeface="Arial"/>
              </a:rPr>
              <a:t>Инструкция: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 прочитайте вопросы анкеты и выберите тот вариант ответа, который Вам кажется наиболее точным. Обратите внимание – на некоторые вопросы Вы можете дать несколько вариантов ответа.</a:t>
            </a:r>
            <a:br>
              <a:rPr sz="1200"/>
            </a:br>
            <a:endParaRPr b="0" lang="en-US" sz="1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Нравиться ли Вам учитьс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орее да, чем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орее нет, чем 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трудняюсь ответи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Чем Вам нравиться заниматься в свободное время? (можно выбрать несколько вариантов ответ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мотреть телевизо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та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ушать музы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тречаться с друзья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Ходить в театр, муз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грать в компьютерные иг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 С какими высказываниями Вы согласны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рение опасно только в том случае, если человек выкуривает в день больше одной сигаре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и считают, что это не причина вреда их здоровь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гаретный дым причиняет вред не только курящему, но и тем, кто находиться с ним в одной комна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 стоит даже пробывать кури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 Как Вы считаете, почему современные подростки  начинают кур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и считают, что это не причина вреда их здоровь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аются влиянию друзей, не знают, как отказать предлагающем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 принято в их компании, не хотят выделятьс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читают, что это престижн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трудняюсь ответи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403848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5. Откуда Вы получаете информацию о влиянии к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курения на здоровье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6. Как  Вы оцениваете следующие действия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7. Курите ли Вы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8.  Если Вы курите , как часто это происходит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Это было всего несколько раз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Это происходит реже одного раза в неделю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Это происходит 1-2 раза в неделю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Это происходит чаще двух раз в неделю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9. Укажите, пожалуйста свой возраст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4-15 ле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6-17 ле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0. Укажите, пожалуйста свой пол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Мужской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Женский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 конце занятия подводятся итого по анкетировани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932360" y="333360"/>
          <a:ext cx="3672000" cy="1881360"/>
        </p:xfrm>
        <a:graphic>
          <a:graphicData uri="http://schemas.openxmlformats.org/drawingml/2006/table">
            <a:tbl>
              <a:tblPr/>
              <a:tblGrid>
                <a:gridCol w="1655640"/>
                <a:gridCol w="654120"/>
                <a:gridCol w="681120"/>
                <a:gridCol w="681120"/>
              </a:tblGrid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случая к случа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дк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род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друз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уч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 передач 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 газет, журналов, кни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500720" y="3284640"/>
          <a:ext cx="4176720" cy="1697040"/>
        </p:xfrm>
        <a:graphic>
          <a:graphicData uri="http://schemas.openxmlformats.org/drawingml/2006/table">
            <a:tbl>
              <a:tblPr/>
              <a:tblGrid>
                <a:gridCol w="1341360"/>
                <a:gridCol w="961920"/>
                <a:gridCol w="865080"/>
                <a:gridCol w="100836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о совершенно недопустим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некоторых случаях это возмож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о обычное дело, нет ничего особен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ьзование сигарет юнош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ьзование сигарет девушк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2700360" y="404640"/>
            <a:ext cx="215892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1341360"/>
            <a:ext cx="2879640" cy="179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4"/>
          <p:cNvSpPr txBox="1"/>
          <p:nvPr/>
        </p:nvSpPr>
        <p:spPr>
          <a:xfrm>
            <a:off x="395280" y="1197000"/>
            <a:ext cx="83534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496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годня вам, ребят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отим мы рассказа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речь здоровье над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 значит – не курить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дь тот, кто с детства кури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 школою дым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от сам себя лишь дур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губит сам себ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Object 5"/>
          <p:cNvGraphicFramePr/>
          <p:nvPr/>
        </p:nvGraphicFramePr>
        <p:xfrm>
          <a:off x="5435640" y="1916280"/>
          <a:ext cx="331308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916280"/>
                    <a:ext cx="331308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2"/>
          <p:cNvSpPr/>
          <p:nvPr/>
        </p:nvSpPr>
        <p:spPr>
          <a:xfrm>
            <a:off x="179280" y="260280"/>
            <a:ext cx="66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ольшинство людей начинают употреблять табак еще до того, как заканчивают школу. Это значит, что если ты не закуришь в школе, то есть вероятность, что ты не закуришь никогда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ольшинство курящих подростков зависимы от никотина. Они хотят бросить курить, но не могут. Когда они пытаются бросить, они испытывают, так же как и взрослые, неприятные симптомы отмены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чиная курить, дети в большинстве случаев снижают успеваемость в школе. Они предпочитают общаться с теми детьми, которые тоже курят. Обычно у них низкая самооценка и они не знают, как сказать «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ЕТ ТАБАКУ!»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Прямоугольник 2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4462560" cy="57600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4"/>
          <p:cNvSpPr/>
          <p:nvPr/>
        </p:nvSpPr>
        <p:spPr>
          <a:xfrm>
            <a:off x="324000" y="90792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акокурение считается типичным рискованным фактором: оно приносит краткосрочное расслабление, но в долгосрочном воздействии вредит сердцу, системе кровообращения, вызывая прежде всего инфаркт миокарда и атеросклероз. Оно во много раз увеличивает риск различных раковых заболеваний, в частности гортани и легких, может вызвать язву двенадцатиперстной кишки и хронический бронхит. Самое страшное в этих тяжелых заболеваниях то, что они, как правило, развиваются в течение долгого времени и лишь постепенно становится ясным их истинный масштаб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3e3ff"/>
                </a:solidFill>
                <a:latin typeface="Arial"/>
              </a:rPr>
              <a:t>Наглядный пример различия между легкими курильщика и легкими человека, который не курит: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6" name="Picture 2" descr="post-19-1143712483[1]"/>
          <p:cNvPicPr/>
          <p:nvPr/>
        </p:nvPicPr>
        <p:blipFill>
          <a:blip r:embed="rId1"/>
          <a:stretch/>
        </p:blipFill>
        <p:spPr>
          <a:xfrm>
            <a:off x="900000" y="2023920"/>
            <a:ext cx="7488360" cy="406908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"/>
          <p:cNvSpPr/>
          <p:nvPr/>
        </p:nvSpPr>
        <p:spPr>
          <a:xfrm>
            <a:off x="539640" y="1413000"/>
            <a:ext cx="792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 курении табака европейцам стало известно после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рытия Америк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истофором Колумбом. Когда путешественники пристали к одному из островов, то их встретили туземцы, державшие тоненькие свитки из высушенных листьев (сигаро) во рту и пускавшие дым изо рта и из носа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стники экспедиции с удивлением смотрели, как островитяне вдыхают вонючий дьявольский дым, образующийся при сгорании листьев. Кроме того, туземцы втягивали в себя дым через длинные трубки, свитые из коры. Один конец трубки находился в сосуде с дымящимися листьями, а другой, раздвоенный на конце, вставлялся в нос. Эти трубки назывались «табако». Также эти листья жевали и принимали внутрь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 веке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ак получил распространение во Франции, где ему приписывали целебное действие. Французский посол в Португалии Жан Нико в 1560 г. привез листья табака из Лиссабона для Екатерины Медичи. Французская королева нюхала его, считая, что он помогает при головных болях. От имени этого дипломата «никотин» приобрёл своё имя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78" name="Прямоугольник 3" descr=""/>
          <p:cNvPicPr/>
          <p:nvPr/>
        </p:nvPicPr>
        <p:blipFill>
          <a:blip r:embed="rId1"/>
          <a:stretch/>
        </p:blipFill>
        <p:spPr>
          <a:xfrm>
            <a:off x="1865160" y="469800"/>
            <a:ext cx="4846680" cy="865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236000" y="115920"/>
            <a:ext cx="172872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2"/>
          <p:cNvSpPr/>
          <p:nvPr/>
        </p:nvSpPr>
        <p:spPr>
          <a:xfrm>
            <a:off x="250920" y="1197000"/>
            <a:ext cx="8497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Англии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585 г. за курение табака подвергали тяжелым телесным наказаниям, курильщиков водили по улицам с петлёй на шее, а «злостных» даже приговаривали к смертной казни. Их отрубленные головы с трубкой во рту выставляли на площади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урции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а вредная привычка приняла столь грозное распространение, что курильщиков сажали на кол. О появлении табака в России мнение ученых-историков расходятся. Одни считают, что курение табака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уси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о ещё до открытия Америки, другие полагают, что табак завезли английские купцы во времена Ивана Грозного. Называли его «чертово зелье»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хаил Романов запретил курение из-за частых пожаров. Тем курильщикам, которые попадались первый раз, давали 60 ударов палками по стопам, а во второй раз отрезали уши и нос (1634г.)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ень давно люди поняли, что табак –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льный яд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Его стали с успехом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нять для уничтожения клопов, блох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Его раствором опрыскивали деревья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уничтожения вредителе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81" name="Прямоугольник 3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48466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Users\HOME\Pictures\Безымянный.jpg"/>
          <p:cNvPicPr/>
          <p:nvPr/>
        </p:nvPicPr>
        <p:blipFill>
          <a:blip r:embed="rId1"/>
          <a:stretch/>
        </p:blipFill>
        <p:spPr>
          <a:xfrm>
            <a:off x="250920" y="596880"/>
            <a:ext cx="842472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1:57:59Z</dcterms:created>
  <dc:creator>LIANA</dc:creator>
  <dc:description/>
  <dc:language>en-US</dc:language>
  <cp:lastModifiedBy>User</cp:lastModifiedBy>
  <dcterms:modified xsi:type="dcterms:W3CDTF">2014-01-25T01:30:38Z</dcterms:modified>
  <cp:revision>28</cp:revision>
  <dc:subject/>
  <dc:title>Слайд 1</dc:title>
</cp:coreProperties>
</file>