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7EA-58AA-4B19-8D71-69648F52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595-6217-4F3E-961C-B38A4A83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C88-7711-43DC-BA5D-54DF4D1E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F5B-816A-4CFF-A014-9DF25194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A4A-970B-4122-B312-DC1E3DA7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7A7-B708-4CFB-BEF7-8230AFA2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22A-F9E8-4F77-8F84-0180A0DC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4C8-AFB2-4DFA-A295-C40A33AC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010-3F8C-4741-801A-2F827057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502-9B73-48EE-A344-01E98BD9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F67-9B26-4A82-B102-E0994AE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781-7005-4201-959C-FD9CE68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d0d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d0d0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4E18-E3DD-4871-823E-E637B6732A94}" type="slidenum">
              <a:rPr b="0" lang="ru-RU" sz="1200" spc="-1" strike="noStrike">
                <a:solidFill>
                  <a:srgbClr val="0d0d0d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70 ЛЕТИЮ СНЯТИЯ БЛОКАДЫ ЛЕНИНГРАДА  ПОСВЯЩАЕТСЯ….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автор: Бучнева О.А.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ГБОУ СОШ № 475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г.Москва</a:t>
            </a:r>
            <a:endParaRPr b="0" lang="en-US" sz="3200" spc="-1" strike="noStrike">
              <a:solidFill>
                <a:srgbClr val="0d0d0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ДОРОГА ЖИЗНИ…</a:t>
            </a:r>
            <a:endParaRPr b="0" lang="en-US" sz="44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5" name="Text Placeholder 2" descr=""/>
          <p:cNvPicPr/>
          <p:nvPr/>
        </p:nvPicPr>
        <p:blipFill>
          <a:blip r:embed="rId2"/>
          <a:stretch/>
        </p:blipFill>
        <p:spPr>
          <a:xfrm>
            <a:off x="457200" y="1773360"/>
            <a:ext cx="4038480" cy="3743280"/>
          </a:xfrm>
          <a:prstGeom prst="rect">
            <a:avLst/>
          </a:prstGeom>
          <a:ln w="0">
            <a:noFill/>
          </a:ln>
        </p:spPr>
      </p:pic>
      <p:pic>
        <p:nvPicPr>
          <p:cNvPr id="66" name="Text Placeholder 2" descr=""/>
          <p:cNvPicPr/>
          <p:nvPr/>
        </p:nvPicPr>
        <p:blipFill>
          <a:blip r:embed="rId3"/>
          <a:stretch/>
        </p:blipFill>
        <p:spPr>
          <a:xfrm>
            <a:off x="4643280" y="1773360"/>
            <a:ext cx="432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68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69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3645000"/>
            <a:ext cx="4500720" cy="321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0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 Placeholder 2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3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788000" y="0"/>
            <a:ext cx="4356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4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5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788000" y="3500280"/>
            <a:ext cx="4356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6545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684360" y="260280"/>
            <a:ext cx="8169120" cy="1081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316400" cy="527544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В 1941 Германия,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арушив договоры,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апала на СССР. 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ачалась Великая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Отечественная война 1941—1945г.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45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5003640" y="1557360"/>
            <a:ext cx="3745080" cy="489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5292720" y="1341360"/>
            <a:ext cx="2666880" cy="381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4038480" cy="452628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Что может быть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страшнее, чем война?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Лишь слезы, да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страдания несет она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И счастье разбивает у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людей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Любимых разлучает и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рузей.</a:t>
            </a: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Блокада Ленинграда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Arial"/>
                <a:ea typeface="Arial"/>
              </a:rPr>
              <a:t>8 сентября 1941 — 27 января 1944</a:t>
            </a:r>
            <a:endParaRPr b="0" lang="en-US" sz="3600" spc="-1" strike="noStrike">
              <a:solidFill>
                <a:srgbClr val="0d0d0d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774800"/>
            <a:ext cx="4244760" cy="4626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 осеннем тумане в январском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снегу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Стоит Ленинград на морском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берегу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С дворцами и парками, строг и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красив,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Как будто вплывает в широкий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залив.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 блокадные дни, под обстрелом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 снегу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Не сдался, не сдался наш город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врагу.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Тут гордые, смелые люди живут,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И ценится всюду их доблестный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d2f"/>
                </a:solidFill>
                <a:latin typeface="Arial"/>
              </a:rPr>
              <a:t>труд. </a:t>
            </a:r>
            <a:endParaRPr b="0" lang="en-US" sz="2000" spc="-1" strike="noStrike">
              <a:solidFill>
                <a:srgbClr val="0d0d0d"/>
              </a:solidFill>
              <a:latin typeface="Georgia"/>
            </a:endParaRPr>
          </a:p>
        </p:txBody>
      </p:sp>
      <p:pic>
        <p:nvPicPr>
          <p:cNvPr id="50" name="Text Placeholder 2" descr=""/>
          <p:cNvPicPr/>
          <p:nvPr/>
        </p:nvPicPr>
        <p:blipFill>
          <a:blip r:embed="rId2">
            <a:lum bright="6000"/>
            <a:alphaModFix amt="40000"/>
          </a:blip>
          <a:stretch/>
        </p:blipFill>
        <p:spPr>
          <a:xfrm>
            <a:off x="4572000" y="1484280"/>
            <a:ext cx="4032360" cy="5113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402840"/>
            <a:ext cx="8280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7 января 1944 года – это дата полного снятия  немецко – фашистской блокады с Ленинград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окада Ленинграда – наиболее трагический период в истории города. 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тлер хотел путём обстрела из артиллерии всех калибров и беспрерывной бомбёжки с воздуха сравнять город с землёй. Для осуществления этого замысла гитлеровское командование бросило к Ленинграду более 40 отборных дивизий, свыше тысячи танков и полторы тысячи самолё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ада города продолжалась приблизительно 900 дней, с 8 сентября 1941г. до 27 января 1944 г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миллиона 887 тысяч гражданского населения (включая 400 тысяч детей) оказались в кольце окружения 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юда попали и войска, защищавшие город; никто из них даже и не рассматривал никаких призывов сдатьс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ащиту родного города поднялись все её жители 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городе построили 35 км. баррикад, 4170 дотов. Вместе со взрослыми ребята дежурили на чердаках при налётах вражеской авиации. Они тушили зажигательные бомб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3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716360" y="3500280"/>
            <a:ext cx="442764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4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5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716360" y="0"/>
            <a:ext cx="442764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0" y="0"/>
            <a:ext cx="442764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7" name="Text Placeholder 2" descr=""/>
          <p:cNvPicPr/>
          <p:nvPr/>
        </p:nvPicPr>
        <p:blipFill>
          <a:blip r:embed="rId3">
            <a:alphaModFix amt="40000"/>
          </a:blip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8" name="Text Placeholder 2" descr=""/>
          <p:cNvPicPr/>
          <p:nvPr/>
        </p:nvPicPr>
        <p:blipFill>
          <a:blip r:embed="rId4">
            <a:alphaModFix amt="40000"/>
          </a:blip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  <p:pic>
        <p:nvPicPr>
          <p:cNvPr id="59" name="Text Placeholder 2" descr=""/>
          <p:cNvPicPr/>
          <p:nvPr/>
        </p:nvPicPr>
        <p:blipFill>
          <a:blip r:embed="rId5">
            <a:alphaModFix amt="40000"/>
          </a:blip>
          <a:stretch/>
        </p:blipFill>
        <p:spPr>
          <a:xfrm>
            <a:off x="4643280" y="3573360"/>
            <a:ext cx="4500720" cy="3284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84807">
              <a:alpha val="40000"/>
            </a:srgbClr>
          </a:solid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САМЫМ СТРАШНЫМ ИСПЫТАНИЕМ  СТАЛ ГОЛОД….</a:t>
            </a:r>
            <a:endParaRPr b="0" lang="en-US" sz="4000" spc="-1" strike="noStrike">
              <a:solidFill>
                <a:srgbClr val="0d0d0d"/>
              </a:solidFill>
              <a:latin typeface="Trebuchet MS"/>
            </a:endParaRPr>
          </a:p>
        </p:txBody>
      </p:sp>
      <p:pic>
        <p:nvPicPr>
          <p:cNvPr id="61" name="Text Placeholder 2" descr=""/>
          <p:cNvPicPr/>
          <p:nvPr/>
        </p:nvPicPr>
        <p:blipFill>
          <a:blip r:embed="rId2"/>
          <a:stretch/>
        </p:blipFill>
        <p:spPr>
          <a:xfrm>
            <a:off x="457200" y="2014560"/>
            <a:ext cx="4038480" cy="3697200"/>
          </a:xfrm>
          <a:prstGeom prst="rect">
            <a:avLst/>
          </a:prstGeom>
          <a:ln w="0">
            <a:noFill/>
          </a:ln>
        </p:spPr>
      </p:pic>
      <p:pic>
        <p:nvPicPr>
          <p:cNvPr id="62" name="Text Placeholder 2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60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ext Placeholder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39:20Z</dcterms:created>
  <dc:creator>777</dc:creator>
  <dc:description/>
  <cp:keywords/>
  <dc:language>en-US</dc:language>
  <cp:lastModifiedBy>777</cp:lastModifiedBy>
  <dcterms:modified xsi:type="dcterms:W3CDTF">2014-01-26T10:50:03Z</dcterms:modified>
  <cp:revision>14</cp:revision>
  <dc:subject/>
  <dc:title>70 ЛЕТИЮ СНЯТИЯ БЛОКАДЫ ПОСВЯЩАЕТСЯ…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0179990</vt:lpwstr>
  </property>
</Properties>
</file>