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961-78FF-4B70-9F64-B7CA17E1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E59-1519-4D34-AAA8-94892043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2BC-00A5-4AED-B52C-17E36DA0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FA6-7F0E-4084-BC69-218C3C6C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8CF-45C4-4CEA-A70D-0C372ADD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4A5-1291-4733-B677-A05E728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C0A-8A39-469E-949E-920F343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2AD-35CD-4A61-B6E1-C5C2979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7AA-8560-4661-A5D4-9BABE5D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EDB-6820-415F-BD71-71DC296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348-0ACC-4AA9-BA73-7F529C14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EF8-01B1-4055-9363-CDA0545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9A8-E836-427E-BCAF-C25A9E06C198}" type="slidenum">
              <a:rPr b="0" lang="ru-RU" sz="1200" spc="-1" strike="noStrike">
                <a:solidFill>
                  <a:srgbClr val="0d0d0d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70 ЛЕТИЮ СНЯТИЯ БЛОКАДЫ ЛЕНИНГРАДА  ПОСВЯЩАЕТСЯ…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автор: Бучнева О.А.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ГБОУ СОШ № 475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г.Москва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ДОРОГА ЖИЗ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5" name="Text Placeholder 2" descr=""/>
          <p:cNvPicPr/>
          <p:nvPr/>
        </p:nvPicPr>
        <p:blipFill>
          <a:blip r:embed="rId2"/>
          <a:stretch/>
        </p:blipFill>
        <p:spPr>
          <a:xfrm>
            <a:off x="457200" y="1773360"/>
            <a:ext cx="4038480" cy="3743280"/>
          </a:xfrm>
          <a:prstGeom prst="rect">
            <a:avLst/>
          </a:prstGeom>
          <a:ln w="0">
            <a:noFill/>
          </a:ln>
        </p:spPr>
      </p:pic>
      <p:pic>
        <p:nvPicPr>
          <p:cNvPr id="66" name="Text Placeholder 2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68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69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645000"/>
            <a:ext cx="4500720" cy="321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0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 Placeholder 2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3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88000" y="0"/>
            <a:ext cx="4356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4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5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88000" y="3500280"/>
            <a:ext cx="4356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6545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684360" y="260280"/>
            <a:ext cx="8169120" cy="1081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316400" cy="52754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В 1941 Германия,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рушив договоры,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пала на СССР.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чалась Великая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течественная война 1941—1945г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45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5003640" y="1557360"/>
            <a:ext cx="3745080" cy="489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5292720" y="1341360"/>
            <a:ext cx="2666880" cy="381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4038480" cy="4526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Что может быть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страшнее, чем война?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ишь слезы, да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страдания несет она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И счастье разбивает у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юдей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юбимых разлучает и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рузей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Блокада Ленинграда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8 сентября 1941 — 27 января 1944</a:t>
            </a:r>
            <a:endParaRPr b="0" lang="en-US" sz="36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774800"/>
            <a:ext cx="4244760" cy="4626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осеннем тумане в январск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н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тоит Ленинград на морск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бер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 дворцами и парками, строг и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красив,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Как будто вплывает в широкий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залив.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блокадные дни, под обстрел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сн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Не сдался, не сдался наш город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рагу.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Тут гордые, смелые люди живут,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И ценится всюду их доблестный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труд. 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2">
            <a:lum bright="6000"/>
            <a:alphaModFix amt="40000"/>
          </a:blip>
          <a:stretch/>
        </p:blipFill>
        <p:spPr>
          <a:xfrm>
            <a:off x="4572000" y="1484280"/>
            <a:ext cx="4032360" cy="5113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402840"/>
            <a:ext cx="8280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7 января 1944 года – это дата полного снятия  немецко – фашистской блокады с Ленингра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окада Ленинграда – наиболее трагический период в истории города. 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тлер хотел путём обстрела из артиллерии всех калибров и беспрерывной бомбёжки с воздуха сравнять город с землёй. Для осуществления этого замысла гитлеровское командование бросило к Ленинграду более 40 отборных дивизий, свыше тысячи танков и полторы тысячи самолё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ада города продолжалась приблизительно 900 дней, с 8 сентября 1941г. до 27 января 1944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миллиона 887 тысяч гражданского населения (включая 400 тысяч детей) оказались в кольце окружения 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да попали и войска, защищавшие город; никто из них даже и не рассматривал никаких призывов сдатьс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щиту родного города поднялись все её жители 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городе построили 35 км. баррикад, 4170 дотов. Вместе со взрослыми ребята дежурили на чердаках при налётах вражеской авиации. Они тушили зажигательные бомб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3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4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5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16360" y="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7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8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9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САМЫМ СТРАШНЫМ ИСПЫТАНИЕМ  СТАЛ ГОЛОД…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1" name="Text Placeholder 2" descr=""/>
          <p:cNvPicPr/>
          <p:nvPr/>
        </p:nvPicPr>
        <p:blipFill>
          <a:blip r:embed="rId2"/>
          <a:stretch/>
        </p:blipFill>
        <p:spPr>
          <a:xfrm>
            <a:off x="457200" y="2014560"/>
            <a:ext cx="4038480" cy="3697200"/>
          </a:xfrm>
          <a:prstGeom prst="rect">
            <a:avLst/>
          </a:prstGeom>
          <a:ln w="0">
            <a:noFill/>
          </a:ln>
        </p:spPr>
      </p:pic>
      <p:pic>
        <p:nvPicPr>
          <p:cNvPr id="62" name="Text Placeholder 2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60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39:20Z</dcterms:created>
  <dc:creator>777</dc:creator>
  <dc:description/>
  <cp:keywords/>
  <dc:language>en-US</dc:language>
  <cp:lastModifiedBy>777</cp:lastModifiedBy>
  <dcterms:modified xsi:type="dcterms:W3CDTF">2014-01-26T10:50:03Z</dcterms:modified>
  <cp:revision>14</cp:revision>
  <dc:subject/>
  <dc:title>70 ЛЕТИЮ СНЯТИЯ БЛОКАДЫ ПОСВЯЩАЕТСЯ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0179990</vt:lpwstr>
  </property>
</Properties>
</file>