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797-A7C3-41A6-ABC8-F480BA91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669-6DD7-48AC-BDC3-83AF938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1CD-7106-4409-A3AA-8A1D299C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CE9-2D3E-43A8-BEA0-D2A7E12E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0A7-E79F-4CAA-8C95-E42CF498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E8A-A4C9-44B1-A1E3-16C06F7C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ECC0-CD87-4CDA-B2EF-63B75BE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B08D-6D27-4782-93F8-C0CEE63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50F-B049-4F8C-AF4A-995C644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DBE2-B2D7-4101-B9FD-688398D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746-16C6-43BF-8BBE-2F91337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573-8010-4ECD-8348-08691760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179-5123-4655-9F0A-795BD27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C66-8F61-4450-8ECE-73690B7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D11E-6804-4492-A614-7149A1B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F24D-CF3F-4F14-B364-D211DAC8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FF8A-7FB9-42FC-8ED9-BA95FCA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3B1A-D515-4532-B4B9-087E2223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F710-A4AE-4BF7-A960-68A19D9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3221-A434-4BBE-9F4C-17599127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E2E5-C568-4632-B8A8-7CAAB8A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EBFB-178A-4899-88EF-55688E4E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555-839A-4961-8E6C-FBBFC8EB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8C0B-E5CC-4D07-8E8C-81E786B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64B1-357C-4750-B014-1E08D59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9838-26F3-41DB-805B-8AD8C8D6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9151-56D9-4D6F-B878-7B99DFE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EF00-4D96-40F7-AFA4-22FB15C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EF48-DC7B-4AB2-837F-AA1B0F3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56E6-BB09-44E0-8557-CB2D819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9A4E-7A4F-4DBC-A42C-1FEF9F8E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B5E9D-2925-4298-BE8F-2DAEC68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A95E-6DE7-47AA-AEF3-B061D81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CA1-745C-4142-8B90-EAFC8014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C8BD-DC5D-4C0B-AAA3-45CEB2BD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94F3-FBD9-4ADF-BFBC-76827CA7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2588-BF93-4E79-B241-AD935A8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89C9-ABEC-4109-856E-6C130EE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2355-61CC-407E-9F44-AC0F923E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FA17-08B8-4DB0-8DAD-38075A9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E740-A18E-45EF-B70E-C42170B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5BBE-2AB6-4465-84A5-7F6E4C17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2C32-F4A2-409E-B88A-1A631CEB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EA4-14C5-4502-B980-B3A58AC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6D6-CD46-4D49-92AB-C52A4FA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A63-20D0-45E6-BC46-2D49837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C9E-99A0-4E41-A585-861E4A66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086-AC64-44CF-B004-26DAFA3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A11-DF07-4B2C-81EB-1161B505F44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E35-C60D-451C-A68A-70FFC774D9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EC0-7A48-42D3-9035-A474B37AC31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DF1-E598-4245-9FB5-473D2A57BB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3240" y="85824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инистерство образования РФ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БОУ СОШ р.п. Магнитка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71280" y="2334960"/>
            <a:ext cx="7047000" cy="452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роек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Пусть  знают  и помнят   потомки!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улина 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ца  2 «б» класс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: Юренкова  Л.Р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первой категори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.п.Магнитк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317080" y="2602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8317080" y="14842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8317080" y="285264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8317080" y="429264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8317080" y="5734080"/>
            <a:ext cx="64764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-879840" y="85824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763640" y="278136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ступл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сновная час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. Биографическая спра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.Этапы войны и участие в них  моего прадед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3.Награ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ыводы, заключен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9160" y="2107800"/>
            <a:ext cx="754236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6666"/>
                </a:solidFill>
                <a:latin typeface="TruthCYR Black"/>
              </a:rPr>
              <a:t>                                             </a:t>
            </a: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</a:t>
            </a:r>
            <a:br>
              <a:rPr sz="1500"/>
            </a:br>
            <a:r>
              <a:rPr b="0" lang="ru-RU" sz="1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НИКУЛИНА ЕКАТЕРИНА ЖИВУ В 21 ВЕКЕ.  ЭХО ВОЙНЫ ДАВНО ОТЗВУЧАЛО. Я НЕДАВНО НАУЧИЛАСЬ ЧИТАТЬ И РАССМАТРИВАЯ  СЕМЕЙНЫЕ ФОТОГРАФИИ, УЗНАЛА, ЧТО МОЯ СЕМЬЯ ИМЕЕТ ПРЯМОЕ ОТНОШЕНИЕ К ВОЙНЕ. И ПОЭТОМУ МНЕ ЗАХОТЕЛОСЬ ПОГЛУБЖЕ УЗНАТЬ, КАКОЙ ВКЛАД ВНЕС МОЙ ПРАДЕД НИКУЛИН ФЕДОР ПАВЛОВИЧ В ПОБЕДУ В ВЕЛИКОЙ ОТЕЧЕСТВЕННОЙ ВОЙНЕ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Я ПОСТАВИЛА ПЕРЕД СОБОЙ ЦЕЛЬ: НА ОСНОВАНИИ СЕМЕЙНЫХ ФОТОГРАФИЙ И ДОКУМЕНТОВ,  МУЗЕЙНЫХ  МАТЕРИАЛОВ ВОССТАНОВИТЬ ХРОНОЛОГИЮ СОБЫТИЙ ТЕХ ТЯЖЕЛЫХ ВОЕННЫХ ЛЕТ И ВЫЯВИТЬ ЛИЧНОЕ УЧАСТИЕ В НИХ МОЕЙ СЕМЬ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Я  РЕШАЛА ЗАДАЧИ: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1.ПОСЕТИТЬ КРАЕВЕДЧЕСКИЙ МУЗЕЙ НАШЕГО ПОСЕЛКА И ПОРАБОТАТЬ С ИМЕЮЩИМИСЯ ТАМ ДОКУМЕНТАМИ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2.ОТСЛЕДИТЬ ЖИЗНЕННЫЙ ПУТЬ МОЕГО ПРАДЕДА ПО СЕМЕЙНЫМ ФОТОГРАФИЯМ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3.ОЖИВИТЬ СОБЫТИЯ ИЗОБРАЖЕННЫЕ НА ФОТОГРАФИЯХ ЧЕРЕЗ БЕСЕДУ С МОИМИ СТАРШИМИ РОДСТВЕННИКАМИ.</a:t>
            </a:r>
            <a:br>
              <a:rPr sz="1400"/>
            </a:b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09440" y="90792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УАЛЬНОСТЬ.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16000" y="224640"/>
            <a:ext cx="2936160" cy="49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ведение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Содержимое 4" descr="0a2a79d35856346117979a0b973bbbba.jpg"/>
          <p:cNvPicPr/>
          <p:nvPr/>
        </p:nvPicPr>
        <p:blipFill>
          <a:blip r:embed="rId1"/>
          <a:stretch/>
        </p:blipFill>
        <p:spPr>
          <a:xfrm>
            <a:off x="4973760" y="2276640"/>
            <a:ext cx="3941640" cy="4300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43192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ла война, отгремели орудия, люди вернулись к мирной жизни, но нельзя забыть настоящих героев своего времени. Людей, которые принимали непосредственное участие в борьбе против фашистских оккупантов нашей Родины, людей которые отдали свою жизнь за счастье, свободу и чистое небо над головой своих потомков. С каждым днем этих людей становится все меньше, тем ценнее наша  память о ни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являюсь четвертым поколением в нашей семье Никулиных. Прадеда уже нет в живых, но я его хорошо помню и хочу познакомить с ним всех присутствующи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85128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шла война, прошла страда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Но боль взывает к людя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Давайте, люди никог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Об этом не забудем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272360" cy="2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Никулин Федор Павлович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Содержимое 4" descr="DSC07320.JPG"/>
          <p:cNvPicPr/>
          <p:nvPr/>
        </p:nvPicPr>
        <p:blipFill>
          <a:blip r:embed="rId1"/>
          <a:stretch/>
        </p:blipFill>
        <p:spPr>
          <a:xfrm>
            <a:off x="5076720" y="1341360"/>
            <a:ext cx="3857760" cy="4643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5040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Федор Павлович Никулин 20 февраля 1924г. в Башкирии, в семье простых колхозников, где еще росли две сестры и брат. В школе он успел проучиться всего семь клас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овой путь ветерана начался в 1942 году, после прохождения учебы в Киевской школе санинструкторов. За время  успешной учебы Федор Павлович стал старшим сержантом медицинской службы и был направлен в город Камышин в 214 полк пятой гвардейской армии. В мае 1943 года  молодого солдата направляют на Степной фронт, а в июле он участвует в боях на Курской дуге, победа в которой завершила коренной перелом в ходе Великой отечественной войны.  Там же бойцу вручили комсомольский билет, что было большим предметом гордости за доверие. В августовских боях солдат был ранен, пролечившись в полевом госпитале – снова на фронт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второго тяжелого ранения в ногу Фёдор Павлович был признан нестроевым, но остался служить в боевом госпитале до окончания войны. Победу  он встретил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с 1943 по май 1945гг. моему прадеду было  объявлено 18 благодарностей, в том числе  от Верховного Главнокомандующего Генералиссимуса И.В. Сталина, от Маршала  И.С. Конева, от командующего армии А.С. Жданова. Так же красноречиво о  службе говорят награды: медаль «За победу над Германией», «За боевые заслуг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1" descr="DSC07279.JPG"/>
          <p:cNvPicPr/>
          <p:nvPr/>
        </p:nvPicPr>
        <p:blipFill>
          <a:blip r:embed="rId1"/>
          <a:stretch/>
        </p:blipFill>
        <p:spPr>
          <a:xfrm>
            <a:off x="-612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4"/>
          <p:cNvSpPr txBox="1"/>
          <p:nvPr/>
        </p:nvSpPr>
        <p:spPr>
          <a:xfrm>
            <a:off x="1476360" y="1268280"/>
            <a:ext cx="419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грады  праде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4932360" y="4508640"/>
            <a:ext cx="331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улина Ф.П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Scan10009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4-01-26T13:24:32Z</dcterms:modified>
  <cp:revision>45</cp:revision>
  <dc:subject/>
  <dc:title>Министерство образования РФ МБОУ СОШ р.п. Магнитка </dc:title>
</cp:coreProperties>
</file>