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99C-D196-44DC-822C-7DBBE133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1FE-9E01-4D24-A5CF-B35F7AAE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919-3789-4B86-B83D-3DC33F09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A81-850B-4EF4-92CF-B7841C98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FFAA-14C4-4E8A-8EA0-4C84659F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9552-1C46-4130-BA03-178FEAEC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03A3-854E-42E7-8709-D8C5D36D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7804-68D6-40E1-B144-12F8C3F9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7FFC-41CF-40BE-843A-B6AA95D5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313B-C328-491C-955D-548BD503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A272-8D49-4434-B2EB-84A93C5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CE7-167F-4C6B-9A4A-7593C612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4975-72EF-414B-9EE6-612C9AFF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6A7C-612C-4810-A843-C09D777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428E-BE54-460B-83F6-69D2F387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2F8D-A5FD-47D3-8CC6-504DACEA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D34B-6A81-4610-BF1B-BBF22EC9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B0A9-1965-4786-B1B1-96D68399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828D-F889-4489-81F7-28B65A84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34BD-DEDF-40B0-8033-327DA3AE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57AE-1F43-4DA9-BF0D-0C11EDB3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601A-6E43-4DA8-AB61-C3F29B1C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8D7-DCB5-49C9-91C2-6B8A165B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EA1A-3C90-4D5A-B721-528CB732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57F9-771B-4E86-97F1-C16846CD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0138-F301-4B2A-9F03-42A07AD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87F3-99EC-413F-AFED-53391BC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4884-47DA-4827-A45C-0B1074DF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C170-3428-457A-A2C5-BE9457C9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8A55-D6F2-44F6-AF44-DEE45D6F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C1A80-6604-42D1-94D0-74772051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BE7E-BCD7-47B2-9EB4-C55322A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AEB0-0349-425E-8469-D38819DA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AB5-7C9E-4FD2-8CC9-7A6C8936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27BE-3271-4F11-A9FD-1D7C9DA7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24A5-479E-46B7-8089-8B69D0F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DAD3-FB63-4484-8EA5-0BE8A8C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B830-4B9C-41DC-826B-702BCEC3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22F6-720B-47F0-8841-0620E99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C62F-8D18-4997-BF3A-C64FF91E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1FCFB-2A4A-45E5-AE50-D492ACD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CFB7-1C0C-40B5-AA62-32CE2827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BA0EE-F298-4F62-9081-3E47F4C4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F13-A770-4F16-BDE6-6BE68CDC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406-035E-400A-9681-86FFE7A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3C2-8A89-4F86-AF87-8829704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854-688A-407F-9E1B-5CE46BB6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7A3-F1DE-4245-B496-9F1716F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FEA8-F113-4966-929A-CDD5D1A752E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45DE-FA55-4922-964A-83346321AD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A3CF-8E92-47DE-BBB4-C9C854CB78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CA2F-60B2-4F86-BC31-FB9BA20FCF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3240" y="858240"/>
            <a:ext cx="7585920" cy="128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инистерство образования РФ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БОУ СОШ р.п. Магнитка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71280" y="2334960"/>
            <a:ext cx="7047000" cy="452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роек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Пусть  знают  и помнят   потомки!»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выполнила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улина 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ца  2 «б» класс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: Юренкова  Л.Р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первой категор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п.Магнитк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8317080" y="26028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8317080" y="148428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8317080" y="285264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8317080" y="429264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8317080" y="573408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-879840" y="858240"/>
            <a:ext cx="7585920" cy="128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763640" y="278136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ступ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Основная част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. Биографическая спра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.Этапы войны и участие в них  моего прадед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3.Награ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Выводы, заключ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379160" y="2107800"/>
            <a:ext cx="754236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6666"/>
                </a:solidFill>
                <a:latin typeface="TruthCYR Black"/>
              </a:rPr>
              <a:t>                                             </a:t>
            </a: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br>
              <a:rPr sz="1500"/>
            </a:b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НИКУЛИНА ЕКАТЕРИНА ЖИВУ В 21 ВЕКЕ.  ЭХО ВОЙНЫ ДАВНО ОТЗВУЧАЛО. Я НЕДАВНО НАУЧИЛАСЬ ЧИТАТЬ И РАССМАТРИВАЯ  СЕМЕЙНЫЕ ФОТОГРАФИИ, УЗНАЛА, ЧТО МОЯ СЕМЬЯ ИМЕЕТ ПРЯМОЕ ОТНОШЕНИЕ К ВОЙНЕ. И ПОЭТОМУ МНЕ ЗАХОТЕЛОСЬ ПОГЛУБЖЕ УЗНАТЬ, КАКОЙ ВКЛАД ВНЕС МОЙ ПРАДЕД НИКУЛИН ФЕДОР ПАВЛОВИЧ В ПОБЕДУ В ВЕЛИКОЙ ОТЕЧЕСТВЕННОЙ ВОЙНЕ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Я ПОСТАВИЛА ПЕРЕД СОБОЙ ЦЕЛЬ: НА ОСНОВАНИИ СЕМЕЙНЫХ ФОТОГРАФИЙ И ДОКУМЕНТОВ,  МУЗЕЙНЫХ  МАТЕРИАЛОВ ВОССТАНОВИТЬ ХРОНОЛОГИЮ СОБЫТИЙ ТЕХ ТЯЖЕЛЫХ ВОЕННЫХ ЛЕТ И ВЫЯВИТЬ ЛИЧНОЕ УЧАСТИЕ В НИХ МОЕЙ СЕМЬ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Я  РЕШАЛА ЗАДАЧИ: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1.ПОСЕТИТЬ КРАЕВЕДЧЕСКИЙ МУЗЕЙ НАШЕГО ПОСЕЛКА И ПОРАБОТАТЬ С ИМЕЮЩИМИСЯ ТАМ ДОКУМЕНТАМИ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2.ОТСЛЕДИТЬ ЖИЗНЕННЫЙ ПУТЬ МОЕГО ПРАДЕДА ПО СЕМЕЙНЫМ ФОТОГРАФИЯМ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3.ОЖИВИТЬ СОБЫТИЯ ИЗОБРАЖЕННЫЕ НА ФОТОГРАФИЯХ ЧЕРЕЗ БЕСЕДУ С МОИМИ СТАРШИМИ РОДСТВЕННИКАМИ.</a:t>
            </a:r>
            <a:br>
              <a:rPr sz="1400"/>
            </a:b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09440" y="90792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ТУАЛЬНОСТЬ.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16000" y="224640"/>
            <a:ext cx="2936160" cy="49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ведение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6" name="Содержимое 4" descr="0a2a79d35856346117979a0b973bbbba.jpg"/>
          <p:cNvPicPr/>
          <p:nvPr/>
        </p:nvPicPr>
        <p:blipFill>
          <a:blip r:embed="rId1"/>
          <a:stretch/>
        </p:blipFill>
        <p:spPr>
          <a:xfrm>
            <a:off x="4973760" y="2276640"/>
            <a:ext cx="3941640" cy="4300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43192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ла война, отгремели орудия, люди вернулись к мирной жизни, но нельзя забыть настоящих героев своего времени. Людей, которые принимали непосредственное участие в борьбе против фашистских оккупантов нашей Родины, людей которые отдали свою жизнь за счастье, свободу и чистое небо над головой своих потомков. С каждым днем этих людей становится все меньше, тем ценнее наша  память о ни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являюсь четвертым поколением в нашей семье Никулиных. Прадеда уже нет в живых, но я его хорошо помню и хочу познакомить с ним всех присутствующи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851280" y="76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шла война, прошла страда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Но боль взывает к людя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Давайте, люди никог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Об этом не забудем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272360" cy="2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Никулин Федор Павлович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Содержимое 4" descr="DSC07320.JPG"/>
          <p:cNvPicPr/>
          <p:nvPr/>
        </p:nvPicPr>
        <p:blipFill>
          <a:blip r:embed="rId1"/>
          <a:stretch/>
        </p:blipFill>
        <p:spPr>
          <a:xfrm>
            <a:off x="5076720" y="1341360"/>
            <a:ext cx="3857760" cy="46436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5040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Федор Павлович Никулин 20 февраля 1924г. в Башкирии, в семье простых колхозников, где еще росли две сестры и брат. В школе он успел проучиться всего семь клас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нтовой путь ветерана начался в 1942 году, после прохождения учебы в Киевской школе санинструкторов. За время  успешной учебы Федор Павлович стал старшим сержантом медицинской службы и был направлен в город Камышин в 214 полк пятой гвардейской армии. В мае 1943 года  молодого солдата направляют на Степной фронт, а в июле он участвует в боях на Курской дуге, победа в которой завершила коренной перелом в ходе Великой отечественной войны.  Там же бойцу вручили комсомольский билет, что было большим предметом гордости за доверие. В августовских боях солдат был ранен, пролечившись в полевом госпитале – снова на фронт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второго тяжелого ранения в ногу Фёдор Павлович был признан нестроевым, но остался служить в боевом госпитале до окончания войны. Победу  он встретил 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ериод с 1943 по май 1945гг. моему прадеду было  объявлено 18 благодарностей, в том числе  от Верховного Главнокомандующего Генералиссимуса И.В. Сталина, от Маршала  И.С. Конева, от командующего армии А.С. Жданова. Так же красноречиво о  службе говорят награды: медаль «За победу над Германией», «За боевые заслуг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DSC07279.JPG"/>
          <p:cNvPicPr/>
          <p:nvPr/>
        </p:nvPicPr>
        <p:blipFill>
          <a:blip r:embed="rId1"/>
          <a:stretch/>
        </p:blipFill>
        <p:spPr>
          <a:xfrm>
            <a:off x="-6127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4"/>
          <p:cNvSpPr txBox="1"/>
          <p:nvPr/>
        </p:nvSpPr>
        <p:spPr>
          <a:xfrm>
            <a:off x="1476360" y="1268280"/>
            <a:ext cx="4191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грады  праде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4932360" y="4508640"/>
            <a:ext cx="3313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улина Ф.П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Scan10009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82692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4-01-26T13:24:32Z</dcterms:modified>
  <cp:revision>45</cp:revision>
  <dc:subject/>
  <dc:title>Министерство образования РФ МБОУ СОШ р.п. Магнитка </dc:title>
</cp:coreProperties>
</file>