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628B-A619-4590-9769-DD9DC501CF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C64F-702F-4764-9D38-0CF4D3D0E817}" type="slidenum">
              <a:rPr b="0" lang="ru-RU" sz="1200" spc="-1" strike="noStrike">
                <a:solidFill>
                  <a:srgbClr val="0033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7EDD-6283-4A7F-96D0-DBC269ECD35D}" type="slidenum">
              <a:rPr b="0" lang="ru-RU" sz="1200" spc="-1" strike="noStrike">
                <a:solidFill>
                  <a:srgbClr val="0033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DB1-B0B6-4CFF-A700-E063A1E4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E2F-D8B7-432E-8689-BCA29CA4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82E3-BB79-4ADC-9A22-0D40E857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EE98-EE07-4178-81A9-FAAFA6E1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290E-6A3E-482A-A94F-EAD2D9C3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AEBF-FC04-4471-9FA2-434C2DBA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7F46-4E90-4D39-90BF-7A48509D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B746-ABC1-43C3-A208-0A1982B1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0639-2FFE-462A-AA7A-FD232073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709D-A946-488B-944C-12931A55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6317-FC8B-4347-8580-831E786C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5BA-191A-44A1-8E99-612E5456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E310-F4E8-4DCB-A14C-062520C2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BEA2-FD2C-4D20-A0DD-3E09BBA0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A251-00CB-42D2-92CE-AC3E4DA8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65EB-ACEB-44D4-8AD1-72AD25EE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E7DC-673B-41C6-85DC-2BEF901F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E2D-6D1C-4BEB-BC4D-E76055A8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ECE6-06EE-414D-B2B1-0BD7B72C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B18-1103-454C-AB10-241EC745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433A-B6E9-416B-80C0-470F8555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A1E-EB34-4107-B10C-3AC35F94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E86E-32B6-479F-A2EE-2EAB3CDA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26BC-953B-4562-B7D5-A0488019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9B9C-78FE-4A05-9838-422BD595C1B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EF1D-15AC-4154-B266-81B4A1DA4EE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57440" y="694080"/>
            <a:ext cx="5361480" cy="101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ослевоенная жизн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99640" y="2420640"/>
            <a:ext cx="4681800" cy="21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емобилизовался прадедушка в 1946 году и вернулся в родное село Емаши . В 1948 году Федор Павлович женился на Цыпышевой Надежде Ивановне и в 1950 году он с семьей переезжает в Магнитку.  Со 2 февраля 1950 года начинается его трудовой  стаж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Содержимое 6" descr="DSC07332.JPG"/>
          <p:cNvPicPr/>
          <p:nvPr/>
        </p:nvPicPr>
        <p:blipFill>
          <a:blip r:embed="rId1"/>
          <a:stretch/>
        </p:blipFill>
        <p:spPr>
          <a:xfrm>
            <a:off x="5654520" y="0"/>
            <a:ext cx="3489480" cy="4653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900000" y="4653000"/>
            <a:ext cx="7848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ботал в Златоустовском рудоуправлении слесарем – монтажником, затем в шахте  подземным электро -  слесарем, дежурным до ликвидации шахты. После  ликвидации шахты работал в отделе капитального строительства, до ухода на пенсию.  После пенсии продолжал активно трудить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235680" y="221400"/>
            <a:ext cx="5875560" cy="4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четный житель поселка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Содержимое 4" descr="DSC07333.JPG"/>
          <p:cNvPicPr/>
          <p:nvPr/>
        </p:nvPicPr>
        <p:blipFill>
          <a:blip r:embed="rId1"/>
          <a:stretch/>
        </p:blipFill>
        <p:spPr>
          <a:xfrm>
            <a:off x="4716360" y="765000"/>
            <a:ext cx="428652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38894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гражден орденом «Знак почета», юбилейной Ленинской медалью  и медалью «Ветеран труда»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Фёдор Павлович был активный общественник все годы трудовой жизни и на пенсии, он являлся  постоянным членом поселкового совета ветеранов. Регулярно выступал перед молодежью в школах и ПТУ.  9 мая Федор Павлович выступал  на митинге памяти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2004 году мой прадед Никулин Федор  Павлович был внесен в областную  Книгу Памяти  Челябинской  области, как участник ВОВ  1941-1945гг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июне 2008г. в честь 80-летия поселка Магнитка Никулин Федор Павлович был удостоен звания «Почетный гражданин Магнитки».     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55640" y="90792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свой мирный труд мой прадед имел  до полсотни Почетных грамот, благодарностей, его портрет  был в числе лучших трудящихся на Доске почета в ЗРУ и районе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Содержимое 4" descr="Scan10007.jpg"/>
          <p:cNvPicPr/>
          <p:nvPr/>
        </p:nvPicPr>
        <p:blipFill>
          <a:blip r:embed="rId1"/>
          <a:stretch/>
        </p:blipFill>
        <p:spPr>
          <a:xfrm>
            <a:off x="324000" y="549360"/>
            <a:ext cx="8820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одержимое 4" descr="Scan10008.jpg"/>
          <p:cNvPicPr/>
          <p:nvPr/>
        </p:nvPicPr>
        <p:blipFill>
          <a:blip r:embed="rId1"/>
          <a:stretch/>
        </p:blipFill>
        <p:spPr>
          <a:xfrm>
            <a:off x="0" y="62244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3" descr="Scan10010.jpg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Scan100061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971640" y="260280"/>
            <a:ext cx="748800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9  Мая  2005 года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Их все  меньше  и  меньше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2" descr="Scan10006.jpg"/>
          <p:cNvPicPr/>
          <p:nvPr/>
        </p:nvPicPr>
        <p:blipFill>
          <a:blip r:embed="rId1"/>
          <a:stretch/>
        </p:blipFill>
        <p:spPr>
          <a:xfrm>
            <a:off x="5435640" y="404640"/>
            <a:ext cx="3463920" cy="49690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1"/>
          <p:cNvSpPr/>
          <p:nvPr/>
        </p:nvSpPr>
        <p:spPr>
          <a:xfrm>
            <a:off x="755640" y="2421000"/>
            <a:ext cx="478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Calibri"/>
              </a:rPr>
              <a:t>Таким образом, раньше я своего прадеда воспринимала как дедушку, пожилого человека, а проведя эту работу я осознала, что есть и его вклад в победу над Германией, что мой прадед  Никулин Федор Павлович - настоящий герой. 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42920" y="1052640"/>
            <a:ext cx="388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Заключение…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1258920" y="5734080"/>
            <a:ext cx="576360" cy="574560"/>
          </a:xfrm>
          <a:prstGeom prst="pi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2771640" y="5734080"/>
            <a:ext cx="576360" cy="574560"/>
          </a:xfrm>
          <a:prstGeom prst="pi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4500720" y="5734080"/>
            <a:ext cx="576000" cy="574560"/>
          </a:xfrm>
          <a:prstGeom prst="pi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7308720" y="5734080"/>
            <a:ext cx="576360" cy="574560"/>
          </a:xfrm>
          <a:prstGeom prst="pi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940360" y="5734080"/>
            <a:ext cx="576360" cy="574560"/>
          </a:xfrm>
          <a:prstGeom prst="pi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4-01-26T13:25:31Z</dcterms:modified>
  <cp:revision>44</cp:revision>
  <dc:subject/>
  <dc:title>Министерство образования РФ МБОУ СОШ р.п. Магнитка </dc:title>
</cp:coreProperties>
</file>