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AB45-D067-4733-B61A-002D120C47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32AC-B9F0-4542-B01A-370A8242B7A6}" type="slidenum">
              <a:rPr b="0" lang="ru-RU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F842-6830-4DE0-B3F4-C84FD195B484}" type="slidenum">
              <a:rPr b="0" lang="ru-RU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8DA-6F7B-4C70-BB63-99C7DDDE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7D5-21DE-48B1-85E8-859986D2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664-3856-4DB0-819A-37CD619D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20E-B1D3-4395-9614-4CB8A7F3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AD5B-8DC0-4462-8F6A-95FF2F5A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4066-D529-48EE-9A8A-23F521D5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5652-8227-43C1-AD27-44A2EF05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7289-827F-44E7-BE68-2404A4E8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8265-B138-4BE6-8F0F-6855E64D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CBF6-4ED6-4FA9-B2B9-78E5A043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B062-710C-48A3-96EE-CDCD44F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47D-5FA8-4D89-BD99-8946FCDC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DDC4-3062-4B74-9725-EE5ECA55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0460-7F7F-4BBE-8A94-E421D2AC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30E9-E13F-457F-9C72-39889CD8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222F-0784-439F-8A8A-E8A6C327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CF8D-B8B4-48FE-89E4-6775E619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174-1F4C-4430-88A2-FC2366CE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EB4-F0FE-40F8-80A8-B7FF4D02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DC9-6EED-47EC-B81F-0905B77B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6E1-CCFA-48C7-A948-29045378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FE0-5808-4814-91E2-26614585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1F8-D175-4351-97F1-53E80AB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00B-1D45-4948-9BF0-A3C230A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2277-8A7B-4A7A-BB35-230C66A9B49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266E-9A64-45CC-9547-9E17C2B59E7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7440" y="694080"/>
            <a:ext cx="5361480" cy="10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ослевоенная жизн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4681800" cy="21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емобилизовался прадедушка в 1946 году и вернулся в родное село Емаши . В 1948 году Федор Павлович женился на Цыпышевой Надежде Ивановне и в 1950 году он с семьей переезжает в Магнитку.  Со 2 февраля 1950 года начинается его трудовой  стаж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Содержимое 6" descr="DSC07332.JPG"/>
          <p:cNvPicPr/>
          <p:nvPr/>
        </p:nvPicPr>
        <p:blipFill>
          <a:blip r:embed="rId1"/>
          <a:stretch/>
        </p:blipFill>
        <p:spPr>
          <a:xfrm>
            <a:off x="5654520" y="0"/>
            <a:ext cx="3489480" cy="4653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900000" y="4653000"/>
            <a:ext cx="7848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ботал в Златоустовском рудоуправлении слесарем – монтажником, затем в шахте  подземным электро -  слесарем, дежурным до ликвидации шахты. После  ликвидации шахты работал в отделе капитального строительства, до ухода на пенсию.  После пенсии продолжал активно труди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35680" y="221400"/>
            <a:ext cx="5875560" cy="4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четный житель поселк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Содержимое 4" descr="DSC07333.JPG"/>
          <p:cNvPicPr/>
          <p:nvPr/>
        </p:nvPicPr>
        <p:blipFill>
          <a:blip r:embed="rId1"/>
          <a:stretch/>
        </p:blipFill>
        <p:spPr>
          <a:xfrm>
            <a:off x="4716360" y="765000"/>
            <a:ext cx="428652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38894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гражден орденом «Знак почета», юбилейной Ленинской медалью  и медалью «Ветеран труда»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Фёдор Павлович был активный общественник все годы трудовой жизни и на пенсии, он являлся  постоянным членом поселкового совета ветеранов. Регулярно выступал перед молодежью в школах и ПТУ.  9 мая Федор Павлович выступал  на митинге памяти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2004 году мой прадед Никулин Федор  Павлович был внесен в областную  Книгу Памяти  Челябинской  области, как участник ВОВ  1941-1945гг.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июне 2008г. в честь 80-летия поселка Магнитка Никулин Федор Павлович был удостоен звания «Почетный гражданин Магнитки».     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55640" y="9079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свой мирный труд мой прадед имел  до полсотни Почетных грамот, благодарностей, его портрет  был в числе лучших трудящихся на Доске почета в ЗРУ и район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4" descr="Scan10007.jpg"/>
          <p:cNvPicPr/>
          <p:nvPr/>
        </p:nvPicPr>
        <p:blipFill>
          <a:blip r:embed="rId1"/>
          <a:stretch/>
        </p:blipFill>
        <p:spPr>
          <a:xfrm>
            <a:off x="324000" y="549360"/>
            <a:ext cx="8820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4" descr="Scan10008.jpg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" descr="Scan10010.jpg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Scan100061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971640" y="260280"/>
            <a:ext cx="74880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9  Мая  2005 года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Их все  меньше  и  меньше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" descr="Scan10006.jpg"/>
          <p:cNvPicPr/>
          <p:nvPr/>
        </p:nvPicPr>
        <p:blipFill>
          <a:blip r:embed="rId1"/>
          <a:stretch/>
        </p:blipFill>
        <p:spPr>
          <a:xfrm>
            <a:off x="5435640" y="404640"/>
            <a:ext cx="34639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755640" y="2421000"/>
            <a:ext cx="47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Таким образом, раньше я своего прадеда воспринимала как дедушку, пожилого человека, а проведя эту работу я осознала, что есть и его вклад в победу над Германией, что мой прадед  Никулин Федор Павлович - настоящий герой.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42920" y="105264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Заключение…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258920" y="5734080"/>
            <a:ext cx="576360" cy="57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771640" y="5734080"/>
            <a:ext cx="576360" cy="57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00720" y="5734080"/>
            <a:ext cx="576000" cy="57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308720" y="5734080"/>
            <a:ext cx="576360" cy="57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940360" y="5734080"/>
            <a:ext cx="576360" cy="57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4-01-26T13:25:31Z</dcterms:modified>
  <cp:revision>44</cp:revision>
  <dc:subject/>
  <dc:title>Министерство образования РФ МБОУ СОШ р.п. Магнитка </dc:title>
</cp:coreProperties>
</file>