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173-F2DF-45AC-9D8F-203C408E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214-FA0D-4189-A759-72272F6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4EE-35DD-41B1-AEC1-8573A536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0A1-39BB-49D9-987B-B76D9938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6EC-AFF0-4577-A3C0-DD96A02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67E-DC52-4003-849E-6C594C59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07B-634E-4E85-87E0-A2E3DD1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16D-E7FB-470C-A0E0-47DD3F02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A24-FA19-42F6-A548-13F2878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BD4-97A8-4284-AFA1-26BAD12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D8D-AD5B-4D2E-B912-729225C1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356-36FD-4D19-8442-DA3BC0CB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220D-1FB5-4D52-8F34-7BD6DD37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77;&#1074;&#1077;&#1088;&#1085;&#1072;&#1103;%20&#1087;&#1088;&#1080;&#1088;&#1086;&#1076;&#1072;&amp;img_url=http%3A%2F%2Fua1zct.qrz.ru%2Ffiles%2Fp0000003.jpg&amp;pos=0&amp;uinfo=sw-1124-sh-539-fw-0-fh-448-pd-1&amp;rpt=simag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text=&#1089;&#1077;&#1074;&#1077;&#1088;&#1085;&#1072;&#1103;%20&#1087;&#1088;&#1080;&#1088;&#1086;&#1076;&#1072;&amp;img_url=http%3A%2F%2Fwww.afonnews.ru%2Fmedia%2Fpic_middle%2F0%2F1187.jpg&amp;pos=10&amp;uinfo=sw-1124-sh-539-fw-0-fh-448-pd-1&amp;rpt=simage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text=&#1089;&#1077;&#1074;&#1077;&#1088;&#1085;&#1072;&#1103;%20&#1087;&#1088;&#1080;&#1088;&#1086;&#1076;&#1072;&amp;img_url=http%3A%2F%2Fimg-2004-01.photosight.ru%2F19%2F390875.jpg&amp;pos=21&amp;uinfo=sw-1124-sh-539-fw-0-fh-448-pd-1&amp;rpt=simage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72;&#1079;&#1084;&#1085;&#1086;&#1078;&#1077;&#1085;&#1080;&#1077;%20&#1083;&#1080;&#1096;&#1072;&#1081;&#1085;&#1080;&#1082;&#1072;%20&#1089;&#1087;&#1077;&#1094;&#1080;&#1072;&#1083;&#1100;&#1085;&#1099;&#1084;&#1080;%20&#1082;&#1083;&#1077;&#1090;&#1082;&#1072;&#1084;&#1080;%20&#1075;&#1088;&#1080;&#1073;&#1072;%20&#1080;%20&#1074;&#1086;&#1076;&#1086;&#1088;&#1086;&#1089;&#1083;&#1080;&amp;img_url=http%3A%2F%2Fclub-edu.tambov.ru%2Fvjpusk%2Fvjp065%2Frabot%2F40%2Fstroenie%2520lishcainikov.jpg&amp;pos=19&amp;uinfo=sw-1124-sh-539-fw-899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72;&#1079;&#1084;&#1085;&#1086;&#1078;&#1077;&#1085;&#1080;&#1077;%20&#1083;&#1080;&#1096;&#1072;&#1081;&#1085;&#1080;&#1082;&#1072;%20&#1082;&#1083;&#1077;&#1090;&#1082;&#1080;%20&#1074;&#1086;&#1076;&#1086;&#1088;&#1086;&#1089;&#1083;&#1080;%20&#1086;&#1082;&#1088;&#1091;&#1078;&#1105;&#1085;&#1085;&#1099;&#1077;%20&#1075;&#1080;&#1092;&#1072;&#1084;&#1080;%20&#1075;&#1088;&#1080;&#1073;&#1072;&amp;img_url=http%3A%2F%2Fmurzim.ru%2Fuploads%2Fposts%2F2010-11%2F1290129963_image017.jpg&amp;pos=1&amp;uinfo=sw-1124-sh-539-fw-899-fh-448-pd-1&amp;rpt=sima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90;&#1083;&#1072;&#1084;&#1099;&#1074;&#1072;&#1085;&#1080;&#1077;%20&#1083;&#1080;&#1096;&#1072;&#1081;&#1085;&#1080;&#1082;&#1072;&amp;img_url=http%3A%2F%2Fdo.gendocs.ru%2Fpars_docs%2Ftw_refs%2F194%2F193181%2F193181_html_m17196780.jpg&amp;pos=1&amp;uinfo=sw-1124-sh-539-fw-899-fh-448-pd-1&amp;rpt=sima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6;&#1089;&#1086;&#1073;&#1099;&#1077;%20&#1074;&#1099;&#1088;&#1086;&#1089;&#1090;&#1099;%20&#1083;&#1080;&#1096;&#1072;&#1081;&#1085;&#1080;&#1082;&#1072;%20&#1076;&#1083;&#1103;%20&#1088;&#1072;&#1079;&#1084;&#1085;&#1086;&#1078;&#1077;&#1085;&#1080;&#1103;&amp;img_url=http%3A%2F%2Fdic.academic.ru%2Fpictures%2Fenc_biology%2Fplants%2Fris._3_312.jpg&amp;pos=0&amp;uinfo=sw-1124-sh-539-fw-899-fh-448-pd-1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8;&#1072;&#1079;&#1084;&#1085;&#1086;&#1078;&#1077;&#1085;&#1080;&#1077;%20&#1075;&#1088;&#1080;&#1073;&#1072;%20&#1089;&#1087;&#1086;&#1088;&#1072;&#1084;&#1080;&amp;img_url=http%3A%2F%2Ffictionbook.ru%2Fstatic%2Fbookimages%2F04%2F69%2F35%2F04693545.bin.dir%2Fh%2Fi_003.png&amp;pos=47&amp;uinfo=sw-1124-sh-539-fw-899-fh-448-pd-1&amp;rpt=simage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02.radikal.ru/i175/1010/c5/6782a76fe1a3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3;&#1080;&#1096;&#1072;&#1081;&#1085;&#1080;&#1082;&#1080;%20&#1074;%20&#1083;&#1077;&#1089;&#1091;&amp;img_url=http%3A%2F%2Fi031.radikal.ru%2F1211%2Fa5%2Fd0919c8eea35.jpg&amp;pos=61&amp;uinfo=sw-1124-sh-539-fw-899-fh-448-pd-1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&amp;text=&#1083;&#1080;&#1096;&#1072;&#1081;&#1085;&#1080;&#1082;&#1080;%20&#1074;%20%20&#1087;&#1072;&#1088;&#1082;&#1077;&amp;img_url=http%3A%2F%2Fnational-photographic.ru%2Fuploads%2Fimages%2F4%2Ff%2Fe%2F6%2F1050%2F0760218614.jpg&amp;pos=45&amp;uinfo=sw-1124-sh-539-fw-899-fh-448-pd-1&amp;rpt=simage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2&amp;text=&#1083;&#1080;&#1096;&#1072;&#1081;&#1085;&#1080;&#1082;&#1080;%20&#1074;%20%20&#1087;&#1072;&#1088;&#1082;&#1077;&amp;img_url=http%3A%2F%2Fheil0.gluek.info%2Fblog%2Fwp-content%2Fuploads%2F2013%2F07%2FDSC_6969-c-1024x682.jpg&amp;pos=62&amp;uinfo=sw-1124-sh-539-fw-899-fh-448-pd-1&amp;rpt=simage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p=3&amp;text=&#1083;&#1080;&#1096;&#1072;&#1081;&#1085;&#1080;&#1082;&#1080;%20&#1074;%20%20&#1087;&#1072;&#1088;&#1082;&#1077;&amp;img_url=http%3A%2F%2Fcs574.userapi.com%2Fg7025255%2Fa_d73a15b9.jpg&amp;pos=104&amp;uinfo=sw-1124-sh-539-fw-899-fh-448-pd-1&amp;rpt=simage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text=&#1083;&#1080;&#1096;&#1072;&#1081;&#1085;&#1080;&#1082;&#1080;%20&#1074;%20%20&#1075;&#1086;&#1088;&#1072;&#1093;&amp;img_url=http%3A%2F%2Fwww.pro-alp.ru%2FImages%2Fmyimages%2Flishajnik.jpg&amp;pos=2&amp;uinfo=sw-1124-sh-539-fw-899-fh-448-pd-1&amp;rpt=simage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yandex.ru/yandsearch?text=&#1083;&#1080;&#1096;&#1072;&#1081;&#1085;&#1080;&#1082;&#1080;%20&#1085;&#1072;%20&#1084;&#1086;&#1088;&#1089;&#1082;&#1086;&#1084;%20&#1073;&#1077;&#1088;&#1077;&#1075;&#1091;&amp;img_url=http%3A%2F%2Ffadr.msu.ru%2Fecophoto%2Farchive%2Frussian_land%2Ffall%2Fimg19.jpg&amp;pos=1&amp;uinfo=sw-1124-sh-539-fw-899-fh-448-pd-1&amp;rpt=simage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ages.yandex.ru/yandsearch?text=&#1040;&#1089;&#1087;&#1080;&#1094;&#1080;&#1083;&#1080;&#1103;%20%20&#1089;&#1098;&#1077;&#1076;&#1086;&#1073;&#1085;&#1072;&#1103;%20&amp;img_url=http%3A%2F%2Ffestival.1september.ru%2Farticles%2F563461%2Fimg4.jpg&amp;pos=5&amp;uinfo=sw-1124-sh-539-fw-899-fh-448-pd-1&amp;rpt=simage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3959280" cy="259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549360"/>
            <a:ext cx="360036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429000"/>
            <a:ext cx="3816360" cy="290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bp21.org.by/p/book/bpwh13.jpg"/>
          <p:cNvPicPr/>
          <p:nvPr/>
        </p:nvPicPr>
        <p:blipFill>
          <a:blip r:embed="rId7"/>
          <a:stretch/>
        </p:blipFill>
        <p:spPr>
          <a:xfrm>
            <a:off x="4859280" y="355428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13000"/>
            <a:ext cx="7416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413000"/>
            <a:ext cx="3992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413000"/>
            <a:ext cx="5771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413000"/>
            <a:ext cx="4905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РАЗМНОЖЕНИЕ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98520"/>
            <a:ext cx="4680000" cy="3264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706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0"/>
          <p:cNvSpPr/>
          <p:nvPr/>
        </p:nvSpPr>
        <p:spPr>
          <a:xfrm>
            <a:off x="0" y="2852640"/>
            <a:ext cx="3132000" cy="1728720"/>
          </a:xfrm>
          <a:prstGeom prst="cloudCallout">
            <a:avLst>
              <a:gd name="adj1" fmla="val 43462"/>
              <a:gd name="adj2" fmla="val -98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орм дл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132000" y="2708280"/>
            <a:ext cx="2916360" cy="1728720"/>
          </a:xfrm>
          <a:prstGeom prst="cloudCallout">
            <a:avLst>
              <a:gd name="adj1" fmla="val -3726"/>
              <a:gd name="adj2" fmla="val -103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ища чело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5940360" y="2637000"/>
            <a:ext cx="3203640" cy="1728720"/>
          </a:xfrm>
          <a:prstGeom prst="cloudCallout">
            <a:avLst>
              <a:gd name="adj1" fmla="val -51587"/>
              <a:gd name="adj2" fmla="val -94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0" y="5129280"/>
            <a:ext cx="4248000" cy="1728720"/>
          </a:xfrm>
          <a:prstGeom prst="cloudCallout">
            <a:avLst>
              <a:gd name="adj1" fmla="val 32361"/>
              <a:gd name="adj2" fmla="val -233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Сырьё для парфюмерной промышл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3492360" y="4437000"/>
            <a:ext cx="3203640" cy="1728720"/>
          </a:xfrm>
          <a:prstGeom prst="cloudCallout">
            <a:avLst>
              <a:gd name="adj1" fmla="val 13379"/>
              <a:gd name="adj2" fmla="val -242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раси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5724360" y="4869000"/>
            <a:ext cx="3419640" cy="1728720"/>
          </a:xfrm>
          <a:prstGeom prst="cloudCallout">
            <a:avLst>
              <a:gd name="adj1" fmla="val 15689"/>
              <a:gd name="adj2" fmla="val -242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Индикаторы воздух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ЗНАЧЕНИЕ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959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м – стр. 28-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ние на выб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ставить кроссворд по теме «Лишайники»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ценка – «4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умайте и ответьте, почему лишайники называют “пионерами растительного покрова”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т представьте в интересной форме (в виде рисунков, стихов и т.д.)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ценка –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03" descr="Картинка 46 из 29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04"/>
          <p:cNvSpPr txBox="1"/>
          <p:nvPr/>
        </p:nvSpPr>
        <p:spPr>
          <a:xfrm>
            <a:off x="324000" y="1484280"/>
            <a:ext cx="8496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"ЛИШАЙНИКИ"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РЕДА ОБИТАНИЯ ЛИШАЙ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1700280"/>
            <a:ext cx="2879640" cy="1919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4221000"/>
            <a:ext cx="2663640" cy="177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1700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3640" y="4221000"/>
            <a:ext cx="2663640" cy="17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221000"/>
            <a:ext cx="2736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ТИПЫ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aloplaca_cirrochroa"/>
          <p:cNvPicPr/>
          <p:nvPr/>
        </p:nvPicPr>
        <p:blipFill>
          <a:blip r:embed="rId1"/>
          <a:stretch/>
        </p:blipFill>
        <p:spPr>
          <a:xfrm>
            <a:off x="0" y="1268280"/>
            <a:ext cx="3421080" cy="253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ile0002"/>
          <p:cNvPicPr/>
          <p:nvPr/>
        </p:nvPicPr>
        <p:blipFill>
          <a:blip r:embed="rId2"/>
          <a:stretch/>
        </p:blipFill>
        <p:spPr>
          <a:xfrm>
            <a:off x="3708360" y="1268280"/>
            <a:ext cx="237492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ladonia botrytes"/>
          <p:cNvPicPr/>
          <p:nvPr/>
        </p:nvPicPr>
        <p:blipFill>
          <a:blip r:embed="rId3"/>
          <a:stretch/>
        </p:blipFill>
        <p:spPr>
          <a:xfrm>
            <a:off x="6227640" y="1268280"/>
            <a:ext cx="291636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0" y="4292640"/>
          <a:ext cx="9144000" cy="2281320"/>
        </p:xfrm>
        <a:graphic>
          <a:graphicData uri="http://schemas.openxmlformats.org/drawingml/2006/table">
            <a:tbl>
              <a:tblPr/>
              <a:tblGrid>
                <a:gridCol w="3051000"/>
                <a:gridCol w="3105360"/>
                <a:gridCol w="29876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кип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о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ру дере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истова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чешуек, розеток,разрезанных налопасти крупных пласти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стист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столбиков или л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ВНУТРЕННЕЕ СТРОЕНИЕ СЛОЕВИЩА (ТАЛЛО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001240"/>
            <a:ext cx="42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мотрел кору на ветке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квозь стекло точеное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ам в ячейках белой сетки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ыбки спят зел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троение лишайников.WMV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2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биолог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572000" y="262800"/>
            <a:ext cx="4321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ишайники — это комплексные организмы, которые состоят из гифов гриба и одноклеточных водорослей, находящихся в симбиотических связях друг с другом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Центария исландская"/>
          <p:cNvPicPr/>
          <p:nvPr/>
        </p:nvPicPr>
        <p:blipFill>
          <a:blip r:embed="rId1"/>
          <a:stretch/>
        </p:blipFill>
        <p:spPr>
          <a:xfrm>
            <a:off x="0" y="0"/>
            <a:ext cx="44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Рисунок1"/>
          <p:cNvPicPr/>
          <p:nvPr/>
        </p:nvPicPr>
        <p:blipFill>
          <a:blip r:embed="rId1"/>
          <a:stretch/>
        </p:blipFill>
        <p:spPr>
          <a:xfrm>
            <a:off x="4427640" y="3317760"/>
            <a:ext cx="4716360" cy="353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2000" y="349920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пицилия  съедоб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ИТАНИЕ ЛИШАЙ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в тип питания лишай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биолог-2"/>
          <p:cNvPicPr/>
          <p:nvPr/>
        </p:nvPicPr>
        <p:blipFill>
          <a:blip r:embed="rId1"/>
          <a:stretch/>
        </p:blipFill>
        <p:spPr>
          <a:xfrm>
            <a:off x="2050920" y="126828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0:37:30Z</dcterms:created>
  <dc:creator>Елена</dc:creator>
  <dc:description/>
  <dc:language>en-US</dc:language>
  <cp:lastModifiedBy>Елена</cp:lastModifiedBy>
  <dcterms:modified xsi:type="dcterms:W3CDTF">2013-10-01T15:50:08Z</dcterms:modified>
  <cp:revision>2</cp:revision>
  <dc:subject/>
  <dc:title>Слайд 1</dc:title>
</cp:coreProperties>
</file>