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B4DA-FC0A-419D-B51A-2EA39008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CF77-FE8C-41EA-A8D4-46C886CF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4358-DF0B-4529-800E-E10F41BAF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2E0B-6698-4932-ABA2-87B7DE7C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870F-66B7-4466-8217-7CA4FD4E7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4ABA-C437-4A77-B7BB-61F46725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3602-27C1-42DD-BAE9-4B1EC528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8F90-1989-4801-B76B-BB35790D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263C-B31D-4687-9FAB-39E1C93E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B617-BC18-46C1-82BD-394EA2EF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7F1A-BC44-49FB-9237-D87A6891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2EA-E67F-42B2-A1FE-09C7A085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728C-5E65-4C99-959F-ACDC45F9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E115-6DE5-42EA-B938-BCEC58F0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521B-2C2C-437B-B947-AC96000C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48F8-B443-4F39-8B94-B666FCEA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4432-24B1-4EF6-B38F-FFAFF832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D962-15AC-4B69-9F21-BBFE91B1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504D-1E13-44A1-8F1F-8D7EE7C7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F2FC-616E-4D52-955D-6BCF12B7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22BD-7674-4936-8FD2-36D86159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73B6-FEE2-4BA0-B1EA-15B470B7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41EB-18D6-448B-A019-EB71F836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3223-B819-4755-8633-3054CDC2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f4430">
                  <a:alpha val="45098"/>
                </a:srgbClr>
              </a:gs>
              <a:gs pos="100000">
                <a:srgbClr val="b1766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a6156">
                  <a:alpha val="45098"/>
                </a:srgbClr>
              </a:gs>
              <a:gs pos="100000">
                <a:srgbClr val="a04f3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a5644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b58b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c398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382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3FBF-5D85-4D07-BEC4-766E7FCFD780}" type="slidenum">
              <a:rPr b="0" lang="ru-RU" sz="1200" spc="-1" strike="noStrike">
                <a:solidFill>
                  <a:srgbClr val="4a382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f4430">
                  <a:alpha val="45098"/>
                </a:srgbClr>
              </a:gs>
              <a:gs pos="100000">
                <a:srgbClr val="b1766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8a6156">
                  <a:alpha val="45098"/>
                </a:srgbClr>
              </a:gs>
              <a:gs pos="100000">
                <a:srgbClr val="a04f3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a5644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b58b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c398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382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BFC2-9F68-4563-BCFB-1E5F5E7A319C}" type="slidenum">
              <a:rPr b="0" lang="ru-RU" sz="1200" spc="-1" strike="noStrike">
                <a:solidFill>
                  <a:srgbClr val="4a382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4e3b30"/>
              </a:solidFill>
              <a:latin typeface="Calibri"/>
            </a:endParaRPr>
          </a:p>
        </p:txBody>
      </p:sp>
      <p:pic>
        <p:nvPicPr>
          <p:cNvPr id="96" name="Picture 2" descr="C:\Documents and Settings\Дом\Рабочий стол\100OLYMP\P1010078.JPG"/>
          <p:cNvPicPr/>
          <p:nvPr/>
        </p:nvPicPr>
        <p:blipFill>
          <a:blip r:embed="rId1"/>
          <a:stretch/>
        </p:blipFill>
        <p:spPr>
          <a:xfrm>
            <a:off x="2517840" y="1878120"/>
            <a:ext cx="3979800" cy="4046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Documents and Settings\Дом\Рабочий стол\100OLYMP\P1010064.JPG"/>
          <p:cNvPicPr/>
          <p:nvPr/>
        </p:nvPicPr>
        <p:blipFill>
          <a:blip r:embed="rId2"/>
          <a:stretch/>
        </p:blipFill>
        <p:spPr>
          <a:xfrm>
            <a:off x="585720" y="2590920"/>
            <a:ext cx="1292400" cy="3754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Дом\Рабочий стол\100OLYMP\P1010064.JPG"/>
          <p:cNvPicPr/>
          <p:nvPr/>
        </p:nvPicPr>
        <p:blipFill>
          <a:blip r:embed="rId3"/>
          <a:stretch/>
        </p:blipFill>
        <p:spPr>
          <a:xfrm>
            <a:off x="7229520" y="2730600"/>
            <a:ext cx="1554120" cy="3762360"/>
          </a:xfrm>
          <a:prstGeom prst="rect">
            <a:avLst/>
          </a:prstGeom>
          <a:ln w="0">
            <a:noFill/>
          </a:ln>
        </p:spPr>
      </p:pic>
      <p:sp>
        <p:nvSpPr>
          <p:cNvPr id="99" name="Блок-схема: перфолента 6"/>
          <p:cNvSpPr/>
          <p:nvPr/>
        </p:nvSpPr>
        <p:spPr>
          <a:xfrm>
            <a:off x="2071800" y="571680"/>
            <a:ext cx="5357880" cy="1071360"/>
          </a:xfrm>
          <a:prstGeom prst="flowChartPunchedTap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TextBox 7" descr=""/>
          <p:cNvPicPr/>
          <p:nvPr/>
        </p:nvPicPr>
        <p:blipFill>
          <a:blip r:embed="rId4"/>
          <a:stretch/>
        </p:blipFill>
        <p:spPr>
          <a:xfrm>
            <a:off x="2712960" y="658800"/>
            <a:ext cx="4151520" cy="77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08:20:40Z</dcterms:created>
  <dc:creator>Дима</dc:creator>
  <dc:description/>
  <dc:language>en-US</dc:language>
  <cp:lastModifiedBy>Admin</cp:lastModifiedBy>
  <dcterms:modified xsi:type="dcterms:W3CDTF">2014-01-26T16:09:57Z</dcterms:modified>
  <cp:revision>69</cp:revision>
  <dc:subject/>
  <dc:title>Творческий проект  «Моя кукла».</dc:title>
</cp:coreProperties>
</file>