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F61-9495-4438-B607-5FFA4DCE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1B9-4F38-4A5C-B406-5A56F475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A57-C83A-4E73-A0F3-2E228AD7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724-4314-402E-83F8-15E59CE3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FC67-030A-49E4-A15C-4F8E1FF6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2820-76F9-4612-98EB-3C05BD76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CF28-5E39-4481-B7D6-E9E0CA8F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5E20-E77D-4265-A082-44B6EA4C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9E48-3BB0-45AB-9D0C-556B8CBE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F562-9154-44A4-8F47-96282CC9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25AD-A6C9-4552-85CF-43384CF7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53D-C592-4C63-B217-8099D983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768B-0B29-4B8E-9A1A-D1B00952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855A-ACA4-4757-A0D0-84FE98C4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5BE6-6CF4-45AA-BE0B-0FC0E8C4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AF5C-C55F-4A6E-ADAC-C9E1C01E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086B-6818-422E-B323-88DA0FCD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DC3-18F2-4902-8B22-96E8A32A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C8C-D323-405A-A9E9-88227AF2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FC5-AF6C-44A8-AB50-E54A3E90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957-17B8-4341-AD25-AC6CFE7E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26A-B8FB-443C-8E58-DA91991A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602-51B0-4580-AABC-CF0BDF4C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C63-90E3-4128-A62E-582A3B16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943F-9EBB-46E1-8840-9AA5BB015AA3}" type="slidenum">
              <a:rPr b="0" lang="ru-RU" sz="1200" spc="-1" strike="noStrike">
                <a:solidFill>
                  <a:srgbClr val="4a382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58b8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b58b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c398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D43C-CCFF-4084-BB4B-919D8F17DC0A}" type="slidenum">
              <a:rPr b="0" lang="ru-RU" sz="1200" spc="-1" strike="noStrike">
                <a:solidFill>
                  <a:srgbClr val="4a382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4e3b30"/>
              </a:solidFill>
              <a:latin typeface="Calibri"/>
            </a:endParaRPr>
          </a:p>
        </p:txBody>
      </p:sp>
      <p:pic>
        <p:nvPicPr>
          <p:cNvPr id="96" name="Picture 2" descr="C:\Documents and Settings\Дом\Рабочий стол\100OLYMP\P1010078.JPG"/>
          <p:cNvPicPr/>
          <p:nvPr/>
        </p:nvPicPr>
        <p:blipFill>
          <a:blip r:embed="rId1"/>
          <a:stretch/>
        </p:blipFill>
        <p:spPr>
          <a:xfrm>
            <a:off x="2517840" y="1878120"/>
            <a:ext cx="3979800" cy="4046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Дом\Рабочий стол\100OLYMP\P1010064.JPG"/>
          <p:cNvPicPr/>
          <p:nvPr/>
        </p:nvPicPr>
        <p:blipFill>
          <a:blip r:embed="rId2"/>
          <a:stretch/>
        </p:blipFill>
        <p:spPr>
          <a:xfrm>
            <a:off x="585720" y="2590920"/>
            <a:ext cx="1292400" cy="3754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Дом\Рабочий стол\100OLYMP\P1010064.JPG"/>
          <p:cNvPicPr/>
          <p:nvPr/>
        </p:nvPicPr>
        <p:blipFill>
          <a:blip r:embed="rId3"/>
          <a:stretch/>
        </p:blipFill>
        <p:spPr>
          <a:xfrm>
            <a:off x="7229520" y="2730600"/>
            <a:ext cx="1554120" cy="3762360"/>
          </a:xfrm>
          <a:prstGeom prst="rect">
            <a:avLst/>
          </a:prstGeom>
          <a:ln w="0">
            <a:noFill/>
          </a:ln>
        </p:spPr>
      </p:pic>
      <p:sp>
        <p:nvSpPr>
          <p:cNvPr id="99" name="Блок-схема: перфолента 6"/>
          <p:cNvSpPr/>
          <p:nvPr/>
        </p:nvSpPr>
        <p:spPr>
          <a:xfrm>
            <a:off x="2071800" y="571680"/>
            <a:ext cx="5357880" cy="1071360"/>
          </a:xfrm>
          <a:prstGeom prst="flowChartPunchedTap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extBox 7" descr=""/>
          <p:cNvPicPr/>
          <p:nvPr/>
        </p:nvPicPr>
        <p:blipFill>
          <a:blip r:embed="rId4"/>
          <a:stretch/>
        </p:blipFill>
        <p:spPr>
          <a:xfrm>
            <a:off x="2712960" y="658800"/>
            <a:ext cx="4151520" cy="77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8:20:40Z</dcterms:created>
  <dc:creator>Дима</dc:creator>
  <dc:description/>
  <dc:language>en-US</dc:language>
  <cp:lastModifiedBy>Admin</cp:lastModifiedBy>
  <dcterms:modified xsi:type="dcterms:W3CDTF">2014-01-26T16:09:57Z</dcterms:modified>
  <cp:revision>69</cp:revision>
  <dc:subject/>
  <dc:title>Творческий проект  «Моя кукла».</dc:title>
</cp:coreProperties>
</file>