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917-BDE3-49C7-B58D-17FDD470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E27-727D-4E59-9874-E94D984E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A8E-1F9A-4B00-BA6C-88EA83AF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77A-8EB9-4348-AC4A-E2AB9A3F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DC91-4EFC-4F50-A4E6-F8E528CB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0F10-37EC-4020-8E9D-767BDD33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D644-4DF2-4D98-94BA-EF7C2CD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AAC1-CD17-47C8-A6D4-8E2B4FFE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2A4D-049B-40A9-94C4-C102291A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7F0B-1181-4914-8AA5-6900810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D4F1-E103-4384-9ECF-B14C313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493-D28F-4318-B62F-81756729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D7A8-B20B-4A47-9E88-E9F3C3C7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60CA-CEBD-41C2-ADE9-DEAE7CA4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89F6-5375-4533-8D9B-9A2F55BE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5159-DE7E-48F9-8699-E7876E2D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57B2-740A-4BDF-8054-403C9471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B29-4FB8-41A4-9142-949CDC5D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EDE-DB42-406D-8F80-E5711AC0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094-03E2-4CBB-BC14-28A0A287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2FE-8B2D-4EC0-ACD7-1D8702AF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805-EA4C-42A0-AEC0-4E0243FF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937-B75A-4453-878F-E4CBFE4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16F-CFAB-4ABB-9205-723A5F0A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E41B-934B-47D1-AE08-61F0BEE2E84E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AE90-5586-4A0F-9549-7FC19057B2C5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96" name="Picture 2" descr="C:\Documents and Settings\Дом\Рабочий стол\100OLYMP\P1010080.JPG"/>
          <p:cNvPicPr/>
          <p:nvPr/>
        </p:nvPicPr>
        <p:blipFill>
          <a:blip r:embed="rId1"/>
          <a:stretch/>
        </p:blipFill>
        <p:spPr>
          <a:xfrm>
            <a:off x="182520" y="1536840"/>
            <a:ext cx="3419640" cy="4041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Дом\Рабочий стол\100OLYMP\P1010049.JPG"/>
          <p:cNvPicPr/>
          <p:nvPr/>
        </p:nvPicPr>
        <p:blipFill>
          <a:blip r:embed="rId2"/>
          <a:stretch/>
        </p:blipFill>
        <p:spPr>
          <a:xfrm>
            <a:off x="3670200" y="1316160"/>
            <a:ext cx="2444760" cy="22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Дом\Рабочий стол\100OLYMP\P1010052.JPG"/>
          <p:cNvPicPr/>
          <p:nvPr/>
        </p:nvPicPr>
        <p:blipFill>
          <a:blip r:embed="rId3"/>
          <a:stretch/>
        </p:blipFill>
        <p:spPr>
          <a:xfrm>
            <a:off x="6315120" y="384120"/>
            <a:ext cx="2584440" cy="3664080"/>
          </a:xfrm>
          <a:prstGeom prst="rect">
            <a:avLst/>
          </a:prstGeom>
          <a:ln w="0">
            <a:noFill/>
          </a:ln>
        </p:spPr>
      </p:pic>
      <p:sp>
        <p:nvSpPr>
          <p:cNvPr id="99" name="Блок-схема: перфолента 9"/>
          <p:cNvSpPr/>
          <p:nvPr/>
        </p:nvSpPr>
        <p:spPr>
          <a:xfrm>
            <a:off x="571680" y="357120"/>
            <a:ext cx="5500440" cy="1000080"/>
          </a:xfrm>
          <a:prstGeom prst="flowChartPunchedTap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укла «Стриг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Documents and Settings\Дом\Рабочий стол\100OLYMP\P1010060.JPG"/>
          <p:cNvPicPr/>
          <p:nvPr/>
        </p:nvPicPr>
        <p:blipFill>
          <a:blip r:embed="rId4"/>
          <a:stretch/>
        </p:blipFill>
        <p:spPr>
          <a:xfrm>
            <a:off x="3657600" y="3657600"/>
            <a:ext cx="405432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8:20:40Z</dcterms:created>
  <dc:creator>Дима</dc:creator>
  <dc:description/>
  <dc:language>en-US</dc:language>
  <cp:lastModifiedBy>Admin</cp:lastModifiedBy>
  <dcterms:modified xsi:type="dcterms:W3CDTF">2014-01-26T16:10:16Z</dcterms:modified>
  <cp:revision>68</cp:revision>
  <dc:subject/>
  <dc:title>Творческий проект  «Моя кукла».</dc:title>
</cp:coreProperties>
</file>