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E86-5D7A-40E6-804C-28344138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992-E59B-4743-B1D5-3CACD19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6E6-F40F-48C7-958E-27AEAA65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ED9-1512-4D0B-BAF7-D7721514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887-0D2E-4395-9396-E8D5B37B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3798-6C2D-4805-B658-45EFC9B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A7D3-CB17-4856-AC38-B1DDAA11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CAE-B569-4210-AAE2-EB1F1ED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6F27-0C35-4C63-8495-B2FC9414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690A-8A7E-461F-BD39-F89F1240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78DF-147A-41C2-BC8C-0EDD564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0A4-63F7-4E5D-A44F-C74EACBE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BA50-59C1-48D0-BC18-9848308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C92-4320-4784-AFBE-53FE767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E52B-154A-44B2-8B41-BA4E6967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30AA-64FA-4190-A8B9-A9E529CA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3418-02D9-4CFA-8678-084AF078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373-3373-4C3C-9E2E-42E20EB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3B2-444D-4A35-9285-6246227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7A9-EDFC-4FE9-A080-D98DD708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5DB-67A6-47B4-8202-D4FCEC47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C0F-A9AA-4C2F-BDFF-8A0B5D98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3BC-3B14-47E6-86C6-99EABDF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027-0817-4511-84C8-5A4014CC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AD3-1AEF-44E4-8345-2F1CC64DE189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1A40-DE8D-4C6C-B614-9CFDEB3E469E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96" name="Picture 2" descr="C:\Documents and Settings\Дом\Рабочий стол\100OLYMP\P1010080.JPG"/>
          <p:cNvPicPr/>
          <p:nvPr/>
        </p:nvPicPr>
        <p:blipFill>
          <a:blip r:embed="rId1"/>
          <a:stretch/>
        </p:blipFill>
        <p:spPr>
          <a:xfrm>
            <a:off x="182520" y="1536840"/>
            <a:ext cx="3419640" cy="4041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Дом\Рабочий стол\100OLYMP\P1010049.JPG"/>
          <p:cNvPicPr/>
          <p:nvPr/>
        </p:nvPicPr>
        <p:blipFill>
          <a:blip r:embed="rId2"/>
          <a:stretch/>
        </p:blipFill>
        <p:spPr>
          <a:xfrm>
            <a:off x="3670200" y="1316160"/>
            <a:ext cx="2444760" cy="2262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Дом\Рабочий стол\100OLYMP\P1010052.JPG"/>
          <p:cNvPicPr/>
          <p:nvPr/>
        </p:nvPicPr>
        <p:blipFill>
          <a:blip r:embed="rId3"/>
          <a:stretch/>
        </p:blipFill>
        <p:spPr>
          <a:xfrm>
            <a:off x="6315120" y="384120"/>
            <a:ext cx="2584440" cy="3664080"/>
          </a:xfrm>
          <a:prstGeom prst="rect">
            <a:avLst/>
          </a:prstGeom>
          <a:ln w="0">
            <a:noFill/>
          </a:ln>
        </p:spPr>
      </p:pic>
      <p:sp>
        <p:nvSpPr>
          <p:cNvPr id="99" name="Блок-схема: перфолента 9"/>
          <p:cNvSpPr/>
          <p:nvPr/>
        </p:nvSpPr>
        <p:spPr>
          <a:xfrm>
            <a:off x="571680" y="357120"/>
            <a:ext cx="5500440" cy="100008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укла «Стриг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Documents and Settings\Дом\Рабочий стол\100OLYMP\P1010060.JPG"/>
          <p:cNvPicPr/>
          <p:nvPr/>
        </p:nvPicPr>
        <p:blipFill>
          <a:blip r:embed="rId4"/>
          <a:stretch/>
        </p:blipFill>
        <p:spPr>
          <a:xfrm>
            <a:off x="3657600" y="3657600"/>
            <a:ext cx="405432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20:40Z</dcterms:created>
  <dc:creator>Дима</dc:creator>
  <dc:description/>
  <dc:language>en-US</dc:language>
  <cp:lastModifiedBy>Admin</cp:lastModifiedBy>
  <dcterms:modified xsi:type="dcterms:W3CDTF">2014-01-26T16:10:16Z</dcterms:modified>
  <cp:revision>68</cp:revision>
  <dc:subject/>
  <dc:title>Творческий проект  «Моя кукла».</dc:title>
</cp:coreProperties>
</file>