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11C-617F-48FD-81F1-D1944936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7FA-907B-4CF1-8D1C-DC5F4A9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56A-4DCA-42A6-81E4-769F0348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0DC-A9D8-47F1-AF0A-5DF5564F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20C9-E419-467C-A719-E125D37A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A147-EC41-4760-8C75-D46ADFD0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428-A458-4E5C-8221-3ACDC94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3FF-498C-4918-B363-6175608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3457-77D3-47B4-A599-89E369D5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FDF-0D1A-4A63-A273-AC239C7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9C8D-D5D8-43D9-880B-5D9BC35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706-8FF6-4E3F-88FC-4D4D6332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4BB-F4CE-45A2-A824-80D3F77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6DEC-0AA7-44B5-BEB1-A446E91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CEA2-DEA2-4F73-8423-F7C3F123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6AC2-6E32-4A90-93F7-32500183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EB5-1AD6-494F-A44F-00FE6920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D46-3505-4DA1-90A9-5580DD8F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873-803B-48DD-AA20-1A84A89B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49E-325D-4A4E-B180-2C4E843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F4E-96E7-47D5-A029-60AB589F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507-5507-44C4-AF45-6514465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418-F4F2-40CA-94FB-932BAC8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412-6FA9-4C00-B4A3-1F7622E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32E5-0876-4A37-B512-9600A4AC0B93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2B3-13FF-4CC6-AB5E-94D1C591C050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Блок-схема: перфолента 6"/>
          <p:cNvSpPr/>
          <p:nvPr/>
        </p:nvSpPr>
        <p:spPr>
          <a:xfrm>
            <a:off x="3143160" y="1714680"/>
            <a:ext cx="2643120" cy="228600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эту куколку сделаю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dmin\Рабочий стол\Новая папка (4)\DSC02737.jpg"/>
          <p:cNvPicPr/>
          <p:nvPr/>
        </p:nvPicPr>
        <p:blipFill>
          <a:blip r:embed="rId1"/>
          <a:stretch/>
        </p:blipFill>
        <p:spPr>
          <a:xfrm>
            <a:off x="158760" y="871560"/>
            <a:ext cx="2975040" cy="2262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Новая папка (4)\DSC02740.jpg"/>
          <p:cNvPicPr/>
          <p:nvPr/>
        </p:nvPicPr>
        <p:blipFill>
          <a:blip r:embed="rId2"/>
          <a:stretch/>
        </p:blipFill>
        <p:spPr>
          <a:xfrm>
            <a:off x="5803920" y="944640"/>
            <a:ext cx="3164040" cy="240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Новая папка (4)\DSC02742.jpg"/>
          <p:cNvPicPr/>
          <p:nvPr/>
        </p:nvPicPr>
        <p:blipFill>
          <a:blip r:embed="rId3"/>
          <a:stretch/>
        </p:blipFill>
        <p:spPr>
          <a:xfrm>
            <a:off x="231840" y="4017960"/>
            <a:ext cx="3498840" cy="2651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Admin\Рабочий стол\Новая папка (4)\DSC02744.jpg"/>
          <p:cNvPicPr/>
          <p:nvPr/>
        </p:nvPicPr>
        <p:blipFill>
          <a:blip r:embed="rId4"/>
          <a:stretch/>
        </p:blipFill>
        <p:spPr>
          <a:xfrm>
            <a:off x="5089680" y="3943440"/>
            <a:ext cx="3925800" cy="262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07:52Z</dcterms:modified>
  <cp:revision>64</cp:revision>
  <dc:subject/>
  <dc:title>Творческий проект  «Моя кукла».</dc:title>
</cp:coreProperties>
</file>