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DB6-289C-4F62-8280-2F1245F4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AE0-C4C8-4AB4-8C79-0BD70F96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B4B-8067-4946-8200-55609FDB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701-730F-40F0-ABA1-C9924E1E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6015-D7F2-47B4-8DF8-3FC0C928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4431-7A7C-4563-BE59-E443F8F5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D2C6-1179-44F3-87A4-037D7D55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517E-E6AB-4029-9A64-23B26E6E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05B1-9A04-4E3D-A0CB-38B9B863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FD72-A7C6-4998-8084-A233E167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210B-0F60-4175-9F63-D3CFA3A7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7A8-8C26-4554-98A4-755691BA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D86A-31FB-42CC-94C1-B6E30C1B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7097-42AF-4650-AF56-240D9689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DBA1-2609-467E-A7BE-04FBC6D5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BB96-5A85-4159-9FD1-E93BB211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7135-8E4B-4F79-A270-493E63DA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CD0-4E62-4E57-B610-476FBE3D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45BB-4F67-42A8-A71A-782AE1F8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3A3-8CF1-4282-9F5D-9261DDD0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496-8EE9-4032-B310-93F33EAD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504-7808-4F9C-8F93-195020A2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781-AD99-48F2-ACD6-F901EECB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A6F-C1B6-4820-8717-40B469D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FA54-1C60-4B88-993C-7DA1BAB25191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D911-FA9E-4CC9-9221-513E91483262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Блок-схема: перфолента 6"/>
          <p:cNvSpPr/>
          <p:nvPr/>
        </p:nvSpPr>
        <p:spPr>
          <a:xfrm>
            <a:off x="3143160" y="1714680"/>
            <a:ext cx="2643120" cy="2286000"/>
          </a:xfrm>
          <a:prstGeom prst="flowChartPunchedTap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 эту куколку сделаю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Admin\Рабочий стол\Новая папка (4)\DSC02737.jpg"/>
          <p:cNvPicPr/>
          <p:nvPr/>
        </p:nvPicPr>
        <p:blipFill>
          <a:blip r:embed="rId1"/>
          <a:stretch/>
        </p:blipFill>
        <p:spPr>
          <a:xfrm>
            <a:off x="158760" y="871560"/>
            <a:ext cx="2975040" cy="2262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Новая папка (4)\DSC02740.jpg"/>
          <p:cNvPicPr/>
          <p:nvPr/>
        </p:nvPicPr>
        <p:blipFill>
          <a:blip r:embed="rId2"/>
          <a:stretch/>
        </p:blipFill>
        <p:spPr>
          <a:xfrm>
            <a:off x="5803920" y="944640"/>
            <a:ext cx="3164040" cy="240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Новая папка (4)\DSC02742.jpg"/>
          <p:cNvPicPr/>
          <p:nvPr/>
        </p:nvPicPr>
        <p:blipFill>
          <a:blip r:embed="rId3"/>
          <a:stretch/>
        </p:blipFill>
        <p:spPr>
          <a:xfrm>
            <a:off x="231840" y="4017960"/>
            <a:ext cx="3498840" cy="2651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Admin\Рабочий стол\Новая папка (4)\DSC02744.jpg"/>
          <p:cNvPicPr/>
          <p:nvPr/>
        </p:nvPicPr>
        <p:blipFill>
          <a:blip r:embed="rId4"/>
          <a:stretch/>
        </p:blipFill>
        <p:spPr>
          <a:xfrm>
            <a:off x="5089680" y="3943440"/>
            <a:ext cx="3925800" cy="262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8:20:40Z</dcterms:created>
  <dc:creator>Дима</dc:creator>
  <dc:description/>
  <dc:language>en-US</dc:language>
  <cp:lastModifiedBy>Admin</cp:lastModifiedBy>
  <dcterms:modified xsi:type="dcterms:W3CDTF">2014-01-26T16:07:52Z</dcterms:modified>
  <cp:revision>64</cp:revision>
  <dc:subject/>
  <dc:title>Творческий проект  «Моя кукла».</dc:title>
</cp:coreProperties>
</file>