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media/image13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B74A-345A-4173-A7D8-E704F6AB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E066-3F12-43FD-AC15-F6365648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54A-8BAA-462A-B811-4D6D7AA9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860A-61AC-40B0-BA9E-DAF1FA17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6A44-0725-4253-B8EB-22A5F61F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B4A4-EB8D-40D6-A609-1B54B611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7F18-CFE1-4DE6-9416-DE146A0E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8204-BB79-4820-84A0-28249A80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901A-A2C4-4A58-9192-8D1DE20F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D889-E636-4C94-BBEB-F95F56C8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3C94-4B43-4DF2-99CA-4983B29C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F49-2777-4F5C-AEB7-691DABC8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B8E5-409E-4724-A5F2-195DC5D0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4FF0-C667-49F0-99E9-3AD0BCE8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7D90-A010-424C-8A22-CA9ACA12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B6E2-4C57-43B0-8FD1-0F215B2F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E01D-57C7-4521-94B3-E3DAAF81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B9148-A723-4A82-94B5-415B6A07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75604-F07E-4CA5-89CC-D333C131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214C1-3318-41B3-8C42-B19472A5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B49BB-B4CF-4E39-872E-DE37A232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AE3A7-16BC-42FD-9B2A-38A0089B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5725-A2C5-4684-865F-B10BB852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76ECC-9FF1-4B7E-A292-200AD07B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64BA3-2BDF-4D34-A51B-553D7B63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0EFF7-D8C0-439C-9DF5-F1DB30E3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45A8E-A48F-4214-9266-ACE259CA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ADD9A-FCB5-400A-BD92-32E9295F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9B8AC-13B0-4DBC-989F-366D06DE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46748-0187-4A73-BA03-12241347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08625-0CA9-4A57-8432-FBCA50D4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64ADE-C5AF-4956-B5F7-CD810CB2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672AC-C596-4947-8CEE-51AC49A8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06EA-A07F-47E4-A7A9-F1E82770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C6A46-48B4-4D26-B2EF-0EACF268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D197A-A7E2-4E56-A81B-B157C692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52470-2F42-4078-9B5A-BCBEB0CF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4B808-9382-4723-9CE8-2BD0AEA4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2F0D2-26D5-41FE-9FBC-B1707E39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37D9D-42D5-4505-A245-558ADB8E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22145-C255-4B31-A9C9-36B141C3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F17D8-29EB-4648-93E0-F3C360FF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E62A5-DC5F-45C6-BD3A-0EA60224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1BFF-E360-489D-962E-E3A0CA4E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1482-731B-43B8-B074-D8E9F9BB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FBDE-3F99-4132-A692-B76A5209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B866-0ACD-44EA-9913-49845E4B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0C6A-39B5-4391-979F-68365BA1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AE0C-7840-46A6-BA79-4E40B74D3C3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E8CA-ABEF-416C-BCE9-5FC6DD0C9CDB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FF1F-410C-4862-85FA-D76781531A24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085F-9EC1-499E-ABA7-6E51A52D30A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Народные движения </a:t>
            </a:r>
            <a:br>
              <a:rPr sz="4500"/>
            </a:b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в середине </a:t>
            </a:r>
            <a:r>
              <a:rPr b="1" lang="en-US" sz="4500" spc="-1" strike="noStrike">
                <a:solidFill>
                  <a:srgbClr val="ff0000"/>
                </a:solidFill>
                <a:latin typeface="Calibri"/>
              </a:rPr>
              <a:t>XVII</a:t>
            </a: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 век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по истории в 7 класс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итель: Гусева Надежда Геннадьевна, высшая категория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КОУ СОШ №17 с.Борисов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Соляной бунт 1648 год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11" descr="2006-09-06-pic"/>
          <p:cNvPicPr/>
          <p:nvPr/>
        </p:nvPicPr>
        <p:blipFill>
          <a:blip r:embed="rId1"/>
          <a:stretch/>
        </p:blipFill>
        <p:spPr>
          <a:xfrm>
            <a:off x="285840" y="1857240"/>
            <a:ext cx="2990880" cy="4000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sbunt"/>
          <p:cNvPicPr/>
          <p:nvPr/>
        </p:nvPicPr>
        <p:blipFill>
          <a:blip r:embed="rId2"/>
          <a:stretch/>
        </p:blipFill>
        <p:spPr>
          <a:xfrm>
            <a:off x="3643200" y="2259000"/>
            <a:ext cx="5072040" cy="380376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Городские восста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00040" y="1571760"/>
          <a:ext cx="8186760" cy="5076720"/>
        </p:xfrm>
        <a:graphic>
          <a:graphicData uri="http://schemas.openxmlformats.org/drawingml/2006/table">
            <a:tbl>
              <a:tblPr/>
              <a:tblGrid>
                <a:gridCol w="2428920"/>
                <a:gridCol w="301464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ляной бу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дный бу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аты и с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ая рефор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участ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жане, стрель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и треб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нить налог на с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борь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хий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38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выступ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нён налог на соль (1647г.), стрельцам выплачено повышенное жалован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Медный бунт 166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5" descr="э лисснер медный бунт в москве"/>
          <p:cNvPicPr/>
          <p:nvPr/>
        </p:nvPicPr>
        <p:blipFill>
          <a:blip r:embed="rId1"/>
          <a:stretch/>
        </p:blipFill>
        <p:spPr>
          <a:xfrm>
            <a:off x="1684440" y="1935000"/>
            <a:ext cx="5775120" cy="43894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220" name="TextBox 4"/>
          <p:cNvSpPr/>
          <p:nvPr/>
        </p:nvSpPr>
        <p:spPr>
          <a:xfrm>
            <a:off x="5214960" y="200016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Calibri"/>
              </a:rPr>
              <a:t>Э.Лиссн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Calibri"/>
              </a:rPr>
              <a:t>Медный бунт</a:t>
            </a:r>
            <a:r>
              <a:rPr b="0" lang="ru-RU" sz="1800" spc="-1" strike="noStrike" u="sng">
                <a:solidFill>
                  <a:srgbClr val="660033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Городские восста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" y="1571760"/>
          <a:ext cx="8229600" cy="5073480"/>
        </p:xfrm>
        <a:graphic>
          <a:graphicData uri="http://schemas.openxmlformats.org/drawingml/2006/table">
            <a:tbl>
              <a:tblPr/>
              <a:tblGrid>
                <a:gridCol w="2471760"/>
                <a:gridCol w="3014640"/>
                <a:gridCol w="27432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ляной бу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дный бу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аты и с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ая рефор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ая рефор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участ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жане, стрель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жа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и треб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нить налог на с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нить медные день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борь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хий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хий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0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выступ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нён налог на соль (1647г.), стрельцам выплачено повышенное жалован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кращён выпуск медных дене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Выступления старообрядце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5" descr="в суриков боярыня морозова"/>
          <p:cNvPicPr/>
          <p:nvPr/>
        </p:nvPicPr>
        <p:blipFill>
          <a:blip r:embed="rId1"/>
          <a:stretch/>
        </p:blipFill>
        <p:spPr>
          <a:xfrm>
            <a:off x="295200" y="1571760"/>
            <a:ext cx="5027760" cy="3214440"/>
          </a:xfrm>
          <a:prstGeom prst="rect">
            <a:avLst/>
          </a:prstGeom>
          <a:ln w="41400">
            <a:solidFill>
              <a:srgbClr val="000000"/>
            </a:solidFill>
            <a:miter/>
          </a:ln>
        </p:spPr>
      </p:pic>
      <p:pic>
        <p:nvPicPr>
          <p:cNvPr id="225" name="Picture 8" descr="lestovka-27"/>
          <p:cNvPicPr/>
          <p:nvPr/>
        </p:nvPicPr>
        <p:blipFill>
          <a:blip r:embed="rId2"/>
          <a:stretch/>
        </p:blipFill>
        <p:spPr>
          <a:xfrm>
            <a:off x="4429080" y="3716280"/>
            <a:ext cx="4464000" cy="2959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Восстание   Степана Рази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15" descr="Рисунок1"/>
          <p:cNvPicPr/>
          <p:nvPr/>
        </p:nvPicPr>
        <p:blipFill>
          <a:blip r:embed="rId1"/>
          <a:stretch/>
        </p:blipFill>
        <p:spPr>
          <a:xfrm>
            <a:off x="785880" y="1835280"/>
            <a:ext cx="3174840" cy="38084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228" name=""/>
          <p:cNvSpPr txBox="1"/>
          <p:nvPr/>
        </p:nvSpPr>
        <p:spPr>
          <a:xfrm>
            <a:off x="4357440" y="1285920"/>
            <a:ext cx="4429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ост повинностей, налогов, оброков крестьян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ост налогов и чрезвычайных сборов посадского люд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худшение положения  населе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еурожа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эпидеми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облема беглых на Дону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Восстание   Степана Рази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57200" y="1935000"/>
          <a:ext cx="8229600" cy="3333960"/>
        </p:xfrm>
        <a:graphic>
          <a:graphicData uri="http://schemas.openxmlformats.org/drawingml/2006/table">
            <a:tbl>
              <a:tblPr/>
              <a:tblGrid>
                <a:gridCol w="3257640"/>
                <a:gridCol w="4971960"/>
              </a:tblGrid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вижение С. Раз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ы и сро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ч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ерри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став участн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ели и треб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ношение к вла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Восстание   Степана Рази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57200" y="1935000"/>
          <a:ext cx="8229600" cy="4694400"/>
        </p:xfrm>
        <a:graphic>
          <a:graphicData uri="http://schemas.openxmlformats.org/drawingml/2006/table">
            <a:tbl>
              <a:tblPr/>
              <a:tblGrid>
                <a:gridCol w="3257640"/>
                <a:gridCol w="4971960"/>
              </a:tblGrid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вижение С. Раз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ы и сро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7-16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ч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ощение крестьян, рост повинност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ерри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л, Поволжье, До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став участн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ки, крестьяне, мордва, татары, чуваши, череми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ели и треб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на крепостного пра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ношение к вла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ь–заступник.  Дворяне, бояре -изменники и кровопийцы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стание подавлен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91908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Причины  поражения восстания С.Т. Рази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Picture 1031" descr="Рисунок3"/>
          <p:cNvPicPr/>
          <p:nvPr/>
        </p:nvPicPr>
        <p:blipFill>
          <a:blip r:embed="rId1"/>
          <a:stretch/>
        </p:blipFill>
        <p:spPr>
          <a:xfrm>
            <a:off x="357120" y="2071800"/>
            <a:ext cx="3840120" cy="39290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23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nstantia"/>
              </a:rPr>
              <a:t>стихийность, низкая организованность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3100" spc="-1" strike="noStrike">
                <a:solidFill>
                  <a:srgbClr val="000000"/>
                </a:solidFill>
                <a:latin typeface="Constantia"/>
              </a:rPr>
              <a:t>отсутствие четких целей у восставших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3100" spc="-1" strike="noStrike">
                <a:solidFill>
                  <a:srgbClr val="000000"/>
                </a:solidFill>
                <a:latin typeface="Constantia"/>
              </a:rPr>
              <a:t>разнородный социальный состав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3100" spc="-1" strike="noStrike">
                <a:solidFill>
                  <a:srgbClr val="000000"/>
                </a:solidFill>
                <a:latin typeface="Constantia"/>
              </a:rPr>
              <a:t>разрозненность действий крестьян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TextBox 5"/>
          <p:cNvSpPr/>
          <p:nvPr/>
        </p:nvSpPr>
        <p:spPr>
          <a:xfrm>
            <a:off x="285840" y="5929200"/>
            <a:ext cx="38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.Разина везут на ка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авюра к.17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Игра «ДА или НЕТ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.17 век вошёл в историю ка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)  Смутное врем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) Бунташный ве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) Век, в котором были окончательно закрепощены крестьян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.  «Поход за зипунами» означа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) Поход за военной добыч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) Покупка новой одежды каза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) Царь снаряжает казаков новым обмундирование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О ком идёт речь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ровел церковные реформы, вызвавшие раскол. Его вмешательство во внутреннюю и внешнюю политику государства под тезисом «священство выше царства» вызвало разрыв патриарха с царем.  Собором 1666-67 годов был лишён сана патриарха. Сослан на Север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атриарх Нико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ичинами народных выступлений в 17 веке был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) Закрепощение крестья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) Попытки ограничить крестьянскую вольниц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) Церковный раскол и расправа над старообрядца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4.  Что такое «прелестные письм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) Царские указ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) Красиво написанные пись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) Призывные письма С.Рази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5. В царствование Алексея Михайловича Тишайшего произошл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) Соляной бун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) Медный бун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) Церковный раско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1600200"/>
          <a:ext cx="6172200" cy="43974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87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7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7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7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7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430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&amp;  8, вопросы, даты, пересказ о любом движен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На  выбор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нквейн ил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исьменный ответ на вопрос «Чем вам понравился   Степан Разин. Что вам в нём не нравится» и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йти легенды и песни о Степане Разин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Индивидуальное  сообщение о Богдане Хмельницк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О ком идёт речь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уководитель старообрядцев. За свои взгляды был лишён места в московском Казанском соборе, заключен в монастырь.  За непокорность,  приговорён церковным Собором к казни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ротопоп Авваку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Народные движения </a:t>
            </a:r>
            <a:br>
              <a:rPr sz="4500"/>
            </a:b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в середине </a:t>
            </a:r>
            <a:r>
              <a:rPr b="1" lang="en-US" sz="4500" spc="-1" strike="noStrike">
                <a:solidFill>
                  <a:srgbClr val="ff0000"/>
                </a:solidFill>
                <a:latin typeface="Calibri"/>
              </a:rPr>
              <a:t>XVII</a:t>
            </a: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 век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1.Причины народных выступлений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2.Соляной бунт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3.Медный бунт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4. Выступление старообрядцев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5.Восстание под предводительством С.Разина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Задание на уро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чему народные выступления 17 века были обречены на поражен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Причины народных выступлений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) закрепощение крестьян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)  рост феодальных повинност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3) усиление налогового гнё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4) ведение почти непрерывных вой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5) попытки ограничить казачью вольн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6) усиление приказной волокит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7) церковный раскол и расправы над старообрядца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Работа в групп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1 гр. –стр. 62, документ, составление таблиц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2 гр. – стр.62 -63, документ, составление таблиц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3 гр. –стр.  67,  составить вопрос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Городские восста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57200" y="1357200"/>
          <a:ext cx="8229600" cy="5288040"/>
        </p:xfrm>
        <a:graphic>
          <a:graphicData uri="http://schemas.openxmlformats.org/drawingml/2006/table">
            <a:tbl>
              <a:tblPr/>
              <a:tblGrid>
                <a:gridCol w="2471760"/>
                <a:gridCol w="3014640"/>
                <a:gridCol w="2743200"/>
              </a:tblGrid>
              <a:tr h="387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ляной бу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дный бу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аты и с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участ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и треб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борь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1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выступ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Соляной бунт 1648 год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6" descr="Рисунок1"/>
          <p:cNvPicPr/>
          <p:nvPr/>
        </p:nvPicPr>
        <p:blipFill>
          <a:blip r:embed="rId1"/>
          <a:stretch/>
        </p:blipFill>
        <p:spPr>
          <a:xfrm>
            <a:off x="704880" y="1714680"/>
            <a:ext cx="7437240" cy="4500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севы</cp:lastModifiedBy>
  <dcterms:modified xsi:type="dcterms:W3CDTF">2014-01-26T14:13:40Z</dcterms:modified>
  <cp:revision>13</cp:revision>
  <dc:subject/>
  <dc:title>Народные движения в середине XVII века</dc:title>
</cp:coreProperties>
</file>