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23F-F9CA-4501-8CEF-DC8721E7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67F-F4F1-4F9D-A792-1599DF01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762-F1EE-4073-95FE-BCBF2431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505-A11E-4ED6-8417-5062BC19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58A-4583-4843-819F-836BBC57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17C6-A93D-4606-AF01-83C3AED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9976-652D-4CF5-8F1E-58063761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405B-AD17-4111-991A-6A1684C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AECA-7A97-4657-A379-19DF5387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9E1-3CF5-42FA-BD39-04266557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E432-9F44-440A-9701-3EC44CC2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39B-5662-431C-A72E-7B818EC7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DD2-DDE9-4144-94E6-FDCA7FA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B591-B798-438E-8DBD-F88EF23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6B71-0DF4-46DB-A283-9D078973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CDB-5496-4D04-81A4-0F149281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5879-55B3-45D2-9090-98E2C71A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46A2-4E73-4306-872D-9C57C567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9D08-9C15-4F81-A956-4B819328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7AAE-2A33-401F-AAE6-673D8528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F802-471C-4162-B61E-40A8D3B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FD40-19E4-420E-B04B-043FFBD1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DE9-E978-491A-BD6A-744B56B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59F9-2248-48D0-9DAA-304D0363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F7CF-E609-4305-AA52-3ACF33F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9030-B5B3-418D-B790-81B27BE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43E0-BC43-45E1-98B8-FA840D2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FDDD-55F0-44A3-B624-3EAB046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E109-4006-4F0A-A194-1B77CF3D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0CEF-3BDB-4350-93A3-917C706D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224D-E239-4030-94BC-1358094F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7A0C2-C6A8-4BBE-BEB9-71EFC72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C1F8-4C2F-4185-BA83-3B0DF51A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94A-AA16-4332-B1BE-79AC6BE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B0AB-DF40-4375-9FEF-5192B9D8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56E5-B2FB-43DD-A587-868FFBDF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C0F4-0678-44B0-BDB7-B98AA6B4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56DB-0AD8-41DE-ADB5-39695BB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5044-8528-4CA8-9828-C00BB76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0F540-61D5-4F29-BAD2-C83F020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ECFD-7CC0-4657-809B-D99078C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889BC-A7B0-4BD9-BBF3-C42F5420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4666-E442-4326-891B-7603E810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C07-4E76-493F-944A-BF1E47A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752-AC43-49F3-89B1-9233D8A9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C67-56AD-4EA8-BFE7-5FCCEB5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4B6-1742-4353-947E-02BAFBF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1B0-477E-4270-A71B-1493D16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6FB3-0C21-498A-BA44-0DFA6D31E19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FCC2-C46F-434F-8205-166D6C9C290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3F7-3879-4C4B-AF1D-678CD9A73F6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EFE7-7CF6-4911-8299-D3C66745418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ародные движения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 середине </a:t>
            </a: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ве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по истории в 7 класс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: Гусева Надежда Геннадьевна, высшая категор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КОУ СОШ №17 с.Борисов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оляной бунт 1648 г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11" descr="2006-09-06-pic"/>
          <p:cNvPicPr/>
          <p:nvPr/>
        </p:nvPicPr>
        <p:blipFill>
          <a:blip r:embed="rId1"/>
          <a:stretch/>
        </p:blipFill>
        <p:spPr>
          <a:xfrm>
            <a:off x="285840" y="1857240"/>
            <a:ext cx="2990880" cy="400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sbunt"/>
          <p:cNvPicPr/>
          <p:nvPr/>
        </p:nvPicPr>
        <p:blipFill>
          <a:blip r:embed="rId2"/>
          <a:stretch/>
        </p:blipFill>
        <p:spPr>
          <a:xfrm>
            <a:off x="3643200" y="2259000"/>
            <a:ext cx="5072040" cy="38037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00040" y="1571760"/>
          <a:ext cx="8186760" cy="5076720"/>
        </p:xfrm>
        <a:graphic>
          <a:graphicData uri="http://schemas.openxmlformats.org/drawingml/2006/table">
            <a:tbl>
              <a:tblPr/>
              <a:tblGrid>
                <a:gridCol w="2428920"/>
                <a:gridCol w="301464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, стрель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налог на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38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ён налог на соль (1647г.), стрельцам выплачено повышенное жалов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Медный бунт 166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5" descr="э лисснер медный бунт в москве"/>
          <p:cNvPicPr/>
          <p:nvPr/>
        </p:nvPicPr>
        <p:blipFill>
          <a:blip r:embed="rId1"/>
          <a:stretch/>
        </p:blipFill>
        <p:spPr>
          <a:xfrm>
            <a:off x="1684440" y="1935000"/>
            <a:ext cx="5775120" cy="4389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20" name="TextBox 4"/>
          <p:cNvSpPr/>
          <p:nvPr/>
        </p:nvSpPr>
        <p:spPr>
          <a:xfrm>
            <a:off x="5214960" y="2000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Calibri"/>
              </a:rPr>
              <a:t>Э.Лисс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33"/>
                </a:solidFill>
                <a:uFillTx/>
                <a:latin typeface="Calibri"/>
              </a:rPr>
              <a:t>Медный бунт</a:t>
            </a:r>
            <a:r>
              <a:rPr b="0" lang="ru-RU" sz="1800" spc="-1" strike="noStrike" u="sng">
                <a:solidFill>
                  <a:srgbClr val="660033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571760"/>
          <a:ext cx="8229600" cy="5073480"/>
        </p:xfrm>
        <a:graphic>
          <a:graphicData uri="http://schemas.openxmlformats.org/drawingml/2006/table">
            <a:tbl>
              <a:tblPr/>
              <a:tblGrid>
                <a:gridCol w="2471760"/>
                <a:gridCol w="3014640"/>
                <a:gridCol w="27432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, стрель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ж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налог на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медные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ий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ён налог на соль (1647г.), стрельцам выплачено повышенное жалова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ён выпуск медных де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ыступления старообрядце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в суриков боярыня морозова"/>
          <p:cNvPicPr/>
          <p:nvPr/>
        </p:nvPicPr>
        <p:blipFill>
          <a:blip r:embed="rId1"/>
          <a:stretch/>
        </p:blipFill>
        <p:spPr>
          <a:xfrm>
            <a:off x="295200" y="1571760"/>
            <a:ext cx="5027760" cy="321444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225" name="Picture 8" descr="lestovka-27"/>
          <p:cNvPicPr/>
          <p:nvPr/>
        </p:nvPicPr>
        <p:blipFill>
          <a:blip r:embed="rId2"/>
          <a:stretch/>
        </p:blipFill>
        <p:spPr>
          <a:xfrm>
            <a:off x="4429080" y="3716280"/>
            <a:ext cx="4464000" cy="295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15" descr="Рисунок1"/>
          <p:cNvPicPr/>
          <p:nvPr/>
        </p:nvPicPr>
        <p:blipFill>
          <a:blip r:embed="rId1"/>
          <a:stretch/>
        </p:blipFill>
        <p:spPr>
          <a:xfrm>
            <a:off x="785880" y="1835280"/>
            <a:ext cx="3174840" cy="3808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28" name=""/>
          <p:cNvSpPr txBox="1"/>
          <p:nvPr/>
        </p:nvSpPr>
        <p:spPr>
          <a:xfrm>
            <a:off x="4357440" y="1285920"/>
            <a:ext cx="442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ст повинностей, налогов, оброков крестья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ст налогов и чрезвычайных сборов посадского лю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худшение положения  насел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урожа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эпидем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блема беглых на Дон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3333960"/>
        </p:xfrm>
        <a:graphic>
          <a:graphicData uri="http://schemas.openxmlformats.org/drawingml/2006/table">
            <a:tbl>
              <a:tblPr/>
              <a:tblGrid>
                <a:gridCol w="3257640"/>
                <a:gridCol w="497196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ижение С. Раз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ы и 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 участ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и и 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ношение к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осстание   Степана Раз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935000"/>
          <a:ext cx="8229600" cy="4694400"/>
        </p:xfrm>
        <a:graphic>
          <a:graphicData uri="http://schemas.openxmlformats.org/drawingml/2006/table">
            <a:tbl>
              <a:tblPr/>
              <a:tblGrid>
                <a:gridCol w="3257640"/>
                <a:gridCol w="497196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вижение С. Раз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ы и 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7-16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ощение крестьян, рост повиннос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л, Поволжье, До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став участн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и, крестьяне, мордва, татары, чуваши, череми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и и 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ношение к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–заступник.  Дворяне, бояре -изменники и кровопийцы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подавле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9190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 поражения восстания С.Т. Разин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031" descr="Рисунок3"/>
          <p:cNvPicPr/>
          <p:nvPr/>
        </p:nvPicPr>
        <p:blipFill>
          <a:blip r:embed="rId1"/>
          <a:stretch/>
        </p:blipFill>
        <p:spPr>
          <a:xfrm>
            <a:off x="357120" y="2071800"/>
            <a:ext cx="3840120" cy="3929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2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стихийность, низкая организованност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отсутствие четких целей у восставших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разнородный социальный состав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разрозненность действий крестьян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285840" y="5929200"/>
            <a:ext cx="38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.Разина везут на ка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вюра к.1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Игра «ДА или НЕТ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17 век вошёл в историю ка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 Смутное врем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Бунташный ве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Век, в котором были окончательно закрепощены крестья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 «Поход за зипунами» означа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) Поход за военной добыч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) Покупка новой одежды каза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) Царь снаряжает казаков новым обмундирование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 ком идё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овел церковные реформы, вызвавшие раскол. Его вмешательство во внутреннюю и внешнюю политику государства под тезисом «священство выше царства» вызвало разрыв патриарха с царем.  Собором 1666-67 годов был лишён сана патриарха. Сослан на Север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атриарх Ник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чинами народных выступлений в 17 веке бы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Закрепощение крестья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Попытки ограничить крестьянскую вольниц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Церковный раскол и расправа над старообрядц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 Что такое «прелестные письм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Царские указ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Красиво написанные пись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Призывные письма С.Раз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5. В царствование Алексея Михайловича Тишайшего произош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) Соляной бун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) Медный бун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) Церковный раско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6172200" cy="4397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&amp;  8, вопросы, даты, пересказ о любом движ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а  выбор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нквейн ил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исьменный ответ на вопрос «Чем вам понравился   Степан Разин. Что вам в нём не нравится» и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ти легенды и песни о Степане Рази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ндивидуальное  сообщение о Богдане Хмельниц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О ком идёт реч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уководитель старообрядцев. За свои взгляды был лишён места в московском Казанском соборе, заключен в монастырь.  За непокорность,  приговорён церковным Собором к казн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ротопоп Авваку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ародные движения 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в середине </a:t>
            </a: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 ве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1.Причины народных выступлени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2.Соляной бун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3.Медный бун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4. Выступление старообрядце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5.Восстание под предводительством С.Разина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Задание на ур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чему народные выступления 17 века были обречены на по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народных выступлен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) закрепощение крестья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)  рост феодальных повинност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) усиление налогового гнё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) ведение почти непрерывных вой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) попытки ограничить казачью во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) усиление приказной волоки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) церковный раскол и расправы над старообрядц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Работа в групп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 гр. –стр. 62, документ, составление таблиц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 гр. – стр.62 -63, документ, составление таблиц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 гр. –стр.  67,  составить вопрос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Городские восст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357200"/>
          <a:ext cx="8229600" cy="5288040"/>
        </p:xfrm>
        <a:graphic>
          <a:graphicData uri="http://schemas.openxmlformats.org/drawingml/2006/table">
            <a:tbl>
              <a:tblPr/>
              <a:tblGrid>
                <a:gridCol w="2471760"/>
                <a:gridCol w="3014640"/>
                <a:gridCol w="2743200"/>
              </a:tblGrid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яно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ы и 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и треб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вы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оляной бунт 1648 г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6" descr="Рисунок1"/>
          <p:cNvPicPr/>
          <p:nvPr/>
        </p:nvPicPr>
        <p:blipFill>
          <a:blip r:embed="rId1"/>
          <a:stretch/>
        </p:blipFill>
        <p:spPr>
          <a:xfrm>
            <a:off x="704880" y="1714680"/>
            <a:ext cx="7437240" cy="450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севы</cp:lastModifiedBy>
  <dcterms:modified xsi:type="dcterms:W3CDTF">2014-01-26T14:13:40Z</dcterms:modified>
  <cp:revision>13</cp:revision>
  <dc:subject/>
  <dc:title>Народные движения в середине XVII века</dc:title>
</cp:coreProperties>
</file>