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36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3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8BD-6642-40F6-A162-F66F84F1C8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CC5F-20DA-4078-BFD1-04CDB2C5B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F74-7E32-46F1-B0FC-995B0251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27A-65B8-44BC-BF57-B98F225A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C8A-1937-4D7C-AE37-7063B1CA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341-1FD8-4D9A-BFA6-4D77ABE2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2A3-0FF4-4570-A24C-97F7FB73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94FF-49A0-4D1D-BA00-E1DF51DC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4A66-64D0-4A50-87F0-AECBCC1E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C333-D109-4C39-ADCE-2E444679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C310-087E-4BF1-8754-A69A916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22E2-EE9D-41D3-9279-2452461C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ECBE-48CF-4B32-A1B1-156D7EAE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659-BA09-4826-8B17-43B755F0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6262-859D-49BF-9710-0481E61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6534-F19B-44DB-B742-A7CC569D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948C-F9D6-4B52-AD0D-D95B1A3B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15A9-5AB1-41F2-A5B2-3CC6DCF2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0B6E-7689-4315-BEC8-E14232E5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924E6-68F3-4BF5-95EC-AE09A2D3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07E4-7225-480E-BD52-0558E66E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97A0-37B6-4B47-81D5-DDDBCAE5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8E51-3029-433B-B00C-32A65E27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44F2-E57A-499A-9BD2-FE47D9DA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770-90A1-4664-934D-CF794595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2348-85CE-4FBB-8684-D10C31D2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CDB7-4FE1-4DFB-9151-1F9FCBF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20C6-CCDC-42DA-96B9-E2B8CE39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960F-E743-466D-9F4C-365E982C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9015-9A15-4C0A-BD33-48B4877E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C2E6-217B-4A1D-A2DD-395AB107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DC9F-53AF-491D-A568-8FB0EAB2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CBEEC-E5D5-488F-86C4-74DAEE64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B882-D465-45F6-95DF-BCCD3A10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F5FF-ACE4-4F29-8AE3-52CDC123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2DF-6A48-459B-A954-3DD98598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F86E-95DA-4F8E-B72B-C3330AAB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7DE0-71C0-46D0-B29B-502EF392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054B2-79BC-4A3E-B2D1-3A44B7D1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40DD-740C-4EA6-AE9E-0B00095E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5FFFC-9D5D-44E6-AA42-ADC3718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C597E-0787-4DD5-99B4-7F5794C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9655-ADC1-4DC2-8CBF-E1E70B51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E651-1878-4940-80E2-0C37D94C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DF39-CA4E-4114-BD8D-3B983B1D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6C8C-EE3C-4424-83AA-EC034550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304-6D97-419C-BB83-DCEBE4F7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2598E-8687-49B2-9241-7DED6D9D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6A570-CF45-45B8-87BF-88829FDF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0FB4-AA25-40FF-AF76-9FD119CE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548C9-4394-4A6F-8B75-78DF6FCA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2155-D61A-49E4-B133-A3ECC524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96583-CEDF-423E-A957-3FBF66B4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A690D-DF89-4186-A5BD-C2F30914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B14E-5B2F-4F24-A582-69E573B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08F65-CD8B-4465-9F09-EE7E776D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A130-93E0-481C-A3AF-FFA3D21C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45A-5F35-43D9-925B-221DF68A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4A9F-030F-4385-B41D-2CD5C03E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F46F-86F9-4EB8-A636-5AA4B799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DF652-8E86-4C2A-8E6B-86F7A85E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4F0C4-9DB6-46B6-9C88-DEA44993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0EE06-DD2B-49BA-945B-BFB8F801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1D38C-4812-40A2-A6BE-F5B5E77F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AA87E-4B09-46DC-9D16-548B16B4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6A9E8-4F8C-431C-87C6-1CD0D054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E9F6B-F264-4FF5-91B5-E067C46D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89C5-DE43-4A76-ADF5-535298D6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08B-1DCB-4ABC-9959-4A34225D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B358-F825-449C-9836-A7598578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7289-9635-4B10-BC1B-3C4E03FC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83919-AA3B-4501-97CF-7B0E828A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01C-43BD-435C-914F-38B0FFFE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0F6-E784-4072-93DF-9E8E5833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8A5-1275-4649-B5E2-2EB9B76FAFB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F349-B5B2-4BD7-A98E-C517CA2A82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9592-D436-4177-900A-24B87C6E91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C627-B045-4D8C-93C2-AFA3B73007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942B-F06E-4745-91A3-41B8442DE5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335B-14DC-4C2D-857E-442D46CAE9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3786120" y="571680"/>
            <a:ext cx="5143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24139"/>
                </a:solidFill>
                <a:uFillTx/>
                <a:latin typeface="Monotype Corsiva"/>
              </a:rPr>
              <a:t>Назар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24139"/>
                </a:solidFill>
                <a:uFillTx/>
                <a:latin typeface="Monotype Corsiva"/>
              </a:rPr>
              <a:t>Маргарита Алексе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24139"/>
                </a:solidFill>
                <a:latin typeface="Monotype Corsiva"/>
              </a:rPr>
              <a:t>учитель математ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24139"/>
                </a:solidFill>
                <a:latin typeface="Monotype Corsiva"/>
              </a:rPr>
              <a:t>МБОУ «Гимназия №3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:\Documents and Settings\Владелец\Мои документы\Мои рисунки\Организатор клипов (Microsoft)\splash3.jpg"/>
          <p:cNvPicPr/>
          <p:nvPr/>
        </p:nvPicPr>
        <p:blipFill>
          <a:blip r:embed="rId1"/>
          <a:stretch/>
        </p:blipFill>
        <p:spPr>
          <a:xfrm>
            <a:off x="5000760" y="4357800"/>
            <a:ext cx="2889000" cy="1985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C:\Documents and Settings\Admin\Рабочий стол\МОЯ ФЛЭШКА\Маргарита Алексеевна\Маргарита Алексеевна_000.jpg"/>
          <p:cNvPicPr/>
          <p:nvPr/>
        </p:nvPicPr>
        <p:blipFill>
          <a:blip r:embed="rId2"/>
          <a:stretch/>
        </p:blipFill>
        <p:spPr>
          <a:xfrm>
            <a:off x="714240" y="1500120"/>
            <a:ext cx="3071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3"/>
          <p:cNvSpPr/>
          <p:nvPr/>
        </p:nvSpPr>
        <p:spPr>
          <a:xfrm>
            <a:off x="428760" y="1143000"/>
            <a:ext cx="82864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Образование</a:t>
            </a:r>
            <a:r>
              <a:rPr b="1" i="1" lang="ru-RU" sz="2800" spc="-1" strike="noStrike">
                <a:solidFill>
                  <a:srgbClr val="ff0066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-  </a:t>
            </a:r>
            <a:r>
              <a:rPr b="1" i="1" lang="ru-RU" sz="2400" spc="-1" strike="noStrike">
                <a:solidFill>
                  <a:srgbClr val="0070c0"/>
                </a:solidFill>
                <a:latin typeface="Monotype Corsiva"/>
              </a:rPr>
              <a:t>Высшее профессиональное образование. Казанский государственный педагогический университет, 2004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Специальность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-  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Квалификация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 - учитель математики</a:t>
            </a:r>
            <a:r>
              <a:rPr b="1" i="1" lang="en-US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и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Стаж работы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 -  9л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Квалификационная категория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 -  пер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C:\Documents and Settings\Владелец\Мои документы\Мои рисунки\Организатор клипов (Microsoft)\splash3.jpg"/>
          <p:cNvPicPr/>
          <p:nvPr/>
        </p:nvPicPr>
        <p:blipFill>
          <a:blip r:embed="rId1"/>
          <a:stretch/>
        </p:blipFill>
        <p:spPr>
          <a:xfrm>
            <a:off x="6143760" y="5032440"/>
            <a:ext cx="2357280" cy="1309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Documents and Settings\Admin\Мои документы\Мои результаты сканирования\Маргарита\Диплом0012.jpg"/>
          <p:cNvPicPr/>
          <p:nvPr/>
        </p:nvPicPr>
        <p:blipFill>
          <a:blip r:embed="rId2"/>
          <a:stretch/>
        </p:blipFill>
        <p:spPr>
          <a:xfrm>
            <a:off x="428760" y="785880"/>
            <a:ext cx="2928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  </a:t>
            </a:r>
            <a:r>
              <a:rPr b="1" i="1" lang="ru-RU" sz="3200" spc="-1" strike="noStrike">
                <a:solidFill>
                  <a:srgbClr val="00b0f0"/>
                </a:solidFill>
                <a:latin typeface="Franklin Gothic Book"/>
              </a:rPr>
              <a:t>Применение инновационных технологий на уроках математики для развития творческой инициативы, мотивации учащихся с целью повышения качества обучения</a:t>
            </a:r>
            <a:r>
              <a:rPr b="0" lang="ru-RU" sz="3200" spc="-1" strike="noStrike">
                <a:solidFill>
                  <a:srgbClr val="00b0f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Тема самообразовани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«  </a:t>
            </a:r>
            <a:r>
              <a:rPr b="0" i="1" lang="ru-RU" sz="3200" spc="-1" strike="noStrike">
                <a:solidFill>
                  <a:srgbClr val="00b0f0"/>
                </a:solidFill>
                <a:latin typeface="Franklin Gothic Book"/>
              </a:rPr>
              <a:t>Повышение мотивации учащихся на уроках математики, как средство успешного освоения предмета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80720" cy="165924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3" descr=""/>
          <p:cNvPicPr/>
          <p:nvPr/>
        </p:nvPicPr>
        <p:blipFill>
          <a:blip r:embed="rId2"/>
          <a:stretch/>
        </p:blipFill>
        <p:spPr>
          <a:xfrm>
            <a:off x="353880" y="1706400"/>
            <a:ext cx="8240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11"/>
          <p:cNvSpPr txBox="1"/>
          <p:nvPr/>
        </p:nvSpPr>
        <p:spPr>
          <a:xfrm rot="5400000">
            <a:off x="-2971800" y="29718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Ялюблю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30" name="WordArt 12"/>
          <p:cNvSpPr txBox="1"/>
          <p:nvPr/>
        </p:nvSpPr>
        <p:spPr>
          <a:xfrm>
            <a:off x="914400" y="0"/>
            <a:ext cx="7391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гда мои ученики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биваются успехов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609480" y="60958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33"/>
                </a:solidFill>
                <a:latin typeface="Monotype Corsiv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C:\Documents and Settings\Admin\Рабочий стол\МОЯ ФЛЭШКА\отсканированные документы\Всерос. дистан.олимп. по мат. по проекту Инфоурок, дипломы детей\infourok1433.jpg"/>
          <p:cNvPicPr/>
          <p:nvPr/>
        </p:nvPicPr>
        <p:blipFill>
          <a:blip r:embed="rId1"/>
          <a:stretch/>
        </p:blipFill>
        <p:spPr>
          <a:xfrm>
            <a:off x="-7238880" y="-5310360"/>
            <a:ext cx="2252520" cy="1667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Documents and Settings\Admin\Рабочий стол\МОЯ ФЛЭШКА\отсканированные документы\Всерос. дистан.олимп. по мат. по проекту Инфоурок, дипломы детей\infourok66411.jpg"/>
          <p:cNvPicPr/>
          <p:nvPr/>
        </p:nvPicPr>
        <p:blipFill>
          <a:blip r:embed="rId2"/>
          <a:stretch/>
        </p:blipFill>
        <p:spPr>
          <a:xfrm>
            <a:off x="857160" y="1643040"/>
            <a:ext cx="2357640" cy="1928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C:\Documents and Settings\Admin\Рабочий стол\МОЯ ФЛЭШКА\отсканированные документы\Мир знаний.jpg"/>
          <p:cNvPicPr/>
          <p:nvPr/>
        </p:nvPicPr>
        <p:blipFill>
          <a:blip r:embed="rId3"/>
          <a:stretch/>
        </p:blipFill>
        <p:spPr>
          <a:xfrm>
            <a:off x="3357720" y="1714680"/>
            <a:ext cx="1571400" cy="2143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C:\Documents and Settings\Admin\Рабочий стол\МОЯ ФЛЭШКА\отсканированные документы\НПК 20131.jpg"/>
          <p:cNvPicPr/>
          <p:nvPr/>
        </p:nvPicPr>
        <p:blipFill>
          <a:blip r:embed="rId4"/>
          <a:stretch/>
        </p:blipFill>
        <p:spPr>
          <a:xfrm>
            <a:off x="5072040" y="1714680"/>
            <a:ext cx="1928880" cy="2357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C:\Documents and Settings\Admin\Рабочий стол\МОЯ ФЛЭШКА\отсканированные документы\Олимпус0011.jpg"/>
          <p:cNvPicPr/>
          <p:nvPr/>
        </p:nvPicPr>
        <p:blipFill>
          <a:blip r:embed="rId5"/>
          <a:stretch/>
        </p:blipFill>
        <p:spPr>
          <a:xfrm>
            <a:off x="7215120" y="1785960"/>
            <a:ext cx="1733760" cy="2428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C:\Documents and Settings\Admin\Рабочий стол\МОЯ ФЛЭШКА\отсканированные документы\сканирование0001.jpg"/>
          <p:cNvPicPr/>
          <p:nvPr/>
        </p:nvPicPr>
        <p:blipFill>
          <a:blip r:embed="rId6"/>
          <a:stretch/>
        </p:blipFill>
        <p:spPr>
          <a:xfrm>
            <a:off x="857160" y="4000680"/>
            <a:ext cx="1500120" cy="221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C:\Documents and Settings\Admin\Рабочий стол\МОЯ ФЛЭШКА\отсканированные документы\сканирование0015.jpg"/>
          <p:cNvPicPr/>
          <p:nvPr/>
        </p:nvPicPr>
        <p:blipFill>
          <a:blip r:embed="rId7"/>
          <a:stretch/>
        </p:blipFill>
        <p:spPr>
          <a:xfrm>
            <a:off x="2571840" y="407196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F:\отсканированные документы\Кенгуру, 2013\Коншина Алина, 2 место0012.jpg"/>
          <p:cNvPicPr/>
          <p:nvPr/>
        </p:nvPicPr>
        <p:blipFill>
          <a:blip r:embed="rId8"/>
          <a:stretch/>
        </p:blipFill>
        <p:spPr>
          <a:xfrm>
            <a:off x="4500720" y="4143240"/>
            <a:ext cx="1857240" cy="2428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F:\отсканированные документы\Всерос. дистан.олимп. по мат. по проекту Инфоурок, дипломы детей\infourok32603.jpg"/>
          <p:cNvPicPr/>
          <p:nvPr/>
        </p:nvPicPr>
        <p:blipFill>
          <a:blip r:embed="rId9"/>
          <a:stretch/>
        </p:blipFill>
        <p:spPr>
          <a:xfrm>
            <a:off x="6572160" y="4714920"/>
            <a:ext cx="23623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1071720" y="21420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24139"/>
                </a:solidFill>
                <a:latin typeface="Monotype Corsiva"/>
              </a:rPr>
              <a:t>Научно- практическая конфере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13" descr="j0431508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C:\Documents and Settings\Admin\Рабочий стол\МОЯ ФЛЭШКА\Исследоват.работа\Готовая исслед.работа\P1030442.JPG"/>
          <p:cNvPicPr/>
          <p:nvPr/>
        </p:nvPicPr>
        <p:blipFill>
          <a:blip r:embed="rId3"/>
          <a:stretch/>
        </p:blipFill>
        <p:spPr>
          <a:xfrm>
            <a:off x="642960" y="135720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F:\отсканированные документы\НПК 20131.jpg"/>
          <p:cNvPicPr/>
          <p:nvPr/>
        </p:nvPicPr>
        <p:blipFill>
          <a:blip r:embed="rId4"/>
          <a:stretch/>
        </p:blipFill>
        <p:spPr>
          <a:xfrm>
            <a:off x="4714920" y="1785960"/>
            <a:ext cx="3071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214200" y="357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24139"/>
                </a:solidFill>
                <a:latin typeface="Monotype Corsiva"/>
              </a:rPr>
              <a:t>КУРСЫ  ПОВЫШЕНИЯ 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" descr="C:\Documents and Settings\Admin\Мои документы\Мои результаты сканирования\Маргарита\Курсы пов.квал\сканирование0001.jpg"/>
          <p:cNvPicPr/>
          <p:nvPr/>
        </p:nvPicPr>
        <p:blipFill>
          <a:blip r:embed="rId1"/>
          <a:stretch/>
        </p:blipFill>
        <p:spPr>
          <a:xfrm>
            <a:off x="4214880" y="3786120"/>
            <a:ext cx="4595760" cy="285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C:\Documents and Settings\Admin\Рабочий стол\МОЯ ФЛЭШКА\отсканированные документы\cертификат ЕГЭ.jpg"/>
          <p:cNvPicPr/>
          <p:nvPr/>
        </p:nvPicPr>
        <p:blipFill>
          <a:blip r:embed="rId2"/>
          <a:stretch/>
        </p:blipFill>
        <p:spPr>
          <a:xfrm>
            <a:off x="2214720" y="1143000"/>
            <a:ext cx="4405320" cy="2786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C:\Documents and Settings\Admin\Рабочий стол\МОЯ ФЛЭШКА\отсканированные документы\сканирование0028.jpg"/>
          <p:cNvPicPr/>
          <p:nvPr/>
        </p:nvPicPr>
        <p:blipFill>
          <a:blip r:embed="rId3"/>
          <a:stretch/>
        </p:blipFill>
        <p:spPr>
          <a:xfrm>
            <a:off x="142920" y="3714840"/>
            <a:ext cx="3714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5" descr="j0431508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F:\Фото Назаровой М.А\DSCN0174.JPG"/>
          <p:cNvPicPr/>
          <p:nvPr/>
        </p:nvPicPr>
        <p:blipFill>
          <a:blip r:embed="rId3"/>
          <a:stretch/>
        </p:blipFill>
        <p:spPr>
          <a:xfrm>
            <a:off x="214200" y="1500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F:\Фото Назаровой М.А\IMG_4128.JPG"/>
          <p:cNvPicPr/>
          <p:nvPr/>
        </p:nvPicPr>
        <p:blipFill>
          <a:blip r:embed="rId4"/>
          <a:stretch/>
        </p:blipFill>
        <p:spPr>
          <a:xfrm>
            <a:off x="142920" y="39290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F:\Фото Назаровой М.А\P1000289.JPG"/>
          <p:cNvPicPr/>
          <p:nvPr/>
        </p:nvPicPr>
        <p:blipFill>
          <a:blip r:embed="rId5"/>
          <a:stretch/>
        </p:blipFill>
        <p:spPr>
          <a:xfrm>
            <a:off x="3143160" y="135720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F:\Фото Назаровой М.А\P1000292.JPG"/>
          <p:cNvPicPr/>
          <p:nvPr/>
        </p:nvPicPr>
        <p:blipFill>
          <a:blip r:embed="rId6"/>
          <a:stretch/>
        </p:blipFill>
        <p:spPr>
          <a:xfrm>
            <a:off x="5500800" y="1357200"/>
            <a:ext cx="2803320" cy="2286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F:\Фото Назаровой М.А\P1020328.JPG"/>
          <p:cNvPicPr/>
          <p:nvPr/>
        </p:nvPicPr>
        <p:blipFill>
          <a:blip r:embed="rId7"/>
          <a:stretch/>
        </p:blipFill>
        <p:spPr>
          <a:xfrm>
            <a:off x="6000840" y="4143240"/>
            <a:ext cx="2558880" cy="1919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C:\Documents and Settings\Admin\Рабочий стол\ФЛЕШКА по ВР\Все мои фото, кл.часа, ЕМД\день здоровья, 6В\P1030355.JPG"/>
          <p:cNvPicPr/>
          <p:nvPr/>
        </p:nvPicPr>
        <p:blipFill>
          <a:blip r:embed="rId8"/>
          <a:stretch/>
        </p:blipFill>
        <p:spPr>
          <a:xfrm>
            <a:off x="3429000" y="4357800"/>
            <a:ext cx="2367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11"/>
          <p:cNvSpPr txBox="1"/>
          <p:nvPr/>
        </p:nvSpPr>
        <p:spPr>
          <a:xfrm rot="5400000">
            <a:off x="-2971800" y="29718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Ялюблю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363" name="WordArt 12" descr=""/>
          <p:cNvPicPr/>
          <p:nvPr/>
        </p:nvPicPr>
        <p:blipFill>
          <a:blip r:embed="rId1"/>
          <a:stretch/>
        </p:blipFill>
        <p:spPr>
          <a:xfrm>
            <a:off x="901800" y="3121200"/>
            <a:ext cx="8248680" cy="804600"/>
          </a:xfrm>
          <a:prstGeom prst="rect">
            <a:avLst/>
          </a:prstGeom>
          <a:ln w="0">
            <a:noFill/>
          </a:ln>
        </p:spPr>
      </p:pic>
      <p:sp>
        <p:nvSpPr>
          <p:cNvPr id="364" name="WordArt 13"/>
          <p:cNvSpPr txBox="1"/>
          <p:nvPr/>
        </p:nvSpPr>
        <p:spPr>
          <a:xfrm>
            <a:off x="914400" y="60958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4e3b3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гда так считают другие, мне тоже приятно...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4e3b3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65" name="Picture 2" descr="F:\отсканированные документы\сканирование0023.jpg"/>
          <p:cNvPicPr/>
          <p:nvPr/>
        </p:nvPicPr>
        <p:blipFill>
          <a:blip r:embed="rId2"/>
          <a:stretch/>
        </p:blipFill>
        <p:spPr>
          <a:xfrm>
            <a:off x="785880" y="214200"/>
            <a:ext cx="1857240" cy="2786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F:\отсканированные документы\сканирование0030.jpg"/>
          <p:cNvPicPr/>
          <p:nvPr/>
        </p:nvPicPr>
        <p:blipFill>
          <a:blip r:embed="rId3"/>
          <a:stretch/>
        </p:blipFill>
        <p:spPr>
          <a:xfrm>
            <a:off x="2786040" y="285840"/>
            <a:ext cx="1785960" cy="2857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F:\отсканированные документы\семинар.jpg"/>
          <p:cNvPicPr/>
          <p:nvPr/>
        </p:nvPicPr>
        <p:blipFill>
          <a:blip r:embed="rId4"/>
          <a:stretch/>
        </p:blipFill>
        <p:spPr>
          <a:xfrm>
            <a:off x="4714920" y="214200"/>
            <a:ext cx="1857240" cy="2786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F:\отсканированные документы\Фестиваль, разработка урока..jpg"/>
          <p:cNvPicPr/>
          <p:nvPr/>
        </p:nvPicPr>
        <p:blipFill>
          <a:blip r:embed="rId5"/>
          <a:stretch/>
        </p:blipFill>
        <p:spPr>
          <a:xfrm>
            <a:off x="857160" y="3714840"/>
            <a:ext cx="1857600" cy="2357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F:\отсканированные документы\сканирование0032.jpg"/>
          <p:cNvPicPr/>
          <p:nvPr/>
        </p:nvPicPr>
        <p:blipFill>
          <a:blip r:embed="rId6"/>
          <a:stretch/>
        </p:blipFill>
        <p:spPr>
          <a:xfrm>
            <a:off x="27860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F:\отсканированные документы\Почетная грамота\сканирование0001.jpg"/>
          <p:cNvPicPr/>
          <p:nvPr/>
        </p:nvPicPr>
        <p:blipFill>
          <a:blip r:embed="rId7"/>
          <a:stretch/>
        </p:blipFill>
        <p:spPr>
          <a:xfrm>
            <a:off x="4857840" y="3786120"/>
            <a:ext cx="2000160" cy="2571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F:\отсканированные документы\Участие в работе проекта nfoUrok.Ru.jpg"/>
          <p:cNvPicPr/>
          <p:nvPr/>
        </p:nvPicPr>
        <p:blipFill>
          <a:blip r:embed="rId8"/>
          <a:stretch/>
        </p:blipFill>
        <p:spPr>
          <a:xfrm>
            <a:off x="6643800" y="428760"/>
            <a:ext cx="2357280" cy="2043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F:\отсканированные документы\сканирование0025.jpg"/>
          <p:cNvPicPr/>
          <p:nvPr/>
        </p:nvPicPr>
        <p:blipFill>
          <a:blip r:embed="rId9"/>
          <a:stretch/>
        </p:blipFill>
        <p:spPr>
          <a:xfrm>
            <a:off x="7000920" y="3857760"/>
            <a:ext cx="18590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6:56:03Z</dcterms:created>
  <dc:creator>Ирина</dc:creator>
  <dc:description/>
  <dc:language>en-US</dc:language>
  <cp:lastModifiedBy>Admin</cp:lastModifiedBy>
  <dcterms:modified xsi:type="dcterms:W3CDTF">2014-01-26T12:06:22Z</dcterms:modified>
  <cp:revision>354</cp:revision>
  <dc:subject/>
  <dc:title>Слайд 1</dc:title>
</cp:coreProperties>
</file>