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3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967-C3AC-42CA-9198-4BAB2D254A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3C12-2258-4D0E-92E5-1A7574D44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FB7-03A5-4817-B20D-6C35B05D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E87-DDCC-435D-A457-37593BDE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0D5-2DBB-4961-A29C-820559DA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7C6-8792-4052-95A0-B13A7BB1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9336-5E6E-46A3-980D-32E0E3DF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CF4-0361-4765-9CD2-9EFCF6F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87F4-46BE-4758-8B7D-0B7FC36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7D10-FB16-4A43-86CF-11538C79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7CAF-3402-49BA-B0A8-2804DB0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813-292D-4E74-A3A9-32C7E93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EF43-7C45-4098-B8CD-CEAA695F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7B8-FB4C-4548-B273-FF2957A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490-218F-4574-B7F1-ADE879C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C91-1D52-43EF-9D6D-B2DC623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128F-FF30-439A-B2B7-D42DBBE6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281B-60C8-4365-8947-6AB6FEAA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3B2-963B-4E0B-BF85-91C63EF3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405B-D7C5-4965-9A8A-8F64EF71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5105-F4C2-4699-ADD1-2077AAB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80EC-8CDD-425F-AD08-D79C6CE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C082-D1FE-4717-B271-2A0ADEB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1444-D3A5-4A54-8BCF-B70504C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B8B-624E-48BA-B9E2-F22C5921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27F9-5B60-4948-83C0-9D8A356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F92C-4B15-4147-9268-BF353F9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A693-9C05-468B-ADDA-9412581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45BD-3860-4345-AA18-AD64835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39B3C-C991-4B59-9EB1-3B11CD61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DFC7-E1D3-4239-A1EC-522C5F06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0548-68B5-41B6-A2A0-C15DC83C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66F4D-6B06-4C58-A994-E95A2475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4E82-A432-47C0-B3BB-DD17DB4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2E38-B90A-4A03-BD58-C4864EFD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CE4-059A-40F2-B9D0-C35478B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58DCA-2F94-4338-ABC6-4421C16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B4E5-3A1D-46B6-B2B4-AFBDB864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F13C-2BCC-4422-8267-E50E32D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4874-DA21-45BC-8309-9715C4D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A3A5-EA6A-4FE1-8795-12DC0A0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F35A-4154-401B-98BA-05523F9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FF4F-66E8-42F8-8D41-DA015A96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C26C-E54A-446B-B50C-2E13E13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B7CD-A946-4AB4-8865-986FDC34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B906-740A-4C09-8013-AAE54036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3E1-7B62-4616-B9CE-12C7DB2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705E-DEBD-4056-B48C-8CE0BB2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72694-E2D0-4157-8C27-9F36213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DA54B-483C-43A1-A56C-922961F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CA42-2DC1-4EA6-973E-E74504D1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0986-C196-46D3-9F34-ECEBAD3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672D6-9512-4F94-AE18-B73622C4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65CB-095D-4CDA-8298-3040D6E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A4EB-19F5-41F3-AE07-79B5D32B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37D3-4A49-4A1E-A2E8-D254157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FE6A-BFAB-461B-9FED-B4024C0D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E2D-C61E-45A2-969F-2A6448E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6A91-05EB-4FE8-8ABA-AA4C7412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DCDE-BD3B-467E-84CB-A3612994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C13C-F75E-4BA7-8AC5-453C12AB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B2B1A-AD75-456E-B4C9-F021565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07D7B-5567-48F5-AD56-676D66C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268E-FD45-4BDA-85B4-65AD2C5F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989B9-8D21-4EE6-B17E-BEFE1E7D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AB54-1B61-41B2-87FB-B8A8BDD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A117-701B-4517-A7ED-BCED7F5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7FF88-A01F-4F00-A6CC-4BF541C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210-BA64-45BA-88B5-DE742D5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B63A-D244-4E89-A311-5AD1019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F7D8-6A28-4A96-AD8E-A35CD2B2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C45D-1B28-4A5F-ABFE-7BD7F52E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073-4180-4F16-B6C4-97EC045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FA9-FA3B-4198-BF5B-15BA661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0E7D-C6E8-46C1-BC2E-44423BB987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1266-78DE-4B3A-ACA4-4B8E53118D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B2B-A1EA-4940-9DBF-505B0DFC51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006-673E-4994-85BE-89A2F06E82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D00-6056-4BF3-9B2C-5C72E8D535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F4D-A034-4E7A-AF04-9144E3000E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3786120" y="571680"/>
            <a:ext cx="5143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24139"/>
                </a:solidFill>
                <a:uFillTx/>
                <a:latin typeface="Monotype Corsiva"/>
              </a:rPr>
              <a:t>Назар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24139"/>
                </a:solidFill>
                <a:uFillTx/>
                <a:latin typeface="Monotype Corsiva"/>
              </a:rPr>
              <a:t>Маргарита Алексе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4139"/>
                </a:solidFill>
                <a:latin typeface="Monotype Corsiva"/>
              </a:rPr>
              <a:t>учитель математ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24139"/>
                </a:solidFill>
                <a:latin typeface="Monotype Corsiva"/>
              </a:rPr>
              <a:t>МБОУ «Гимназия №3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Владелец\Мои документы\Мои рисунки\Организатор клипов (Microsoft)\splash3.jpg"/>
          <p:cNvPicPr/>
          <p:nvPr/>
        </p:nvPicPr>
        <p:blipFill>
          <a:blip r:embed="rId1"/>
          <a:stretch/>
        </p:blipFill>
        <p:spPr>
          <a:xfrm>
            <a:off x="5000760" y="4357800"/>
            <a:ext cx="2889000" cy="1985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C:\Documents and Settings\Admin\Рабочий стол\МОЯ ФЛЭШКА\Маргарита Алексеевна\Маргарита Алексеевна_000.jpg"/>
          <p:cNvPicPr/>
          <p:nvPr/>
        </p:nvPicPr>
        <p:blipFill>
          <a:blip r:embed="rId2"/>
          <a:stretch/>
        </p:blipFill>
        <p:spPr>
          <a:xfrm>
            <a:off x="714240" y="1500120"/>
            <a:ext cx="3071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428760" y="1143000"/>
            <a:ext cx="82864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Образование</a:t>
            </a:r>
            <a:r>
              <a:rPr b="1" i="1" lang="ru-RU" sz="28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-  </a:t>
            </a:r>
            <a:r>
              <a:rPr b="1" i="1" lang="ru-RU" sz="2400" spc="-1" strike="noStrike">
                <a:solidFill>
                  <a:srgbClr val="0070c0"/>
                </a:solidFill>
                <a:latin typeface="Monotype Corsiva"/>
              </a:rPr>
              <a:t>Высшее профессиональное образование. Казанский государственный педагогический университет, 2004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пециальность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-  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Квалификация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учитель математики</a:t>
            </a:r>
            <a:r>
              <a:rPr b="1" i="1" lang="en-US" sz="2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и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таж работы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 9л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Квалификационная категория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  -  пер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C:\Documents and Settings\Владелец\Мои документы\Мои рисунки\Организатор клипов (Microsoft)\splash3.jpg"/>
          <p:cNvPicPr/>
          <p:nvPr/>
        </p:nvPicPr>
        <p:blipFill>
          <a:blip r:embed="rId1"/>
          <a:stretch/>
        </p:blipFill>
        <p:spPr>
          <a:xfrm>
            <a:off x="6143760" y="5032440"/>
            <a:ext cx="2357280" cy="1309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Admin\Мои документы\Мои результаты сканирования\Маргарита\Диплом0012.jpg"/>
          <p:cNvPicPr/>
          <p:nvPr/>
        </p:nvPicPr>
        <p:blipFill>
          <a:blip r:embed="rId2"/>
          <a:stretch/>
        </p:blipFill>
        <p:spPr>
          <a:xfrm>
            <a:off x="428760" y="785880"/>
            <a:ext cx="2928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  </a:t>
            </a:r>
            <a:r>
              <a:rPr b="1" i="1" lang="ru-RU" sz="3200" spc="-1" strike="noStrike">
                <a:solidFill>
                  <a:srgbClr val="00b0f0"/>
                </a:solidFill>
                <a:latin typeface="Franklin Gothic Book"/>
              </a:rPr>
              <a:t>Применение инновационных технологий на уроках математики для развития творческой инициативы, мотивации учащихся с целью повышения качества обучения</a:t>
            </a:r>
            <a:r>
              <a:rPr b="0" lang="ru-RU" sz="3200" spc="-1" strike="noStrike">
                <a:solidFill>
                  <a:srgbClr val="00b0f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Тема самообразован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«  </a:t>
            </a:r>
            <a:r>
              <a:rPr b="0" i="1" lang="ru-RU" sz="3200" spc="-1" strike="noStrike">
                <a:solidFill>
                  <a:srgbClr val="00b0f0"/>
                </a:solidFill>
                <a:latin typeface="Franklin Gothic Book"/>
              </a:rPr>
              <a:t>Повышение мотивации учащихся на уроках математики, как средство успешного освоения предмета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80720" cy="1659240"/>
          </a:xfrm>
          <a:prstGeom prst="rect">
            <a:avLst/>
          </a:prstGeom>
          <a:ln w="0">
            <a:noFill/>
          </a:ln>
        </p:spPr>
      </p:pic>
      <p:pic>
        <p:nvPicPr>
          <p:cNvPr id="328" name="Содержимое 3" descr=""/>
          <p:cNvPicPr/>
          <p:nvPr/>
        </p:nvPicPr>
        <p:blipFill>
          <a:blip r:embed="rId2"/>
          <a:stretch/>
        </p:blipFill>
        <p:spPr>
          <a:xfrm>
            <a:off x="353880" y="1706400"/>
            <a:ext cx="8240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11"/>
          <p:cNvSpPr txBox="1"/>
          <p:nvPr/>
        </p:nvSpPr>
        <p:spPr>
          <a:xfrm rot="5400000">
            <a:off x="-2971800" y="29718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Monotype Corsiva"/>
              </a:rPr>
              <a:t>Ялюблю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Monotype Corsiva"/>
              <a:ea typeface="Monotype Corsiva"/>
            </a:endParaRPr>
          </a:p>
        </p:txBody>
      </p:sp>
      <p:sp>
        <p:nvSpPr>
          <p:cNvPr id="330" name="WordArt 12"/>
          <p:cNvSpPr txBox="1"/>
          <p:nvPr/>
        </p:nvSpPr>
        <p:spPr>
          <a:xfrm>
            <a:off x="914400" y="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гда мои ученики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биваются успехов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609480" y="60958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33"/>
                </a:solidFill>
                <a:latin typeface="Monotype Corsiv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C:\Documents and Settings\Admin\Рабочий стол\МОЯ ФЛЭШКА\отсканированные документы\Всерос. дистан.олимп. по мат. по проекту Инфоурок, дипломы детей\infourok1433.jpg"/>
          <p:cNvPicPr/>
          <p:nvPr/>
        </p:nvPicPr>
        <p:blipFill>
          <a:blip r:embed="rId1"/>
          <a:stretch/>
        </p:blipFill>
        <p:spPr>
          <a:xfrm>
            <a:off x="-7238880" y="-5310360"/>
            <a:ext cx="2252520" cy="166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Рабочий стол\МОЯ ФЛЭШКА\отсканированные документы\Всерос. дистан.олимп. по мат. по проекту Инфоурок, дипломы детей\infourok66411.jpg"/>
          <p:cNvPicPr/>
          <p:nvPr/>
        </p:nvPicPr>
        <p:blipFill>
          <a:blip r:embed="rId2"/>
          <a:stretch/>
        </p:blipFill>
        <p:spPr>
          <a:xfrm>
            <a:off x="857160" y="1643040"/>
            <a:ext cx="2357640" cy="1928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C:\Documents and Settings\Admin\Рабочий стол\МОЯ ФЛЭШКА\отсканированные документы\Мир знаний.jpg"/>
          <p:cNvPicPr/>
          <p:nvPr/>
        </p:nvPicPr>
        <p:blipFill>
          <a:blip r:embed="rId3"/>
          <a:stretch/>
        </p:blipFill>
        <p:spPr>
          <a:xfrm>
            <a:off x="3357720" y="1714680"/>
            <a:ext cx="1571400" cy="2143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C:\Documents and Settings\Admin\Рабочий стол\МОЯ ФЛЭШКА\отсканированные документы\НПК 20131.jpg"/>
          <p:cNvPicPr/>
          <p:nvPr/>
        </p:nvPicPr>
        <p:blipFill>
          <a:blip r:embed="rId4"/>
          <a:stretch/>
        </p:blipFill>
        <p:spPr>
          <a:xfrm>
            <a:off x="5072040" y="1714680"/>
            <a:ext cx="1928880" cy="2357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C:\Documents and Settings\Admin\Рабочий стол\МОЯ ФЛЭШКА\отсканированные документы\Олимпус0011.jpg"/>
          <p:cNvPicPr/>
          <p:nvPr/>
        </p:nvPicPr>
        <p:blipFill>
          <a:blip r:embed="rId5"/>
          <a:stretch/>
        </p:blipFill>
        <p:spPr>
          <a:xfrm>
            <a:off x="7215120" y="1785960"/>
            <a:ext cx="1733760" cy="2428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C:\Documents and Settings\Admin\Рабочий стол\МОЯ ФЛЭШКА\отсканированные документы\сканирование0001.jpg"/>
          <p:cNvPicPr/>
          <p:nvPr/>
        </p:nvPicPr>
        <p:blipFill>
          <a:blip r:embed="rId6"/>
          <a:stretch/>
        </p:blipFill>
        <p:spPr>
          <a:xfrm>
            <a:off x="857160" y="4000680"/>
            <a:ext cx="1500120" cy="221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C:\Documents and Settings\Admin\Рабочий стол\МОЯ ФЛЭШКА\отсканированные документы\сканирование0015.jpg"/>
          <p:cNvPicPr/>
          <p:nvPr/>
        </p:nvPicPr>
        <p:blipFill>
          <a:blip r:embed="rId7"/>
          <a:stretch/>
        </p:blipFill>
        <p:spPr>
          <a:xfrm>
            <a:off x="2571840" y="407196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F:\отсканированные документы\Кенгуру, 2013\Коншина Алина, 2 место0012.jpg"/>
          <p:cNvPicPr/>
          <p:nvPr/>
        </p:nvPicPr>
        <p:blipFill>
          <a:blip r:embed="rId8"/>
          <a:stretch/>
        </p:blipFill>
        <p:spPr>
          <a:xfrm>
            <a:off x="4500720" y="4143240"/>
            <a:ext cx="1857240" cy="242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F:\отсканированные документы\Всерос. дистан.олимп. по мат. по проекту Инфоурок, дипломы детей\infourok32603.jpg"/>
          <p:cNvPicPr/>
          <p:nvPr/>
        </p:nvPicPr>
        <p:blipFill>
          <a:blip r:embed="rId9"/>
          <a:stretch/>
        </p:blipFill>
        <p:spPr>
          <a:xfrm>
            <a:off x="6572160" y="4714920"/>
            <a:ext cx="2362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1071720" y="21420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24139"/>
                </a:solidFill>
                <a:latin typeface="Monotype Corsiva"/>
              </a:rPr>
              <a:t>Научно- практическая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3" descr="j0431508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C:\Documents and Settings\Admin\Рабочий стол\МОЯ ФЛЭШКА\Исследоват.работа\Готовая исслед.работа\P1030442.JPG"/>
          <p:cNvPicPr/>
          <p:nvPr/>
        </p:nvPicPr>
        <p:blipFill>
          <a:blip r:embed="rId3"/>
          <a:stretch/>
        </p:blipFill>
        <p:spPr>
          <a:xfrm>
            <a:off x="642960" y="135720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F:\отсканированные документы\НПК 20131.jpg"/>
          <p:cNvPicPr/>
          <p:nvPr/>
        </p:nvPicPr>
        <p:blipFill>
          <a:blip r:embed="rId4"/>
          <a:stretch/>
        </p:blipFill>
        <p:spPr>
          <a:xfrm>
            <a:off x="4714920" y="178596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214200" y="357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24139"/>
                </a:solidFill>
                <a:latin typeface="Monotype Corsiva"/>
              </a:rPr>
              <a:t>КУРСЫ  ПОВЫШЕНИЯ 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C:\Documents and Settings\Admin\Мои документы\Мои результаты сканирования\Маргарита\Курсы пов.квал\сканирование0001.jpg"/>
          <p:cNvPicPr/>
          <p:nvPr/>
        </p:nvPicPr>
        <p:blipFill>
          <a:blip r:embed="rId1"/>
          <a:stretch/>
        </p:blipFill>
        <p:spPr>
          <a:xfrm>
            <a:off x="4214880" y="3786120"/>
            <a:ext cx="4595760" cy="285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Documents and Settings\Admin\Рабочий стол\МОЯ ФЛЭШКА\отсканированные документы\cертификат ЕГЭ.jpg"/>
          <p:cNvPicPr/>
          <p:nvPr/>
        </p:nvPicPr>
        <p:blipFill>
          <a:blip r:embed="rId2"/>
          <a:stretch/>
        </p:blipFill>
        <p:spPr>
          <a:xfrm>
            <a:off x="2214720" y="1143000"/>
            <a:ext cx="4405320" cy="2786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Documents and Settings\Admin\Рабочий стол\МОЯ ФЛЭШКА\отсканированные документы\сканирование0028.jpg"/>
          <p:cNvPicPr/>
          <p:nvPr/>
        </p:nvPicPr>
        <p:blipFill>
          <a:blip r:embed="rId3"/>
          <a:stretch/>
        </p:blipFill>
        <p:spPr>
          <a:xfrm>
            <a:off x="142920" y="371484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5" descr="j0431508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F:\Фото Назаровой М.А\DSCN0174.JPG"/>
          <p:cNvPicPr/>
          <p:nvPr/>
        </p:nvPicPr>
        <p:blipFill>
          <a:blip r:embed="rId3"/>
          <a:stretch/>
        </p:blipFill>
        <p:spPr>
          <a:xfrm>
            <a:off x="214200" y="1500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F:\Фото Назаровой М.А\IMG_4128.JPG"/>
          <p:cNvPicPr/>
          <p:nvPr/>
        </p:nvPicPr>
        <p:blipFill>
          <a:blip r:embed="rId4"/>
          <a:stretch/>
        </p:blipFill>
        <p:spPr>
          <a:xfrm>
            <a:off x="142920" y="392904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F:\Фото Назаровой М.А\P1000289.JPG"/>
          <p:cNvPicPr/>
          <p:nvPr/>
        </p:nvPicPr>
        <p:blipFill>
          <a:blip r:embed="rId5"/>
          <a:stretch/>
        </p:blipFill>
        <p:spPr>
          <a:xfrm>
            <a:off x="3143160" y="1357200"/>
            <a:ext cx="1928880" cy="2571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F:\Фото Назаровой М.А\P1000292.JPG"/>
          <p:cNvPicPr/>
          <p:nvPr/>
        </p:nvPicPr>
        <p:blipFill>
          <a:blip r:embed="rId6"/>
          <a:stretch/>
        </p:blipFill>
        <p:spPr>
          <a:xfrm>
            <a:off x="5500800" y="1357200"/>
            <a:ext cx="2803320" cy="228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F:\Фото Назаровой М.А\P1020328.JPG"/>
          <p:cNvPicPr/>
          <p:nvPr/>
        </p:nvPicPr>
        <p:blipFill>
          <a:blip r:embed="rId7"/>
          <a:stretch/>
        </p:blipFill>
        <p:spPr>
          <a:xfrm>
            <a:off x="6000840" y="4143240"/>
            <a:ext cx="2558880" cy="1919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C:\Documents and Settings\Admin\Рабочий стол\ФЛЕШКА по ВР\Все мои фото, кл.часа, ЕМД\день здоровья, 6В\P1030355.JPG"/>
          <p:cNvPicPr/>
          <p:nvPr/>
        </p:nvPicPr>
        <p:blipFill>
          <a:blip r:embed="rId8"/>
          <a:stretch/>
        </p:blipFill>
        <p:spPr>
          <a:xfrm>
            <a:off x="3429000" y="4357800"/>
            <a:ext cx="2367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11"/>
          <p:cNvSpPr txBox="1"/>
          <p:nvPr/>
        </p:nvSpPr>
        <p:spPr>
          <a:xfrm rot="5400000">
            <a:off x="-2971800" y="297180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Ялюблю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363" name="WordArt 12" descr=""/>
          <p:cNvPicPr/>
          <p:nvPr/>
        </p:nvPicPr>
        <p:blipFill>
          <a:blip r:embed="rId1"/>
          <a:stretch/>
        </p:blipFill>
        <p:spPr>
          <a:xfrm>
            <a:off x="901800" y="3121200"/>
            <a:ext cx="8248680" cy="804600"/>
          </a:xfrm>
          <a:prstGeom prst="rect">
            <a:avLst/>
          </a:prstGeom>
          <a:ln w="0">
            <a:noFill/>
          </a:ln>
        </p:spPr>
      </p:pic>
      <p:sp>
        <p:nvSpPr>
          <p:cNvPr id="364" name="WordArt 13"/>
          <p:cNvSpPr txBox="1"/>
          <p:nvPr/>
        </p:nvSpPr>
        <p:spPr>
          <a:xfrm>
            <a:off x="914400" y="60958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4e3b3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гда так считают другие, мне тоже приятно...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4e3b3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65" name="Picture 2" descr="F:\отсканированные документы\сканирование0023.jpg"/>
          <p:cNvPicPr/>
          <p:nvPr/>
        </p:nvPicPr>
        <p:blipFill>
          <a:blip r:embed="rId2"/>
          <a:stretch/>
        </p:blipFill>
        <p:spPr>
          <a:xfrm>
            <a:off x="785880" y="214200"/>
            <a:ext cx="1857240" cy="27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:\отсканированные документы\сканирование0030.jpg"/>
          <p:cNvPicPr/>
          <p:nvPr/>
        </p:nvPicPr>
        <p:blipFill>
          <a:blip r:embed="rId3"/>
          <a:stretch/>
        </p:blipFill>
        <p:spPr>
          <a:xfrm>
            <a:off x="2786040" y="285840"/>
            <a:ext cx="1785960" cy="2857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F:\отсканированные документы\семинар.jpg"/>
          <p:cNvPicPr/>
          <p:nvPr/>
        </p:nvPicPr>
        <p:blipFill>
          <a:blip r:embed="rId4"/>
          <a:stretch/>
        </p:blipFill>
        <p:spPr>
          <a:xfrm>
            <a:off x="4714920" y="214200"/>
            <a:ext cx="1857240" cy="2786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F:\отсканированные документы\Фестиваль, разработка урока..jpg"/>
          <p:cNvPicPr/>
          <p:nvPr/>
        </p:nvPicPr>
        <p:blipFill>
          <a:blip r:embed="rId5"/>
          <a:stretch/>
        </p:blipFill>
        <p:spPr>
          <a:xfrm>
            <a:off x="857160" y="3714840"/>
            <a:ext cx="1857600" cy="2357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F:\отсканированные документы\сканирование0032.jpg"/>
          <p:cNvPicPr/>
          <p:nvPr/>
        </p:nvPicPr>
        <p:blipFill>
          <a:blip r:embed="rId6"/>
          <a:stretch/>
        </p:blipFill>
        <p:spPr>
          <a:xfrm>
            <a:off x="27860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F:\отсканированные документы\Почетная грамота\сканирование0001.jpg"/>
          <p:cNvPicPr/>
          <p:nvPr/>
        </p:nvPicPr>
        <p:blipFill>
          <a:blip r:embed="rId7"/>
          <a:stretch/>
        </p:blipFill>
        <p:spPr>
          <a:xfrm>
            <a:off x="4857840" y="3786120"/>
            <a:ext cx="2000160" cy="2571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F:\отсканированные документы\Участие в работе проекта nfoUrok.Ru.jpg"/>
          <p:cNvPicPr/>
          <p:nvPr/>
        </p:nvPicPr>
        <p:blipFill>
          <a:blip r:embed="rId8"/>
          <a:stretch/>
        </p:blipFill>
        <p:spPr>
          <a:xfrm>
            <a:off x="6643800" y="428760"/>
            <a:ext cx="2357280" cy="2043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F:\отсканированные документы\сканирование0025.jpg"/>
          <p:cNvPicPr/>
          <p:nvPr/>
        </p:nvPicPr>
        <p:blipFill>
          <a:blip r:embed="rId9"/>
          <a:stretch/>
        </p:blipFill>
        <p:spPr>
          <a:xfrm>
            <a:off x="7000920" y="3857760"/>
            <a:ext cx="18590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6:56:03Z</dcterms:created>
  <dc:creator>Ирина</dc:creator>
  <dc:description/>
  <dc:language>en-US</dc:language>
  <cp:lastModifiedBy>Admin</cp:lastModifiedBy>
  <dcterms:modified xsi:type="dcterms:W3CDTF">2014-01-26T12:06:22Z</dcterms:modified>
  <cp:revision>354</cp:revision>
  <dc:subject/>
  <dc:title>Слайд 1</dc:title>
</cp:coreProperties>
</file>