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76B-0664-4437-9C07-CEDF0258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E2F-D293-41B9-B180-8BD46224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E46-0F80-4A7E-8BCD-10A63C64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288-277F-45FC-BD94-E394D86D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52660-903F-4EFA-B464-782DD459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54DFB-5115-4E6E-8707-3ED13D33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1B0A9-DCE2-4200-8F30-0E7D417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57447-917D-4E87-9325-A30889D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7A64E-D669-474B-8A77-541AE1B0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984E0-1447-41A2-B66F-7D95BF0F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2CCCA-80A0-47E3-BD64-FE3D2BB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09C-A1C5-463E-9984-A055A73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27C73-FB3E-4E86-962C-883CDA3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F0ADE-8328-4D36-9183-BE202AC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ADC8B-D720-4FFD-A5A0-A29F3F1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2ED5-FAF9-400C-B6C6-C18BDF9C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7EF48-C58D-4B6A-B919-F2A79539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02E-1F24-4DA5-B0D2-CD8B6378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25C-0369-4027-B107-D6EB2079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B19-42E8-4779-AFF9-1EC188F4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257-0C94-4B2C-AD21-9F235E01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FC3-D2B4-4EA7-9B3D-50B2F9A8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061-86CC-4635-98FB-BB5AB123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05D-30E3-4E55-8AC8-CCBBC5C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6CD-20DF-4E7E-B7E6-8B47E5D2F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2A4B-4A87-4C46-B673-22B922604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mpany.majordomo.ru/wallpapers/" TargetMode="External"/><Relationship Id="rId2" Type="http://schemas.openxmlformats.org/officeDocument/2006/relationships/hyperlink" Target="http://company.majordomo.ru/wallpapers/" TargetMode="External"/><Relationship Id="rId3" Type="http://schemas.openxmlformats.org/officeDocument/2006/relationships/hyperlink" Target="http://company.majordomo.ru/wallpapers/" TargetMode="External"/><Relationship Id="rId4" Type="http://schemas.openxmlformats.org/officeDocument/2006/relationships/hyperlink" Target="http://company.majordomo.ru/wallpapers/" TargetMode="External"/><Relationship Id="rId5" Type="http://schemas.openxmlformats.org/officeDocument/2006/relationships/hyperlink" Target="http://company.majordomo.ru/wallpapers/" TargetMode="External"/><Relationship Id="rId6" Type="http://schemas.openxmlformats.org/officeDocument/2006/relationships/hyperlink" Target="http://company.majordomo.ru/wallpapers/" TargetMode="External"/><Relationship Id="rId7" Type="http://schemas.openxmlformats.org/officeDocument/2006/relationships/hyperlink" Target="http://ideadnya.ru/?p=4173" TargetMode="External"/><Relationship Id="rId8" Type="http://schemas.openxmlformats.org/officeDocument/2006/relationships/hyperlink" Target="http://ideadnya.ru/?p=4173" TargetMode="External"/><Relationship Id="rId9" Type="http://schemas.openxmlformats.org/officeDocument/2006/relationships/hyperlink" Target="http://ideadnya.ru/?p=4173" TargetMode="External"/><Relationship Id="rId10" Type="http://schemas.openxmlformats.org/officeDocument/2006/relationships/hyperlink" Target="http://ideadnya.ru/?p=4173" TargetMode="External"/><Relationship Id="rId11" Type="http://schemas.openxmlformats.org/officeDocument/2006/relationships/hyperlink" Target="http://povarenok.org/page/8/" TargetMode="External"/><Relationship Id="rId12" Type="http://schemas.openxmlformats.org/officeDocument/2006/relationships/hyperlink" Target="http://povarenok.org/page/8/" TargetMode="External"/><Relationship Id="rId13" Type="http://schemas.openxmlformats.org/officeDocument/2006/relationships/hyperlink" Target="http://povarenok.org/page/8/" TargetMode="External"/><Relationship Id="rId14" Type="http://schemas.openxmlformats.org/officeDocument/2006/relationships/hyperlink" Target="http://povarenok.org/page/8/" TargetMode="External"/><Relationship Id="rId15" Type="http://schemas.openxmlformats.org/officeDocument/2006/relationships/hyperlink" Target="http://povarenok.org/page/8/" TargetMode="External"/><Relationship Id="rId16" Type="http://schemas.openxmlformats.org/officeDocument/2006/relationships/hyperlink" Target="http://povarenok.org/page/8/" TargetMode="External"/><Relationship Id="rId17" Type="http://schemas.openxmlformats.org/officeDocument/2006/relationships/hyperlink" Target="http://www.les-invest53.ru/view/135" TargetMode="External"/><Relationship Id="rId18" Type="http://schemas.openxmlformats.org/officeDocument/2006/relationships/hyperlink" Target="http://www.les-invest53.ru/view/135" TargetMode="External"/><Relationship Id="rId19" Type="http://schemas.openxmlformats.org/officeDocument/2006/relationships/hyperlink" Target="http://www.les-invest53.ru/view/135" TargetMode="External"/><Relationship Id="rId20" Type="http://schemas.openxmlformats.org/officeDocument/2006/relationships/hyperlink" Target="http://www.les-invest53.ru/view/135" TargetMode="External"/><Relationship Id="rId21" Type="http://schemas.openxmlformats.org/officeDocument/2006/relationships/hyperlink" Target="http://formaslov.ru/&#1086;&#1073;&#1083;&#1072;&#1082;&#1086;" TargetMode="External"/><Relationship Id="rId22" Type="http://schemas.openxmlformats.org/officeDocument/2006/relationships/hyperlink" Target="http://formaslov.ru/&#1086;&#1073;&#1083;&#1072;&#1082;&#1086;" TargetMode="External"/><Relationship Id="rId23" Type="http://schemas.openxmlformats.org/officeDocument/2006/relationships/hyperlink" Target="http://formaslov.ru/&#1086;&#1073;&#1083;&#1072;&#1082;&#1086;" TargetMode="External"/><Relationship Id="rId24" Type="http://schemas.openxmlformats.org/officeDocument/2006/relationships/hyperlink" Target="http://formaslov.ru/&#1086;&#1073;&#1083;&#1072;&#1082;&#1086;" TargetMode="External"/><Relationship Id="rId25" Type="http://schemas.openxmlformats.org/officeDocument/2006/relationships/hyperlink" Target="http://www.russtyle-yug.ru/catalog.php?id=44113" TargetMode="External"/><Relationship Id="rId26" Type="http://schemas.openxmlformats.org/officeDocument/2006/relationships/hyperlink" Target="http://www.russtyle-yug.ru/catalog.php?id=44113" TargetMode="External"/><Relationship Id="rId27" Type="http://schemas.openxmlformats.org/officeDocument/2006/relationships/hyperlink" Target="http://www.russtyle-yug.ru/catalog.php?id=44113" TargetMode="External"/><Relationship Id="rId28" Type="http://schemas.openxmlformats.org/officeDocument/2006/relationships/hyperlink" Target="http://www.russtyle-yug.ru/catalog.php?id=44113" TargetMode="External"/><Relationship Id="rId29" Type="http://schemas.openxmlformats.org/officeDocument/2006/relationships/hyperlink" Target="http://www.omsk-design.ru/index.php?id=37&amp;doc=kosmicheskaia_tematika&amp;print=1" TargetMode="External"/><Relationship Id="rId30" Type="http://schemas.openxmlformats.org/officeDocument/2006/relationships/hyperlink" Target="http://www.omsk-design.ru/index.php?id=37&amp;doc=kosmicheskaia_tematika&amp;print=1" TargetMode="External"/><Relationship Id="rId31" Type="http://schemas.openxmlformats.org/officeDocument/2006/relationships/hyperlink" Target="http://www.omsk-design.ru/index.php?id=37&amp;doc=kosmicheskaia_tematika&amp;print=1" TargetMode="External"/><Relationship Id="rId32" Type="http://schemas.openxmlformats.org/officeDocument/2006/relationships/hyperlink" Target="http://www.omsk-design.ru/index.php?id=37&amp;doc=kosmicheskaia_tematika&amp;print=1" TargetMode="External"/><Relationship Id="rId33" Type="http://schemas.openxmlformats.org/officeDocument/2006/relationships/hyperlink" Target="http://pixelbrush.ru/2009/02/05/" TargetMode="External"/><Relationship Id="rId34" Type="http://schemas.openxmlformats.org/officeDocument/2006/relationships/hyperlink" Target="http://pixelbrush.ru/2009/02/05/" TargetMode="External"/><Relationship Id="rId35" Type="http://schemas.openxmlformats.org/officeDocument/2006/relationships/hyperlink" Target="http://pixelbrush.ru/2009/02/05/" TargetMode="External"/><Relationship Id="rId36" Type="http://schemas.openxmlformats.org/officeDocument/2006/relationships/hyperlink" Target="http://pixelbrush.ru/2009/02/05/" TargetMode="External"/><Relationship Id="rId37" Type="http://schemas.openxmlformats.org/officeDocument/2006/relationships/hyperlink" Target="http://mikkidizz.beon.ru/2.html" TargetMode="External"/><Relationship Id="rId38" Type="http://schemas.openxmlformats.org/officeDocument/2006/relationships/hyperlink" Target="http://mikkidizz.beon.ru/2.html" TargetMode="External"/><Relationship Id="rId39" Type="http://schemas.openxmlformats.org/officeDocument/2006/relationships/hyperlink" Target="http://mikkidizz.beon.ru/2.html" TargetMode="External"/><Relationship Id="rId40" Type="http://schemas.openxmlformats.org/officeDocument/2006/relationships/hyperlink" Target="http://mikkidizz.beon.ru/2.html" TargetMode="External"/><Relationship Id="rId41" Type="http://schemas.openxmlformats.org/officeDocument/2006/relationships/hyperlink" Target="http://forum.myjane.ru/viewtopic.php?t=36942" TargetMode="External"/><Relationship Id="rId42" Type="http://schemas.openxmlformats.org/officeDocument/2006/relationships/hyperlink" Target="http://forum.myjane.ru/viewtopic.php?t=36942" TargetMode="External"/><Relationship Id="rId43" Type="http://schemas.openxmlformats.org/officeDocument/2006/relationships/hyperlink" Target="http://forum.myjane.ru/viewtopic.php?t=36942" TargetMode="External"/><Relationship Id="rId44" Type="http://schemas.openxmlformats.org/officeDocument/2006/relationships/hyperlink" Target="http://forum.myjane.ru/viewtopic.php?t=36942" TargetMode="External"/><Relationship Id="rId45" Type="http://schemas.openxmlformats.org/officeDocument/2006/relationships/hyperlink" Target="http://stepashka.ipb.su/index.php" TargetMode="External"/><Relationship Id="rId4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matanya.narod.ru/laborator/air.html" TargetMode="External"/><Relationship Id="rId2" Type="http://schemas.openxmlformats.org/officeDocument/2006/relationships/hyperlink" Target="http://mamatanya.narod.ru/laborator/air.html" TargetMode="External"/><Relationship Id="rId3" Type="http://schemas.openxmlformats.org/officeDocument/2006/relationships/hyperlink" Target="http://sibmama.ru/index.php?p=opiti5" TargetMode="External"/><Relationship Id="rId4" Type="http://schemas.openxmlformats.org/officeDocument/2006/relationships/hyperlink" Target="http://blogs.privet.ru/user/yuriy_gundarin/80695514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читай текст на стр.3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39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mpany.majordomo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allpaper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deadnya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?p=41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ovarenok.or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g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8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www.les-invest53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vie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ormaslov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обла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russtyle-yug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catalog.php?id=44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ww.omsk-design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index.php?id=37&amp;doc=kosmicheskaia_tematika&amp;print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pixelbrush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2009/02/0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mikkidizz.beon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forum.myjane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viewtopic.php?t=36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stepashka.ipb.su/index.p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matanya.narod.ru/laborator/ai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rebrovaen.ucoz.ru/files/prezentaciyamicrosoftpowerpoint.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oshkolnik.org/forum/263_uk.ht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ibmama.ru/index.php?p=opiti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blogs.privet.ru/user/yuriy_gundarin/806955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rainbowlink.ru/default.asp?countryID=RU&amp;infoID=20&amp;themaID=53&amp;typ=ka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rseller.ru/news/21-09-200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2.ru/story/4906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c.moye.ru/thumbnails.php?album=topn&amp;cat=10116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nosmi.ru/social/20091111/156522306.html?i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ld.marin.ru/greece/vip_par_15_Dream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ree-lance.ru/users/Venom_/viewproj.php?prjid=4207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.me.ru/Suzdal2006?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uti-puti.com.ua/afisha.php?cat=55&amp;page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osti24.ru/?page=30&amp;pg=2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bb.ct.kz/lofiversion/index.php/t19291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Admin</cp:lastModifiedBy>
  <dcterms:modified xsi:type="dcterms:W3CDTF">2012-07-04T20:29:38Z</dcterms:modified>
  <cp:revision>5</cp:revision>
  <dc:subject/>
  <dc:title>Слайд 1</dc:title>
</cp:coreProperties>
</file>