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6.gif" ContentType="image/gif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EB7-70D8-44FD-B9CA-E9BFA01C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1D6-3958-4005-81F5-43D842EA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724-80B7-4927-927C-C5830E1D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BB9-470B-41B6-ABED-D7F63D41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B6E74-4255-4EB0-811E-C986E23E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9D6D5-AB7A-4C28-AB5F-22DEEE0C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6C6A5-D627-4752-8515-9A545774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EFC4B-D8C2-4D65-82DF-215BB337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78EB8-09AF-4303-B224-6E9A8AAC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D1E5A-005C-436F-8E55-C706A83F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B7E8F-5283-44A2-8A2A-BECF42B1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B12-D1C8-4BC0-B283-693AED99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89919-8C74-4BD8-9AB4-A03E2747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0D5E1-696F-4311-82D9-6EFA8B14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56A8B-00ED-4261-BEBA-E27DA3D1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5501B-DF1D-4A12-8404-95F98E7E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212B7-EE62-44CC-AE38-F5A83F40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266-82DE-4DA0-9D48-A43D2C81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DF0-6554-4BFB-BA78-06D8843F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318-0285-4E0A-AB4F-5BAC1CCB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5BB-B1B2-4E44-A0D2-CBDEC346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BDB-A019-4EC2-8A32-4AC8661C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B97-F212-43F9-96CC-B9D4AA51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7D3-450D-46D9-A428-678B25EA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5A63-C9F4-44D2-A7BE-22BAEAB92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715000"/>
            <a:ext cx="9169560" cy="97776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9F71-FBFB-4AC2-A1CB-0B9C8AEC8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ompany.majordomo.ru/wallpapers/" TargetMode="External"/><Relationship Id="rId2" Type="http://schemas.openxmlformats.org/officeDocument/2006/relationships/hyperlink" Target="http://company.majordomo.ru/wallpapers/" TargetMode="External"/><Relationship Id="rId3" Type="http://schemas.openxmlformats.org/officeDocument/2006/relationships/hyperlink" Target="http://company.majordomo.ru/wallpapers/" TargetMode="External"/><Relationship Id="rId4" Type="http://schemas.openxmlformats.org/officeDocument/2006/relationships/hyperlink" Target="http://company.majordomo.ru/wallpapers/" TargetMode="External"/><Relationship Id="rId5" Type="http://schemas.openxmlformats.org/officeDocument/2006/relationships/hyperlink" Target="http://company.majordomo.ru/wallpapers/" TargetMode="External"/><Relationship Id="rId6" Type="http://schemas.openxmlformats.org/officeDocument/2006/relationships/hyperlink" Target="http://company.majordomo.ru/wallpapers/" TargetMode="External"/><Relationship Id="rId7" Type="http://schemas.openxmlformats.org/officeDocument/2006/relationships/hyperlink" Target="http://ideadnya.ru/?p=4173" TargetMode="External"/><Relationship Id="rId8" Type="http://schemas.openxmlformats.org/officeDocument/2006/relationships/hyperlink" Target="http://ideadnya.ru/?p=4173" TargetMode="External"/><Relationship Id="rId9" Type="http://schemas.openxmlformats.org/officeDocument/2006/relationships/hyperlink" Target="http://ideadnya.ru/?p=4173" TargetMode="External"/><Relationship Id="rId10" Type="http://schemas.openxmlformats.org/officeDocument/2006/relationships/hyperlink" Target="http://ideadnya.ru/?p=4173" TargetMode="External"/><Relationship Id="rId11" Type="http://schemas.openxmlformats.org/officeDocument/2006/relationships/hyperlink" Target="http://povarenok.org/page/8/" TargetMode="External"/><Relationship Id="rId12" Type="http://schemas.openxmlformats.org/officeDocument/2006/relationships/hyperlink" Target="http://povarenok.org/page/8/" TargetMode="External"/><Relationship Id="rId13" Type="http://schemas.openxmlformats.org/officeDocument/2006/relationships/hyperlink" Target="http://povarenok.org/page/8/" TargetMode="External"/><Relationship Id="rId14" Type="http://schemas.openxmlformats.org/officeDocument/2006/relationships/hyperlink" Target="http://povarenok.org/page/8/" TargetMode="External"/><Relationship Id="rId15" Type="http://schemas.openxmlformats.org/officeDocument/2006/relationships/hyperlink" Target="http://povarenok.org/page/8/" TargetMode="External"/><Relationship Id="rId16" Type="http://schemas.openxmlformats.org/officeDocument/2006/relationships/hyperlink" Target="http://povarenok.org/page/8/" TargetMode="External"/><Relationship Id="rId17" Type="http://schemas.openxmlformats.org/officeDocument/2006/relationships/hyperlink" Target="http://www.les-invest53.ru/view/135" TargetMode="External"/><Relationship Id="rId18" Type="http://schemas.openxmlformats.org/officeDocument/2006/relationships/hyperlink" Target="http://www.les-invest53.ru/view/135" TargetMode="External"/><Relationship Id="rId19" Type="http://schemas.openxmlformats.org/officeDocument/2006/relationships/hyperlink" Target="http://www.les-invest53.ru/view/135" TargetMode="External"/><Relationship Id="rId20" Type="http://schemas.openxmlformats.org/officeDocument/2006/relationships/hyperlink" Target="http://www.les-invest53.ru/view/135" TargetMode="External"/><Relationship Id="rId21" Type="http://schemas.openxmlformats.org/officeDocument/2006/relationships/hyperlink" Target="http://formaslov.ru/&#1086;&#1073;&#1083;&#1072;&#1082;&#1086;" TargetMode="External"/><Relationship Id="rId22" Type="http://schemas.openxmlformats.org/officeDocument/2006/relationships/hyperlink" Target="http://formaslov.ru/&#1086;&#1073;&#1083;&#1072;&#1082;&#1086;" TargetMode="External"/><Relationship Id="rId23" Type="http://schemas.openxmlformats.org/officeDocument/2006/relationships/hyperlink" Target="http://formaslov.ru/&#1086;&#1073;&#1083;&#1072;&#1082;&#1086;" TargetMode="External"/><Relationship Id="rId24" Type="http://schemas.openxmlformats.org/officeDocument/2006/relationships/hyperlink" Target="http://formaslov.ru/&#1086;&#1073;&#1083;&#1072;&#1082;&#1086;" TargetMode="External"/><Relationship Id="rId25" Type="http://schemas.openxmlformats.org/officeDocument/2006/relationships/hyperlink" Target="http://www.russtyle-yug.ru/catalog.php?id=44113" TargetMode="External"/><Relationship Id="rId26" Type="http://schemas.openxmlformats.org/officeDocument/2006/relationships/hyperlink" Target="http://www.russtyle-yug.ru/catalog.php?id=44113" TargetMode="External"/><Relationship Id="rId27" Type="http://schemas.openxmlformats.org/officeDocument/2006/relationships/hyperlink" Target="http://www.russtyle-yug.ru/catalog.php?id=44113" TargetMode="External"/><Relationship Id="rId28" Type="http://schemas.openxmlformats.org/officeDocument/2006/relationships/hyperlink" Target="http://www.russtyle-yug.ru/catalog.php?id=44113" TargetMode="External"/><Relationship Id="rId29" Type="http://schemas.openxmlformats.org/officeDocument/2006/relationships/hyperlink" Target="http://www.omsk-design.ru/index.php?id=37&amp;doc=kosmicheskaia_tematika&amp;print=1" TargetMode="External"/><Relationship Id="rId30" Type="http://schemas.openxmlformats.org/officeDocument/2006/relationships/hyperlink" Target="http://www.omsk-design.ru/index.php?id=37&amp;doc=kosmicheskaia_tematika&amp;print=1" TargetMode="External"/><Relationship Id="rId31" Type="http://schemas.openxmlformats.org/officeDocument/2006/relationships/hyperlink" Target="http://www.omsk-design.ru/index.php?id=37&amp;doc=kosmicheskaia_tematika&amp;print=1" TargetMode="External"/><Relationship Id="rId32" Type="http://schemas.openxmlformats.org/officeDocument/2006/relationships/hyperlink" Target="http://www.omsk-design.ru/index.php?id=37&amp;doc=kosmicheskaia_tematika&amp;print=1" TargetMode="External"/><Relationship Id="rId33" Type="http://schemas.openxmlformats.org/officeDocument/2006/relationships/hyperlink" Target="http://pixelbrush.ru/2009/02/05/" TargetMode="External"/><Relationship Id="rId34" Type="http://schemas.openxmlformats.org/officeDocument/2006/relationships/hyperlink" Target="http://pixelbrush.ru/2009/02/05/" TargetMode="External"/><Relationship Id="rId35" Type="http://schemas.openxmlformats.org/officeDocument/2006/relationships/hyperlink" Target="http://pixelbrush.ru/2009/02/05/" TargetMode="External"/><Relationship Id="rId36" Type="http://schemas.openxmlformats.org/officeDocument/2006/relationships/hyperlink" Target="http://pixelbrush.ru/2009/02/05/" TargetMode="External"/><Relationship Id="rId37" Type="http://schemas.openxmlformats.org/officeDocument/2006/relationships/hyperlink" Target="http://mikkidizz.beon.ru/2.html" TargetMode="External"/><Relationship Id="rId38" Type="http://schemas.openxmlformats.org/officeDocument/2006/relationships/hyperlink" Target="http://mikkidizz.beon.ru/2.html" TargetMode="External"/><Relationship Id="rId39" Type="http://schemas.openxmlformats.org/officeDocument/2006/relationships/hyperlink" Target="http://mikkidizz.beon.ru/2.html" TargetMode="External"/><Relationship Id="rId40" Type="http://schemas.openxmlformats.org/officeDocument/2006/relationships/hyperlink" Target="http://mikkidizz.beon.ru/2.html" TargetMode="External"/><Relationship Id="rId41" Type="http://schemas.openxmlformats.org/officeDocument/2006/relationships/hyperlink" Target="http://forum.myjane.ru/viewtopic.php?t=36942" TargetMode="External"/><Relationship Id="rId42" Type="http://schemas.openxmlformats.org/officeDocument/2006/relationships/hyperlink" Target="http://forum.myjane.ru/viewtopic.php?t=36942" TargetMode="External"/><Relationship Id="rId43" Type="http://schemas.openxmlformats.org/officeDocument/2006/relationships/hyperlink" Target="http://forum.myjane.ru/viewtopic.php?t=36942" TargetMode="External"/><Relationship Id="rId44" Type="http://schemas.openxmlformats.org/officeDocument/2006/relationships/hyperlink" Target="http://forum.myjane.ru/viewtopic.php?t=36942" TargetMode="External"/><Relationship Id="rId45" Type="http://schemas.openxmlformats.org/officeDocument/2006/relationships/hyperlink" Target="http://stepashka.ipb.su/index.php" TargetMode="External"/><Relationship Id="rId4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matanya.narod.ru/laborator/air.html" TargetMode="External"/><Relationship Id="rId2" Type="http://schemas.openxmlformats.org/officeDocument/2006/relationships/hyperlink" Target="http://mamatanya.narod.ru/laborator/air.html" TargetMode="External"/><Relationship Id="rId3" Type="http://schemas.openxmlformats.org/officeDocument/2006/relationships/hyperlink" Target="http://sibmama.ru/index.php?p=opiti5" TargetMode="External"/><Relationship Id="rId4" Type="http://schemas.openxmlformats.org/officeDocument/2006/relationships/hyperlink" Target="http://blogs.privet.ru/user/yuriy_gundarin/80695514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Monotype Corsiva"/>
              </a:rPr>
              <a:t>Про возду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940360" y="4543560"/>
            <a:ext cx="3000600" cy="2125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оздух – это смесь разных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60560" y="2331720"/>
            <a:ext cx="4102200" cy="3559320"/>
          </a:xfrm>
          <a:prstGeom prst="rect">
            <a:avLst/>
          </a:prstGeom>
          <a:ln w="0">
            <a:noFill/>
          </a:ln>
        </p:spPr>
      </p:pic>
      <p:sp>
        <p:nvSpPr>
          <p:cNvPr id="148" name="Овальная выноска 9"/>
          <p:cNvSpPr/>
          <p:nvPr/>
        </p:nvSpPr>
        <p:spPr>
          <a:xfrm>
            <a:off x="395280" y="1628640"/>
            <a:ext cx="3429000" cy="857520"/>
          </a:xfrm>
          <a:prstGeom prst="wedgeEllipseCallout">
            <a:avLst>
              <a:gd name="adj1" fmla="val 45231"/>
              <a:gd name="adj2" fmla="val 158518"/>
            </a:avLst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82"/>
                </a:solidFill>
                <a:latin typeface="Verdana"/>
              </a:rPr>
              <a:t>углекислый газ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ьная выноска 12"/>
          <p:cNvSpPr/>
          <p:nvPr/>
        </p:nvSpPr>
        <p:spPr>
          <a:xfrm>
            <a:off x="5508720" y="1844640"/>
            <a:ext cx="3429000" cy="857160"/>
          </a:xfrm>
          <a:prstGeom prst="wedgeEllipseCallout">
            <a:avLst>
              <a:gd name="adj1" fmla="val -52731"/>
              <a:gd name="adj2" fmla="val 98333"/>
            </a:avLst>
          </a:prstGeom>
          <a:solidFill>
            <a:srgbClr val="99ff66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82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82"/>
                </a:solidFill>
                <a:latin typeface="Verdana"/>
              </a:rPr>
              <a:t>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ьная выноска 13"/>
          <p:cNvSpPr/>
          <p:nvPr/>
        </p:nvSpPr>
        <p:spPr>
          <a:xfrm>
            <a:off x="5435640" y="5661000"/>
            <a:ext cx="3429000" cy="85716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82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82"/>
                </a:solidFill>
                <a:latin typeface="Verdana"/>
              </a:rPr>
              <a:t>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пыт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50560" y="1915920"/>
            <a:ext cx="709308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адуем воздушный шарик.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дохнём воздух из него. Выдохн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Ещё раз вдохнём. Становится вс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труднее вдыхать.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Мы «выловили» весь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шарика. Если бы внутри шар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сейчас оказалась мышка,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задохнулась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1240" y="1628640"/>
            <a:ext cx="1796760" cy="41054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-756360" y="5805360"/>
            <a:ext cx="107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- Для чего мы проветриваем комна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ё живое давно 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охнулось, если 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растения. И ду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ан, и трави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крохотные водоро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адно ловят углекис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з, он необходим растениям для питания.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вращают в воздух кислород. Леса, луга, по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ки, сады – все растения на Земле в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екислого газа дают нам живительный кисл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больше вокруг зелени, тем чище возду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287960" cy="325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тчего загрязняется возду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й текст на стр.3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 схему в учебнике (стр.39) и объясните значение сх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еобходимо делать, чтобы защитить воздух от загряз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7961400" cy="24796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Использование воздуха челове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736720" cy="1811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176200" cy="2901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276720" y="2276640"/>
            <a:ext cx="2485800" cy="345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421320" y="3645000"/>
            <a:ext cx="2052720" cy="2985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012000" y="1628640"/>
            <a:ext cx="2879640" cy="180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mpany.majordomo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allpaper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ideadnya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?p=41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ovarenok.or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ag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8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www.les-invest53.ru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vie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formaslov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обла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russtyle-yug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catalog.php?id=44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ww.omsk-design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index.php?id=37&amp;doc=kosmicheskaia_tematika&amp;print=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pixelbrush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2009/02/0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mikkidizz.beon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/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forum.myjane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/viewtopic.php?t=36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stepashka.ipb.su/index.ph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matanya.narod.ru/laborator/ai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erebrovaen.ucoz.ru/files/prezentaciyamicrosoftpowerpoint.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shkolnik.org/forum/263_uk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ibmama.ru/index.php?p=opiti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logs.privet.ru/user/yuriy_gundarin/806955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rainbowlink.ru/default.asp?countryID=RU&amp;infoID=20&amp;themaID=53&amp;typ=ka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arseller.ru/news/21-09-200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news2.ru/story/4906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cc.moye.ru/thumbnails.php?album=topn&amp;cat=10116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nosmi.ru/social/20091111/156522306.html?id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ld.marin.ru/greece/vip_par_15_Dream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ree-lance.ru/users/Venom_/viewproj.php?prjid=4207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hoto.me.ru/Suzdal2006?page=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uti-puti.com.ua/afisha.php?cat=55&amp;page=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osti24.ru/?page=30&amp;pg=2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bb.ct.kz/lofiversion/index.php/t19291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нельзя отнести к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1420560" cy="1726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20000" y="1413000"/>
            <a:ext cx="1800000" cy="1523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340000" y="1341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727280" cy="15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148360" y="1916280"/>
            <a:ext cx="165708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236000" y="3860640"/>
            <a:ext cx="156816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627280" y="2781360"/>
            <a:ext cx="1584360" cy="1584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4788000" y="4292640"/>
            <a:ext cx="1944720" cy="1458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2340000" y="4869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эти предм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24000" y="2565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1657440" cy="16574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164360" y="2421000"/>
            <a:ext cx="1568520" cy="180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124000" y="472428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932360" y="4653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561960" y="1700280"/>
            <a:ext cx="277452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26320" y="1700280"/>
            <a:ext cx="313884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не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тавьте слово по первым буквам в названиях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476360" y="476280"/>
            <a:ext cx="5977080" cy="764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431960" y="3349800"/>
            <a:ext cx="44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том он бывает тёпл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ет холодом зи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иней красит ст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лежит на них кай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о нём не 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то мы его вдыхае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ведь нам необход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960" y="260280"/>
            <a:ext cx="522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– прозрачный невидим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гкий и бесцветн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сомою косы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окутывае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в лесу – густой, душист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хнет свежестью смолис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хнет дубом и со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6000" y="404640"/>
            <a:ext cx="3089160" cy="2318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2162160" cy="2881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пыт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Помашите ладошками около ли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Мы ощущаем легкий ветерок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движение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3633840" cy="2021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пыт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3280" y="1860480"/>
            <a:ext cx="7740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озьмём пустую прозрачную пластиков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бутылку и проверим, что там действ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ичего нет. Если мы опустим бутылку в во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то увидим, что из горлышка вых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пузырьки. Это вода вытесняет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бутылки. Большинство предметов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ыглядят пуст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заполнены  воздух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35640" y="4581360"/>
            <a:ext cx="3476520" cy="2089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286000" cy="165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824040" cy="208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5:47:06Z</dcterms:created>
  <dc:creator>мама</dc:creator>
  <dc:description/>
  <dc:language>en-US</dc:language>
  <cp:lastModifiedBy>Admin</cp:lastModifiedBy>
  <dcterms:modified xsi:type="dcterms:W3CDTF">2012-07-04T20:29:38Z</dcterms:modified>
  <cp:revision>5</cp:revision>
  <dc:subject/>
  <dc:title>Слайд 1</dc:title>
</cp:coreProperties>
</file>