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34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37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breeze.wav" ContentType="audio/x-wav"/>
  <Override PartName="/ppt/media/applause.wav" ContentType="audio/x-wav"/>
  <Override PartName="/ppt/media/image35.gif" ContentType="image/gif"/>
  <Override PartName="/ppt/media/image28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move the slide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104-7200-4445-B5CE-ADF8352158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F76-3142-417E-BCD2-4F75CC82F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7B6-026E-40DD-8D6E-017C9A0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ED6-10D1-4F1D-BDF6-1C0DD8F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AAA-5047-4385-A297-4252AE48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1D4-4917-4194-9EFE-101A7FFC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9FB8-041A-46F9-AE00-45A385EF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533-5BF3-4F68-9F38-5E94B80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EAF-9E79-4F15-B2A9-E8B348DE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7C3-E5A1-4A05-BC07-EEA8B8F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6FBF-918F-4C92-B674-821D98D7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79D0-C5EF-49A4-A546-F8288934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629C-283F-4256-A36B-22792D3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B6B-BF10-4F5F-8D5E-28C899E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BEB4-C741-45E2-BA69-3CC3941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9DAD-7378-4DE1-9863-ABFC847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2C30-F956-4D35-AA1C-3AE83A1D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1E4A-62B6-475B-8BBE-FBE91FFA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901-D65F-4A80-8515-55660DEB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D333-75E2-4400-8976-B4DD66E1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9F14-CDE2-40F7-A1E8-FAD517E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E07B-80E4-41C8-A488-6E69365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A171-886D-4D03-B35B-F6C1DD3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2050-DEB7-4D15-A7C7-50CF0FA0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82D-3FDB-43B5-A58B-6CFB98F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E5C1-52A3-4D80-84AC-8C1B307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EFD8-1979-46A3-87A2-C2D0F73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00F5-2F15-427F-836B-94A6BCA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5C04-251E-4509-977C-75D0664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CBC1-A377-4BC0-918D-E2C92ABC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90C8-F2CE-4AD8-999D-4AB85B1B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5C48-C871-449E-A59C-9C8B6585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A127-ECA7-450E-989A-3C56749F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543B-5296-40ED-85B0-9F47ACF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C878-51F7-4CB0-B873-7993FADA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AD5-8A26-40B8-AF28-A503D48C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B93F-E0EB-4287-91EF-6FFEE2D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61C1-5010-4873-A7F4-28A734B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288B-7A6A-433F-88E0-70084E67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0E19-409D-4BD5-95ED-9DF3C0C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2A8B-95D0-44B8-AB0B-9D3835C9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6E82-841A-41EE-B33A-3C7F56B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B03F-11EA-4878-9607-58F8483B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8A36-8FA5-4FBC-97B9-0C4AFF70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1922-C67E-489F-BB94-3F626A03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2C2E-A4C4-4E13-9562-787DF47E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C31-4C8E-40C3-AAD3-8A1523A1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21AB-EBA4-43CB-B80B-44B08F85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6DDD-838B-426A-A686-E361E75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F6BE-E693-48D4-92FB-687110F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123B-D750-4594-91E4-8502799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AA2E-DB1B-482F-B7F8-1ED50606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B4037-6269-41FE-ABAE-36D481C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6BEE-C3A8-48BA-944F-D8AA9BC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8877-5E55-4B3D-9DA3-CE4E5AF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5E24-43EF-4BC4-9058-5938E886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B610-8880-4272-9CCF-F536236F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8B1-BB91-499E-B502-E8E70775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3BE5-2B8C-4E1F-B2F4-5E642ECB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1FE5-2213-496D-965E-41F02D75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A321-6190-4E3D-A1CD-0DBB66A0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36F17-E614-46E6-B691-CCEFFADB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BDD0-3D03-4BA0-8ADF-D672141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D2E3-936C-42F2-9611-66A8F41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22EE-5B35-434E-8B45-B92C26A4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8B90-FEDA-458B-9ADE-156AFBC2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9612A-841E-473C-9F1A-5C5A6E62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5500-8672-4C71-92CA-C7B4B47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C19-1E51-4B7E-9254-7DA7FE4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A9FF0-4255-4494-8003-1BFD385E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5684-FBDD-4EA1-BE70-C7CAEE4D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74D3-2C0D-4439-9506-5F0B076B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C90-2337-4D39-8333-02FCF5E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07D-1D00-492F-9661-8049223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9A6-B2D3-4389-A732-3549E18FB360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9376-3839-4945-B74C-FFD675B552E4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84A-ADBF-46DC-852F-21A59A08E48E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F8F-47C2-4C43-B7E8-7914436FB292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07E-C6C6-45DE-B2F3-35424CC5B40D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098F-2C2C-4DBF-9D9E-CE1794DC0451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ческим чудесам…</a:t>
            </a:r>
            <a:r>
              <a:rPr b="1" lang="ru-RU" sz="4000" spc="-1" strike="noStrike">
                <a:solidFill>
                  <a:srgbClr val="848fba"/>
                </a:solidFill>
                <a:latin typeface="Cambria"/>
              </a:rPr>
              <a:t> </a:t>
            </a:r>
            <a:endParaRPr b="1" lang="en-US" sz="40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143000" y="6143760"/>
            <a:ext cx="184320" cy="369720"/>
          </a:xfrm>
          <a:prstGeom prst="rect">
            <a:avLst/>
          </a:prstGeom>
          <a:solidFill>
            <a:srgbClr val="bca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док-ты\Мои рисунки\telaraznogoV.gif"/>
          <p:cNvPicPr/>
          <p:nvPr/>
        </p:nvPicPr>
        <p:blipFill>
          <a:blip r:embed="rId1"/>
          <a:stretch/>
        </p:blipFill>
        <p:spPr>
          <a:xfrm>
            <a:off x="785880" y="714240"/>
            <a:ext cx="7596000" cy="592956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право 2"/>
          <p:cNvSpPr/>
          <p:nvPr/>
        </p:nvSpPr>
        <p:spPr>
          <a:xfrm>
            <a:off x="285840" y="3143160"/>
            <a:ext cx="1714320" cy="714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лево 3"/>
          <p:cNvSpPr/>
          <p:nvPr/>
        </p:nvSpPr>
        <p:spPr>
          <a:xfrm>
            <a:off x="7286760" y="3214800"/>
            <a:ext cx="1643040" cy="6429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Цилиндр 1"/>
          <p:cNvSpPr/>
          <p:nvPr/>
        </p:nvSpPr>
        <p:spPr>
          <a:xfrm>
            <a:off x="714240" y="2214720"/>
            <a:ext cx="1428840" cy="3929040"/>
          </a:xfrm>
          <a:prstGeom prst="can">
            <a:avLst>
              <a:gd name="adj" fmla="val 9092"/>
            </a:avLst>
          </a:prstGeom>
          <a:solidFill>
            <a:srgbClr val="e3e5ed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Цилиндр 2"/>
          <p:cNvSpPr/>
          <p:nvPr/>
        </p:nvSpPr>
        <p:spPr>
          <a:xfrm>
            <a:off x="3143160" y="4000680"/>
            <a:ext cx="1285920" cy="2143080"/>
          </a:xfrm>
          <a:prstGeom prst="can">
            <a:avLst>
              <a:gd name="adj" fmla="val 15000"/>
            </a:avLst>
          </a:prstGeom>
          <a:solidFill>
            <a:srgbClr val="7f7f7f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Цилиндр 3"/>
          <p:cNvSpPr/>
          <p:nvPr/>
        </p:nvSpPr>
        <p:spPr>
          <a:xfrm>
            <a:off x="5500800" y="4643280"/>
            <a:ext cx="1214280" cy="1428840"/>
          </a:xfrm>
          <a:prstGeom prst="can">
            <a:avLst>
              <a:gd name="adj" fmla="val 21250"/>
            </a:avLst>
          </a:prstGeom>
          <a:solidFill>
            <a:srgbClr val="cd6209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Цилиндр 4"/>
          <p:cNvSpPr/>
          <p:nvPr/>
        </p:nvSpPr>
        <p:spPr>
          <a:xfrm>
            <a:off x="7500960" y="5357880"/>
            <a:ext cx="1000080" cy="714240"/>
          </a:xfrm>
          <a:prstGeom prst="can">
            <a:avLst>
              <a:gd name="adj" fmla="val 25000"/>
            </a:avLst>
          </a:prstGeom>
          <a:solidFill>
            <a:srgbClr val="40404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7500960" y="6215040"/>
            <a:ext cx="1143000" cy="35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5572080" y="6215040"/>
            <a:ext cx="1143000" cy="35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3071880" y="6286680"/>
            <a:ext cx="1285920" cy="35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С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8"/>
          <p:cNvSpPr/>
          <p:nvPr/>
        </p:nvSpPr>
        <p:spPr>
          <a:xfrm>
            <a:off x="714240" y="6286680"/>
            <a:ext cx="1500480" cy="357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Алюм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1000080" y="3857760"/>
            <a:ext cx="714600" cy="28548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3500280" y="4929120"/>
            <a:ext cx="714600" cy="28584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5786280" y="5357880"/>
            <a:ext cx="714600" cy="28584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7715160" y="5643720"/>
            <a:ext cx="642960" cy="28548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2000160" y="785880"/>
            <a:ext cx="478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Тела, имеющие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ВНУЮ</a:t>
            </a: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 мас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7"/>
          <p:cNvSpPr/>
          <p:nvPr/>
        </p:nvSpPr>
        <p:spPr>
          <a:xfrm>
            <a:off x="3429000" y="2428920"/>
            <a:ext cx="51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Имеют</a:t>
            </a:r>
            <a:r>
              <a:rPr b="1" lang="ru-RU" sz="4000" spc="-1" strike="noStrike">
                <a:solidFill>
                  <a:srgbClr val="f7c12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ЗНЫЙ </a:t>
            </a: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объё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6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4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4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4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14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64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14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4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14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64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14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64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140"/>
                            </p:stCondLst>
                            <p:childTnLst>
                              <p:par>
                                <p:cTn id="2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Похоже на строение вещества"/>
          <p:cNvPicPr/>
          <p:nvPr/>
        </p:nvPicPr>
        <p:blipFill>
          <a:blip r:embed="rId1"/>
          <a:stretch/>
        </p:blipFill>
        <p:spPr>
          <a:xfrm>
            <a:off x="5638680" y="442584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4" descr=""/>
          <p:cNvPicPr/>
          <p:nvPr/>
        </p:nvPicPr>
        <p:blipFill>
          <a:blip r:embed="rId2"/>
          <a:stretch/>
        </p:blipFill>
        <p:spPr>
          <a:xfrm>
            <a:off x="853920" y="590400"/>
            <a:ext cx="7504200" cy="264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142920" y="2571840"/>
            <a:ext cx="8001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d8525"/>
                </a:solidFill>
                <a:latin typeface="Cambria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d8525"/>
                </a:solidFill>
                <a:latin typeface="Cambria"/>
              </a:rPr>
              <a:t>Познакомиться с понятием плотность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d8525"/>
                </a:solidFill>
                <a:latin typeface="Cambria"/>
              </a:rPr>
              <a:t>Познакомиться с формулой для расчёта пло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d8525"/>
                </a:solidFill>
                <a:latin typeface="Cambria"/>
              </a:rPr>
              <a:t>Выяснить физический смысл понятия пло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085 Падал прошлогодний снег.mp3" descr=""/>
          <p:cNvPicPr/>
          <p:nvPr/>
        </p:nvPicPr>
        <p:blipFill>
          <a:blip r:embed="rId3"/>
          <a:stretch/>
        </p:blipFill>
        <p:spPr>
          <a:xfrm>
            <a:off x="571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63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Масса по-разному распределяется по объему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 одного цилиндра на единицу объема приходится большая масса, а другого на единицу объема приходится меньшая масс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384120"/>
            <a:ext cx="56880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214200" y="178596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лотност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ь</a:t>
            </a:r>
            <a:r>
              <a:rPr b="1" lang="ru-RU" sz="3600" spc="-1" strike="noStrike">
                <a:solidFill>
                  <a:srgbClr val="097d09"/>
                </a:solidFill>
                <a:latin typeface="Arial"/>
              </a:rPr>
              <a:t> показывает какая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сса</a:t>
            </a:r>
            <a:r>
              <a:rPr b="1" lang="ru-RU" sz="3600" spc="-1" strike="noStrike">
                <a:solidFill>
                  <a:srgbClr val="097d0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97d09"/>
                </a:solidFill>
                <a:latin typeface="Arial"/>
              </a:rPr>
              <a:t> вещества приходится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 единицу объёма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Куб 3"/>
          <p:cNvSpPr/>
          <p:nvPr/>
        </p:nvSpPr>
        <p:spPr>
          <a:xfrm>
            <a:off x="4572000" y="3000240"/>
            <a:ext cx="3929040" cy="3643560"/>
          </a:xfrm>
          <a:prstGeom prst="cube">
            <a:avLst>
              <a:gd name="adj" fmla="val 25000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Куб 4"/>
          <p:cNvSpPr/>
          <p:nvPr/>
        </p:nvSpPr>
        <p:spPr>
          <a:xfrm>
            <a:off x="2000160" y="4286160"/>
            <a:ext cx="857520" cy="857520"/>
          </a:xfrm>
          <a:prstGeom prst="cube">
            <a:avLst>
              <a:gd name="adj" fmla="val 25000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2000160" y="457236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 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5572080" y="49294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 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1071720" y="1214280"/>
            <a:ext cx="72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асса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38807"/>
                </a:solidFill>
                <a:latin typeface="Arial"/>
              </a:rPr>
              <a:t>m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ъем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38807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лотность – </a:t>
            </a:r>
            <a:r>
              <a:rPr b="1" lang="el-GR" sz="2800" spc="-1" strike="noStrike">
                <a:solidFill>
                  <a:srgbClr val="b38807"/>
                </a:solidFill>
                <a:latin typeface="Arial"/>
              </a:rPr>
              <a:t>ρ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греч. буква «ро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"/>
          <p:cNvSpPr/>
          <p:nvPr/>
        </p:nvSpPr>
        <p:spPr>
          <a:xfrm>
            <a:off x="1955160" y="3500280"/>
            <a:ext cx="51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b292ca"/>
                </a:solidFill>
                <a:latin typeface="Arial"/>
              </a:rPr>
              <a:t>ρ</a:t>
            </a:r>
            <a:r>
              <a:rPr b="1" lang="en-US" sz="9600" spc="-1" strike="noStrike">
                <a:solidFill>
                  <a:srgbClr val="b292ca"/>
                </a:solidFill>
                <a:latin typeface="Arial"/>
              </a:rPr>
              <a:t> = m / 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B52C-546E-43B6-B981-D231439AAB6D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000000"/>
                </a:solidFill>
                <a:latin typeface="Cambria"/>
                <a:ea typeface="Times New Roman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Rockwell"/>
                <a:ea typeface="Times New Roman"/>
              </a:rPr>
              <a:t>  · V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571680" y="2714760"/>
            <a:ext cx="2928600" cy="2865240"/>
          </a:xfrm>
          <a:prstGeom prst="triangle">
            <a:avLst>
              <a:gd name="adj" fmla="val 45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000680" y="2214720"/>
            <a:ext cx="459252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 тела, кг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ём тела, 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с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плотность тела,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1332000" y="4221000"/>
            <a:ext cx="7056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856800" y="2854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ФОРМУЛА ПЛОТНОСТИ 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70" name="Прямая соединительная линия 12"/>
          <p:cNvSpPr/>
          <p:nvPr/>
        </p:nvSpPr>
        <p:spPr>
          <a:xfrm>
            <a:off x="1143000" y="4429080"/>
            <a:ext cx="16430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Горизонтальный свиток 1"/>
          <p:cNvGrpSpPr/>
          <p:nvPr/>
        </p:nvGrpSpPr>
        <p:grpSpPr>
          <a:xfrm>
            <a:off x="622440" y="768240"/>
            <a:ext cx="3608280" cy="2749680"/>
            <a:chOff x="622440" y="768240"/>
            <a:chExt cx="3608280" cy="2749680"/>
          </a:xfrm>
        </p:grpSpPr>
        <p:pic>
          <p:nvPicPr>
            <p:cNvPr id="372" name="Горизонтальный свиток 1" descr=""/>
            <p:cNvPicPr/>
            <p:nvPr/>
          </p:nvPicPr>
          <p:blipFill>
            <a:blip r:embed="rId1"/>
            <a:stretch/>
          </p:blipFill>
          <p:spPr>
            <a:xfrm>
              <a:off x="622440" y="768240"/>
              <a:ext cx="360828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3"/>
            <p:cNvSpPr/>
            <p:nvPr/>
          </p:nvSpPr>
          <p:spPr>
            <a:xfrm>
              <a:off x="982800" y="1125360"/>
              <a:ext cx="3062160" cy="20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m = 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•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Горизонтальный свиток 2"/>
          <p:cNvGrpSpPr/>
          <p:nvPr/>
        </p:nvGrpSpPr>
        <p:grpSpPr>
          <a:xfrm>
            <a:off x="4840200" y="2908440"/>
            <a:ext cx="3681360" cy="2754000"/>
            <a:chOff x="4840200" y="2908440"/>
            <a:chExt cx="3681360" cy="2754000"/>
          </a:xfrm>
        </p:grpSpPr>
        <p:pic>
          <p:nvPicPr>
            <p:cNvPr id="375" name="Горизонт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4840200" y="2908440"/>
              <a:ext cx="368136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6"/>
            <p:cNvSpPr/>
            <p:nvPr/>
          </p:nvSpPr>
          <p:spPr>
            <a:xfrm>
              <a:off x="5197320" y="3268800"/>
              <a:ext cx="3133800" cy="20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V = m/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3714840" y="2142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ронтальный 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357120" y="1071720"/>
            <a:ext cx="8572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Как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Что характеризует ма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каких единицах измеряется ма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Как найти объем прямоугольного параллелепипе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Как найти объем тела неправиль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фор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1071720" y="17146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Единица измерения пл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в системе 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"/>
          <p:cNvSpPr/>
          <p:nvPr/>
        </p:nvSpPr>
        <p:spPr>
          <a:xfrm>
            <a:off x="3286080" y="292896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кг/м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Рассчитаем плотность цилиндра по данным опыта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Работа с таблицей страница 66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таблица № 4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457200" cy="4572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1357200" y="2071800"/>
            <a:ext cx="487440" cy="3738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3"/>
          <a:stretch/>
        </p:blipFill>
        <p:spPr>
          <a:xfrm>
            <a:off x="0" y="1928880"/>
            <a:ext cx="487440" cy="302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"/>
          <p:cNvPicPr/>
          <p:nvPr/>
        </p:nvPicPr>
        <p:blipFill>
          <a:blip r:embed="rId4"/>
          <a:stretch/>
        </p:blipFill>
        <p:spPr>
          <a:xfrm>
            <a:off x="1857240" y="2965320"/>
            <a:ext cx="428760" cy="3892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5"/>
          <a:stretch/>
        </p:blipFill>
        <p:spPr>
          <a:xfrm>
            <a:off x="857160" y="3143160"/>
            <a:ext cx="500040" cy="34848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15"/>
          <p:cNvSpPr/>
          <p:nvPr/>
        </p:nvSpPr>
        <p:spPr>
          <a:xfrm>
            <a:off x="2357280" y="3214800"/>
            <a:ext cx="67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Ареометры применяются для изме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лотности электролита в кислотных и щелочных аккумулятор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лотности цельного и обезжиренного молока, нефти и нефтепрод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лотностей растворов солей и кислот, растворов цемента, бетон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0"/>
          <p:cNvSpPr/>
          <p:nvPr/>
        </p:nvSpPr>
        <p:spPr>
          <a:xfrm>
            <a:off x="4510440" y="0"/>
            <a:ext cx="339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рео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428760" y="85716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Ареометр (от 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ara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рыхлый, жидкий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t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и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змерять) – прибор в виде стеклянного поплавка с измерительной шкалой и грузом (внизу), предназначенный для измерения плотности жидкостей и сыпуч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4510440" y="0"/>
            <a:ext cx="339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рео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Определите массу кирпича с помощью линейки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рактическое значение и применение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357120" y="85716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бычно твердые тела тонут в своих расплавах. Например, кусок сливочного масла утонет в топленом масле, железный гвоздь утонет в расплавленном жел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357120" y="45075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о нет правил без исключения!</a:t>
            </a: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бразующийся зимой лед не тонет, а плавает на поверхности воды, т.к. плотность льда меньше плотности воды. Иначе все водоемы зимой наполнялись бы льдом и в них не могли бы существовать живые организмы</a:t>
            </a:r>
            <a:r>
              <a:rPr b="1" lang="ru-RU" sz="2400" spc="-1" strike="noStrike">
                <a:solidFill>
                  <a:srgbClr val="1c1c1c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"/>
          <p:cNvSpPr/>
          <p:nvPr/>
        </p:nvSpPr>
        <p:spPr>
          <a:xfrm>
            <a:off x="5513040" y="1890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71840" y="2214720"/>
            <a:ext cx="3936960" cy="22143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5"/>
          <p:cNvSpPr/>
          <p:nvPr/>
        </p:nvSpPr>
        <p:spPr>
          <a:xfrm>
            <a:off x="1928880" y="4214880"/>
            <a:ext cx="4857840" cy="3571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ЭТО ИНТЕРЕСНО!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вежесть куриных яиц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жно определить по их средней плотности. При длительном хранении часть жидкости испаряется через поры в яичной скорлупе и замещается воздухом. При том же объеме его средняя плотность уменьшается и оно становится легче. Свежее яйцо тонет в воде, а несвежее всплывае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5" name="Рисунок 8" descr="http://class-fizika.narod.ru/7_class/7-plotn1/9d.gif"/>
          <p:cNvPicPr/>
          <p:nvPr/>
        </p:nvPicPr>
        <p:blipFill>
          <a:blip r:embed="rId1"/>
          <a:stretch/>
        </p:blipFill>
        <p:spPr>
          <a:xfrm>
            <a:off x="5429160" y="500076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ЭТО ИНТЕРЕСНО!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785960"/>
            <a:ext cx="8153280" cy="430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ак как в основном человек состоит из жидкости, средняя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лотность тела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г/с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сса человека в килограммах численно равна объему его тела в литрах. Например, ученик массой 50кг имеет объем тела около 50 литров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8" name="Рисунок 4" descr="i0583rp.gif"/>
          <p:cNvPicPr/>
          <p:nvPr/>
        </p:nvPicPr>
        <p:blipFill>
          <a:blip r:embed="rId1"/>
          <a:stretch/>
        </p:blipFill>
        <p:spPr>
          <a:xfrm>
            <a:off x="0" y="5000760"/>
            <a:ext cx="9586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12 -0.00787 L 0.97326 0.00486 E">
                                      <p:cBhvr>
                                        <p:cTn id="366" dur="1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               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аполните пропуски в текст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1. Плотность вещества показывает, какова масса единицы объема вещества, и вычисляется по формуле ……………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2. Плотность никеля 8900кг/м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³. Это значит, что масса никеля объемом 1м³ равна…………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3. Плотность алюминия составляет 2. 7г/см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³. Следовательно, объем алюминия массой 2,7г равен………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4. Среди приведенных в таблице металлов наибольшую плотность имеет………..  Если из каждого металла, приведенного в таблице, изготовить куб со стороной 1м, то самым легким окажется куб из…………….., его масса будет равна…………..кг.    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5. Плотность воды……………, а плотность льда………… Так как и то и другое вещество состоит из одинаковых молекул, то, сопоставляя эти значения, можно утверждать, что расстояние между молекулами льда……….., чем между молекулами воды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D:\WINDOWS\Users\Aida\Рабочий стол\плотность вещества\Plotnost_vesh_7kl\de02_01_00.jpg"/>
          <p:cNvPicPr/>
          <p:nvPr/>
        </p:nvPicPr>
        <p:blipFill>
          <a:blip r:embed="rId1"/>
          <a:stretch/>
        </p:blipFill>
        <p:spPr>
          <a:xfrm>
            <a:off x="6715080" y="1143000"/>
            <a:ext cx="1905120" cy="54151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5000760" y="214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5294520" y="55897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Рис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5294520" y="4221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Рис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5365800" y="292428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Рис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642960" y="2357280"/>
            <a:ext cx="471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Что общего и чем отличаются рисунки 1, 2 и 3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Дайте обоснование вашего ответа с физической точки 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9"/>
          <p:cNvSpPr/>
          <p:nvPr/>
        </p:nvSpPr>
        <p:spPr>
          <a:xfrm>
            <a:off x="218520" y="21420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673"/>
                </a:solidFill>
                <a:latin typeface="Arial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5000760" y="214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428760" y="1571760"/>
          <a:ext cx="8286480" cy="2011320"/>
        </p:xfrm>
        <a:graphic>
          <a:graphicData uri="http://schemas.openxmlformats.org/drawingml/2006/table">
            <a:tbl>
              <a:tblPr/>
              <a:tblGrid>
                <a:gridCol w="1643040"/>
                <a:gridCol w="1571400"/>
                <a:gridCol w="1285920"/>
                <a:gridCol w="1928880"/>
                <a:gridCol w="185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</a:t>
                      </a:r>
                      <a:r>
                        <a:rPr b="1" lang="el-GR" sz="2400" spc="-1" strike="noStrike">
                          <a:solidFill>
                            <a:srgbClr val="b292ca"/>
                          </a:solidFill>
                          <a:latin typeface="Cambria"/>
                        </a:rPr>
                        <a:t>ρ</a:t>
                      </a:r>
                      <a:r>
                        <a:rPr b="1" lang="en-US" sz="2400" spc="-1" strike="noStrike">
                          <a:solidFill>
                            <a:srgbClr val="b292ca"/>
                          </a:solidFill>
                          <a:latin typeface="Rockwell"/>
                        </a:rPr>
                        <a:t> = m 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8900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с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плат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Ме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8900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1000кг/м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900кг/м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</a:tr>
            </a:tbl>
          </a:graphicData>
        </a:graphic>
      </p:graphicFrame>
      <p:sp>
        <p:nvSpPr>
          <p:cNvPr id="412" name="TextBox 4"/>
          <p:cNvSpPr/>
          <p:nvPr/>
        </p:nvSpPr>
        <p:spPr>
          <a:xfrm>
            <a:off x="2357280" y="44290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ПОДВЕДЁМ ИТОГИ!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показывает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 можно найти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ой буквой обозначается плотность 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чём измеряется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м способом можно измерить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. З. §   18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пределить плотность тела известной масс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28880" y="380520"/>
            <a:ext cx="6757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5680"/>
                </a:solidFill>
                <a:latin typeface="Cambria"/>
              </a:rPr>
              <a:t>Рефлексия</a:t>
            </a:r>
            <a:endParaRPr b="1" lang="en-US" sz="54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00000" y="1628640"/>
            <a:ext cx="3595680" cy="489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На уроке я чувствовал себя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Свободн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Скованн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ютн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На уроке я проявил себ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полной мер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ог бы лучш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е смог проявить себя до кон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03280" y="1773360"/>
            <a:ext cx="396108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На занятии мне понравилось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Если бы я был учителем я бы изменил на уроке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0" name="Picture 5" descr="1-881[1]"/>
          <p:cNvPicPr/>
          <p:nvPr/>
        </p:nvPicPr>
        <p:blipFill>
          <a:blip r:embed="rId1"/>
          <a:stretch/>
        </p:blipFill>
        <p:spPr>
          <a:xfrm>
            <a:off x="7308720" y="260280"/>
            <a:ext cx="1152720" cy="1440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1-293[1]"/>
          <p:cNvPicPr/>
          <p:nvPr/>
        </p:nvPicPr>
        <p:blipFill>
          <a:blip r:embed="rId2"/>
          <a:stretch/>
        </p:blipFill>
        <p:spPr>
          <a:xfrm>
            <a:off x="0" y="285840"/>
            <a:ext cx="1116000" cy="9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ческим чудесам…</a:t>
            </a:r>
            <a:r>
              <a:rPr b="1" lang="ru-RU" sz="4000" spc="-1" strike="noStrike">
                <a:solidFill>
                  <a:srgbClr val="848fba"/>
                </a:solidFill>
                <a:latin typeface="Cambria"/>
              </a:rPr>
              <a:t> </a:t>
            </a:r>
            <a:endParaRPr b="1" lang="en-US" sz="40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1143000" y="6143760"/>
            <a:ext cx="184320" cy="369720"/>
          </a:xfrm>
          <a:prstGeom prst="rect">
            <a:avLst/>
          </a:prstGeom>
          <a:solidFill>
            <a:srgbClr val="bca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"/>
          <p:cNvSpPr/>
          <p:nvPr/>
        </p:nvSpPr>
        <p:spPr>
          <a:xfrm>
            <a:off x="2643120" y="4287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шение задач для за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500040" y="228600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Брусок металла имеет массу 26,7 кг и объём 0,003 м</a:t>
            </a:r>
            <a:r>
              <a:rPr b="1" lang="ru-RU" sz="3200" spc="-1" strike="noStrike" baseline="30000">
                <a:solidFill>
                  <a:srgbClr val="1c1c1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. Из какого металла изготовлен брусок?   </a:t>
            </a: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(Ответ: мед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Объём свинцовой дроби 0,2 см</a:t>
            </a:r>
            <a:r>
              <a:rPr b="1" lang="ru-RU" sz="3200" spc="-1" strike="noStrike" baseline="30000">
                <a:solidFill>
                  <a:srgbClr val="1c1c1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. Какова её масса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(Ответ: 0,0023 к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5"/>
          <p:cNvSpPr/>
          <p:nvPr/>
        </p:nvSpPr>
        <p:spPr>
          <a:xfrm>
            <a:off x="4716360" y="4941720"/>
            <a:ext cx="3929040" cy="500400"/>
          </a:xfrm>
          <a:prstGeom prst="rect">
            <a:avLst/>
          </a:prstGeom>
          <a:solidFill>
            <a:srgbClr val="f8fbfb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5148360" y="3357720"/>
            <a:ext cx="3786120" cy="500040"/>
          </a:xfrm>
          <a:prstGeom prst="rect">
            <a:avLst/>
          </a:prstGeom>
          <a:solidFill>
            <a:srgbClr val="f8fbfb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48fba"/>
                </a:solidFill>
                <a:latin typeface="Cambria"/>
              </a:rPr>
              <a:t>ПРОВЕРЬ СЕБЯ</a:t>
            </a:r>
            <a:endParaRPr b="1" lang="en-US" sz="48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076720" y="1752480"/>
            <a:ext cx="36100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динаковые шарики из чугуна и парафина положили на чашки весов(смотри рисунок). Какой из шаров чугунный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2262240" y="2484360"/>
            <a:ext cx="352440" cy="3944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"/>
          <p:cNvSpPr/>
          <p:nvPr/>
        </p:nvSpPr>
        <p:spPr>
          <a:xfrm>
            <a:off x="857160" y="1855800"/>
            <a:ext cx="34290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3851280" y="3124080"/>
            <a:ext cx="792000" cy="1600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00040" y="1844640"/>
            <a:ext cx="792360" cy="1706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587520" y="2803680"/>
            <a:ext cx="617400" cy="7477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"/>
          <p:cNvSpPr/>
          <p:nvPr/>
        </p:nvSpPr>
        <p:spPr>
          <a:xfrm>
            <a:off x="3929040" y="4000680"/>
            <a:ext cx="617400" cy="74736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11"/>
          <p:cNvSpPr/>
          <p:nvPr/>
        </p:nvSpPr>
        <p:spPr>
          <a:xfrm>
            <a:off x="214200" y="2714760"/>
            <a:ext cx="1714680" cy="1143000"/>
          </a:xfrm>
          <a:prstGeom prst="ellipse">
            <a:avLst/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  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2"/>
          <p:cNvSpPr/>
          <p:nvPr/>
        </p:nvSpPr>
        <p:spPr>
          <a:xfrm>
            <a:off x="3357720" y="4000680"/>
            <a:ext cx="1785960" cy="1000080"/>
          </a:xfrm>
          <a:prstGeom prst="ellipse">
            <a:avLst/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animMotion origin="layout" path="M 0 0 L -0.25 0 E">
                                      <p:cBhvr>
                                        <p:cTn id="437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1.94444E-006 -1.48148E-006 L 0.76892 -0.0118 E">
                                      <p:cBhvr>
                                        <p:cTn id="44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2960" y="33300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48fba"/>
                </a:solidFill>
                <a:latin typeface="Cambria"/>
              </a:rPr>
              <a:t>ПРОВЕРЬ СЕБЯ</a:t>
            </a:r>
            <a:endParaRPr b="1" lang="en-US" sz="48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066320" y="3716280"/>
            <a:ext cx="7620120" cy="266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                                   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двух стаканах налиты подкрашенные серная кислота и вода. Массы подкрашенных жидкостей одинаковы. Определите, в каком стакане серная кисло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1" name="Группа 12"/>
          <p:cNvGrpSpPr/>
          <p:nvPr/>
        </p:nvGrpSpPr>
        <p:grpSpPr>
          <a:xfrm>
            <a:off x="1692360" y="1773360"/>
            <a:ext cx="1657440" cy="1728720"/>
            <a:chOff x="1692360" y="1773360"/>
            <a:chExt cx="1657440" cy="1728720"/>
          </a:xfrm>
        </p:grpSpPr>
        <p:sp>
          <p:nvSpPr>
            <p:cNvPr id="442" name="AutoShape 4"/>
            <p:cNvSpPr/>
            <p:nvPr/>
          </p:nvSpPr>
          <p:spPr>
            <a:xfrm>
              <a:off x="1692360" y="1773360"/>
              <a:ext cx="1657440" cy="1728720"/>
            </a:xfrm>
            <a:custGeom>
              <a:avLst/>
              <a:gdLst>
                <a:gd name="textAreaLeft" fmla="*/ 345240 w 1657440"/>
                <a:gd name="textAreaRight" fmla="*/ 1312200 w 1657440"/>
                <a:gd name="textAreaTop" fmla="*/ 360000 h 1728720"/>
                <a:gd name="textAreaBottom" fmla="*/ 1368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836720" y="2349360"/>
              <a:ext cx="1368720" cy="1152720"/>
            </a:xfrm>
            <a:custGeom>
              <a:avLst/>
              <a:gdLst>
                <a:gd name="textAreaLeft" fmla="*/ 253800 w 1368720"/>
                <a:gd name="textAreaRight" fmla="*/ 1114920 w 1368720"/>
                <a:gd name="textAreaTop" fmla="*/ 213480 h 1152720"/>
                <a:gd name="textAreaBottom" fmla="*/ 9392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410" y="21600"/>
                  </a:lnTo>
                  <a:lnTo>
                    <a:pt x="171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4714920" y="1785960"/>
            <a:ext cx="1657440" cy="1728720"/>
            <a:chOff x="4714920" y="1785960"/>
            <a:chExt cx="1657440" cy="1728720"/>
          </a:xfrm>
        </p:grpSpPr>
        <p:sp>
          <p:nvSpPr>
            <p:cNvPr id="445" name="AutoShape 8"/>
            <p:cNvSpPr/>
            <p:nvPr/>
          </p:nvSpPr>
          <p:spPr>
            <a:xfrm>
              <a:off x="4714920" y="1785960"/>
              <a:ext cx="1657440" cy="1728720"/>
            </a:xfrm>
            <a:custGeom>
              <a:avLst/>
              <a:gdLst>
                <a:gd name="textAreaLeft" fmla="*/ 345960 w 1657440"/>
                <a:gd name="textAreaRight" fmla="*/ 1312920 w 1657440"/>
                <a:gd name="textAreaTop" fmla="*/ 360360 h 1728720"/>
                <a:gd name="textAreaBottom" fmla="*/ 13683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"/>
            <p:cNvSpPr/>
            <p:nvPr/>
          </p:nvSpPr>
          <p:spPr>
            <a:xfrm>
              <a:off x="4929480" y="2571480"/>
              <a:ext cx="1225440" cy="942840"/>
            </a:xfrm>
            <a:custGeom>
              <a:avLst/>
              <a:gdLst>
                <a:gd name="textAreaLeft" fmla="*/ 196560 w 1225440"/>
                <a:gd name="textAreaRight" fmla="*/ 1028880 w 1225440"/>
                <a:gd name="textAreaTop" fmla="*/ 150840 h 942840"/>
                <a:gd name="textAreaBottom" fmla="*/ 79200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331" y="21600"/>
                  </a:lnTo>
                  <a:lnTo>
                    <a:pt x="1826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Прямоугольник 18"/>
          <p:cNvSpPr/>
          <p:nvPr/>
        </p:nvSpPr>
        <p:spPr>
          <a:xfrm>
            <a:off x="1000080" y="1643040"/>
            <a:ext cx="307188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mbria"/>
              </a:rPr>
              <a:t>К сожалению ты ошиб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9"/>
          <p:cNvSpPr/>
          <p:nvPr/>
        </p:nvSpPr>
        <p:spPr>
          <a:xfrm>
            <a:off x="4286160" y="1643040"/>
            <a:ext cx="307188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5b7e"/>
                </a:solidFill>
                <a:latin typeface="Cambria"/>
              </a:rPr>
              <a:t>Молодец, так держ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57200" y="1785960"/>
          <a:ext cx="8229600" cy="4879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ОТНО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ТЬ ВЕЩЕ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ССА ТЕ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ЪЁМ  ТЕ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4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6715080" y="1928880"/>
                <a:ext cx="924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6786720" y="3429000"/>
                <a:ext cx="857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4"/>
              <p:cNvSpPr txBox="1"/>
              <p:nvPr/>
            </p:nvSpPr>
            <p:spPr>
              <a:xfrm>
                <a:off x="6929280" y="5429160"/>
                <a:ext cx="725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Заголовок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53"/>
                </a:solidFill>
                <a:latin typeface="Cambria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5"/>
              <p:cNvSpPr txBox="1"/>
              <p:nvPr/>
            </p:nvSpPr>
            <p:spPr>
              <a:xfrm>
                <a:off x="428760" y="1857240"/>
                <a:ext cx="342900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2643120" y="5143680"/>
                <a:ext cx="41436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4929120" y="1928880"/>
                <a:ext cx="3357720" cy="24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Заголовок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53"/>
                </a:solidFill>
                <a:latin typeface="Cambria"/>
              </a:rPr>
              <a:t>ЗАПОЛНИТЕ ПРОПУ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0"/>
          <p:cNvSpPr/>
          <p:nvPr/>
        </p:nvSpPr>
        <p:spPr>
          <a:xfrm>
            <a:off x="357120" y="4857840"/>
            <a:ext cx="3500640" cy="1714320"/>
          </a:xfrm>
          <a:prstGeom prst="rect">
            <a:avLst/>
          </a:prstGeom>
          <a:solidFill>
            <a:srgbClr val="f8fbfb">
              <a:alpha val="50000"/>
            </a:srgbClr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57120" y="3000240"/>
            <a:ext cx="3500640" cy="1714680"/>
          </a:xfrm>
          <a:prstGeom prst="rect">
            <a:avLst/>
          </a:prstGeom>
          <a:solidFill>
            <a:srgbClr val="f8fbfb">
              <a:alpha val="50000"/>
            </a:srgbClr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357120" y="1143000"/>
            <a:ext cx="3500640" cy="1714680"/>
          </a:xfrm>
          <a:prstGeom prst="rect">
            <a:avLst/>
          </a:prstGeom>
          <a:solidFill>
            <a:srgbClr val="f8fbfb">
              <a:alpha val="50000"/>
            </a:srgbClr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3500280" y="2142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стные задачи на пере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диниц измерения в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509400" y="1214280"/>
            <a:ext cx="168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г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45т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6"/>
          <p:cNvSpPr/>
          <p:nvPr/>
        </p:nvSpPr>
        <p:spPr>
          <a:xfrm>
            <a:off x="285840" y="3000240"/>
            <a:ext cx="357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,5 т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0 г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357120" y="4857840"/>
            <a:ext cx="378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0ц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,5 ц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90160" y="21420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Arial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5" descr="smeh_210.gif"/>
          <p:cNvPicPr/>
          <p:nvPr/>
        </p:nvPicPr>
        <p:blipFill>
          <a:blip r:embed="rId1"/>
          <a:stretch/>
        </p:blipFill>
        <p:spPr>
          <a:xfrm>
            <a:off x="7358040" y="114300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7"/>
          <p:cNvSpPr/>
          <p:nvPr/>
        </p:nvSpPr>
        <p:spPr>
          <a:xfrm>
            <a:off x="6009120" y="200016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0,1 к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9"/>
          <p:cNvSpPr/>
          <p:nvPr/>
        </p:nvSpPr>
        <p:spPr>
          <a:xfrm>
            <a:off x="5438880" y="285768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 5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0"/>
          <p:cNvSpPr/>
          <p:nvPr/>
        </p:nvSpPr>
        <p:spPr>
          <a:xfrm>
            <a:off x="7223760" y="364320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0,45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1"/>
          <p:cNvSpPr/>
          <p:nvPr/>
        </p:nvSpPr>
        <p:spPr>
          <a:xfrm>
            <a:off x="5009400" y="121428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 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2"/>
          <p:cNvSpPr/>
          <p:nvPr/>
        </p:nvSpPr>
        <p:spPr>
          <a:xfrm>
            <a:off x="4008240" y="228600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3"/>
          <p:cNvSpPr/>
          <p:nvPr/>
        </p:nvSpPr>
        <p:spPr>
          <a:xfrm>
            <a:off x="4510080" y="38577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 0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0.43541 -0.12222 E">
                                      <p:cBhvr>
                                        <p:cTn id="6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20885 -0.04838 E">
                                      <p:cBhvr>
                                        <p:cTn id="1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-0.40955 0.02106 E">
                                      <p:cBhvr>
                                        <p:cTn id="1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58282 0.03148 E">
                                      <p:cBhvr>
                                        <p:cTn id="1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-0.2993 0.15301 E">
                                      <p:cBhvr>
                                        <p:cTn id="22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3401 0.66436 E">
                                      <p:cBhvr>
                                        <p:cTn id="26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СРАВНИТЕ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60" name="Группа 15"/>
          <p:cNvGrpSpPr/>
          <p:nvPr/>
        </p:nvGrpSpPr>
        <p:grpSpPr>
          <a:xfrm>
            <a:off x="1857240" y="4071960"/>
            <a:ext cx="5500440" cy="1928880"/>
            <a:chOff x="1857240" y="4071960"/>
            <a:chExt cx="5500440" cy="1928880"/>
          </a:xfrm>
        </p:grpSpPr>
        <p:grpSp>
          <p:nvGrpSpPr>
            <p:cNvPr id="461" name="Группа 9"/>
            <p:cNvGrpSpPr/>
            <p:nvPr/>
          </p:nvGrpSpPr>
          <p:grpSpPr>
            <a:xfrm>
              <a:off x="2453400" y="5207040"/>
              <a:ext cx="4904280" cy="793800"/>
              <a:chOff x="2453400" y="5207040"/>
              <a:chExt cx="4904280" cy="793800"/>
            </a:xfrm>
          </p:grpSpPr>
          <p:sp>
            <p:nvSpPr>
              <p:cNvPr id="462" name="Равнобедренный треугольник 3"/>
              <p:cNvSpPr/>
              <p:nvPr/>
            </p:nvSpPr>
            <p:spPr>
              <a:xfrm>
                <a:off x="4044240" y="5472000"/>
                <a:ext cx="862200" cy="528840"/>
              </a:xfrm>
              <a:prstGeom prst="triangle">
                <a:avLst>
                  <a:gd name="adj" fmla="val 50000"/>
                </a:avLst>
              </a:prstGeom>
              <a:solidFill>
                <a:srgbClr val="727ca3"/>
              </a:solidFill>
              <a:ln w="42480">
                <a:solidFill>
                  <a:srgbClr val="525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Прямая соединительная линия 5"/>
              <p:cNvSpPr/>
              <p:nvPr/>
            </p:nvSpPr>
            <p:spPr>
              <a:xfrm>
                <a:off x="2453400" y="5472000"/>
                <a:ext cx="4307760" cy="0"/>
              </a:xfrm>
              <a:prstGeom prst="line">
                <a:avLst/>
              </a:prstGeom>
              <a:ln w="50760">
                <a:solidFill>
                  <a:srgbClr val="6675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Арка 8"/>
              <p:cNvSpPr/>
              <p:nvPr/>
            </p:nvSpPr>
            <p:spPr>
              <a:xfrm rot="10800000">
                <a:off x="5900040" y="5207040"/>
                <a:ext cx="1457640" cy="264960"/>
              </a:xfrm>
              <a:custGeom>
                <a:avLst/>
                <a:gdLst>
                  <a:gd name="textAreaLeft" fmla="*/ 0 w 1457640"/>
                  <a:gd name="textAreaRight" fmla="*/ 1458000 w 1457640"/>
                  <a:gd name="textAreaTop" fmla="*/ 0 h 264960"/>
                  <a:gd name="textAreaBottom" fmla="*/ 132480 h 264960"/>
                </a:gdLst>
                <a:ahLst/>
                <a:rect l="textAreaLeft" t="textAreaTop" r="textAreaRight" b="textAreaBottom"/>
                <a:pathLst>
                  <a:path w="1570894" h="357905">
                    <a:moveTo>
                      <a:pt x="0" y="178952"/>
                    </a:moveTo>
                    <a:lnTo>
                      <a:pt x="0" y="178952"/>
                    </a:lnTo>
                    <a:arcTo wR="785447" hR="178953" stAng="-10799996" swAng="10800004"/>
                    <a:lnTo>
                      <a:pt x="1481418" y="178953"/>
                    </a:lnTo>
                    <a:lnTo>
                      <a:pt x="1481418" y="178953"/>
                    </a:lnTo>
                    <a:arcTo wR="695971" hR="89476" stAng="0" swAng="-10800005"/>
                    <a:close/>
                  </a:path>
                </a:pathLst>
              </a:custGeom>
              <a:solidFill>
                <a:srgbClr val="727ca3"/>
              </a:solidFill>
              <a:ln w="42480">
                <a:solidFill>
                  <a:srgbClr val="5259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Арка 10"/>
            <p:cNvSpPr/>
            <p:nvPr/>
          </p:nvSpPr>
          <p:spPr>
            <a:xfrm rot="10800000">
              <a:off x="1857240" y="5207040"/>
              <a:ext cx="1457280" cy="2649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64960"/>
                <a:gd name="textAreaBottom" fmla="*/ 132480 h 264960"/>
              </a:gdLst>
              <a:ahLst/>
              <a:rect l="textAreaLeft" t="textAreaTop" r="textAreaRight" b="textAreaBottom"/>
              <a:pathLst>
                <a:path w="1570894" h="357905">
                  <a:moveTo>
                    <a:pt x="0" y="178952"/>
                  </a:moveTo>
                  <a:lnTo>
                    <a:pt x="0" y="178952"/>
                  </a:lnTo>
                  <a:arcTo wR="785447" hR="178953" stAng="-10799996" swAng="10800004"/>
                  <a:lnTo>
                    <a:pt x="1481418" y="178953"/>
                  </a:lnTo>
                  <a:lnTo>
                    <a:pt x="1481418" y="178953"/>
                  </a:lnTo>
                  <a:arcTo wR="695971" hR="89476" stAng="0" swAng="-10800005"/>
                  <a:close/>
                </a:path>
              </a:pathLst>
            </a:custGeom>
            <a:solidFill>
              <a:srgbClr val="727ca3"/>
            </a:solidFill>
            <a:ln w="42480">
              <a:solidFill>
                <a:srgbClr val="5259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Скругленный прямоугольник 13"/>
            <p:cNvSpPr/>
            <p:nvPr/>
          </p:nvSpPr>
          <p:spPr>
            <a:xfrm>
              <a:off x="2253960" y="4071960"/>
              <a:ext cx="730080" cy="1346400"/>
            </a:xfrm>
            <a:custGeom>
              <a:avLst/>
              <a:gdLst>
                <a:gd name="textAreaLeft" fmla="*/ 35640 w 730080"/>
                <a:gd name="textAreaRight" fmla="*/ 694440 w 730080"/>
                <a:gd name="textAreaTop" fmla="*/ 35640 h 1346400"/>
                <a:gd name="textAreaBottom" fmla="*/ 1310760 h 1346400"/>
              </a:gdLst>
              <a:ahLst/>
              <a:rect l="textAreaLeft" t="textAreaTop" r="textAreaRight" b="textAreaBottom"/>
              <a:pathLst>
                <a:path w="21600" h="39825">
                  <a:moveTo>
                    <a:pt x="3600" y="0"/>
                  </a:moveTo>
                  <a:arcTo wR="3600" hR="3600" stAng="16200000" swAng="-5400000"/>
                  <a:lnTo>
                    <a:pt x="0" y="36225"/>
                  </a:lnTo>
                  <a:arcTo wR="3600" hR="3600" stAng="10800000" swAng="-5400000"/>
                  <a:lnTo>
                    <a:pt x="18000" y="398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42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Cambri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Скругленный прямоугольник 14"/>
            <p:cNvSpPr/>
            <p:nvPr/>
          </p:nvSpPr>
          <p:spPr>
            <a:xfrm>
              <a:off x="6297840" y="4572000"/>
              <a:ext cx="728640" cy="846000"/>
            </a:xfrm>
            <a:custGeom>
              <a:avLst/>
              <a:gdLst>
                <a:gd name="textAreaLeft" fmla="*/ 35280 w 728640"/>
                <a:gd name="textAreaRight" fmla="*/ 693360 w 728640"/>
                <a:gd name="textAreaTop" fmla="*/ 35280 h 846000"/>
                <a:gd name="textAreaBottom" fmla="*/ 810720 h 846000"/>
              </a:gdLst>
              <a:ahLst/>
              <a:rect l="textAreaLeft" t="textAreaTop" r="textAreaRight" b="textAreaBottom"/>
              <a:pathLst>
                <a:path w="21600" h="25077">
                  <a:moveTo>
                    <a:pt x="3600" y="0"/>
                  </a:moveTo>
                  <a:arcTo wR="3600" hR="3600" stAng="16200000" swAng="-5400000"/>
                  <a:lnTo>
                    <a:pt x="0" y="21477"/>
                  </a:lnTo>
                  <a:arcTo wR="3600" hR="3600" stAng="10800000" swAng="-5400000"/>
                  <a:lnTo>
                    <a:pt x="18000" y="250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42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Cambria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СРАВНИТЕ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70" name="Группа 15"/>
          <p:cNvGrpSpPr/>
          <p:nvPr/>
        </p:nvGrpSpPr>
        <p:grpSpPr>
          <a:xfrm>
            <a:off x="1857240" y="4572000"/>
            <a:ext cx="5500440" cy="1428840"/>
            <a:chOff x="1857240" y="4572000"/>
            <a:chExt cx="5500440" cy="1428840"/>
          </a:xfrm>
        </p:grpSpPr>
        <p:grpSp>
          <p:nvGrpSpPr>
            <p:cNvPr id="471" name="Группа 9"/>
            <p:cNvGrpSpPr/>
            <p:nvPr/>
          </p:nvGrpSpPr>
          <p:grpSpPr>
            <a:xfrm>
              <a:off x="2453400" y="5220360"/>
              <a:ext cx="4904280" cy="780480"/>
              <a:chOff x="2453400" y="5220360"/>
              <a:chExt cx="4904280" cy="780480"/>
            </a:xfrm>
          </p:grpSpPr>
          <p:sp>
            <p:nvSpPr>
              <p:cNvPr id="472" name="Равнобедренный треугольник 3"/>
              <p:cNvSpPr/>
              <p:nvPr/>
            </p:nvSpPr>
            <p:spPr>
              <a:xfrm>
                <a:off x="4044240" y="5481000"/>
                <a:ext cx="862200" cy="519840"/>
              </a:xfrm>
              <a:prstGeom prst="triangle">
                <a:avLst>
                  <a:gd name="adj" fmla="val 50000"/>
                </a:avLst>
              </a:prstGeom>
              <a:solidFill>
                <a:srgbClr val="727ca3"/>
              </a:solidFill>
              <a:ln w="42480">
                <a:solidFill>
                  <a:srgbClr val="525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Прямая соединительная линия 5"/>
              <p:cNvSpPr/>
              <p:nvPr/>
            </p:nvSpPr>
            <p:spPr>
              <a:xfrm>
                <a:off x="2453400" y="5481000"/>
                <a:ext cx="4307760" cy="0"/>
              </a:xfrm>
              <a:prstGeom prst="line">
                <a:avLst/>
              </a:prstGeom>
              <a:ln w="50760">
                <a:solidFill>
                  <a:srgbClr val="6675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Арка 8"/>
              <p:cNvSpPr/>
              <p:nvPr/>
            </p:nvSpPr>
            <p:spPr>
              <a:xfrm rot="10800000">
                <a:off x="5900040" y="5220360"/>
                <a:ext cx="1457640" cy="260640"/>
              </a:xfrm>
              <a:custGeom>
                <a:avLst/>
                <a:gdLst>
                  <a:gd name="textAreaLeft" fmla="*/ 0 w 1457640"/>
                  <a:gd name="textAreaRight" fmla="*/ 1458000 w 1457640"/>
                  <a:gd name="textAreaTop" fmla="*/ 0 h 260640"/>
                  <a:gd name="textAreaBottom" fmla="*/ 130320 h 260640"/>
                </a:gdLst>
                <a:ahLst/>
                <a:rect l="textAreaLeft" t="textAreaTop" r="textAreaRight" b="textAreaBottom"/>
                <a:pathLst>
                  <a:path w="1570894" h="357905">
                    <a:moveTo>
                      <a:pt x="0" y="178952"/>
                    </a:moveTo>
                    <a:lnTo>
                      <a:pt x="0" y="178952"/>
                    </a:lnTo>
                    <a:arcTo wR="785447" hR="178953" stAng="-10799996" swAng="10800004"/>
                    <a:lnTo>
                      <a:pt x="1481418" y="178953"/>
                    </a:lnTo>
                    <a:lnTo>
                      <a:pt x="1481418" y="178953"/>
                    </a:lnTo>
                    <a:arcTo wR="695971" hR="89476" stAng="0" swAng="-10800005"/>
                    <a:close/>
                  </a:path>
                </a:pathLst>
              </a:custGeom>
              <a:solidFill>
                <a:srgbClr val="727ca3"/>
              </a:solidFill>
              <a:ln w="42480">
                <a:solidFill>
                  <a:srgbClr val="5259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Арка 10"/>
            <p:cNvSpPr/>
            <p:nvPr/>
          </p:nvSpPr>
          <p:spPr>
            <a:xfrm rot="10800000">
              <a:off x="1857240" y="5220360"/>
              <a:ext cx="1457280" cy="26064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60640"/>
                <a:gd name="textAreaBottom" fmla="*/ 130320 h 260640"/>
              </a:gdLst>
              <a:ahLst/>
              <a:rect l="textAreaLeft" t="textAreaTop" r="textAreaRight" b="textAreaBottom"/>
              <a:pathLst>
                <a:path w="1570894" h="357905">
                  <a:moveTo>
                    <a:pt x="0" y="178952"/>
                  </a:moveTo>
                  <a:lnTo>
                    <a:pt x="0" y="178952"/>
                  </a:lnTo>
                  <a:arcTo wR="785447" hR="178953" stAng="-10799996" swAng="10800004"/>
                  <a:lnTo>
                    <a:pt x="1481418" y="178953"/>
                  </a:lnTo>
                  <a:lnTo>
                    <a:pt x="1481418" y="178953"/>
                  </a:lnTo>
                  <a:arcTo wR="695971" hR="89476" stAng="0" swAng="-10800005"/>
                  <a:close/>
                </a:path>
              </a:pathLst>
            </a:custGeom>
            <a:solidFill>
              <a:srgbClr val="727ca3"/>
            </a:solidFill>
            <a:ln w="42480">
              <a:solidFill>
                <a:srgbClr val="5259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Скругленный прямоугольник 13"/>
            <p:cNvGrpSpPr/>
            <p:nvPr/>
          </p:nvGrpSpPr>
          <p:grpSpPr>
            <a:xfrm>
              <a:off x="2230920" y="4572000"/>
              <a:ext cx="786240" cy="887040"/>
              <a:chOff x="2230920" y="4572000"/>
              <a:chExt cx="786240" cy="887040"/>
            </a:xfrm>
          </p:grpSpPr>
          <p:pic>
            <p:nvPicPr>
              <p:cNvPr id="477" name="Скругленный прямоугольник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30920" y="4572000"/>
                <a:ext cx="78624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2290320" y="4630680"/>
                <a:ext cx="65772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002060"/>
                    </a:solidFill>
                    <a:latin typeface="Cambria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Скругленный прямоугольник 14"/>
            <p:cNvSpPr/>
            <p:nvPr/>
          </p:nvSpPr>
          <p:spPr>
            <a:xfrm>
              <a:off x="6297840" y="4595760"/>
              <a:ext cx="728640" cy="831960"/>
            </a:xfrm>
            <a:custGeom>
              <a:avLst/>
              <a:gdLst>
                <a:gd name="textAreaLeft" fmla="*/ 35280 w 728640"/>
                <a:gd name="textAreaRight" fmla="*/ 693360 w 728640"/>
                <a:gd name="textAreaTop" fmla="*/ 35280 h 831960"/>
                <a:gd name="textAreaBottom" fmla="*/ 796680 h 83196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42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Cambria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14200" y="1000080"/>
            <a:ext cx="8715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2329"/>
                </a:solidFill>
                <a:latin typeface="Arial"/>
              </a:rPr>
              <a:t>Льдина объёмом 8 </a:t>
            </a:r>
            <a:r>
              <a:rPr b="1" lang="ru-RU" sz="2000" spc="-1" strike="noStrike">
                <a:solidFill>
                  <a:srgbClr val="232329"/>
                </a:solidFill>
                <a:latin typeface="Arial"/>
              </a:rPr>
              <a:t>М</a:t>
            </a:r>
            <a:r>
              <a:rPr b="1" lang="ru-RU" sz="2000" spc="-1" strike="noStrike" baseline="30000">
                <a:solidFill>
                  <a:srgbClr val="232329"/>
                </a:solidFill>
                <a:latin typeface="Arial"/>
              </a:rPr>
              <a:t>3</a:t>
            </a:r>
            <a:r>
              <a:rPr b="1" lang="ru-RU" sz="3200" spc="-1" strike="noStrike" baseline="30000">
                <a:solidFill>
                  <a:srgbClr val="2323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32329"/>
                </a:solidFill>
                <a:latin typeface="Arial"/>
              </a:rPr>
              <a:t>имеет массу 7200 кг. Какова масса 1 </a:t>
            </a:r>
            <a:r>
              <a:rPr b="1" lang="ru-RU" sz="2000" spc="-1" strike="noStrike">
                <a:solidFill>
                  <a:srgbClr val="232329"/>
                </a:solidFill>
                <a:latin typeface="Arial"/>
              </a:rPr>
              <a:t>М</a:t>
            </a:r>
            <a:r>
              <a:rPr b="1" lang="ru-RU" sz="2000" spc="-1" strike="noStrike" baseline="30000">
                <a:solidFill>
                  <a:srgbClr val="232329"/>
                </a:solidFill>
                <a:latin typeface="Arial"/>
              </a:rPr>
              <a:t>3</a:t>
            </a:r>
            <a:r>
              <a:rPr b="1" lang="ru-RU" sz="3200" spc="-1" strike="noStrike" baseline="30000">
                <a:solidFill>
                  <a:srgbClr val="2323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32329"/>
                </a:solidFill>
                <a:latin typeface="Arial"/>
              </a:rPr>
              <a:t>ль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http://media1.picsearch.com/is?4YGn7RahBk3g8-ucPdJqHF3GouANfkbcmcW8e-Ltl28"/>
          <p:cNvPicPr/>
          <p:nvPr/>
        </p:nvPicPr>
        <p:blipFill>
          <a:blip r:embed="rId1"/>
          <a:stretch/>
        </p:blipFill>
        <p:spPr>
          <a:xfrm>
            <a:off x="2928960" y="264312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"/>
          <p:cNvSpPr/>
          <p:nvPr/>
        </p:nvSpPr>
        <p:spPr>
          <a:xfrm>
            <a:off x="571680" y="55720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200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г : 8 м³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= 900 кг/м³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лотность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120"/>
                            </p:stCondLst>
                            <p:childTnLst>
                              <p:par>
                                <p:cTn id="4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Определите массу кирпича с помощью линейки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4"/>
          <p:cNvSpPr/>
          <p:nvPr/>
        </p:nvSpPr>
        <p:spPr>
          <a:xfrm>
            <a:off x="2000160" y="2500200"/>
            <a:ext cx="5357880" cy="1428840"/>
          </a:xfrm>
          <a:prstGeom prst="roundRect">
            <a:avLst>
              <a:gd name="adj" fmla="val 41282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ела, окружающие нас, состоят из различ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5" descr="22.jpg"/>
          <p:cNvPicPr/>
          <p:nvPr/>
        </p:nvPicPr>
        <p:blipFill>
          <a:blip r:embed="rId1"/>
          <a:stretch/>
        </p:blipFill>
        <p:spPr>
          <a:xfrm>
            <a:off x="428760" y="5000760"/>
            <a:ext cx="1500120" cy="143172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6" descr="дерево.jpg"/>
          <p:cNvPicPr/>
          <p:nvPr/>
        </p:nvPicPr>
        <p:blipFill>
          <a:blip r:embed="rId2"/>
          <a:stretch/>
        </p:blipFill>
        <p:spPr>
          <a:xfrm>
            <a:off x="357120" y="500040"/>
            <a:ext cx="1652760" cy="1571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D:\док-ты\Мои рисунки\пластмасса.jpg"/>
          <p:cNvPicPr/>
          <p:nvPr/>
        </p:nvPicPr>
        <p:blipFill>
          <a:blip r:embed="rId3"/>
          <a:stretch/>
        </p:blipFill>
        <p:spPr>
          <a:xfrm>
            <a:off x="7286760" y="642960"/>
            <a:ext cx="1722240" cy="16430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10" descr="стекло.jpg"/>
          <p:cNvPicPr/>
          <p:nvPr/>
        </p:nvPicPr>
        <p:blipFill>
          <a:blip r:embed="rId4"/>
          <a:stretch/>
        </p:blipFill>
        <p:spPr>
          <a:xfrm>
            <a:off x="7286760" y="500076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1" descr="подстаканник.jpg"/>
          <p:cNvPicPr/>
          <p:nvPr/>
        </p:nvPicPr>
        <p:blipFill>
          <a:blip r:embed="rId5"/>
          <a:stretch/>
        </p:blipFill>
        <p:spPr>
          <a:xfrm>
            <a:off x="3786120" y="4929120"/>
            <a:ext cx="16430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2" descr="лед-вода.jpg"/>
          <p:cNvPicPr/>
          <p:nvPr/>
        </p:nvPicPr>
        <p:blipFill>
          <a:blip r:embed="rId6"/>
          <a:stretch/>
        </p:blipFill>
        <p:spPr>
          <a:xfrm>
            <a:off x="3887640" y="214200"/>
            <a:ext cx="1935360" cy="12859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3"/>
          <p:cNvSpPr/>
          <p:nvPr/>
        </p:nvSpPr>
        <p:spPr>
          <a:xfrm>
            <a:off x="571680" y="1785960"/>
            <a:ext cx="1071360" cy="368280"/>
          </a:xfrm>
          <a:prstGeom prst="rect">
            <a:avLst/>
          </a:prstGeom>
          <a:solidFill>
            <a:srgbClr val="bca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463a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4429080" y="1571760"/>
            <a:ext cx="1000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5b7e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525b7e"/>
                </a:solidFill>
                <a:latin typeface="Arial"/>
              </a:rPr>
              <a:t>Л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7572240" y="2214720"/>
            <a:ext cx="1214640" cy="368280"/>
          </a:xfrm>
          <a:prstGeom prst="rect">
            <a:avLst/>
          </a:prstGeom>
          <a:solidFill>
            <a:srgbClr val="fdf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ла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1000080" y="4643280"/>
            <a:ext cx="10000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7572240" y="4500720"/>
            <a:ext cx="1071720" cy="368280"/>
          </a:xfrm>
          <a:prstGeom prst="rect">
            <a:avLst/>
          </a:prstGeom>
          <a:solidFill>
            <a:srgbClr val="d2c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4000680" y="4643280"/>
            <a:ext cx="1214280" cy="368280"/>
          </a:xfrm>
          <a:prstGeom prst="rect">
            <a:avLst/>
          </a:prstGeom>
          <a:solidFill>
            <a:srgbClr val="b2b2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лево 33"/>
          <p:cNvSpPr/>
          <p:nvPr/>
        </p:nvSpPr>
        <p:spPr>
          <a:xfrm rot="2283000">
            <a:off x="1499760" y="2234880"/>
            <a:ext cx="866880" cy="298440"/>
          </a:xfrm>
          <a:prstGeom prst="leftArrow">
            <a:avLst>
              <a:gd name="adj1" fmla="val 50000"/>
              <a:gd name="adj2" fmla="val 68771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трелка вправо 34"/>
          <p:cNvSpPr/>
          <p:nvPr/>
        </p:nvSpPr>
        <p:spPr>
          <a:xfrm flipV="1" rot="17763000">
            <a:off x="4401720" y="2125800"/>
            <a:ext cx="768240" cy="320400"/>
          </a:xfrm>
          <a:prstGeom prst="rightArrow">
            <a:avLst>
              <a:gd name="adj1" fmla="val 38407"/>
              <a:gd name="adj2" fmla="val 50031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трелка вниз 35"/>
          <p:cNvSpPr/>
          <p:nvPr/>
        </p:nvSpPr>
        <p:spPr>
          <a:xfrm>
            <a:off x="4572000" y="3857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низ 36"/>
          <p:cNvSpPr/>
          <p:nvPr/>
        </p:nvSpPr>
        <p:spPr>
          <a:xfrm rot="2225400">
            <a:off x="1857240" y="3684240"/>
            <a:ext cx="247680" cy="1030320"/>
          </a:xfrm>
          <a:prstGeom prst="downArrow">
            <a:avLst>
              <a:gd name="adj1" fmla="val 55565"/>
              <a:gd name="adj2" fmla="val 49996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право 37"/>
          <p:cNvSpPr/>
          <p:nvPr/>
        </p:nvSpPr>
        <p:spPr>
          <a:xfrm rot="19704600">
            <a:off x="7089840" y="2563560"/>
            <a:ext cx="770040" cy="2840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право 38"/>
          <p:cNvSpPr/>
          <p:nvPr/>
        </p:nvSpPr>
        <p:spPr>
          <a:xfrm rot="2059800">
            <a:off x="6624360" y="3960720"/>
            <a:ext cx="1182600" cy="30024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55" descr="telaravnogoV.gif"/>
          <p:cNvPicPr/>
          <p:nvPr/>
        </p:nvPicPr>
        <p:blipFill>
          <a:blip r:embed="rId1"/>
          <a:stretch/>
        </p:blipFill>
        <p:spPr>
          <a:xfrm>
            <a:off x="714240" y="785880"/>
            <a:ext cx="7691400" cy="5894280"/>
          </a:xfrm>
          <a:prstGeom prst="rect">
            <a:avLst/>
          </a:prstGeom>
          <a:ln w="0">
            <a:noFill/>
          </a:ln>
        </p:spPr>
      </p:pic>
      <p:sp>
        <p:nvSpPr>
          <p:cNvPr id="325" name="Стрелка вправо 56"/>
          <p:cNvSpPr/>
          <p:nvPr/>
        </p:nvSpPr>
        <p:spPr>
          <a:xfrm>
            <a:off x="142920" y="3000240"/>
            <a:ext cx="1714320" cy="714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трелка влево 57"/>
          <p:cNvSpPr/>
          <p:nvPr/>
        </p:nvSpPr>
        <p:spPr>
          <a:xfrm>
            <a:off x="7358040" y="2928960"/>
            <a:ext cx="1643040" cy="6429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ятно 2 7"/>
          <p:cNvSpPr/>
          <p:nvPr/>
        </p:nvSpPr>
        <p:spPr>
          <a:xfrm rot="991200">
            <a:off x="3298320" y="2787480"/>
            <a:ext cx="5680080" cy="4427640"/>
          </a:xfrm>
          <a:prstGeom prst="irregularSeal2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Им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3e"/>
                </a:solidFill>
                <a:latin typeface="Cambria"/>
              </a:rPr>
              <a:t>РАЗНУЮ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м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олна 8"/>
          <p:cNvSpPr/>
          <p:nvPr/>
        </p:nvSpPr>
        <p:spPr>
          <a:xfrm rot="20453400">
            <a:off x="-258840" y="749160"/>
            <a:ext cx="5114880" cy="3211560"/>
          </a:xfrm>
          <a:custGeom>
            <a:avLst/>
            <a:gdLst>
              <a:gd name="textAreaLeft" fmla="*/ 788760 w 5114880"/>
              <a:gd name="textAreaRight" fmla="*/ 5904000 w 5114880"/>
              <a:gd name="textAreaTop" fmla="*/ 802800 h 3211560"/>
              <a:gd name="textAreaBottom" fmla="*/ 2408760 h 3211560"/>
            </a:gdLst>
            <a:ahLst/>
            <a:rect l="textAreaLeft" t="textAreaTop" r="textAreaRight" b="textAreaBottom"/>
            <a:pathLst>
              <a:path w="21600" h="21600">
                <a:moveTo>
                  <a:pt x="3332" y="2700"/>
                </a:moveTo>
                <a:cubicBezTo>
                  <a:pt x="8866" y="-6865"/>
                  <a:pt x="16066" y="12265"/>
                  <a:pt x="21600" y="2700"/>
                </a:cubicBezTo>
                <a:lnTo>
                  <a:pt x="18268" y="18900"/>
                </a:lnTo>
                <a:cubicBezTo>
                  <a:pt x="12734" y="28465"/>
                  <a:pt x="5534" y="9335"/>
                  <a:pt x="0" y="18900"/>
                </a:cubicBezTo>
                <a:close/>
              </a:path>
            </a:pathLst>
          </a:custGeom>
          <a:solidFill>
            <a:srgbClr val="fce9af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ела, име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rgbClr val="525b7e"/>
                </a:solidFill>
                <a:latin typeface="Cambria"/>
              </a:rPr>
              <a:t>РАВНЫЕ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объё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33:35Z</dcterms:created>
  <dc:creator>Марина</dc:creator>
  <dc:description/>
  <dc:language>en-US</dc:language>
  <cp:lastModifiedBy> </cp:lastModifiedBy>
  <dcterms:modified xsi:type="dcterms:W3CDTF">2014-01-13T16:04:25Z</dcterms:modified>
  <cp:revision>121</cp:revision>
  <dc:subject/>
  <dc:title>Слайд 1</dc:title>
</cp:coreProperties>
</file>