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7.png" ContentType="image/png"/>
  <Override PartName="/ppt/media/image34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37.jpeg" ContentType="image/jpeg"/>
  <Override PartName="/ppt/media/image30.png" ContentType="image/png"/>
  <Override PartName="/ppt/media/image14.png" ContentType="image/png"/>
  <Override PartName="/ppt/media/image10.jpeg" ContentType="image/jpeg"/>
  <Override PartName="/ppt/media/breeze.wav" ContentType="audio/x-wav"/>
  <Override PartName="/ppt/media/applause.wav" ContentType="audio/x-wav"/>
  <Override PartName="/ppt/media/image35.gif" ContentType="image/gif"/>
  <Override PartName="/ppt/media/image28.png" ContentType="image/png"/>
  <Override PartName="/ppt/media/image7.jpeg" ContentType="image/jpeg"/>
  <Override PartName="/ppt/media/image36.jpeg" ContentType="image/jpeg"/>
  <Override PartName="/ppt/media/image2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32.gif" ContentType="image/gif"/>
  <Override PartName="/ppt/media/image25.png" ContentType="image/png"/>
  <Override PartName="/ppt/media/image3.png" ContentType="image/png"/>
  <Override PartName="/ppt/media/image26.png" ContentType="image/png"/>
  <Override PartName="/ppt/media/image33.gif" ContentType="image/gif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Cambria"/>
              </a:rPr>
              <a:t>Click to move the slide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B4C0-5B88-44A3-B56E-DEA705D082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13AB-F630-4396-8DBD-E692117953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A718-ABA9-49AD-A783-EEFE2F44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FAD1-7124-4354-9B74-1D30B41A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ACFF-77F2-4EC4-AC25-0B0D7EFE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640-00F9-4F96-9214-8F692DD2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E5D7-10AE-426D-B4F3-18EE7D68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EA64-0623-4993-9BFF-70511F7F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B8E2-D014-4E33-9BF8-2026FE78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4024-5915-45B2-97A0-028237AF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3D0F-9955-4958-81C8-2CE6A571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1B1B-6EB1-49E0-829C-2F39E8D4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F758-0A1C-497B-990D-E89F32C0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B909-22E8-4576-B37A-9C3BFA4C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3970-2E8F-4647-9E2F-0DFA2F16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E3D7-FEFD-492B-9E0C-2A426A69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7BB6-2A2A-4A59-A571-54BBB5AC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630D-9411-4ED9-8DA7-4F6564B6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52FB-C23B-4AE2-B693-5CAF1C32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31978-8386-436A-AC96-CE385621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6395E-674D-4ABE-BB50-CE335C08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3428E-307A-435C-98EC-24FD7EAA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1A980-3373-4735-A310-89617164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648CB-9480-4BD5-A498-14992240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0619-57C2-4A8C-8936-7C496ECB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30BA0-4915-42B6-A92A-5B9E6767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78E7F-3755-49BE-BAD6-D578A8C5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69F02-0416-430D-A41A-3CDA4550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35BA8-6123-4DC0-800E-09B0C234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B3DA5-21DD-4C0C-AD4D-2280AB1A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EFB74-2430-46E6-AD61-56E9D39B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25B93-0CF9-4D4B-BC2D-3EE04871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A7CA5-E670-48A6-A1EA-29CFC9F2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2CC35-8C09-419D-B34C-7A3F8AD3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72BE4-8F7F-43BC-8BA6-17DFC58E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285C-C3EF-488C-B683-9AAA5B73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530A9-15DE-4A9C-B5D2-E55C8FF6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05DB1-A17D-435D-93A1-D71C1C0E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320F7-6473-4650-AFBF-2522562A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FEE80-5147-4839-ADAE-6E24ADB4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9BA3D-6699-4AD2-A5B6-710DDA1E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EBE06-1D81-4714-B59E-CA64BBA8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F2D77-A209-41D8-BAAE-C10BBEBA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37EB9-83B8-41D6-9873-294F1CA4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2DF34-60B5-45D7-9AD1-2A134164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FF632-3B0D-4230-9607-1F996809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A62-D5E3-4FC2-A960-6F1F16E5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4EF57-4B56-474D-BC8E-CE52DD51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A95D6-E655-4163-835B-A00853CB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7A32F-EEB1-4A8B-8154-CF03E6BB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E8B9F-050D-40EC-A298-8150D33D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973A0-CA8A-491A-8CAE-3AD6E2EF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F820E-631C-4101-B8F2-5CDE21AC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6A558-6991-438E-B5D0-936B0C5C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2D45F-A249-4F1E-8DFF-6FF5F0CA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AE9D7-5CAD-4F1E-9462-AEDAE294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8BFB6-CC66-4B62-841B-981B81D3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8D2B-B36D-42A7-B278-9E9FB8B1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5EDE4-71B6-49BB-A849-BB0117FF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B19DB-0B37-4D15-901D-C36AE816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F8E6C-3F0F-49E8-B597-589BA668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81A61-DEDE-43B0-8441-D6228DD3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FC04E-BFBE-4EDD-A648-E9EBE376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F460F-F513-4B03-A3DB-DA7C1A27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DB6C2-1988-4EEE-B574-76375D82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93F6E-F300-4C4E-93FB-CFCF4574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0D7EF-FE03-4626-8648-01E54E44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CFBB9-2531-4F62-A7E9-787E732B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3411-8F09-4608-941E-21CFD4D9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4373E-9769-4A7D-BBE3-F7F5E698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52152-45D7-4950-B8AF-0B6207F1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252FC-60AF-4F71-93BA-FF962FBE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8CA1-E69A-4C1D-9113-542B858C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C3A-A0AD-4825-B1B9-A0BFCCE5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Cambria"/>
              </a:rPr>
              <a:t>Click to edit the title text format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91c7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91c7f6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ffff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16B9-E552-4A89-B6CB-53286539D490}" type="slidenum">
              <a:rPr b="0" lang="ru-RU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Cambria"/>
              </a:rPr>
              <a:t>Click to edit the title text format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91c7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91c7f6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ffff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CF85-1103-4FEB-A836-DCFC228162A9}" type="slidenum">
              <a:rPr b="0" lang="ru-RU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Cambria"/>
              </a:rPr>
              <a:t>Click to edit the title text format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91c7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91c7f6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ffff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042C-9C84-4684-AB28-8DEBE8DC89FC}" type="slidenum">
              <a:rPr b="0" lang="ru-RU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Cambria"/>
              </a:rPr>
              <a:t>Click to edit the title text format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91c7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91c7f6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ffff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0D3D-36D3-4B99-8649-82E60A7B1EEF}" type="slidenum">
              <a:rPr b="0" lang="ru-RU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Cambria"/>
              </a:rPr>
              <a:t>Click to edit the title text format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91c7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91c7f6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ffff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2aba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F7B2-8B82-44B1-90A7-8656F216DB5D}" type="slidenum">
              <a:rPr b="0" lang="ru-RU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8fba"/>
                </a:solidFill>
                <a:latin typeface="Cambria"/>
              </a:rPr>
              <a:t>Click to edit the title text format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727ca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91c7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91c7f6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ffff5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2ab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9B21-96B2-4945-BBB8-FFD888FE58A3}" type="slidenum">
              <a:rPr b="0" lang="ru-RU" sz="1000" spc="-1" strike="noStrike">
                <a:solidFill>
                  <a:srgbClr val="a2aba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Winter 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627680" cy="5040360"/>
          </a:xfrm>
          <a:prstGeom prst="rect">
            <a:avLst/>
          </a:prstGeom>
          <a:solidFill>
            <a:srgbClr val="f0fda1"/>
          </a:solidFill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Я еще не устал удивляться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Чудесам, что есть на земле,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Телевизору, голосу рации,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Вентилятору на столе.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Ток по проволоке струится,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Спутник мчится по небесам.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Человеку стоит дивиться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Человеческим чудесам…</a:t>
            </a:r>
            <a:r>
              <a:rPr b="1" lang="ru-RU" sz="4000" spc="-1" strike="noStrike">
                <a:solidFill>
                  <a:srgbClr val="848fba"/>
                </a:solidFill>
                <a:latin typeface="Cambria"/>
              </a:rPr>
              <a:t> </a:t>
            </a:r>
            <a:endParaRPr b="1" lang="en-US" sz="40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1143000" y="6143760"/>
            <a:ext cx="184320" cy="369720"/>
          </a:xfrm>
          <a:prstGeom prst="rect">
            <a:avLst/>
          </a:prstGeom>
          <a:solidFill>
            <a:srgbClr val="bca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8fba"/>
              </a:solidFill>
              <a:latin typeface="Cambria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8672400" y="31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D:\док-ты\Мои рисунки\telaraznogoV.gif"/>
          <p:cNvPicPr/>
          <p:nvPr/>
        </p:nvPicPr>
        <p:blipFill>
          <a:blip r:embed="rId1"/>
          <a:stretch/>
        </p:blipFill>
        <p:spPr>
          <a:xfrm>
            <a:off x="785880" y="714240"/>
            <a:ext cx="7596000" cy="5929560"/>
          </a:xfrm>
          <a:prstGeom prst="rect">
            <a:avLst/>
          </a:prstGeom>
          <a:ln w="0">
            <a:noFill/>
          </a:ln>
        </p:spPr>
      </p:pic>
      <p:sp>
        <p:nvSpPr>
          <p:cNvPr id="334" name="Стрелка вправо 2"/>
          <p:cNvSpPr/>
          <p:nvPr/>
        </p:nvSpPr>
        <p:spPr>
          <a:xfrm>
            <a:off x="285840" y="3143160"/>
            <a:ext cx="1714320" cy="7146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bcaba5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Ст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трелка влево 3"/>
          <p:cNvSpPr/>
          <p:nvPr/>
        </p:nvSpPr>
        <p:spPr>
          <a:xfrm>
            <a:off x="7286760" y="3214800"/>
            <a:ext cx="1643040" cy="64296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bcaba5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Дер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Цилиндр 1"/>
          <p:cNvSpPr/>
          <p:nvPr/>
        </p:nvSpPr>
        <p:spPr>
          <a:xfrm>
            <a:off x="714240" y="2214720"/>
            <a:ext cx="1428840" cy="3929040"/>
          </a:xfrm>
          <a:prstGeom prst="can">
            <a:avLst>
              <a:gd name="adj" fmla="val 9092"/>
            </a:avLst>
          </a:prstGeom>
          <a:solidFill>
            <a:srgbClr val="e3e5ed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Цилиндр 2"/>
          <p:cNvSpPr/>
          <p:nvPr/>
        </p:nvSpPr>
        <p:spPr>
          <a:xfrm>
            <a:off x="3143160" y="4000680"/>
            <a:ext cx="1285920" cy="2143080"/>
          </a:xfrm>
          <a:prstGeom prst="can">
            <a:avLst>
              <a:gd name="adj" fmla="val 15000"/>
            </a:avLst>
          </a:prstGeom>
          <a:solidFill>
            <a:srgbClr val="7f7f7f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Цилиндр 3"/>
          <p:cNvSpPr/>
          <p:nvPr/>
        </p:nvSpPr>
        <p:spPr>
          <a:xfrm>
            <a:off x="5500800" y="4643280"/>
            <a:ext cx="1214280" cy="1428840"/>
          </a:xfrm>
          <a:prstGeom prst="can">
            <a:avLst>
              <a:gd name="adj" fmla="val 21250"/>
            </a:avLst>
          </a:prstGeom>
          <a:solidFill>
            <a:srgbClr val="cd6209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Цилиндр 4"/>
          <p:cNvSpPr/>
          <p:nvPr/>
        </p:nvSpPr>
        <p:spPr>
          <a:xfrm>
            <a:off x="7500960" y="5357880"/>
            <a:ext cx="1000080" cy="714240"/>
          </a:xfrm>
          <a:prstGeom prst="can">
            <a:avLst>
              <a:gd name="adj" fmla="val 25000"/>
            </a:avLst>
          </a:prstGeom>
          <a:solidFill>
            <a:srgbClr val="404040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5"/>
          <p:cNvSpPr/>
          <p:nvPr/>
        </p:nvSpPr>
        <p:spPr>
          <a:xfrm>
            <a:off x="7500960" y="6215040"/>
            <a:ext cx="1143000" cy="357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ambria"/>
              </a:rPr>
              <a:t>Сви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6"/>
          <p:cNvSpPr/>
          <p:nvPr/>
        </p:nvSpPr>
        <p:spPr>
          <a:xfrm>
            <a:off x="5572080" y="6215040"/>
            <a:ext cx="1143000" cy="35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ambria"/>
              </a:rPr>
              <a:t>М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7"/>
          <p:cNvSpPr/>
          <p:nvPr/>
        </p:nvSpPr>
        <p:spPr>
          <a:xfrm>
            <a:off x="3071880" y="6286680"/>
            <a:ext cx="1285920" cy="357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ambria"/>
              </a:rPr>
              <a:t>Ст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8"/>
          <p:cNvSpPr/>
          <p:nvPr/>
        </p:nvSpPr>
        <p:spPr>
          <a:xfrm>
            <a:off x="714240" y="6286680"/>
            <a:ext cx="1500480" cy="357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ambria"/>
              </a:rPr>
              <a:t>Алюми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9"/>
          <p:cNvSpPr/>
          <p:nvPr/>
        </p:nvSpPr>
        <p:spPr>
          <a:xfrm>
            <a:off x="1000080" y="3857760"/>
            <a:ext cx="714600" cy="285480"/>
          </a:xfrm>
          <a:prstGeom prst="rect">
            <a:avLst/>
          </a:prstGeom>
          <a:solidFill>
            <a:srgbClr val="ffff00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1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10"/>
          <p:cNvSpPr/>
          <p:nvPr/>
        </p:nvSpPr>
        <p:spPr>
          <a:xfrm>
            <a:off x="3500280" y="4929120"/>
            <a:ext cx="714600" cy="285840"/>
          </a:xfrm>
          <a:prstGeom prst="rect">
            <a:avLst/>
          </a:prstGeom>
          <a:solidFill>
            <a:srgbClr val="ffff00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1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11"/>
          <p:cNvSpPr/>
          <p:nvPr/>
        </p:nvSpPr>
        <p:spPr>
          <a:xfrm>
            <a:off x="5786280" y="5357880"/>
            <a:ext cx="714600" cy="285840"/>
          </a:xfrm>
          <a:prstGeom prst="rect">
            <a:avLst/>
          </a:prstGeom>
          <a:solidFill>
            <a:srgbClr val="ffff00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1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12"/>
          <p:cNvSpPr/>
          <p:nvPr/>
        </p:nvSpPr>
        <p:spPr>
          <a:xfrm>
            <a:off x="7715160" y="5643720"/>
            <a:ext cx="642960" cy="285480"/>
          </a:xfrm>
          <a:prstGeom prst="rect">
            <a:avLst/>
          </a:prstGeom>
          <a:solidFill>
            <a:srgbClr val="ffff00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1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2000160" y="785880"/>
            <a:ext cx="4786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8807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b38807"/>
                </a:solidFill>
                <a:latin typeface="Arial"/>
              </a:rPr>
              <a:t>Тела, имеющие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РАВНУЮ</a:t>
            </a:r>
            <a:r>
              <a:rPr b="1" lang="ru-RU" sz="4000" spc="-1" strike="noStrike">
                <a:solidFill>
                  <a:srgbClr val="b38807"/>
                </a:solidFill>
                <a:latin typeface="Arial"/>
              </a:rPr>
              <a:t> мас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7"/>
          <p:cNvSpPr/>
          <p:nvPr/>
        </p:nvSpPr>
        <p:spPr>
          <a:xfrm>
            <a:off x="3429000" y="2428920"/>
            <a:ext cx="51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8807"/>
                </a:solidFill>
                <a:latin typeface="Arial"/>
              </a:rPr>
              <a:t>Имеют</a:t>
            </a:r>
            <a:r>
              <a:rPr b="1" lang="ru-RU" sz="4000" spc="-1" strike="noStrike">
                <a:solidFill>
                  <a:srgbClr val="f7c12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РАЗНЫЙ </a:t>
            </a:r>
            <a:r>
              <a:rPr b="1" lang="ru-RU" sz="4000" spc="-1" strike="noStrike">
                <a:solidFill>
                  <a:srgbClr val="b38807"/>
                </a:solidFill>
                <a:latin typeface="Arial"/>
              </a:rPr>
              <a:t>объё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6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64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140"/>
                            </p:stCondLst>
                            <p:childTnLst>
                              <p:par>
                                <p:cTn id="2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640"/>
                            </p:stCondLst>
                            <p:childTnLst>
                              <p:par>
                                <p:cTn id="2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140"/>
                            </p:stCondLst>
                            <p:childTnLst>
                              <p:par>
                                <p:cTn id="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640"/>
                            </p:stCondLst>
                            <p:childTnLst>
                              <p:par>
                                <p:cTn id="2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140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64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14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640"/>
                            </p:stCondLst>
                            <p:childTnLst>
                              <p:par>
                                <p:cTn id="2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140"/>
                            </p:stCondLst>
                            <p:childTnLst>
                              <p:par>
                                <p:cTn id="2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640"/>
                            </p:stCondLst>
                            <p:childTnLst>
                              <p:par>
                                <p:cTn id="2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140"/>
                            </p:stCondLst>
                            <p:childTnLst>
                              <p:par>
                                <p:cTn id="2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Похоже на строение вещества"/>
          <p:cNvPicPr/>
          <p:nvPr/>
        </p:nvPicPr>
        <p:blipFill>
          <a:blip r:embed="rId1"/>
          <a:stretch/>
        </p:blipFill>
        <p:spPr>
          <a:xfrm>
            <a:off x="5638680" y="4425840"/>
            <a:ext cx="2889360" cy="217008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оугольник 4" descr=""/>
          <p:cNvPicPr/>
          <p:nvPr/>
        </p:nvPicPr>
        <p:blipFill>
          <a:blip r:embed="rId2"/>
          <a:stretch/>
        </p:blipFill>
        <p:spPr>
          <a:xfrm>
            <a:off x="853920" y="590400"/>
            <a:ext cx="7504200" cy="2646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8"/>
          <p:cNvSpPr/>
          <p:nvPr/>
        </p:nvSpPr>
        <p:spPr>
          <a:xfrm>
            <a:off x="142920" y="2571840"/>
            <a:ext cx="80010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d8525"/>
                </a:solidFill>
                <a:latin typeface="Cambria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d8525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d8525"/>
                </a:solidFill>
                <a:latin typeface="Cambria"/>
              </a:rPr>
              <a:t>Познакомиться с понятием плотность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d8525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d8525"/>
                </a:solidFill>
                <a:latin typeface="Cambria"/>
              </a:rPr>
              <a:t>Познакомиться с формулой для расчёта пло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d8525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d8525"/>
                </a:solidFill>
                <a:latin typeface="Cambria"/>
              </a:rPr>
              <a:t>Выяснить физический смысл понятия пло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d8525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085 Падал прошлогодний снег.mp3" descr=""/>
          <p:cNvPicPr/>
          <p:nvPr/>
        </p:nvPicPr>
        <p:blipFill>
          <a:blip r:embed="rId3"/>
          <a:stretch/>
        </p:blipFill>
        <p:spPr>
          <a:xfrm>
            <a:off x="57168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63" dur="1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1000"/>
          </a:bodyPr>
          <a:p>
            <a:pPr marL="240840" indent="-24084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0840" indent="-24084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0840" indent="-24084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Масса по-разному распределяется по объему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0840" indent="-24084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0840" indent="-24084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0840" indent="-24084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0840" indent="-24084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 одного цилиндра на единицу объема приходится большая масса, а другого на единицу объема приходится меньшая масс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Прямоугольник 1" descr=""/>
          <p:cNvPicPr/>
          <p:nvPr/>
        </p:nvPicPr>
        <p:blipFill>
          <a:blip r:embed="rId1"/>
          <a:stretch/>
        </p:blipFill>
        <p:spPr>
          <a:xfrm>
            <a:off x="1822320" y="384120"/>
            <a:ext cx="5688000" cy="14446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2"/>
          <p:cNvSpPr/>
          <p:nvPr/>
        </p:nvSpPr>
        <p:spPr>
          <a:xfrm>
            <a:off x="214200" y="1785960"/>
            <a:ext cx="87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лотност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ь</a:t>
            </a:r>
            <a:r>
              <a:rPr b="1" lang="ru-RU" sz="3600" spc="-1" strike="noStrike">
                <a:solidFill>
                  <a:srgbClr val="097d09"/>
                </a:solidFill>
                <a:latin typeface="Arial"/>
              </a:rPr>
              <a:t> показывает какая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масса</a:t>
            </a:r>
            <a:r>
              <a:rPr b="1" lang="ru-RU" sz="3600" spc="-1" strike="noStrike">
                <a:solidFill>
                  <a:srgbClr val="097d0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97d09"/>
                </a:solidFill>
                <a:latin typeface="Arial"/>
              </a:rPr>
              <a:t> вещества приходится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а единицу объёма те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Куб 3"/>
          <p:cNvSpPr/>
          <p:nvPr/>
        </p:nvSpPr>
        <p:spPr>
          <a:xfrm>
            <a:off x="4572000" y="3000240"/>
            <a:ext cx="3929040" cy="3643560"/>
          </a:xfrm>
          <a:prstGeom prst="cube">
            <a:avLst>
              <a:gd name="adj" fmla="val 25000"/>
            </a:avLst>
          </a:prstGeom>
          <a:solidFill>
            <a:srgbClr val="bcaba5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Куб 4"/>
          <p:cNvSpPr/>
          <p:nvPr/>
        </p:nvSpPr>
        <p:spPr>
          <a:xfrm>
            <a:off x="2000160" y="4286160"/>
            <a:ext cx="857520" cy="857520"/>
          </a:xfrm>
          <a:prstGeom prst="cube">
            <a:avLst>
              <a:gd name="adj" fmla="val 25000"/>
            </a:avLst>
          </a:prstGeom>
          <a:solidFill>
            <a:srgbClr val="bcaba5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"/>
          <p:cNvSpPr/>
          <p:nvPr/>
        </p:nvSpPr>
        <p:spPr>
          <a:xfrm>
            <a:off x="2000160" y="457236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 с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5572080" y="49294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 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рямоугольник 1"/>
          <p:cNvSpPr/>
          <p:nvPr/>
        </p:nvSpPr>
        <p:spPr>
          <a:xfrm>
            <a:off x="1071720" y="1214280"/>
            <a:ext cx="7286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масса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38807"/>
                </a:solidFill>
                <a:latin typeface="Arial"/>
              </a:rPr>
              <a:t>m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объем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38807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плотность – </a:t>
            </a:r>
            <a:r>
              <a:rPr b="1" lang="el-GR" sz="2800" spc="-1" strike="noStrike">
                <a:solidFill>
                  <a:srgbClr val="b38807"/>
                </a:solidFill>
                <a:latin typeface="Arial"/>
              </a:rPr>
              <a:t>ρ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греч. буква «ро»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2"/>
          <p:cNvSpPr/>
          <p:nvPr/>
        </p:nvSpPr>
        <p:spPr>
          <a:xfrm>
            <a:off x="1955160" y="3500280"/>
            <a:ext cx="510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600" spc="-1" strike="noStrike">
                <a:solidFill>
                  <a:srgbClr val="b292ca"/>
                </a:solidFill>
                <a:latin typeface="Arial"/>
              </a:rPr>
              <a:t>ρ</a:t>
            </a:r>
            <a:r>
              <a:rPr b="1" lang="en-US" sz="9600" spc="-1" strike="noStrike">
                <a:solidFill>
                  <a:srgbClr val="b292ca"/>
                </a:solidFill>
                <a:latin typeface="Arial"/>
              </a:rPr>
              <a:t> = m / 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Номер слайда 6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840C-F6AC-4EAD-A427-CA040D20E1CF}" type="slidenum">
              <a:rPr b="0" lang="ru-RU" sz="1000" spc="-1" strike="noStrike">
                <a:solidFill>
                  <a:srgbClr val="a2aba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Rockwell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l-GR" sz="4800" spc="-1" strike="noStrike">
                <a:solidFill>
                  <a:srgbClr val="000000"/>
                </a:solidFill>
                <a:latin typeface="Cambria"/>
                <a:ea typeface="Times New Roman"/>
              </a:rPr>
              <a:t>ρ</a:t>
            </a:r>
            <a:r>
              <a:rPr b="1" lang="en-US" sz="4800" spc="-1" strike="noStrike">
                <a:solidFill>
                  <a:srgbClr val="000000"/>
                </a:solidFill>
                <a:latin typeface="Rockwell"/>
                <a:ea typeface="Times New Roman"/>
              </a:rPr>
              <a:t>  · V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AutoShape 9"/>
          <p:cNvSpPr/>
          <p:nvPr/>
        </p:nvSpPr>
        <p:spPr>
          <a:xfrm>
            <a:off x="571680" y="2714760"/>
            <a:ext cx="2928600" cy="2865240"/>
          </a:xfrm>
          <a:prstGeom prst="triangle">
            <a:avLst>
              <a:gd name="adj" fmla="val 4522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4000680" y="2214720"/>
            <a:ext cx="459252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 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са тела, кг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ём тела, 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с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плотность тела,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6"/>
          <p:cNvSpPr/>
          <p:nvPr/>
        </p:nvSpPr>
        <p:spPr>
          <a:xfrm>
            <a:off x="1332000" y="4221000"/>
            <a:ext cx="7056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856800" y="2854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8fba"/>
                </a:solidFill>
                <a:latin typeface="Cambria"/>
              </a:rPr>
              <a:t>ФОРМУЛА ПЛОТНОСТИ 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70" name="Прямая соединительная линия 12"/>
          <p:cNvSpPr/>
          <p:nvPr/>
        </p:nvSpPr>
        <p:spPr>
          <a:xfrm>
            <a:off x="1143000" y="4429080"/>
            <a:ext cx="16430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Горизонтальный свиток 1"/>
          <p:cNvGrpSpPr/>
          <p:nvPr/>
        </p:nvGrpSpPr>
        <p:grpSpPr>
          <a:xfrm>
            <a:off x="622440" y="768240"/>
            <a:ext cx="3608280" cy="2749680"/>
            <a:chOff x="622440" y="768240"/>
            <a:chExt cx="3608280" cy="2749680"/>
          </a:xfrm>
        </p:grpSpPr>
        <p:pic>
          <p:nvPicPr>
            <p:cNvPr id="372" name="Горизонтальный свиток 1" descr=""/>
            <p:cNvPicPr/>
            <p:nvPr/>
          </p:nvPicPr>
          <p:blipFill>
            <a:blip r:embed="rId1"/>
            <a:stretch/>
          </p:blipFill>
          <p:spPr>
            <a:xfrm>
              <a:off x="622440" y="768240"/>
              <a:ext cx="360828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Text Box 3"/>
            <p:cNvSpPr/>
            <p:nvPr/>
          </p:nvSpPr>
          <p:spPr>
            <a:xfrm>
              <a:off x="982800" y="1125360"/>
              <a:ext cx="3062160" cy="20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87026"/>
                  </a:solidFill>
                  <a:latin typeface="Constantia"/>
                </a:rPr>
                <a:t>m = </a:t>
              </a:r>
              <a:r>
                <a:rPr b="1" lang="el-GR" sz="4000" spc="-1" strike="noStrike">
                  <a:solidFill>
                    <a:srgbClr val="387026"/>
                  </a:solidFill>
                  <a:latin typeface="Constantia"/>
                </a:rPr>
                <a:t>ρ</a:t>
              </a:r>
              <a:r>
                <a:rPr b="1" lang="en-US" sz="4000" spc="-1" strike="noStrike">
                  <a:solidFill>
                    <a:srgbClr val="387026"/>
                  </a:solidFill>
                  <a:latin typeface="Constantia"/>
                </a:rPr>
                <a:t>•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Горизонтальный свиток 2"/>
          <p:cNvGrpSpPr/>
          <p:nvPr/>
        </p:nvGrpSpPr>
        <p:grpSpPr>
          <a:xfrm>
            <a:off x="4840200" y="2908440"/>
            <a:ext cx="3681360" cy="2754000"/>
            <a:chOff x="4840200" y="2908440"/>
            <a:chExt cx="3681360" cy="2754000"/>
          </a:xfrm>
        </p:grpSpPr>
        <p:pic>
          <p:nvPicPr>
            <p:cNvPr id="375" name="Горизонтальный свиток 2" descr=""/>
            <p:cNvPicPr/>
            <p:nvPr/>
          </p:nvPicPr>
          <p:blipFill>
            <a:blip r:embed="rId2"/>
            <a:stretch/>
          </p:blipFill>
          <p:spPr>
            <a:xfrm>
              <a:off x="4840200" y="2908440"/>
              <a:ext cx="3681360" cy="27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6"/>
            <p:cNvSpPr/>
            <p:nvPr/>
          </p:nvSpPr>
          <p:spPr>
            <a:xfrm>
              <a:off x="5197320" y="3268800"/>
              <a:ext cx="3133800" cy="20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87026"/>
                  </a:solidFill>
                  <a:latin typeface="Constantia"/>
                </a:rPr>
                <a:t>V = m/</a:t>
              </a:r>
              <a:r>
                <a:rPr b="1" lang="el-GR" sz="4000" spc="-1" strike="noStrike">
                  <a:solidFill>
                    <a:srgbClr val="387026"/>
                  </a:solidFill>
                  <a:latin typeface="Constantia"/>
                </a:rPr>
                <a:t>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Физкультминутка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3"/>
          <p:cNvSpPr/>
          <p:nvPr/>
        </p:nvSpPr>
        <p:spPr>
          <a:xfrm>
            <a:off x="3714840" y="21420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Фронтальный 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2"/>
          <p:cNvSpPr/>
          <p:nvPr/>
        </p:nvSpPr>
        <p:spPr>
          <a:xfrm>
            <a:off x="357120" y="1071720"/>
            <a:ext cx="857268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Как определить массу те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Что характеризует мас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В каких единицах измеряется мас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Как найти объем прямоугольного параллелепипе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Как найти объем тела неправильно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фор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1"/>
          <p:cNvSpPr/>
          <p:nvPr/>
        </p:nvSpPr>
        <p:spPr>
          <a:xfrm>
            <a:off x="1071720" y="171468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8807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b38807"/>
                </a:solidFill>
                <a:latin typeface="Arial"/>
              </a:rPr>
              <a:t>Единица измерения плот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8807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b38807"/>
                </a:solidFill>
                <a:latin typeface="Arial"/>
              </a:rPr>
              <a:t>в системе 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"/>
          <p:cNvSpPr/>
          <p:nvPr/>
        </p:nvSpPr>
        <p:spPr>
          <a:xfrm>
            <a:off x="3286080" y="2928960"/>
            <a:ext cx="257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кг/м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0" dur="1000" fill="hold"/>
                                        <p:tgtEl>
                                          <p:spTgt spid="3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Рассчитаем плотность цилиндра по данным опыта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Работа с таблицей страница 66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таблица № 4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357120" y="2000160"/>
            <a:ext cx="457200" cy="4572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2"/>
          <a:stretch/>
        </p:blipFill>
        <p:spPr>
          <a:xfrm>
            <a:off x="1357200" y="2071800"/>
            <a:ext cx="487440" cy="37386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"/>
          <p:cNvPicPr/>
          <p:nvPr/>
        </p:nvPicPr>
        <p:blipFill>
          <a:blip r:embed="rId3"/>
          <a:stretch/>
        </p:blipFill>
        <p:spPr>
          <a:xfrm>
            <a:off x="0" y="1928880"/>
            <a:ext cx="487440" cy="3024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"/>
          <p:cNvPicPr/>
          <p:nvPr/>
        </p:nvPicPr>
        <p:blipFill>
          <a:blip r:embed="rId4"/>
          <a:stretch/>
        </p:blipFill>
        <p:spPr>
          <a:xfrm>
            <a:off x="1857240" y="2965320"/>
            <a:ext cx="428760" cy="3892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"/>
          <p:cNvPicPr/>
          <p:nvPr/>
        </p:nvPicPr>
        <p:blipFill>
          <a:blip r:embed="rId5"/>
          <a:stretch/>
        </p:blipFill>
        <p:spPr>
          <a:xfrm>
            <a:off x="857160" y="3143160"/>
            <a:ext cx="500040" cy="348480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15"/>
          <p:cNvSpPr/>
          <p:nvPr/>
        </p:nvSpPr>
        <p:spPr>
          <a:xfrm>
            <a:off x="2357280" y="3214800"/>
            <a:ext cx="678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Ареометры применяются для изме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плотности электролита в кислотных и щелочных аккумулятор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плотности цельного и обезжиренного молока, нефти и нефтепроду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плотностей растворов солей и кислот, растворов цемента, бетон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0"/>
          <p:cNvSpPr/>
          <p:nvPr/>
        </p:nvSpPr>
        <p:spPr>
          <a:xfrm>
            <a:off x="4510440" y="0"/>
            <a:ext cx="339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Ареомет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1"/>
          <p:cNvSpPr/>
          <p:nvPr/>
        </p:nvSpPr>
        <p:spPr>
          <a:xfrm>
            <a:off x="428760" y="857160"/>
            <a:ext cx="82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Ареометр (от греч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ara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рыхлый, жидкий 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met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и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змерять) – прибор в виде стеклянного поплавка с измерительной шкалой и грузом (внизу), предназначенный для измерения плотности жидкостей и сыпучи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9"/>
          <p:cNvSpPr/>
          <p:nvPr/>
        </p:nvSpPr>
        <p:spPr>
          <a:xfrm>
            <a:off x="4510440" y="0"/>
            <a:ext cx="339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Ареомет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Определите массу кирпича с помощью линейки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Практическое значение и применение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оугольник 1"/>
          <p:cNvSpPr/>
          <p:nvPr/>
        </p:nvSpPr>
        <p:spPr>
          <a:xfrm>
            <a:off x="357120" y="857160"/>
            <a:ext cx="857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Обычно твердые тела тонут в своих расплавах. Например, кусок сливочного масла утонет в топленом масле, железный гвоздь утонет в расплавленном желе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"/>
          <p:cNvSpPr/>
          <p:nvPr/>
        </p:nvSpPr>
        <p:spPr>
          <a:xfrm>
            <a:off x="357120" y="450756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Но нет правил без исключения!</a:t>
            </a:r>
            <a:r>
              <a:rPr b="1" i="1" lang="ru-RU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Образующийся зимой лед не тонет, а плавает на поверхности воды, т.к. плотность льда меньше плотности воды. Иначе все водоемы зимой наполнялись бы льдом и в них не могли бы существовать живые организмы</a:t>
            </a:r>
            <a:r>
              <a:rPr b="1" lang="ru-RU" sz="2400" spc="-1" strike="noStrike">
                <a:solidFill>
                  <a:srgbClr val="1c1c1c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3"/>
          <p:cNvSpPr/>
          <p:nvPr/>
        </p:nvSpPr>
        <p:spPr>
          <a:xfrm>
            <a:off x="5513040" y="18900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Это интере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2571840" y="2214720"/>
            <a:ext cx="3936960" cy="221436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5"/>
          <p:cNvSpPr/>
          <p:nvPr/>
        </p:nvSpPr>
        <p:spPr>
          <a:xfrm>
            <a:off x="1928880" y="4214880"/>
            <a:ext cx="4857840" cy="35712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8fba"/>
                </a:solidFill>
                <a:latin typeface="Cambria"/>
              </a:rPr>
              <a:t>ЭТО ИНТЕРЕСНО!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вежесть куриных яиц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ожно определить по их средней плотности. При длительном хранении часть жидкости испаряется через поры в яичной скорлупе и замещается воздухом. При том же объеме его средняя плотность уменьшается и оно становится легче. Свежее яйцо тонет в воде, а несвежее всплывает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05" name="Рисунок 8" descr="http://class-fizika.narod.ru/7_class/7-plotn1/9d.gif"/>
          <p:cNvPicPr/>
          <p:nvPr/>
        </p:nvPicPr>
        <p:blipFill>
          <a:blip r:embed="rId1"/>
          <a:stretch/>
        </p:blipFill>
        <p:spPr>
          <a:xfrm>
            <a:off x="5429160" y="5000760"/>
            <a:ext cx="13575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8fba"/>
                </a:solidFill>
                <a:latin typeface="Cambria"/>
              </a:rPr>
              <a:t>ЭТО ИНТЕРЕСНО!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785960"/>
            <a:ext cx="8153280" cy="4309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Так как в основном человек состоит из жидкости, средняя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лотность тела человека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 г/с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³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асса человека в килограммах численно равна объему его тела в литрах. Например, ученик массой 50кг имеет объем тела около 50 литров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08" name="Рисунок 4" descr="i0583rp.gif"/>
          <p:cNvPicPr/>
          <p:nvPr/>
        </p:nvPicPr>
        <p:blipFill>
          <a:blip r:embed="rId1"/>
          <a:stretch/>
        </p:blipFill>
        <p:spPr>
          <a:xfrm>
            <a:off x="0" y="5000760"/>
            <a:ext cx="95868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712 -0.00787 L 0.97326 0.00486 E">
                                      <p:cBhvr>
                                        <p:cTn id="366" dur="15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8fba"/>
                </a:solidFill>
                <a:latin typeface="Cambria"/>
              </a:rPr>
              <a:t>                                                                                                                                                                   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0000"/>
          </a:bodyPr>
          <a:p>
            <a:pPr marL="238320" indent="-23832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Заполните пропуски в тексте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38320" indent="-2383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1. Плотность вещества показывает, какова масса единицы объема вещества, и вычисляется по формуле ……………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38320" indent="-2383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2. Плотность никеля 8900кг/м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³. Это значит, что масса никеля объемом 1м³ равна……………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38320" indent="-2383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3. Плотность алюминия составляет 2. 7г/см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³. Следовательно, объем алюминия массой 2,7г равен…………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38320" indent="-2383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4. Среди приведенных в таблице металлов наибольшую плотность имеет………..  Если из каждого металла, приведенного в таблице, изготовить куб со стороной 1м, то самым легким окажется куб из…………….., его масса будет равна…………..кг.      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38320" indent="-23832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</a:rPr>
              <a:t>5. Плотность воды……………, а плотность льда………… Так как и то и другое вещество состоит из одинаковых молекул, то, сопоставляя эти значения, можно утверждать, что расстояние между молекулами льда……….., чем между молекулами воды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D:\WINDOWS\Users\Aida\Рабочий стол\плотность вещества\Plotnost_vesh_7kl\de02_01_00.jpg"/>
          <p:cNvPicPr/>
          <p:nvPr/>
        </p:nvPicPr>
        <p:blipFill>
          <a:blip r:embed="rId1"/>
          <a:stretch/>
        </p:blipFill>
        <p:spPr>
          <a:xfrm>
            <a:off x="6715080" y="1143000"/>
            <a:ext cx="1905120" cy="5415120"/>
          </a:xfrm>
          <a:prstGeom prst="rect">
            <a:avLst/>
          </a:prstGeom>
          <a:ln w="0">
            <a:noFill/>
          </a:ln>
        </p:spPr>
      </p:pic>
      <p:sp>
        <p:nvSpPr>
          <p:cNvPr id="278" name="TextBox 4"/>
          <p:cNvSpPr/>
          <p:nvPr/>
        </p:nvSpPr>
        <p:spPr>
          <a:xfrm>
            <a:off x="5000760" y="214200"/>
            <a:ext cx="32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опрос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5"/>
          <p:cNvSpPr/>
          <p:nvPr/>
        </p:nvSpPr>
        <p:spPr>
          <a:xfrm>
            <a:off x="5294520" y="55897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Рис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6"/>
          <p:cNvSpPr/>
          <p:nvPr/>
        </p:nvSpPr>
        <p:spPr>
          <a:xfrm>
            <a:off x="5294520" y="4221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Рис.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7"/>
          <p:cNvSpPr/>
          <p:nvPr/>
        </p:nvSpPr>
        <p:spPr>
          <a:xfrm>
            <a:off x="5365800" y="292428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Рис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8"/>
          <p:cNvSpPr/>
          <p:nvPr/>
        </p:nvSpPr>
        <p:spPr>
          <a:xfrm>
            <a:off x="642960" y="2357280"/>
            <a:ext cx="4718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262626"/>
                </a:solidFill>
                <a:latin typeface="Arial"/>
              </a:rPr>
              <a:t>Что общего и чем отличаются рисунки 1, 2 и 3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262626"/>
                </a:solidFill>
                <a:latin typeface="Arial"/>
              </a:rPr>
              <a:t>Дайте обоснование вашего ответа с физической точки з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9"/>
          <p:cNvSpPr/>
          <p:nvPr/>
        </p:nvSpPr>
        <p:spPr>
          <a:xfrm>
            <a:off x="218520" y="214200"/>
            <a:ext cx="36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673"/>
                </a:solidFill>
                <a:latin typeface="Arial"/>
              </a:rPr>
              <a:t>Подумай и отв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0"/>
          <p:cNvSpPr/>
          <p:nvPr/>
        </p:nvSpPr>
        <p:spPr>
          <a:xfrm>
            <a:off x="5000760" y="214200"/>
            <a:ext cx="32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опрос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428760" y="1571760"/>
          <a:ext cx="8286480" cy="2011320"/>
        </p:xfrm>
        <a:graphic>
          <a:graphicData uri="http://schemas.openxmlformats.org/drawingml/2006/table">
            <a:tbl>
              <a:tblPr/>
              <a:tblGrid>
                <a:gridCol w="1643040"/>
                <a:gridCol w="1571400"/>
                <a:gridCol w="1285920"/>
                <a:gridCol w="1928880"/>
                <a:gridCol w="1857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73d54"/>
                          </a:solidFill>
                          <a:latin typeface="Cambria"/>
                        </a:rPr>
                        <a:t>          </a:t>
                      </a:r>
                      <a:r>
                        <a:rPr b="1" lang="ru-RU" sz="2400" spc="-1" strike="noStrike">
                          <a:solidFill>
                            <a:srgbClr val="373d54"/>
                          </a:solidFill>
                          <a:latin typeface="Cambri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fc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73d54"/>
                          </a:solidFill>
                          <a:latin typeface="Cambria"/>
                        </a:rPr>
                        <a:t>      </a:t>
                      </a:r>
                      <a:r>
                        <a:rPr b="1" lang="ru-RU" sz="2400" spc="-1" strike="noStrike">
                          <a:solidFill>
                            <a:srgbClr val="373d54"/>
                          </a:solidFill>
                          <a:latin typeface="Cambri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fc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73d54"/>
                          </a:solidFill>
                          <a:latin typeface="Cambria"/>
                        </a:rPr>
                        <a:t>        </a:t>
                      </a:r>
                      <a:r>
                        <a:rPr b="1" lang="ru-RU" sz="2000" spc="-1" strike="noStrike">
                          <a:solidFill>
                            <a:srgbClr val="373d54"/>
                          </a:solidFill>
                          <a:latin typeface="Cambri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fc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73d54"/>
                          </a:solidFill>
                          <a:latin typeface="Cambria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373d54"/>
                          </a:solidFill>
                          <a:latin typeface="Cambri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fc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73d54"/>
                          </a:solidFill>
                          <a:latin typeface="Cambria"/>
                        </a:rPr>
                        <a:t>       </a:t>
                      </a:r>
                      <a:r>
                        <a:rPr b="1" lang="ru-RU" sz="2000" spc="-1" strike="noStrike">
                          <a:solidFill>
                            <a:srgbClr val="373d54"/>
                          </a:solidFill>
                          <a:latin typeface="Cambri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fc60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   </a:t>
                      </a:r>
                      <a:r>
                        <a:rPr b="1" lang="el-GR" sz="2400" spc="-1" strike="noStrike">
                          <a:solidFill>
                            <a:srgbClr val="b292ca"/>
                          </a:solidFill>
                          <a:latin typeface="Cambria"/>
                        </a:rPr>
                        <a:t>ρ</a:t>
                      </a:r>
                      <a:r>
                        <a:rPr b="1" lang="en-US" sz="2400" spc="-1" strike="noStrike">
                          <a:solidFill>
                            <a:srgbClr val="b292ca"/>
                          </a:solidFill>
                          <a:latin typeface="Rockwell"/>
                        </a:rPr>
                        <a:t> = m /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      </a:t>
                      </a: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8900к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см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     </a:t>
                      </a: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плат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Ме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8900к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     </a:t>
                      </a: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1000кг/м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900кг/м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ambria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ca"/>
                    </a:solidFill>
                  </a:tcPr>
                </a:tc>
              </a:tr>
            </a:tbl>
          </a:graphicData>
        </a:graphic>
      </p:graphicFrame>
      <p:sp>
        <p:nvSpPr>
          <p:cNvPr id="412" name="TextBox 4"/>
          <p:cNvSpPr/>
          <p:nvPr/>
        </p:nvSpPr>
        <p:spPr>
          <a:xfrm>
            <a:off x="2357280" y="442908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8fba"/>
                </a:solidFill>
                <a:latin typeface="Cambria"/>
              </a:rPr>
              <a:t>ПОДВЕДЁМ ИТОГИ!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то показывает плотность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ак можно найти плотность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акой буквой обозначается плотность 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чём измеряется плотность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аким способом можно измерить плотность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Д. З. §   18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пределить плотность тела известной массы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28880" y="380520"/>
            <a:ext cx="6757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b5680"/>
                </a:solidFill>
                <a:latin typeface="Cambria"/>
              </a:rPr>
              <a:t>Рефлексия</a:t>
            </a:r>
            <a:endParaRPr b="1" lang="en-US" sz="54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00000" y="1628640"/>
            <a:ext cx="3595680" cy="489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mbria"/>
              </a:rPr>
              <a:t>На уроке я чувствовал себя: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- Свободно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- Скованно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7ca3"/>
              </a:buClr>
              <a:buSzPct val="80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ютно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7ca3"/>
              </a:buClr>
              <a:buSzPct val="80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mbria"/>
              </a:rPr>
              <a:t>На уроке я проявил себя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7ca3"/>
              </a:buClr>
              <a:buSzPct val="80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полной мер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7ca3"/>
              </a:buClr>
              <a:buSzPct val="80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ог бы лучш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7ca3"/>
              </a:buClr>
              <a:buSzPct val="80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е смог проявить себя до конц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003280" y="1773360"/>
            <a:ext cx="3961080" cy="472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mbria"/>
              </a:rPr>
              <a:t>На занятии мне понравилось: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mbria"/>
              </a:rPr>
              <a:t>Если бы я был учителем я бы изменил на уроке: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20" name="Picture 5" descr="1-881[1]"/>
          <p:cNvPicPr/>
          <p:nvPr/>
        </p:nvPicPr>
        <p:blipFill>
          <a:blip r:embed="rId1"/>
          <a:stretch/>
        </p:blipFill>
        <p:spPr>
          <a:xfrm>
            <a:off x="7308720" y="260280"/>
            <a:ext cx="1152720" cy="1440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1-293[1]"/>
          <p:cNvPicPr/>
          <p:nvPr/>
        </p:nvPicPr>
        <p:blipFill>
          <a:blip r:embed="rId2"/>
          <a:stretch/>
        </p:blipFill>
        <p:spPr>
          <a:xfrm>
            <a:off x="0" y="285840"/>
            <a:ext cx="1116000" cy="99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6" descr="Winter 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627680" cy="5040360"/>
          </a:xfrm>
          <a:prstGeom prst="rect">
            <a:avLst/>
          </a:prstGeom>
          <a:solidFill>
            <a:srgbClr val="f0fda1"/>
          </a:solidFill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Я еще не устал удивляться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Чудесам, что есть на земле,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Телевизору, голосу рации,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Вентилятору на столе.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Ток по проволоке струится,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Спутник мчится по небесам.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Человеку стоит дивиться</a:t>
            </a:r>
            <a:br>
              <a:rPr sz="4000"/>
            </a:br>
            <a:r>
              <a:rPr b="1" lang="ru-RU" sz="4000" spc="-1" strike="noStrike">
                <a:solidFill>
                  <a:srgbClr val="848fba"/>
                </a:solidFill>
                <a:latin typeface="Times New Roman"/>
              </a:rPr>
              <a:t>Человеческим чудесам…</a:t>
            </a:r>
            <a:r>
              <a:rPr b="1" lang="ru-RU" sz="4000" spc="-1" strike="noStrike">
                <a:solidFill>
                  <a:srgbClr val="848fba"/>
                </a:solidFill>
                <a:latin typeface="Cambria"/>
              </a:rPr>
              <a:t> </a:t>
            </a:r>
            <a:endParaRPr b="1" lang="en-US" sz="40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424" name="TextBox 3"/>
          <p:cNvSpPr/>
          <p:nvPr/>
        </p:nvSpPr>
        <p:spPr>
          <a:xfrm>
            <a:off x="1143000" y="6143760"/>
            <a:ext cx="184320" cy="369720"/>
          </a:xfrm>
          <a:prstGeom prst="rect">
            <a:avLst/>
          </a:prstGeom>
          <a:solidFill>
            <a:srgbClr val="bca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3"/>
          <p:cNvSpPr/>
          <p:nvPr/>
        </p:nvSpPr>
        <p:spPr>
          <a:xfrm>
            <a:off x="2643120" y="42876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ешение задач для закре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"/>
          <p:cNvSpPr/>
          <p:nvPr/>
        </p:nvSpPr>
        <p:spPr>
          <a:xfrm>
            <a:off x="500040" y="2286000"/>
            <a:ext cx="82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Брусок металла имеет массу 26,7 кг и объём 0,003 м</a:t>
            </a:r>
            <a:r>
              <a:rPr b="1" lang="ru-RU" sz="3200" spc="-1" strike="noStrike" baseline="30000">
                <a:solidFill>
                  <a:srgbClr val="1c1c1c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. Из какого металла изготовлен брусок?   </a:t>
            </a:r>
            <a:r>
              <a:rPr b="1" i="1" lang="ru-RU" sz="3200" spc="-1" strike="noStrike">
                <a:solidFill>
                  <a:srgbClr val="1c1c1c"/>
                </a:solidFill>
                <a:latin typeface="Arial"/>
              </a:rPr>
              <a:t>(Ответ: медь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Объём свинцовой дроби 0,2 см</a:t>
            </a:r>
            <a:r>
              <a:rPr b="1" lang="ru-RU" sz="3200" spc="-1" strike="noStrike" baseline="30000">
                <a:solidFill>
                  <a:srgbClr val="1c1c1c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. Какова её масса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(Ответ: 0,0023 к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5"/>
          <p:cNvSpPr/>
          <p:nvPr/>
        </p:nvSpPr>
        <p:spPr>
          <a:xfrm>
            <a:off x="4716360" y="4941720"/>
            <a:ext cx="3929040" cy="500400"/>
          </a:xfrm>
          <a:prstGeom prst="rect">
            <a:avLst/>
          </a:prstGeom>
          <a:solidFill>
            <a:srgbClr val="f8fbfb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6"/>
          <p:cNvSpPr/>
          <p:nvPr/>
        </p:nvSpPr>
        <p:spPr>
          <a:xfrm>
            <a:off x="5148360" y="3357720"/>
            <a:ext cx="3786120" cy="500040"/>
          </a:xfrm>
          <a:prstGeom prst="rect">
            <a:avLst/>
          </a:prstGeom>
          <a:solidFill>
            <a:srgbClr val="f8fbfb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1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1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48fba"/>
                </a:solidFill>
                <a:latin typeface="Cambria"/>
              </a:rPr>
              <a:t>ПРОВЕРЬ СЕБЯ</a:t>
            </a:r>
            <a:endParaRPr b="1" lang="en-US" sz="48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5076720" y="1752480"/>
            <a:ext cx="361008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4000"/>
          </a:bodyPr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динаковые шарики из чугуна и парафина положили на чашки весов(смотри рисунок). Какой из шаров чугунный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AutoShape 4"/>
          <p:cNvSpPr/>
          <p:nvPr/>
        </p:nvSpPr>
        <p:spPr>
          <a:xfrm>
            <a:off x="2262240" y="2484360"/>
            <a:ext cx="352440" cy="39448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5"/>
          <p:cNvSpPr/>
          <p:nvPr/>
        </p:nvSpPr>
        <p:spPr>
          <a:xfrm>
            <a:off x="857160" y="1855800"/>
            <a:ext cx="3429000" cy="12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>
            <a:off x="3851280" y="3124080"/>
            <a:ext cx="792000" cy="16002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8"/>
          <p:cNvSpPr/>
          <p:nvPr/>
        </p:nvSpPr>
        <p:spPr>
          <a:xfrm>
            <a:off x="500040" y="1844640"/>
            <a:ext cx="792360" cy="17067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9"/>
          <p:cNvSpPr/>
          <p:nvPr/>
        </p:nvSpPr>
        <p:spPr>
          <a:xfrm>
            <a:off x="587520" y="2803680"/>
            <a:ext cx="617400" cy="74772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9"/>
          <p:cNvSpPr/>
          <p:nvPr/>
        </p:nvSpPr>
        <p:spPr>
          <a:xfrm>
            <a:off x="3929040" y="4000680"/>
            <a:ext cx="617400" cy="74736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Овал 11"/>
          <p:cNvSpPr/>
          <p:nvPr/>
        </p:nvSpPr>
        <p:spPr>
          <a:xfrm>
            <a:off x="214200" y="2714760"/>
            <a:ext cx="1714680" cy="1143000"/>
          </a:xfrm>
          <a:prstGeom prst="ellipse">
            <a:avLst/>
          </a:prstGeom>
          <a:solidFill>
            <a:srgbClr val="727ca3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НЕ  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Овал 12"/>
          <p:cNvSpPr/>
          <p:nvPr/>
        </p:nvSpPr>
        <p:spPr>
          <a:xfrm>
            <a:off x="3357720" y="4000680"/>
            <a:ext cx="1785960" cy="1000080"/>
          </a:xfrm>
          <a:prstGeom prst="ellipse">
            <a:avLst/>
          </a:prstGeom>
          <a:solidFill>
            <a:srgbClr val="727ca3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МОЛОД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eze.wav"/>
                                        </p:tgtEl>
                                      </p:cMediaNode>
                                    </p:audio>
                                    <p:animMotion origin="layout" path="M 0 0 L -0.25 0 E">
                                      <p:cBhvr>
                                        <p:cTn id="437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Motion origin="layout" path="M 1.94444E-006 -1.48148E-006 L 0.76892 -0.0118 E">
                                      <p:cBhvr>
                                        <p:cTn id="446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42960" y="333000"/>
            <a:ext cx="802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48fba"/>
                </a:solidFill>
                <a:latin typeface="Cambria"/>
              </a:rPr>
              <a:t>ПРОВЕРЬ СЕБЯ</a:t>
            </a:r>
            <a:endParaRPr b="1" lang="en-US" sz="48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066320" y="3716280"/>
            <a:ext cx="7620120" cy="2665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                                     2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двух стаканах налиты подкрашенные серная кислота и вода. Массы подкрашенных жидкостей одинаковы. Определите, в каком стакане серная кислот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41" name="Группа 12"/>
          <p:cNvGrpSpPr/>
          <p:nvPr/>
        </p:nvGrpSpPr>
        <p:grpSpPr>
          <a:xfrm>
            <a:off x="1692360" y="1773360"/>
            <a:ext cx="1657440" cy="1728720"/>
            <a:chOff x="1692360" y="1773360"/>
            <a:chExt cx="1657440" cy="1728720"/>
          </a:xfrm>
        </p:grpSpPr>
        <p:sp>
          <p:nvSpPr>
            <p:cNvPr id="442" name="AutoShape 4"/>
            <p:cNvSpPr/>
            <p:nvPr/>
          </p:nvSpPr>
          <p:spPr>
            <a:xfrm>
              <a:off x="1692360" y="1773360"/>
              <a:ext cx="1657440" cy="1728720"/>
            </a:xfrm>
            <a:custGeom>
              <a:avLst/>
              <a:gdLst>
                <a:gd name="textAreaLeft" fmla="*/ 345240 w 1657440"/>
                <a:gd name="textAreaRight" fmla="*/ 1312200 w 1657440"/>
                <a:gd name="textAreaTop" fmla="*/ 360000 h 1728720"/>
                <a:gd name="textAreaBottom" fmla="*/ 1368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9"/>
            <p:cNvSpPr/>
            <p:nvPr/>
          </p:nvSpPr>
          <p:spPr>
            <a:xfrm>
              <a:off x="1836720" y="2349360"/>
              <a:ext cx="1368720" cy="1152720"/>
            </a:xfrm>
            <a:custGeom>
              <a:avLst/>
              <a:gdLst>
                <a:gd name="textAreaLeft" fmla="*/ 253800 w 1368720"/>
                <a:gd name="textAreaRight" fmla="*/ 1114920 w 1368720"/>
                <a:gd name="textAreaTop" fmla="*/ 213480 h 1152720"/>
                <a:gd name="textAreaBottom" fmla="*/ 93924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410" y="21600"/>
                  </a:lnTo>
                  <a:lnTo>
                    <a:pt x="1719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ce9a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3"/>
          <p:cNvGrpSpPr/>
          <p:nvPr/>
        </p:nvGrpSpPr>
        <p:grpSpPr>
          <a:xfrm>
            <a:off x="4714920" y="1785960"/>
            <a:ext cx="1657440" cy="1728720"/>
            <a:chOff x="4714920" y="1785960"/>
            <a:chExt cx="1657440" cy="1728720"/>
          </a:xfrm>
        </p:grpSpPr>
        <p:sp>
          <p:nvSpPr>
            <p:cNvPr id="445" name="AutoShape 8"/>
            <p:cNvSpPr/>
            <p:nvPr/>
          </p:nvSpPr>
          <p:spPr>
            <a:xfrm>
              <a:off x="4714920" y="1785960"/>
              <a:ext cx="1657440" cy="1728720"/>
            </a:xfrm>
            <a:custGeom>
              <a:avLst/>
              <a:gdLst>
                <a:gd name="textAreaLeft" fmla="*/ 345960 w 1657440"/>
                <a:gd name="textAreaRight" fmla="*/ 1312920 w 1657440"/>
                <a:gd name="textAreaTop" fmla="*/ 360360 h 1728720"/>
                <a:gd name="textAreaBottom" fmla="*/ 136836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10"/>
            <p:cNvSpPr/>
            <p:nvPr/>
          </p:nvSpPr>
          <p:spPr>
            <a:xfrm>
              <a:off x="4929480" y="2571480"/>
              <a:ext cx="1225440" cy="942840"/>
            </a:xfrm>
            <a:custGeom>
              <a:avLst/>
              <a:gdLst>
                <a:gd name="textAreaLeft" fmla="*/ 196560 w 1225440"/>
                <a:gd name="textAreaRight" fmla="*/ 1028880 w 1225440"/>
                <a:gd name="textAreaTop" fmla="*/ 150840 h 942840"/>
                <a:gd name="textAreaBottom" fmla="*/ 792000 h 94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331" y="21600"/>
                  </a:lnTo>
                  <a:lnTo>
                    <a:pt x="18269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ce9a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Прямоугольник 18"/>
          <p:cNvSpPr/>
          <p:nvPr/>
        </p:nvSpPr>
        <p:spPr>
          <a:xfrm>
            <a:off x="1000080" y="1643040"/>
            <a:ext cx="307188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Cambria"/>
              </a:rPr>
              <a:t>К сожалению ты ошиб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19"/>
          <p:cNvSpPr/>
          <p:nvPr/>
        </p:nvSpPr>
        <p:spPr>
          <a:xfrm>
            <a:off x="4286160" y="1643040"/>
            <a:ext cx="307188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5b7e"/>
                </a:solidFill>
                <a:latin typeface="Cambria"/>
              </a:rPr>
              <a:t>Молодец, так держа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457200" y="1785960"/>
          <a:ext cx="8229600" cy="4879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ЛОТНО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ТЬ ВЕЩЕ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ССА ТЕЛ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ОБЪЁМ  ТЕЛ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4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50" name="Object 2"/>
              <p:cNvSpPr txBox="1"/>
              <p:nvPr/>
            </p:nvSpPr>
            <p:spPr>
              <a:xfrm>
                <a:off x="6715080" y="1928880"/>
                <a:ext cx="9241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м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3"/>
              <p:cNvSpPr txBox="1"/>
              <p:nvPr/>
            </p:nvSpPr>
            <p:spPr>
              <a:xfrm>
                <a:off x="6786720" y="3429000"/>
                <a:ext cx="8571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num>
                      <m:den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4"/>
              <p:cNvSpPr txBox="1"/>
              <p:nvPr/>
            </p:nvSpPr>
            <p:spPr>
              <a:xfrm>
                <a:off x="6929280" y="5429160"/>
                <a:ext cx="7257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Заголовок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64653"/>
                </a:solidFill>
                <a:latin typeface="Cambria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4" name="Object 5"/>
              <p:cNvSpPr txBox="1"/>
              <p:nvPr/>
            </p:nvSpPr>
            <p:spPr>
              <a:xfrm>
                <a:off x="428760" y="1857240"/>
                <a:ext cx="3429000" cy="24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3"/>
              <p:cNvSpPr txBox="1"/>
              <p:nvPr/>
            </p:nvSpPr>
            <p:spPr>
              <a:xfrm>
                <a:off x="2643120" y="5143680"/>
                <a:ext cx="414360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4"/>
              <p:cNvSpPr txBox="1"/>
              <p:nvPr/>
            </p:nvSpPr>
            <p:spPr>
              <a:xfrm>
                <a:off x="4929120" y="1928880"/>
                <a:ext cx="3357720" cy="24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7" name="Заголовок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64653"/>
                </a:solidFill>
                <a:latin typeface="Cambria"/>
              </a:rPr>
              <a:t>ЗАПОЛНИТЕ ПРОПУС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10"/>
          <p:cNvSpPr/>
          <p:nvPr/>
        </p:nvSpPr>
        <p:spPr>
          <a:xfrm>
            <a:off x="357120" y="4857840"/>
            <a:ext cx="3500640" cy="1714320"/>
          </a:xfrm>
          <a:prstGeom prst="rect">
            <a:avLst/>
          </a:prstGeom>
          <a:solidFill>
            <a:srgbClr val="f8fbfb">
              <a:alpha val="50000"/>
            </a:srgbClr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357120" y="3000240"/>
            <a:ext cx="3500640" cy="1714680"/>
          </a:xfrm>
          <a:prstGeom prst="rect">
            <a:avLst/>
          </a:prstGeom>
          <a:solidFill>
            <a:srgbClr val="f8fbfb">
              <a:alpha val="50000"/>
            </a:srgbClr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8"/>
          <p:cNvSpPr/>
          <p:nvPr/>
        </p:nvSpPr>
        <p:spPr>
          <a:xfrm>
            <a:off x="357120" y="1143000"/>
            <a:ext cx="3500640" cy="1714680"/>
          </a:xfrm>
          <a:prstGeom prst="rect">
            <a:avLst/>
          </a:prstGeom>
          <a:solidFill>
            <a:srgbClr val="f8fbfb">
              <a:alpha val="50000"/>
            </a:srgbClr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3500280" y="21420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Устные задачи на перев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единиц измерения в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5"/>
          <p:cNvSpPr/>
          <p:nvPr/>
        </p:nvSpPr>
        <p:spPr>
          <a:xfrm>
            <a:off x="509400" y="1214280"/>
            <a:ext cx="1688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 г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,45т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6"/>
          <p:cNvSpPr/>
          <p:nvPr/>
        </p:nvSpPr>
        <p:spPr>
          <a:xfrm>
            <a:off x="285840" y="3000240"/>
            <a:ext cx="3571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4,5 т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450 г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7"/>
          <p:cNvSpPr/>
          <p:nvPr/>
        </p:nvSpPr>
        <p:spPr>
          <a:xfrm>
            <a:off x="357120" y="4857840"/>
            <a:ext cx="378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450ц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4,5 ц </a:t>
            </a: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14"/>
          <p:cNvSpPr/>
          <p:nvPr/>
        </p:nvSpPr>
        <p:spPr>
          <a:xfrm>
            <a:off x="290160" y="214200"/>
            <a:ext cx="36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26"/>
                </a:solidFill>
                <a:latin typeface="Arial"/>
              </a:rPr>
              <a:t>Подумай и отв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15" descr="smeh_210.gif"/>
          <p:cNvPicPr/>
          <p:nvPr/>
        </p:nvPicPr>
        <p:blipFill>
          <a:blip r:embed="rId1"/>
          <a:stretch/>
        </p:blipFill>
        <p:spPr>
          <a:xfrm>
            <a:off x="7358040" y="1143000"/>
            <a:ext cx="1428840" cy="190512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17"/>
          <p:cNvSpPr/>
          <p:nvPr/>
        </p:nvSpPr>
        <p:spPr>
          <a:xfrm>
            <a:off x="6009120" y="200016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0,1 к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9"/>
          <p:cNvSpPr/>
          <p:nvPr/>
        </p:nvSpPr>
        <p:spPr>
          <a:xfrm>
            <a:off x="5438880" y="2857680"/>
            <a:ext cx="18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4 500 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20"/>
          <p:cNvSpPr/>
          <p:nvPr/>
        </p:nvSpPr>
        <p:spPr>
          <a:xfrm>
            <a:off x="7223760" y="364320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0,45 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1"/>
          <p:cNvSpPr/>
          <p:nvPr/>
        </p:nvSpPr>
        <p:spPr>
          <a:xfrm>
            <a:off x="5009400" y="1214280"/>
            <a:ext cx="17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45 00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2"/>
          <p:cNvSpPr/>
          <p:nvPr/>
        </p:nvSpPr>
        <p:spPr>
          <a:xfrm>
            <a:off x="4008240" y="228600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450 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3"/>
          <p:cNvSpPr/>
          <p:nvPr/>
        </p:nvSpPr>
        <p:spPr>
          <a:xfrm>
            <a:off x="4510080" y="385776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45 000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59259E-006 L -0.43541 -0.12222 E">
                                      <p:cBhvr>
                                        <p:cTn id="6" dur="3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20885 -0.04838 E">
                                      <p:cBhvr>
                                        <p:cTn id="1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-0.40955 0.02106 E">
                                      <p:cBhvr>
                                        <p:cTn id="14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1111E-006 L -0.58282 0.03148 E">
                                      <p:cBhvr>
                                        <p:cTn id="18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7.40741E-007 L -0.2993 0.15301 E">
                                      <p:cBhvr>
                                        <p:cTn id="22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3401 0.66436 E">
                                      <p:cBhvr>
                                        <p:cTn id="26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8fba"/>
                </a:solidFill>
                <a:latin typeface="Cambria"/>
              </a:rPr>
              <a:t>СРАВНИТЕ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l-G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l-G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60" name="Группа 15"/>
          <p:cNvGrpSpPr/>
          <p:nvPr/>
        </p:nvGrpSpPr>
        <p:grpSpPr>
          <a:xfrm>
            <a:off x="1857240" y="4071960"/>
            <a:ext cx="5500440" cy="1928880"/>
            <a:chOff x="1857240" y="4071960"/>
            <a:chExt cx="5500440" cy="1928880"/>
          </a:xfrm>
        </p:grpSpPr>
        <p:grpSp>
          <p:nvGrpSpPr>
            <p:cNvPr id="461" name="Группа 9"/>
            <p:cNvGrpSpPr/>
            <p:nvPr/>
          </p:nvGrpSpPr>
          <p:grpSpPr>
            <a:xfrm>
              <a:off x="2453400" y="5207040"/>
              <a:ext cx="4904280" cy="793800"/>
              <a:chOff x="2453400" y="5207040"/>
              <a:chExt cx="4904280" cy="793800"/>
            </a:xfrm>
          </p:grpSpPr>
          <p:sp>
            <p:nvSpPr>
              <p:cNvPr id="462" name="Равнобедренный треугольник 3"/>
              <p:cNvSpPr/>
              <p:nvPr/>
            </p:nvSpPr>
            <p:spPr>
              <a:xfrm>
                <a:off x="4044240" y="5472000"/>
                <a:ext cx="862200" cy="528840"/>
              </a:xfrm>
              <a:prstGeom prst="triangle">
                <a:avLst>
                  <a:gd name="adj" fmla="val 50000"/>
                </a:avLst>
              </a:prstGeom>
              <a:solidFill>
                <a:srgbClr val="727ca3"/>
              </a:solidFill>
              <a:ln w="42480">
                <a:solidFill>
                  <a:srgbClr val="525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Прямая соединительная линия 5"/>
              <p:cNvSpPr/>
              <p:nvPr/>
            </p:nvSpPr>
            <p:spPr>
              <a:xfrm>
                <a:off x="2453400" y="5472000"/>
                <a:ext cx="4307760" cy="0"/>
              </a:xfrm>
              <a:prstGeom prst="line">
                <a:avLst/>
              </a:prstGeom>
              <a:ln w="50760">
                <a:solidFill>
                  <a:srgbClr val="6675a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Арка 8"/>
              <p:cNvSpPr/>
              <p:nvPr/>
            </p:nvSpPr>
            <p:spPr>
              <a:xfrm rot="10800000">
                <a:off x="5900040" y="5207040"/>
                <a:ext cx="1457640" cy="264960"/>
              </a:xfrm>
              <a:custGeom>
                <a:avLst/>
                <a:gdLst>
                  <a:gd name="textAreaLeft" fmla="*/ 0 w 1457640"/>
                  <a:gd name="textAreaRight" fmla="*/ 1458000 w 1457640"/>
                  <a:gd name="textAreaTop" fmla="*/ 0 h 264960"/>
                  <a:gd name="textAreaBottom" fmla="*/ 132480 h 264960"/>
                </a:gdLst>
                <a:ahLst/>
                <a:rect l="textAreaLeft" t="textAreaTop" r="textAreaRight" b="textAreaBottom"/>
                <a:pathLst>
                  <a:path w="1570894" h="357905">
                    <a:moveTo>
                      <a:pt x="0" y="178952"/>
                    </a:moveTo>
                    <a:lnTo>
                      <a:pt x="0" y="178952"/>
                    </a:lnTo>
                    <a:arcTo wR="785447" hR="178953" stAng="-10799996" swAng="10800004"/>
                    <a:lnTo>
                      <a:pt x="1481418" y="178953"/>
                    </a:lnTo>
                    <a:lnTo>
                      <a:pt x="1481418" y="178953"/>
                    </a:lnTo>
                    <a:arcTo wR="695971" hR="89476" stAng="0" swAng="-10800005"/>
                    <a:close/>
                  </a:path>
                </a:pathLst>
              </a:custGeom>
              <a:solidFill>
                <a:srgbClr val="727ca3"/>
              </a:solidFill>
              <a:ln w="42480">
                <a:solidFill>
                  <a:srgbClr val="5259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Арка 10"/>
            <p:cNvSpPr/>
            <p:nvPr/>
          </p:nvSpPr>
          <p:spPr>
            <a:xfrm rot="10800000">
              <a:off x="1857240" y="5207040"/>
              <a:ext cx="1457280" cy="26496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264960"/>
                <a:gd name="textAreaBottom" fmla="*/ 132480 h 264960"/>
              </a:gdLst>
              <a:ahLst/>
              <a:rect l="textAreaLeft" t="textAreaTop" r="textAreaRight" b="textAreaBottom"/>
              <a:pathLst>
                <a:path w="1570894" h="357905">
                  <a:moveTo>
                    <a:pt x="0" y="178952"/>
                  </a:moveTo>
                  <a:lnTo>
                    <a:pt x="0" y="178952"/>
                  </a:lnTo>
                  <a:arcTo wR="785447" hR="178953" stAng="-10799996" swAng="10800004"/>
                  <a:lnTo>
                    <a:pt x="1481418" y="178953"/>
                  </a:lnTo>
                  <a:lnTo>
                    <a:pt x="1481418" y="178953"/>
                  </a:lnTo>
                  <a:arcTo wR="695971" hR="89476" stAng="0" swAng="-10800005"/>
                  <a:close/>
                </a:path>
              </a:pathLst>
            </a:custGeom>
            <a:solidFill>
              <a:srgbClr val="727ca3"/>
            </a:solidFill>
            <a:ln w="42480">
              <a:solidFill>
                <a:srgbClr val="5259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Скругленный прямоугольник 13"/>
            <p:cNvSpPr/>
            <p:nvPr/>
          </p:nvSpPr>
          <p:spPr>
            <a:xfrm>
              <a:off x="2253960" y="4071960"/>
              <a:ext cx="730080" cy="1346400"/>
            </a:xfrm>
            <a:custGeom>
              <a:avLst/>
              <a:gdLst>
                <a:gd name="textAreaLeft" fmla="*/ 35640 w 730080"/>
                <a:gd name="textAreaRight" fmla="*/ 694440 w 730080"/>
                <a:gd name="textAreaTop" fmla="*/ 35640 h 1346400"/>
                <a:gd name="textAreaBottom" fmla="*/ 1310760 h 1346400"/>
              </a:gdLst>
              <a:ahLst/>
              <a:rect l="textAreaLeft" t="textAreaTop" r="textAreaRight" b="textAreaBottom"/>
              <a:pathLst>
                <a:path w="21600" h="39825">
                  <a:moveTo>
                    <a:pt x="3600" y="0"/>
                  </a:moveTo>
                  <a:arcTo wR="3600" hR="3600" stAng="16200000" swAng="-5400000"/>
                  <a:lnTo>
                    <a:pt x="0" y="36225"/>
                  </a:lnTo>
                  <a:arcTo wR="3600" hR="3600" stAng="10800000" swAng="-5400000"/>
                  <a:lnTo>
                    <a:pt x="18000" y="398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424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2060"/>
                  </a:solidFill>
                  <a:latin typeface="Cambria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Скругленный прямоугольник 14"/>
            <p:cNvSpPr/>
            <p:nvPr/>
          </p:nvSpPr>
          <p:spPr>
            <a:xfrm>
              <a:off x="6297840" y="4572000"/>
              <a:ext cx="728640" cy="846000"/>
            </a:xfrm>
            <a:custGeom>
              <a:avLst/>
              <a:gdLst>
                <a:gd name="textAreaLeft" fmla="*/ 35280 w 728640"/>
                <a:gd name="textAreaRight" fmla="*/ 693360 w 728640"/>
                <a:gd name="textAreaTop" fmla="*/ 35280 h 846000"/>
                <a:gd name="textAreaBottom" fmla="*/ 810720 h 846000"/>
              </a:gdLst>
              <a:ahLst/>
              <a:rect l="textAreaLeft" t="textAreaTop" r="textAreaRight" b="textAreaBottom"/>
              <a:pathLst>
                <a:path w="21600" h="25077">
                  <a:moveTo>
                    <a:pt x="3600" y="0"/>
                  </a:moveTo>
                  <a:arcTo wR="3600" hR="3600" stAng="16200000" swAng="-5400000"/>
                  <a:lnTo>
                    <a:pt x="0" y="21477"/>
                  </a:lnTo>
                  <a:arcTo wR="3600" hR="3600" stAng="10800000" swAng="-5400000"/>
                  <a:lnTo>
                    <a:pt x="18000" y="250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424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2060"/>
                  </a:solidFill>
                  <a:latin typeface="Cambria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8fba"/>
                </a:solidFill>
                <a:latin typeface="Cambria"/>
              </a:rPr>
              <a:t>СРАВНИТЕ</a:t>
            </a:r>
            <a:endParaRPr b="1" lang="en-US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l-G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l-G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70" name="Группа 15"/>
          <p:cNvGrpSpPr/>
          <p:nvPr/>
        </p:nvGrpSpPr>
        <p:grpSpPr>
          <a:xfrm>
            <a:off x="1857240" y="4572000"/>
            <a:ext cx="5500440" cy="1428840"/>
            <a:chOff x="1857240" y="4572000"/>
            <a:chExt cx="5500440" cy="1428840"/>
          </a:xfrm>
        </p:grpSpPr>
        <p:grpSp>
          <p:nvGrpSpPr>
            <p:cNvPr id="471" name="Группа 9"/>
            <p:cNvGrpSpPr/>
            <p:nvPr/>
          </p:nvGrpSpPr>
          <p:grpSpPr>
            <a:xfrm>
              <a:off x="2453400" y="5220360"/>
              <a:ext cx="4904280" cy="780480"/>
              <a:chOff x="2453400" y="5220360"/>
              <a:chExt cx="4904280" cy="780480"/>
            </a:xfrm>
          </p:grpSpPr>
          <p:sp>
            <p:nvSpPr>
              <p:cNvPr id="472" name="Равнобедренный треугольник 3"/>
              <p:cNvSpPr/>
              <p:nvPr/>
            </p:nvSpPr>
            <p:spPr>
              <a:xfrm>
                <a:off x="4044240" y="5481000"/>
                <a:ext cx="862200" cy="519840"/>
              </a:xfrm>
              <a:prstGeom prst="triangle">
                <a:avLst>
                  <a:gd name="adj" fmla="val 50000"/>
                </a:avLst>
              </a:prstGeom>
              <a:solidFill>
                <a:srgbClr val="727ca3"/>
              </a:solidFill>
              <a:ln w="42480">
                <a:solidFill>
                  <a:srgbClr val="525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Прямая соединительная линия 5"/>
              <p:cNvSpPr/>
              <p:nvPr/>
            </p:nvSpPr>
            <p:spPr>
              <a:xfrm>
                <a:off x="2453400" y="5481000"/>
                <a:ext cx="4307760" cy="0"/>
              </a:xfrm>
              <a:prstGeom prst="line">
                <a:avLst/>
              </a:prstGeom>
              <a:ln w="50760">
                <a:solidFill>
                  <a:srgbClr val="6675a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Арка 8"/>
              <p:cNvSpPr/>
              <p:nvPr/>
            </p:nvSpPr>
            <p:spPr>
              <a:xfrm rot="10800000">
                <a:off x="5900040" y="5220360"/>
                <a:ext cx="1457640" cy="260640"/>
              </a:xfrm>
              <a:custGeom>
                <a:avLst/>
                <a:gdLst>
                  <a:gd name="textAreaLeft" fmla="*/ 0 w 1457640"/>
                  <a:gd name="textAreaRight" fmla="*/ 1458000 w 1457640"/>
                  <a:gd name="textAreaTop" fmla="*/ 0 h 260640"/>
                  <a:gd name="textAreaBottom" fmla="*/ 130320 h 260640"/>
                </a:gdLst>
                <a:ahLst/>
                <a:rect l="textAreaLeft" t="textAreaTop" r="textAreaRight" b="textAreaBottom"/>
                <a:pathLst>
                  <a:path w="1570894" h="357905">
                    <a:moveTo>
                      <a:pt x="0" y="178952"/>
                    </a:moveTo>
                    <a:lnTo>
                      <a:pt x="0" y="178952"/>
                    </a:lnTo>
                    <a:arcTo wR="785447" hR="178953" stAng="-10799996" swAng="10800004"/>
                    <a:lnTo>
                      <a:pt x="1481418" y="178953"/>
                    </a:lnTo>
                    <a:lnTo>
                      <a:pt x="1481418" y="178953"/>
                    </a:lnTo>
                    <a:arcTo wR="695971" hR="89476" stAng="0" swAng="-10800005"/>
                    <a:close/>
                  </a:path>
                </a:pathLst>
              </a:custGeom>
              <a:solidFill>
                <a:srgbClr val="727ca3"/>
              </a:solidFill>
              <a:ln w="42480">
                <a:solidFill>
                  <a:srgbClr val="5259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Арка 10"/>
            <p:cNvSpPr/>
            <p:nvPr/>
          </p:nvSpPr>
          <p:spPr>
            <a:xfrm rot="10800000">
              <a:off x="1857240" y="5220360"/>
              <a:ext cx="1457280" cy="26064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260640"/>
                <a:gd name="textAreaBottom" fmla="*/ 130320 h 260640"/>
              </a:gdLst>
              <a:ahLst/>
              <a:rect l="textAreaLeft" t="textAreaTop" r="textAreaRight" b="textAreaBottom"/>
              <a:pathLst>
                <a:path w="1570894" h="357905">
                  <a:moveTo>
                    <a:pt x="0" y="178952"/>
                  </a:moveTo>
                  <a:lnTo>
                    <a:pt x="0" y="178952"/>
                  </a:lnTo>
                  <a:arcTo wR="785447" hR="178953" stAng="-10799996" swAng="10800004"/>
                  <a:lnTo>
                    <a:pt x="1481418" y="178953"/>
                  </a:lnTo>
                  <a:lnTo>
                    <a:pt x="1481418" y="178953"/>
                  </a:lnTo>
                  <a:arcTo wR="695971" hR="89476" stAng="0" swAng="-10800005"/>
                  <a:close/>
                </a:path>
              </a:pathLst>
            </a:custGeom>
            <a:solidFill>
              <a:srgbClr val="727ca3"/>
            </a:solidFill>
            <a:ln w="42480">
              <a:solidFill>
                <a:srgbClr val="5259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Скругленный прямоугольник 13"/>
            <p:cNvGrpSpPr/>
            <p:nvPr/>
          </p:nvGrpSpPr>
          <p:grpSpPr>
            <a:xfrm>
              <a:off x="2230920" y="4572000"/>
              <a:ext cx="786240" cy="887040"/>
              <a:chOff x="2230920" y="4572000"/>
              <a:chExt cx="786240" cy="887040"/>
            </a:xfrm>
          </p:grpSpPr>
          <p:pic>
            <p:nvPicPr>
              <p:cNvPr id="477" name="Скругленный прямоугольник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30920" y="4572000"/>
                <a:ext cx="786240" cy="88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2290320" y="4630680"/>
                <a:ext cx="657720" cy="76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800" spc="-1" strike="noStrike">
                    <a:solidFill>
                      <a:srgbClr val="002060"/>
                    </a:solidFill>
                    <a:latin typeface="Cambria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Скругленный прямоугольник 14"/>
            <p:cNvSpPr/>
            <p:nvPr/>
          </p:nvSpPr>
          <p:spPr>
            <a:xfrm>
              <a:off x="6297840" y="4595760"/>
              <a:ext cx="728640" cy="831960"/>
            </a:xfrm>
            <a:custGeom>
              <a:avLst/>
              <a:gdLst>
                <a:gd name="textAreaLeft" fmla="*/ 35280 w 728640"/>
                <a:gd name="textAreaRight" fmla="*/ 693360 w 728640"/>
                <a:gd name="textAreaTop" fmla="*/ 35280 h 831960"/>
                <a:gd name="textAreaBottom" fmla="*/ 796680 h 831960"/>
              </a:gdLst>
              <a:ahLst/>
              <a:rect l="textAreaLeft" t="textAreaTop" r="textAreaRight" b="textAreaBottom"/>
              <a:pathLst>
                <a:path w="21600" h="24661">
                  <a:moveTo>
                    <a:pt x="3600" y="0"/>
                  </a:moveTo>
                  <a:arcTo wR="3600" hR="3600" stAng="16200000" swAng="-5400000"/>
                  <a:lnTo>
                    <a:pt x="0" y="21061"/>
                  </a:lnTo>
                  <a:arcTo wR="3600" hR="3600" stAng="10800000" swAng="-5400000"/>
                  <a:lnTo>
                    <a:pt x="18000" y="24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424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2060"/>
                  </a:solidFill>
                  <a:latin typeface="Cambria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Box 1"/>
          <p:cNvSpPr/>
          <p:nvPr/>
        </p:nvSpPr>
        <p:spPr>
          <a:xfrm>
            <a:off x="214200" y="1000080"/>
            <a:ext cx="8715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32329"/>
                </a:solidFill>
                <a:latin typeface="Arial"/>
              </a:rPr>
              <a:t>Льдина объёмом 8 </a:t>
            </a:r>
            <a:r>
              <a:rPr b="1" lang="ru-RU" sz="2000" spc="-1" strike="noStrike">
                <a:solidFill>
                  <a:srgbClr val="232329"/>
                </a:solidFill>
                <a:latin typeface="Arial"/>
              </a:rPr>
              <a:t>М</a:t>
            </a:r>
            <a:r>
              <a:rPr b="1" lang="ru-RU" sz="2000" spc="-1" strike="noStrike" baseline="30000">
                <a:solidFill>
                  <a:srgbClr val="232329"/>
                </a:solidFill>
                <a:latin typeface="Arial"/>
              </a:rPr>
              <a:t>3</a:t>
            </a:r>
            <a:r>
              <a:rPr b="1" lang="ru-RU" sz="3200" spc="-1" strike="noStrike" baseline="30000">
                <a:solidFill>
                  <a:srgbClr val="23232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32329"/>
                </a:solidFill>
                <a:latin typeface="Arial"/>
              </a:rPr>
              <a:t>имеет массу 7200 кг. Какова масса 1 </a:t>
            </a:r>
            <a:r>
              <a:rPr b="1" lang="ru-RU" sz="2000" spc="-1" strike="noStrike">
                <a:solidFill>
                  <a:srgbClr val="232329"/>
                </a:solidFill>
                <a:latin typeface="Arial"/>
              </a:rPr>
              <a:t>М</a:t>
            </a:r>
            <a:r>
              <a:rPr b="1" lang="ru-RU" sz="2000" spc="-1" strike="noStrike" baseline="30000">
                <a:solidFill>
                  <a:srgbClr val="232329"/>
                </a:solidFill>
                <a:latin typeface="Arial"/>
              </a:rPr>
              <a:t>3</a:t>
            </a:r>
            <a:r>
              <a:rPr b="1" lang="ru-RU" sz="3200" spc="-1" strike="noStrike" baseline="30000">
                <a:solidFill>
                  <a:srgbClr val="23232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32329"/>
                </a:solidFill>
                <a:latin typeface="Arial"/>
              </a:rPr>
              <a:t>ль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http://media1.picsearch.com/is?4YGn7RahBk3g8-ucPdJqHF3GouANfkbcmcW8e-Ltl28"/>
          <p:cNvPicPr/>
          <p:nvPr/>
        </p:nvPicPr>
        <p:blipFill>
          <a:blip r:embed="rId1"/>
          <a:stretch/>
        </p:blipFill>
        <p:spPr>
          <a:xfrm>
            <a:off x="2928960" y="2643120"/>
            <a:ext cx="3143160" cy="2357640"/>
          </a:xfrm>
          <a:prstGeom prst="rect">
            <a:avLst/>
          </a:prstGeom>
          <a:ln w="0">
            <a:noFill/>
          </a:ln>
        </p:spPr>
      </p:pic>
      <p:sp>
        <p:nvSpPr>
          <p:cNvPr id="482" name="TextBox 3"/>
          <p:cNvSpPr/>
          <p:nvPr/>
        </p:nvSpPr>
        <p:spPr>
          <a:xfrm>
            <a:off x="571680" y="557208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7200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кг : 8 м³</a:t>
            </a:r>
            <a:r>
              <a:rPr b="1" lang="ru-RU" sz="2800" spc="-1" strike="noStrike" baseline="30000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= 900 кг/м³</a:t>
            </a:r>
            <a:r>
              <a:rPr b="1" lang="ru-RU" sz="2800" spc="-1" strike="noStrike" baseline="30000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- плотность ль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120"/>
                            </p:stCondLst>
                            <p:childTnLst>
                              <p:par>
                                <p:cTn id="4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8fba"/>
              </a:solidFill>
              <a:latin typeface="Cambri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Определите массу кирпича с помощью линейки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Скругленный прямоугольник 4"/>
          <p:cNvSpPr/>
          <p:nvPr/>
        </p:nvSpPr>
        <p:spPr>
          <a:xfrm>
            <a:off x="2000160" y="2500200"/>
            <a:ext cx="5357880" cy="1428840"/>
          </a:xfrm>
          <a:prstGeom prst="roundRect">
            <a:avLst>
              <a:gd name="adj" fmla="val 41282"/>
            </a:avLst>
          </a:prstGeom>
          <a:solidFill>
            <a:srgbClr val="bcaba5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Тела, окружающие нас, состоят из различ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Рисунок 5" descr="22.jpg"/>
          <p:cNvPicPr/>
          <p:nvPr/>
        </p:nvPicPr>
        <p:blipFill>
          <a:blip r:embed="rId1"/>
          <a:stretch/>
        </p:blipFill>
        <p:spPr>
          <a:xfrm>
            <a:off x="428760" y="5000760"/>
            <a:ext cx="1500120" cy="143172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6" descr="дерево.jpg"/>
          <p:cNvPicPr/>
          <p:nvPr/>
        </p:nvPicPr>
        <p:blipFill>
          <a:blip r:embed="rId2"/>
          <a:stretch/>
        </p:blipFill>
        <p:spPr>
          <a:xfrm>
            <a:off x="357120" y="500040"/>
            <a:ext cx="1652760" cy="1571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D:\док-ты\Мои рисунки\пластмасса.jpg"/>
          <p:cNvPicPr/>
          <p:nvPr/>
        </p:nvPicPr>
        <p:blipFill>
          <a:blip r:embed="rId3"/>
          <a:stretch/>
        </p:blipFill>
        <p:spPr>
          <a:xfrm>
            <a:off x="7286760" y="642960"/>
            <a:ext cx="1722240" cy="164304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10" descr="стекло.jpg"/>
          <p:cNvPicPr/>
          <p:nvPr/>
        </p:nvPicPr>
        <p:blipFill>
          <a:blip r:embed="rId4"/>
          <a:stretch/>
        </p:blipFill>
        <p:spPr>
          <a:xfrm>
            <a:off x="7286760" y="500076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11" descr="подстаканник.jpg"/>
          <p:cNvPicPr/>
          <p:nvPr/>
        </p:nvPicPr>
        <p:blipFill>
          <a:blip r:embed="rId5"/>
          <a:stretch/>
        </p:blipFill>
        <p:spPr>
          <a:xfrm>
            <a:off x="3786120" y="4929120"/>
            <a:ext cx="1643040" cy="169704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12" descr="лед-вода.jpg"/>
          <p:cNvPicPr/>
          <p:nvPr/>
        </p:nvPicPr>
        <p:blipFill>
          <a:blip r:embed="rId6"/>
          <a:stretch/>
        </p:blipFill>
        <p:spPr>
          <a:xfrm>
            <a:off x="3887640" y="214200"/>
            <a:ext cx="1935360" cy="12859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13"/>
          <p:cNvSpPr/>
          <p:nvPr/>
        </p:nvSpPr>
        <p:spPr>
          <a:xfrm>
            <a:off x="571680" y="1785960"/>
            <a:ext cx="1071360" cy="368280"/>
          </a:xfrm>
          <a:prstGeom prst="rect">
            <a:avLst/>
          </a:prstGeom>
          <a:solidFill>
            <a:srgbClr val="bca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c463a"/>
                </a:solidFill>
                <a:latin typeface="Arial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4"/>
          <p:cNvSpPr/>
          <p:nvPr/>
        </p:nvSpPr>
        <p:spPr>
          <a:xfrm>
            <a:off x="4429080" y="1571760"/>
            <a:ext cx="10000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25b7e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525b7e"/>
                </a:solidFill>
                <a:latin typeface="Arial"/>
              </a:rPr>
              <a:t>Лё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5"/>
          <p:cNvSpPr/>
          <p:nvPr/>
        </p:nvSpPr>
        <p:spPr>
          <a:xfrm>
            <a:off x="7572240" y="2214720"/>
            <a:ext cx="1214640" cy="368280"/>
          </a:xfrm>
          <a:prstGeom prst="rect">
            <a:avLst/>
          </a:prstGeom>
          <a:solidFill>
            <a:srgbClr val="fdf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лас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6"/>
          <p:cNvSpPr/>
          <p:nvPr/>
        </p:nvSpPr>
        <p:spPr>
          <a:xfrm>
            <a:off x="1000080" y="4643280"/>
            <a:ext cx="100008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Г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7"/>
          <p:cNvSpPr/>
          <p:nvPr/>
        </p:nvSpPr>
        <p:spPr>
          <a:xfrm>
            <a:off x="7572240" y="4500720"/>
            <a:ext cx="1071720" cy="368280"/>
          </a:xfrm>
          <a:prstGeom prst="rect">
            <a:avLst/>
          </a:prstGeom>
          <a:solidFill>
            <a:srgbClr val="d2c7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8"/>
          <p:cNvSpPr/>
          <p:nvPr/>
        </p:nvSpPr>
        <p:spPr>
          <a:xfrm>
            <a:off x="4000680" y="4643280"/>
            <a:ext cx="1214280" cy="368280"/>
          </a:xfrm>
          <a:prstGeom prst="rect">
            <a:avLst/>
          </a:prstGeom>
          <a:solidFill>
            <a:srgbClr val="b2b2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Мета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трелка влево 33"/>
          <p:cNvSpPr/>
          <p:nvPr/>
        </p:nvSpPr>
        <p:spPr>
          <a:xfrm rot="2283000">
            <a:off x="1499760" y="2234880"/>
            <a:ext cx="866880" cy="298440"/>
          </a:xfrm>
          <a:prstGeom prst="leftArrow">
            <a:avLst>
              <a:gd name="adj1" fmla="val 50000"/>
              <a:gd name="adj2" fmla="val 68771"/>
            </a:avLst>
          </a:prstGeom>
          <a:solidFill>
            <a:srgbClr val="727ca3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Стрелка вправо 34"/>
          <p:cNvSpPr/>
          <p:nvPr/>
        </p:nvSpPr>
        <p:spPr>
          <a:xfrm flipV="1" rot="17763000">
            <a:off x="4401720" y="2125800"/>
            <a:ext cx="768240" cy="320400"/>
          </a:xfrm>
          <a:prstGeom prst="rightArrow">
            <a:avLst>
              <a:gd name="adj1" fmla="val 38407"/>
              <a:gd name="adj2" fmla="val 50031"/>
            </a:avLst>
          </a:prstGeom>
          <a:solidFill>
            <a:srgbClr val="727ca3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Стрелка вниз 35"/>
          <p:cNvSpPr/>
          <p:nvPr/>
        </p:nvSpPr>
        <p:spPr>
          <a:xfrm>
            <a:off x="4572000" y="3857760"/>
            <a:ext cx="285840" cy="78552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727ca3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Стрелка вниз 36"/>
          <p:cNvSpPr/>
          <p:nvPr/>
        </p:nvSpPr>
        <p:spPr>
          <a:xfrm rot="2225400">
            <a:off x="1857240" y="3684240"/>
            <a:ext cx="247680" cy="1030320"/>
          </a:xfrm>
          <a:prstGeom prst="downArrow">
            <a:avLst>
              <a:gd name="adj1" fmla="val 55565"/>
              <a:gd name="adj2" fmla="val 49996"/>
            </a:avLst>
          </a:prstGeom>
          <a:solidFill>
            <a:srgbClr val="727ca3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трелка вправо 37"/>
          <p:cNvSpPr/>
          <p:nvPr/>
        </p:nvSpPr>
        <p:spPr>
          <a:xfrm rot="19704600">
            <a:off x="7089840" y="2563560"/>
            <a:ext cx="770040" cy="28404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727ca3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трелка вправо 38"/>
          <p:cNvSpPr/>
          <p:nvPr/>
        </p:nvSpPr>
        <p:spPr>
          <a:xfrm rot="2059800">
            <a:off x="6624360" y="3960720"/>
            <a:ext cx="1182600" cy="30024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727ca3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50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8fba"/>
              </a:solidFill>
              <a:latin typeface="Cambria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1"/>
          <a:stretch/>
        </p:blipFill>
        <p:spPr>
          <a:xfrm>
            <a:off x="-181080" y="0"/>
            <a:ext cx="9560160" cy="69897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4"/>
          <p:cNvSpPr/>
          <p:nvPr/>
        </p:nvSpPr>
        <p:spPr>
          <a:xfrm>
            <a:off x="8672400" y="620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Рисунок 55" descr="telaravnogoV.gif"/>
          <p:cNvPicPr/>
          <p:nvPr/>
        </p:nvPicPr>
        <p:blipFill>
          <a:blip r:embed="rId1"/>
          <a:stretch/>
        </p:blipFill>
        <p:spPr>
          <a:xfrm>
            <a:off x="714240" y="785880"/>
            <a:ext cx="7691400" cy="5894280"/>
          </a:xfrm>
          <a:prstGeom prst="rect">
            <a:avLst/>
          </a:prstGeom>
          <a:ln w="0">
            <a:noFill/>
          </a:ln>
        </p:spPr>
      </p:pic>
      <p:sp>
        <p:nvSpPr>
          <p:cNvPr id="325" name="Стрелка вправо 56"/>
          <p:cNvSpPr/>
          <p:nvPr/>
        </p:nvSpPr>
        <p:spPr>
          <a:xfrm>
            <a:off x="142920" y="3000240"/>
            <a:ext cx="1714320" cy="7146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bcaba5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Ст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трелка влево 57"/>
          <p:cNvSpPr/>
          <p:nvPr/>
        </p:nvSpPr>
        <p:spPr>
          <a:xfrm>
            <a:off x="7358040" y="2928960"/>
            <a:ext cx="1643040" cy="64296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bcaba5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Дер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ятно 2 7"/>
          <p:cNvSpPr/>
          <p:nvPr/>
        </p:nvSpPr>
        <p:spPr>
          <a:xfrm rot="991200">
            <a:off x="3298320" y="2787480"/>
            <a:ext cx="5680080" cy="4427640"/>
          </a:xfrm>
          <a:prstGeom prst="irregularSeal2">
            <a:avLst/>
          </a:prstGeom>
          <a:solidFill>
            <a:srgbClr val="ffff00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Име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353e"/>
                </a:solidFill>
                <a:latin typeface="Cambria"/>
              </a:rPr>
              <a:t>РАЗНУЮ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 мас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Волна 8"/>
          <p:cNvSpPr/>
          <p:nvPr/>
        </p:nvSpPr>
        <p:spPr>
          <a:xfrm rot="20453400">
            <a:off x="-258840" y="749160"/>
            <a:ext cx="5114880" cy="3211560"/>
          </a:xfrm>
          <a:custGeom>
            <a:avLst/>
            <a:gdLst>
              <a:gd name="textAreaLeft" fmla="*/ 788760 w 5114880"/>
              <a:gd name="textAreaRight" fmla="*/ 5904000 w 5114880"/>
              <a:gd name="textAreaTop" fmla="*/ 802800 h 3211560"/>
              <a:gd name="textAreaBottom" fmla="*/ 2408760 h 3211560"/>
            </a:gdLst>
            <a:ahLst/>
            <a:rect l="textAreaLeft" t="textAreaTop" r="textAreaRight" b="textAreaBottom"/>
            <a:pathLst>
              <a:path w="21600" h="21600">
                <a:moveTo>
                  <a:pt x="3332" y="2700"/>
                </a:moveTo>
                <a:cubicBezTo>
                  <a:pt x="8866" y="-6865"/>
                  <a:pt x="16066" y="12265"/>
                  <a:pt x="21600" y="2700"/>
                </a:cubicBezTo>
                <a:lnTo>
                  <a:pt x="18268" y="18900"/>
                </a:lnTo>
                <a:cubicBezTo>
                  <a:pt x="12734" y="28465"/>
                  <a:pt x="5534" y="9335"/>
                  <a:pt x="0" y="18900"/>
                </a:cubicBezTo>
                <a:close/>
              </a:path>
            </a:pathLst>
          </a:custGeom>
          <a:solidFill>
            <a:srgbClr val="fce9af"/>
          </a:solidFill>
          <a:ln w="424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Тела, имею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     </a:t>
            </a:r>
            <a:r>
              <a:rPr b="1" lang="ru-RU" sz="2800" spc="-1" strike="noStrike">
                <a:solidFill>
                  <a:srgbClr val="525b7e"/>
                </a:solidFill>
                <a:latin typeface="Cambria"/>
              </a:rPr>
              <a:t>РАВНЫЕ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 объё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3:33:35Z</dcterms:created>
  <dc:creator>Марина</dc:creator>
  <dc:description/>
  <dc:language>en-US</dc:language>
  <cp:lastModifiedBy> </cp:lastModifiedBy>
  <dcterms:modified xsi:type="dcterms:W3CDTF">2014-01-13T16:04:25Z</dcterms:modified>
  <cp:revision>121</cp:revision>
  <dc:subject/>
  <dc:title>Слайд 1</dc:title>
</cp:coreProperties>
</file>