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0030-C927-4C59-B8A3-ABAEC0D9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D14-5F17-4879-961B-C81B128B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B9C7-3F7B-47BE-A158-FD0C07F5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8FD-3B58-408A-82E4-93490EFE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A40C-05FD-4D7A-8BC8-F3A001E4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5690-051E-486F-8CA6-EFE6A1D2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F8F5-0991-4338-9DFC-B27B3268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DBA1-06C8-45CB-88CF-3F93686C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FD27-41E7-4188-8E77-75665EE8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6A96-767B-4AD9-9E61-2E4AF1B7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59D6-3F35-475F-A1E0-ACC14DD6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161-DBBC-471F-8964-DB695E7E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D814-9994-4AC7-A363-302DE3DE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6181-0E79-4611-A040-C694C044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E898-EC5B-42F2-9D7F-DAFD6AFD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AFD5-CF4B-4A28-BE8A-3E86AE0C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68A7-DE47-4851-A81D-0F879462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676AF-FB5F-4365-B8E1-B720A62B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94D52-88CF-484C-984C-8D90FEBF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B2D0C-42C9-4E00-8057-B24BD4FF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45196-996B-41B7-9C94-B4E4DDD2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2380B-BD5A-44E5-BA7E-75C34D04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FCE-FC64-442A-AE2B-7652F32C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D324B-BF7A-4416-A44B-57AADB89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42E1E-DC92-4851-9C51-8EDA55DA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BFFD4-7924-4103-87CD-E892408D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CBD77-C851-4183-85E2-7F916794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1856E-8DAA-49BB-8ED4-1BBF7A03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2BF22-1DA0-4AF5-803E-84FB55AD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88B52-5F74-40FF-9C68-EA1787A6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B92A0-F5B8-4A75-9137-7A0B9C08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7E6E3-C1BC-4FB3-BF4C-C9EBE469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D28ED-CA7B-4C4F-9926-DF5CD0D1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9EA-17EA-4A1D-BBB8-5432B922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01E09-32A2-434E-BDE7-D12DB54B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E38F8-F275-40F2-8567-060A59D8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140E0-FD11-4ECE-BFB9-F7947522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48128-AEB9-4A93-970C-E6D176F7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51D46-09FB-4BC7-A116-9E00E901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30769-0127-45CB-B387-544FCE94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03549-2A14-4222-9A28-8FA7AB0B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EEEFC-DB4A-4FF1-87B5-EA8B087B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2089A-A5E1-4013-93CE-834544DA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BA82-7030-44E7-8763-60068E1E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C00-71CC-49EE-923B-A9D30C78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78C-4B26-4626-A630-7DDEE3E3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2FC-09F7-4229-8220-04490840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97F-F5E1-4476-88EE-25E8CBA9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9A1A-500D-4F35-BC66-57479364CA1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208E-3BA8-43C2-B741-E2F6C0D7FEA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0407-EDBA-4F39-9535-1D98B90EF87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0E4E-F3F5-4ED5-A820-5EB573E806F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По страницам зимних олимпийских игр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2" descr="C:\Users\Пользователь\Desktop\игры.jpg"/>
          <p:cNvPicPr/>
          <p:nvPr/>
        </p:nvPicPr>
        <p:blipFill>
          <a:blip r:embed="rId1"/>
          <a:stretch/>
        </p:blipFill>
        <p:spPr>
          <a:xfrm>
            <a:off x="1332000" y="1960560"/>
            <a:ext cx="6624720" cy="4435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0070c0"/>
                </a:solidFill>
                <a:latin typeface="Monotype Corsiva"/>
              </a:rPr>
              <a:t>Керлинг </a:t>
            </a: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2" descr="C:\Users\Пользователь\Desktop\керлинг.jpg"/>
          <p:cNvPicPr/>
          <p:nvPr/>
        </p:nvPicPr>
        <p:blipFill>
          <a:blip r:embed="rId1"/>
          <a:stretch/>
        </p:blipFill>
        <p:spPr>
          <a:xfrm>
            <a:off x="395280" y="1052640"/>
            <a:ext cx="3908520" cy="2606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Users\Пользователь\Desktop\кер.jpg"/>
          <p:cNvPicPr/>
          <p:nvPr/>
        </p:nvPicPr>
        <p:blipFill>
          <a:blip r:embed="rId2"/>
          <a:stretch/>
        </p:blipFill>
        <p:spPr>
          <a:xfrm>
            <a:off x="4788000" y="1052640"/>
            <a:ext cx="3863880" cy="2592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Users\Пользователь\Desktop\керл.jpg"/>
          <p:cNvPicPr/>
          <p:nvPr/>
        </p:nvPicPr>
        <p:blipFill>
          <a:blip r:embed="rId3"/>
          <a:stretch/>
        </p:blipFill>
        <p:spPr>
          <a:xfrm>
            <a:off x="2556000" y="4005360"/>
            <a:ext cx="3905280" cy="2592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Monotype Corsiva"/>
              </a:rPr>
              <a:t>Горнолыжный спорт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Picture 2" descr="C:\Users\Пользователь\Desktop\гор.jpg"/>
          <p:cNvPicPr/>
          <p:nvPr/>
        </p:nvPicPr>
        <p:blipFill>
          <a:blip r:embed="rId1"/>
          <a:stretch/>
        </p:blipFill>
        <p:spPr>
          <a:xfrm>
            <a:off x="2870280" y="2637000"/>
            <a:ext cx="3646440" cy="2239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Users\Пользователь\Desktop\горнол.jpg"/>
          <p:cNvPicPr/>
          <p:nvPr/>
        </p:nvPicPr>
        <p:blipFill>
          <a:blip r:embed="rId2"/>
          <a:stretch/>
        </p:blipFill>
        <p:spPr>
          <a:xfrm>
            <a:off x="179280" y="1413000"/>
            <a:ext cx="3364200" cy="2232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Users\Пользователь\Desktop\горн.jpg"/>
          <p:cNvPicPr/>
          <p:nvPr/>
        </p:nvPicPr>
        <p:blipFill>
          <a:blip r:embed="rId3"/>
          <a:stretch/>
        </p:blipFill>
        <p:spPr>
          <a:xfrm>
            <a:off x="5435640" y="4149720"/>
            <a:ext cx="33843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70c0"/>
                </a:solidFill>
                <a:latin typeface="Monotype Corsiva"/>
              </a:rPr>
              <a:t>Фигурное  катание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5" descr="C:\Users\Пользователь\Desktop\фиг.jpg"/>
          <p:cNvPicPr/>
          <p:nvPr/>
        </p:nvPicPr>
        <p:blipFill>
          <a:blip r:embed="rId1"/>
          <a:stretch/>
        </p:blipFill>
        <p:spPr>
          <a:xfrm>
            <a:off x="3059280" y="1125360"/>
            <a:ext cx="3319200" cy="2697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Users\Пользователь\Desktop\фи.jpg"/>
          <p:cNvPicPr/>
          <p:nvPr/>
        </p:nvPicPr>
        <p:blipFill>
          <a:blip r:embed="rId2"/>
          <a:stretch/>
        </p:blipFill>
        <p:spPr>
          <a:xfrm>
            <a:off x="395280" y="2421000"/>
            <a:ext cx="2448000" cy="3805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Users\Пользователь\Desktop\фигур.jpg"/>
          <p:cNvPicPr/>
          <p:nvPr/>
        </p:nvPicPr>
        <p:blipFill>
          <a:blip r:embed="rId3"/>
          <a:stretch/>
        </p:blipFill>
        <p:spPr>
          <a:xfrm>
            <a:off x="5508720" y="3141720"/>
            <a:ext cx="3260520" cy="3233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Monotype Corsiva"/>
              </a:rPr>
              <a:t>Зимние виды спор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Picture 2" descr="C:\Users\Пользователь\Desktop\олимп\биатлон.jpg"/>
          <p:cNvPicPr/>
          <p:nvPr/>
        </p:nvPicPr>
        <p:blipFill>
          <a:blip r:embed="rId1"/>
          <a:stretch/>
        </p:blipFill>
        <p:spPr>
          <a:xfrm>
            <a:off x="250920" y="907920"/>
            <a:ext cx="1225440" cy="1225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C:\Users\Пользователь\Desktop\олимп\лыжные гонки.jpg"/>
          <p:cNvPicPr/>
          <p:nvPr/>
        </p:nvPicPr>
        <p:blipFill>
          <a:blip r:embed="rId2"/>
          <a:stretch/>
        </p:blipFill>
        <p:spPr>
          <a:xfrm>
            <a:off x="2340000" y="134136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C:\Users\Пользователь\Desktop\олимп\скелетон.jpg"/>
          <p:cNvPicPr/>
          <p:nvPr/>
        </p:nvPicPr>
        <p:blipFill>
          <a:blip r:embed="rId3"/>
          <a:stretch/>
        </p:blipFill>
        <p:spPr>
          <a:xfrm>
            <a:off x="7596360" y="350028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C:\Users\Пользователь\Desktop\олимп\сноубординг.jpg"/>
          <p:cNvPicPr/>
          <p:nvPr/>
        </p:nvPicPr>
        <p:blipFill>
          <a:blip r:embed="rId4"/>
          <a:stretch/>
        </p:blipFill>
        <p:spPr>
          <a:xfrm>
            <a:off x="7667640" y="90792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C:\Users\Пользователь\Desktop\олимп\фигур.jpg"/>
          <p:cNvPicPr/>
          <p:nvPr/>
        </p:nvPicPr>
        <p:blipFill>
          <a:blip r:embed="rId5"/>
          <a:stretch/>
        </p:blipFill>
        <p:spPr>
          <a:xfrm>
            <a:off x="6156360" y="1557360"/>
            <a:ext cx="1228680" cy="1212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C:\Users\Пользователь\Desktop\олимп\хоккей.jpg"/>
          <p:cNvPicPr/>
          <p:nvPr/>
        </p:nvPicPr>
        <p:blipFill>
          <a:blip r:embed="rId6"/>
          <a:stretch/>
        </p:blipFill>
        <p:spPr>
          <a:xfrm>
            <a:off x="539640" y="3357720"/>
            <a:ext cx="1212840" cy="1212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C:\Users\Пользователь\Desktop\олимп\шорт-трек.jpg"/>
          <p:cNvPicPr/>
          <p:nvPr/>
        </p:nvPicPr>
        <p:blipFill>
          <a:blip r:embed="rId7"/>
          <a:stretch/>
        </p:blipFill>
        <p:spPr>
          <a:xfrm>
            <a:off x="4211640" y="1557360"/>
            <a:ext cx="1473120" cy="1104840"/>
          </a:xfrm>
          <a:prstGeom prst="rect">
            <a:avLst/>
          </a:prstGeom>
          <a:ln w="0">
            <a:noFill/>
          </a:ln>
        </p:spPr>
      </p:pic>
      <p:sp>
        <p:nvSpPr>
          <p:cNvPr id="241" name="Скругленный прямоугольник 10"/>
          <p:cNvSpPr/>
          <p:nvPr/>
        </p:nvSpPr>
        <p:spPr>
          <a:xfrm>
            <a:off x="4284720" y="5157720"/>
            <a:ext cx="1800000" cy="3589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ыжные гонк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Прямоугольник 13"/>
          <p:cNvSpPr/>
          <p:nvPr/>
        </p:nvSpPr>
        <p:spPr>
          <a:xfrm>
            <a:off x="1289160" y="5300640"/>
            <a:ext cx="231588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игурное катани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Прямоугольник 14"/>
          <p:cNvSpPr/>
          <p:nvPr/>
        </p:nvSpPr>
        <p:spPr>
          <a:xfrm>
            <a:off x="6980400" y="5373720"/>
            <a:ext cx="108288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Хокке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Прямоугольник 15"/>
          <p:cNvSpPr/>
          <p:nvPr/>
        </p:nvSpPr>
        <p:spPr>
          <a:xfrm>
            <a:off x="5381280" y="3357720"/>
            <a:ext cx="122148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иатлон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Прямоугольник 16"/>
          <p:cNvSpPr/>
          <p:nvPr/>
        </p:nvSpPr>
        <p:spPr>
          <a:xfrm>
            <a:off x="2509560" y="4221000"/>
            <a:ext cx="126288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келето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Прямоугольник 17"/>
          <p:cNvSpPr/>
          <p:nvPr/>
        </p:nvSpPr>
        <p:spPr>
          <a:xfrm>
            <a:off x="5033520" y="4292640"/>
            <a:ext cx="148392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Шорт-трек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Прямоугольник 18"/>
          <p:cNvSpPr/>
          <p:nvPr/>
        </p:nvSpPr>
        <p:spPr>
          <a:xfrm>
            <a:off x="2498040" y="3284640"/>
            <a:ext cx="181440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ноубординг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00000"/>
                </a:solidFill>
                <a:latin typeface="Monotype Corsiva"/>
              </a:rPr>
              <a:t>Зимние виды спорт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Picture 2" descr="C:\Users\Пользователь\Desktop\олимп\бобслей.jpg"/>
          <p:cNvPicPr/>
          <p:nvPr/>
        </p:nvPicPr>
        <p:blipFill>
          <a:blip r:embed="rId1"/>
          <a:stretch/>
        </p:blipFill>
        <p:spPr>
          <a:xfrm>
            <a:off x="684360" y="3860640"/>
            <a:ext cx="1001520" cy="1003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C:\Users\Пользователь\Desktop\олимп\горно.jpg"/>
          <p:cNvPicPr/>
          <p:nvPr/>
        </p:nvPicPr>
        <p:blipFill>
          <a:blip r:embed="rId2"/>
          <a:stretch/>
        </p:blipFill>
        <p:spPr>
          <a:xfrm>
            <a:off x="7667640" y="836640"/>
            <a:ext cx="1069920" cy="1068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C:\Users\Пользователь\Desktop\олимп\керлинг.jpg"/>
          <p:cNvPicPr/>
          <p:nvPr/>
        </p:nvPicPr>
        <p:blipFill>
          <a:blip r:embed="rId3"/>
          <a:stretch/>
        </p:blipFill>
        <p:spPr>
          <a:xfrm>
            <a:off x="611280" y="1052640"/>
            <a:ext cx="1212840" cy="1212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C:\Users\Пользователь\Desktop\олимп\конько.jpg"/>
          <p:cNvPicPr/>
          <p:nvPr/>
        </p:nvPicPr>
        <p:blipFill>
          <a:blip r:embed="rId4"/>
          <a:stretch/>
        </p:blipFill>
        <p:spPr>
          <a:xfrm>
            <a:off x="7164360" y="2133720"/>
            <a:ext cx="1104840" cy="1068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C:\Users\Пользователь\Desktop\олимп\лыжное двоеборье.jpg"/>
          <p:cNvPicPr/>
          <p:nvPr/>
        </p:nvPicPr>
        <p:blipFill>
          <a:blip r:embed="rId5"/>
          <a:stretch/>
        </p:blipFill>
        <p:spPr>
          <a:xfrm>
            <a:off x="1042920" y="2565360"/>
            <a:ext cx="1069920" cy="1068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C:\Users\Пользователь\Desktop\олимп\прыжки с трам.jpg"/>
          <p:cNvPicPr/>
          <p:nvPr/>
        </p:nvPicPr>
        <p:blipFill>
          <a:blip r:embed="rId6"/>
          <a:stretch/>
        </p:blipFill>
        <p:spPr>
          <a:xfrm>
            <a:off x="7020000" y="5229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C:\Users\Пользователь\Desktop\олимп\санный.jpg"/>
          <p:cNvPicPr/>
          <p:nvPr/>
        </p:nvPicPr>
        <p:blipFill>
          <a:blip r:embed="rId7"/>
          <a:stretch/>
        </p:blipFill>
        <p:spPr>
          <a:xfrm>
            <a:off x="826920" y="5445000"/>
            <a:ext cx="1121040" cy="708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C:\Users\Пользователь\Desktop\олимп\фристайл.jpg"/>
          <p:cNvPicPr/>
          <p:nvPr/>
        </p:nvPicPr>
        <p:blipFill>
          <a:blip r:embed="rId8"/>
          <a:stretch/>
        </p:blipFill>
        <p:spPr>
          <a:xfrm>
            <a:off x="7451640" y="363384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257" name="Скругленный прямоугольник 11"/>
          <p:cNvSpPr/>
          <p:nvPr/>
        </p:nvSpPr>
        <p:spPr>
          <a:xfrm>
            <a:off x="2916360" y="1197000"/>
            <a:ext cx="2519280" cy="431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ыжки с трампли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Скругленный прямоугольник 13"/>
          <p:cNvSpPr/>
          <p:nvPr/>
        </p:nvSpPr>
        <p:spPr>
          <a:xfrm>
            <a:off x="3419640" y="1916280"/>
            <a:ext cx="1296720" cy="4330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обсле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Скругленный прямоугольник 14"/>
          <p:cNvSpPr/>
          <p:nvPr/>
        </p:nvSpPr>
        <p:spPr>
          <a:xfrm>
            <a:off x="5219640" y="1916280"/>
            <a:ext cx="1368360" cy="4330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ристайл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Скругленный прямоугольник 15"/>
          <p:cNvSpPr/>
          <p:nvPr/>
        </p:nvSpPr>
        <p:spPr>
          <a:xfrm>
            <a:off x="2050920" y="3789360"/>
            <a:ext cx="2952720" cy="5032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нькобежный спор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Скругленный прямоугольник 16"/>
          <p:cNvSpPr/>
          <p:nvPr/>
        </p:nvSpPr>
        <p:spPr>
          <a:xfrm>
            <a:off x="4500720" y="4581360"/>
            <a:ext cx="2447640" cy="5032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ыжное двоеборь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Скругленный прямоугольник 17"/>
          <p:cNvSpPr/>
          <p:nvPr/>
        </p:nvSpPr>
        <p:spPr>
          <a:xfrm>
            <a:off x="2627280" y="2637000"/>
            <a:ext cx="2521080" cy="504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орнолыжный спор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Скругленный прямоугольник 18"/>
          <p:cNvSpPr/>
          <p:nvPr/>
        </p:nvSpPr>
        <p:spPr>
          <a:xfrm>
            <a:off x="5219640" y="3284640"/>
            <a:ext cx="1800360" cy="504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ёрлинг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Скругленный прямоугольник 19"/>
          <p:cNvSpPr/>
          <p:nvPr/>
        </p:nvSpPr>
        <p:spPr>
          <a:xfrm>
            <a:off x="2268360" y="5013360"/>
            <a:ext cx="1798920" cy="5032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анный спор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Олимпийский кроссворд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50920" y="907920"/>
          <a:ext cx="5329080" cy="3889440"/>
        </p:xfrm>
        <a:graphic>
          <a:graphicData uri="http://schemas.openxmlformats.org/drawingml/2006/table">
            <a:tbl>
              <a:tblPr/>
              <a:tblGrid>
                <a:gridCol w="312480"/>
                <a:gridCol w="281160"/>
                <a:gridCol w="307800"/>
                <a:gridCol w="271800"/>
                <a:gridCol w="414000"/>
                <a:gridCol w="416160"/>
                <a:gridCol w="361800"/>
                <a:gridCol w="389160"/>
                <a:gridCol w="360360"/>
                <a:gridCol w="352440"/>
                <a:gridCol w="361800"/>
                <a:gridCol w="388800"/>
                <a:gridCol w="320760"/>
                <a:gridCol w="415800"/>
                <a:gridCol w="374760"/>
              </a:tblGrid>
              <a:tr h="26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Прямоугольник 5"/>
          <p:cNvSpPr/>
          <p:nvPr/>
        </p:nvSpPr>
        <p:spPr>
          <a:xfrm>
            <a:off x="6012000" y="765000"/>
            <a:ext cx="313200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о горизонтали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спорта, который впервые появился в 1998 год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ендарный хоккейный вратарь, трехкратный олимпийский чемпион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первых зимних олимпийских игр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на льду с тяжелыми гранитными снарядам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лимпийских игр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молодой зимний вид спорт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Прямоугольник 6"/>
          <p:cNvSpPr/>
          <p:nvPr/>
        </p:nvSpPr>
        <p:spPr>
          <a:xfrm>
            <a:off x="1403280" y="4797360"/>
            <a:ext cx="72010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о вертикали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ид спорта, который родился в г.Монреале в 1875 год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ид спорта, сочетающий стрельбу и бег на лыжах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Настоящая фамилия первого российского олимпийского чемпиона 1908 год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Часть света, которую символизирует зеленый цвет олимпийского кольц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Город первых олимпийских игр современност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Monotype Corsiva"/>
              </a:rPr>
              <a:t>“ </a:t>
            </a:r>
            <a:r>
              <a:rPr b="0" lang="ru-RU" sz="6000" spc="-1" strike="noStrike">
                <a:solidFill>
                  <a:srgbClr val="c00000"/>
                </a:solidFill>
                <a:latin typeface="Monotype Corsiva"/>
              </a:rPr>
              <a:t>О </a:t>
            </a:r>
            <a:r>
              <a:rPr b="0" lang="ru-RU" sz="5400" spc="-1" strike="noStrike">
                <a:solidFill>
                  <a:srgbClr val="c00000"/>
                </a:solidFill>
                <a:latin typeface="Monotype Corsiva"/>
              </a:rPr>
              <a:t>спорт, ты - мир!</a:t>
            </a:r>
            <a:r>
              <a:rPr b="0" lang="en-US" sz="5400" spc="-1" strike="noStrike">
                <a:solidFill>
                  <a:srgbClr val="c00000"/>
                </a:solidFill>
                <a:latin typeface="Monotype Corsiva"/>
              </a:rPr>
              <a:t>”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2" descr="C:\Users\Пользователь\Desktop\олимп\кубер.jpg"/>
          <p:cNvPicPr/>
          <p:nvPr/>
        </p:nvPicPr>
        <p:blipFill>
          <a:blip r:embed="rId1"/>
          <a:stretch/>
        </p:blipFill>
        <p:spPr>
          <a:xfrm>
            <a:off x="2987640" y="2133720"/>
            <a:ext cx="5113440" cy="3833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Users\Пользователь\Desktop\флаг.jpg"/>
          <p:cNvPicPr/>
          <p:nvPr/>
        </p:nvPicPr>
        <p:blipFill>
          <a:blip r:embed="rId1"/>
          <a:stretch/>
        </p:blipFill>
        <p:spPr>
          <a:xfrm>
            <a:off x="826920" y="1052640"/>
            <a:ext cx="3457800" cy="2752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Users\Пользователь\Desktop\огонь.jpg"/>
          <p:cNvPicPr/>
          <p:nvPr/>
        </p:nvPicPr>
        <p:blipFill>
          <a:blip r:embed="rId2"/>
          <a:stretch/>
        </p:blipFill>
        <p:spPr>
          <a:xfrm>
            <a:off x="3059280" y="3960720"/>
            <a:ext cx="3744720" cy="2536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C:\Users\Пользователь\Desktop\кольца.jpg"/>
          <p:cNvPicPr/>
          <p:nvPr/>
        </p:nvPicPr>
        <p:blipFill>
          <a:blip r:embed="rId3"/>
          <a:stretch/>
        </p:blipFill>
        <p:spPr>
          <a:xfrm>
            <a:off x="5292720" y="1125360"/>
            <a:ext cx="3610080" cy="270036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0" y="-359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  <a:ea typeface="Calibri"/>
              </a:rPr>
              <a:t>                  </a:t>
            </a:r>
            <a:r>
              <a:rPr b="0" lang="ru-RU" sz="4800" spc="-1" strike="noStrike">
                <a:solidFill>
                  <a:srgbClr val="ff0000"/>
                </a:solidFill>
                <a:latin typeface="Monotype Corsiva"/>
                <a:ea typeface="Calibri"/>
              </a:rPr>
              <a:t>Символы олимпиады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00000"/>
                </a:solidFill>
                <a:latin typeface="Monotype Corsiva"/>
              </a:rPr>
              <a:t>Первый олимпиец России –Николай Панин- Коломенкин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Picture 5" descr="C:\Users\Пользователь\Desktop\Nikolai_Panin-203x300.jpg"/>
          <p:cNvPicPr/>
          <p:nvPr/>
        </p:nvPicPr>
        <p:blipFill>
          <a:blip r:embed="rId1"/>
          <a:stretch/>
        </p:blipFill>
        <p:spPr>
          <a:xfrm>
            <a:off x="6372360" y="2060640"/>
            <a:ext cx="1933560" cy="2857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:\Users\Пользователь\Desktop\i (1).jpg"/>
          <p:cNvPicPr/>
          <p:nvPr/>
        </p:nvPicPr>
        <p:blipFill>
          <a:blip r:embed="rId2"/>
          <a:stretch/>
        </p:blipFill>
        <p:spPr>
          <a:xfrm>
            <a:off x="3132000" y="3933720"/>
            <a:ext cx="3349800" cy="2232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C:\Users\Пользователь\Desktop\к.jpg"/>
          <p:cNvPicPr/>
          <p:nvPr/>
        </p:nvPicPr>
        <p:blipFill>
          <a:blip r:embed="rId3"/>
          <a:stretch/>
        </p:blipFill>
        <p:spPr>
          <a:xfrm>
            <a:off x="539640" y="2060640"/>
            <a:ext cx="2664000" cy="2663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Страны  зимних  олимпийских  игр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2" descr="C:\Users\Пользователь\Desktop\олимп\winter_olympic.jpg"/>
          <p:cNvPicPr/>
          <p:nvPr/>
        </p:nvPicPr>
        <p:blipFill>
          <a:blip r:embed="rId1"/>
          <a:stretch/>
        </p:blipFill>
        <p:spPr>
          <a:xfrm>
            <a:off x="826920" y="1085760"/>
            <a:ext cx="7274160" cy="5438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07408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c00000"/>
                </a:solidFill>
                <a:latin typeface="Monotype Corsiva"/>
              </a:rPr>
              <a:t>Спортсмены - олимпийцы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жные гонки                                                                       Конькобежный спор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рова Любовь Ивановна                                                     Аверина Татьяна Борисовн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зутина Лариса Евгеньевна                                                 Скобликова Лидия Павловн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танина Раиса Петровна                                                    Гришин Евгений Романович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ятов Николай Семенович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уроров Алексей Алексеевич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ный спор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акова Галина Алексеевна                                                 Зозуля Вера Васильевн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атлон                                                                                        Фристай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алов Александр Васильевич                                         Черязова Лина Анатольевн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нов Александр Иванович                                               Кожевникова Елизавета  Александровн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шмуратова Светлана Ирековна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кке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гурное катание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ров Всеволод Михайлович                                               Панин-Коломенкин  Николай Александрович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як Владислав Александрович                                       Пахомова Людмила и Горшков Александр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е Павел Владимирович                                                      Белоусова Людмила и Протопопов Олег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нов Вячеслав Иванович                                              Роднина Ирина Константиновн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сов Анатолий Васильевич                                                Слуцкая Ирина Эдуардовн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губов Николай Михайлович                                           Ягудин Алексей Константинович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ющенко Евгений Викторович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Олимпиада в Сочи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2" descr="C:\Users\Пользователь\Desktop\i.jpg"/>
          <p:cNvPicPr/>
          <p:nvPr/>
        </p:nvPicPr>
        <p:blipFill>
          <a:blip r:embed="rId1"/>
          <a:stretch/>
        </p:blipFill>
        <p:spPr>
          <a:xfrm>
            <a:off x="1187280" y="1873080"/>
            <a:ext cx="6624720" cy="4003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Monotype Corsiva"/>
              </a:rPr>
              <a:t>Хоккей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2" descr="C:\Users\Пользователь\Desktop\хоккей.jpg"/>
          <p:cNvPicPr/>
          <p:nvPr/>
        </p:nvPicPr>
        <p:blipFill>
          <a:blip r:embed="rId1"/>
          <a:stretch/>
        </p:blipFill>
        <p:spPr>
          <a:xfrm>
            <a:off x="539640" y="1268280"/>
            <a:ext cx="2808360" cy="2241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Users\Пользователь\Desktop\хок.jpg"/>
          <p:cNvPicPr/>
          <p:nvPr/>
        </p:nvPicPr>
        <p:blipFill>
          <a:blip r:embed="rId2"/>
          <a:stretch/>
        </p:blipFill>
        <p:spPr>
          <a:xfrm>
            <a:off x="2987640" y="3645000"/>
            <a:ext cx="3097080" cy="2808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:\Users\Пользователь\Desktop\х.jpg"/>
          <p:cNvPicPr/>
          <p:nvPr/>
        </p:nvPicPr>
        <p:blipFill>
          <a:blip r:embed="rId3"/>
          <a:stretch/>
        </p:blipFill>
        <p:spPr>
          <a:xfrm>
            <a:off x="5003640" y="1268280"/>
            <a:ext cx="364680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Monotype Corsiva"/>
              </a:rPr>
              <a:t>Биатлон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2" descr="C:\Users\Пользователь\Desktop\би.jpg"/>
          <p:cNvPicPr/>
          <p:nvPr/>
        </p:nvPicPr>
        <p:blipFill>
          <a:blip r:embed="rId1"/>
          <a:stretch/>
        </p:blipFill>
        <p:spPr>
          <a:xfrm>
            <a:off x="324000" y="1197000"/>
            <a:ext cx="3168360" cy="2376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Пользователь\Desktop\биат.jpg"/>
          <p:cNvPicPr/>
          <p:nvPr/>
        </p:nvPicPr>
        <p:blipFill>
          <a:blip r:embed="rId2"/>
          <a:stretch/>
        </p:blipFill>
        <p:spPr>
          <a:xfrm>
            <a:off x="5148360" y="1268280"/>
            <a:ext cx="3173400" cy="2089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Users\Пользователь\Desktop\биатлон.jpg"/>
          <p:cNvPicPr/>
          <p:nvPr/>
        </p:nvPicPr>
        <p:blipFill>
          <a:blip r:embed="rId3"/>
          <a:stretch/>
        </p:blipFill>
        <p:spPr>
          <a:xfrm>
            <a:off x="2700360" y="3573360"/>
            <a:ext cx="3448080" cy="2586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11:24:28Z</dcterms:created>
  <dc:creator>Пользователь</dc:creator>
  <dc:description/>
  <dc:language>en-US</dc:language>
  <cp:lastModifiedBy>Учитель</cp:lastModifiedBy>
  <dcterms:modified xsi:type="dcterms:W3CDTF">2013-11-05T06:51:34Z</dcterms:modified>
  <cp:revision>24</cp:revision>
  <dc:subject/>
  <dc:title>По страницам зимних олимпийских игр</dc:title>
</cp:coreProperties>
</file>