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173-77A3-4F71-9D6A-0D4E3523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F2F-50A9-41A7-AD4D-A75D8C66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063-CEB5-44B6-9869-B4832817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53E-8E70-4396-9354-5EC5EE35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67B5-3105-42E2-829C-A35AFC61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F6E5-D155-449D-A833-1710C920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341E-E6B6-4622-847F-0823DBFF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8674-1B10-4CFE-8097-E2D42DD7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AF94-0A96-4151-8618-DEB10307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1CD0-BF56-465F-88D8-63A30F01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03E1-A1E3-4ABC-8D51-4105DB87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E80-35BA-4DA6-BEB4-EE524A07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8F97-9474-4B90-AD38-9657D8F6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2A29-DEE0-46E8-BC8A-49AEB60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F7F0-892A-44AD-AF5E-1FCF6D44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B792-06BD-461F-96A6-3D00D63C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9E5B-1253-4530-ADD4-2561A86D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097C-37D5-4C59-9375-A35C694A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E4D9-4120-4EC5-8D07-D56A40E3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1961-22A5-4D94-B16E-BB2855C3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73CB-55CB-4679-9A4D-51C015B7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593B-8B3C-428A-9AEE-18569C3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D12-C6C4-4F44-8A25-3A76C7C2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677C-6B46-4BAC-99D9-D8EFA494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5B99-4793-4805-A162-C85370D3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3685-928D-4541-8437-0E12A2F0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0D2D-0D92-4AE0-A304-B44E660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170E-2B27-48AF-BD96-4AAF6F08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2D0E5-7A27-4CFA-A19A-69C31D4D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2376-50AE-4C84-AB67-21CE30F3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429E-87B0-4F64-A9FA-1A3F5977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41F3-C919-4241-8F27-C2327361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C27C1-446B-4929-A0B1-A2D98AA4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EB4-B485-479D-9FF4-4D3B13B8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CB73-D526-4DE7-8B9F-423C1CC6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B4C7-F2CC-4001-9770-D170D72C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DCC1-5F19-4DD4-B1C6-85C6F2FD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344F-FC5B-430F-93FB-4B0B4ABD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5CF0-B6B1-4C6D-A223-6AA3E4F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377C3-1AAB-44DE-961F-4445C0D5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641A-9AF2-4924-90B8-875E243D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48A7-629B-4BC1-A678-CBD8281B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1103-85FB-40E2-AB0D-BD83D2DC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A9D-6285-4B0B-AD07-8EF2DCD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2F4-540F-48EF-AF49-07026931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3AE-492F-40C9-B39D-BBA0DD1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6F7-20C8-40C8-BC0F-43604FC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71A-C79B-4058-8921-C5489B98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82B9-4988-46B6-BF7E-87F90F84E95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A4E-BB35-4745-BBC6-E3E1A86751C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E07A-0108-4782-8703-915EDCB243B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1370-52A9-4D53-B273-E99F49200C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По страницам зимних олимпийских игр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" descr="C:\Users\Пользователь\Desktop\игры.jpg"/>
          <p:cNvPicPr/>
          <p:nvPr/>
        </p:nvPicPr>
        <p:blipFill>
          <a:blip r:embed="rId1"/>
          <a:stretch/>
        </p:blipFill>
        <p:spPr>
          <a:xfrm>
            <a:off x="1332000" y="1960560"/>
            <a:ext cx="6624720" cy="443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70c0"/>
                </a:solidFill>
                <a:latin typeface="Monotype Corsiva"/>
              </a:rPr>
              <a:t>Керлинг 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C:\Users\Пользователь\Desktop\керлинг.jpg"/>
          <p:cNvPicPr/>
          <p:nvPr/>
        </p:nvPicPr>
        <p:blipFill>
          <a:blip r:embed="rId1"/>
          <a:stretch/>
        </p:blipFill>
        <p:spPr>
          <a:xfrm>
            <a:off x="395280" y="1052640"/>
            <a:ext cx="3908520" cy="2606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Пользователь\Desktop\кер.jpg"/>
          <p:cNvPicPr/>
          <p:nvPr/>
        </p:nvPicPr>
        <p:blipFill>
          <a:blip r:embed="rId2"/>
          <a:stretch/>
        </p:blipFill>
        <p:spPr>
          <a:xfrm>
            <a:off x="4788000" y="1052640"/>
            <a:ext cx="3863880" cy="25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Пользователь\Desktop\керл.jpg"/>
          <p:cNvPicPr/>
          <p:nvPr/>
        </p:nvPicPr>
        <p:blipFill>
          <a:blip r:embed="rId3"/>
          <a:stretch/>
        </p:blipFill>
        <p:spPr>
          <a:xfrm>
            <a:off x="2556000" y="4005360"/>
            <a:ext cx="3905280" cy="2592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Горнолыжный спор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C:\Users\Пользователь\Desktop\гор.jpg"/>
          <p:cNvPicPr/>
          <p:nvPr/>
        </p:nvPicPr>
        <p:blipFill>
          <a:blip r:embed="rId1"/>
          <a:stretch/>
        </p:blipFill>
        <p:spPr>
          <a:xfrm>
            <a:off x="2870280" y="2637000"/>
            <a:ext cx="3646440" cy="2239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Пользователь\Desktop\горнол.jpg"/>
          <p:cNvPicPr/>
          <p:nvPr/>
        </p:nvPicPr>
        <p:blipFill>
          <a:blip r:embed="rId2"/>
          <a:stretch/>
        </p:blipFill>
        <p:spPr>
          <a:xfrm>
            <a:off x="179280" y="1413000"/>
            <a:ext cx="3364200" cy="2232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Пользователь\Desktop\горн.jpg"/>
          <p:cNvPicPr/>
          <p:nvPr/>
        </p:nvPicPr>
        <p:blipFill>
          <a:blip r:embed="rId3"/>
          <a:stretch/>
        </p:blipFill>
        <p:spPr>
          <a:xfrm>
            <a:off x="5435640" y="4149720"/>
            <a:ext cx="3384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70c0"/>
                </a:solidFill>
                <a:latin typeface="Monotype Corsiva"/>
              </a:rPr>
              <a:t>Фигурное  катание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5" descr="C:\Users\Пользователь\Desktop\фиг.jpg"/>
          <p:cNvPicPr/>
          <p:nvPr/>
        </p:nvPicPr>
        <p:blipFill>
          <a:blip r:embed="rId1"/>
          <a:stretch/>
        </p:blipFill>
        <p:spPr>
          <a:xfrm>
            <a:off x="3059280" y="1125360"/>
            <a:ext cx="3319200" cy="2697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Пользователь\Desktop\фи.jpg"/>
          <p:cNvPicPr/>
          <p:nvPr/>
        </p:nvPicPr>
        <p:blipFill>
          <a:blip r:embed="rId2"/>
          <a:stretch/>
        </p:blipFill>
        <p:spPr>
          <a:xfrm>
            <a:off x="395280" y="2421000"/>
            <a:ext cx="2448000" cy="3805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Пользователь\Desktop\фигур.jpg"/>
          <p:cNvPicPr/>
          <p:nvPr/>
        </p:nvPicPr>
        <p:blipFill>
          <a:blip r:embed="rId3"/>
          <a:stretch/>
        </p:blipFill>
        <p:spPr>
          <a:xfrm>
            <a:off x="5508720" y="3141720"/>
            <a:ext cx="3260520" cy="323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Monotype Corsiva"/>
              </a:rPr>
              <a:t>Зимние виды спор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2" descr="C:\Users\Пользователь\Desktop\олимп\биатлон.jpg"/>
          <p:cNvPicPr/>
          <p:nvPr/>
        </p:nvPicPr>
        <p:blipFill>
          <a:blip r:embed="rId1"/>
          <a:stretch/>
        </p:blipFill>
        <p:spPr>
          <a:xfrm>
            <a:off x="250920" y="90792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Пользователь\Desktop\олимп\лыжные гонки.jpg"/>
          <p:cNvPicPr/>
          <p:nvPr/>
        </p:nvPicPr>
        <p:blipFill>
          <a:blip r:embed="rId2"/>
          <a:stretch/>
        </p:blipFill>
        <p:spPr>
          <a:xfrm>
            <a:off x="2340000" y="134136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Users\Пользователь\Desktop\олимп\скелетон.jpg"/>
          <p:cNvPicPr/>
          <p:nvPr/>
        </p:nvPicPr>
        <p:blipFill>
          <a:blip r:embed="rId3"/>
          <a:stretch/>
        </p:blipFill>
        <p:spPr>
          <a:xfrm>
            <a:off x="7596360" y="350028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Users\Пользователь\Desktop\олимп\сноубординг.jpg"/>
          <p:cNvPicPr/>
          <p:nvPr/>
        </p:nvPicPr>
        <p:blipFill>
          <a:blip r:embed="rId4"/>
          <a:stretch/>
        </p:blipFill>
        <p:spPr>
          <a:xfrm>
            <a:off x="7667640" y="9079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Users\Пользователь\Desktop\олимп\фигур.jpg"/>
          <p:cNvPicPr/>
          <p:nvPr/>
        </p:nvPicPr>
        <p:blipFill>
          <a:blip r:embed="rId5"/>
          <a:stretch/>
        </p:blipFill>
        <p:spPr>
          <a:xfrm>
            <a:off x="6156360" y="1557360"/>
            <a:ext cx="1228680" cy="121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C:\Users\Пользователь\Desktop\олимп\хоккей.jpg"/>
          <p:cNvPicPr/>
          <p:nvPr/>
        </p:nvPicPr>
        <p:blipFill>
          <a:blip r:embed="rId6"/>
          <a:stretch/>
        </p:blipFill>
        <p:spPr>
          <a:xfrm>
            <a:off x="539640" y="3357720"/>
            <a:ext cx="1212840" cy="1212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Users\Пользователь\Desktop\олимп\шорт-трек.jpg"/>
          <p:cNvPicPr/>
          <p:nvPr/>
        </p:nvPicPr>
        <p:blipFill>
          <a:blip r:embed="rId7"/>
          <a:stretch/>
        </p:blipFill>
        <p:spPr>
          <a:xfrm>
            <a:off x="4211640" y="1557360"/>
            <a:ext cx="1473120" cy="1104840"/>
          </a:xfrm>
          <a:prstGeom prst="rect">
            <a:avLst/>
          </a:prstGeom>
          <a:ln w="0">
            <a:noFill/>
          </a:ln>
        </p:spPr>
      </p:pic>
      <p:sp>
        <p:nvSpPr>
          <p:cNvPr id="241" name="Скругленный прямоугольник 10"/>
          <p:cNvSpPr/>
          <p:nvPr/>
        </p:nvSpPr>
        <p:spPr>
          <a:xfrm>
            <a:off x="4284720" y="5157720"/>
            <a:ext cx="1800000" cy="358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ыжные гон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Прямоугольник 13"/>
          <p:cNvSpPr/>
          <p:nvPr/>
        </p:nvSpPr>
        <p:spPr>
          <a:xfrm>
            <a:off x="1289160" y="5300640"/>
            <a:ext cx="23158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игурное ката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Прямоугольник 14"/>
          <p:cNvSpPr/>
          <p:nvPr/>
        </p:nvSpPr>
        <p:spPr>
          <a:xfrm>
            <a:off x="6980400" y="5373720"/>
            <a:ext cx="10828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окк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Прямоугольник 15"/>
          <p:cNvSpPr/>
          <p:nvPr/>
        </p:nvSpPr>
        <p:spPr>
          <a:xfrm>
            <a:off x="5381280" y="3357720"/>
            <a:ext cx="12214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иатлон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Прямоугольник 16"/>
          <p:cNvSpPr/>
          <p:nvPr/>
        </p:nvSpPr>
        <p:spPr>
          <a:xfrm>
            <a:off x="2509560" y="4221000"/>
            <a:ext cx="126288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келето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Прямоугольник 17"/>
          <p:cNvSpPr/>
          <p:nvPr/>
        </p:nvSpPr>
        <p:spPr>
          <a:xfrm>
            <a:off x="5033520" y="4292640"/>
            <a:ext cx="148392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Шорт-трек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Прямоугольник 18"/>
          <p:cNvSpPr/>
          <p:nvPr/>
        </p:nvSpPr>
        <p:spPr>
          <a:xfrm>
            <a:off x="2498040" y="3284640"/>
            <a:ext cx="18144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ноубординг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Monotype Corsiva"/>
              </a:rPr>
              <a:t>Зимние виды спор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2" descr="C:\Users\Пользователь\Desktop\олимп\бобслей.jpg"/>
          <p:cNvPicPr/>
          <p:nvPr/>
        </p:nvPicPr>
        <p:blipFill>
          <a:blip r:embed="rId1"/>
          <a:stretch/>
        </p:blipFill>
        <p:spPr>
          <a:xfrm>
            <a:off x="684360" y="3860640"/>
            <a:ext cx="1001520" cy="100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Пользователь\Desktop\олимп\горно.jpg"/>
          <p:cNvPicPr/>
          <p:nvPr/>
        </p:nvPicPr>
        <p:blipFill>
          <a:blip r:embed="rId2"/>
          <a:stretch/>
        </p:blipFill>
        <p:spPr>
          <a:xfrm>
            <a:off x="7667640" y="836640"/>
            <a:ext cx="1069920" cy="106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Users\Пользователь\Desktop\олимп\керлинг.jpg"/>
          <p:cNvPicPr/>
          <p:nvPr/>
        </p:nvPicPr>
        <p:blipFill>
          <a:blip r:embed="rId3"/>
          <a:stretch/>
        </p:blipFill>
        <p:spPr>
          <a:xfrm>
            <a:off x="611280" y="1052640"/>
            <a:ext cx="1212840" cy="1212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Пользователь\Desktop\олимп\конько.jpg"/>
          <p:cNvPicPr/>
          <p:nvPr/>
        </p:nvPicPr>
        <p:blipFill>
          <a:blip r:embed="rId4"/>
          <a:stretch/>
        </p:blipFill>
        <p:spPr>
          <a:xfrm>
            <a:off x="7164360" y="2133720"/>
            <a:ext cx="1104840" cy="1068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C:\Users\Пользователь\Desktop\олимп\лыжное двоеборье.jpg"/>
          <p:cNvPicPr/>
          <p:nvPr/>
        </p:nvPicPr>
        <p:blipFill>
          <a:blip r:embed="rId5"/>
          <a:stretch/>
        </p:blipFill>
        <p:spPr>
          <a:xfrm>
            <a:off x="1042920" y="2565360"/>
            <a:ext cx="1069920" cy="1068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C:\Users\Пользователь\Desktop\олимп\прыжки с трам.jpg"/>
          <p:cNvPicPr/>
          <p:nvPr/>
        </p:nvPicPr>
        <p:blipFill>
          <a:blip r:embed="rId6"/>
          <a:stretch/>
        </p:blipFill>
        <p:spPr>
          <a:xfrm>
            <a:off x="7020000" y="5229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C:\Users\Пользователь\Desktop\олимп\санный.jpg"/>
          <p:cNvPicPr/>
          <p:nvPr/>
        </p:nvPicPr>
        <p:blipFill>
          <a:blip r:embed="rId7"/>
          <a:stretch/>
        </p:blipFill>
        <p:spPr>
          <a:xfrm>
            <a:off x="826920" y="5445000"/>
            <a:ext cx="1121040" cy="708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C:\Users\Пользователь\Desktop\олимп\фристайл.jpg"/>
          <p:cNvPicPr/>
          <p:nvPr/>
        </p:nvPicPr>
        <p:blipFill>
          <a:blip r:embed="rId8"/>
          <a:stretch/>
        </p:blipFill>
        <p:spPr>
          <a:xfrm>
            <a:off x="7451640" y="363384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257" name="Скругленный прямоугольник 11"/>
          <p:cNvSpPr/>
          <p:nvPr/>
        </p:nvSpPr>
        <p:spPr>
          <a:xfrm>
            <a:off x="2916360" y="1197000"/>
            <a:ext cx="2519280" cy="431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ыжки с трампли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Скругленный прямоугольник 13"/>
          <p:cNvSpPr/>
          <p:nvPr/>
        </p:nvSpPr>
        <p:spPr>
          <a:xfrm>
            <a:off x="3419640" y="1916280"/>
            <a:ext cx="1296720" cy="433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бсле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Скругленный прямоугольник 14"/>
          <p:cNvSpPr/>
          <p:nvPr/>
        </p:nvSpPr>
        <p:spPr>
          <a:xfrm>
            <a:off x="5219640" y="1916280"/>
            <a:ext cx="1368360" cy="433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ристай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Скругленный прямоугольник 15"/>
          <p:cNvSpPr/>
          <p:nvPr/>
        </p:nvSpPr>
        <p:spPr>
          <a:xfrm>
            <a:off x="2050920" y="3789360"/>
            <a:ext cx="2952720" cy="503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ькобежный спор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Скругленный прямоугольник 16"/>
          <p:cNvSpPr/>
          <p:nvPr/>
        </p:nvSpPr>
        <p:spPr>
          <a:xfrm>
            <a:off x="4500720" y="4581360"/>
            <a:ext cx="2447640" cy="503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ыжное двоеборь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Скругленный прямоугольник 17"/>
          <p:cNvSpPr/>
          <p:nvPr/>
        </p:nvSpPr>
        <p:spPr>
          <a:xfrm>
            <a:off x="2627280" y="2637000"/>
            <a:ext cx="2521080" cy="504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орнолыжный спор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Скругленный прямоугольник 18"/>
          <p:cNvSpPr/>
          <p:nvPr/>
        </p:nvSpPr>
        <p:spPr>
          <a:xfrm>
            <a:off x="5219640" y="3284640"/>
            <a:ext cx="1800360" cy="504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ёрлин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Скругленный прямоугольник 19"/>
          <p:cNvSpPr/>
          <p:nvPr/>
        </p:nvSpPr>
        <p:spPr>
          <a:xfrm>
            <a:off x="2268360" y="5013360"/>
            <a:ext cx="1798920" cy="503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анный спор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Олимпийский кроссворд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50920" y="907920"/>
          <a:ext cx="5329080" cy="3889440"/>
        </p:xfrm>
        <a:graphic>
          <a:graphicData uri="http://schemas.openxmlformats.org/drawingml/2006/table">
            <a:tbl>
              <a:tblPr/>
              <a:tblGrid>
                <a:gridCol w="312480"/>
                <a:gridCol w="281160"/>
                <a:gridCol w="307800"/>
                <a:gridCol w="271800"/>
                <a:gridCol w="414000"/>
                <a:gridCol w="416160"/>
                <a:gridCol w="361800"/>
                <a:gridCol w="389160"/>
                <a:gridCol w="360360"/>
                <a:gridCol w="352440"/>
                <a:gridCol w="361800"/>
                <a:gridCol w="388800"/>
                <a:gridCol w="320760"/>
                <a:gridCol w="415800"/>
                <a:gridCol w="374760"/>
              </a:tblGrid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5"/>
          <p:cNvSpPr/>
          <p:nvPr/>
        </p:nvSpPr>
        <p:spPr>
          <a:xfrm>
            <a:off x="6012000" y="765000"/>
            <a:ext cx="31320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 горизонтал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порта, который впервые появился в 1998 год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рный хоккейный вратарь, трехкратный олимпийский чемпион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первых зимних олимпийских игр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льду с тяжелыми гранитными снарядам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лимпийских игр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молодой зимний вид спор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1403280" y="4797360"/>
            <a:ext cx="7201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 вертикал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ид спорта, который родился в г.Монреале в 1875 год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ид спорта, сочетающий стрельбу и бег на лыжа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астоящая фамилия первого российского олимпийского чемпиона 1908 го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Часть света, которую символизирует зеленый цвет олимпийского кольц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Город первых олимпийских игр современност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Monotype Corsiva"/>
              </a:rPr>
              <a:t>“ </a:t>
            </a:r>
            <a:r>
              <a:rPr b="0" lang="ru-RU" sz="6000" spc="-1" strike="noStrike">
                <a:solidFill>
                  <a:srgbClr val="c00000"/>
                </a:solidFill>
                <a:latin typeface="Monotype Corsiva"/>
              </a:rPr>
              <a:t>О </a:t>
            </a:r>
            <a:r>
              <a:rPr b="0" lang="ru-RU" sz="5400" spc="-1" strike="noStrike">
                <a:solidFill>
                  <a:srgbClr val="c00000"/>
                </a:solidFill>
                <a:latin typeface="Monotype Corsiva"/>
              </a:rPr>
              <a:t>спорт, ты - мир!</a:t>
            </a:r>
            <a:r>
              <a:rPr b="0" lang="en-US" sz="5400" spc="-1" strike="noStrike">
                <a:solidFill>
                  <a:srgbClr val="c00000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Пользователь\Desktop\олимп\кубер.jpg"/>
          <p:cNvPicPr/>
          <p:nvPr/>
        </p:nvPicPr>
        <p:blipFill>
          <a:blip r:embed="rId1"/>
          <a:stretch/>
        </p:blipFill>
        <p:spPr>
          <a:xfrm>
            <a:off x="2987640" y="2133720"/>
            <a:ext cx="5113440" cy="3833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Пользователь\Desktop\флаг.jpg"/>
          <p:cNvPicPr/>
          <p:nvPr/>
        </p:nvPicPr>
        <p:blipFill>
          <a:blip r:embed="rId1"/>
          <a:stretch/>
        </p:blipFill>
        <p:spPr>
          <a:xfrm>
            <a:off x="826920" y="1052640"/>
            <a:ext cx="3457800" cy="2752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Пользователь\Desktop\огонь.jpg"/>
          <p:cNvPicPr/>
          <p:nvPr/>
        </p:nvPicPr>
        <p:blipFill>
          <a:blip r:embed="rId2"/>
          <a:stretch/>
        </p:blipFill>
        <p:spPr>
          <a:xfrm>
            <a:off x="3059280" y="3960720"/>
            <a:ext cx="3744720" cy="2536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Users\Пользователь\Desktop\кольца.jpg"/>
          <p:cNvPicPr/>
          <p:nvPr/>
        </p:nvPicPr>
        <p:blipFill>
          <a:blip r:embed="rId3"/>
          <a:stretch/>
        </p:blipFill>
        <p:spPr>
          <a:xfrm>
            <a:off x="5292720" y="1125360"/>
            <a:ext cx="3610080" cy="2700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0" y="-359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Calibri"/>
              </a:rPr>
              <a:t>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  <a:ea typeface="Calibri"/>
              </a:rPr>
              <a:t>Символы олимпиады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Monotype Corsiva"/>
              </a:rPr>
              <a:t>Первый олимпиец России –Николай Панин- Коломенкин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5" descr="C:\Users\Пользователь\Desktop\Nikolai_Panin-203x300.jpg"/>
          <p:cNvPicPr/>
          <p:nvPr/>
        </p:nvPicPr>
        <p:blipFill>
          <a:blip r:embed="rId1"/>
          <a:stretch/>
        </p:blipFill>
        <p:spPr>
          <a:xfrm>
            <a:off x="6372360" y="2060640"/>
            <a:ext cx="1933560" cy="2857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Пользователь\Desktop\i (1).jpg"/>
          <p:cNvPicPr/>
          <p:nvPr/>
        </p:nvPicPr>
        <p:blipFill>
          <a:blip r:embed="rId2"/>
          <a:stretch/>
        </p:blipFill>
        <p:spPr>
          <a:xfrm>
            <a:off x="3132000" y="3933720"/>
            <a:ext cx="3349800" cy="223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Users\Пользователь\Desktop\к.jpg"/>
          <p:cNvPicPr/>
          <p:nvPr/>
        </p:nvPicPr>
        <p:blipFill>
          <a:blip r:embed="rId3"/>
          <a:stretch/>
        </p:blipFill>
        <p:spPr>
          <a:xfrm>
            <a:off x="539640" y="206064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Страны  зимних  олимпийских  игр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Users\Пользователь\Desktop\олимп\winter_olympic.jpg"/>
          <p:cNvPicPr/>
          <p:nvPr/>
        </p:nvPicPr>
        <p:blipFill>
          <a:blip r:embed="rId1"/>
          <a:stretch/>
        </p:blipFill>
        <p:spPr>
          <a:xfrm>
            <a:off x="826920" y="1085760"/>
            <a:ext cx="7274160" cy="543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07408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c00000"/>
                </a:solidFill>
                <a:latin typeface="Monotype Corsiva"/>
              </a:rPr>
              <a:t>Спортсмены - олимпийцы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ые гонки                                                                       Конькобежный спор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рова Любовь Ивановна                                                     Аверина Татьяна Борис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зутина Лариса Евгеньевна                                                 Скобликова Лидия Павл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танина Раиса Петровна                                                    Гришин Евгений Романови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ятов Николай Семенович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уроров Алексей Алексеевич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ный спор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акова Галина Алексеевна                                                 Зозуля Вера Василье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атлон                                                                                        Фристайл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алов Александр Васильевич                                         Черязова Лина Анатолье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нов Александр Иванович                                               Кожевникова Елизавета  Александр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муратова Светлана Ирековна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ке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ное катание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ров Всеволод Михайлович                                               Панин-Коломенкин  Николай Александрови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к Владислав Александрович                                       Пахомова Людмила и Горшков Александ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е Павел Владимирович                                                      Белоусова Людмила и Протопопов Олег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нов Вячеслав Иванович                                              Роднина Ирина Константин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сов Анатолий Васильевич                                                Слуцкая Ирина Эдуардовн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губов Николай Михайлович                                           Ягудин Алексей Константинови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щенко Евгений Викторови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лимпиада в Соч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C:\Users\Пользователь\Desktop\i.jpg"/>
          <p:cNvPicPr/>
          <p:nvPr/>
        </p:nvPicPr>
        <p:blipFill>
          <a:blip r:embed="rId1"/>
          <a:stretch/>
        </p:blipFill>
        <p:spPr>
          <a:xfrm>
            <a:off x="1187280" y="1873080"/>
            <a:ext cx="6624720" cy="400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Хоккей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C:\Users\Пользователь\Desktop\хоккей.jpg"/>
          <p:cNvPicPr/>
          <p:nvPr/>
        </p:nvPicPr>
        <p:blipFill>
          <a:blip r:embed="rId1"/>
          <a:stretch/>
        </p:blipFill>
        <p:spPr>
          <a:xfrm>
            <a:off x="539640" y="1268280"/>
            <a:ext cx="2808360" cy="2241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Users\Пользователь\Desktop\хок.jpg"/>
          <p:cNvPicPr/>
          <p:nvPr/>
        </p:nvPicPr>
        <p:blipFill>
          <a:blip r:embed="rId2"/>
          <a:stretch/>
        </p:blipFill>
        <p:spPr>
          <a:xfrm>
            <a:off x="2987640" y="364500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Users\Пользователь\Desktop\х.jpg"/>
          <p:cNvPicPr/>
          <p:nvPr/>
        </p:nvPicPr>
        <p:blipFill>
          <a:blip r:embed="rId3"/>
          <a:stretch/>
        </p:blipFill>
        <p:spPr>
          <a:xfrm>
            <a:off x="5003640" y="1268280"/>
            <a:ext cx="364680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Биатлон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2" descr="C:\Users\Пользователь\Desktop\би.jpg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Пользователь\Desktop\биат.jpg"/>
          <p:cNvPicPr/>
          <p:nvPr/>
        </p:nvPicPr>
        <p:blipFill>
          <a:blip r:embed="rId2"/>
          <a:stretch/>
        </p:blipFill>
        <p:spPr>
          <a:xfrm>
            <a:off x="5148360" y="1268280"/>
            <a:ext cx="3173400" cy="2089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Пользователь\Desktop\биатлон.jpg"/>
          <p:cNvPicPr/>
          <p:nvPr/>
        </p:nvPicPr>
        <p:blipFill>
          <a:blip r:embed="rId3"/>
          <a:stretch/>
        </p:blipFill>
        <p:spPr>
          <a:xfrm>
            <a:off x="2700360" y="3573360"/>
            <a:ext cx="3448080" cy="2586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1:24:28Z</dcterms:created>
  <dc:creator>Пользователь</dc:creator>
  <dc:description/>
  <dc:language>en-US</dc:language>
  <cp:lastModifiedBy>Учитель</cp:lastModifiedBy>
  <dcterms:modified xsi:type="dcterms:W3CDTF">2013-11-05T06:51:34Z</dcterms:modified>
  <cp:revision>24</cp:revision>
  <dc:subject/>
  <dc:title>По страницам зимних олимпийских игр</dc:title>
</cp:coreProperties>
</file>