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DFE-0DD6-42AF-A38D-8346D1B9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E93-EACB-4C92-ACB3-0486552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D05-55D7-4191-8970-E0C8D25C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736-39B6-43EA-91BE-F6CF300F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73C-D929-418B-AC5B-B05C06A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05A-8C4E-41D3-A48F-D979815E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8ED-3A8E-46DA-95E6-B492D9E5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827-71F3-4E8D-8ABD-B42878A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468-F34A-46C4-BE19-542DBB54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FF5-5737-477B-A34D-A2A9098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0EF-37A6-4DD2-912E-E1B793A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103-ADA5-4389-B75D-729897E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0B2-C7B0-474B-9608-2578C0EF2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naranko.ucoz.ru/" TargetMode="External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МБОУ ДОД </a:t>
            </a:r>
            <a:br>
              <a:rPr sz="2400"/>
            </a:b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Центр внешкольной работы "Ровесник«</a:t>
            </a:r>
            <a:br>
              <a:rPr sz="2400"/>
            </a:b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г. Заволж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«Подарочная корзин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Педагог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Дмитриева Татьяна Константи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г. Заволжь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Изготовление вер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2c28dbb7f212"/>
          <p:cNvPicPr/>
          <p:nvPr/>
        </p:nvPicPr>
        <p:blipFill>
          <a:blip r:embed="rId2"/>
          <a:stretch/>
        </p:blipFill>
        <p:spPr>
          <a:xfrm rot="2682600">
            <a:off x="3779640" y="2852640"/>
            <a:ext cx="146196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2916000" cy="2187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508720" y="3933720"/>
            <a:ext cx="2916000" cy="2187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Корзиночку можно сделать в разной фор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248520" cy="34084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Корзиночку можно подарить на любой праздник, наполнив корзину, конфетами, цветами, купюрами, сердечками с пожеланиями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Текст 2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2944800" cy="22096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555640" cy="2736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2313000" cy="1889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2480" y="404640"/>
            <a:ext cx="82915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Можно использовать для дидактической игры «Урожай в корзине», наполнив её ягодами, фруктами, овощами, грибами…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3889440" cy="374040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ля оформления презентации использован шаблон с сайт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Творческих Вам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 rot="10800000">
            <a:off x="3203280" y="586944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3"/>
              </a:rPr>
              <a:t>elenaranko.ucoz.ru</a:t>
            </a: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4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416480" cy="50403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Материалы для изготов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руг из пеноплекса или гофрокар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Зубочис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Бу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Пря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Кружево, тес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Фурнитура для оформ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00720" y="1268280"/>
            <a:ext cx="4248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Разметить круг с интервалом 1см на нечетное кол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а зубочистки наклеить бус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Воткнуть зубочистки в круг под небольшим накло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64464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644640" cy="273384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87640" y="160020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Берём тесьму, пряж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или вязаную коси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и наматываем на    зубочистки в шахматном поряд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еред зубочисткой , за зубочистко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645000" cy="27334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364500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Можно обматывать каждую зубочистку нитью вкруговую, тогда получится другой узор плет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2639880" cy="16221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2349360" cy="176220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2448000" cy="1836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652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из корзины задекорировать тесь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а дно корзины выложить мох или настричь зелёную бумагу, пряж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427280" y="2781000"/>
            <a:ext cx="471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роволоку оплести  в технике макра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рикрепить р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457800" cy="26067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332000" y="3573360"/>
            <a:ext cx="2224080" cy="27370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Такую корзиночку можно подарить на Пасху, украсив вербой, цыплятами, яйцам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25576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1971720" cy="23763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8:35:40Z</dcterms:created>
  <dc:creator>Елена</dc:creator>
  <dc:description/>
  <dc:language>en-US</dc:language>
  <cp:lastModifiedBy>Татьна</cp:lastModifiedBy>
  <dcterms:modified xsi:type="dcterms:W3CDTF">2014-01-26T21:59:18Z</dcterms:modified>
  <cp:revision>16</cp:revision>
  <dc:subject/>
  <dc:title>Слайд 1</dc:title>
</cp:coreProperties>
</file>