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6BA-B22F-4E89-9352-B0D7331E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2F33-061B-42DA-8455-91603694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FFB7-36AE-4AE0-A6EC-B4843D1E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A43-D6B5-40C0-8987-8F986A9E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874D-09EA-4EEB-A37E-85A00D5B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8D5-756C-40F3-ABA7-70DC1C20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BA6-93FA-4383-9715-D65C51D4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35B-4251-4C8E-BFF8-36980597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6F6-52C7-4559-86BA-3062CD75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7084-9174-433C-9F94-0F562161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A0B-AB78-4856-A773-7CA9C9A7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70C-E870-48FB-B889-9EFBA351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7643-55E5-433C-8836-8D0A36F2D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lenaranko.ucoz.ru/" TargetMode="External"/><Relationship Id="rId3" Type="http://schemas.openxmlformats.org/officeDocument/2006/relationships/hyperlink" Target="http://elenaranko.ucoz.ru/" TargetMode="External"/><Relationship Id="rId4" Type="http://schemas.openxmlformats.org/officeDocument/2006/relationships/hyperlink" Target="http://elenaranko.ucoz.ru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МБОУ ДОД </a:t>
            </a:r>
            <a:br>
              <a:rPr sz="2400"/>
            </a:b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Центр внешкольной работы "Ровесник«</a:t>
            </a:r>
            <a:br>
              <a:rPr sz="2400"/>
            </a:b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г. Заволжь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83920"/>
            <a:ext cx="6400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</a:rPr>
              <a:t>Мастер-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«Подарочная корзиноч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Arial"/>
              </a:rPr>
              <a:t>Педагог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Arial"/>
              </a:rPr>
              <a:t>Дмитриева Татьяна Константино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Arial"/>
              </a:rPr>
              <a:t>г. Заволжь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Изготовление верб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8" descr="2c28dbb7f212"/>
          <p:cNvPicPr/>
          <p:nvPr/>
        </p:nvPicPr>
        <p:blipFill>
          <a:blip r:embed="rId2"/>
          <a:stretch/>
        </p:blipFill>
        <p:spPr>
          <a:xfrm rot="2682600">
            <a:off x="3779640" y="2852640"/>
            <a:ext cx="1461960" cy="1871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84360" y="1341360"/>
            <a:ext cx="2914560" cy="218592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508720" y="1413000"/>
            <a:ext cx="2914560" cy="218592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84360" y="3933720"/>
            <a:ext cx="2916000" cy="218772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508720" y="3933720"/>
            <a:ext cx="2916000" cy="218772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Корзиночку можно сделать в разной форм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6248520" cy="340848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Корзиночку можно подарить на любой праздник, наполнив корзину, конфетами, цветами, купюрами, сердечками с пожеланиями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Текст 2" descr=""/>
          <p:cNvPicPr/>
          <p:nvPr/>
        </p:nvPicPr>
        <p:blipFill>
          <a:blip r:embed="rId2"/>
          <a:stretch/>
        </p:blipFill>
        <p:spPr>
          <a:xfrm>
            <a:off x="2843280" y="4149720"/>
            <a:ext cx="2944800" cy="220968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012000" y="1916280"/>
            <a:ext cx="2555640" cy="273672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900000" y="1989000"/>
            <a:ext cx="2313000" cy="188928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52480" y="404640"/>
            <a:ext cx="82915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Можно использовать для дидактической игры «Урожай в корзине», наполнив её ягодами, фруктами, овощами, грибами…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627280" y="2349360"/>
            <a:ext cx="3889440" cy="374040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ля оформления презентации использован шаблон с сайта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Творческих Вам успехов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 flipV="1" rot="10800000">
            <a:off x="3203280" y="586944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53734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953734"/>
                </a:solidFill>
                <a:uFillTx/>
                <a:latin typeface="Arial"/>
                <a:hlinkClick r:id="rId3"/>
              </a:rPr>
              <a:t>elenaranko.ucoz.ru</a:t>
            </a:r>
            <a:r>
              <a:rPr b="0" lang="en-US" sz="1800" spc="-1" strike="noStrike" u="sng">
                <a:solidFill>
                  <a:srgbClr val="953734"/>
                </a:solidFill>
                <a:uFillTx/>
                <a:latin typeface="Arial"/>
                <a:hlinkClick r:id="rId4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68360" y="907920"/>
            <a:ext cx="4416480" cy="504036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</a:rPr>
              <a:t>Материалы для изготовл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Круг из пеноплекса или гофрокарт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- Зубочис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- Бу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- Пря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- Кружево, тесь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К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- Фурнитура для оформ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00720" y="1268280"/>
            <a:ext cx="4248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Разметить круг с интервалом 1см на нечетное количе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точ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На зубочистки наклеить бус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Воткнуть зубочистки в круг под небольшим наклон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3644640" cy="273528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4360" y="3573360"/>
            <a:ext cx="3644640" cy="273384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87640" y="1600200"/>
            <a:ext cx="388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Берём тесьму, пряж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или вязаную косич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и наматываем на    зубочистки в шахматном порядк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перед зубочисткой , за зубочистко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3645000" cy="273348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55640" y="3573360"/>
            <a:ext cx="3645000" cy="273528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Можно обматывать каждую зубочистку нитью вкруговую, тогда получится другой узор плетения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2639880" cy="162216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780000" y="2349360"/>
            <a:ext cx="2349360" cy="176220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084720" y="4437000"/>
            <a:ext cx="2448000" cy="183672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846520" cy="273528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Низ корзины задекорировать тесьм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На дно корзины выложить мох или настричь зелёную бумагу, пряжу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427280" y="2781000"/>
            <a:ext cx="471636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Проволоку оплести  в технике макра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Прикрепить руч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3457800" cy="260676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332000" y="3573360"/>
            <a:ext cx="2224080" cy="273708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Такую корзиночку можно подарить на Пасху, украсив вербой, цыплятами, яйцам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2914560" cy="218592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11280" y="3141720"/>
            <a:ext cx="2255760" cy="273528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03640" y="2205000"/>
            <a:ext cx="1971720" cy="2376360"/>
          </a:xfrm>
          <a:prstGeom prst="rect">
            <a:avLst/>
          </a:prstGeom>
          <a:ln w="63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8:35:40Z</dcterms:created>
  <dc:creator>Елена</dc:creator>
  <dc:description/>
  <dc:language>en-US</dc:language>
  <cp:lastModifiedBy>Татьна</cp:lastModifiedBy>
  <dcterms:modified xsi:type="dcterms:W3CDTF">2014-01-26T21:59:18Z</dcterms:modified>
  <cp:revision>16</cp:revision>
  <dc:subject/>
  <dc:title>Слайд 1</dc:title>
</cp:coreProperties>
</file>