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11A-B569-45FF-AB4B-6E0D22A9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CE7-805F-4D53-891F-B8FD1B43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392-073D-4753-AB6E-A47FAA5C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0AC-EEF9-47A3-AC68-61153DE6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5A64-369A-40BC-B430-6218C676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B93A-CD77-4614-BBE4-359C48EE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ACBA-4F74-49FB-8B7B-486C8D4B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C46F-EE27-4175-8A51-DC25A4A5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1DAA-B9D8-46EE-A6D0-6C9D7B19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3DFC-BC8A-4624-97A1-0236E775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E388-5453-48D2-AE7E-E82A298C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F20-7514-4DB0-BE31-8365CBCA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9518-AA74-45C0-88B2-73433583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58B-BA66-476E-97BE-39491670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0AF2-2230-42B7-9771-32D357A0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FCBD-8932-4EC7-8296-A366793D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83D2-30EE-4CA2-957F-A285F66B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4C262-6790-48DD-AC31-56D78510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E55CB-8881-4A47-8448-EABD13B3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1C8F-03F9-4A65-964A-D74FEDB5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2472-A201-4EFA-AB2E-D89B0A3B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142BE-34E7-4E73-B7C7-103D881D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A02-0F81-48B9-B4FD-07F67511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74D05-0F7B-4835-B6A2-253BCD8B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6AF8-8B06-4700-9CC7-A10182E9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E231-C82C-4AA0-820C-3FE8CE3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ED9C4-5A17-4F6E-AC4A-9067DAA4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9616-39B9-4FCA-96F7-980C97A3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26016-8F0A-4B61-AA2F-8E5FAF5B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D924-E11F-4E69-8373-4CA647E9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AB39E-D342-4499-A83E-A7D569E4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D3FD-0972-4B87-ADF2-7A829AD8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BED88-C949-48BC-B10E-D714E91A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36E-1741-4B57-B8B4-0C2359C6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2D9F-0C89-4E74-A4E6-C878735E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F05B6-67E9-45A8-81EC-AE721DC7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D7916-89F9-4A66-BB1B-D5F78616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D5E4-AE27-4489-9CAB-EF00C3DA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A06B-E1FE-46F1-A44D-119E4A31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83916-CBAE-4CEE-B7D8-5AEA487F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5CB89-B6E8-4925-8599-3D96BF83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50490-E441-4447-AF1F-EB3AEE26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31BE4-7CC0-448B-912A-259187F9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30A-702A-40BB-A980-8971B37B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471-E1C4-4E99-9A1A-DFA280A9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8CA-6C89-48B0-901D-64C0239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CFE-EE9C-43AB-8A9A-5911DFD6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9EC-E641-4EDC-98A9-425DA8F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E23C6-6AE5-4A85-8C77-0B68BB4B8CAA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921F9-4F35-41C7-88ED-A0D1EAA99A01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7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34608-8B47-4639-B1F3-9F6A9F4EB7D3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8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9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04E6D-59DE-4CEB-A471-34DF3BDA89D0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Практическая работа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93280" y="1828440"/>
            <a:ext cx="10898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Каждому выдан текст «Звезды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Вам необходимо представить эту информацию в табличной форме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ри выполнении работы обязательно используйте стили оформления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Готовый документ сохраните в своей папке с названием «Практическая работа: Звезды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8680" y="442800"/>
            <a:ext cx="101124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Вот так у Вас должно было получиться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05" name="Рисунок 2" descr=""/>
          <p:cNvPicPr/>
          <p:nvPr/>
        </p:nvPicPr>
        <p:blipFill>
          <a:blip r:embed="rId1"/>
          <a:stretch/>
        </p:blipFill>
        <p:spPr>
          <a:xfrm>
            <a:off x="1062000" y="1843200"/>
            <a:ext cx="10112400" cy="465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Домашнее задание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79320" y="2052360"/>
            <a:ext cx="1046664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-716040">
              <a:spcBef>
                <a:spcPts val="1001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оздать подробный распорядок  недели (Школа, кружки, уборка дома, выполнение домашнего задания и т. д.) в табличной форме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716040" indent="-716040">
              <a:spcBef>
                <a:spcPts val="1001"/>
              </a:spcBef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дать задание перед началом урока. (Сохранить в свою папку на компьютере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931680"/>
            <a:ext cx="9405720" cy="25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Подтвердилась ли гипотеза, что данные в компьютере удобнее располагать в виде таблиц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9" name="Заголовок 1"/>
          <p:cNvSpPr/>
          <p:nvPr/>
        </p:nvSpPr>
        <p:spPr>
          <a:xfrm>
            <a:off x="1219320" y="2989440"/>
            <a:ext cx="940572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Как вы считаете, помогут ли Вам полученные сегодня знания?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Заголовок 1"/>
          <p:cNvSpPr/>
          <p:nvPr/>
        </p:nvSpPr>
        <p:spPr>
          <a:xfrm>
            <a:off x="1219320" y="4538520"/>
            <a:ext cx="940572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Если вам понравился урок, пожалуйста встаньте.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8:43:43Z</dcterms:created>
  <dc:creator>Администратор</dc:creator>
  <dc:description/>
  <dc:language>en-US</dc:language>
  <cp:lastModifiedBy>XTreme.ws</cp:lastModifiedBy>
  <dcterms:modified xsi:type="dcterms:W3CDTF">2014-01-26T07:29:59Z</dcterms:modified>
  <cp:revision>30</cp:revision>
  <dc:subject/>
  <dc:title>Создание и форматирование таблиц в Microsoft Office Word</dc:title>
</cp:coreProperties>
</file>