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F49F-C882-4FE1-9B04-7A35B2A03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D5A6-5C10-4255-AF41-DB9801C8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4B1C-518C-496A-B862-99839DD81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03F3-8237-4654-8C24-7A98AA312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750E-28F8-418C-A404-54E95977D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F960-C8CC-45E3-9452-980664B6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CF4F-B972-4B7A-94FC-584A27B0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69D2-E980-43DB-89FF-5CF2A91C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2473-1B83-485A-924C-D6D4F619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AA5E-B0EF-450C-837A-C30BFB02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7C21-8B06-4CC0-A0FF-EB14700F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281D-AC74-493D-BAB5-BB062380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A685-A79F-4599-AA9A-9EE3E36E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3016-8911-4C72-BDAA-2245719A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7E46-4F65-4977-914D-B640905B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C8DB-FFF7-4456-B2DE-2E5D16F0D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E53D-43AB-4F0B-8E1D-D20CD4227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C99A3-728D-451E-BE77-839ACAA66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D243A-745A-475C-9958-1AEEB227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3F07D-8FF7-45FE-A84B-F8C51AEF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9CA81-5364-4625-BBD7-40351FD8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D0857-EB26-4BE4-A18C-287D264C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BBC6-EA1C-4B38-B232-D9D17A75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08A00-F865-489D-8C63-84F8AF04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9AC8F-BD8A-4EC5-9A70-7499C09A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30647-E003-4707-B6FB-1F7AD9AA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1BCEF-6D3A-49BE-B501-501B69EF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28988-9DA3-48E1-8EDF-54253023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9756D-C6B6-4D92-9D72-88854E84C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CC1C5-1EF4-4E55-B11F-CF19C11B9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8D0A5-8D50-44D7-BD8F-BD2A4A1D5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FF194-6667-4FEC-8B4F-74B3219D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4C9D5-6F7F-4CDA-8E28-794272DB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4058-46ED-4E6C-829D-A5D0B1FA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B7085-0C5F-4F39-A8E9-50C80285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1DC5D-602C-4982-B3EF-45B283A7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7FE66-5F65-4A9B-A012-04E3A9AD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8B18C-8D81-42DD-B8C5-E741E769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98788-A47E-4FC6-8A18-811229E3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1FB18-4825-4C8F-813A-D922AEE3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2ED67-F9DE-4B11-A6F2-8A165862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432AF-2878-416F-A6AC-C4FD05271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81306-8081-449E-8A58-0E63CDC4A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5ABA-A331-42D4-8488-574078AE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88EC-6162-4395-B3CA-22E5FCF4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F4A6-B9BF-4D58-A9B3-B79FBDD7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7BB5-424A-4973-8733-D7234E1B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1C33-DB91-451F-B996-80E537EC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2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3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A4DCEE-4E54-4B10-8E7E-8B7E5B2B4F67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51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52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4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898560" y="971640"/>
            <a:ext cx="8017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9329760" y="2612880"/>
            <a:ext cx="80316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3F9445-A337-4F1B-AF09-A42DCCF6F92B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02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103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0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Straight Connector 16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Straight Connector 17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68206A-09E6-4D59-B10F-8D22B1D5F194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53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154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56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Straight Connector 18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Straight Connector 19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597DE4-0C1B-41C1-9782-48C124A40C48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ebebeb"/>
                </a:solidFill>
                <a:latin typeface="Century Gothic"/>
              </a:rPr>
              <a:t>Практическая работа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93280" y="1828440"/>
            <a:ext cx="10898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Каждому выдан текст «Звезды»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Вам необходимо представить эту информацию в табличной форме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При выполнении работы обязательно используйте стили оформления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Готовый документ сохраните в своей папке с названием «Практическая работа: Звезды»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8680" y="442800"/>
            <a:ext cx="101124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ebebeb"/>
                </a:solidFill>
                <a:latin typeface="Century Gothic"/>
              </a:rPr>
              <a:t>Вот так у Вас должно было получиться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05" name="Рисунок 2" descr=""/>
          <p:cNvPicPr/>
          <p:nvPr/>
        </p:nvPicPr>
        <p:blipFill>
          <a:blip r:embed="rId1"/>
          <a:stretch/>
        </p:blipFill>
        <p:spPr>
          <a:xfrm>
            <a:off x="1062000" y="1843200"/>
            <a:ext cx="10112400" cy="4653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ebebeb"/>
                </a:solidFill>
                <a:latin typeface="Century Gothic"/>
              </a:rPr>
              <a:t>Домашнее задание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79320" y="2052360"/>
            <a:ext cx="1046664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6040" indent="-716040">
              <a:spcBef>
                <a:spcPts val="1001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Создать подробный распорядок  недели (Школа, кружки, уборка дома, выполнение домашнего задания и т. д.) в табличной форме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716040" indent="-716040">
              <a:spcBef>
                <a:spcPts val="1001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Сдать задание перед началом урока. (Сохранить в свою папку на компьютере)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18960" y="931680"/>
            <a:ext cx="9405720" cy="25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ebebeb"/>
                </a:solidFill>
                <a:latin typeface="Century Gothic"/>
              </a:rPr>
              <a:t>Подтвердилась ли гипотеза, что данные в компьютере удобнее располагать в виде таблиц?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9" name="Заголовок 1"/>
          <p:cNvSpPr/>
          <p:nvPr/>
        </p:nvSpPr>
        <p:spPr>
          <a:xfrm>
            <a:off x="1219320" y="2989440"/>
            <a:ext cx="9405720" cy="17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ebebeb"/>
                </a:solidFill>
                <a:latin typeface="Century Gothic"/>
              </a:rPr>
              <a:t>Как вы считаете, помогут ли Вам полученные сегодня знания?</a:t>
            </a:r>
            <a:endParaRPr b="0" lang="en-US" sz="4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Заголовок 1"/>
          <p:cNvSpPr/>
          <p:nvPr/>
        </p:nvSpPr>
        <p:spPr>
          <a:xfrm>
            <a:off x="1219320" y="4538520"/>
            <a:ext cx="9405720" cy="25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ebebeb"/>
                </a:solidFill>
                <a:latin typeface="Century Gothic"/>
              </a:rPr>
              <a:t>Если вам понравился урок, пожалуйста встаньте.</a:t>
            </a:r>
            <a:endParaRPr b="0" lang="en-US" sz="4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18:43:43Z</dcterms:created>
  <dc:creator>Администратор</dc:creator>
  <dc:description/>
  <dc:language>en-US</dc:language>
  <cp:lastModifiedBy>XTreme.ws</cp:lastModifiedBy>
  <dcterms:modified xsi:type="dcterms:W3CDTF">2014-01-26T07:29:59Z</dcterms:modified>
  <cp:revision>30</cp:revision>
  <dc:subject/>
  <dc:title>Создание и форматирование таблиц в Microsoft Office Word</dc:title>
</cp:coreProperties>
</file>