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B15-4DA4-498E-9FA7-EA1CFB75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DFA-1E0A-44FF-A6A4-1D88D3BE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B3E-2397-4444-A9B9-DBAA1A3E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229-DAFD-4B1D-813D-EAD34A22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2861-1AE7-47E8-BCA0-E16F1494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7AB9-ED1B-4916-AC70-0D956B6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D92E-0FAD-4DE7-87CC-31B0C986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158-E3F6-483F-ADE2-F39874F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887A-FD9E-443A-847C-94673D4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E76-C782-4B2C-8F96-DA3DEF1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5B6-D6D4-4A84-8F78-65F482E3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06A-6681-40DA-A34F-2DF6F2C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2B4-9156-4C85-A192-B3C0428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F1AC-6A30-4908-B966-F1A91C3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47F7-76D7-49B6-8E19-FC2B8D9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AED-EDC7-4153-87C6-E95D57F6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540-EECD-472A-9557-A386BC38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056-6D17-492D-9B24-9E1AE9D7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AFA-28CD-48F9-A3F4-3AA0C84A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831-F31B-48AF-ACE8-6B709D0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AA8-6F73-40F2-84E0-F65595F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8A0-2C11-41F0-B96C-0272FE8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7D6-4194-4E8C-BF82-B86BC2D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49B-ED89-46DB-A54B-8C1E7AE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8F3-AA08-498B-BCDE-C5B514226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3E05-2FC6-4429-A2B4-CBCB9FD08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7238880" cy="1285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«Зимнее утро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16765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С.Пушк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анр – поэз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ный размер – четырёхстопный ям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тика – пейзаж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ифма – строфы: 1)чудесный -прелестный – взоры – Авроры – явись. 2) злилась – носилась – пятно – желтела – сидела – окно. 3) небесами – коврами – лежит – чернеет – зеленеет – блестит. 4) блеском – треском – печь – лежанки – санки – запречь. 5) снегу – бегу – коня – пустые – густые –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 – лир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редства выразительност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тафора – «Открой, сомкнуты негой взор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усиления художественной выразительности автор прибегает к антитезе. Контрастное описание «нынче» и «вечор» занимает в стихотворении основное мес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ая сильная привязанность, в которой автор признается в этом стихотворении это «берег, милый для меня». Этот эпитет, скорее всего, надо понимать как родные, дорогие сердцу места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ый поэтичный пейзаж – во второй строфе, он насыщен сравнениями и олицетворениями, хотя и вызывает печаль героини. Описывает он только небо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…вьюга злилась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мутном небе мгла носилась;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на, как бледное пятно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квозь тучи мрачные желтела,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ты печальная сидела-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нынче погляди в окно!»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8360" y="5545800"/>
            <a:ext cx="525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Мороз и солнце; день чудесный!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Еще ты дремлешь, друг прелестный –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ора, красавица, проснись;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Открой, сомкнуты негой взор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43960" y="5143320"/>
            <a:ext cx="503172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встречу северной Авроры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вездою севера явись!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ечор, ты помнишь, вьюга злилас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мутном небе мгла носилас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74680" y="5143320"/>
            <a:ext cx="44020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уна, как бледное пятно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квозь тучи мрачные желтел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ты печальная сидела –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 нынче... погляди в ок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4648320" y="0"/>
            <a:ext cx="13792320" cy="883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19640" y="5410800"/>
            <a:ext cx="394056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 голубыми небесам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еликолепными коврам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лестя на солнце, снег лежит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зрачный лес один черне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16320" y="5294880"/>
            <a:ext cx="40532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ель сквозь иней зелене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речка подо льдом блестит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ся комната янтарным блеск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зарена. Веселым треск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36040" y="5294880"/>
            <a:ext cx="41173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рещит затопленная печ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ятно думать у лежан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о знаешь: не велеть ли в санк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обылку бурую зап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16840" y="4745880"/>
            <a:ext cx="3850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кользя по утреннему снегу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уг милый, предадимся бегу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терпеливого ко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навестим поля пуст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са, недавно столь густые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берег, милый для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ение «Зимнее утро» написано Пушкиным в годы ссылки в Михайловском.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ихотворение написано очень быстро, в один день- 3 ноября 1829г. в селе Павловском Старицкого уезда Тверской губернии, в имении В.И.Вульфа. В Тверскую губернию к своим добрым знакомым, семейству Вульфов, Пушкин заехал на этот раз (а бывал он там подолгу и неоднократно) на обратном пути с Кавка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ldrens</cp:lastModifiedBy>
  <dcterms:modified xsi:type="dcterms:W3CDTF">2013-11-24T18:13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