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A66-607E-46BA-8529-28DE892D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0D7-35B9-4F55-853E-D2912FD6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472-3AFF-4C1F-A679-0CE29994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FAB-5A7E-4A9A-93DB-CDCE6575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F247-8910-4D46-8EF5-251F625B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5D5D-0359-4691-AAC0-646720D8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AD4D-D90C-4FFF-A37F-332DB2A2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C773-2943-4B64-84D5-71CA0595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D3E3-76D2-4B2E-B46D-B75DCEAA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DD3E-ECEE-4E14-A489-A882A8D5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4744-42F6-4D51-8AAC-573ECCB6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61C-FDD9-4C0E-B7CC-B052C71B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4D78-BF82-424B-83D9-EB03243F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D921-A494-47C6-8F5C-71A6EE3D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5E5A-64E1-4103-9BDF-D7D738AF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0128-DCDF-46A5-8603-FD6E636E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F274-4AF6-4C11-8182-44161715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573-1127-4E83-B199-1480F0CB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304-9DFF-4DA7-A0F0-5162B9FC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83E-CD31-4114-9489-452F88E0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BFB-B71F-44B7-999D-FA833A43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6CF-20E1-4871-8C91-4649488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C4D-E4FA-4B60-992A-CE43C192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C67-61B8-4084-A310-8332BDF3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A8A3-C133-4553-A868-14A2A899C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F2C1-245A-4463-B2E4-880A65C62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514600"/>
            <a:ext cx="7238880" cy="1285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«Зимнее утро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16765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С.Пушк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анр – поэз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ихотворный размер – четырёхстопный ям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матика – пейзаж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ифма – строфы: 1)чудесный -прелестный – взоры – Авроры – явись. 2) злилась – носилась – пятно – желтела – сидела – окно. 3) небесами – коврами – лежит – чернеет – зеленеет – блестит. 4) блеском – треском – печь – лежанки – санки – запречь. 5) снегу – бегу – коня – пустые – густые – ме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д – лир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редства выразительност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тафора – «Открой, сомкнуты негой взор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ля усиления художественной выразительности автор прибегает к антитезе. Контрастное описание «нынче» и «вечор» занимает в стихотворении основное мес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ая сильная привязанность, в которой автор признается в этом стихотворении это «берег, милый для меня». Этот эпитет, скорее всего, надо понимать как родные, дорогие сердцу места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ый поэтичный пейзаж – во второй строфе, он насыщен сравнениями и олицетворениями, хотя и вызывает печаль героини. Описывает он только небо: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…вьюга злилась,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мутном небе мгла носилась;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на, как бледное пятно,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квозь тучи мрачные желтела,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ты печальная сидела-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нынче погляди в окно!»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асибо за внимание!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88360" y="5545800"/>
            <a:ext cx="525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Мороз и солнце; день чудесный!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Еще ты дремлешь, друг прелестный –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Пора, красавица, проснись;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Открой, сомкнуты негой взор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143960" y="5143320"/>
            <a:ext cx="503172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встречу северной Авроры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вездою севера явись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ечор, ты помнишь, вьюга злилась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 мутном небе мгла носилас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774680" y="5143320"/>
            <a:ext cx="440208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Луна, как бледное пятно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квозь тучи мрачные желтела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 ты печальная сидела –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 нынче... погляди в ок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4648320" y="0"/>
            <a:ext cx="13792320" cy="8839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219640" y="5410800"/>
            <a:ext cx="394056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 голубыми небесам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еликолепными коврам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лестя на солнце, снег лежит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зрачный лес один черне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16320" y="5294880"/>
            <a:ext cx="405324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ель сквозь иней зеленеет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речка подо льдом блестит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ся комната янтарным блеско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зарена. Веселым трес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036040" y="5294880"/>
            <a:ext cx="41173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рещит затопленная печ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ятно думать у лежанк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о знаешь: не велеть ли в санк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обылку бурую запреч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16840" y="4745880"/>
            <a:ext cx="38505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кользя по утреннему снегу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руг милый, предадимся бегу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терпеливого ко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навестим поля пуст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еса, недавно столь густые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берег, милый для ме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4572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ихотворение «Зимнее утро» написано Пушкиным в годы ссылки в Михайловском.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ихотворение написано очень быстро, в один день- 3 ноября 1829г. в селе Павловском Старицкого уезда Тверской губернии, в имении В.И.Вульфа. В Тверскую губернию к своим добрым знакомым, семейству Вульфов, Пушкин заехал на этот раз (а бывал он там подолгу и неоднократно) на обратном пути с Кавказ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3434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ldrens</cp:lastModifiedBy>
  <dcterms:modified xsi:type="dcterms:W3CDTF">2013-11-24T18:13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