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8B40-D8C8-4AFB-9C31-685298E1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27CC-0C23-4B06-9B12-B5E701BC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9216-7F45-483D-B443-8C7DCF3C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5C33-0240-4248-B86B-407DC440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A0D7-59FB-4C5E-ACCD-0644DE25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0A22-A3F9-48C8-832A-9F023C25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F757-7869-4CF3-B67A-EFF34CBB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D4D7-F26D-4149-AD66-E92B7F38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58A3-007B-4E28-AA66-2E3E0122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3C75-0A3D-41D7-AC33-1870EA8F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7F54-C621-4F94-98A1-7FF754B4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3BAF-4E54-4CA3-A2D8-83970285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17EC-7587-4D18-9526-B61FC7D4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D2D5-3AB6-4185-9A58-DF11FA94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31E0-8048-49B0-BA3F-32A3A2FC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B997-FDD0-43A1-91E7-E1E1EF24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1B85-AD3B-4004-B96B-523E99D4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66C9-3745-4828-8900-2D9A023F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CBCD-5820-471E-B4FC-AB1CA72C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B3B2-4F9E-4DC9-A216-34150269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83F4-6FFA-443E-ADC0-E334054B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0C6F-81D6-4138-B304-F5409A36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2FE0-B474-494C-ADDA-40A5C6ED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9511-B537-472B-B645-8B47EE22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D779-F6E8-4ED8-889A-97792C504C4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FFF9-AB22-48D1-A5BF-1848D07A13B0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755640" y="198900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Животные Крайнего Север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1116000" y="33336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Белый медведь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Picture 5" descr="Belyi-medved-01"/>
          <p:cNvPicPr/>
          <p:nvPr/>
        </p:nvPicPr>
        <p:blipFill>
          <a:blip r:embed="rId1"/>
          <a:stretch/>
        </p:blipFill>
        <p:spPr>
          <a:xfrm>
            <a:off x="395280" y="1916280"/>
            <a:ext cx="4248000" cy="3382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4646520" y="1769400"/>
            <a:ext cx="413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сугробы, стужа, лёд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пурга снега метё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м хозяин в шубе снежно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дит по снегам безбрежны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сь он белый от зимы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метельной кутерьм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давно живёт он здес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ому и белый вес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шь черны глаза и нос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щадил их злой моро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619280" y="476280"/>
            <a:ext cx="53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еверный олень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Picture 5" descr="1-58"/>
          <p:cNvPicPr/>
          <p:nvPr/>
        </p:nvPicPr>
        <p:blipFill>
          <a:blip r:embed="rId1"/>
          <a:stretch/>
        </p:blipFill>
        <p:spPr>
          <a:xfrm>
            <a:off x="3780000" y="1773360"/>
            <a:ext cx="5111640" cy="4751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250920" y="2060640"/>
            <a:ext cx="3240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 без компаса и карт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чится в тундре, тянет нарт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очь полярную и в день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– северный олен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олярный заяц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292720" y="2205000"/>
            <a:ext cx="32400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вкий маленький зверек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ивет на Севере сурово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ерсть его блестит, как шел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цвет блестящего покрова.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Рисунок 6" descr="4b83866bcb72f.jpg"/>
          <p:cNvPicPr/>
          <p:nvPr/>
        </p:nvPicPr>
        <p:blipFill>
          <a:blip r:embed="rId1"/>
          <a:stretch/>
        </p:blipFill>
        <p:spPr>
          <a:xfrm>
            <a:off x="539640" y="1714680"/>
            <a:ext cx="4248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олярный вол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5" descr="volki-vernera-froinda-06"/>
          <p:cNvPicPr/>
          <p:nvPr/>
        </p:nvPicPr>
        <p:blipFill>
          <a:blip r:embed="rId1"/>
          <a:stretch/>
        </p:blipFill>
        <p:spPr>
          <a:xfrm>
            <a:off x="3780000" y="2421000"/>
            <a:ext cx="4895640" cy="39099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324000" y="2349360"/>
            <a:ext cx="316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ый гонится за белым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чет белым пообеда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догонит - зубом щелк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лый - бедный, сытый – Волк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Морж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Picture 5" descr="Noaa-walrus30"/>
          <p:cNvPicPr/>
          <p:nvPr/>
        </p:nvPicPr>
        <p:blipFill>
          <a:blip r:embed="rId1"/>
          <a:stretch/>
        </p:blipFill>
        <p:spPr>
          <a:xfrm>
            <a:off x="250920" y="2492280"/>
            <a:ext cx="4392360" cy="33242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4572000" y="1773360"/>
            <a:ext cx="42480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да, толстокожий морж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лона чуть-чуть похож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вни носит он, как слон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 и весит пару тонн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живёт он в царстве ль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холодная вод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алённый, хладостойки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толстой жировой прослойко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итается не фруктами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ыбой и морепродуктам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Морской кот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1" name="Рисунок 6" descr="180043_382916.jpg"/>
          <p:cNvPicPr/>
          <p:nvPr/>
        </p:nvPicPr>
        <p:blipFill>
          <a:blip r:embed="rId1"/>
          <a:stretch/>
        </p:blipFill>
        <p:spPr>
          <a:xfrm>
            <a:off x="4500720" y="1700280"/>
            <a:ext cx="3958920" cy="41101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468360" y="2248200"/>
            <a:ext cx="352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Большая птица-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Мороза не боитс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С крыльями, а не летает-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Ловко прыгает, ныряет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Белая с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Picture 5" descr="polyarnaya_sova"/>
          <p:cNvPicPr/>
          <p:nvPr/>
        </p:nvPicPr>
        <p:blipFill>
          <a:blip r:embed="rId1"/>
          <a:stretch/>
        </p:blipFill>
        <p:spPr>
          <a:xfrm>
            <a:off x="250920" y="2060640"/>
            <a:ext cx="5113080" cy="38336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5580000" y="2205000"/>
            <a:ext cx="3311640" cy="29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тает бесшумно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угом голова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ярная, бел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тица 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17:02:22Z</dcterms:created>
  <dc:creator>Admin</dc:creator>
  <dc:description/>
  <dc:language>en-US</dc:language>
  <cp:lastModifiedBy>user</cp:lastModifiedBy>
  <dcterms:modified xsi:type="dcterms:W3CDTF">2014-01-25T15:14:38Z</dcterms:modified>
  <cp:revision>7</cp:revision>
  <dc:subject/>
  <dc:title>Слайд 1</dc:title>
</cp:coreProperties>
</file>