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C68-2321-4708-A06F-D0CD8B19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CA4-B4BC-41AC-8CCA-B1550940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400-5C0C-47EB-8C50-7816BAAD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6A5-ADE7-4844-8C11-FD70DBB8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03D3-E745-4D01-8F06-108EF3F4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D04C-5A16-4340-A196-A04A7D8B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2DDE-7BC5-4FE7-8CD4-B29386C5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C379-B2BB-4C3D-B5EF-24840BA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3498-3B5D-47A0-AECD-BA05825A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2E3E-DFF6-4487-8C66-60546E09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F509-FBDA-4A98-B02E-555DCF4D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FEE-2C60-4ED3-B0C5-1D3E0F09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4A70-1FBB-4D74-B56A-2BFCD409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7F5D-36F8-4B58-B79E-2634BC5D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ECA2-8D3B-4F92-97CB-9F3478E0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E4E6-E1ED-4F85-B09B-86795D40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9631-1A20-4EFE-A8BF-725B7CDD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970-C3E3-4A20-A9FB-197F2BC1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AA7-EF37-4845-B4E5-8F2EEC19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EB4-C6DC-4B9E-B562-BE2604A5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5C1-FD7C-4E93-8FC0-3FE40129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2C0-A528-4B2E-B132-121D08E9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B75-744E-4A2A-ABF1-6FC7792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F1E-B5C4-4329-A8DE-8BF7D32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94AC-B30E-4FB3-9368-C3DAE1FAB9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9D78-B3EC-44A3-870D-EC56184F936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755640" y="198900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Животные Крайнего Север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116000" y="333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Белый медведь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5" descr="Belyi-medved-01"/>
          <p:cNvPicPr/>
          <p:nvPr/>
        </p:nvPicPr>
        <p:blipFill>
          <a:blip r:embed="rId1"/>
          <a:stretch/>
        </p:blipFill>
        <p:spPr>
          <a:xfrm>
            <a:off x="395280" y="1916280"/>
            <a:ext cx="4248000" cy="3382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646520" y="1769400"/>
            <a:ext cx="413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сугробы, стужа, лё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пурга снега метё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м хозяин в шубе снежн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ит по снегам безбрежны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ь он белый от зим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метельной кутерь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давно живёт он здес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у и белый вес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ь черны глаза и нос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щадил их злой мор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619280" y="476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верный олень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5" descr="1-58"/>
          <p:cNvPicPr/>
          <p:nvPr/>
        </p:nvPicPr>
        <p:blipFill>
          <a:blip r:embed="rId1"/>
          <a:stretch/>
        </p:blipFill>
        <p:spPr>
          <a:xfrm>
            <a:off x="3780000" y="1773360"/>
            <a:ext cx="5111640" cy="4751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250920" y="2060640"/>
            <a:ext cx="324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без компаса и карт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чится в тундре, тянет нарт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очь полярную и в ден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– северный ол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олярный заяц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292720" y="2205000"/>
            <a:ext cx="3240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вкий маленький зверек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вет на Севере суров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ерсть его блестит, как шел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цвет блестящего покрова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Рисунок 6" descr="4b83866bcb72f.jpg"/>
          <p:cNvPicPr/>
          <p:nvPr/>
        </p:nvPicPr>
        <p:blipFill>
          <a:blip r:embed="rId1"/>
          <a:stretch/>
        </p:blipFill>
        <p:spPr>
          <a:xfrm>
            <a:off x="539640" y="1714680"/>
            <a:ext cx="424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олярный вол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5" descr="volki-vernera-froinda-06"/>
          <p:cNvPicPr/>
          <p:nvPr/>
        </p:nvPicPr>
        <p:blipFill>
          <a:blip r:embed="rId1"/>
          <a:stretch/>
        </p:blipFill>
        <p:spPr>
          <a:xfrm>
            <a:off x="3780000" y="2421000"/>
            <a:ext cx="4895640" cy="3909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324000" y="234936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ый гонится за белы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т белым пообед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догонит - зубом щел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ый - бедный, сытый – Вол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ор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5" descr="Noaa-walrus30"/>
          <p:cNvPicPr/>
          <p:nvPr/>
        </p:nvPicPr>
        <p:blipFill>
          <a:blip r:embed="rId1"/>
          <a:stretch/>
        </p:blipFill>
        <p:spPr>
          <a:xfrm>
            <a:off x="250920" y="2492280"/>
            <a:ext cx="4392360" cy="3324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4572000" y="1773360"/>
            <a:ext cx="4248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а, толстокожий морж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лона чуть-чуть похож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вни носит он, как сло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и весит пару тон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живёт он в царстве ль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холодная в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алённый, хладостойки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толстой жировой прослойк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итается не фруктами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ой и морепродукта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орской кот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Рисунок 6" descr="180043_382916.jpg"/>
          <p:cNvPicPr/>
          <p:nvPr/>
        </p:nvPicPr>
        <p:blipFill>
          <a:blip r:embed="rId1"/>
          <a:stretch/>
        </p:blipFill>
        <p:spPr>
          <a:xfrm>
            <a:off x="4500720" y="1700280"/>
            <a:ext cx="3958920" cy="4110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68360" y="2248200"/>
            <a:ext cx="352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Большая птица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роза не боит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 крыльями, а не летает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Ловко прыгает, ныряе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Белая с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5" descr="polyarnaya_sova"/>
          <p:cNvPicPr/>
          <p:nvPr/>
        </p:nvPicPr>
        <p:blipFill>
          <a:blip r:embed="rId1"/>
          <a:stretch/>
        </p:blipFill>
        <p:spPr>
          <a:xfrm>
            <a:off x="250920" y="2060640"/>
            <a:ext cx="5113080" cy="3833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5580000" y="2205000"/>
            <a:ext cx="331164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ает бесшумн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м голов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ярная, бел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02:22Z</dcterms:created>
  <dc:creator>Admin</dc:creator>
  <dc:description/>
  <dc:language>en-US</dc:language>
  <cp:lastModifiedBy>user</cp:lastModifiedBy>
  <dcterms:modified xsi:type="dcterms:W3CDTF">2014-01-25T15:14:38Z</dcterms:modified>
  <cp:revision>7</cp:revision>
  <dc:subject/>
  <dc:title>Слайд 1</dc:title>
</cp:coreProperties>
</file>